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C626-C85C-45D0-8CFF-101731FDBD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F238-9B66-438D-AE01-0A0108463C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32DF-FC33-4277-ABEF-7E6EB1E450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06FF-9180-4DDC-885D-EDC109B534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F8EE-7DF5-45B3-867E-1A2BD3440C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5697-5020-4FA2-95E6-297C5ED2DF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9A85-018E-4C51-B47A-7305F8D2CA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5C6A-99FF-43B2-BA96-7406A0ED40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2186-6875-4C02-BCFB-538356C522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820C-CBA9-48D1-9C07-1BC3A85458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1C62-574B-4DC0-818B-97D09C5371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FE8B-9BF9-490A-9BE4-8D1068E898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C5C8-59B8-4364-9447-CCCA8B207B48}" type="slidenum">
              <a:rPr b="0" lang="en-US" sz="16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7" descr="\\fiiapp-arc2-srv\Eurosocial II\GESTIÓN TECNICA\6. Comunicacion y visibilidad\Comunicacion\LOGOTIPOS EUROsociAL\LOGOS SOCIOS EUROsociAL\parrilla logos EUROsociAL\logos_eurosocial_CMYK (nuevo).png"/>
          <p:cNvPicPr/>
          <p:nvPr/>
        </p:nvPicPr>
        <p:blipFill>
          <a:blip r:embed="rId2"/>
          <a:stretch/>
        </p:blipFill>
        <p:spPr>
          <a:xfrm>
            <a:off x="165240" y="8161200"/>
            <a:ext cx="12648960" cy="1468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0"/>
            <a:ext cx="1300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" name="Immagine 2" descr="Descrizione: Descrizione: Logo-FORMEZ-PA-09032010"/>
          <p:cNvPicPr/>
          <p:nvPr/>
        </p:nvPicPr>
        <p:blipFill>
          <a:blip r:embed="rId3"/>
          <a:stretch/>
        </p:blipFill>
        <p:spPr>
          <a:xfrm>
            <a:off x="304920" y="196920"/>
            <a:ext cx="1677960" cy="492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30320" y="3558600"/>
            <a:ext cx="10585440" cy="22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3</a:t>
            </a:r>
            <a:r>
              <a:rPr b="1" i="1" lang="es-ES" sz="2800" spc="-1" strike="noStrike" baseline="30000">
                <a:solidFill>
                  <a:srgbClr val="000000"/>
                </a:solidFill>
                <a:latin typeface="Gill Sans"/>
              </a:rPr>
              <a:t>era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 misión para la realización del Plan de Trabajo 2015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Operacionalización e implementación de  la estrategia DET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ill Sans"/>
              </a:rPr>
              <a:t>Identificación y evaluación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ill Sans"/>
              </a:rPr>
              <a:t>de proyectos de desarrollo regional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461880" y="6465960"/>
            <a:ext cx="1116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3300"/>
                </a:solidFill>
                <a:latin typeface="Gill Sans"/>
              </a:rPr>
              <a:t>Raffaele Colaizzo, Formez (Roma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3300"/>
                </a:solidFill>
                <a:latin typeface="Gill Sans"/>
              </a:rPr>
              <a:t>Ciudad de Guatemala y Departamento de Zacap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3300"/>
                </a:solidFill>
                <a:latin typeface="Gill Sans"/>
              </a:rPr>
              <a:t>20 – 24 de Julio 2015</a:t>
            </a:r>
            <a:r>
              <a:rPr b="1" i="1" lang="it-IT" sz="2800" spc="-1" strike="noStrike">
                <a:solidFill>
                  <a:srgbClr val="9933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965240" y="3005280"/>
            <a:ext cx="0" cy="6478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Box 38"/>
          <p:cNvSpPr/>
          <p:nvPr/>
        </p:nvSpPr>
        <p:spPr>
          <a:xfrm>
            <a:off x="766800" y="1201680"/>
            <a:ext cx="114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Arial"/>
              </a:rPr>
              <a:t>La fase de identificación y estud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5 Rectángulo"/>
          <p:cNvSpPr/>
          <p:nvPr/>
        </p:nvSpPr>
        <p:spPr>
          <a:xfrm>
            <a:off x="798480" y="19652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Perfil del proyec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"/>
          <p:cNvSpPr/>
          <p:nvPr/>
        </p:nvSpPr>
        <p:spPr>
          <a:xfrm>
            <a:off x="1758960" y="3367080"/>
            <a:ext cx="10650600" cy="70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Existe un análisis territorial pertinente con el tema del proyecto ? Están claramente identificadas las fuerzas (recursos) y las debilidades (problemas) del territorio relevantes respecto al proyecto ? Está claro cuál es la demanda social que hay que encontrar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Se analiza la oferta y la demanda de bienes o servicios (privados o públicos) que el proyecto va a generar ? El proyecto es capaz de generar condiciones de equilibrio entre demanda y oferta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El proyecto es adecuadamente descrito en sus aspectos técnicos y medioambientales ? Se pueden excluir causas evidentes de imposible factibilidad o insostenibilidad medio-ambiental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Se presenta una primera evaluación de costos e ingresos del proyecto ? Se identifican las fuentes de financiación ? Existen elementos de sostenibilidad financiera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Se presenta una evaluacion de los resultados y efectos del proyecto ? Existen elementos de sostenibilidad socio-economica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Se discute la organizacion del proyecto ? Existen elementos de sostenibilidad organizativa y gestional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5 Rectángulo"/>
          <p:cNvSpPr/>
          <p:nvPr/>
        </p:nvSpPr>
        <p:spPr>
          <a:xfrm>
            <a:off x="814320" y="8980560"/>
            <a:ext cx="10274400" cy="536400"/>
          </a:xfrm>
          <a:prstGeom prst="rect">
            <a:avLst/>
          </a:prstGeom>
          <a:solidFill>
            <a:srgbClr val="ffff99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Elaboración del estudio de (pre)factibil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965240" y="2259000"/>
            <a:ext cx="0" cy="6478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Box 38"/>
          <p:cNvSpPr/>
          <p:nvPr/>
        </p:nvSpPr>
        <p:spPr>
          <a:xfrm>
            <a:off x="766800" y="1201680"/>
            <a:ext cx="114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Arial"/>
              </a:rPr>
              <a:t>La fase de identificación y estud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5 Rectángulo"/>
          <p:cNvSpPr/>
          <p:nvPr/>
        </p:nvSpPr>
        <p:spPr>
          <a:xfrm>
            <a:off x="814320" y="2139840"/>
            <a:ext cx="5919840" cy="93996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Estudio de factibil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"/>
          <p:cNvSpPr/>
          <p:nvPr/>
        </p:nvSpPr>
        <p:spPr>
          <a:xfrm>
            <a:off x="1758960" y="3367080"/>
            <a:ext cx="106506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lineación estratégica y contribución del proyecto al Plan Region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nálisis territori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Marco lógico del proyecto y resultados esperad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emanda actual y prevista, con y sin proyec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Oferta actual y prevista, con y sin proyec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escripción de las inversiones que se van a realizar. Análisis de factibilidad técnic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nálisis de los impactos en el medio-ambien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nálisis de las alternativ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nálisis de las variables financieras y estudio de conveniencia y sostenibilidad financier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nálisis de los efectos, de la rentabilidad y de la sostenibilidad socioeconómica. Análisis de los stakeholder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escripción de la organización del proyecto y estudio de la sostenibilidad institucional y administrativ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0880" y="2028960"/>
          <a:ext cx="12242880" cy="8108640"/>
        </p:xfrm>
        <a:graphic>
          <a:graphicData uri="http://schemas.openxmlformats.org/drawingml/2006/table">
            <a:tbl>
              <a:tblPr/>
              <a:tblGrid>
                <a:gridCol w="2403720"/>
                <a:gridCol w="1584360"/>
                <a:gridCol w="1368360"/>
                <a:gridCol w="1728720"/>
                <a:gridCol w="1727280"/>
                <a:gridCol w="1873080"/>
                <a:gridCol w="155736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Benefici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Alianzas Loc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ntidades Territor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Organismo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Organismo de program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Financi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Ideas de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erfiles de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e-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Aceptación del Perf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studio de facti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ior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Inserción en la Cartera de 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Financi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jec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3765600" y="3147840"/>
            <a:ext cx="93672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908520"/>
            <a:ext cx="1224000" cy="64908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"/>
          <p:cNvSpPr/>
          <p:nvPr/>
        </p:nvSpPr>
        <p:spPr>
          <a:xfrm>
            <a:off x="8447040" y="6964200"/>
            <a:ext cx="1584360" cy="64944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"/>
          <p:cNvSpPr/>
          <p:nvPr/>
        </p:nvSpPr>
        <p:spPr>
          <a:xfrm>
            <a:off x="6718320" y="4740120"/>
            <a:ext cx="1368360" cy="57636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10318680" y="7756560"/>
            <a:ext cx="1368360" cy="57636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765600" y="8548560"/>
            <a:ext cx="7921440" cy="64800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"/>
          <p:cNvSpPr/>
          <p:nvPr/>
        </p:nvSpPr>
        <p:spPr>
          <a:xfrm>
            <a:off x="4989600" y="3292560"/>
            <a:ext cx="0" cy="43164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"/>
          <p:cNvSpPr/>
          <p:nvPr/>
        </p:nvSpPr>
        <p:spPr>
          <a:xfrm>
            <a:off x="4989600" y="3292560"/>
            <a:ext cx="0" cy="43164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"/>
          <p:cNvSpPr/>
          <p:nvPr/>
        </p:nvSpPr>
        <p:spPr>
          <a:xfrm>
            <a:off x="8271000" y="5548320"/>
            <a:ext cx="0" cy="43164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"/>
          <p:cNvSpPr/>
          <p:nvPr/>
        </p:nvSpPr>
        <p:spPr>
          <a:xfrm>
            <a:off x="8286840" y="6300720"/>
            <a:ext cx="0" cy="43200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Box 38"/>
          <p:cNvSpPr/>
          <p:nvPr/>
        </p:nvSpPr>
        <p:spPr>
          <a:xfrm>
            <a:off x="766800" y="1201680"/>
            <a:ext cx="114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Arial"/>
              </a:rPr>
              <a:t>Actividades y fun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195200"/>
            <a:ext cx="9131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Criterios de admisibilidad y de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"/>
          <p:cNvSpPr/>
          <p:nvPr/>
        </p:nvSpPr>
        <p:spPr>
          <a:xfrm>
            <a:off x="669960" y="2139840"/>
            <a:ext cx="6192720" cy="3382920"/>
          </a:xfrm>
          <a:prstGeom prst="rect">
            <a:avLst/>
          </a:prstGeom>
          <a:solidFill>
            <a:srgbClr val="99cc00">
              <a:alpha val="4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Criterios de admisibilid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Determinan la admisibilidad de la propuesta de Proyecto y/o del beneficiario participante al procedimiento de selección, en base al respeto del contenido, de las disposiciones y de los requisitos del Programa y del proceso de selec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"/>
          <p:cNvSpPr/>
          <p:nvPr/>
        </p:nvSpPr>
        <p:spPr>
          <a:xfrm>
            <a:off x="741240" y="5740560"/>
            <a:ext cx="6193080" cy="3311280"/>
          </a:xfrm>
          <a:prstGeom prst="rect">
            <a:avLst/>
          </a:prstGeom>
          <a:solidFill>
            <a:srgbClr val="ffff99">
              <a:alpha val="5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Criterios de 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Se refieren a la evaluación del mérito del Proyecto y/o del beneficiario participante, en base a indicadores diferentes de coherencia, de calidad, de eficacia y de sostenibilid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"/>
          <p:cNvSpPr/>
          <p:nvPr/>
        </p:nvSpPr>
        <p:spPr>
          <a:xfrm>
            <a:off x="7078680" y="5740560"/>
            <a:ext cx="5256360" cy="1439640"/>
          </a:xfrm>
          <a:prstGeom prst="rect">
            <a:avLst/>
          </a:prstGeom>
          <a:solidFill>
            <a:srgbClr val="ffff99">
              <a:alpha val="5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Específicos. </a:t>
            </a: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Se aplican a la prioridad, al tema o al sector considerad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"/>
          <p:cNvSpPr/>
          <p:nvPr/>
        </p:nvSpPr>
        <p:spPr>
          <a:xfrm>
            <a:off x="7078680" y="7324560"/>
            <a:ext cx="5256360" cy="1719360"/>
          </a:xfrm>
          <a:prstGeom prst="rect">
            <a:avLst/>
          </a:prstGeom>
          <a:solidFill>
            <a:srgbClr val="ffff99">
              <a:alpha val="5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Transversales. </a:t>
            </a: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Se refieren a prioridades “transversales”, como las del medio-ambiente, del enfoque de género, et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"/>
          <p:cNvSpPr/>
          <p:nvPr/>
        </p:nvSpPr>
        <p:spPr>
          <a:xfrm>
            <a:off x="7078680" y="2139840"/>
            <a:ext cx="5256360" cy="1657440"/>
          </a:xfrm>
          <a:prstGeom prst="rect">
            <a:avLst/>
          </a:prstGeom>
          <a:solidFill>
            <a:srgbClr val="ffff99">
              <a:alpha val="5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Formales. </a:t>
            </a: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Se refieren a la existencia de requisitos formales de admisión del beneficiario y del proyec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"/>
          <p:cNvSpPr/>
          <p:nvPr/>
        </p:nvSpPr>
        <p:spPr>
          <a:xfrm>
            <a:off x="7078680" y="3936960"/>
            <a:ext cx="5256360" cy="1582920"/>
          </a:xfrm>
          <a:prstGeom prst="rect">
            <a:avLst/>
          </a:prstGeom>
          <a:solidFill>
            <a:srgbClr val="ffff99">
              <a:alpha val="5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Estratégicos. </a:t>
            </a: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Resguardan la admisibilidad respecto a la estrategia y a los contenidos operativos del Program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598320" y="1249200"/>
            <a:ext cx="11665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Proceso de evaluación de proyect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24200"/>
            <a:ext cx="3673440" cy="78292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190800" bIns="190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iorizar proyectos de inversión significa decidir cómo asignar eficientemente recursos escasos entre usos valiosos alternativo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n modelos de priorización de proyectos de inversión permite orientar el proceso de prelación de proyectos, de tal manera que los responsables de las decisiones tomen en cuenta aspectos relevantes y lleguen a una conclusión general respecto a los proyectos que deben recibir apoyo y los que n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105440" y="1917720"/>
            <a:ext cx="8734320" cy="785484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1680" y="1967040"/>
            <a:ext cx="12935160" cy="7759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53960" y="1301760"/>
            <a:ext cx="11881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Ciclo de Vida de un Proyecto de Invers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814320" y="2070000"/>
          <a:ext cx="11376000" cy="7107480"/>
        </p:xfrm>
        <a:graphic>
          <a:graphicData uri="http://schemas.openxmlformats.org/drawingml/2006/table">
            <a:tbl>
              <a:tblPr/>
              <a:tblGrid>
                <a:gridCol w="2592360"/>
                <a:gridCol w="8783640"/>
              </a:tblGrid>
              <a:tr h="505080">
                <a:tc gridSpan="2">
                  <a:txBody>
                    <a:bodyPr lIns="126000" rIns="12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Acciones públ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9120">
                <a:tc>
                  <a:txBody>
                    <a:bodyPr lIns="126000" rIns="12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Selección direc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La Autoridad de Gestión del Programa selecciona directamente proyectos, cuando sean de mayor relevancia y dimensión en la estrategia regional, por ejemplo ya identificados por planes de sector. El Comité de Vigilancia controla la solidez y legitimidad de la dec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796760">
                <a:tc>
                  <a:txBody>
                    <a:bodyPr lIns="126000" rIns="126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elección competi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La Autoridad de Gestión del Programa invita entidades públicas territoriales a presentar proyectos de desarrollo en diferentes sectores, determinando prioridades, resultados esperados, tipos de intervención, financiamientos disponibles. Los proyectos competen entre ellos para ser aprobados y financi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512360">
                <a:tc>
                  <a:txBody>
                    <a:bodyPr lIns="126000" rIns="12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elección particip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La selección de los proyectos se realiza a través de un procedimiento de negociación y concertación entre la Autoridad titular del Programa y alianzas territoriales organizadas, que actúan en el marco de proyectos integrados territoriales (programas de escala intermunicipal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471600">
                <a:tc gridSpan="2">
                  <a:txBody>
                    <a:bodyPr lIns="126000" rIns="12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Proyectos priv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>
                  <a:txBody>
                    <a:bodyPr lIns="126000" rIns="12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Anuncio de Lici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Todas las propuestas de proyectos de inversión privada (generalmente de empresas pero también de organizaciones sin fines de lucro) se seleccionan a través de un proceso de licitación abierta. En casos limitados, se utilizan procedimientos de contratación negocia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6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Modalidades de selección de proyect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11160" y="2246400"/>
          <a:ext cx="11376000" cy="6878520"/>
        </p:xfrm>
        <a:graphic>
          <a:graphicData uri="http://schemas.openxmlformats.org/drawingml/2006/table">
            <a:tbl>
              <a:tblPr/>
              <a:tblGrid>
                <a:gridCol w="1079640"/>
                <a:gridCol w="102963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Alineación con las estrategias de desarrollo reg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Los proyectos propuestos son claramente pertinentes (coherentes) respecto a los objetivos y a los resultados esperados del Programa? Podrán contribuir a la consecución de los resultados esperados del mismo Programa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Viabi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Se refiere en general a la capacidad del proyecto de dura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en el tiempo por efecto de sus calidades técnicas, funcionales, financieras, medioambientales, 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ostenibilidad territorial y ambi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</a:rPr>
                        <a:t>¿ </a:t>
                      </a: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El proyecto asegura la integridad, la preservación y el equilibrio de los recursos territoriales y medioambientales, sea de los presentes localmente sea del patrimonio general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8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Taxonomía de criterios generales de selec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957240" y="2013120"/>
          <a:ext cx="11376000" cy="5940360"/>
        </p:xfrm>
        <a:graphic>
          <a:graphicData uri="http://schemas.openxmlformats.org/drawingml/2006/table">
            <a:tbl>
              <a:tblPr/>
              <a:tblGrid>
                <a:gridCol w="1079640"/>
                <a:gridCol w="102963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ostenibilidad financ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 El Proyecto conseguirá un satisfactorio equilibrio financiero, en el arco de su vida económica, entre los costos necesarios para la inversión y el funcionamiento y los ingresos procedentes de tarifas o subvenciones ? ¿Existe un cofinanciamiento por fuentes locales y/o un eventual aporte de recursos privados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3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ostenibilidad económ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 Cuáles serán los efectos del proyecto sobre la estructura económica y social  donde se coloca ? El proyecto crea ventajas y oportunidades para la comunidad en su conjunto ? Evita efectos de desplazamiento de la ocupación ? Evita exclusión social y marginalidad territorial 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0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Taxonomía de criterios de selec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Taxonomía de criterios de selec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85960" y="2030400"/>
          <a:ext cx="11376000" cy="6954840"/>
        </p:xfrm>
        <a:graphic>
          <a:graphicData uri="http://schemas.openxmlformats.org/drawingml/2006/table">
            <a:tbl>
              <a:tblPr/>
              <a:tblGrid>
                <a:gridCol w="1079280"/>
                <a:gridCol w="102967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Integración fun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La sostenibilidad y la capacidad de impacto del proyecto están determinadas, entre otras cosas, por el nivel de interdependencia que tiene con las infraestructuras y los servicios exist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42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Capacidad de impa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 El proyecto es capaz de determinar impactos positivos relevantes en la estructura socio-económica y territorial ? Cuales sono los indicadores que expresan el cambio ? Es claro cuáles sean los canales de impacto activados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20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Capacidad de contribuir a prioridades “transversale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 Los proyectos propuestos tienen la capacidad de contribuir a la sostenibilidad medioambiental, al enfoque de género y a las otras prioridades “transversales” del Programa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317600" y="2428920"/>
          <a:ext cx="10369440" cy="4032360"/>
        </p:xfrm>
        <a:graphic>
          <a:graphicData uri="http://schemas.openxmlformats.org/drawingml/2006/table">
            <a:tbl>
              <a:tblPr/>
              <a:tblGrid>
                <a:gridCol w="880920"/>
                <a:gridCol w="9488520"/>
              </a:tblGrid>
              <a:tr h="15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Ciclo del Proyecto y arquitecturas de programación del Desarrollo Reg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El marco de la evaluación y priorización de proyectos: aspectos metodológ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Criterios e indicadores para la selección de proyectos de Desarrollo Reg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8" name="Titolo 1"/>
          <p:cNvSpPr/>
          <p:nvPr/>
        </p:nvSpPr>
        <p:spPr>
          <a:xfrm>
            <a:off x="700200" y="1246320"/>
            <a:ext cx="115282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Gill Sans"/>
                <a:ea typeface="Arial"/>
              </a:rPr>
              <a:t>Suma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Taxonomía de criterios de selec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885960" y="2030400"/>
          <a:ext cx="11376000" cy="5040360"/>
        </p:xfrm>
        <a:graphic>
          <a:graphicData uri="http://schemas.openxmlformats.org/drawingml/2006/table">
            <a:tbl>
              <a:tblPr/>
              <a:tblGrid>
                <a:gridCol w="1079280"/>
                <a:gridCol w="102967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Factibi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 Las soluciones técnicas y los procedimientos previstos pueden garantizar que el proyecto será realizado por las autoridades encargadas en manera eficiente y eficaz, respetando los cronogramas establecidos ? Han sido consideradas las posibles alternativas al proyecto para satisfacer la demanda identificada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Información, vigilancia y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</a:t>
                      </a: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El Proyecto prevee de manera estructurada una actividad de evaluación y rendición social de los resultados obtenid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¿ Sostenibilidad “para quién” 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32280" y="2212920"/>
            <a:ext cx="9047160" cy="6597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65240" y="2212920"/>
            <a:ext cx="3655800" cy="72342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Gill Sans MT"/>
                <a:ea typeface="Arial Unicode MS"/>
              </a:rPr>
              <a:t>El análisis de los stakeholders para identificar ventajas y pérdidas que el proyecto generará a los “depositarios de intereses”. El proyecto debe maximizar los efectos positivos en el territorio donde interviene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Gill Sans MT"/>
                <a:ea typeface="Arial Unicode MS"/>
              </a:rPr>
              <a:t>En la matriz de análisis de los stakeholders (v. el Manual de Project Cycle Management de la Comisión Europea) se presentan, por cada depositario, sus características, sus intereses y sus compromisos en los problemas identificados, la capacidad y las motivaciones para producir cambios, las posibles acciones para mejorar los comportamientos de los depositarios mism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Objetivos, Criterios, Indicado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9600" y="2263680"/>
            <a:ext cx="5854680" cy="3133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431040" y="2068560"/>
            <a:ext cx="56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03900"/>
                </a:solidFill>
                <a:latin typeface="Gill Sans"/>
              </a:rPr>
              <a:t>Según un modelo “jerárqico” de la programación, los criterios sono especificados en coherencia con los objetivos del Programa. Los indicadores (calculados a partir de variables explicativas) permiten medir y aplicar los criteri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030320" y="5956200"/>
            <a:ext cx="9209160" cy="1879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094680" y="4013280"/>
            <a:ext cx="3434040" cy="2158920"/>
          </a:xfrm>
          <a:prstGeom prst="wedgeRectCallout">
            <a:avLst>
              <a:gd name="adj1" fmla="val -69416"/>
              <a:gd name="adj2" fmla="val 48162"/>
            </a:avLst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El experto o quien decide debe emitir juicios de valor sobre la importancia relativa de los criterios y de las alternativas, de forma que quede reflejada la dominación relativa, en términos de importancia, preferencia o probabilidad, de un elemento frente a otro, respecto a un atributo, o a una propiedad o cualidad común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"/>
          <p:cNvSpPr/>
          <p:nvPr/>
        </p:nvSpPr>
        <p:spPr>
          <a:xfrm>
            <a:off x="9381960" y="8190000"/>
            <a:ext cx="3434040" cy="865080"/>
          </a:xfrm>
          <a:prstGeom prst="wedgeRectCallout">
            <a:avLst>
              <a:gd name="adj1" fmla="val -40800"/>
              <a:gd name="adj2" fmla="val -94402"/>
            </a:avLst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Gill Sans MT"/>
              </a:rPr>
              <a:t>quien toma decisiones debe aplicar un juicio coherente en la especificación de la comparación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8015400"/>
            <a:ext cx="5473800" cy="1224000"/>
          </a:xfrm>
          <a:prstGeom prst="wedgeRectCallout">
            <a:avLst>
              <a:gd name="adj1" fmla="val 78685"/>
              <a:gd name="adj2" fmla="val -74384"/>
            </a:avLst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La calificación de cada alternativa se multiplica por el peso de los subcriterios y se suman para obtener calificaciones locales con respecto a cada criterio. Las calificaciones locales se multiplican por los pesos de los criterios y se agregan para obtener las calificaciones globales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89240" y="2573280"/>
            <a:ext cx="101534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13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Gill Sans MT"/>
                <a:ea typeface="Arial Unicode MS"/>
              </a:rPr>
              <a:t>Indicadores basados en métodos monetarios</a:t>
            </a:r>
            <a:r>
              <a:rPr b="0" lang="es-ES" sz="2800" spc="-1" strike="noStrike">
                <a:solidFill>
                  <a:srgbClr val="000099"/>
                </a:solidFill>
                <a:latin typeface="Gill Sans MT"/>
                <a:ea typeface="Arial Unicode MS"/>
              </a:rPr>
              <a:t>. Utilizando estos métodos, los costos y los beneficios de los proyectos siempre se evalúan en términos monetarios, utilizando técnicas adecuadas, aún en los casos relativos a recursos, bienes y servicios “intangibles”, que no tienen un mercado (por ejemplo, la descontaminación del medio ambiente o la tutela del patrimonio cultura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-533520" algn="just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13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Gill Sans MT"/>
                <a:ea typeface="Arial Unicode MS"/>
              </a:rPr>
              <a:t>Indicadores basados en métodos no monetarios o mixtos</a:t>
            </a:r>
            <a:r>
              <a:rPr b="0" lang="es-ES" sz="2800" spc="-1" strike="noStrike">
                <a:solidFill>
                  <a:srgbClr val="000099"/>
                </a:solidFill>
                <a:latin typeface="Gill Sans MT"/>
                <a:ea typeface="Arial Unicode MS"/>
              </a:rPr>
              <a:t>. Utilizando estos métodos, los efectos se evalúan utilizando unidades de medida diferentes, físicas o monetarias, y además criterios cualitativ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"/>
          <p:cNvSpPr/>
          <p:nvPr/>
        </p:nvSpPr>
        <p:spPr>
          <a:xfrm>
            <a:off x="957240" y="1131840"/>
            <a:ext cx="1116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Indicadores para la evaluación de proyect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046320" y="3106800"/>
          <a:ext cx="6696000" cy="5280120"/>
        </p:xfrm>
        <a:graphic>
          <a:graphicData uri="http://schemas.openxmlformats.org/drawingml/2006/table">
            <a:tbl>
              <a:tblPr/>
              <a:tblGrid>
                <a:gridCol w="2305080"/>
                <a:gridCol w="1440000"/>
                <a:gridCol w="1368360"/>
                <a:gridCol w="1582560"/>
              </a:tblGrid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rite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Punt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P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Imp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oyecto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qu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nfoque de gén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eservación medio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2,2: Impacto medi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oyecto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qu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nfoque de gén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eservación medio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2,8: Impacto relev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046320" y="8456760"/>
            <a:ext cx="65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Gill Sans MT"/>
              </a:rPr>
              <a:t>Ningun Impacto : 0; Impacto escaso: 1; Impacto mediano: 2; Impacto relevante; 3; Impacto muy elevado: 4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"/>
          <p:cNvSpPr/>
          <p:nvPr/>
        </p:nvSpPr>
        <p:spPr>
          <a:xfrm>
            <a:off x="7510320" y="2068560"/>
            <a:ext cx="4248360" cy="865080"/>
          </a:xfrm>
          <a:prstGeom prst="wedgeRectCallout">
            <a:avLst>
              <a:gd name="adj1" fmla="val -40879"/>
              <a:gd name="adj2" fmla="val 96421"/>
            </a:avLst>
          </a:prstGeom>
          <a:solidFill>
            <a:srgbClr val="808080">
              <a:alpha val="2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"/>
              </a:rPr>
              <a:t>El peso de los criterios puede variar en relación a su importancia, en base a las prioridades estratégicas reconocida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"/>
          <p:cNvSpPr/>
          <p:nvPr/>
        </p:nvSpPr>
        <p:spPr>
          <a:xfrm>
            <a:off x="525600" y="7182000"/>
            <a:ext cx="2160360" cy="1223640"/>
          </a:xfrm>
          <a:prstGeom prst="wedgeRectCallout">
            <a:avLst>
              <a:gd name="adj1" fmla="val 221416"/>
              <a:gd name="adj2" fmla="val -173087"/>
            </a:avLst>
          </a:prstGeom>
          <a:solidFill>
            <a:srgbClr val="808080">
              <a:alpha val="2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"/>
              </a:rPr>
              <a:t>El impacto total del Proyecto es la suma de los impactos por cada criteri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"/>
          <p:cNvSpPr/>
          <p:nvPr/>
        </p:nvSpPr>
        <p:spPr>
          <a:xfrm>
            <a:off x="2398680" y="1996920"/>
            <a:ext cx="2784600" cy="863640"/>
          </a:xfrm>
          <a:prstGeom prst="wedgeRectCallout">
            <a:avLst>
              <a:gd name="adj1" fmla="val 2282"/>
              <a:gd name="adj2" fmla="val 88236"/>
            </a:avLst>
          </a:prstGeom>
          <a:solidFill>
            <a:srgbClr val="808080">
              <a:alpha val="2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"/>
              </a:rPr>
              <a:t>La calidad del proyecto se evalúa con rspecto a diferentes criterio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"/>
          <p:cNvSpPr/>
          <p:nvPr/>
        </p:nvSpPr>
        <p:spPr>
          <a:xfrm>
            <a:off x="10102680" y="7324560"/>
            <a:ext cx="2592720" cy="1008360"/>
          </a:xfrm>
          <a:prstGeom prst="wedgeRectCallout">
            <a:avLst>
              <a:gd name="adj1" fmla="val -77250"/>
              <a:gd name="adj2" fmla="val -433462"/>
            </a:avLst>
          </a:prstGeom>
          <a:solidFill>
            <a:srgbClr val="808080">
              <a:alpha val="2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"/>
              </a:rPr>
              <a:t>Se expresa como el producto de las marcas por el pes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Ejemplo elemental de análisis multicriterial para la prioriza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"/>
          <p:cNvSpPr/>
          <p:nvPr/>
        </p:nvSpPr>
        <p:spPr>
          <a:xfrm>
            <a:off x="309600" y="4589640"/>
            <a:ext cx="2519280" cy="1655640"/>
          </a:xfrm>
          <a:prstGeom prst="wedgeRectCallout">
            <a:avLst>
              <a:gd name="adj1" fmla="val 160587"/>
              <a:gd name="adj2" fmla="val -120374"/>
            </a:avLst>
          </a:prstGeom>
          <a:solidFill>
            <a:srgbClr val="808080">
              <a:alpha val="2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"/>
              </a:rPr>
              <a:t>Los puntajes son asignados por los evaluadores sintetizando indicadores y juicios de calidad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09960" y="3508200"/>
            <a:ext cx="9504360" cy="2880000"/>
          </a:xfrm>
          <a:prstGeom prst="rect">
            <a:avLst/>
          </a:prstGeom>
          <a:solidFill>
            <a:srgbClr val="ffcc99"/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82800" bIns="82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Criterios y indicadores para la selección de proyectos de Desarrollo Regional (ejemplo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"/>
          <p:cNvSpPr/>
          <p:nvPr/>
        </p:nvSpPr>
        <p:spPr>
          <a:xfrm>
            <a:off x="1533600" y="3076560"/>
            <a:ext cx="1008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Gill Sans MT"/>
                <a:ea typeface="MS PGothic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e Indicadores: criterios genera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69960" y="2139840"/>
          <a:ext cx="11809440" cy="6842160"/>
        </p:xfrm>
        <a:graphic>
          <a:graphicData uri="http://schemas.openxmlformats.org/drawingml/2006/table">
            <a:tbl>
              <a:tblPr/>
              <a:tblGrid>
                <a:gridCol w="5743440"/>
                <a:gridCol w="6066000"/>
              </a:tblGrid>
              <a:tr h="1812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1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lineación con las estrategias de desarrollo regional y calidad de la lógica del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Descripción técnica que demuestre la plena alineación (coherencia) del Proyecto con las estrategias del Plan/Programa y la correcta lógica interna del mismo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</a:tr>
              <a:tr h="133668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2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Sostenibilidad financiera y ges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Presencia de un Plan de Gestión del Proyecto que demuestre la sostenibilidad financiera y administrativa de la 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  <a:tr h="187992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3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Integración fun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Descripción técnica del Proyecto que demuestre la ausencia de vínculos a la operatividad de las obras propuestas, determinados por faltas del sistema existente de infraestructuras y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812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4. Rentabilidad socioeconóm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Esistencia de una favorable proporción entre costos y beneficios socioeconómicos del Proyecto, medidos en términos monetarios (tasa de rendimiento interno socioeconómic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y Indicadores: competitividad del territo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74640" y="2165400"/>
          <a:ext cx="12020760" cy="7078680"/>
        </p:xfrm>
        <a:graphic>
          <a:graphicData uri="http://schemas.openxmlformats.org/drawingml/2006/table">
            <a:tbl>
              <a:tblPr/>
              <a:tblGrid>
                <a:gridCol w="5846760"/>
                <a:gridCol w="6174000"/>
              </a:tblGrid>
              <a:tr h="254988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1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atracción de instituciones científicas y técnicas para la realización de actividad de formación avanzada, investigación e innov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lidad y capacidad innovadora de la oferta de infraestructuras y servicios para la localización o el fortalecimiento de las instituciones científicas y técn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Existencia de Planes de Innovación e Inversión de Redes de Empresas del Terri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</a:tr>
              <a:tr h="2244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2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contribuir a la difusión y al uso de las Tecnologías de Información y comun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Población cubierta por redes digitales de alta velo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Número de familias, empresas y municipios que utilizan las tecnologías digitales por efecto de la realización del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85480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3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innovación (de producto, de proceso, organizativa) del sistema productivo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mpacto de la innovación propuesta en términos de valor añadido incrementado o salvaguardado de la empresa subvencion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ompatibilidad y sostenibilidad de la tecnología adoptada en el contexto socio-económico territorial donde se realiza la 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e Indicadores: competitividad del territo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69960" y="2149560"/>
          <a:ext cx="11809440" cy="6611760"/>
        </p:xfrm>
        <a:graphic>
          <a:graphicData uri="http://schemas.openxmlformats.org/drawingml/2006/table">
            <a:tbl>
              <a:tblPr/>
              <a:tblGrid>
                <a:gridCol w="5743440"/>
                <a:gridCol w="6066000"/>
              </a:tblGrid>
              <a:tr h="3540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4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contribuir a la eficiencia energética y al uso sostenible de los recursos natu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6f6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Aumento de la eficiencia energética (insumos entre producció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recimiento de las energías renovables producidas y/o adopt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l costo de la empresa para insumos energéticos y de otros rec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ntroducción de tecnologías y procedimientos de reciclaje de desech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l insumo de ag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6f600">
                        <a:alpha val="50000"/>
                      </a:srgbClr>
                    </a:solidFill>
                  </a:tcPr>
                </a:tc>
              </a:tr>
              <a:tr h="3108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5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contribuir a la reducción de la marginalidad territorial y a la eficiencia de la movilidad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l tiempo de viaje de la población hacia centros de serv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 los accidentes de trán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ntroducción de tecnologías respetuosas del medio-ambiente en el campo de los transportes públ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Aumento de la cuota de movilidad efectuada por medio del servicio públ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y Indicadores: competitividad del territo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69960" y="1996920"/>
          <a:ext cx="11809440" cy="6631200"/>
        </p:xfrm>
        <a:graphic>
          <a:graphicData uri="http://schemas.openxmlformats.org/drawingml/2006/table">
            <a:tbl>
              <a:tblPr/>
              <a:tblGrid>
                <a:gridCol w="5743440"/>
                <a:gridCol w="6066000"/>
              </a:tblGrid>
              <a:tr h="3171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6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generar fuerzas de trabajo motivadas, competentes e innovado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6f6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Número de personas formadas en sectores y actividades especializadas e innovadoras para el terri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Personas atendidas por nuevos servicios de acompañamiento y counseling profes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Número de mujeres que utilizan servicios de conciliación entre vida y traba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6f600">
                        <a:alpha val="50000"/>
                      </a:srgbClr>
                    </a:solidFill>
                  </a:tcPr>
                </a:tc>
              </a:tr>
              <a:tr h="89820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7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Respeto del principio de leg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 delitos de corrupción y evasión de impue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4492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8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administrativa y eficiencia del sistema públ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Aumento de recursos humanos y técnicos empleados en las funciones de planificación y realización de proyectos para el Desarrollo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 los costos burocráticos y de los tiempos de espera para certificaciones y autorizaciones de las empre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09960" y="3508200"/>
            <a:ext cx="9504360" cy="2880000"/>
          </a:xfrm>
          <a:prstGeom prst="rect">
            <a:avLst/>
          </a:prstGeom>
          <a:solidFill>
            <a:srgbClr val="ffcc99"/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82800" bIns="82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Ciclo del Proyecto y arquitecturas de programación del Desarrollo Region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"/>
          <p:cNvSpPr/>
          <p:nvPr/>
        </p:nvSpPr>
        <p:spPr>
          <a:xfrm>
            <a:off x="1500120" y="3051000"/>
            <a:ext cx="1008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Gill Sans MT"/>
                <a:ea typeface="MS PGothic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814320" y="1984320"/>
          <a:ext cx="11809440" cy="7148520"/>
        </p:xfrm>
        <a:graphic>
          <a:graphicData uri="http://schemas.openxmlformats.org/drawingml/2006/table">
            <a:tbl>
              <a:tblPr/>
              <a:tblGrid>
                <a:gridCol w="5743800"/>
                <a:gridCol w="6065640"/>
              </a:tblGrid>
              <a:tr h="2244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1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Nivel de innovación (de producto, de proceso, organizativa) de la inversión productiva propuesta en las cadenas relev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mpacto de la innovación en términos de valor añadido incrementado o salvaguardado de la empr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ompatibilidad y sostenibilidad de la tecnología adoptada en el contexto socio-económico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</a:tr>
              <a:tr h="298188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2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umento da las relaciones entre el sistema productivo y la comunidad cientí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8ffa7"/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Existencia de un acuerdo de cooperación entre la empresa financiada e instituciones científicas para el desarrollo de innovaciones productiv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Aumento de los ocupados de formación técnica avanzada en la empresa financi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Spin off realiz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8ffa7"/>
                    </a:solidFill>
                  </a:tcPr>
                </a:tc>
              </a:tr>
              <a:tr h="2244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3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activación y fortalecimiento de las cadenas de valor locales a través del sistema de interdepend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reación de redes y consorcios entre empre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Valor añadido generado en otras empresas productivas del territorio por efecto del crecimiento de la producción de la empresa financi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6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y Indicadores: Proyectos productiv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700200" y="2200320"/>
          <a:ext cx="11809440" cy="5924520"/>
        </p:xfrm>
        <a:graphic>
          <a:graphicData uri="http://schemas.openxmlformats.org/drawingml/2006/table">
            <a:tbl>
              <a:tblPr/>
              <a:tblGrid>
                <a:gridCol w="5743800"/>
                <a:gridCol w="6065640"/>
              </a:tblGrid>
              <a:tr h="237204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4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mejorar y expandir la producción de bienes y servicios de la agrupación de empresas pertenecientes a las cadenas de valor loc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lidad y credibilidad del Business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Monto de la inversión conjunta de las empresas pertenecientes a la cadena de 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Nuevas impresas generadas en sectores pertin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2244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5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atracción de inversiones productivas externas al territorio en actividades coherentes con la cad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nterdependencia funcional del proyecto productivo propuesto con las especializaciones productivas loc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ompatibilidad y sostenibilidad de la inversión propuesta en el contexto socio-económico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30752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6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plicabilidad de la innovación en diferentes empresas del terri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8ffa7"/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ntroducción de una tecnología potencialmente adoptable por otras empresa del terri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8ffa7"/>
                    </a:solidFill>
                  </a:tcPr>
                </a:tc>
              </a:tr>
            </a:tbl>
          </a:graphicData>
        </a:graphic>
      </p:graphicFrame>
      <p:sp>
        <p:nvSpPr>
          <p:cNvPr id="228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e Indicadores: Proyectos productiv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814320" y="2212920"/>
          <a:ext cx="11809440" cy="5859360"/>
        </p:xfrm>
        <a:graphic>
          <a:graphicData uri="http://schemas.openxmlformats.org/drawingml/2006/table">
            <a:tbl>
              <a:tblPr/>
              <a:tblGrid>
                <a:gridCol w="5743800"/>
                <a:gridCol w="6065640"/>
              </a:tblGrid>
              <a:tr h="194004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D1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mejorar la movilidad de las mercancí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ntidad de mercancías del sistema productivo local movidas por efecto del Proyecto de logística propue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pacidad innovadora y sostenibilidad de las tecnologías propue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</a:tr>
              <a:tr h="197928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D2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mejorar la calidad y la sostenibilidad de las infraestructuras para la localización de empre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Mejor eficiencia productiva medida por menores costos y/o mayor valor añadido de las empresas interesadas al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pacidad innovadora y sostenibilidad de las infraestructuras realiz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94004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D3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mejorar la calidad y la sostenibilidad de las plantas de producción y distribución de energ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Mejor eficiencia productiva medida por los menores costos y/o el mayor valor añadido de las empresas deposit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pacidad innovadora y sostenibilidad de las tecnologías adopt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0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e Indicadores: Infraestructur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3960" y="7756560"/>
            <a:ext cx="11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93300"/>
                </a:solidFill>
                <a:latin typeface="Gill Sans"/>
              </a:rPr>
              <a:t>Raffaele Colaizzo, Formez (Roma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93300"/>
                </a:solidFill>
                <a:latin typeface="Gill Sans"/>
              </a:rPr>
              <a:t>r.colaizzo@tiscali.i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H="1">
            <a:off x="11102760" y="6869160"/>
            <a:ext cx="36360" cy="180000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790640" y="6821640"/>
            <a:ext cx="36720" cy="180000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1749600" y="8621640"/>
            <a:ext cx="935640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4135320" y="7182000"/>
            <a:ext cx="4318200" cy="0"/>
          </a:xfrm>
          <a:prstGeom prst="line">
            <a:avLst/>
          </a:prstGeom>
          <a:ln w="1015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214680" y="2860560"/>
            <a:ext cx="36360" cy="572292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5423040" y="70372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"/>
          <p:cNvSpPr/>
          <p:nvPr/>
        </p:nvSpPr>
        <p:spPr>
          <a:xfrm>
            <a:off x="592200" y="1276200"/>
            <a:ext cx="1180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La “lógica” de la selección de proyectos D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"/>
          <p:cNvSpPr/>
          <p:nvPr/>
        </p:nvSpPr>
        <p:spPr>
          <a:xfrm>
            <a:off x="3065400" y="676764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0707"/>
                </a:solidFill>
                <a:latin typeface="Gill Sans MT"/>
                <a:ea typeface="MS PGothic"/>
              </a:rPr>
              <a:t>Criterios de selec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5 Rectángulo"/>
          <p:cNvSpPr/>
          <p:nvPr/>
        </p:nvSpPr>
        <p:spPr>
          <a:xfrm>
            <a:off x="4094280" y="2260440"/>
            <a:ext cx="4319640" cy="1258920"/>
          </a:xfrm>
          <a:prstGeom prst="rect">
            <a:avLst/>
          </a:prstGeom>
          <a:solidFill>
            <a:srgbClr val="bbe0e3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strategia / Plan Regional Norte Orien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5 Rectángulo"/>
          <p:cNvSpPr/>
          <p:nvPr/>
        </p:nvSpPr>
        <p:spPr>
          <a:xfrm>
            <a:off x="4125960" y="3724200"/>
            <a:ext cx="4319640" cy="1258920"/>
          </a:xfrm>
          <a:prstGeom prst="rect">
            <a:avLst/>
          </a:prstGeom>
          <a:solidFill>
            <a:srgbClr val="b6f600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Fondos de financiamiento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(CODEDE, institucionales, cooperación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5 Rectángulo"/>
          <p:cNvSpPr/>
          <p:nvPr/>
        </p:nvSpPr>
        <p:spPr>
          <a:xfrm>
            <a:off x="262080" y="6330960"/>
            <a:ext cx="309708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ntidades Naciona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5 Rectángulo"/>
          <p:cNvSpPr/>
          <p:nvPr/>
        </p:nvSpPr>
        <p:spPr>
          <a:xfrm>
            <a:off x="9597960" y="6389640"/>
            <a:ext cx="317016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Entidades Territoria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lianzas Loca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Beneficiari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5 Rectángulo"/>
          <p:cNvSpPr/>
          <p:nvPr/>
        </p:nvSpPr>
        <p:spPr>
          <a:xfrm>
            <a:off x="5062680" y="7900920"/>
            <a:ext cx="2160360" cy="1258920"/>
          </a:xfrm>
          <a:prstGeom prst="rect">
            <a:avLst/>
          </a:prstGeom>
          <a:solidFill>
            <a:srgbClr val="ffcc99"/>
          </a:solidFill>
          <a:ln w="6480">
            <a:solidFill>
              <a:srgbClr val="ff99c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Regiona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"/>
          <p:cNvSpPr/>
          <p:nvPr/>
        </p:nvSpPr>
        <p:spPr>
          <a:xfrm>
            <a:off x="7047000" y="6773760"/>
            <a:ext cx="2479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0707"/>
                </a:solidFill>
                <a:latin typeface="Gill Sans MT"/>
                <a:ea typeface="MS PGothic"/>
              </a:rPr>
              <a:t>Procedimientos de selec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309600" y="2932200"/>
            <a:ext cx="2663640" cy="1152360"/>
          </a:xfrm>
          <a:prstGeom prst="wedgeRectCallout">
            <a:avLst>
              <a:gd name="adj1" fmla="val 96245"/>
              <a:gd name="adj2" fmla="val -54407"/>
            </a:avLst>
          </a:prstGeom>
          <a:solidFill>
            <a:srgbClr val="808080">
              <a:alpha val="3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La estrategia regional permite la alineación de los proyectos DE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"/>
          <p:cNvSpPr/>
          <p:nvPr/>
        </p:nvSpPr>
        <p:spPr>
          <a:xfrm>
            <a:off x="9958320" y="2860560"/>
            <a:ext cx="2664000" cy="1224000"/>
          </a:xfrm>
          <a:prstGeom prst="wedgeRectCallout">
            <a:avLst>
              <a:gd name="adj1" fmla="val -126282"/>
              <a:gd name="adj2" fmla="val -45458"/>
            </a:avLst>
          </a:prstGeom>
          <a:solidFill>
            <a:srgbClr val="808080">
              <a:alpha val="3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SEGEPLAN coordina la formulación del Plan  y el acceso a los fondos financier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5 Rectángulo"/>
          <p:cNvSpPr/>
          <p:nvPr/>
        </p:nvSpPr>
        <p:spPr>
          <a:xfrm>
            <a:off x="7510320" y="7900920"/>
            <a:ext cx="2664000" cy="1258920"/>
          </a:xfrm>
          <a:prstGeom prst="rect">
            <a:avLst/>
          </a:prstGeom>
          <a:solidFill>
            <a:srgbClr val="ffff99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re-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5 Rectángulo"/>
          <p:cNvSpPr/>
          <p:nvPr/>
        </p:nvSpPr>
        <p:spPr>
          <a:xfrm>
            <a:off x="4125960" y="5381640"/>
            <a:ext cx="4319640" cy="1258920"/>
          </a:xfrm>
          <a:prstGeom prst="rect">
            <a:avLst/>
          </a:prstGeom>
          <a:solidFill>
            <a:srgbClr val="b6f600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artera de Invers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5 Rectángulo"/>
          <p:cNvSpPr/>
          <p:nvPr/>
        </p:nvSpPr>
        <p:spPr>
          <a:xfrm>
            <a:off x="4557600" y="5164200"/>
            <a:ext cx="4319640" cy="576360"/>
          </a:xfrm>
          <a:prstGeom prst="rect">
            <a:avLst/>
          </a:prstGeom>
          <a:solidFill>
            <a:srgbClr val="ffff99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Organismo de 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5 Rectángulo"/>
          <p:cNvSpPr/>
          <p:nvPr/>
        </p:nvSpPr>
        <p:spPr>
          <a:xfrm>
            <a:off x="4611600" y="1955880"/>
            <a:ext cx="4319640" cy="576360"/>
          </a:xfrm>
          <a:prstGeom prst="rect">
            <a:avLst/>
          </a:prstGeom>
          <a:solidFill>
            <a:srgbClr val="ffff99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Organismo de programaci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61800" y="2063880"/>
            <a:ext cx="12341520" cy="6638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92200" y="1276200"/>
            <a:ext cx="1180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La experiencia de la base de datos “Open Coesione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7920" y="2004840"/>
            <a:ext cx="12358440" cy="7446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3960" y="1276200"/>
            <a:ext cx="1180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La experiencia de la base de datos “Open Coesione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09960" y="3508200"/>
            <a:ext cx="9504360" cy="2880000"/>
          </a:xfrm>
          <a:prstGeom prst="rect">
            <a:avLst/>
          </a:prstGeom>
          <a:solidFill>
            <a:srgbClr val="ffcc99"/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82800" bIns="82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El marco de la evaluación y priorización de proyectos: aspectos metodológic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1533600" y="3076560"/>
            <a:ext cx="1008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Gill Sans MT"/>
                <a:ea typeface="MS PGothic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510160" y="6794640"/>
            <a:ext cx="647856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>
            <a:off x="6862680" y="3774960"/>
            <a:ext cx="0" cy="107964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"/>
          <p:cNvSpPr/>
          <p:nvPr/>
        </p:nvSpPr>
        <p:spPr>
          <a:xfrm>
            <a:off x="4529160" y="2766960"/>
            <a:ext cx="0" cy="107964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4714920"/>
            <a:ext cx="755784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"/>
          <p:cNvSpPr/>
          <p:nvPr/>
        </p:nvSpPr>
        <p:spPr>
          <a:xfrm>
            <a:off x="1533600" y="3774960"/>
            <a:ext cx="0" cy="107964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>
            <a:off x="4222800" y="2757600"/>
            <a:ext cx="0" cy="107928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1397600" y="6399360"/>
            <a:ext cx="73080" cy="266364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6405480" y="5848200"/>
            <a:ext cx="0" cy="107964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2470320" y="3005280"/>
            <a:ext cx="755784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TextBox 38"/>
          <p:cNvSpPr/>
          <p:nvPr/>
        </p:nvSpPr>
        <p:spPr>
          <a:xfrm>
            <a:off x="719280" y="1217520"/>
            <a:ext cx="114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3300"/>
                </a:solidFill>
                <a:latin typeface="Gill Sans MT"/>
                <a:ea typeface="Arial"/>
              </a:rPr>
              <a:t>Ciclo de vida de los proyectos de invers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5 Rectángulo"/>
          <p:cNvSpPr/>
          <p:nvPr/>
        </p:nvSpPr>
        <p:spPr>
          <a:xfrm>
            <a:off x="3143160" y="40766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6 Rectángulo"/>
          <p:cNvSpPr/>
          <p:nvPr/>
        </p:nvSpPr>
        <p:spPr>
          <a:xfrm>
            <a:off x="5781600" y="40892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elec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7 Rectángulo"/>
          <p:cNvSpPr/>
          <p:nvPr/>
        </p:nvSpPr>
        <p:spPr>
          <a:xfrm>
            <a:off x="10237680" y="6113520"/>
            <a:ext cx="2340000" cy="1258920"/>
          </a:xfrm>
          <a:prstGeom prst="rect">
            <a:avLst/>
          </a:prstGeom>
          <a:gradFill rotWithShape="0">
            <a:gsLst>
              <a:gs pos="0">
                <a:srgbClr val="fdcaab"/>
              </a:gs>
              <a:gs pos="100000">
                <a:srgbClr val="ffb689"/>
              </a:gs>
            </a:gsLst>
            <a:lin ang="5400000"/>
          </a:gradFill>
          <a:ln w="6480">
            <a:solidFill>
              <a:srgbClr val="f7964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8 Rectángulo"/>
          <p:cNvSpPr/>
          <p:nvPr/>
        </p:nvSpPr>
        <p:spPr>
          <a:xfrm>
            <a:off x="10294920" y="7932600"/>
            <a:ext cx="2376360" cy="1258920"/>
          </a:xfrm>
          <a:prstGeom prst="rect">
            <a:avLst/>
          </a:prstGeom>
          <a:gradFill rotWithShape="0">
            <a:gsLst>
              <a:gs pos="0">
                <a:srgbClr val="aad2e1"/>
              </a:gs>
              <a:gs pos="100000">
                <a:srgbClr val="8ac5d9"/>
              </a:gs>
            </a:gsLst>
            <a:lin ang="5400000"/>
          </a:gradFill>
          <a:ln w="6480">
            <a:solidFill>
              <a:srgbClr val="4bacc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valuación y segui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20 Cerrar llave"/>
          <p:cNvSpPr/>
          <p:nvPr/>
        </p:nvSpPr>
        <p:spPr>
          <a:xfrm flipV="1" rot="5400000">
            <a:off x="3891600" y="2476080"/>
            <a:ext cx="181080" cy="6192720"/>
          </a:xfrm>
          <a:custGeom>
            <a:avLst/>
            <a:gdLst>
              <a:gd name="textAreaLeft" fmla="*/ 0 w 181080"/>
              <a:gd name="textAreaRight" fmla="*/ 65520 w 181080"/>
              <a:gd name="textAreaTop" fmla="*/ 70920 h 6192720"/>
              <a:gd name="textAreaBottom" fmla="*/ 6121800 h 61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6"/>
                  <a:pt x="10800" y="791"/>
                </a:cubicBezTo>
                <a:lnTo>
                  <a:pt x="10800" y="10009"/>
                </a:lnTo>
                <a:cubicBezTo>
                  <a:pt x="10800" y="10405"/>
                  <a:pt x="16200" y="10800"/>
                  <a:pt x="21600" y="10800"/>
                </a:cubicBezTo>
                <a:cubicBezTo>
                  <a:pt x="16200" y="10800"/>
                  <a:pt x="10800" y="11196"/>
                  <a:pt x="10800" y="11591"/>
                </a:cubicBezTo>
                <a:lnTo>
                  <a:pt x="10800" y="20809"/>
                </a:lnTo>
                <a:cubicBezTo>
                  <a:pt x="10800" y="2120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21 CuadroTexto"/>
          <p:cNvSpPr/>
          <p:nvPr/>
        </p:nvSpPr>
        <p:spPr>
          <a:xfrm>
            <a:off x="1240920" y="5699160"/>
            <a:ext cx="262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77933c"/>
                </a:solidFill>
                <a:latin typeface="Gill Sans MT"/>
                <a:ea typeface="Arial"/>
              </a:rPr>
              <a:t>Preinvers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77933c"/>
                </a:solidFill>
                <a:latin typeface="Gill Sans MT"/>
                <a:ea typeface="Arial"/>
              </a:rPr>
              <a:t>(evaluación ex ante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22 CuadroTexto"/>
          <p:cNvSpPr/>
          <p:nvPr/>
        </p:nvSpPr>
        <p:spPr>
          <a:xfrm>
            <a:off x="6790320" y="768492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e46c0a"/>
                </a:solidFill>
                <a:latin typeface="Gill Sans MT"/>
                <a:ea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23 CuadroTexto"/>
          <p:cNvSpPr/>
          <p:nvPr/>
        </p:nvSpPr>
        <p:spPr>
          <a:xfrm>
            <a:off x="7183440" y="843768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Gill Sans MT"/>
                <a:ea typeface="Arial"/>
              </a:rPr>
              <a:t>Opera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Gill Sans MT"/>
                <a:ea typeface="Arial"/>
              </a:rPr>
              <a:t>(evaluación ex post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30 Cerrar llave"/>
          <p:cNvSpPr/>
          <p:nvPr/>
        </p:nvSpPr>
        <p:spPr>
          <a:xfrm flipV="1" rot="5400000">
            <a:off x="8211960" y="4794480"/>
            <a:ext cx="252360" cy="5545440"/>
          </a:xfrm>
          <a:custGeom>
            <a:avLst/>
            <a:gdLst>
              <a:gd name="textAreaLeft" fmla="*/ 0 w 252360"/>
              <a:gd name="textAreaRight" fmla="*/ 91080 w 252360"/>
              <a:gd name="textAreaTop" fmla="*/ 104400 h 5545440"/>
              <a:gd name="textAreaBottom" fmla="*/ 5441040 h 554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52"/>
                  <a:pt x="10800" y="1303"/>
                </a:cubicBezTo>
                <a:lnTo>
                  <a:pt x="10800" y="9497"/>
                </a:lnTo>
                <a:cubicBezTo>
                  <a:pt x="10800" y="10149"/>
                  <a:pt x="16200" y="10800"/>
                  <a:pt x="21600" y="10800"/>
                </a:cubicBezTo>
                <a:cubicBezTo>
                  <a:pt x="16200" y="10800"/>
                  <a:pt x="10800" y="11452"/>
                  <a:pt x="10800" y="12103"/>
                </a:cubicBezTo>
                <a:lnTo>
                  <a:pt x="10800" y="20297"/>
                </a:lnTo>
                <a:cubicBezTo>
                  <a:pt x="10800" y="2094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31 Cerrar llave"/>
          <p:cNvSpPr/>
          <p:nvPr/>
        </p:nvSpPr>
        <p:spPr>
          <a:xfrm rot="10800000">
            <a:off x="9761400" y="8094240"/>
            <a:ext cx="378000" cy="988920"/>
          </a:xfrm>
          <a:custGeom>
            <a:avLst/>
            <a:gdLst>
              <a:gd name="textAreaLeft" fmla="*/ 0 w 378000"/>
              <a:gd name="textAreaRight" fmla="*/ 136440 w 378000"/>
              <a:gd name="textAreaTop" fmla="*/ 19440 h 988920"/>
              <a:gd name="textAreaBottom" fmla="*/ 969480 h 9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5"/>
                  <a:pt x="10800" y="1369"/>
                </a:cubicBezTo>
                <a:lnTo>
                  <a:pt x="10800" y="9431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5"/>
                  <a:pt x="10800" y="12169"/>
                </a:cubicBezTo>
                <a:lnTo>
                  <a:pt x="10800" y="20231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5 Rectángulo"/>
          <p:cNvSpPr/>
          <p:nvPr/>
        </p:nvSpPr>
        <p:spPr>
          <a:xfrm>
            <a:off x="380880" y="23162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1.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Identific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5 Rectángulo"/>
          <p:cNvSpPr/>
          <p:nvPr/>
        </p:nvSpPr>
        <p:spPr>
          <a:xfrm>
            <a:off x="7205760" y="2394000"/>
            <a:ext cx="2340000" cy="1258920"/>
          </a:xfrm>
          <a:prstGeom prst="rect">
            <a:avLst/>
          </a:prstGeom>
          <a:gradFill rotWithShape="0">
            <a:gsLst>
              <a:gs pos="0">
                <a:srgbClr val="ddacab"/>
              </a:gs>
              <a:gs pos="100000">
                <a:srgbClr val="d48c8b"/>
              </a:gs>
            </a:gsLst>
            <a:lin ang="5400000"/>
          </a:gra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rioriz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7 Rectángulo"/>
          <p:cNvSpPr/>
          <p:nvPr/>
        </p:nvSpPr>
        <p:spPr>
          <a:xfrm>
            <a:off x="5240160" y="6113520"/>
            <a:ext cx="2340000" cy="1258920"/>
          </a:xfrm>
          <a:prstGeom prst="rect">
            <a:avLst/>
          </a:prstGeom>
          <a:gradFill rotWithShape="0">
            <a:gsLst>
              <a:gs pos="0">
                <a:srgbClr val="fdcaab"/>
              </a:gs>
              <a:gs pos="100000">
                <a:srgbClr val="ffb689"/>
              </a:gs>
            </a:gsLst>
            <a:lin ang="5400000"/>
          </a:gradFill>
          <a:ln w="6480">
            <a:solidFill>
              <a:srgbClr val="f7964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5 Rectángulo"/>
          <p:cNvSpPr/>
          <p:nvPr/>
        </p:nvSpPr>
        <p:spPr>
          <a:xfrm>
            <a:off x="380880" y="4043520"/>
            <a:ext cx="2340000" cy="125856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Formul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  <a:ea typeface="Arial"/>
              </a:rPr>
              <a:t>técnica y financier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5 Rectángulo"/>
          <p:cNvSpPr/>
          <p:nvPr/>
        </p:nvSpPr>
        <p:spPr>
          <a:xfrm>
            <a:off x="3117960" y="23558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stud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6357960" y="5884920"/>
            <a:ext cx="367020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"/>
          <p:cNvSpPr/>
          <p:nvPr/>
        </p:nvSpPr>
        <p:spPr>
          <a:xfrm>
            <a:off x="9977400" y="3016080"/>
            <a:ext cx="0" cy="288000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"/>
          <p:cNvSpPr/>
          <p:nvPr/>
        </p:nvSpPr>
        <p:spPr>
          <a:xfrm>
            <a:off x="1533600" y="3827520"/>
            <a:ext cx="273528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"/>
          <p:cNvSpPr/>
          <p:nvPr/>
        </p:nvSpPr>
        <p:spPr>
          <a:xfrm>
            <a:off x="4486320" y="3827520"/>
            <a:ext cx="234000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7 Rectángulo"/>
          <p:cNvSpPr/>
          <p:nvPr/>
        </p:nvSpPr>
        <p:spPr>
          <a:xfrm>
            <a:off x="7716960" y="6113520"/>
            <a:ext cx="2340000" cy="1258920"/>
          </a:xfrm>
          <a:prstGeom prst="rect">
            <a:avLst/>
          </a:prstGeom>
          <a:gradFill rotWithShape="0">
            <a:gsLst>
              <a:gs pos="0">
                <a:srgbClr val="fdcaab"/>
              </a:gs>
              <a:gs pos="100000">
                <a:srgbClr val="ffb689"/>
              </a:gs>
            </a:gsLst>
            <a:lin ang="5400000"/>
          </a:gradFill>
          <a:ln w="6480">
            <a:solidFill>
              <a:srgbClr val="f7964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28840" y="3103560"/>
            <a:ext cx="0" cy="482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Box 38"/>
          <p:cNvSpPr/>
          <p:nvPr/>
        </p:nvSpPr>
        <p:spPr>
          <a:xfrm>
            <a:off x="719280" y="1217520"/>
            <a:ext cx="114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Arial"/>
              </a:rPr>
              <a:t>La fase de identificación y estud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5 Rectángulo"/>
          <p:cNvSpPr/>
          <p:nvPr/>
        </p:nvSpPr>
        <p:spPr>
          <a:xfrm>
            <a:off x="1166760" y="21398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Idea de proyec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"/>
          <p:cNvSpPr/>
          <p:nvPr/>
        </p:nvSpPr>
        <p:spPr>
          <a:xfrm>
            <a:off x="2120760" y="3743280"/>
            <a:ext cx="966492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Está claramente definido cuál es el problema concreto al cual se buscan soluciones y/o la oportunidad/recurso que se debe valorar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Se identifican las causas y los efectos del problema ? Se identifica el resultado esperado del proyecto, en términos de modificación del contexto territorial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Existe una clara capacidad del proyecto, en base a sus características y opciones, técnicas y socio-económicas, de impactar sobre el problema que hay que resolver o la oportunidad/recurso que se debe valorar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Hay una clara percepción de los grupos sociales y económicos que beneficiarán del proyecto ? Se han considerado los posibles conflictos generados per el proyecto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5 Rectángulo"/>
          <p:cNvSpPr/>
          <p:nvPr/>
        </p:nvSpPr>
        <p:spPr>
          <a:xfrm>
            <a:off x="1268280" y="7613640"/>
            <a:ext cx="6193080" cy="1258920"/>
          </a:xfrm>
          <a:prstGeom prst="rect">
            <a:avLst/>
          </a:prstGeom>
          <a:solidFill>
            <a:srgbClr val="ffff99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Admisión a la fase de estudio Elaboración del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Arial"/>
              </a:rPr>
              <a:t>Perfil del proyec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Enrique Martinez García</dc:creator>
  <dc:description/>
  <dc:language>en-US</dc:language>
  <cp:lastModifiedBy>Raffaele</cp:lastModifiedBy>
  <dcterms:modified xsi:type="dcterms:W3CDTF">2015-10-01T15:02:20Z</dcterms:modified>
  <cp:revision>495</cp:revision>
  <dc:subject/>
  <dc:title>Titulo de la presentación -Subtítulo de la presentación-</dc:title>
</cp:coreProperties>
</file>