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84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-36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1160" y="742680"/>
            <a:ext cx="535932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9924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39924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712CD7B-08A2-4606-A799-9B71E09743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6C38D1-322E-4CCB-BB7F-E2CEA14C88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A89240-02D3-4193-9873-269F54E9C1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724C0F-FA12-4E16-84A4-34C79BC411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F34AA9-4CA1-41C9-BA79-EE06D617EA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AC9C08-0A13-407C-9FE4-4EE0CC3A49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FB0F7D-36C7-42D1-9513-EF4439344E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C36A24-BE5B-4CC8-AFBD-5C7BB9935C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1A6E1F-AA6C-4BA2-BD08-307ECA96CB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6F53DE-BFA5-4231-B396-F34DCCC004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FB347F-0EE7-48AE-8C94-8C898016B4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09AFF2-9827-4561-93F6-6F91F3C9B9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042084-6E8C-45C4-A36D-3B18072122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2B3DBB-A36F-4B12-A8DC-BF79A5D5A9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1F1645B-AB83-4CF6-BDCB-EE2973811F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3F92E4-326F-4789-975B-7FA0CC77D0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7EFEA6-D07D-478E-9B54-05FCAE11C1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8DA492-8635-4A49-AA31-F01365064A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12B4F44-9DE9-4902-8801-DD3085D93B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C155B2-1671-47B1-AA7B-A21E2F919E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B2BC1C3-1901-4957-955C-602BF0F490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E8C65E-32B3-48F5-8160-CABA19BAD0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C33B5F-5FCF-4730-B2EA-956C931A14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B1E9DA-8C6B-4DB5-BA40-0624A645D1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50C886-78F6-45F5-A103-112234DF48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6AF7D8-42ED-4932-A735-53B6BD3AD3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581592-BCAB-4836-8D0E-46EB38EE1C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5678968-D933-4AC6-B154-7BBC8EBB67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D010046-CDE8-45DC-B23D-391D0A474B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D87-FDAB-4362-B9F3-372A1A33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7EF-1B01-42CA-862C-7C16C778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491-3654-489C-AF04-698E724C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05B-022E-4B4A-8407-CE4FB0A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5E7-D97C-4B2A-A3DC-25011CA5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2CA-E47B-49B4-BE4E-25FA6C3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1B0-3B10-4C2D-B0C8-317059E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33F-435C-4D29-A8EB-604F1362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B80-EB91-40FF-91B9-482E4EE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707-2C0C-4AB6-96A0-A8DF6F0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8B2-B557-42FB-BAB4-8268950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449-AB3A-46DA-A8C3-E296B61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CE13-975E-482F-B49F-9E1A6FA48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712-8307-42F1-A334-AB633C64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0120" y="85680"/>
            <a:ext cx="9383760" cy="914400"/>
            <a:chOff x="330120" y="85680"/>
            <a:chExt cx="9383760" cy="914400"/>
          </a:xfrm>
        </p:grpSpPr>
        <p:pic>
          <p:nvPicPr>
            <p:cNvPr id="51" name="Picture 3" descr="esc_web0"/>
            <p:cNvPicPr/>
            <p:nvPr/>
          </p:nvPicPr>
          <p:blipFill>
            <a:blip r:embed="rId1"/>
            <a:stretch/>
          </p:blipFill>
          <p:spPr>
            <a:xfrm>
              <a:off x="330120" y="85680"/>
              <a:ext cx="990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1424160" y="404640"/>
              <a:ext cx="21808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NISTER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HACIENDA Y ADMINISTRACIONES PÚBL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8048520" y="189000"/>
              <a:ext cx="1665360" cy="712800"/>
              <a:chOff x="8048520" y="189000"/>
              <a:chExt cx="1665360" cy="712800"/>
            </a:xfrm>
          </p:grpSpPr>
          <p:sp>
            <p:nvSpPr>
              <p:cNvPr id="54" name="Text Box 7"/>
              <p:cNvSpPr/>
              <p:nvPr/>
            </p:nvSpPr>
            <p:spPr>
              <a:xfrm>
                <a:off x="8048520" y="549360"/>
                <a:ext cx="165744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RECCIÓN GENERAL DE PRESUPUESTO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8048520" y="189000"/>
                <a:ext cx="1665360" cy="360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spcAft>
                    <a:spcPts val="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CRETARIA DE ESTADO  DE PRESUPUESTOS Y GASTOS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Text Box 9"/>
          <p:cNvSpPr/>
          <p:nvPr/>
        </p:nvSpPr>
        <p:spPr>
          <a:xfrm>
            <a:off x="488880" y="1628640"/>
            <a:ext cx="9072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Paloma Baquero Danca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bri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D6D-33D6-4F21-ADBB-B016520C3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76520" y="1197000"/>
            <a:ext cx="4211640" cy="547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69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4F36-CE4E-4457-99C3-0274FD89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esc_web0"/>
          <p:cNvPicPr/>
          <p:nvPr/>
        </p:nvPicPr>
        <p:blipFill>
          <a:blip r:embed="rId1"/>
          <a:stretch/>
        </p:blipFill>
        <p:spPr>
          <a:xfrm>
            <a:off x="200160" y="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208160" y="333360"/>
            <a:ext cx="1074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79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Text Box 9"/>
          <p:cNvSpPr/>
          <p:nvPr/>
        </p:nvSpPr>
        <p:spPr>
          <a:xfrm>
            <a:off x="228924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72880" y="1844640"/>
            <a:ext cx="9217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76160" y="2708280"/>
            <a:ext cx="83520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A medio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Corresponde a los Departamento Minis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En materia de infraestructuras fundament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Fo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Agricultura, Alimentación y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00C4-073B-4470-B90C-D7DD4F00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44520" y="1413000"/>
            <a:ext cx="92836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FORMULAS PARA LA FINANCIACIÓN DE LAS INFRA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direc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Sistema Tra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con financiación diferida</a:t>
            </a: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Abono total del precio (Método Alemá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Peaje en sobra (conces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laboración Pública Privada (CPP) Regulado en Ley Contratos del Sector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nvenios con otras administr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Entes Públicos Empresariales y Sociedades Mercantiles Esta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EXTRA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Sistema conce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8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9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9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22B-5D54-4C57-B984-C7DBBB8DE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15800" y="1844640"/>
            <a:ext cx="928368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TR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ntrato clásico de obra con pago por certificaciones de ejecución (Ley de Contratos del sector Públ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empresa contratista recibe una serie de aportaciones monetarias a cuenta durante el período de ejecución de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iquidación a la recepción de la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0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0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0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6C60-32D4-4FF1-9499-D6DAA5FB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44520" y="1125360"/>
            <a:ext cx="928368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NO TOTAL DEL PRECIO (MÉTODO ALEMÁ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quivale al contrato conocido como “Llave en mano”: precio único abonado al finalizar las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l contratista financia la ejecución de la o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gún la legislación española se aplica únicamente 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de carreteras: 24,04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ferroviarias: 18,03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hidráulicas: 18,03 millones de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en la costa y medioambientales: 6,01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mporte limitado al 30% del importe del capítulo 6 del Departamento en el ejercicio en que se vaya a utilizar este sistema de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 consigue aliviar la presión `presupuestaria en los ejercicios próximos aplazando los compromisos a ejercicios posteri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 efectos del calculo del déficit  el gasto se computa en el ejercicio en que se ejecuta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1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13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1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D83-E2B1-4BA2-8649-34808D56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44520" y="1484280"/>
            <a:ext cx="928368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 Black"/>
              </a:rPr>
              <a:t>ABONO TOTAL DEL PRECIO (MÉTODO ALEMÁN)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Utilización para financiar infraestructur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1857240" y="2565360"/>
          <a:ext cx="62978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565360"/>
                    <a:ext cx="62978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24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26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29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AABC-1252-4EAC-8717-41ADF1F0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44520" y="1341360"/>
            <a:ext cx="92836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CONCE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nsferencia de la gestión de la infraestructura manteniendo la titularidad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jecución de la obra a riesgo y ventura del contrat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 desde los riesgos al sector privado par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de activos al sector privado sin que implique cesión de la propie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Derecho del concesionario a percibir un prec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l que abone el usuario  por uso de la mis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xplotación zona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portaciones que pudiera realizar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EAJE EN SOM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a Administración adquiere el compromiso de abonar, durante un plazo determinado, unas tarifas de acuerdo con el uso que se haga de la infraestruc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3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37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4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98E-59C6-430A-92B1-559C0C2A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51000" y="1268280"/>
            <a:ext cx="928368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El activo objeto de la concesión se computará en el balance de la sociedad concesionaria si sobre dicha sociedad reca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isponibilidad  o</a:t>
            </a: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 el riesgo de 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CONSIDERACIÓN PRESUPUESTARIA DE LA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extrapresupuesta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el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diferida con cargo al capítulo 6 de los Presupuestos Generales del 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parte de la Administración con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46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48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51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785-212E-4EE0-A5F4-8A2AB1F29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-231840" y="1197000"/>
            <a:ext cx="990612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LABORACIÓN PÚBLICO PRIVADA (CP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n España aparece regulada por primera vez en la Ley de Contratos del Sector Público (artículo 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ontratos en que una Administración Pública encarga a una entidad de derecho privado, por un periodo determinado en función de la duración de la amortización de las inversiones o de las fórmulas de financiación que se prevean, la realización de una actuación global e integrada que, además de la financiación de inversiones inmateriales, de obras o de suministros necesarios para el cumplimiento de determinados objetivos de servicio público o relacionados con actuaciones de interés general, comprenda alguna de las siguientes prestaciones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a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construcción, instalación o transformación de obras, equipos, sistemas, y productos o bienes complejos, así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su mantenimiento, actualización o renovación, su explotación o su gest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b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gestión integral del mantenimiento de instalaciones compl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fabricación de bienes y la prestación de servicios que incorporen tecnología específicamente desarrollada con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el propósito de aportar soluciones más avanzadas y económicamente más ventajosas que las existentes en el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d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prestaciones de servicios ligadas al desarrollo por la Administración del servicio público o actuación de interés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general que le haya sido encomend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olo si otras fórmulas alternativas de contratación no permiten la satisfacción de las finalidades públ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contraprestación a percibir por el contratista colaborador consistirá en un precio que se satisfará durante toda la duración del contrato, y que podrá estar vinculado al cumplimiento de determinados objetivos de rend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5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5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6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086B-361C-4C13-94CF-F2E78906D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1000" y="1268280"/>
            <a:ext cx="928368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NVENIOS CON OTRAS ADMINISTRACIONES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Comunidades Autónomas o Entidades Locales mediante suscripción de convenios para la financiación de infraestruc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Entes Públicos o Privados para financiar infraestructuras en parte o en su total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TIDADES PÚBLICAS EMPRESARIALES O SOCIEDADES MERCANTILES ESTATALES.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DIF que invierte en LAV. Recibe además fondos de la UE y tiene autorizado endeuda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ENA y Sistema Portuario (Ente Puertos del Estado y Autoridades Portuarias). El resto de la financiación procede de tarifas, endeudamiento y fondos AE. Son autosufic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EIASAS y Sociedades de Aguas (ACESA, ACUSUR, HIDROGUADIANA, AQUAMED…). El resto de la financiación procede de anticipos de tarifa de amortización de servicios y de fondos 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68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70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73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4C40-FC77-458D-8291-4181705D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89040" y="1484280"/>
            <a:ext cx="9217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Importancia de la inversión pública en los Presupuestos Generales d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89040" y="242100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Estructura presupuestaria</a:t>
            </a:r>
            <a:r>
              <a:rPr b="1" lang="en-US" sz="2400" spc="-1" strike="noStrike">
                <a:solidFill>
                  <a:srgbClr val="a50021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89040" y="3068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iclo presupuestario de la inversión pública</a:t>
            </a: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784520" y="3645000"/>
            <a:ext cx="92167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1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712880" y="422100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2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12880" y="479736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3.- Seguimiento y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89040" y="5516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aso teó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6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C9A-27C1-4610-A161-ED466A404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44520" y="1628640"/>
            <a:ext cx="928368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RITERIOS SEC’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os ingresos obtenidos deben cubrir al menos el 50% de los cos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De cumplirse este supuesto la sociedad quedará enmarcada dentro de las sociedades denominadas “no financieras” y sus activos no computaran en déficit ni en deuda públ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a sociedad debe de ser rentable, esto es, obtener 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Las aportaciones que realice la administración correspondiente serán tratadas como aportaciones de capital y tampoco computaran en défic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84F7-3F63-44F0-8D80-B1EAAD3D6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4520" y="2060640"/>
            <a:ext cx="92836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CONTROL Y SEGUIMIENTO DE LAS INVER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Escenario presupuest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istema de información co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ESP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eguimiento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9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348-DD9F-470F-8730-B254959F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UNCIADO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réditos presupuestarios para inversiones en materia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mpromisos adquiridos procedentes de licitaciones de ejercicio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0" y="2604960"/>
          <a:ext cx="905652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4960"/>
                    <a:ext cx="905652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"/>
          <p:cNvGraphicFramePr/>
          <p:nvPr/>
        </p:nvGraphicFramePr>
        <p:xfrm>
          <a:off x="0" y="4724280"/>
          <a:ext cx="921708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21708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0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07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1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3A5-7C83-434C-82CD-75697CBF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ENUNCIADO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Tramos a licitar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nualidades de ejecución de obras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352520" y="1773360"/>
          <a:ext cx="734544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773360"/>
                    <a:ext cx="734544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920880" y="4941720"/>
          <a:ext cx="763272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4941720"/>
                    <a:ext cx="763272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2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2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2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239-6596-420E-BECE-FFD85812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19 Grupo"/>
          <p:cNvGrpSpPr/>
          <p:nvPr/>
        </p:nvGrpSpPr>
        <p:grpSpPr>
          <a:xfrm>
            <a:off x="0" y="2852640"/>
            <a:ext cx="10209240" cy="3168720"/>
            <a:chOff x="0" y="2852640"/>
            <a:chExt cx="10209240" cy="3168720"/>
          </a:xfrm>
        </p:grpSpPr>
        <p:graphicFrame>
          <p:nvGraphicFramePr>
            <p:cNvPr id="331" name="Object 4"/>
            <p:cNvGraphicFramePr/>
            <p:nvPr/>
          </p:nvGraphicFramePr>
          <p:xfrm>
            <a:off x="0" y="2852640"/>
            <a:ext cx="5952240" cy="31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852640"/>
                      <a:ext cx="5952240" cy="31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15 Cerrar llave"/>
            <p:cNvSpPr/>
            <p:nvPr/>
          </p:nvSpPr>
          <p:spPr>
            <a:xfrm>
              <a:off x="5105520" y="3844800"/>
              <a:ext cx="299880" cy="992160"/>
            </a:xfrm>
            <a:custGeom>
              <a:avLst/>
              <a:gdLst>
                <a:gd name="textAreaLeft" fmla="*/ 0 w 299880"/>
                <a:gd name="textAreaRight" fmla="*/ 108360 w 299880"/>
                <a:gd name="textAreaTop" fmla="*/ 10080 h 992160"/>
                <a:gd name="textAreaBottom" fmla="*/ 98208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10081"/>
                  </a:lnTo>
                  <a:cubicBezTo>
                    <a:pt x="10800" y="10441"/>
                    <a:pt x="16200" y="10800"/>
                    <a:pt x="21600" y="10800"/>
                  </a:cubicBezTo>
                  <a:cubicBezTo>
                    <a:pt x="16200" y="10800"/>
                    <a:pt x="10800" y="11160"/>
                    <a:pt x="10800" y="11519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16 CuadroTexto"/>
            <p:cNvSpPr/>
            <p:nvPr/>
          </p:nvSpPr>
          <p:spPr>
            <a:xfrm>
              <a:off x="5629680" y="424188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o método tradi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18 Conector recto de flecha"/>
            <p:cNvCxnSpPr/>
            <p:nvPr/>
          </p:nvCxnSpPr>
          <p:spPr>
            <a:xfrm>
              <a:off x="5105520" y="513576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6" name="19 CuadroTexto"/>
            <p:cNvSpPr/>
            <p:nvPr/>
          </p:nvSpPr>
          <p:spPr>
            <a:xfrm>
              <a:off x="5629680" y="4937040"/>
              <a:ext cx="375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 y Abono Total del Pre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20 Conector recto de flecha"/>
            <p:cNvCxnSpPr/>
            <p:nvPr/>
          </p:nvCxnSpPr>
          <p:spPr>
            <a:xfrm>
              <a:off x="5105520" y="553248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8" name="21 CuadroTexto"/>
            <p:cNvSpPr/>
            <p:nvPr/>
          </p:nvSpPr>
          <p:spPr>
            <a:xfrm>
              <a:off x="5629680" y="5334120"/>
              <a:ext cx="45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, Abono Total del Precio y Conc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22 CuadroTexto"/>
          <p:cNvSpPr/>
          <p:nvPr/>
        </p:nvSpPr>
        <p:spPr>
          <a:xfrm>
            <a:off x="488880" y="220500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nálisis de las posibilidades de los distintos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4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43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4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27C-B6A4-4686-992A-BC0A9F78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51000" y="1143000"/>
            <a:ext cx="928368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488880" y="2637000"/>
          <a:ext cx="864072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637000"/>
                    <a:ext cx="86407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23 CuadroTexto"/>
          <p:cNvSpPr/>
          <p:nvPr/>
        </p:nvSpPr>
        <p:spPr>
          <a:xfrm>
            <a:off x="488880" y="191628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a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F7B3-DE4B-4CC5-90D2-13CA4922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5"/>
          <p:cNvGraphicFramePr/>
          <p:nvPr/>
        </p:nvGraphicFramePr>
        <p:xfrm>
          <a:off x="1496880" y="4653000"/>
          <a:ext cx="662472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653000"/>
                    <a:ext cx="66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6"/>
          <p:cNvGraphicFramePr/>
          <p:nvPr/>
        </p:nvGraphicFramePr>
        <p:xfrm>
          <a:off x="1928880" y="2133720"/>
          <a:ext cx="63370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33720"/>
                    <a:ext cx="6337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s 1, 2 y 3 por sistema tra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14 CuadroTexto"/>
          <p:cNvSpPr/>
          <p:nvPr/>
        </p:nvSpPr>
        <p:spPr>
          <a:xfrm>
            <a:off x="344520" y="4221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7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74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7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F39-7701-4CFE-BC6E-D30C65C8B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51000" y="1143000"/>
            <a:ext cx="92836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36520" y="2133720"/>
          <a:ext cx="69613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133720"/>
                    <a:ext cx="69613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5"/>
          <p:cNvGraphicFramePr/>
          <p:nvPr/>
        </p:nvGraphicFramePr>
        <p:xfrm>
          <a:off x="1568520" y="3726000"/>
          <a:ext cx="684036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3726000"/>
                    <a:ext cx="68403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 4 por sistema Abono Total del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14 CuadroTexto"/>
          <p:cNvSpPr/>
          <p:nvPr/>
        </p:nvSpPr>
        <p:spPr>
          <a:xfrm>
            <a:off x="415800" y="335772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15 CuadroTexto"/>
          <p:cNvSpPr/>
          <p:nvPr/>
        </p:nvSpPr>
        <p:spPr>
          <a:xfrm>
            <a:off x="488880" y="5877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mo 5 se licita mediante el sistema de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9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B5D-D4D3-4A3F-A32F-0F4FBDB4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72880" y="1341360"/>
            <a:ext cx="92840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 (f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21"/>
          <p:cNvGraphicFramePr/>
          <p:nvPr/>
        </p:nvGraphicFramePr>
        <p:xfrm>
          <a:off x="920880" y="1916280"/>
          <a:ext cx="784836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916280"/>
                    <a:ext cx="7848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40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405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40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23D-15B4-4454-B2DE-85910B889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44520" y="1844640"/>
            <a:ext cx="9217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Resolu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de 19 de enero de 2009, de la Direc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General de Presupuestos, por la que se establecen los c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digos que definen la clasifica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econ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136520" y="3068640"/>
            <a:ext cx="8352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 Unicode MS"/>
              </a:rPr>
              <a:t>El capítulo de inversiones reales comprende los gastos a realizar directamente por el Estado, organismos autónomos, agencias estatales y otros organismos públicos destinados a la creación o adquisición de bienes de capital, así como los destinados a la adquisición de bienes de naturaleza inventariable necesarios para el funcionamiento operativo de los servicios y aquellos otros gastos de naturaleza inmaterial que tengan carácter amortiz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458-CC3C-4278-AE25-3FD123F1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1281240" y="1125360"/>
            <a:ext cx="7343640" cy="5220000"/>
          </a:xfrm>
          <a:prstGeom prst="rect">
            <a:avLst/>
          </a:prstGeom>
          <a:ln w="0">
            <a:noFill/>
          </a:ln>
        </p:spPr>
      </p:pic>
      <p:sp>
        <p:nvSpPr>
          <p:cNvPr id="90" name="Oval 16"/>
          <p:cNvSpPr/>
          <p:nvPr/>
        </p:nvSpPr>
        <p:spPr>
          <a:xfrm>
            <a:off x="6032520" y="4149720"/>
            <a:ext cx="1512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9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94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9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47F-BDA6-4F3B-B4C2-70E356A0F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0"/>
          <p:cNvGraphicFramePr/>
          <p:nvPr/>
        </p:nvGraphicFramePr>
        <p:xfrm>
          <a:off x="5021280" y="2917800"/>
          <a:ext cx="470376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1280" y="2917800"/>
                    <a:ext cx="470376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4"/>
          <p:cNvGraphicFramePr/>
          <p:nvPr/>
        </p:nvGraphicFramePr>
        <p:xfrm>
          <a:off x="-1023840" y="1773360"/>
          <a:ext cx="7200720" cy="251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23840" y="1773360"/>
                    <a:ext cx="720072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0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09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3B3-8D31-41C2-94E5-931F4442F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76160" y="1268280"/>
            <a:ext cx="8344080" cy="496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1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21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2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7A75-C332-4732-9810-DBF19DF1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esc_web0"/>
          <p:cNvPicPr/>
          <p:nvPr/>
        </p:nvPicPr>
        <p:blipFill>
          <a:blip r:embed="rId1"/>
          <a:stretch/>
        </p:blipFill>
        <p:spPr>
          <a:xfrm>
            <a:off x="330120" y="8568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03280" y="457200"/>
            <a:ext cx="107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31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236052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2"/>
          <a:stretch/>
        </p:blipFill>
        <p:spPr>
          <a:xfrm>
            <a:off x="1784520" y="1413000"/>
            <a:ext cx="7056360" cy="50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8B4-FB97-4EA9-9703-79C724EB2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24160" y="1197000"/>
            <a:ext cx="7704000" cy="53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28880" y="4653000"/>
            <a:ext cx="3095640" cy="216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4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45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4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925-576E-4E85-8A87-E76BD2951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1"/>
          <p:cNvGraphicFramePr/>
          <p:nvPr/>
        </p:nvGraphicFramePr>
        <p:xfrm>
          <a:off x="272880" y="1341360"/>
          <a:ext cx="9360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341360"/>
                    <a:ext cx="9360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0:53:49Z</dcterms:created>
  <dc:creator>IGAE</dc:creator>
  <dc:description/>
  <dc:language>en-US</dc:language>
  <cp:lastModifiedBy>Paloma Baquero</cp:lastModifiedBy>
  <dcterms:modified xsi:type="dcterms:W3CDTF">2012-04-19T09:35:09Z</dcterms:modified>
  <cp:revision>168</cp:revision>
  <dc:subject/>
  <dc:title>Presentación de PowerPoint</dc:title>
</cp:coreProperties>
</file>