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9EDC-BF9E-49FE-AF8F-AB45307677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C12D-C578-4B2A-BD37-8A51DD34BB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BC3-D496-4FBB-966C-A01BE8E4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0AF-56F4-409D-AD11-57AEBF2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160-992F-4D6B-A357-76FEF132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268-D113-4C14-8A70-BE470D93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3E6-AA11-4FF4-944B-BE8276A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F82-9781-44BC-A3FE-713FB59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3A0-00CF-445E-AFD9-262F7132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2AB-C6BD-42CC-8AD3-FF0ABF9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6A0-D641-4D67-8B66-2B33B0C7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F69-E186-48E8-8414-1339ACD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267-F259-4B0C-9865-FB7259A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430-1663-4C64-96AD-634803B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04B-D4DA-43FC-B8EB-A7423FD3B4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Propuesta de un Modelo de Autonomía para la Defensoría Penal Pública:  Perspectivas Estratégicas de Europa y del Mundo del Derecho Consuetudinari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Profesor y Catedrático Alan Paters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Universidad Strathcly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Grupo Internacional de Asistencia Juríd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escentralización del servicio DPP -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Finl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b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moción del Ministro de Justicia y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Creación de un Consejo con debere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legales así como un Memorand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ntendimiento para revisar l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operaciones del servicio D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sejo nombrado por el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inistro o el sistema de Alt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irección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El Consejo nombra al Defens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Penal Público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moción del Consejo o el D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          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2708280"/>
            <a:ext cx="78501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3.Autonomía y Finanzas –         Responsabilidad y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00781 -0.27292 E"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utonomía y Finanzas – Responsabilidad 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 Una mayor autonomía financiera puede conllevar menorconfianzaGubernamen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troles presupuestarios y partid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ás estrict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Menos gasto discre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ducción al alcance e.g.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presentación por el interés de l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justicia; limites en el númer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cursos judiciale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v) Demanda de  may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Autonomía y Finanzas– Responsabilidad y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 Retención de la confianza del Gobi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) Relación de trabajo cercana tras la independenc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) Información muy detallada y gastos proyectad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i) No hay sorpresas desagradables en los Informes Anuales o en los casos que están siendo represent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4.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Autonomía y el Derecho a la 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Representació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a) Más problemas en Europa y lo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aíses de Derecho Consuetudinario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bido a los mayores límites existent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os casos que le otorgan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representación– aunque puede ser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lección de un abogad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b) Limitaciones muy restringidas par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revenir interferencias Ministerial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a defensa de los casos particular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c) Límites en la representación financiad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 recursos presentados ante las cor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o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) Mayor libertad para tomar part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n los debates políticos sobre l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reforma penal y procesal par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parecer frente a los comité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parlamentarios o para participar en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foros internacionales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De todas maneras, la retención d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la confianza del Gobierno promuev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cluso las agencias independiente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 utilizar la diplomacia silenciosa o 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legir sus batallas con cuidado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Emerging Legal Aid Challenges and Opportunities:  Strategic perspectives  from Europ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Professor Alan Paterso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Strathclyde Un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and Chair, International Legal Aid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5229360"/>
            <a:ext cx="51134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6.Conclu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1632 -0.59837 E">
                                      <p:cBhvr>
                                        <p:cTn id="13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Conclusiones – Mensajes claves a partir  de la experiencia de otros 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país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tonomía v Responsabilida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321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vR achtergrond powerpoint v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244000" y="6048360"/>
            <a:ext cx="8636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3980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144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iesgo de pensamiento y trabajo ais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4" descr="silo2"/>
          <p:cNvPicPr/>
          <p:nvPr/>
        </p:nvPicPr>
        <p:blipFill>
          <a:blip r:embed="rId2"/>
          <a:stretch/>
        </p:blipFill>
        <p:spPr>
          <a:xfrm>
            <a:off x="4356000" y="1413000"/>
            <a:ext cx="4788000" cy="467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silo"/>
          <p:cNvPicPr/>
          <p:nvPr/>
        </p:nvPicPr>
        <p:blipFill>
          <a:blip r:embed="rId3"/>
          <a:stretch/>
        </p:blipFill>
        <p:spPr>
          <a:xfrm>
            <a:off x="0" y="1413000"/>
            <a:ext cx="4356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7030a0"/>
                </a:solidFill>
                <a:latin typeface="Bookman Old Style"/>
              </a:rPr>
              <a:t>De cara al futu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77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lgunas pregunt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Cómo podría la Defensoría Penal autónoma  promover de mejor manera su habilidad para desarrollar de manera más efectiva la prestación de defens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Qué condiciones para lograr la autonomía son (a) más aceptables (b) menos aceptables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9GcRLv6OPt2LtXlQHfmghcu2LV66rhYwW2hShppuflAZXBOWoEn8&amp;t=1&amp;usg=___uSUXeSqOZ6igDReyEG9DwNgSds="/>
          <p:cNvPicPr/>
          <p:nvPr/>
        </p:nvPicPr>
        <p:blipFill>
          <a:blip r:embed="rId1"/>
          <a:stretch/>
        </p:blipFill>
        <p:spPr>
          <a:xfrm>
            <a:off x="2519280" y="4581360"/>
            <a:ext cx="410544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Norte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Sur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igs99107\Pictures\2015-10-18 Chile 2015\Chile 2015 079.JPG"/>
          <p:cNvPicPr/>
          <p:nvPr/>
        </p:nvPicPr>
        <p:blipFill>
          <a:blip r:embed="rId1"/>
          <a:stretch/>
        </p:blipFill>
        <p:spPr>
          <a:xfrm>
            <a:off x="468360" y="112716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bo de Hor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77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Resumen de la 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3. Autonomía y Finanzas– Responsabilidad y Control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 – Mensajes claves a partir de la experiencia de otros paí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7:51:29Z</dcterms:created>
  <dc:creator>Temp</dc:creator>
  <dc:description/>
  <dc:language>en-US</dc:language>
  <cp:lastModifiedBy>Javiera Nazif Muñoz</cp:lastModifiedBy>
  <dcterms:modified xsi:type="dcterms:W3CDTF">2015-10-27T17:31:16Z</dcterms:modified>
  <cp:revision>55</cp:revision>
  <dc:subject/>
  <dc:title>PowerPoint Presentation</dc:title>
</cp:coreProperties>
</file>