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38.jpeg" ContentType="image/jpeg"/>
  <Override PartName="/ppt/media/image1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image32.wmf" ContentType="image/x-wmf"/>
  <Override PartName="/ppt/media/image7.wmf" ContentType="image/x-wmf"/>
  <Override PartName="/ppt/media/image33.png" ContentType="image/png"/>
  <Override PartName="/ppt/media/image8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1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2EB-71EC-4D73-8BE7-50A216004B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E442-4A0E-4B04-8138-1C34698D90C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012-1F36-4C9A-BAB4-68F872F9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9C4-7403-406C-9F5D-FB7CBA4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C55-7500-4B27-A578-24B78527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468-A06A-433B-84FB-03A38526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E62-9E64-4E66-96B5-92CAB35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B75-F3F8-4588-8738-6E42388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2D5-99DA-4A3F-B6CE-C3487395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B4C-119F-44F1-A0C6-110C9A04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439-A0AC-4DD0-9B87-FD83D1D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795-996D-433D-BC09-360B656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C3F-880F-44B8-AF20-1F3D8A7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457-81B8-427D-92E0-F9DC529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6E7-B6CD-413A-8FE2-092CC0DA6F3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BABC-97C2-4705-AE74-3D10AA99DC4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microsimulation.org/" TargetMode="External"/><Relationship Id="rId4" Type="http://schemas.openxmlformats.org/officeDocument/2006/relationships/hyperlink" Target="http://www.ifs.org.uk/publications/572" TargetMode="External"/><Relationship Id="rId5" Type="http://schemas.openxmlformats.org/officeDocument/2006/relationships/hyperlink" Target="http://www.iser.essex.ac.uk/research/euromod" TargetMode="External"/><Relationship Id="rId6" Type="http://schemas.openxmlformats.org/officeDocument/2006/relationships/hyperlink" Target="http://www.ief.es/" TargetMode="External"/><Relationship Id="rId7" Type="http://schemas.openxmlformats.org/officeDocument/2006/relationships/hyperlink" Target="http://www.ief.es/documentos/recursos/publicaciones/documentos_trabajo/2011_16.pdf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DIF GRI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150840" y="220968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Los datos de entrada a un modelo de microsimulación – encuestas a hog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1332000" y="4427640"/>
            <a:ext cx="61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lagros Paniagua San Martín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drid, 16 de jun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1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2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5 Grupo"/>
          <p:cNvGrpSpPr/>
          <p:nvPr/>
        </p:nvGrpSpPr>
        <p:grpSpPr>
          <a:xfrm>
            <a:off x="468360" y="5730840"/>
            <a:ext cx="8366040" cy="932040"/>
            <a:chOff x="468360" y="5730840"/>
            <a:chExt cx="8366040" cy="932040"/>
          </a:xfrm>
        </p:grpSpPr>
        <p:sp>
          <p:nvSpPr>
            <p:cNvPr id="55" name="3 Rectángulo"/>
            <p:cNvSpPr/>
            <p:nvPr/>
          </p:nvSpPr>
          <p:spPr>
            <a:xfrm>
              <a:off x="2210760" y="5951520"/>
              <a:ext cx="66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esoría especializada para el desarrollo de herramientas de microsimulación fis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4 Imagen" descr=""/>
            <p:cNvPicPr/>
            <p:nvPr/>
          </p:nvPicPr>
          <p:blipFill>
            <a:blip r:embed="rId4"/>
            <a:stretch/>
          </p:blipFill>
          <p:spPr>
            <a:xfrm>
              <a:off x="468360" y="5730840"/>
              <a:ext cx="1496160" cy="93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260280" y="1844640"/>
            <a:ext cx="784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guridad Social (MCV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gencia Tributari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estra IRPF y panel de renta del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 – A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t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istr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71280" y="5157720"/>
            <a:ext cx="88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Arial"/>
              </a:rPr>
              <a:t>http://www.ief.es/investigacion/cursos_seminarios/2006_S_internacional_estadistica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659720" cy="4025880"/>
          </a:xfrm>
          <a:prstGeom prst="rect">
            <a:avLst/>
          </a:prstGeom>
          <a:ln w="0">
            <a:noFill/>
          </a:ln>
        </p:spPr>
      </p:pic>
      <p:sp>
        <p:nvSpPr>
          <p:cNvPr id="125" name="11 CuadroTexto"/>
          <p:cNvSpPr/>
          <p:nvPr/>
        </p:nvSpPr>
        <p:spPr>
          <a:xfrm>
            <a:off x="306360" y="6156360"/>
            <a:ext cx="79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sistema estadístico en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7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714240" y="1946160"/>
            <a:ext cx="7000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  </a:t>
            </a: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de Condiciones de Vida (E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Continua de Presupuestos   Familiares (E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 CuadroTexto"/>
          <p:cNvSpPr/>
          <p:nvPr/>
        </p:nvSpPr>
        <p:spPr>
          <a:xfrm>
            <a:off x="384120" y="1951200"/>
            <a:ext cx="74883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V: encuesta sobre ingresos y condiciones de vi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incluye dato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versales y longitudin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 escala nacional y europea sob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os y situación económica de los hogares 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y composición de la pobreza, privación material y la exclu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leo y actividad. Cuidado de ni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Jubilación, pensiones y situación económica de los           may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vienda (características y  costes asoc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regional, movimientos migr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, salud y efecto de ambos sobre la condición socio-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428760" y="1604880"/>
            <a:ext cx="7527600" cy="5208480"/>
            <a:chOff x="428760" y="1604880"/>
            <a:chExt cx="7527600" cy="5208480"/>
          </a:xfrm>
        </p:grpSpPr>
        <p:sp>
          <p:nvSpPr>
            <p:cNvPr id="140" name="Text Box 5"/>
            <p:cNvSpPr/>
            <p:nvPr/>
          </p:nvSpPr>
          <p:spPr>
            <a:xfrm>
              <a:off x="6680880" y="3023280"/>
              <a:ext cx="1275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quile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428760" y="5739840"/>
              <a:ext cx="121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uesto sobre el patrimo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7" descr="ayuda familias"/>
            <p:cNvPicPr/>
            <p:nvPr/>
          </p:nvPicPr>
          <p:blipFill>
            <a:blip r:embed="rId1"/>
            <a:stretch/>
          </p:blipFill>
          <p:spPr>
            <a:xfrm>
              <a:off x="1194120" y="2293920"/>
              <a:ext cx="760320" cy="9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ayuda vivienda"/>
            <p:cNvPicPr/>
            <p:nvPr/>
          </p:nvPicPr>
          <p:blipFill>
            <a:blip r:embed="rId2"/>
            <a:stretch/>
          </p:blipFill>
          <p:spPr>
            <a:xfrm>
              <a:off x="2661480" y="1604880"/>
              <a:ext cx="82908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transferencias hogares"/>
            <p:cNvPicPr/>
            <p:nvPr/>
          </p:nvPicPr>
          <p:blipFill>
            <a:blip r:embed="rId3"/>
            <a:stretch/>
          </p:blipFill>
          <p:spPr>
            <a:xfrm>
              <a:off x="4320360" y="5464080"/>
              <a:ext cx="81612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exclusion social"/>
            <p:cNvPicPr/>
            <p:nvPr/>
          </p:nvPicPr>
          <p:blipFill>
            <a:blip r:embed="rId4"/>
            <a:stretch/>
          </p:blipFill>
          <p:spPr>
            <a:xfrm>
              <a:off x="875160" y="4016880"/>
              <a:ext cx="126612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1"/>
            <p:cNvSpPr/>
            <p:nvPr/>
          </p:nvSpPr>
          <p:spPr>
            <a:xfrm>
              <a:off x="2342520" y="40856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4000" y="18115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por familia/hij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rot="4456200">
              <a:off x="2806200" y="3088080"/>
              <a:ext cx="650160" cy="301680"/>
            </a:xfrm>
            <a:custGeom>
              <a:avLst/>
              <a:gdLst>
                <a:gd name="textAreaLeft" fmla="*/ 81000 w 650160"/>
                <a:gd name="textAreaRight" fmla="*/ 569160 w 65016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1832040" y="1673640"/>
              <a:ext cx="102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neta para vivi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744240" y="4832280"/>
              <a:ext cx="1084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percibida por los menores de 16 añ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06000" y="5652000"/>
              <a:ext cx="1492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erenc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ta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 hog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92480" y="3327840"/>
              <a:ext cx="2041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lusion social no clasificada en otro apar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8"/>
            <p:cNvSpPr/>
            <p:nvPr/>
          </p:nvSpPr>
          <p:spPr>
            <a:xfrm rot="15856800">
              <a:off x="3669840" y="505224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9"/>
            <p:cNvSpPr/>
            <p:nvPr/>
          </p:nvSpPr>
          <p:spPr>
            <a:xfrm rot="12222000">
              <a:off x="4830480" y="45680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 rot="7477800">
              <a:off x="4881600" y="298476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1" descr="intereses y ganancias"/>
            <p:cNvPicPr/>
            <p:nvPr/>
          </p:nvPicPr>
          <p:blipFill>
            <a:blip r:embed="rId5"/>
            <a:stretch/>
          </p:blipFill>
          <p:spPr>
            <a:xfrm>
              <a:off x="5468400" y="1742400"/>
              <a:ext cx="133956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2" descr="renta por alquiler"/>
            <p:cNvPicPr/>
            <p:nvPr/>
          </p:nvPicPr>
          <p:blipFill>
            <a:blip r:embed="rId6"/>
            <a:stretch/>
          </p:blipFill>
          <p:spPr>
            <a:xfrm>
              <a:off x="5659920" y="2982960"/>
              <a:ext cx="1084320" cy="11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3"/>
            <p:cNvSpPr/>
            <p:nvPr/>
          </p:nvSpPr>
          <p:spPr>
            <a:xfrm rot="9937200">
              <a:off x="4830120" y="374040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4"/>
            <p:cNvSpPr/>
            <p:nvPr/>
          </p:nvSpPr>
          <p:spPr>
            <a:xfrm rot="19210200">
              <a:off x="2597400" y="491256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5"/>
            <p:cNvSpPr/>
            <p:nvPr/>
          </p:nvSpPr>
          <p:spPr>
            <a:xfrm>
              <a:off x="6744240" y="208728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s de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6" descr="irpf"/>
            <p:cNvPicPr/>
            <p:nvPr/>
          </p:nvPicPr>
          <p:blipFill>
            <a:blip r:embed="rId7"/>
            <a:stretch/>
          </p:blipFill>
          <p:spPr>
            <a:xfrm>
              <a:off x="3746160" y="2018160"/>
              <a:ext cx="118008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7"/>
            <p:cNvSpPr/>
            <p:nvPr/>
          </p:nvSpPr>
          <p:spPr>
            <a:xfrm>
              <a:off x="2853000" y="174240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cion ir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 rot="5650200">
              <a:off x="3895920" y="3225960"/>
              <a:ext cx="512280" cy="301680"/>
            </a:xfrm>
            <a:custGeom>
              <a:avLst/>
              <a:gdLst>
                <a:gd name="textAreaLeft" fmla="*/ 64080 w 512280"/>
                <a:gd name="textAreaRight" fmla="*/ 448560 w 51228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j0195394"/>
            <p:cNvPicPr/>
            <p:nvPr/>
          </p:nvPicPr>
          <p:blipFill>
            <a:blip r:embed="rId8"/>
            <a:stretch/>
          </p:blipFill>
          <p:spPr>
            <a:xfrm>
              <a:off x="5596200" y="4361400"/>
              <a:ext cx="1023480" cy="22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0" descr="j0156161"/>
            <p:cNvPicPr/>
            <p:nvPr/>
          </p:nvPicPr>
          <p:blipFill>
            <a:blip r:embed="rId9"/>
            <a:stretch/>
          </p:blipFill>
          <p:spPr>
            <a:xfrm>
              <a:off x="1449360" y="5326200"/>
              <a:ext cx="140328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1" descr="j0110852"/>
            <p:cNvPicPr/>
            <p:nvPr/>
          </p:nvPicPr>
          <p:blipFill>
            <a:blip r:embed="rId10"/>
            <a:stretch/>
          </p:blipFill>
          <p:spPr>
            <a:xfrm>
              <a:off x="3109680" y="3700800"/>
              <a:ext cx="1465920" cy="12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34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69" name="Picture 7" descr="logoief"/>
            <p:cNvPicPr/>
            <p:nvPr/>
          </p:nvPicPr>
          <p:blipFill>
            <a:blip r:embed="rId1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0 Imagen" descr="logo_eurosocial_rgb.jpg"/>
            <p:cNvPicPr/>
            <p:nvPr/>
          </p:nvPicPr>
          <p:blipFill>
            <a:blip r:embed="rId1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929200" y="5929200"/>
            <a:ext cx="23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Superviv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715080" y="2643120"/>
            <a:ext cx="13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525600" y="1484280"/>
            <a:ext cx="7286400" cy="5619960"/>
            <a:chOff x="525600" y="1484280"/>
            <a:chExt cx="7286400" cy="5619960"/>
          </a:xfrm>
        </p:grpSpPr>
        <p:pic>
          <p:nvPicPr>
            <p:cNvPr id="174" name="Picture 7" descr="renta monetaria"/>
            <p:cNvPicPr/>
            <p:nvPr/>
          </p:nvPicPr>
          <p:blipFill>
            <a:blip r:embed="rId1"/>
            <a:stretch/>
          </p:blipFill>
          <p:spPr>
            <a:xfrm>
              <a:off x="1011240" y="2017080"/>
              <a:ext cx="1151280" cy="12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renta no monetaria"/>
            <p:cNvPicPr/>
            <p:nvPr/>
          </p:nvPicPr>
          <p:blipFill>
            <a:blip r:embed="rId2"/>
            <a:stretch/>
          </p:blipFill>
          <p:spPr>
            <a:xfrm>
              <a:off x="2331360" y="2017080"/>
              <a:ext cx="1122480" cy="94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9" descr="autonomos"/>
            <p:cNvPicPr/>
            <p:nvPr/>
          </p:nvPicPr>
          <p:blipFill>
            <a:blip r:embed="rId3"/>
            <a:stretch/>
          </p:blipFill>
          <p:spPr>
            <a:xfrm>
              <a:off x="4774680" y="1604520"/>
              <a:ext cx="1320120" cy="140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prestacion desempleo"/>
            <p:cNvPicPr/>
            <p:nvPr/>
          </p:nvPicPr>
          <p:blipFill>
            <a:blip r:embed="rId4"/>
            <a:stretch/>
          </p:blipFill>
          <p:spPr>
            <a:xfrm>
              <a:off x="548640" y="3844800"/>
              <a:ext cx="1385280" cy="14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prestacion enfermedad"/>
            <p:cNvPicPr/>
            <p:nvPr/>
          </p:nvPicPr>
          <p:blipFill>
            <a:blip r:embed="rId5"/>
            <a:stretch/>
          </p:blipFill>
          <p:spPr>
            <a:xfrm>
              <a:off x="5963040" y="3007080"/>
              <a:ext cx="1386360" cy="14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4668480" y="6259680"/>
              <a:ext cx="17168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s para estu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812880" y="1484280"/>
              <a:ext cx="171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6029280" y="1636200"/>
              <a:ext cx="1386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eficios o pérdidas monetarias por cuenta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2463840" y="1484280"/>
              <a:ext cx="211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no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1935360" y="6586200"/>
              <a:ext cx="29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vej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614880" y="33876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Desempl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 rot="21397800">
              <a:off x="2265480" y="39970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 rot="1929000">
              <a:off x="2265840" y="331164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 rot="7200000">
              <a:off x="4160160" y="3234960"/>
              <a:ext cx="615600" cy="312120"/>
            </a:xfrm>
            <a:custGeom>
              <a:avLst/>
              <a:gdLst>
                <a:gd name="textAreaLeft" fmla="*/ 76680 w 615600"/>
                <a:gd name="textAreaRight" fmla="*/ 538920 w 61560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 rot="10578600">
              <a:off x="4840200" y="37126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2"/>
            <p:cNvSpPr/>
            <p:nvPr/>
          </p:nvSpPr>
          <p:spPr>
            <a:xfrm rot="3957000">
              <a:off x="3374640" y="301968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 rot="19587600">
              <a:off x="2199600" y="4931280"/>
              <a:ext cx="623160" cy="360000"/>
            </a:xfrm>
            <a:custGeom>
              <a:avLst/>
              <a:gdLst>
                <a:gd name="textAreaLeft" fmla="*/ 77760 w 623160"/>
                <a:gd name="textAreaRight" fmla="*/ 545400 w 62316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"/>
            <p:cNvSpPr/>
            <p:nvPr/>
          </p:nvSpPr>
          <p:spPr>
            <a:xfrm rot="11813400">
              <a:off x="5236560" y="43984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5"/>
            <p:cNvSpPr/>
            <p:nvPr/>
          </p:nvSpPr>
          <p:spPr>
            <a:xfrm rot="16788000">
              <a:off x="3309120" y="489024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 rot="13185600">
              <a:off x="4236480" y="4577760"/>
              <a:ext cx="452520" cy="360000"/>
            </a:xfrm>
            <a:custGeom>
              <a:avLst/>
              <a:gdLst>
                <a:gd name="textAreaLeft" fmla="*/ 56520 w 452520"/>
                <a:gd name="textAreaRight" fmla="*/ 396000 w 45252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7" descr=""/>
            <p:cNvPicPr/>
            <p:nvPr/>
          </p:nvPicPr>
          <p:blipFill>
            <a:blip r:embed="rId6"/>
            <a:stretch/>
          </p:blipFill>
          <p:spPr>
            <a:xfrm>
              <a:off x="6095160" y="4530240"/>
              <a:ext cx="171684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8" descr=""/>
            <p:cNvPicPr/>
            <p:nvPr/>
          </p:nvPicPr>
          <p:blipFill>
            <a:blip r:embed="rId7"/>
            <a:stretch/>
          </p:blipFill>
          <p:spPr>
            <a:xfrm>
              <a:off x="1275480" y="5596560"/>
              <a:ext cx="113472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j0343525"/>
            <p:cNvPicPr/>
            <p:nvPr/>
          </p:nvPicPr>
          <p:blipFill>
            <a:blip r:embed="rId8"/>
            <a:stretch/>
          </p:blipFill>
          <p:spPr>
            <a:xfrm>
              <a:off x="2507760" y="5215680"/>
              <a:ext cx="193644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0" descr="j0232133"/>
            <p:cNvPicPr/>
            <p:nvPr/>
          </p:nvPicPr>
          <p:blipFill>
            <a:blip r:embed="rId9"/>
            <a:stretch/>
          </p:blipFill>
          <p:spPr>
            <a:xfrm>
              <a:off x="4510440" y="4763520"/>
              <a:ext cx="1411200" cy="16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3" descr=""/>
            <p:cNvPicPr/>
            <p:nvPr/>
          </p:nvPicPr>
          <p:blipFill>
            <a:blip r:embed="rId10"/>
            <a:stretch/>
          </p:blipFill>
          <p:spPr>
            <a:xfrm>
              <a:off x="3454200" y="1941120"/>
              <a:ext cx="99036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2" descr="j0405878"/>
            <p:cNvPicPr/>
            <p:nvPr/>
          </p:nvPicPr>
          <p:blipFill>
            <a:blip r:embed="rId11"/>
            <a:stretch/>
          </p:blipFill>
          <p:spPr>
            <a:xfrm>
              <a:off x="3189960" y="3537000"/>
              <a:ext cx="995760" cy="106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7"/>
            <p:cNvSpPr/>
            <p:nvPr/>
          </p:nvSpPr>
          <p:spPr>
            <a:xfrm>
              <a:off x="525600" y="52758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Invalid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3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3" name="Picture 7" descr="logoief"/>
            <p:cNvPicPr/>
            <p:nvPr/>
          </p:nvPicPr>
          <p:blipFill>
            <a:blip r:embed="rId1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0 Imagen" descr="logo_eurosocial_rgb.jpg"/>
            <p:cNvPicPr/>
            <p:nvPr/>
          </p:nvPicPr>
          <p:blipFill>
            <a:blip r:embed="rId1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4 Rectángulo"/>
          <p:cNvSpPr/>
          <p:nvPr/>
        </p:nvSpPr>
        <p:spPr>
          <a:xfrm>
            <a:off x="500040" y="1095480"/>
            <a:ext cx="83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485640" y="1628640"/>
            <a:ext cx="81727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4 Rectángulo"/>
          <p:cNvSpPr/>
          <p:nvPr/>
        </p:nvSpPr>
        <p:spPr>
          <a:xfrm>
            <a:off x="500040" y="109548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módulo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81160" y="1711440"/>
            <a:ext cx="85816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9 Rectángulo"/>
          <p:cNvSpPr/>
          <p:nvPr/>
        </p:nvSpPr>
        <p:spPr>
          <a:xfrm>
            <a:off x="500040" y="2143080"/>
            <a:ext cx="7643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U-SILC (European Statistics on Income and Living Conditions), proyecto europeo en el que se enmarca la ECV, es la base de datos de entrada de EUROMOD (microsimulador europeo de impuestos y prestaciones social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contiene información muy útil para simular el impuesto sobre la renta y algunas prest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no tiene toda información sobre la vida laboral de las personas y sus periodos de contribución lo que impide simular con toda la precisión necesaria las prestaciones contributivas (posible matching entre ECV y MCVL en IE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CuadroTexto"/>
          <p:cNvSpPr/>
          <p:nvPr/>
        </p:nvSpPr>
        <p:spPr>
          <a:xfrm>
            <a:off x="384120" y="1951200"/>
            <a:ext cx="748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PF: encuesta sobre gasto de los hogares españo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ones del gasto (agregado) de consumo anual de los hogares para el conjunto nacional y para las comunidades autónomas, así como su clasificación según diversas variables del ho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ambio interanual del gasto (agregado) de consumo para el conjunto nacional y para las comunidades autón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onsumo en cantidades físicas de determinados bienes alimenticios para el conjunt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gasto como instrumento para la obtención del consumo privado en la Contabilidad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 la estructura de ponderaciones a partir del gasto necesaria para el cálculo del I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95280" y="50025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Registros administ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cuestas (y ce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9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2 Rectángulo"/>
          <p:cNvSpPr/>
          <p:nvPr/>
        </p:nvSpPr>
        <p:spPr>
          <a:xfrm>
            <a:off x="260280" y="1197000"/>
            <a:ext cx="855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inson, Rainwater y Smeeding (1995) en su trabajo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e distribution in OECD countries: evidence from the Luxembourg Income Stu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izaron la distribución de la renta de varios países y presentaron el tipo de fuente que mejor se aproximaba a los ingresos verdaderos hasta mostrar el siguiente ran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datos 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encue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di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sotros vemos dos grandes 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 Rectángulo"/>
          <p:cNvSpPr/>
          <p:nvPr/>
        </p:nvSpPr>
        <p:spPr>
          <a:xfrm>
            <a:off x="250920" y="1878120"/>
            <a:ext cx="717048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os doce grandes grupos de la COICOP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. Alimentos y bebidas no alcohó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2. Bebidas alcohólicas, tabaco y narc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3. Artículos de vestir y cal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4. Vivienda, agua, electricidad, gas y otros combus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5. Mobiliario, equipamiento del hogar y gastos corrientes de conservación de la viv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6.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7.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8. Comun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9. Ocio, espectáculos y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0. Enseñ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1. Hoteles, cafés y restaur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2. Otros bienes y servici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jemplo para el grup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4" name=""/>
          <p:cNvGraphicFramePr/>
          <p:nvPr/>
        </p:nvGraphicFramePr>
        <p:xfrm>
          <a:off x="1476360" y="1927080"/>
          <a:ext cx="5168880" cy="4526280"/>
        </p:xfrm>
        <a:graphic>
          <a:graphicData uri="http://schemas.openxmlformats.org/drawingml/2006/table">
            <a:tbl>
              <a:tblPr/>
              <a:tblGrid>
                <a:gridCol w="2754360"/>
                <a:gridCol w="604800"/>
                <a:gridCol w="603360"/>
                <a:gridCol w="603000"/>
                <a:gridCol w="603360"/>
              </a:tblGrid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cados y mariscos secos, ahumados o sal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escados y mariscos procesados o conservados y preparados de pescados y maris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enter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semidescremada y descrem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conserv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ures y leches fermentad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o y requesó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roductos a base de le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ev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quill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garina y otras grasas veget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 de Oliv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eites comestib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grasas anim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tric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tan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zanas (frescas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as ( 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con hueso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un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frut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os se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preparadas y en conser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de hoja o de tall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ultivadas por su frut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on raíz o bulbo y seta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222120" y="143784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del hogar (número de miembros, región, tipo de vivienda, tipo de hogar según estructura de edades, situación económica y de actividad del sustentador principal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s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500040" y="2276640"/>
            <a:ext cx="728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a ECPF 2006 se ha utilizado en el IEF como base de datos de entrada del microsimulador del Impuesto sobre el Valor Añadido (IVA), parte del microsimulador TaxSim_IE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4 Rectángulo"/>
          <p:cNvSpPr/>
          <p:nvPr/>
        </p:nvSpPr>
        <p:spPr>
          <a:xfrm>
            <a:off x="2719440" y="549360"/>
            <a:ext cx="22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Nota de 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684360" y="1204920"/>
            <a:ext cx="77245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Picture 7" descr=""/>
          <p:cNvPicPr/>
          <p:nvPr/>
        </p:nvPicPr>
        <p:blipFill>
          <a:blip r:embed="rId3"/>
          <a:stretch/>
        </p:blipFill>
        <p:spPr>
          <a:xfrm>
            <a:off x="324000" y="1650960"/>
            <a:ext cx="86914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74560" y="1844640"/>
            <a:ext cx="8029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6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3 Rectángulo"/>
          <p:cNvSpPr/>
          <p:nvPr/>
        </p:nvSpPr>
        <p:spPr>
          <a:xfrm>
            <a:off x="457200" y="135720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TRODUCCIÓN A LA MICROSIMUL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utilización de datos desagregados referidos a distintas unidades para realizar modificaciones en el contexto que afecta a dichas unidades y comprobar cuáles son las consecu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1 Grupo"/>
          <p:cNvGrpSpPr/>
          <p:nvPr/>
        </p:nvGrpSpPr>
        <p:grpSpPr>
          <a:xfrm>
            <a:off x="2584440" y="2637000"/>
            <a:ext cx="3240000" cy="3165480"/>
            <a:chOff x="2584440" y="2637000"/>
            <a:chExt cx="3240000" cy="3165480"/>
          </a:xfrm>
        </p:grpSpPr>
        <p:sp>
          <p:nvSpPr>
            <p:cNvPr id="264" name="9 Rectángulo redondeado"/>
            <p:cNvSpPr/>
            <p:nvPr/>
          </p:nvSpPr>
          <p:spPr>
            <a:xfrm>
              <a:off x="2815200" y="2637000"/>
              <a:ext cx="2720880" cy="857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10 Rectángulo redondeado"/>
            <p:cNvSpPr/>
            <p:nvPr/>
          </p:nvSpPr>
          <p:spPr>
            <a:xfrm>
              <a:off x="2800800" y="3929040"/>
              <a:ext cx="2734920" cy="858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1 Rectángulo redondeado"/>
            <p:cNvSpPr/>
            <p:nvPr/>
          </p:nvSpPr>
          <p:spPr>
            <a:xfrm>
              <a:off x="2800800" y="5297760"/>
              <a:ext cx="273492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7 CuadroTexto"/>
            <p:cNvSpPr/>
            <p:nvPr/>
          </p:nvSpPr>
          <p:spPr>
            <a:xfrm>
              <a:off x="2958120" y="271764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datos: individuos/empre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9 CuadroTexto"/>
            <p:cNvSpPr/>
            <p:nvPr/>
          </p:nvSpPr>
          <p:spPr>
            <a:xfrm>
              <a:off x="2584440" y="4001400"/>
              <a:ext cx="32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dificación context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mpuestos/pres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0 CuadroTexto"/>
            <p:cNvSpPr/>
            <p:nvPr/>
          </p:nvSpPr>
          <p:spPr>
            <a:xfrm>
              <a:off x="3232440" y="537048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5 Flecha abajo"/>
            <p:cNvSpPr/>
            <p:nvPr/>
          </p:nvSpPr>
          <p:spPr>
            <a:xfrm>
              <a:off x="3951720" y="35654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6 Flecha abajo"/>
            <p:cNvSpPr/>
            <p:nvPr/>
          </p:nvSpPr>
          <p:spPr>
            <a:xfrm>
              <a:off x="3951720" y="49406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 CuadroTexto"/>
          <p:cNvSpPr/>
          <p:nvPr/>
        </p:nvSpPr>
        <p:spPr>
          <a:xfrm>
            <a:off x="179280" y="213372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RITME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A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NA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PAR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 (EJEMP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 CuadroTexto"/>
          <p:cNvSpPr/>
          <p:nvPr/>
        </p:nvSpPr>
        <p:spPr>
          <a:xfrm>
            <a:off x="250920" y="20574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Trabajadores: IRPF, cotizaciones a la SS, prest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midores: IVA e II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mpresas: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udiantes: becas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Jubilados: pensiones públicas y privadas, fiscalidad del ahorro, crecimiento de 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0680" y="2205000"/>
          <a:ext cx="7880400" cy="2444760"/>
        </p:xfrm>
        <a:graphic>
          <a:graphicData uri="http://schemas.openxmlformats.org/drawingml/2006/table">
            <a:tbl>
              <a:tblPr/>
              <a:tblGrid>
                <a:gridCol w="1390680"/>
                <a:gridCol w="679320"/>
                <a:gridCol w="943200"/>
                <a:gridCol w="1218960"/>
                <a:gridCol w="1127160"/>
                <a:gridCol w="1008000"/>
                <a:gridCol w="151308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s de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A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s y pérdidas patrimon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i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6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Ri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r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0f0"/>
                </a:solidFill>
                <a:latin typeface="Calibri"/>
                <a:ea typeface="Arial"/>
              </a:rPr>
              <a:t>REGISTROS ADMINIST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la autoridad fiscal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6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ORIGEN DE LOS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7 Rectángulo"/>
          <p:cNvSpPr/>
          <p:nvPr/>
        </p:nvSpPr>
        <p:spPr>
          <a:xfrm>
            <a:off x="468360" y="19731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primeros modelos de MSM los elabora Guy Orcutt en Estados Unidos a finales de los año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 partir de los 80 se generaliza su uso gracias a la aparición de micro datos con información referente a individuos, empresas, etc., así como el desarrollo de ordenadores más po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n los países anglosajones los primeros en desarrollar estas técnicas, aunque en Europa también Alemania y Fr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GUNOS M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8 Grupo"/>
          <p:cNvGrpSpPr/>
          <p:nvPr/>
        </p:nvGrpSpPr>
        <p:grpSpPr>
          <a:xfrm>
            <a:off x="1187280" y="2060640"/>
            <a:ext cx="6193080" cy="4032360"/>
            <a:chOff x="1187280" y="2060640"/>
            <a:chExt cx="6193080" cy="4032360"/>
          </a:xfrm>
        </p:grpSpPr>
        <p:sp>
          <p:nvSpPr>
            <p:cNvPr id="292" name="4 CuadroTexto"/>
            <p:cNvSpPr/>
            <p:nvPr/>
          </p:nvSpPr>
          <p:spPr>
            <a:xfrm>
              <a:off x="2699280" y="2060640"/>
              <a:ext cx="4681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UROM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ADHISPANIA -&gt; SimFBBV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INDIEF, SIRP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sim 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SIM-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F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6 Imagen" descr="en_construccion.JPG"/>
            <p:cNvPicPr/>
            <p:nvPr/>
          </p:nvPicPr>
          <p:blipFill>
            <a:blip r:embed="rId3"/>
            <a:stretch/>
          </p:blipFill>
          <p:spPr>
            <a:xfrm>
              <a:off x="1187280" y="4509000"/>
              <a:ext cx="158436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9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LACES DE INTE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 CuadroTexto"/>
          <p:cNvSpPr/>
          <p:nvPr/>
        </p:nvSpPr>
        <p:spPr>
          <a:xfrm>
            <a:off x="755640" y="1773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A: International Microsimulation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www.microsimulation.org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S: Institute for Fisc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http://www.ifs.org.uk/publications/57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www.iser.essex.ac.uk/research/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www.ief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ief.es/documentos/recursos/publicaciones/documentos_trabajo/2011_16.pdf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SOS A SEGUIR PARA SU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4 CuadroTexto"/>
          <p:cNvSpPr/>
          <p:nvPr/>
        </p:nvSpPr>
        <p:spPr>
          <a:xfrm>
            <a:off x="285840" y="1987560"/>
            <a:ext cx="83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sponibilidad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atos desagrega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, o microdatos (creación de nuevas variables cuando sea necesario – imput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ctualiza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los datos (al menos en términos mone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ocimiento d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normativa vigente y simul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parámetros que caracterizan la simulación y la situación con la que se comp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ftwar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adecuado para realización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im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Valida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plicación fáci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 utilizar (prescindible si su uso no se divul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VENTAJAS DE ESTOS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CuadroTexto"/>
          <p:cNvSpPr/>
          <p:nvPr/>
        </p:nvSpPr>
        <p:spPr>
          <a:xfrm>
            <a:off x="285840" y="1700280"/>
            <a:ext cx="83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aptura la heterogeneidad de los datos – pero permite hacer agregaciones ma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dentifica a los ganadores y perdedores de un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el análisis más focalizado de una posible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oy en día se pueden hacer infinidad de cálculos gracias al avance de equipos muy potentes, la disponibilidad de BBDD tanto de origen administrativo como de encuesta y gracias al desarrollo de software estad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34 Rectángulo"/>
          <p:cNvSpPr/>
          <p:nvPr/>
        </p:nvSpPr>
        <p:spPr>
          <a:xfrm>
            <a:off x="2057400" y="191628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imes New Roman"/>
                <a:ea typeface="Arial"/>
              </a:rPr>
              <a:t>¿Modelos de microsimulación en Argentina?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34 Rectángulo"/>
          <p:cNvSpPr/>
          <p:nvPr/>
        </p:nvSpPr>
        <p:spPr>
          <a:xfrm>
            <a:off x="324000" y="1341360"/>
            <a:ext cx="50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3" descr=""/>
          <p:cNvPicPr/>
          <p:nvPr/>
        </p:nvPicPr>
        <p:blipFill>
          <a:blip r:embed="rId3"/>
          <a:srcRect l="26740" t="6592" r="27345" b="6983"/>
          <a:stretch/>
        </p:blipFill>
        <p:spPr>
          <a:xfrm>
            <a:off x="5572080" y="1433520"/>
            <a:ext cx="3429000" cy="516420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79200" y="36450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ño del trabajo: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íses  comparados: Francia, Italia, Austria y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Objetivo: análisis distributivo de medidas de devaluación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7 CuadroTexto"/>
          <p:cNvSpPr/>
          <p:nvPr/>
        </p:nvSpPr>
        <p:spPr>
          <a:xfrm>
            <a:off x="324000" y="2135160"/>
            <a:ext cx="82152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olíticas internas que imitan los efectos de una devalu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jemplo típico: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reducción de las cotizaciones sociales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 los empleadores financiada con una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subida del IVA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- Con una tasa salarial rígida, desciende el coste laboral, mejora la competitividad (aumentan exportaciones y bajan importacion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l mismo tiempo, un IVA más elevado o sobre una base más extensa reduce el consumo y las importaciones sin impactar sobre las exportaciones (Criterio de país de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 se trata de una reforma con finalidad redistributiva, pero los efectos sobre la redistribución impor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6 CuadroTexto"/>
          <p:cNvSpPr/>
          <p:nvPr/>
        </p:nvSpPr>
        <p:spPr>
          <a:xfrm>
            <a:off x="285840" y="224316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Traslación total del incremento del IVA al consumi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ctualización de las prestaciones conforme al incremento causado por el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eutralidad recaud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 respuesta (oferta lab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corto plazo se incentiva el empleo por el menor coste para el empleador, pero a largo plazo se produce una traslación a salarios en la misma cuantía de la disminución de las co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6 CuadroTexto"/>
          <p:cNvSpPr/>
          <p:nvPr/>
        </p:nvSpPr>
        <p:spPr>
          <a:xfrm>
            <a:off x="285840" y="2243160"/>
            <a:ext cx="8572320" cy="4570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o se cuenta con base de datos que incluya consumo y renta de las familias. </a:t>
            </a:r>
            <a:r>
              <a:rPr b="1" lang="es-ES" sz="1800" spc="-1" strike="noStrike">
                <a:solidFill>
                  <a:srgbClr val="c00000"/>
                </a:solidFill>
                <a:latin typeface="Garamond"/>
              </a:rPr>
              <a:t>Se realiza un </a:t>
            </a:r>
            <a:r>
              <a:rPr b="1" i="1" lang="es-ES" sz="1800" spc="-1" strike="noStrike">
                <a:solidFill>
                  <a:srgbClr val="c00000"/>
                </a:solidFill>
                <a:latin typeface="Garamond"/>
              </a:rPr>
              <a:t>matching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por grupos a partir de características relevantes (ECV+E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ferencia: situación 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Las variables utiliza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Área de residencia ( 6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oroeste, Nordeste, Comunidad de Madrid, Centro, Este y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Tipo de hogar ( 3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olteros, Parejas sin hijos y Parejas con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estudios del sustentador principa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l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3 ) :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Sin estudios, Educación secundaria y educación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Edad del sustentador principal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Hasta 45 años y Más de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ituación laboral del sustentador princip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Activo e Ina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Régimen de tenencia de la vivienda habitu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Propiedad y Alqu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renta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Inferior a la mediana y Superior a la medi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  <a:ea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8000" y="2133720"/>
          <a:ext cx="7993080" cy="2444760"/>
        </p:xfrm>
        <a:graphic>
          <a:graphicData uri="http://schemas.openxmlformats.org/drawingml/2006/table">
            <a:tbl>
              <a:tblPr/>
              <a:tblGrid>
                <a:gridCol w="1152360"/>
                <a:gridCol w="650880"/>
                <a:gridCol w="682560"/>
                <a:gridCol w="930600"/>
                <a:gridCol w="1128600"/>
                <a:gridCol w="1130400"/>
                <a:gridCol w="930240"/>
                <a:gridCol w="1387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nsión de jubi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dto.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. Horas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70" name="11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encuesta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468360" y="2428200"/>
            <a:ext cx="7603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0033"/>
                </a:solidFill>
                <a:latin typeface="Arial"/>
                <a:ea typeface="Arial"/>
              </a:rPr>
              <a:t>Gracias por su a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milagros.paniagua@ief.minhap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CuadroTexto"/>
          <p:cNvSpPr/>
          <p:nvPr/>
        </p:nvSpPr>
        <p:spPr>
          <a:xfrm>
            <a:off x="260280" y="1844640"/>
            <a:ext cx="7840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uente de datos estadísticos al igual que encuestas y c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 diferencia con ellos: criterios normativos que establece el encargado de diseñar el registro administrativo (para realizar una encuesta y/o censo se siguen criterios estadís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eño más relacionado con la gestión que con la explotación: planificación, seguimiento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n numerosos los registros administrativos existentes con información referida a individuos, empresas, instituciones, municipi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jo coste – generalmente no existen costes asociados a los trabajos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general tienen una menor carga para los informantes que las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CuadroTexto"/>
          <p:cNvSpPr/>
          <p:nvPr/>
        </p:nvSpPr>
        <p:spPr>
          <a:xfrm>
            <a:off x="260280" y="1844640"/>
            <a:ext cx="7840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 existir transparencia entre las Instituciones públicas, el flujo de información entre ellas permitiría un ahorr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existen errores de muestreo salvo que se tome una muestra del registro (ejemplo: MCVL de la Seguridad Social y muestra de declarantes de IRPF del IFE) y entre los errores ajenos al muestreo, la falta de respuesta es menor que en las enc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gregación a nivel sub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alta de correspondencia entre unidades estadísticas y administrativas, así como códigos y perí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ás vinculados a la política que los datos de enc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260280" y="1844640"/>
            <a:ext cx="78408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la RAE: 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junto de preguntas tipificadas dirigidas a una muestra representativa, para averiguar estados de opinión o diversas cuestiones de hech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mite tener información de la población objeto de estudio para aquellos ámbitos donde los registros administrativos no son su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ran capacidad para estandarizar datos, que se traduce en un buen tratamiento informático y en análisis estad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6 Grupo"/>
          <p:cNvGrpSpPr/>
          <p:nvPr/>
        </p:nvGrpSpPr>
        <p:grpSpPr>
          <a:xfrm>
            <a:off x="222120" y="1916280"/>
            <a:ext cx="7662960" cy="4367160"/>
            <a:chOff x="222120" y="1916280"/>
            <a:chExt cx="7662960" cy="4367160"/>
          </a:xfrm>
        </p:grpSpPr>
        <p:sp>
          <p:nvSpPr>
            <p:cNvPr id="91" name="1 CuadroTexto"/>
            <p:cNvSpPr/>
            <p:nvPr/>
          </p:nvSpPr>
          <p:spPr>
            <a:xfrm>
              <a:off x="2823480" y="191628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tuación id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2 Imagen" descr=""/>
            <p:cNvPicPr/>
            <p:nvPr/>
          </p:nvPicPr>
          <p:blipFill>
            <a:blip r:embed="rId1"/>
            <a:stretch/>
          </p:blipFill>
          <p:spPr>
            <a:xfrm>
              <a:off x="3126240" y="4771440"/>
              <a:ext cx="141660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3 Imagen" descr=""/>
            <p:cNvPicPr/>
            <p:nvPr/>
          </p:nvPicPr>
          <p:blipFill>
            <a:blip r:embed="rId2"/>
            <a:stretch/>
          </p:blipFill>
          <p:spPr>
            <a:xfrm>
              <a:off x="2823480" y="2501640"/>
              <a:ext cx="20466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4 Imagen" descr=""/>
            <p:cNvPicPr/>
            <p:nvPr/>
          </p:nvPicPr>
          <p:blipFill>
            <a:blip r:embed="rId3"/>
            <a:stretch/>
          </p:blipFill>
          <p:spPr>
            <a:xfrm>
              <a:off x="6274800" y="3293640"/>
              <a:ext cx="1610280" cy="17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5 Imagen" descr=""/>
            <p:cNvPicPr/>
            <p:nvPr/>
          </p:nvPicPr>
          <p:blipFill>
            <a:blip r:embed="rId4"/>
            <a:stretch/>
          </p:blipFill>
          <p:spPr>
            <a:xfrm>
              <a:off x="222120" y="3437640"/>
              <a:ext cx="1515600" cy="15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10 Flecha curvada hacia la derecha"/>
            <p:cNvSpPr/>
            <p:nvPr/>
          </p:nvSpPr>
          <p:spPr>
            <a:xfrm>
              <a:off x="1882440" y="3117960"/>
              <a:ext cx="787320" cy="2335320"/>
            </a:xfrm>
            <a:custGeom>
              <a:avLst/>
              <a:gdLst>
                <a:gd name="textAreaLeft" fmla="*/ 105480 w 787320"/>
                <a:gd name="textAreaRight" fmla="*/ 681840 w 78732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5" stAng="-5400000" swAng="-5400000"/>
                  <a:lnTo>
                    <a:pt x="0" y="11256"/>
                  </a:lnTo>
                  <a:arcTo wR="21600" hR="9435" stAng="10800000" swAng="-3564662"/>
                  <a:lnTo>
                    <a:pt x="16200" y="21300"/>
                  </a:lnTo>
                  <a:lnTo>
                    <a:pt x="21600" y="19780"/>
                  </a:lnTo>
                  <a:lnTo>
                    <a:pt x="16200" y="17659"/>
                  </a:lnTo>
                  <a:lnTo>
                    <a:pt x="16200" y="18569"/>
                  </a:lnTo>
                  <a:arcTo wR="21600" hR="9435" stAng="7235338" swAng="3419159"/>
                  <a:lnTo>
                    <a:pt x="101" y="10345"/>
                  </a:lnTo>
                  <a:arcTo wR="21600" hR="9435" stAng="-10654497" swAng="5254497"/>
                  <a:close/>
                </a:path>
                <a:path fill="darkenLess" w="21600" h="21600">
                  <a:moveTo>
                    <a:pt x="21600" y="0"/>
                  </a:moveTo>
                  <a:arcTo wR="21600" hR="9435" stAng="-5400000" swAng="-5400000"/>
                  <a:lnTo>
                    <a:pt x="0" y="9435"/>
                  </a:lnTo>
                  <a:arcTo wR="21600" hR="9435" stAng="10800000" swAng="-145503"/>
                  <a:lnTo>
                    <a:pt x="101" y="10345"/>
                  </a:lnTo>
                  <a:arcTo wR="21600" hR="9435" stAng="-10654497" swAng="5254497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2 Flecha curvada hacia la derecha"/>
            <p:cNvSpPr/>
            <p:nvPr/>
          </p:nvSpPr>
          <p:spPr>
            <a:xfrm rot="10800000">
              <a:off x="5046120" y="3117600"/>
              <a:ext cx="788760" cy="2335320"/>
            </a:xfrm>
            <a:custGeom>
              <a:avLst/>
              <a:gdLst>
                <a:gd name="textAreaLeft" fmla="*/ 105480 w 788760"/>
                <a:gd name="textAreaRight" fmla="*/ 683280 w 78876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2" stAng="-5400000" swAng="-5400000"/>
                  <a:lnTo>
                    <a:pt x="0" y="11257"/>
                  </a:lnTo>
                  <a:arcTo wR="21600" hR="9432" stAng="10800000" swAng="-3564183"/>
                  <a:lnTo>
                    <a:pt x="16200" y="21301"/>
                  </a:lnTo>
                  <a:lnTo>
                    <a:pt x="21600" y="19776"/>
                  </a:lnTo>
                  <a:lnTo>
                    <a:pt x="16200" y="17652"/>
                  </a:lnTo>
                  <a:lnTo>
                    <a:pt x="16200" y="18564"/>
                  </a:lnTo>
                  <a:arcTo wR="21600" hR="9432" stAng="7235817" swAng="3418357"/>
                  <a:lnTo>
                    <a:pt x="101" y="10344"/>
                  </a:lnTo>
                  <a:arcTo wR="21600" hR="9432" stAng="-10654174" swAng="5254174"/>
                  <a:close/>
                </a:path>
                <a:path fill="darkenLess" w="21600" h="21600">
                  <a:moveTo>
                    <a:pt x="21600" y="0"/>
                  </a:moveTo>
                  <a:arcTo wR="21600" hR="9432" stAng="-5400000" swAng="-5400000"/>
                  <a:lnTo>
                    <a:pt x="0" y="9432"/>
                  </a:lnTo>
                  <a:arcTo wR="21600" hR="9432" stAng="10800000" swAng="-145826"/>
                  <a:lnTo>
                    <a:pt x="101" y="10344"/>
                  </a:lnTo>
                  <a:arcTo wR="21600" hR="9432" stAng="-10654174" swAng="5254174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1 Flecha curvada hacia la izquierda"/>
            <p:cNvSpPr/>
            <p:nvPr/>
          </p:nvSpPr>
          <p:spPr>
            <a:xfrm rot="10800000">
              <a:off x="2021760" y="356724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15 Flecha curvada hacia la izquierda"/>
            <p:cNvSpPr/>
            <p:nvPr/>
          </p:nvSpPr>
          <p:spPr>
            <a:xfrm>
              <a:off x="5006880" y="363852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14 Flecha izquierda y derecha"/>
            <p:cNvSpPr/>
            <p:nvPr/>
          </p:nvSpPr>
          <p:spPr>
            <a:xfrm rot="8743200">
              <a:off x="152316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17 Flecha izquierda y derecha"/>
            <p:cNvSpPr/>
            <p:nvPr/>
          </p:nvSpPr>
          <p:spPr>
            <a:xfrm rot="8743200">
              <a:off x="5473440" y="5527800"/>
              <a:ext cx="863640" cy="288720"/>
            </a:xfrm>
            <a:prstGeom prst="leftRightArrow">
              <a:avLst>
                <a:gd name="adj1" fmla="val 50000"/>
                <a:gd name="adj2" fmla="val 50048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18 Flecha izquierda y derecha"/>
            <p:cNvSpPr/>
            <p:nvPr/>
          </p:nvSpPr>
          <p:spPr>
            <a:xfrm rot="12631800">
              <a:off x="544968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19 Flecha izquierda y derecha"/>
            <p:cNvSpPr/>
            <p:nvPr/>
          </p:nvSpPr>
          <p:spPr>
            <a:xfrm rot="12631800">
              <a:off x="1589760" y="5383080"/>
              <a:ext cx="863640" cy="287280"/>
            </a:xfrm>
            <a:prstGeom prst="leftRightArrow">
              <a:avLst>
                <a:gd name="adj1" fmla="val 50000"/>
                <a:gd name="adj2" fmla="val 50021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20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05" name="Picture 7" descr="logoief"/>
            <p:cNvPicPr/>
            <p:nvPr/>
          </p:nvPicPr>
          <p:blipFill>
            <a:blip r:embed="rId5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0 Imagen" descr="logo_eurosocial_rgb.jpg"/>
            <p:cNvPicPr/>
            <p:nvPr/>
          </p:nvPicPr>
          <p:blipFill>
            <a:blip r:embed="rId6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0 CuadroTexto"/>
          <p:cNvSpPr/>
          <p:nvPr/>
        </p:nvSpPr>
        <p:spPr>
          <a:xfrm>
            <a:off x="260280" y="191628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tuación real: matching (encuesta – encuesta, encuesta – reg. administrativo y reg. administrativo - reg. administrativo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3 Imagen" descr=""/>
          <p:cNvPicPr/>
          <p:nvPr/>
        </p:nvPicPr>
        <p:blipFill>
          <a:blip r:embed="rId1"/>
          <a:stretch/>
        </p:blipFill>
        <p:spPr>
          <a:xfrm>
            <a:off x="4933800" y="2732040"/>
            <a:ext cx="2590920" cy="2637000"/>
          </a:xfrm>
          <a:prstGeom prst="rect">
            <a:avLst/>
          </a:prstGeom>
          <a:ln w="0">
            <a:noFill/>
          </a:ln>
        </p:spPr>
      </p:pic>
      <p:pic>
        <p:nvPicPr>
          <p:cNvPr id="110" name="21 Imagen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3610080" cy="2433600"/>
          </a:xfrm>
          <a:prstGeom prst="rect">
            <a:avLst/>
          </a:prstGeom>
          <a:ln w="0">
            <a:noFill/>
          </a:ln>
        </p:spPr>
      </p:pic>
      <p:sp>
        <p:nvSpPr>
          <p:cNvPr id="111" name="22 Flecha derecha"/>
          <p:cNvSpPr/>
          <p:nvPr/>
        </p:nvSpPr>
        <p:spPr>
          <a:xfrm>
            <a:off x="4253040" y="3500280"/>
            <a:ext cx="680760" cy="2890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Flecha derecha"/>
          <p:cNvSpPr/>
          <p:nvPr/>
        </p:nvSpPr>
        <p:spPr>
          <a:xfrm rot="10800000">
            <a:off x="4249800" y="3860280"/>
            <a:ext cx="682560" cy="2890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5 CuadroTexto"/>
          <p:cNvSpPr/>
          <p:nvPr/>
        </p:nvSpPr>
        <p:spPr>
          <a:xfrm>
            <a:off x="250920" y="580716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: dificultades técnicas y n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12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15" name="Picture 7" descr="logoief"/>
            <p:cNvPicPr/>
            <p:nvPr/>
          </p:nvPicPr>
          <p:blipFill>
            <a:blip r:embed="rId3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0 Imagen" descr="logo_eurosocial_rgb.jpg"/>
            <p:cNvPicPr/>
            <p:nvPr/>
          </p:nvPicPr>
          <p:blipFill>
            <a:blip r:embed="rId4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9:33:56Z</dcterms:created>
  <dc:creator>Nbadenes</dc:creator>
  <dc:description/>
  <dc:language>en-US</dc:language>
  <cp:lastModifiedBy>mila</cp:lastModifiedBy>
  <cp:lastPrinted>2013-06-17T08:58:45Z</cp:lastPrinted>
  <dcterms:modified xsi:type="dcterms:W3CDTF">2015-06-13T10:26:38Z</dcterms:modified>
  <cp:revision>479</cp:revision>
  <dc:subject/>
  <dc:title>Diapositiva 1</dc:title>
</cp:coreProperties>
</file>