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965-5E68-44A5-82B0-5F4B9582C62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esultado encuesta: de los 397 hogares encuestados que recibían transferencias condicionadas, solo 114 eran además beneficiarios de pTF (menos del 29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DB1-5349-44E9-B610-9EE86CE1E5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1D0-9285-4629-B4AE-0D336BB9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91-6660-4CCA-BC11-4A9BBB11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A85-B785-4785-88F8-622DD611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E47-D713-44C1-BD31-CE30987D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CAB-825D-46C1-84EB-D2D82B0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3E3-EED5-4147-9EE0-FD0F38FE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716-FABA-45C8-8C4A-DC964D4D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A14-ACB0-4A29-BF68-8717CB1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090-8F3B-4979-9DB0-CBE158E0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FB4-ADFD-412F-8ACF-BB030E1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131-7A51-4E7C-9876-825412C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0ED-9F79-43DD-B2F8-B1ABCC31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4CB-5D22-4934-A471-5C04F28B2E4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INERGIAS PROGRAMAS TRANSFERENCIAS Y FOMENTO PRODUC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Francisco Agui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RIMI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Políticas Públ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uál es la mejor herramienta para apoyar a personas en situación de pobrez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1% programas que mejoren sus capac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7% entrega de bo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unque se desconfía del mecanismo, la respuesta estatal va en esa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RESPUESTA INTEGR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binar la inversión en Capital Humano que realizan los PTC con la inversión en personas, capital social y los territorios que realizan los P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¿Cuáles son las Restricciones Políticas e Institucionales para Complementar Iniciativas PTC y PFP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Las instituciones se distribuyen la población, pero no hay articul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xiste competencia por recursos limita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Deficiente identificación de la población objetivo que impide focaliz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Culturas institucionales que cuesta superar en plazos cor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n algunos casos, algunas medidas de protección social pueden generar desincentivos para la inversión en fomento productiv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valuaciones deficien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¿Qué Ventajas tiene la Articulació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PTC, además de los impactos en K Humano, tiene efectos en las economías loc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ando son miradas territoriales los impactos se multiplican (al contrario de los programas que se concentran en familias). Ej. Nicarag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vidente relación entre la situación de pobreza y la carencia de ingresos y el potencial de los PFP para incrementar la capacidad de generación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¿Qué Ventaja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tribución de los PTC en generar habilidades básicas para aprovechar de mejor forma los programas de fomento produc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vía hay muchos recursos productivos en manos de la población en situación de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DIFICULT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ógica del egreso segmenta a las institu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iculación obligada (Chile Emprend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ando la articulación se da entre programas específ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PTC y PFP trabajan con criterios de focalización distintos (Ej. Evaluación 2012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ipo de usuario: escasa habilidad para desempeñarse como usuario de la oferta pública y sostener un emprendimie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PELIG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reación de una oferta de fomento productivo exclusiva para beneficiarios PTC. No se darían los efectos multiplicadores en el territo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TEMAS PARA UNA RUTA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sta en Mar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ción de los a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paci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lacionamiento con otras inici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centraliz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lidad de las proupestas técn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6:29:13Z</dcterms:created>
  <dc:creator>Francisco</dc:creator>
  <dc:description/>
  <dc:language>en-US</dc:language>
  <cp:lastModifiedBy>ablanco</cp:lastModifiedBy>
  <dcterms:modified xsi:type="dcterms:W3CDTF">2014-11-26T17:14:53Z</dcterms:modified>
  <cp:revision>9</cp:revision>
  <dc:subject/>
  <dc:title>SINERGIAS PROGRAMAS TRANSFERENCIAS Y FOMENTO PRODUCTIVO</dc:title>
</cp:coreProperties>
</file>