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5E6F-ED6E-4039-8922-C616C553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72E4-C0A9-4E35-A8BA-9CAB507F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FAFB-75D2-4090-8ED4-CF0A8C41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1E3D-4400-4510-8B57-86CE1A6D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6370-5CF5-4D7F-9ECC-944EFF89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ABE0-96AD-4150-A641-271B7FA6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0A0B-7954-4CE6-BB89-38E7848A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5935-64AD-4158-AEAB-74D2B20A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4D8B-D200-4B0F-84D5-313AE873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1651-C7BE-40A7-AFD9-AB3B592A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4F6B-F0FC-4C46-9288-9C5B9CDE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0B80-2201-4B46-BF52-CD4A450F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9868-D5BC-48CC-AA2E-4A1BB8E4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9822-A4C6-496D-A6E9-B894C7D8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D8F9-BB25-46E6-BC58-F3145334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A950-7058-4DD6-A257-AB0A7B43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B824-91A3-4D3F-83AB-A2A45062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4D356-879B-4F04-92BA-888D214C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C4D7E-4470-4A20-80C6-40793E05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A2839-83A8-4C9E-81D4-480CCEC9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17C3D-470F-4E6B-8C8B-D7303A5B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6DD12-5CBA-4722-BE81-075E3735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97F3-5E3E-40D0-8A08-384C4251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17048-A2A4-4E78-9EF7-6C543D15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EBB99-334F-47DE-91CE-C7A84C3F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09F09-E1ED-4987-8D3A-76A648C3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C54F0-3B81-4C10-B685-83B8B631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8BA52-7E3E-4E6D-B563-04897C6E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64222-0D77-4600-B253-9CB4D76A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905E3-9C6A-45FE-A7A3-8EA895A7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F4229-1B21-4540-95DF-2228E380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C0BEB-D37F-41F4-9452-3A70E68A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E03DD-3C83-4562-80EB-DA498B1B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871-7D85-4342-8F4D-771860D5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C58E5-4B44-48AA-8F05-A378D78E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F3A81-4D60-4471-B23D-5F2F2A36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08469-6DAD-4ED8-9951-693ACE7C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58B98-DDE7-40B2-9E81-6B3ECE14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E8348-496E-429A-9DBA-98B02D57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52601-1C47-4A2C-97DD-88476072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1081D-6955-47C7-9273-EF4AF2AC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978F7-0F19-4E68-A0DB-F1F1E5D7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75510-ED05-4C4E-BFE7-691BA769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F6DE-C2AB-46F2-9505-ABD0BA81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A06-B04E-49E7-9E0E-B4C2AD30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0C02-5C7C-4C7C-B948-9DA81DA6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81BD-9DD7-4905-BF5D-C1CCA88E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5EF3-7850-42B6-97BD-03456F90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F714-7069-4FFF-9650-9827E18333DF}" type="slidenum">
              <a:rPr b="0" lang="pt-BR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a liv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a liv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4346-D6E7-48F4-8157-802AA164C620}" type="slidenum">
              <a:rPr b="0" lang="pt-BR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a liv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56D4-93F6-4125-9470-C2227FA21BCC}" type="slidenum">
              <a:rPr b="0" lang="pt-BR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tângulo com Único Canto Aparado e Arredondado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riângulo retângu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rma liv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rma liv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80F4-8B9A-453E-B663-86C2A28D5A65}" type="slidenum">
              <a:rPr b="0" lang="pt-BR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464646"/>
                </a:solidFill>
                <a:latin typeface="Arial"/>
                <a:ea typeface="Arial"/>
              </a:rPr>
              <a:t>Seminario - Taller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10920" y="1700280"/>
            <a:ext cx="806436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c767c"/>
                </a:solidFill>
                <a:latin typeface="Arial"/>
                <a:ea typeface="Arial"/>
              </a:rPr>
              <a:t>Experiencias en la Articulación de Política Social y Económica Productiv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c767c"/>
                </a:solidFill>
                <a:latin typeface="Arial"/>
                <a:ea typeface="Arial"/>
              </a:rPr>
              <a:t>Experiencia Brasileñ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26/11/2014  -  GUATEMALA 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476360" y="6093000"/>
            <a:ext cx="65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Márcia Helena Carvalho L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3720" y="34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464646"/>
                </a:solidFill>
                <a:latin typeface="Arial"/>
                <a:ea typeface="Arial"/>
              </a:rPr>
              <a:t>Gestión del HAMBRE CERO</a:t>
            </a:r>
            <a:endParaRPr b="0" lang="en-US" sz="48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507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Ministerio Extraordinario de Seguridad Alimentaria (MESA)- 200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reación del GT Hambre Cero, con 13 ministerios, bajo la coordinación del MDS- Ministerio de Desarrollo Social y Combate al Hambre – 200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apertura del Consejo Nacional de Seguridad Alimentaria y Nutricional (CONSEA), con representación del  gobierno (1/3) y sociedad civil (2/3)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300" spc="-1" strike="noStrike">
                <a:solidFill>
                  <a:srgbClr val="464646"/>
                </a:solidFill>
                <a:latin typeface="Arial"/>
                <a:ea typeface="Arial"/>
              </a:rPr>
              <a:t>Gestión del HAMBRE CERO</a:t>
            </a:r>
            <a:br>
              <a:rPr sz="4300"/>
            </a:br>
            <a:r>
              <a:rPr b="1" lang="pt-BR" sz="3200" spc="-1" strike="noStrike">
                <a:solidFill>
                  <a:srgbClr val="464646"/>
                </a:solidFill>
                <a:latin typeface="Calibri"/>
              </a:rPr>
              <a:t> (CONTINUACIÓN)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8000" y="2133720"/>
            <a:ext cx="850572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nstantia"/>
              </a:rPr>
              <a:t>Legislación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nstantia"/>
              </a:rPr>
              <a:t>LOSAN- Legislación Nacional de Seguridad Alimentaria y Nutricional- 200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nstantia"/>
              </a:rPr>
              <a:t>Reforma al articulo 6 de la Constitución, para incluir alimentación como derecho social - 200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nstantia"/>
              </a:rPr>
              <a:t>Legislación federal para  la Agricultura Familiar, que determina 30% de la alimentacion escolar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300" spc="-1" strike="noStrike">
                <a:solidFill>
                  <a:srgbClr val="464646"/>
                </a:solidFill>
                <a:latin typeface="Arial"/>
                <a:ea typeface="Arial"/>
              </a:rPr>
              <a:t>Gestión del HAMBRE CERO</a:t>
            </a:r>
            <a:br>
              <a:rPr sz="4300"/>
            </a:br>
            <a:r>
              <a:rPr b="1" lang="pt-BR" sz="3200" spc="-1" strike="noStrike">
                <a:solidFill>
                  <a:srgbClr val="464646"/>
                </a:solidFill>
                <a:latin typeface="Calibri"/>
              </a:rPr>
              <a:t> (CONTINUACIÓN)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000" y="1959120"/>
            <a:ext cx="85057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AISAN- Câmara Interministerial de SAN, con 19 ministéri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lan Nacional de Seguridad Alimentaria y Nutricional, con base en el SISA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onferencias nacionales, estaduales, regionales y municipales de SA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d de SAN, pública y privada (con la participación de varios sectores privados y comunitarios)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29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464646"/>
                </a:solidFill>
                <a:latin typeface="Calibri"/>
              </a:rPr>
              <a:t>RESULTADOS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0920" y="160128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umplimiento del primer Objetivo del Milenio- reducción de 50% de la hambre y pobreza en 2010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22 millones dejaron la extrema pobreza y 40 millones acenderan para la clase med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ducción de 58% de la mortalidad infantil por desnutrición y 46% por la diarre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isminución de la desigualdad entre ricos y pobres- C. GINI muda de 58,7 en 2003 para 51,9  en 201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464646"/>
                </a:solidFill>
                <a:latin typeface="Calibri"/>
              </a:rPr>
              <a:t>RESULTADOS </a:t>
            </a:r>
            <a:r>
              <a:rPr b="1" lang="pt-BR" sz="2400" spc="-1" strike="noStrike">
                <a:solidFill>
                  <a:srgbClr val="464646"/>
                </a:solidFill>
                <a:latin typeface="Calibri"/>
              </a:rPr>
              <a:t>(continuación)</a:t>
            </a:r>
            <a:endParaRPr b="0" lang="en-US" sz="2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50920" y="139824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recimiento expresivo de produción e inversión en la Agricultura Familiar (de 2 para USD 30 billones 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xpansión de los servicios públicos básicos: energía, saneamiento, viviendas, educación Infantil, cualificación profesional de jovenes..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onstrucción de Sistemas Públicos- SISAN, SUAS, SNC...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Un nuevo salto de calidad y cantidad: Brasil sin Miséria - 201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464646"/>
                </a:solidFill>
                <a:latin typeface="Calibri"/>
              </a:rPr>
              <a:t>PERSPECTIVA DE LA TERRITORIALIZACIÓN 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3640" y="2389320"/>
            <a:ext cx="8762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MILTON SANTOS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PUNTA A QUE EL DRAMA SOCIAL, EL DRAMA DE LA NACIÓN ES MUCHO MÁS VISIBLE A TRAVÉS DEL TERRITORIO, QUE POR INTERMEDIO DE CUALQUIER OTRA INSTANCIA DE LA SOCIEDAD. MI IMPRESIÓN ES QUE EL TERRITORIO, REVELA LAS CONTRADICCIONES DE MANERA MUCHO MÁS FUERTE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464646"/>
                </a:solidFill>
                <a:latin typeface="Calibri"/>
              </a:rPr>
              <a:t>DESAFIO DE LA TERRITORIALIZACIÓN 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3640" y="2389320"/>
            <a:ext cx="8762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Es  en el TERRITORIO que la  realidad de la VIDA COLECTIVA se da. Es en ese espacio en el cual acontece la reproducción de la existencia  y toda la contradicción del modelo de Producción Económico, Social y Polític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464646"/>
                </a:solidFill>
                <a:latin typeface="Calibri"/>
              </a:rPr>
              <a:t>DESAFIO DE LA TERRITORIALIZACIÓN </a:t>
            </a:r>
            <a:r>
              <a:rPr b="1" lang="pt-BR" sz="2400" spc="-1" strike="noStrike">
                <a:solidFill>
                  <a:srgbClr val="464646"/>
                </a:solidFill>
                <a:latin typeface="Calibri"/>
              </a:rPr>
              <a:t>(continuación) </a:t>
            </a:r>
            <a:endParaRPr b="0" lang="en-US" sz="2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762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LA RELACIÓN ENTRE TERRITORIO Y GESTIÓN TIENE DOS RECORTES FUNDAMENTALES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bertura territorial de la responsabilidad de la autoridad gestora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La incidencia territorial de los factores que caracterizan una población como demandante de las atenciones de las políticas publicas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92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464646"/>
                </a:solidFill>
                <a:latin typeface="Calibri"/>
              </a:rPr>
              <a:t>DESAFIO DE LA TERRITORIALIZACIÓN </a:t>
            </a:r>
            <a:r>
              <a:rPr b="1" lang="pt-BR" sz="2400" spc="-1" strike="noStrike">
                <a:solidFill>
                  <a:srgbClr val="464646"/>
                </a:solidFill>
                <a:latin typeface="Calibri"/>
              </a:rPr>
              <a:t>(continuación) </a:t>
            </a:r>
            <a:endParaRPr b="0" lang="en-US" sz="2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La lógica TERRITORIAL puede constituirse en un indicador de  DEMOCRATIZACIÓN de la  ATENCIÓN A LAS NECESIDADES SOCIALES de los diversos segmentos poblaciona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l TERRITORIO congrega las dimensiones – Objetiva e Subjetiva-  que se expresan de forma concreta através de las manifestaciones de sufrimientos, deseos y expectativa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3840" y="549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464646"/>
                </a:solidFill>
                <a:latin typeface="Calibri"/>
              </a:rPr>
              <a:t>ALGUNAS CONCLUSIONES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227664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 hay derecho social sin la garantía del Estad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l derecho social a la protección social y productiva se expresa por la oferta y regulación, por el Estado, de los servicios y beneficios de protección social e inclusión productiva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l derecho social hace a la protección social y productiva más efectiva, reduciendo vulnerabilidades e incertidumbres e, igualando oportunidades y garantías de acceso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95280" y="1052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"SI AL FINAL DE MI GOBIERNO, TODOS LOS BRASILEÑOS PUEDEN TENER ALIMENTACIÓN  3 VECES AL DIA, HABRÉ HECHO LA MISION DE MI VIDA"</a:t>
            </a: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                          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Luis Inácio Lula da Silva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01/01/2003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AutoShape 2"/>
          <p:cNvSpPr/>
          <p:nvPr/>
        </p:nvSpPr>
        <p:spPr>
          <a:xfrm>
            <a:off x="206280" y="-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206280" y="-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6" descr="http://upload.wikimedia.org/wikipedia/commons/thumb/3/3c/Lula_-_foto_oficial05012007_edit.jpg/200px-Lula_-_foto_oficial05012007_edit.jpg"/>
          <p:cNvPicPr/>
          <p:nvPr/>
        </p:nvPicPr>
        <p:blipFill>
          <a:blip r:embed="rId1"/>
          <a:stretch/>
        </p:blipFill>
        <p:spPr>
          <a:xfrm>
            <a:off x="7020000" y="3789360"/>
            <a:ext cx="1904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69720" y="2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464646"/>
                </a:solidFill>
                <a:latin typeface="Calibri"/>
              </a:rPr>
              <a:t>LECCIONES APRENDIDAS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  <a:ea typeface="Arial"/>
              </a:rPr>
              <a:t>Compromiso y convicción de que es posible garantizar el derecho por la alimentación adecuada a toda la población,  con fuerte impacto social y  económ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  <a:ea typeface="Arial"/>
              </a:rPr>
              <a:t>Conducción  política que logra reunir todas las fuerzas de la socie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  <a:ea typeface="Arial"/>
              </a:rPr>
              <a:t>Articulación y integración entre las políticas sectoriales y transvers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  <a:ea typeface="Arial"/>
              </a:rPr>
              <a:t>Apropiación de los diagnósticos, estudios territoriales y sistemas de información y monitoreo de las realida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  <a:ea typeface="Arial"/>
              </a:rPr>
              <a:t>Adopción de un Marco legal, para consolidación de la Política Social y Económica Produc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9720" y="645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500" spc="-1" strike="noStrike">
                <a:solidFill>
                  <a:srgbClr val="464646"/>
                </a:solidFill>
                <a:latin typeface="Calibri"/>
              </a:rPr>
              <a:t>LECCIONES APRENDIDAS</a:t>
            </a:r>
            <a:br>
              <a:rPr sz="4500"/>
            </a:br>
            <a:r>
              <a:rPr b="1" lang="pt-BR" sz="3200" spc="-1" strike="noStrike">
                <a:solidFill>
                  <a:srgbClr val="464646"/>
                </a:solidFill>
                <a:latin typeface="Calibri"/>
              </a:rPr>
              <a:t>(continuación)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9840" y="1961640"/>
            <a:ext cx="898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Coordinación colegiada y participativa con los estados y municip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Garantizar escala nacional y consolidar áreas prioritár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Responder con resultados factu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Transparencia  y Credibi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Comunicación cre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Importancia del apoyo de los Organismos Internacion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971280" y="907920"/>
            <a:ext cx="7497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pt-BR" sz="4800" spc="-1" strike="noStrike">
                <a:solidFill>
                  <a:srgbClr val="000000"/>
                </a:solidFill>
                <a:latin typeface="Constantia"/>
              </a:rPr>
              <a:t>EL FIN DE LA MISERIA ES SOLO EL INICIO“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Constantia"/>
              </a:rPr>
              <a:t>Muchas Gracias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onstantia"/>
              </a:rPr>
              <a:t>Márcia H. Carvalho Lope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onstantia"/>
              </a:rPr>
              <a:t>marciahclopes@gmail.com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6025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464646"/>
                </a:solidFill>
                <a:latin typeface="Calibri"/>
              </a:rPr>
              <a:t>CONTEXTO HISTÓRICO EN BRASIL HASTA 1988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70028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ÍNDICES ALARMANTES DE POBREZA Y DESIGUALDAD – 1/3 DE LA POBL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STADO AUTORITARIO, CENTRALIZADOR, DISTANTE DE LA SOCIEDAD, OMISO EN SUS FUNC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CONOMIA DEPENDI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OLÍTICAS SOCIALES UTILITARISTAS, PUNTUALES, ASISTEMÁTIC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6720" y="620280"/>
            <a:ext cx="87472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464646"/>
                </a:solidFill>
                <a:latin typeface="Calibri"/>
              </a:rPr>
              <a:t>CONSTITUCIÓN FEDERAL DE 1988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STADO DEMOCRÁTICO DE DERECH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MOVIMENTOS SOCIALES CON PROTAGONISMO POLÍTIC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AMBIO DE PARADIGMAS EN LA GESTIÓN PÚBL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ORTALECIMENTO DEL PACTO FEDERATIVO (UNIÓN, ESTADOS Y MUNICIPIO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IRECTRICES CONSTITUCION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100000"/>
              </a:lnSpc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Universalización de acceso a los derech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100000"/>
              </a:lnSpc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escentralización político / administrativ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100000"/>
              </a:lnSpc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articipación de la socie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4720" y="476280"/>
            <a:ext cx="874728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464646"/>
                </a:solidFill>
                <a:latin typeface="Calibri"/>
              </a:rPr>
              <a:t>TRANSFORMACIONES DE LA POLÍTICA SOCIAL  LUEGO DE LA CONSTITUCIÓN DE 1988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699920"/>
            <a:ext cx="8763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IRMACIÓN AMPLIADA DE LOS DERECHOS SOCIALE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PONSABILIDAD PÚBLICA Y CIUDADANÍA SOCIA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ESCENTRALIZACIÓN Y PARTICIPACIÓN SOCIA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NIVERSALIZACIÓN DE LA COBERTURA DE LOS BENEFÍCIOS Y SERVICIOS SOCIALE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ORIENTACIÓN Y CREACIÓN DE POLÍTICAS Y PROGRAMAS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GRESIVA AMPLIACIÓN EN LOS ÚLTIMOS 20 AÑOS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MERGENCIA DE LAS POLÍTICAS TRANSVERSALES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MPORTANTE ESFUERZO DE FINANCIAMIENTO: CRECIMIENTO DEL GASTO SOCIA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NSOLIDACIÓN DEL SISTEMA BRASILEÑO DE PROTECIÓN SOCIAL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464646"/>
                </a:solidFill>
                <a:latin typeface="Calibri"/>
              </a:rPr>
              <a:t>UN NUEVO TIEMPO, UNA NUEVA CONSTRUCCIÓN 2003 - </a:t>
            </a:r>
            <a:r>
              <a:rPr b="1" lang="pt-BR" sz="3200" spc="-1" strike="noStrike">
                <a:solidFill>
                  <a:srgbClr val="464646"/>
                </a:solidFill>
                <a:latin typeface="Calibri"/>
              </a:rPr>
              <a:t>2010 y 2011 - 2014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07720" y="1584360"/>
            <a:ext cx="889308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200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OCIEDAD MOVILIZADA, ORGANIZADA, CRÍTICA Y PROTAGONIS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200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XPERIENCIAS ACUMULADAS EN LA GESTIÓN LOCAL / MUNICIP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200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LIMA POLÍTICO FAVORABLE EN EL ESCENARIO INTERNACION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CIÓN Y DECISIÓN POLÍTICA CLARA, SINTETIZADA EN LA ESTRATEGIA DE INTEGRACIÓN Y ARTICULACIÓN DE ACCIONES PÚBLICAS COMUNITARIAS EN EL COMBATE AL HAMBRE, A LA POBREZA Y DESIGUALDAD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8000"/>
                </a:solidFill>
                <a:latin typeface="Arial"/>
                <a:ea typeface="Arial"/>
              </a:rPr>
              <a:t>HAMBRE CERO Y BRASIL SIN MISERI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1378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500" spc="-1" strike="noStrike">
                <a:solidFill>
                  <a:srgbClr val="464646"/>
                </a:solidFill>
                <a:latin typeface="Calibri"/>
              </a:rPr>
              <a:t>DIRECTRICES TÉCNICO/POLÍTICAS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9640" y="1874880"/>
            <a:ext cx="822960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RECIMIENTO ECONÓMICO CON DISTRIBUCIÓN DE GANANCIA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ESARROLLO ECONÓMICO Y SOCIAL EN PERMANENTE ARTICUL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SPETO A LA DIVERSIDAD TERRITORIAL, ETNICA RACIAL, DE GÉNERO Y CULTURAL DEL PAÍ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8200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500" spc="-1" strike="noStrike">
                <a:solidFill>
                  <a:srgbClr val="464646"/>
                </a:solidFill>
                <a:latin typeface="Calibri"/>
              </a:rPr>
              <a:t>DIRECTRICES TÉCNICO/POLÍTICAS </a:t>
            </a:r>
            <a:r>
              <a:rPr b="1" lang="pt-BR" sz="2500" spc="-1" strike="noStrike">
                <a:solidFill>
                  <a:srgbClr val="464646"/>
                </a:solidFill>
                <a:latin typeface="Calibri"/>
              </a:rPr>
              <a:t>(CONTINUACIÓN)</a:t>
            </a:r>
            <a:endParaRPr b="0" lang="en-US" sz="2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79280" y="2133360"/>
            <a:ext cx="8785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SPÍRITU REPUBLICANO EN LA GESTIÓN PÚBLICA Y EN LAS RELACIONES POLÍTICO / INSTITUCION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ERSPECTIVA INTERSECTORIALES Y TRANSVERSALES DE LAS POLITICAS PÚBLIC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DOPCIÓN DE LA SEGURIDAD ALIMENTARIA Y NUTRICIONAL – SAN, BASADO EN LOS PRINCIPIOS DEL DERECHO HUMANO A LA ALIMENTACIÓN ADECUADA (DHAA) Y DE LA SOBERANIA ALIMENTAR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464646"/>
                </a:solidFill>
                <a:latin typeface="Calibri"/>
              </a:rPr>
              <a:t>HAMBRE CERO </a:t>
            </a:r>
            <a:r>
              <a:rPr b="1" lang="pt-BR" sz="2400" spc="-1" strike="noStrike">
                <a:solidFill>
                  <a:srgbClr val="464646"/>
                </a:solidFill>
                <a:latin typeface="Arial"/>
                <a:ea typeface="Arial"/>
              </a:rPr>
              <a:t>– una estrategia de articulación con varios componentes de las políticas públicas.</a:t>
            </a:r>
            <a:endParaRPr b="0" lang="en-US" sz="2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2840" y="1963440"/>
            <a:ext cx="9028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rioridad para 4 Programas con gran escala nacional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Bolsa Família- 14 millones de famílias / U$ 12 mil mill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limentación Escolar- 47 millones de niños (univers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AA - Compra Directa de Alimentos de la Agricultura Famili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RONAF- Programa Nacional de Fortalecimiento de la Agricultura Familiar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Integración y articulación de 35 Programas/Proyectos de 13 ministérios en el area de Seguridad Alimentaria y Nutricional: 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  <a:ea typeface="Arial"/>
              </a:rPr>
              <a:t>producción, suministro, comercialización y acceso a los alimentos.</a:t>
            </a:r>
            <a:br>
              <a:rPr sz="2400"/>
            </a:b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3:02:05Z</dcterms:created>
  <dc:creator>Marcia Lopes</dc:creator>
  <dc:description/>
  <dc:language>en-US</dc:language>
  <cp:lastModifiedBy>Usuario</cp:lastModifiedBy>
  <dcterms:modified xsi:type="dcterms:W3CDTF">2014-12-11T21:58:55Z</dcterms:modified>
  <cp:revision>153</cp:revision>
  <dc:subject/>
  <dc:title>Política Social e Cidadania</dc:title>
</cp:coreProperties>
</file>