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7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2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29.png" ContentType="image/png"/>
  <Override PartName="/ppt/media/image63.jpeg" ContentType="image/jpe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0.png" ContentType="image/png"/>
  <Override PartName="/ppt/media/image24.png" ContentType="image/png"/>
  <Override PartName="/ppt/media/image96.png" ContentType="image/png"/>
  <Override PartName="/ppt/media/image103.png" ContentType="image/png"/>
  <Override PartName="/ppt/media/image8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58.wmf" ContentType="image/x-wmf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8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6C63C-21EC-4E4E-B3DE-CF82B89B36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8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8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DE5BA-3100-467B-B3C6-564ECB428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as familias son diagnosticadas por el gestor famili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JE realiza un diagnóstico de la familia. En base a este diagnóstico se determina la trayectoria de la familia en el IEF, que implica definir el tipo de Acompañamiento que requiere, ya sea Apoyo Social, Apoyo Laboral o amb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 ingresar al Acompañamiento familias y personas comienzan a recibir transferencias monetarias y acceden a la oferta de programas y servicios públicos y priv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urante la ejecución del Componente Acompañamiento el EJE efectúa un seguimiento a las familias particip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Finalmente, al terminar su participación el EJE realiza una Evaluación del proce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4FC50-F68E-4274-9227-68D5D92E9339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576BF-592E-4483-A34A-BFC40DD627B2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481BD-3F5A-41BC-A890-802A2EBEE5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48E3C-9A20-42E4-BD4C-1584EC17E0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43978-1094-4F5D-9CA4-C755C5081D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BBCDC-26F5-432D-AB24-0E0F6725C3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A48A8-8548-4396-A9F3-89DCF65CAA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3883C-7310-4F3A-BFF9-830B30BFF7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EB2FD-338D-4955-A464-A7A0766BE1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4217B-8D63-4E4E-821C-34D8226EC2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2C3D5-7822-48C7-9A63-A66C1EA930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CD380-CF26-407C-B2F0-3BF61E0EB58F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03AB6-6EA5-4437-8110-8A3E1AAAEF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91F75-363F-4C36-936E-ADC661F01A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71978-E655-42C2-AACA-D9307BD0D6B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1C7B4-4377-4908-A589-5061C624C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39785-3CB5-4746-9627-8AE545C9E585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BBCF9-79EF-401E-A24B-67C6EF62E94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4A3A5-5D5C-4ABD-BCD5-A4D031602B89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111BD-C322-4A65-92B7-07F6D54547CA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8A634-55E8-49D4-BBAD-61A5E48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05204-D5A0-4B53-9F5B-8F6A09D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BFA0A-BBEC-405E-8D0B-28DAB027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776BC-2D76-4F18-9CF6-C62BAC5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A53B1-F006-476A-BE2C-64FC8E0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33B55-8155-40DE-8723-AE3C82E0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1C1BE-6D86-4B08-A5DB-8F819665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60B8E-91B2-4518-A0CB-798569D4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83AC5-0CEF-498E-8611-8A645996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DDD2C-97B1-4FEB-A82B-ABEFA216E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06A5C7-989C-4EB1-9345-1D9B23AB48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EA8EB-B144-4C93-89AE-506D57B24F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F70925-0C6E-4B10-AEAA-FDD16426BA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9DF47-F01D-472B-9D14-E275D122F77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BF1193-94BB-47D6-9FA1-08D7DD2B12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99CBA-2D69-4365-8433-93652B1B6D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F1155-F54A-4514-BB81-2ED44E52027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8FBDF-9AD7-47F9-949B-3D0CDE23D0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99DEC-9D63-4DC6-904D-7BB21ACB31C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B49EB9-DEBC-4422-86FC-70D6E7749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C267BC-04A0-4668-9191-86578ECA46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03ADED-AF45-48AF-9BF4-0FACCE54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5BD2EB-5286-4837-9DA8-20D43C8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8CDA27-31F1-41A1-9B17-C431D37D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F177A2-28E7-46FA-9865-17830E1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CAF03-4477-4329-9CCD-2F247B62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8D3819-E135-41BF-A7E3-BE6C36A3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18B84-4D9B-4801-A2C6-94007F6B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5F08B-4D25-40F2-93C8-3317CA5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C38AC-5684-470D-94D7-1574520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65A4-AAB3-4560-9C85-D9031CAE98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B274B-9A4C-49C5-B7EC-FDEBE1C7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26ABA-F1CC-4C94-AC94-F021DEC1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047B6-4B09-4C7A-B886-63E30A05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76D84-07A3-48BB-968D-11523926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AB87D-2DB7-422A-81D4-A0BFFDB6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19E42-AF8C-4415-8013-DA4B061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E85D0-3856-45D3-86CE-C165F92C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2A775-EEC4-4AD4-8D5A-5F07902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7244D-4D78-423B-939A-448B470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D57AA-C426-4298-B560-4C7C8E6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92C9-9DB6-4C2F-B9AC-9582AC9EBC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1BC10-82D2-4BBE-9ABD-E4F5D50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DD2B4-A87D-4142-B7DE-C0F3E91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E6522-D622-43CF-A057-FA87B3E1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02330-83AC-4772-B87D-0164C2D5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7D56D-4524-4B5B-B1C5-29C1D06C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7CA54-EE08-4626-832C-3A30A6BC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55F90-DAB5-4248-A138-CFB65E97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DC9EB-75BE-49C5-8EA1-EF43F41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6DC5E-C894-4BCE-AB90-47D9BE1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68EF9-40AA-4A91-9B7E-DDE7AE7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3B19-DFBC-42B8-960A-5272CACADF2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27CCF-510A-4AE4-8C93-6AAC227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00730-23C7-4765-BD25-381F691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4957E-5EF2-4A10-9119-D7E72E9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05FA8-2787-496B-97FC-0CE7C8F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9C4C3-3835-496E-95B7-5CCE519A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94966-AD9D-4DA0-81B1-74A04B77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7D5E7-37FA-40D6-95D3-8003E3EC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85A3F-1AC6-4821-9344-398B5B69308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077E-4E3B-4C16-8274-53B8F00D7D3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B6B5-F2F1-4775-ADEF-597B1261B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B9C5-B5EB-4B85-8A5C-B665C5C8E18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2E2FA-C1AC-43D9-A675-9919CFFF9F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2324C-53C2-4C8D-8AAD-160A37969C2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E1A4F-AC38-495F-8F7D-91B7EEC7D0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DF1D-C361-4586-A2C0-762C5D4E668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4040D-8AE6-4F0B-AC49-009EE8AEA9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9964F-0401-4229-8C69-9D94BE5696E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4D675-D505-4737-BC6D-238D06BEB99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3D6E5-5394-4AEB-82AA-ED504121D01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A148F-B5CB-4448-B775-78C03787069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B34077-3513-402F-99C1-F0B34A30E9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B8A5-C9B9-4028-9152-9EB367611A5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F3306-B9A5-46C7-991E-F64E3349CEB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6B59A-951E-44AC-8B11-DA984841B53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A161B2-0A42-4BBC-B628-CA1DDB990B4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305F4-5761-4908-9C41-F1013B3808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CD10F-BFDF-4C06-8B86-0B1E7FEC851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8594AF-7EB2-455A-912D-5F526DF1D9D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8ADED5-85B7-496E-B675-A6DA0B1422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0525C-9A2A-496A-B1AF-F8198B3FCB1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B8068-4675-4686-BE63-EFAC89EE81D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6B1D22-A3B6-44FD-8E5A-EF764A4C1F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DCE0-E704-4764-BEA6-A73E134185D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041E7B-8286-497A-A0EF-AE1F227BEB4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C863C-4494-4AFD-9132-A556BE58F3F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40A00-ECA2-4065-BFD1-7CC0C9AC180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FB03F-45F9-4E03-A0CE-D55B257FEFE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B0E12-F1DD-4BE8-82AF-DA3CD98C04F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D9095-8424-4610-BA95-C2C1A1E9F20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8B8DD-C3A3-41AD-8FD3-1D8DB7928F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72187-DB25-4135-BBD4-C377D9FAA2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031F8-5D16-448E-BB51-2D29346C90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25D07-5591-404F-AB00-B932EB947B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996B-CAA8-4ABB-A323-FDDC6AF3C1B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E3CD5-99F9-4A06-A602-0F633A9C8E2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31CE4-FDF7-42BB-9F12-9B007CAA9A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51FD9-BCAB-476B-97A7-73FD81F8168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23292-358C-4039-9A21-8664C5A0DF3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B7D75-6FE6-4F82-8B1B-2962A85AEEA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377F4-5887-49A3-A39F-3E77F8D3696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38056-343B-4B23-B859-A1B2EC28B7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26004-915E-41CF-9A80-FECE3491E26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2CFA-4258-4A7C-8503-0A140C25060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15AC-974A-49D2-98D9-AE8054879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2A5C-7D3C-4215-B029-20F449C2C89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C07D1-18DF-4E2F-87E0-C55A654E257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A9CA6-490B-4D9E-A325-52D8990BD49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CCB7E-E35D-462E-AAA2-F0760E8CA5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9F413-ACA7-4E07-8D3B-645A929D6D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D6C48-2812-465B-927B-A498471736A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90238D-660E-4950-A1C7-A29BE870088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E8DF2-AC04-4D78-AD4E-78C350EDDF8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0E7ED4-3E1A-4330-9605-D33E1FF5993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22CFFA-619E-4BAA-8906-DC057F00D47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A80A5-432A-4AB2-8063-01110B838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C22B-A255-40B5-8A56-5B1A6282B8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0A5F0-280B-4AF5-9578-E8EF75F77B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6A0F9D-04CD-48B3-819F-3812EF16167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6586F-9BA5-468E-8441-795B38404CA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AB645-A276-4CBF-A89C-A24BD6F8F32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22E1C7-5B97-47A7-B530-2954E3447A0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7D9131-5C5B-49BE-AFA4-5D36628097E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451D3-C5E5-42BC-90D0-8E88C0AAE96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40A85D-7E5D-4D33-9F6A-209E1EBB24C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4CB588-3BDA-4C75-A528-C9320022610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CB020D-A651-45F1-A0FC-DBD19F599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D3DE-E625-40F1-B8FA-B72746BB0BD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1A0020-449F-47B1-8610-710867528A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BCBB8A-93C6-4767-ADC0-D5E28567602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6CB0EC-C0EF-43C4-931A-DA95D77641B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12B3F4-1649-4BE6-9C50-3D9FA5A7838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F6F83D-F128-4F24-89DB-BE59D1D727F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F9CAF7-15C3-4525-9C56-604BEC65A6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B55241-8C36-4420-BFA3-C572FB5AFD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1D4316-428F-4958-A8A4-256D25E0BC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53A6EE-41C0-408C-8DC6-6491A970CA4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4ACEB0-6A87-492C-9D2C-E83C878B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CA84-E1F7-45F5-909F-DDB0C62B0A8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18BD3F-3B21-4CFE-87E0-BDFE1D6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4E83E2-1F8A-4F38-B833-B20FE86D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C531E6-466E-4054-A431-29674CCB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9A5F2E-B43B-4EDC-8DA9-D10E8CB4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E08442-DB16-4E76-A8C9-B227DF2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78D6B2-B57B-43EA-911C-277A084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1D0DA2-A9BF-4348-AF89-9A6B7D8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575608-CB29-43A0-B1A0-B73C67C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600C1A-4592-483D-909D-687A5E87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72956F-FB63-4BA7-9A5C-4FDD95C0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12A5-B725-4380-B606-0F75C33BF7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6E4F47-AE43-4B0B-A064-3B9AA79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BCE622-CD80-4C43-8599-7BBEA41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4EC02E-165F-48F1-A42F-7CFA21E1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6D6B97-595A-403E-B19C-3E16532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C8E50B-9C01-4D15-BEA3-86CEAF53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1E7209-E895-4952-9DEC-5550453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8F2EDD-3A0D-45C1-812B-8C7D1E6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903801-3F79-486E-AB76-27A704D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677151-295F-497F-AF35-5974F32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B4AFD2-CD1D-43C0-A555-0C1456F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D4793B-3660-49BF-AE84-2AF704C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3A2E5C-3D0D-40FF-98D7-FDCDA827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8E5794-5762-4B19-BCDF-CFAA52FB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D5342C-56AF-4065-8BEF-53D4F123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5524B1-6A0A-447A-AC2E-64D8093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8E0F12-2CC7-4BAF-BAB4-3E78952D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9E6C58-D768-489D-AF18-4AFDCF6D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CE9D9B-DAEA-4137-8FA5-A4CC86F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A554C9-A1D1-4C07-AD61-71F4AC4D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ACF03C-CC01-4905-90F8-A29372E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D68FB6-49F4-429C-AF04-844ACF7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1C85F2-4340-4CC6-BB1A-30D0E66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00BC2A-DA93-4B82-B72F-C8AF5C3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942C54-103C-4B76-9B5F-D26ECBD6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9B8424-5D4A-403B-8B62-D46844BC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467F13-5E7D-4059-91F5-002555D2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59048C-ED56-48DD-9AC5-6F375A5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6A9E7B-6EF3-458C-B71E-806A8FD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B4E2F1-3BA0-46F2-9402-457868D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5B202B-D34A-46D7-B5E6-3DF696D8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C5C5C4-6556-460E-9865-B5BD9D1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193BFF-577C-4BEC-948F-90B89C4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CD5573-5CB2-4652-BCB3-C8DC0F8B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0BAC52-E41A-49CE-8C39-5D7C36B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84C339-9410-4049-9E03-23CDACAB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C35753-4C17-4326-B547-B43B9211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B3A9B3-588D-4638-9A8D-55070B30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1DC560-6DBB-4D32-AD4A-8C0B488E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8E43EF-DAE9-4D21-B904-E822715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3D2AF1-A929-4640-808F-65D8FBF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14F1B7-9C39-4149-B13B-8C1BA1A4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F4D5AC-E2FE-4B23-A040-FFDDBA4D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586BD0-B0E5-4EF1-B32B-B892BA54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73A967-89EB-4610-A2D9-CC8E459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C7D790-8DC2-4F24-8149-4E2AA43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8943A5-0B4F-4D34-BF6B-FB51470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2C2538-07D9-4C3E-B058-348496C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603BE2-DCA0-4733-AC90-A04091B7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1DDB26-8D52-4C05-A737-9C783378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814C0D-818F-47A5-8DCF-BFF176E1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79CA83-C542-406A-9ED8-5709B9F6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A98B3E-7095-441E-A532-6A4BA0C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074DF7-43AD-4CF0-BE3C-DA84FC6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A75933-4F9E-420A-9B54-1CB31A3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09230B-6DE3-4438-9E78-449D4D7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D11ECF-89A0-4A9E-849C-DB10C34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2C9102-A1F9-4DD0-B1B2-5310F6F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35921B-8537-4808-8AE0-D5CDCE8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74F7D4-C2B4-46A2-B73F-0ED9EE8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CB8A76-6A1C-440F-AC97-882E8537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DD978D-A27B-4212-855D-E13199CE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0E48AF-40DD-47FB-A134-BCDA96AF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4B303B-8392-44C8-8A10-AC80F2B2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7DB5757-C06A-4F2A-AD4D-C1A5C8F0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8C8422-6C2E-41D8-BC23-5854D00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5ED78E-8704-4B86-84A6-B709CD65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FF318B-7C40-47F6-A3D2-AC578DDA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64124C-F5EF-42DF-8EAD-D0F3E75E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D2D15E-5703-4F2E-B2A6-B672871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E0E862-079B-4020-8EE4-827C09F6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08CC43-5813-4AEC-806D-3FC1ED6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6A66DA-0CC7-4C52-8AB9-8EEDCC6D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1EDA19-8075-4472-9303-C221EF1E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98711F-CF84-4572-8163-6A60F7CF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BA0827-EFD1-492F-9F0F-F376FD9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5176CC-8AA4-43D7-BA59-1E21B30A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508F11-41FA-404B-B171-4936C10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15BFDD-03C3-45E6-BD6B-9741FDA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93DA2F8-17C0-469C-9845-FC1B58D6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0256584-EF2B-48CB-B33E-8A264A1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A56320-65C1-432D-915C-A41CE4F1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F70138-8506-434C-8A6F-D9DCCC6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F2E3E6-3566-4AC7-A701-CDA22583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C59CD6-7116-4C67-B192-4E707840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813C45-D974-4D62-B11E-5BBE970B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A4ACE6-1E07-4FAD-BC4B-853175A4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94B48BD-6120-4DC7-B619-7D677E1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36569A-1EFE-4227-A56F-5E8F011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62C59C-70CE-4F76-81D4-CD52FAE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BA111C-48D6-477F-BA6F-7B14161B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525E9B-10F5-49D2-AED6-D894B02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9D8572-7162-4A6F-809A-EEE5075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9D7FF9-EF5E-4E52-8437-9C7BDA2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129E9D-CD87-4AE6-969E-0ADF00A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CB981CD-57B7-4175-A344-04F8A8A0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E63293-6F96-496C-85F1-CD78A056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91A13F-19C1-495C-8D41-9F567F0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2EB360-2812-467D-8CB4-BEED1A4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F4DA69-1A00-467D-B8D6-5EFCA60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86458C-E59B-4F27-8021-8B6CF451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8D2F97-56E1-4825-BFB4-5012CE3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9EF4EB-A51A-40E5-8D7D-FB6CCCB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69BA76-9716-43A9-A037-BB47761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949664-12FD-40B1-A1DF-E3ED666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02B17C-C238-45B9-B04D-6EEFE3E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641DFF-E245-4E6B-AA5E-20EC0601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6EA02D-0EB4-47A9-8894-786109F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F6334D-B7F6-414F-9D9F-48250139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22709E-7563-4C29-8B01-630A6E4D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8E0F7B-883F-47CE-84C2-E9B81825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6FD0FA4-F63B-42B8-B7BA-B32B0492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06F541-B648-4710-A0A5-663FC985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704C740-AC07-44B1-A430-B669CBC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30296A-6E31-4805-9C30-9267601D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EA5FB0-92A7-494E-B590-54D6CD44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3E52BF-433D-4C57-9FEC-D5CE7BB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8E3F495-9C81-4CC6-B17F-9CE734E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B48504-947B-4DAA-88D7-AB68036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F2D0BF-6729-4005-863C-4E49961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142689-955D-4FD8-B9E2-2E37622A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F6D80B-2E28-42A4-B028-A236F581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AD2D49-C07A-4CA4-8091-C62F36F5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389303-5552-4D93-9EFB-622B2813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23E5EC-4102-41C6-B7DD-91304A6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9AD2EB-A974-434E-BDC2-4DECB3C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A402772-2AE2-40F4-959D-BA12B80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16F78B-07DF-4F16-8973-8D6979D4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CCF60D4-EF59-4786-BC18-2EAB50E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2C7DC3-9BF9-40FC-9166-279BA82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D402A0C-9B08-48FE-B564-F3959E6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FA2DB4-6CE7-454D-8A84-5714D7E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6B36E0-D46D-415E-A681-47C4956D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0A59D0-C6A2-47CD-B1D0-391A9543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EC84AEB-9C00-4F7C-8679-2DAFA7D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C165A6A-4AE8-49EE-830D-5EB1EA0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1F88E85-7387-4F69-B93B-1C9F6C9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BEAC37F-0D5A-4117-B628-4DD6FC9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6968584-71A0-4352-B5B3-63E77181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68B6E27-C742-4393-ACBD-00ECC60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972F28A-8894-4805-BA33-B9E3975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B0ED07-97B0-4AA2-972F-080B119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AB84AE-78BE-435B-9FFA-C1150AC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D9F2E1-14DC-442A-B0E5-97A6AFE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2A50A7-FD98-4C82-9038-3FBD373C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26A544E-80A0-48D0-91AC-0E2DC994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D718B3B-C762-4283-B96E-EE81C47D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74B293-A3FE-48E4-B418-CFA3AC5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9731BD2-1F5A-4678-A8DC-6E95169D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F3ED77-0F1D-4FB8-80EA-D4FAC32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0C5C67-D6B7-49F1-BDAF-37CD9AEA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8AB60D-C1D0-45B9-8875-17DA0D8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5933263-A724-4519-88D3-B71D5B0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6F67B9-A693-4931-8368-51B9A59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AAD5CE-C100-456D-BE54-B474B18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E9E776-0C80-4FE7-9562-7E30049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6F0EA01-05B5-47BF-9025-ECB4A22C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6F64DC0-F28E-4524-BAF1-274F20C1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604F83-9B1D-4A4D-AA53-400D93DF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42A6CF-A02F-46BC-A857-9BCDC31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BB37A68-310D-47FF-8854-220A533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633E465-A982-4CA4-93C4-113936A4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6F8EB62-01E6-4301-B8C6-12ABB556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CE2A6B4-423A-4C1D-9FB1-EFD8019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C0BFCD2-190C-4FA9-94C3-6D506B7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242E761-94B9-4F19-8CAF-BD00A24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1DF37D5-676F-464B-A4A5-888F646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1D36963-E53B-4544-B6C9-B8521E28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9B5491-2F45-4579-8190-54BEE9ED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E823D17-EBFD-4E65-965F-5E93E0AE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7FD07-70A1-4351-90C1-F343A99F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8F6E1-3E10-453E-B6CD-7D600FD5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35E9-CAA7-49AA-9AB4-455D2B67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84C68-131A-46CB-AC42-FF26230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8412-2D72-475D-A06A-8BB442AB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44AD-83CB-45A7-8700-36CA6DFE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7AD6F-3092-42A7-A319-F0CE7BFB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26B62-BC6A-499F-8E72-6AC2F8D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9014-5D8B-4C01-97AE-F1D042B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4A401-8E21-4A15-A538-B7F0B0A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21D8B-BAC9-4573-9918-EA7F8F6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89DD5-7282-4554-8DC5-C60DA27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6E4EC-7AE2-48FE-94A5-BC021D45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BD657-15E0-435F-8607-FB5A485F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56FA6-35A0-4AD5-A3D2-EC40D6C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2FA5F-5A6A-4556-A152-1EBF8AD3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F356D-9DFD-4F82-B503-5BE13F1A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6BA7A-EE47-4038-A0C1-B1846C1B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55569-1457-43DF-9F6C-14920BC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0375D-EC71-48EB-A1C3-CB3E209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030B2-51E2-43FA-B07D-A100E6F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7D61C-5D61-4286-A9FB-9E0BD5C8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547DD-CEFB-46A7-B14B-0EFF91C7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AD94D-907C-4780-B277-D7D1B6F8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255FA-5B2A-45EE-9FD0-8C72CBFA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51A4C-7A5C-41C0-A204-DD29B788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285B2-CC56-4E6F-A9A7-3C45D36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B0180-1F7D-46FD-A65A-22DB6842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3E7FB-AA43-4B1E-93B0-A70339D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76A58-CA1C-46C0-8718-FE411CB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3BCDB-E172-4753-B0A1-E352307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3DC24-0070-4B2E-9788-E53FC0F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7B28B-EA15-4FDE-B50B-E778E63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2964F-3A90-4B8E-A556-D2F86F1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1141D-951B-4130-899F-FCFDD46C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1AB1E-3EF7-40B2-950E-59534B7C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83A12-211C-44A7-BCA5-C146BF0F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A2B2D-0FE1-4320-AC6D-E84F6B3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7F0A7-FAEA-42D0-8226-79F8459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5F040-781C-413E-84CD-02D65DE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E0C6F-DFDE-4C42-A26E-910DE3B3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646BD-C413-45AF-9320-26007758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97544-27A0-49D2-891D-E87BFB7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83040-82C5-4506-BDD2-E52B40E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E62F5-DAFC-4EB4-BD25-3378E24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DDAA0-E728-40D4-A30D-FB3F5F7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4379A-415B-4732-A348-12F3CF06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63946-FF06-459E-BA15-8002D978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4BEAD-4986-4443-A954-1AA977D6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A2353-3172-4EA3-A5AD-8D60DE0B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2A7EC-CF31-44B9-A416-CE56B0E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A4365-06FA-4166-94E3-145253AD77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EDDD1-946B-4004-BA25-577CE35149A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1557A-10CF-4424-A694-892990015B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7EFCF-46A7-499B-BA9E-40BE74EB30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2D038-955E-415C-852A-0FCFD21998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1A912-9836-491A-BBD2-438AB81E2DE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761E1-52CE-41D4-A017-0E5FB17D82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6C56F-B0A9-485B-A03F-570C2F37EB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2FC0F-6A6F-416D-8862-67FAAAC657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51833-9887-4701-850E-6A42E68662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C1FB8-92DD-43F8-B01C-6A0A7CC9C9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D3CDC-64D9-4754-AA9D-AADD531EBC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A69BD-25D0-43D5-88A0-53B27927CC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13AA6-7951-4389-9802-2721A98BD3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64534-F303-4A4A-8750-35F3B7D0909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BFBA-26B0-4B0B-B8DB-2D5AFA84BA8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21278-1303-4B3D-86F6-ED422224402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2D41C-DCFF-4875-85CC-7E6C08F2DA9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4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F5AB6-92F5-4664-B152-FBF5F9575EB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BE8CC-185B-4070-8084-4A46F0C274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9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3372A-5B21-46CE-B5C1-2C27F549CDF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55B1E-01D2-489D-AB18-AF4BAFDA768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B2C4C-0748-43FC-BC8C-B73BD7B0A8F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68C1F-8E05-43BE-8A16-508DFC2A639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0E6E8-49FE-46CA-8C43-1ECD78BE0E7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A4679-B758-4DA5-8AD6-315CB1EAE4E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F4E77-9B4D-4DFD-8050-F65FC35E6D1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4A0A1-1DC7-4F55-B831-2EA01B5A5D0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1C6C6-C345-46EE-8B7B-B3A1BAE9A2B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BC058-DEB0-415D-B8F9-F8171F5D6A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3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96BEA-B9D4-49D9-9383-40AFA35BAA8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EC34B-1171-406C-A3F4-3A2C541F11A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8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C9A9C-CCA7-4B7B-B500-CFE07EF6888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B66E8-A4BD-43B1-97E1-4C8BBC1DEFA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33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97267-DAA7-434F-86C1-37D0F7F5D3D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4FCA4-F2C4-4BC9-9BEA-FC05D02B833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8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D5FF5-C68F-4DD9-9429-E9E92E2B0EC6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1633F-D5A6-4631-B820-07FFA7B4D312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8B8BF-C9B7-4BE9-9BA8-7AE120419248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30E61-D4D2-45D0-918A-CF55697CBD62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252DE-EF97-41C6-B50A-A17FDECD45E3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FCCE8-48AD-49EA-9FFA-79A2E63D53D3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52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4F3A-703B-4CAE-AF13-7CC95C859FA5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F717C-95EC-49EA-9F83-085A19EFFC6D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5DB20-EB70-4DC7-9E08-3A722645DB8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9ABF6-A11D-48C1-8178-7185435BCAF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7F7C8-BB1C-4E90-9088-0341A6565F1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57E1B-0229-4599-B1D5-9BCCD656BDE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55F1C-CDDF-4BDC-9D71-56B13433BD9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426DB-E709-4B21-B167-741786CBA5B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1B88F-BDE1-444E-9581-5CC10625BAE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04058-6DCC-4A95-97C9-EE9FE7D1630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D77A6-CB05-4620-8484-8E9571381E4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D4AD8-A3EA-4126-A1F1-1608D9ADAE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10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wmf"/><Relationship Id="rId15" Type="http://schemas.openxmlformats.org/officeDocument/2006/relationships/image" Target="../media/image59.jpeg"/><Relationship Id="rId16" Type="http://schemas.openxmlformats.org/officeDocument/2006/relationships/slideLayout" Target="../slideLayouts/slideLayout109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7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59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59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7.png"/><Relationship Id="rId3" Type="http://schemas.openxmlformats.org/officeDocument/2006/relationships/image" Target="../media/image1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2.png"/><Relationship Id="rId3" Type="http://schemas.openxmlformats.org/officeDocument/2006/relationships/slide" Target="slide11.xml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5.png"/><Relationship Id="rId3" Type="http://schemas.openxmlformats.org/officeDocument/2006/relationships/slide" Target="slide11.xml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97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3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3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4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4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5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5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slideLayout" Target="../slideLayouts/slideLayout109.xml"/><Relationship Id="rId3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istemas de Información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ara la Ejecución y Gestión de Programas Socia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0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86" name="48 Conector recto de flecha"/>
          <p:cNvCxnSpPr/>
          <p:nvPr/>
        </p:nvCxnSpPr>
        <p:spPr>
          <a:xfrm>
            <a:off x="2987640" y="358596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787" name="7 Grupo"/>
          <p:cNvGrpSpPr/>
          <p:nvPr/>
        </p:nvGrpSpPr>
        <p:grpSpPr>
          <a:xfrm>
            <a:off x="285840" y="404640"/>
            <a:ext cx="2630520" cy="2016360"/>
            <a:chOff x="285840" y="404640"/>
            <a:chExt cx="2630520" cy="2016360"/>
          </a:xfrm>
        </p:grpSpPr>
        <p:sp>
          <p:nvSpPr>
            <p:cNvPr id="1788" name="8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9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OTROS SERVICIOS PÚBLIC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Rendiciones Financie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10 Grupo"/>
          <p:cNvGrpSpPr/>
          <p:nvPr/>
        </p:nvGrpSpPr>
        <p:grpSpPr>
          <a:xfrm>
            <a:off x="6156360" y="404640"/>
            <a:ext cx="2630520" cy="2016360"/>
            <a:chOff x="6156360" y="404640"/>
            <a:chExt cx="2630520" cy="2016360"/>
          </a:xfrm>
        </p:grpSpPr>
        <p:sp>
          <p:nvSpPr>
            <p:cNvPr id="1791" name="11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12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MINISTER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Nuevos Program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Presupuestos por comu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3" name="13 Grupo"/>
          <p:cNvGrpSpPr/>
          <p:nvPr/>
        </p:nvGrpSpPr>
        <p:grpSpPr>
          <a:xfrm>
            <a:off x="6156360" y="2708280"/>
            <a:ext cx="2630520" cy="2016000"/>
            <a:chOff x="6156360" y="2708280"/>
            <a:chExt cx="2630520" cy="2016000"/>
          </a:xfrm>
        </p:grpSpPr>
        <p:sp>
          <p:nvSpPr>
            <p:cNvPr id="1794" name="14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15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SEREMI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Solicita creación de clav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invitaciones al ejecuto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y firma conveni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resoluciones convenio, prórroga y cier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Modifica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utoriza y transfier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Informe Técnic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Rendiciones Financie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integ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6" name="16 Grupo"/>
          <p:cNvGrpSpPr/>
          <p:nvPr/>
        </p:nvGrpSpPr>
        <p:grpSpPr>
          <a:xfrm>
            <a:off x="285840" y="2708280"/>
            <a:ext cx="2630520" cy="2016000"/>
            <a:chOff x="285840" y="2708280"/>
            <a:chExt cx="2630520" cy="2016000"/>
          </a:xfrm>
        </p:grpSpPr>
        <p:sp>
          <p:nvSpPr>
            <p:cNvPr id="1797" name="17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18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DIRECCIONES REGION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prueb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9" name="19 Grupo"/>
          <p:cNvGrpSpPr/>
          <p:nvPr/>
        </p:nvGrpSpPr>
        <p:grpSpPr>
          <a:xfrm>
            <a:off x="3357720" y="4724280"/>
            <a:ext cx="2630160" cy="2017800"/>
            <a:chOff x="3357720" y="4724280"/>
            <a:chExt cx="2630160" cy="2017800"/>
          </a:xfrm>
        </p:grpSpPr>
        <p:sp>
          <p:nvSpPr>
            <p:cNvPr id="1800" name="20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21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EJECU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cepta invit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número y fecha oficio conven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Modificación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Confirma recepción d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Modificación Plan de Interven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ndiciones Financieras Mensu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forme Técnicos y Financieros Fi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2" name="24 Elipse"/>
          <p:cNvSpPr/>
          <p:nvPr/>
        </p:nvSpPr>
        <p:spPr>
          <a:xfrm>
            <a:off x="2987640" y="1773360"/>
            <a:ext cx="3097080" cy="21603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alibri"/>
              </a:rPr>
              <a:t>SIG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Manten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onvocator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Informes Digit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nvía invitaciones a SER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Transfiere Recur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Aprueba rendiciones financie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3" name="41 Conector recto de flecha"/>
          <p:cNvCxnSpPr/>
          <p:nvPr/>
        </p:nvCxnSpPr>
        <p:spPr>
          <a:xfrm>
            <a:off x="2916360" y="98064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4" name="43 Conector recto de flecha"/>
          <p:cNvCxnSpPr>
            <a:stCxn id="1789" idx="2"/>
            <a:endCxn id="1798" idx="0"/>
          </p:cNvCxnSpPr>
          <p:nvPr/>
        </p:nvCxnSpPr>
        <p:spPr>
          <a:xfrm>
            <a:off x="159984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5" name="45 Conector recto de flecha"/>
          <p:cNvCxnSpPr>
            <a:stCxn id="1792" idx="2"/>
            <a:endCxn id="1795" idx="0"/>
          </p:cNvCxnSpPr>
          <p:nvPr/>
        </p:nvCxnSpPr>
        <p:spPr>
          <a:xfrm>
            <a:off x="747036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6" name="26 Flecha derecha"/>
          <p:cNvSpPr/>
          <p:nvPr/>
        </p:nvSpPr>
        <p:spPr>
          <a:xfrm rot="2037600">
            <a:off x="29142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28 Flecha derecha"/>
          <p:cNvSpPr/>
          <p:nvPr/>
        </p:nvSpPr>
        <p:spPr>
          <a:xfrm rot="8389200">
            <a:off x="52650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30 Flecha derecha"/>
          <p:cNvSpPr/>
          <p:nvPr/>
        </p:nvSpPr>
        <p:spPr>
          <a:xfrm rot="19997400">
            <a:off x="2933280" y="3741840"/>
            <a:ext cx="789120" cy="4125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32 Flecha derecha"/>
          <p:cNvSpPr/>
          <p:nvPr/>
        </p:nvSpPr>
        <p:spPr>
          <a:xfrm rot="13164000">
            <a:off x="5397480" y="3789000"/>
            <a:ext cx="789120" cy="414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34 Flecha derecha"/>
          <p:cNvSpPr/>
          <p:nvPr/>
        </p:nvSpPr>
        <p:spPr>
          <a:xfrm rot="16200000">
            <a:off x="4251960" y="4102560"/>
            <a:ext cx="647640" cy="4140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1" name="37 Conector angular"/>
          <p:cNvCxnSpPr>
            <a:stCxn id="1798" idx="2"/>
            <a:endCxn id="1801" idx="1"/>
          </p:cNvCxnSpPr>
          <p:nvPr/>
        </p:nvCxnSpPr>
        <p:spPr>
          <a:xfrm flipH="1" rot="16200000">
            <a:off x="1974960" y="4348800"/>
            <a:ext cx="1008720" cy="175824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2" name="42 Conector angular"/>
          <p:cNvCxnSpPr>
            <a:stCxn id="1795" idx="2"/>
            <a:endCxn id="1801" idx="3"/>
          </p:cNvCxnSpPr>
          <p:nvPr/>
        </p:nvCxnSpPr>
        <p:spPr>
          <a:xfrm rot="5400000">
            <a:off x="6223680" y="4487400"/>
            <a:ext cx="1010520" cy="148356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ubsistema Seguridades y Oportunid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4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itle 7"/>
          <p:cNvSpPr/>
          <p:nvPr/>
        </p:nvSpPr>
        <p:spPr>
          <a:xfrm>
            <a:off x="250920" y="936720"/>
            <a:ext cx="82296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6cb7"/>
                </a:solidFill>
                <a:latin typeface="Calibri"/>
                <a:ea typeface="Verdana"/>
              </a:rPr>
              <a:t>El Subsistema de Promoción y Protección Social, denominado Seguridades y Oportunidades del Ingreso Ético Familiar, es un apoyo integral y continuo a las familias y personas, que a partir de su incorporación al Subsistema, los usuarios atraviesan diversas etapas e interactúan con distintos componen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6" name="52 Conector recto de flecha"/>
          <p:cNvCxnSpPr/>
          <p:nvPr/>
        </p:nvCxnSpPr>
        <p:spPr>
          <a:xfrm>
            <a:off x="0" y="4292280"/>
            <a:ext cx="914472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1817" name="53 Rectángulo redondeado" descr=""/>
          <p:cNvPicPr/>
          <p:nvPr/>
        </p:nvPicPr>
        <p:blipFill>
          <a:blip r:embed="rId1"/>
          <a:stretch/>
        </p:blipFill>
        <p:spPr>
          <a:xfrm>
            <a:off x="11592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8" name="54 Rectángulo redondeado" descr=""/>
          <p:cNvPicPr/>
          <p:nvPr/>
        </p:nvPicPr>
        <p:blipFill>
          <a:blip r:embed="rId2"/>
          <a:stretch/>
        </p:blipFill>
        <p:spPr>
          <a:xfrm>
            <a:off x="818676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9" name="55 Rectángulo redondeado" descr=""/>
          <p:cNvPicPr/>
          <p:nvPr/>
        </p:nvPicPr>
        <p:blipFill>
          <a:blip r:embed="rId3"/>
          <a:stretch/>
        </p:blipFill>
        <p:spPr>
          <a:xfrm>
            <a:off x="1047600" y="4363920"/>
            <a:ext cx="1049400" cy="1171800"/>
          </a:xfrm>
          <a:prstGeom prst="rect">
            <a:avLst/>
          </a:prstGeom>
          <a:ln w="0">
            <a:noFill/>
          </a:ln>
        </p:spPr>
      </p:pic>
      <p:pic>
        <p:nvPicPr>
          <p:cNvPr id="1820" name="56 Rectángulo redondeado" descr=""/>
          <p:cNvPicPr/>
          <p:nvPr/>
        </p:nvPicPr>
        <p:blipFill>
          <a:blip r:embed="rId4"/>
          <a:stretch/>
        </p:blipFill>
        <p:spPr>
          <a:xfrm>
            <a:off x="2157480" y="4363920"/>
            <a:ext cx="1128600" cy="1171800"/>
          </a:xfrm>
          <a:prstGeom prst="rect">
            <a:avLst/>
          </a:prstGeom>
          <a:ln w="0">
            <a:noFill/>
          </a:ln>
        </p:spPr>
      </p:pic>
      <p:pic>
        <p:nvPicPr>
          <p:cNvPr id="1821" name="57 Rectángulo redondeado" descr=""/>
          <p:cNvPicPr/>
          <p:nvPr/>
        </p:nvPicPr>
        <p:blipFill>
          <a:blip r:embed="rId5"/>
          <a:stretch/>
        </p:blipFill>
        <p:spPr>
          <a:xfrm>
            <a:off x="7077240" y="4359240"/>
            <a:ext cx="1049040" cy="1176480"/>
          </a:xfrm>
          <a:prstGeom prst="rect">
            <a:avLst/>
          </a:prstGeom>
          <a:ln w="0">
            <a:noFill/>
          </a:ln>
        </p:spPr>
      </p:pic>
      <p:pic>
        <p:nvPicPr>
          <p:cNvPr id="1822" name="58 Rectángulo redondeado" descr=""/>
          <p:cNvPicPr/>
          <p:nvPr/>
        </p:nvPicPr>
        <p:blipFill>
          <a:blip r:embed="rId6"/>
          <a:stretch/>
        </p:blipFill>
        <p:spPr>
          <a:xfrm>
            <a:off x="2414520" y="5718240"/>
            <a:ext cx="4687920" cy="1042920"/>
          </a:xfrm>
          <a:prstGeom prst="rect">
            <a:avLst/>
          </a:prstGeom>
          <a:ln w="0">
            <a:noFill/>
          </a:ln>
        </p:spPr>
      </p:pic>
      <p:pic>
        <p:nvPicPr>
          <p:cNvPr id="1823" name="59 Rectángulo redondeado" descr=""/>
          <p:cNvPicPr/>
          <p:nvPr/>
        </p:nvPicPr>
        <p:blipFill>
          <a:blip r:embed="rId7"/>
          <a:stretch/>
        </p:blipFill>
        <p:spPr>
          <a:xfrm>
            <a:off x="2292480" y="2114640"/>
            <a:ext cx="4698720" cy="866520"/>
          </a:xfrm>
          <a:prstGeom prst="rect">
            <a:avLst/>
          </a:prstGeom>
          <a:ln w="0">
            <a:noFill/>
          </a:ln>
        </p:spPr>
      </p:pic>
      <p:pic>
        <p:nvPicPr>
          <p:cNvPr id="1824" name="60 Imagen" descr=""/>
          <p:cNvPicPr/>
          <p:nvPr/>
        </p:nvPicPr>
        <p:blipFill>
          <a:blip r:embed="rId8"/>
          <a:stretch/>
        </p:blipFill>
        <p:spPr>
          <a:xfrm>
            <a:off x="127080" y="5011560"/>
            <a:ext cx="795240" cy="578160"/>
          </a:xfrm>
          <a:prstGeom prst="rect">
            <a:avLst/>
          </a:prstGeom>
          <a:ln w="0">
            <a:noFill/>
          </a:ln>
        </p:spPr>
      </p:pic>
      <p:pic>
        <p:nvPicPr>
          <p:cNvPr id="1825" name="61 Grupo" descr=""/>
          <p:cNvPicPr/>
          <p:nvPr/>
        </p:nvPicPr>
        <p:blipFill>
          <a:blip r:embed="rId9"/>
          <a:stretch/>
        </p:blipFill>
        <p:spPr>
          <a:xfrm>
            <a:off x="290196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6" name="4 Grupo" descr=""/>
          <p:cNvPicPr/>
          <p:nvPr/>
        </p:nvPicPr>
        <p:blipFill>
          <a:blip r:embed="rId10"/>
          <a:stretch/>
        </p:blipFill>
        <p:spPr>
          <a:xfrm>
            <a:off x="3730680" y="2530440"/>
            <a:ext cx="1749240" cy="1487520"/>
          </a:xfrm>
          <a:prstGeom prst="rect">
            <a:avLst/>
          </a:prstGeom>
          <a:ln w="0">
            <a:noFill/>
          </a:ln>
        </p:spPr>
      </p:pic>
      <p:pic>
        <p:nvPicPr>
          <p:cNvPr id="1827" name="7 Grupo" descr=""/>
          <p:cNvPicPr/>
          <p:nvPr/>
        </p:nvPicPr>
        <p:blipFill>
          <a:blip r:embed="rId11"/>
          <a:stretch/>
        </p:blipFill>
        <p:spPr>
          <a:xfrm>
            <a:off x="457848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8" name="10 Grupo" descr=""/>
          <p:cNvPicPr/>
          <p:nvPr/>
        </p:nvPicPr>
        <p:blipFill>
          <a:blip r:embed="rId12"/>
          <a:stretch/>
        </p:blipFill>
        <p:spPr>
          <a:xfrm>
            <a:off x="3754440" y="3681360"/>
            <a:ext cx="1751040" cy="1487520"/>
          </a:xfrm>
          <a:prstGeom prst="rect">
            <a:avLst/>
          </a:prstGeom>
          <a:ln w="0">
            <a:noFill/>
          </a:ln>
        </p:spPr>
      </p:pic>
      <p:pic>
        <p:nvPicPr>
          <p:cNvPr id="1829" name="73 Imagen" descr=""/>
          <p:cNvPicPr/>
          <p:nvPr/>
        </p:nvPicPr>
        <p:blipFill>
          <a:blip r:embed="rId13"/>
          <a:stretch/>
        </p:blipFill>
        <p:spPr>
          <a:xfrm>
            <a:off x="212760" y="350028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5" descr="C:\Documents and Settings\mmora\Configuración local\Archivos temporales de Internet\Content.IE5\AZTUX32X\MC900290901[1].wmf"/>
          <p:cNvPicPr/>
          <p:nvPr/>
        </p:nvPicPr>
        <p:blipFill>
          <a:blip r:embed="rId14"/>
          <a:stretch/>
        </p:blipFill>
        <p:spPr>
          <a:xfrm>
            <a:off x="7880400" y="2928960"/>
            <a:ext cx="1263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831" name="8 Grupo"/>
          <p:cNvGrpSpPr/>
          <p:nvPr/>
        </p:nvGrpSpPr>
        <p:grpSpPr>
          <a:xfrm>
            <a:off x="-27000" y="196920"/>
            <a:ext cx="4479840" cy="711000"/>
            <a:chOff x="-27000" y="196920"/>
            <a:chExt cx="4479840" cy="711000"/>
          </a:xfrm>
        </p:grpSpPr>
        <p:sp>
          <p:nvSpPr>
            <p:cNvPr id="1832" name="26 Pentágono"/>
            <p:cNvSpPr/>
            <p:nvPr/>
          </p:nvSpPr>
          <p:spPr>
            <a:xfrm>
              <a:off x="-2700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Pentágono 4"/>
            <p:cNvSpPr/>
            <p:nvPr/>
          </p:nvSpPr>
          <p:spPr>
            <a:xfrm>
              <a:off x="8568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Participación de la fami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4" name="31 Imagen" descr="descarga.jpg"/>
          <p:cNvPicPr/>
          <p:nvPr/>
        </p:nvPicPr>
        <p:blipFill>
          <a:blip r:embed="rId15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14524E-006 L 0.10486 3.14524E-006 E">
                                      <p:cBhvr>
                                        <p:cTn id="59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4746E-006 L 0.09844 -2.74746E-006 E">
                                      <p:cBhvr>
                                        <p:cTn id="62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6 -9.62072E-007 L 0.19948 -9.62072E-007 E">
                                      <p:cBhvr>
                                        <p:cTn id="71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2.74746E-006 L 0.19097 -2.74746E-006 E">
                                      <p:cBhvr>
                                        <p:cTn id="74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-9.62072E-007 L 0.19948 0.19958 E">
                                      <p:cBhvr>
                                        <p:cTn id="83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098 -2.74746E-006 L 0.4823 -2.74746E-006 E">
                                      <p:cBhvr>
                                        <p:cTn id="86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19958 L 0.80573 0.19958 E">
                                      <p:cBhvr>
                                        <p:cTn id="95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573 0.19958 L 0.80573 -9.62072E-007 E">
                                      <p:cBhvr>
                                        <p:cTn id="128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29 -2.74746E-006 L 0.79722 -2.74746E-006 E">
                                      <p:cBhvr>
                                        <p:cTn id="131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723 -2.74746E-006 L 0.88594 -2.74746E-006 E">
                                      <p:cBhvr>
                                        <p:cTn id="140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8 CuadroTexto"/>
          <p:cNvSpPr/>
          <p:nvPr/>
        </p:nvSpPr>
        <p:spPr>
          <a:xfrm>
            <a:off x="285840" y="98748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376092"/>
                </a:solidFill>
                <a:latin typeface="Arial"/>
              </a:rPr>
              <a:t>Etapas conside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42 CuadroTexto"/>
          <p:cNvSpPr/>
          <p:nvPr/>
        </p:nvSpPr>
        <p:spPr>
          <a:xfrm>
            <a:off x="-46080" y="26575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21 Diagrama" descr=""/>
          <p:cNvPicPr/>
          <p:nvPr/>
        </p:nvPicPr>
        <p:blipFill>
          <a:blip r:embed="rId1"/>
          <a:stretch/>
        </p:blipFill>
        <p:spPr>
          <a:xfrm>
            <a:off x="347760" y="1847880"/>
            <a:ext cx="8594640" cy="4218120"/>
          </a:xfrm>
          <a:prstGeom prst="rect">
            <a:avLst/>
          </a:prstGeom>
          <a:ln w="0">
            <a:noFill/>
          </a:ln>
        </p:spPr>
      </p:pic>
      <p:pic>
        <p:nvPicPr>
          <p:cNvPr id="1838" name="24 Imagen" descr=""/>
          <p:cNvPicPr/>
          <p:nvPr/>
        </p:nvPicPr>
        <p:blipFill>
          <a:blip r:embed="rId2"/>
          <a:stretch/>
        </p:blipFill>
        <p:spPr>
          <a:xfrm>
            <a:off x="595440" y="2133720"/>
            <a:ext cx="765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39" name="20 Grupo"/>
          <p:cNvGrpSpPr/>
          <p:nvPr/>
        </p:nvGrpSpPr>
        <p:grpSpPr>
          <a:xfrm>
            <a:off x="5141880" y="2274840"/>
            <a:ext cx="774720" cy="382680"/>
            <a:chOff x="5141880" y="2274840"/>
            <a:chExt cx="774720" cy="382680"/>
          </a:xfrm>
        </p:grpSpPr>
        <p:pic>
          <p:nvPicPr>
            <p:cNvPr id="1840" name="8 Imagen" descr=""/>
            <p:cNvPicPr/>
            <p:nvPr/>
          </p:nvPicPr>
          <p:blipFill>
            <a:blip r:embed="rId3"/>
            <a:stretch/>
          </p:blipFill>
          <p:spPr>
            <a:xfrm>
              <a:off x="5141880" y="227484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9 Imagen" descr=""/>
            <p:cNvPicPr/>
            <p:nvPr/>
          </p:nvPicPr>
          <p:blipFill>
            <a:blip r:embed="rId4"/>
            <a:stretch/>
          </p:blipFill>
          <p:spPr>
            <a:xfrm>
              <a:off x="5543640" y="228564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2" name="8 Grupo"/>
          <p:cNvGrpSpPr/>
          <p:nvPr/>
        </p:nvGrpSpPr>
        <p:grpSpPr>
          <a:xfrm>
            <a:off x="-17640" y="196920"/>
            <a:ext cx="5293080" cy="711000"/>
            <a:chOff x="-17640" y="196920"/>
            <a:chExt cx="5293080" cy="711000"/>
          </a:xfrm>
        </p:grpSpPr>
        <p:sp>
          <p:nvSpPr>
            <p:cNvPr id="1843" name="15 Pentágono"/>
            <p:cNvSpPr/>
            <p:nvPr/>
          </p:nvSpPr>
          <p:spPr>
            <a:xfrm>
              <a:off x="-17640" y="196920"/>
              <a:ext cx="5293080" cy="639720"/>
            </a:xfrm>
            <a:custGeom>
              <a:avLst/>
              <a:gdLst>
                <a:gd name="textAreaLeft" fmla="*/ 0 w 5293080"/>
                <a:gd name="textAreaRight" fmla="*/ 5293440 w 52930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7" y="0"/>
                  </a:lnTo>
                  <a:lnTo>
                    <a:pt x="21600" y="10800"/>
                  </a:lnTo>
                  <a:lnTo>
                    <a:pt x="205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Pentágono 4"/>
            <p:cNvSpPr/>
            <p:nvPr/>
          </p:nvSpPr>
          <p:spPr>
            <a:xfrm>
              <a:off x="95040" y="268200"/>
              <a:ext cx="492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b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Sistemas de Información en operación: EJE Diagnóstico Familias Extrema Pobrez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19 Grupo"/>
          <p:cNvGrpSpPr/>
          <p:nvPr/>
        </p:nvGrpSpPr>
        <p:grpSpPr>
          <a:xfrm>
            <a:off x="2411280" y="1800360"/>
            <a:ext cx="1656000" cy="1123920"/>
            <a:chOff x="2411280" y="1800360"/>
            <a:chExt cx="1656000" cy="1123920"/>
          </a:xfrm>
        </p:grpSpPr>
        <p:pic>
          <p:nvPicPr>
            <p:cNvPr id="1846" name="25 Imagen" descr=""/>
            <p:cNvPicPr/>
            <p:nvPr/>
          </p:nvPicPr>
          <p:blipFill>
            <a:blip r:embed="rId5"/>
            <a:stretch/>
          </p:blipFill>
          <p:spPr>
            <a:xfrm>
              <a:off x="3075120" y="2132640"/>
              <a:ext cx="99216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Picture 5" descr="C:\Users\gvillanueva\Desktop\Diseño 2013\IEF\PNG\lupa.png"/>
            <p:cNvPicPr/>
            <p:nvPr/>
          </p:nvPicPr>
          <p:blipFill>
            <a:blip r:embed="rId6"/>
            <a:stretch/>
          </p:blipFill>
          <p:spPr>
            <a:xfrm rot="2925600">
              <a:off x="2961720" y="1972800"/>
              <a:ext cx="2268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17 Imagen" descr="IEF_ilustraciones19.png"/>
            <p:cNvPicPr/>
            <p:nvPr/>
          </p:nvPicPr>
          <p:blipFill>
            <a:blip r:embed="rId7"/>
            <a:srcRect l="29576" t="0" r="30991" b="0"/>
            <a:stretch/>
          </p:blipFill>
          <p:spPr>
            <a:xfrm>
              <a:off x="2411280" y="1800360"/>
              <a:ext cx="443520" cy="11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9" name="17 Imagen" descr="descarga.jpg"/>
          <p:cNvPicPr/>
          <p:nvPr/>
        </p:nvPicPr>
        <p:blipFill>
          <a:blip r:embed="rId8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8" descr="http://www.clearwaterwindowsystems.com/Assets/useruploads/galleries/glass%20type/Check%20Box%20Blue.jpg"/>
          <p:cNvPicPr/>
          <p:nvPr/>
        </p:nvPicPr>
        <p:blipFill>
          <a:blip r:embed="rId9"/>
          <a:stretch/>
        </p:blipFill>
        <p:spPr>
          <a:xfrm>
            <a:off x="7429680" y="1989000"/>
            <a:ext cx="94752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282600" y="1428840"/>
            <a:ext cx="8034480" cy="51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2" name="1 Título"/>
          <p:cNvSpPr/>
          <p:nvPr/>
        </p:nvSpPr>
        <p:spPr>
          <a:xfrm>
            <a:off x="21420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Desde este Menú el Gestor EJE realiza el registro de los Instrumentos en cada etapa definida en el Diagnóstico.</a:t>
            </a: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3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1 Título"/>
          <p:cNvSpPr/>
          <p:nvPr/>
        </p:nvSpPr>
        <p:spPr>
          <a:xfrm>
            <a:off x="214200" y="85716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el Gestor EJE debe adjuntar la carta con la cual las familias se comprometen a participar del programa ingresando la fecha y hora de las visit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6" name="Picture 2" descr=""/>
          <p:cNvPicPr/>
          <p:nvPr/>
        </p:nvPicPr>
        <p:blipFill>
          <a:blip r:embed="rId1"/>
          <a:stretch/>
        </p:blipFill>
        <p:spPr>
          <a:xfrm>
            <a:off x="282600" y="1571760"/>
            <a:ext cx="8296200" cy="49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7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8" name="7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Contacto 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714240" y="1461960"/>
            <a:ext cx="68580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0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se realiza un levantamiento de información donde se identifican los recursos y capacidades de las famili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2" name="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n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Picture 3" descr=""/>
          <p:cNvPicPr/>
          <p:nvPr/>
        </p:nvPicPr>
        <p:blipFill>
          <a:blip r:embed="rId1"/>
          <a:stretch/>
        </p:blipFill>
        <p:spPr>
          <a:xfrm>
            <a:off x="395280" y="1571760"/>
            <a:ext cx="7962840" cy="48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4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Las Familias en conjunto con el Gestor EJE, determinan quien será el receptor de las transferencias monetarias de acuerdo a lo establecido en el reglamento del program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5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6" name="5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Transferencias Monetarias y Bono de 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531200" cy="49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8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La determinación se realiza por una conexión directa desde el Sistema de Diagnóstico, a la plataforma de </a:t>
            </a:r>
            <a:r>
              <a:rPr b="1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Chile cuenta.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9" name="5 Imagen" descr="Chile-CUENTA-Ministerio-de-Desarrollo-Social-Gobierno-de-Chile.png"/>
          <p:cNvPicPr/>
          <p:nvPr/>
        </p:nvPicPr>
        <p:blipFill>
          <a:blip r:embed="rId2"/>
          <a:stretch/>
        </p:blipFill>
        <p:spPr>
          <a:xfrm>
            <a:off x="4929120" y="5776920"/>
            <a:ext cx="955800" cy="814320"/>
          </a:xfrm>
          <a:prstGeom prst="rect">
            <a:avLst/>
          </a:prstGeom>
          <a:ln w="0">
            <a:noFill/>
          </a:ln>
        </p:spPr>
      </p:pic>
      <p:pic>
        <p:nvPicPr>
          <p:cNvPr id="1870" name="6 Imagen" descr="descarga.jpg"/>
          <p:cNvPicPr/>
          <p:nvPr/>
        </p:nvPicPr>
        <p:blipFill>
          <a:blip r:embed="rId3"/>
          <a:stretch/>
        </p:blipFill>
        <p:spPr>
          <a:xfrm>
            <a:off x="2857680" y="5829480"/>
            <a:ext cx="1143000" cy="761760"/>
          </a:xfrm>
          <a:prstGeom prst="rect">
            <a:avLst/>
          </a:prstGeom>
          <a:ln w="0">
            <a:noFill/>
          </a:ln>
        </p:spPr>
      </p:pic>
      <p:sp>
        <p:nvSpPr>
          <p:cNvPr id="1871" name="7 Flecha derecha"/>
          <p:cNvSpPr/>
          <p:nvPr/>
        </p:nvSpPr>
        <p:spPr>
          <a:xfrm>
            <a:off x="4181400" y="6013440"/>
            <a:ext cx="500040" cy="2300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f0000"/>
              </a:gs>
              <a:gs pos="100000">
                <a:srgbClr val="0047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8 Rectángulo"/>
          <p:cNvSpPr/>
          <p:nvPr/>
        </p:nvSpPr>
        <p:spPr>
          <a:xfrm>
            <a:off x="2857680" y="5776920"/>
            <a:ext cx="3027240" cy="814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9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Determinación del Representante de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6 Imagen" descr="descarga.jpg"/>
          <p:cNvPicPr/>
          <p:nvPr/>
        </p:nvPicPr>
        <p:blipFill>
          <a:blip r:embed="rId4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Picture 3" descr=""/>
          <p:cNvPicPr/>
          <p:nvPr/>
        </p:nvPicPr>
        <p:blipFill>
          <a:blip r:embed="rId1"/>
          <a:stretch/>
        </p:blipFill>
        <p:spPr>
          <a:xfrm>
            <a:off x="714240" y="1390680"/>
            <a:ext cx="7602840" cy="47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6" name="5 Imagen" descr=""/>
          <p:cNvPicPr/>
          <p:nvPr/>
        </p:nvPicPr>
        <p:blipFill>
          <a:blip r:embed="rId2"/>
          <a:stretch/>
        </p:blipFill>
        <p:spPr>
          <a:xfrm>
            <a:off x="5000760" y="592776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77" name="6 Imagen" descr=""/>
          <p:cNvPicPr/>
          <p:nvPr/>
        </p:nvPicPr>
        <p:blipFill>
          <a:blip r:embed="rId3"/>
          <a:stretch/>
        </p:blipFill>
        <p:spPr>
          <a:xfrm>
            <a:off x="2428920" y="5927760"/>
            <a:ext cx="79524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8" name="20 Grupo"/>
          <p:cNvGrpSpPr/>
          <p:nvPr/>
        </p:nvGrpSpPr>
        <p:grpSpPr>
          <a:xfrm>
            <a:off x="3786120" y="6095880"/>
            <a:ext cx="774720" cy="382680"/>
            <a:chOff x="3786120" y="6095880"/>
            <a:chExt cx="774720" cy="382680"/>
          </a:xfrm>
        </p:grpSpPr>
        <p:pic>
          <p:nvPicPr>
            <p:cNvPr id="1879" name="8 Imagen" descr=""/>
            <p:cNvPicPr/>
            <p:nvPr/>
          </p:nvPicPr>
          <p:blipFill>
            <a:blip r:embed="rId4"/>
            <a:stretch/>
          </p:blipFill>
          <p:spPr>
            <a:xfrm>
              <a:off x="3786120" y="609588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9 Imagen" descr=""/>
            <p:cNvPicPr/>
            <p:nvPr/>
          </p:nvPicPr>
          <p:blipFill>
            <a:blip r:embed="rId5"/>
            <a:stretch/>
          </p:blipFill>
          <p:spPr>
            <a:xfrm>
              <a:off x="4187880" y="610668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1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Con la aceptación del Plan de intervención, las familias ya están preparadas para integrarse a la etapa de acompañamiento.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9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Aceptación del Plan de Interv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3D2EFEE5-CF60-45C3-88B1-AFFB1B45BE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19"/>
          <p:cNvSpPr/>
          <p:nvPr/>
        </p:nvSpPr>
        <p:spPr>
          <a:xfrm>
            <a:off x="539640" y="1504080"/>
            <a:ext cx="77774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textualización a los Sistemas de Gestión y Ejec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IG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ituciones vincu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Objetivos y funciona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oc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ación para l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guridades y Oportunidades del 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amilias en Extrema Pob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76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Agen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Picture 2" descr=""/>
          <p:cNvPicPr/>
          <p:nvPr/>
        </p:nvPicPr>
        <p:blipFill>
          <a:blip r:embed="rId1"/>
          <a:stretch/>
        </p:blipFill>
        <p:spPr>
          <a:xfrm>
            <a:off x="484200" y="2000160"/>
            <a:ext cx="7845480" cy="35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5" name="4 Rectángulo"/>
          <p:cNvSpPr/>
          <p:nvPr/>
        </p:nvSpPr>
        <p:spPr>
          <a:xfrm>
            <a:off x="7286760" y="1785960"/>
            <a:ext cx="1042920" cy="421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Menú Diagnóstico queda un registro de las etapas que ha avanzando la familia. Una vez diagnosticadas dichas familias son derivadas a la etapa de acompaña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7" name="7 Imagen" descr="descarga.jpg"/>
          <p:cNvPicPr/>
          <p:nvPr/>
        </p:nvPicPr>
        <p:blipFill>
          <a:blip r:embed="rId2"/>
          <a:stretch/>
        </p:blipFill>
        <p:spPr>
          <a:xfrm>
            <a:off x="6307200" y="79200"/>
            <a:ext cx="979560" cy="654120"/>
          </a:xfrm>
          <a:prstGeom prst="rect">
            <a:avLst/>
          </a:prstGeom>
          <a:ln w="0">
            <a:noFill/>
          </a:ln>
        </p:spPr>
      </p:pic>
      <p:sp>
        <p:nvSpPr>
          <p:cNvPr id="1888" name="7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7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74760" y="1444680"/>
            <a:ext cx="1498680" cy="2614680"/>
          </a:xfrm>
          <a:prstGeom prst="rect">
            <a:avLst/>
          </a:prstGeom>
          <a:ln w="0">
            <a:noFill/>
          </a:ln>
        </p:spPr>
      </p:pic>
      <p:pic>
        <p:nvPicPr>
          <p:cNvPr id="1890" name="8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6120" y="1481040"/>
            <a:ext cx="1487520" cy="2530440"/>
          </a:xfrm>
          <a:prstGeom prst="rect">
            <a:avLst/>
          </a:prstGeom>
          <a:ln w="0">
            <a:noFill/>
          </a:ln>
        </p:spPr>
      </p:pic>
      <p:pic>
        <p:nvPicPr>
          <p:cNvPr id="1891" name="9 Rectángulo" descr=""/>
          <p:cNvPicPr/>
          <p:nvPr/>
        </p:nvPicPr>
        <p:blipFill>
          <a:blip r:embed="rId5"/>
          <a:stretch/>
        </p:blipFill>
        <p:spPr>
          <a:xfrm>
            <a:off x="6235560" y="1450800"/>
            <a:ext cx="1481400" cy="2590920"/>
          </a:xfrm>
          <a:prstGeom prst="rect">
            <a:avLst/>
          </a:prstGeom>
          <a:ln w="0">
            <a:noFill/>
          </a:ln>
        </p:spPr>
      </p:pic>
      <p:sp>
        <p:nvSpPr>
          <p:cNvPr id="1892" name="12 Cheurón"/>
          <p:cNvSpPr/>
          <p:nvPr/>
        </p:nvSpPr>
        <p:spPr>
          <a:xfrm>
            <a:off x="1116000" y="3716280"/>
            <a:ext cx="6985080" cy="936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5" y="0"/>
                </a:lnTo>
                <a:lnTo>
                  <a:pt x="21600" y="10800"/>
                </a:lnTo>
                <a:lnTo>
                  <a:pt x="20895" y="21600"/>
                </a:lnTo>
                <a:lnTo>
                  <a:pt x="0" y="21600"/>
                </a:lnTo>
                <a:lnTo>
                  <a:pt x="705" y="10800"/>
                </a:lnTo>
                <a:close/>
              </a:path>
            </a:pathLst>
          </a:custGeom>
          <a:solidFill>
            <a:srgbClr val="005fa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Diagnó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94" name="14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s de Información en operación: EJE Diagnóstico 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3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8200" y="1103400"/>
            <a:ext cx="1494000" cy="1785960"/>
          </a:xfrm>
          <a:prstGeom prst="rect">
            <a:avLst/>
          </a:prstGeom>
          <a:ln w="0">
            <a:noFill/>
          </a:ln>
        </p:spPr>
      </p:pic>
      <p:pic>
        <p:nvPicPr>
          <p:cNvPr id="1896" name="4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680" y="2762280"/>
            <a:ext cx="1481040" cy="1773360"/>
          </a:xfrm>
          <a:prstGeom prst="rect">
            <a:avLst/>
          </a:prstGeom>
          <a:ln w="0">
            <a:noFill/>
          </a:ln>
        </p:spPr>
      </p:pic>
      <p:pic>
        <p:nvPicPr>
          <p:cNvPr id="1897" name="6 Rectángulo" descr=""/>
          <p:cNvPicPr/>
          <p:nvPr/>
        </p:nvPicPr>
        <p:blipFill>
          <a:blip r:embed="rId5"/>
          <a:stretch/>
        </p:blipFill>
        <p:spPr>
          <a:xfrm>
            <a:off x="274680" y="4438800"/>
            <a:ext cx="1481040" cy="1773000"/>
          </a:xfrm>
          <a:prstGeom prst="rect">
            <a:avLst/>
          </a:prstGeom>
          <a:ln w="0">
            <a:noFill/>
          </a:ln>
        </p:spPr>
      </p:pic>
      <p:pic>
        <p:nvPicPr>
          <p:cNvPr id="1898" name="7 Cheurón" descr=""/>
          <p:cNvPicPr/>
          <p:nvPr/>
        </p:nvPicPr>
        <p:blipFill>
          <a:blip r:embed="rId6"/>
          <a:stretch/>
        </p:blipFill>
        <p:spPr>
          <a:xfrm>
            <a:off x="207324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899" name="8 Cheurón" descr=""/>
          <p:cNvPicPr/>
          <p:nvPr/>
        </p:nvPicPr>
        <p:blipFill>
          <a:blip r:embed="rId7"/>
          <a:stretch/>
        </p:blipFill>
        <p:spPr>
          <a:xfrm>
            <a:off x="365760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0" name="9 Cheurón" descr=""/>
          <p:cNvPicPr/>
          <p:nvPr/>
        </p:nvPicPr>
        <p:blipFill>
          <a:blip r:embed="rId8"/>
          <a:stretch/>
        </p:blipFill>
        <p:spPr>
          <a:xfrm>
            <a:off x="52419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1" name="10 Cheurón" descr=""/>
          <p:cNvPicPr/>
          <p:nvPr/>
        </p:nvPicPr>
        <p:blipFill>
          <a:blip r:embed="rId9"/>
          <a:stretch/>
        </p:blipFill>
        <p:spPr>
          <a:xfrm>
            <a:off x="68277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2" name="11 Cheurón" descr=""/>
          <p:cNvPicPr/>
          <p:nvPr/>
        </p:nvPicPr>
        <p:blipFill>
          <a:blip r:embed="rId10"/>
          <a:stretch/>
        </p:blipFill>
        <p:spPr>
          <a:xfrm>
            <a:off x="207324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3" name="12 Cheurón" descr=""/>
          <p:cNvPicPr/>
          <p:nvPr/>
        </p:nvPicPr>
        <p:blipFill>
          <a:blip r:embed="rId11"/>
          <a:stretch/>
        </p:blipFill>
        <p:spPr>
          <a:xfrm>
            <a:off x="365760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4" name="13 Cheurón" descr=""/>
          <p:cNvPicPr/>
          <p:nvPr/>
        </p:nvPicPr>
        <p:blipFill>
          <a:blip r:embed="rId12"/>
          <a:stretch/>
        </p:blipFill>
        <p:spPr>
          <a:xfrm>
            <a:off x="52419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5" name="14 Cheurón" descr=""/>
          <p:cNvPicPr/>
          <p:nvPr/>
        </p:nvPicPr>
        <p:blipFill>
          <a:blip r:embed="rId13"/>
          <a:stretch/>
        </p:blipFill>
        <p:spPr>
          <a:xfrm>
            <a:off x="68277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6" name="15 Cheurón" descr=""/>
          <p:cNvPicPr/>
          <p:nvPr/>
        </p:nvPicPr>
        <p:blipFill>
          <a:blip r:embed="rId14"/>
          <a:stretch/>
        </p:blipFill>
        <p:spPr>
          <a:xfrm>
            <a:off x="207324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7" name="16 Cheurón" descr=""/>
          <p:cNvPicPr/>
          <p:nvPr/>
        </p:nvPicPr>
        <p:blipFill>
          <a:blip r:embed="rId15"/>
          <a:stretch/>
        </p:blipFill>
        <p:spPr>
          <a:xfrm>
            <a:off x="365760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8" name="17 Cheurón" descr=""/>
          <p:cNvPicPr/>
          <p:nvPr/>
        </p:nvPicPr>
        <p:blipFill>
          <a:blip r:embed="rId16"/>
          <a:stretch/>
        </p:blipFill>
        <p:spPr>
          <a:xfrm>
            <a:off x="5241960" y="4438800"/>
            <a:ext cx="1755720" cy="1773000"/>
          </a:xfrm>
          <a:prstGeom prst="rect">
            <a:avLst/>
          </a:prstGeom>
          <a:ln w="0">
            <a:noFill/>
          </a:ln>
        </p:spPr>
      </p:pic>
      <p:sp>
        <p:nvSpPr>
          <p:cNvPr id="1909" name="Pentágono 4"/>
          <p:cNvSpPr/>
          <p:nvPr/>
        </p:nvSpPr>
        <p:spPr>
          <a:xfrm>
            <a:off x="3851280" y="44280"/>
            <a:ext cx="4824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199080" tIns="106560" bIns="106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0" name="6 Imagen" descr="descarga.jpg"/>
          <p:cNvPicPr/>
          <p:nvPr/>
        </p:nvPicPr>
        <p:blipFill>
          <a:blip r:embed="rId1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2" name="Picture 2" descr=""/>
          <p:cNvPicPr/>
          <p:nvPr/>
        </p:nvPicPr>
        <p:blipFill>
          <a:blip r:embed="rId1"/>
          <a:stretch/>
        </p:blipFill>
        <p:spPr>
          <a:xfrm>
            <a:off x="357120" y="1268280"/>
            <a:ext cx="8175600" cy="3673440"/>
          </a:xfrm>
          <a:prstGeom prst="rect">
            <a:avLst/>
          </a:prstGeom>
          <a:ln w="0">
            <a:noFill/>
          </a:ln>
        </p:spPr>
      </p:pic>
      <p:pic>
        <p:nvPicPr>
          <p:cNvPr id="1913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 / Pantalla de Ac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"/>
          <p:cNvPicPr/>
          <p:nvPr/>
        </p:nvPicPr>
        <p:blipFill>
          <a:blip r:embed="rId1"/>
          <a:stretch/>
        </p:blipFill>
        <p:spPr>
          <a:xfrm>
            <a:off x="485640" y="1305000"/>
            <a:ext cx="8170920" cy="4248000"/>
          </a:xfrm>
          <a:prstGeom prst="rect">
            <a:avLst/>
          </a:prstGeom>
          <a:ln w="0">
            <a:noFill/>
          </a:ln>
        </p:spPr>
      </p:pic>
      <p:pic>
        <p:nvPicPr>
          <p:cNvPr id="1916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7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CCV / Acceso a cada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8" name="Picture 2" descr=""/>
          <p:cNvPicPr/>
          <p:nvPr/>
        </p:nvPicPr>
        <p:blipFill>
          <a:blip r:embed="rId1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pic>
        <p:nvPicPr>
          <p:cNvPr id="1919" name="7 Cheurón" descr=""/>
          <p:cNvPicPr/>
          <p:nvPr/>
        </p:nvPicPr>
        <p:blipFill>
          <a:blip r:embed="rId2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20" name="8 Cheurón" descr=""/>
          <p:cNvPicPr/>
          <p:nvPr/>
        </p:nvPicPr>
        <p:blipFill>
          <a:blip r:embed="rId3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21" name="9 Cheurón" descr=""/>
          <p:cNvPicPr/>
          <p:nvPr/>
        </p:nvPicPr>
        <p:blipFill>
          <a:blip r:embed="rId4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22" name="10 Cheurón" descr=""/>
          <p:cNvPicPr/>
          <p:nvPr/>
        </p:nvPicPr>
        <p:blipFill>
          <a:blip r:embed="rId5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sp>
        <p:nvSpPr>
          <p:cNvPr id="1923" name="14 Rectángulo"/>
          <p:cNvSpPr/>
          <p:nvPr/>
        </p:nvSpPr>
        <p:spPr>
          <a:xfrm>
            <a:off x="2771640" y="34290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15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5" name="Picture 3" descr=""/>
          <p:cNvPicPr/>
          <p:nvPr/>
        </p:nvPicPr>
        <p:blipFill>
          <a:blip r:embed="rId6"/>
          <a:stretch/>
        </p:blipFill>
        <p:spPr>
          <a:xfrm>
            <a:off x="1814400" y="2852640"/>
            <a:ext cx="7150320" cy="310032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26" name="17 Conector curvado"/>
          <p:cNvCxnSpPr>
            <a:stCxn id="1920" idx="2"/>
          </p:cNvCxnSpPr>
          <p:nvPr/>
        </p:nvCxnSpPr>
        <p:spPr>
          <a:xfrm flipH="1" rot="16200000">
            <a:off x="2599200" y="2896920"/>
            <a:ext cx="3601080" cy="120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7" name="23 Conector curvado"/>
          <p:cNvCxnSpPr>
            <a:stCxn id="1921" idx="2"/>
          </p:cNvCxnSpPr>
          <p:nvPr/>
        </p:nvCxnSpPr>
        <p:spPr>
          <a:xfrm flipH="1" rot="16200000">
            <a:off x="3498840" y="3580560"/>
            <a:ext cx="396108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8" name="25 Conector curvado"/>
          <p:cNvCxnSpPr>
            <a:stCxn id="1922" idx="2"/>
          </p:cNvCxnSpPr>
          <p:nvPr/>
        </p:nvCxnSpPr>
        <p:spPr>
          <a:xfrm rot="5400000">
            <a:off x="5010840" y="2989080"/>
            <a:ext cx="3242160" cy="66420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29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30" name="18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14 Cheurón" descr=""/>
          <p:cNvPicPr/>
          <p:nvPr/>
        </p:nvPicPr>
        <p:blipFill>
          <a:blip r:embed="rId1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32" name="15 Cheurón" descr=""/>
          <p:cNvPicPr/>
          <p:nvPr/>
        </p:nvPicPr>
        <p:blipFill>
          <a:blip r:embed="rId2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3" name="16 Cheurón" descr=""/>
          <p:cNvPicPr/>
          <p:nvPr/>
        </p:nvPicPr>
        <p:blipFill>
          <a:blip r:embed="rId3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2" descr=""/>
          <p:cNvPicPr/>
          <p:nvPr/>
        </p:nvPicPr>
        <p:blipFill>
          <a:blip r:embed="rId4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35" name="18 Rectángulo"/>
          <p:cNvSpPr/>
          <p:nvPr/>
        </p:nvSpPr>
        <p:spPr>
          <a:xfrm>
            <a:off x="2771640" y="33894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6" name="19 Cheurón" descr=""/>
          <p:cNvPicPr/>
          <p:nvPr/>
        </p:nvPicPr>
        <p:blipFill>
          <a:blip r:embed="rId5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2" descr=""/>
          <p:cNvPicPr/>
          <p:nvPr/>
        </p:nvPicPr>
        <p:blipFill>
          <a:blip r:embed="rId6"/>
          <a:srcRect l="0" t="1890" r="0" b="0"/>
          <a:stretch/>
        </p:blipFill>
        <p:spPr>
          <a:xfrm>
            <a:off x="755640" y="3789360"/>
            <a:ext cx="7913520" cy="2075040"/>
          </a:xfrm>
          <a:prstGeom prst="rect">
            <a:avLst/>
          </a:prstGeom>
          <a:ln w="0">
            <a:noFill/>
          </a:ln>
        </p:spPr>
      </p:pic>
      <p:sp>
        <p:nvSpPr>
          <p:cNvPr id="1938" name="23 Rectángulo"/>
          <p:cNvSpPr/>
          <p:nvPr/>
        </p:nvSpPr>
        <p:spPr>
          <a:xfrm>
            <a:off x="934920" y="5373720"/>
            <a:ext cx="1549440" cy="358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9" name="Picture 3" descr=""/>
          <p:cNvPicPr/>
          <p:nvPr/>
        </p:nvPicPr>
        <p:blipFill>
          <a:blip r:embed="rId7"/>
          <a:srcRect l="0" t="0" r="0" b="29016"/>
          <a:stretch/>
        </p:blipFill>
        <p:spPr>
          <a:xfrm>
            <a:off x="2700360" y="2924280"/>
            <a:ext cx="6048360" cy="37764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1940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4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2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43" name="12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44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5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47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8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49" name="25 Rectángulo"/>
          <p:cNvSpPr/>
          <p:nvPr/>
        </p:nvSpPr>
        <p:spPr>
          <a:xfrm>
            <a:off x="4046400" y="5413320"/>
            <a:ext cx="8654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0" name="Picture 2" descr=""/>
          <p:cNvPicPr/>
          <p:nvPr/>
        </p:nvPicPr>
        <p:blipFill>
          <a:blip r:embed="rId7"/>
          <a:stretch/>
        </p:blipFill>
        <p:spPr>
          <a:xfrm>
            <a:off x="2484360" y="2421000"/>
            <a:ext cx="5800680" cy="42670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51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52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3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54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55" name="13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56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58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9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60" name="25 Rectángulo"/>
          <p:cNvSpPr/>
          <p:nvPr/>
        </p:nvSpPr>
        <p:spPr>
          <a:xfrm>
            <a:off x="4788000" y="573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1" name="Picture 2" descr=""/>
          <p:cNvPicPr/>
          <p:nvPr/>
        </p:nvPicPr>
        <p:blipFill>
          <a:blip r:embed="rId7"/>
          <a:stretch/>
        </p:blipFill>
        <p:spPr>
          <a:xfrm>
            <a:off x="1824120" y="2637000"/>
            <a:ext cx="6656400" cy="40384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62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63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65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66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67" name="2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69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0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71" name="25 Rectángulo"/>
          <p:cNvSpPr/>
          <p:nvPr/>
        </p:nvSpPr>
        <p:spPr>
          <a:xfrm>
            <a:off x="5435640" y="5084640"/>
            <a:ext cx="86508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2" name="Picture 2" descr=""/>
          <p:cNvPicPr/>
          <p:nvPr/>
        </p:nvPicPr>
        <p:blipFill>
          <a:blip r:embed="rId7"/>
          <a:stretch/>
        </p:blipFill>
        <p:spPr>
          <a:xfrm>
            <a:off x="2527200" y="2492280"/>
            <a:ext cx="5953320" cy="401976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73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74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B920ED30-D6FC-482E-93BB-FCE633D228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82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Apoyo a la gestión y ejecución de los Programas Soci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13 Diagrama" descr=""/>
          <p:cNvPicPr/>
          <p:nvPr/>
        </p:nvPicPr>
        <p:blipFill>
          <a:blip r:embed="rId1"/>
          <a:stretch/>
        </p:blipFill>
        <p:spPr>
          <a:xfrm>
            <a:off x="274680" y="1847880"/>
            <a:ext cx="8588160" cy="4218120"/>
          </a:xfrm>
          <a:prstGeom prst="rect">
            <a:avLst/>
          </a:prstGeom>
          <a:ln w="0">
            <a:noFill/>
          </a:ln>
        </p:spPr>
      </p:pic>
      <p:pic>
        <p:nvPicPr>
          <p:cNvPr id="1585" name="16 Rectángulo" descr=""/>
          <p:cNvPicPr/>
          <p:nvPr/>
        </p:nvPicPr>
        <p:blipFill>
          <a:blip r:embed="rId2"/>
          <a:stretch/>
        </p:blipFill>
        <p:spPr>
          <a:xfrm>
            <a:off x="1792440" y="901800"/>
            <a:ext cx="3060720" cy="1549440"/>
          </a:xfrm>
          <a:prstGeom prst="rect">
            <a:avLst/>
          </a:prstGeom>
          <a:ln w="0">
            <a:noFill/>
          </a:ln>
        </p:spPr>
      </p:pic>
      <p:pic>
        <p:nvPicPr>
          <p:cNvPr id="1586" name="17 Rectángulo" descr=""/>
          <p:cNvPicPr/>
          <p:nvPr/>
        </p:nvPicPr>
        <p:blipFill>
          <a:blip r:embed="rId3"/>
          <a:stretch/>
        </p:blipFill>
        <p:spPr>
          <a:xfrm>
            <a:off x="6321600" y="890640"/>
            <a:ext cx="2639880" cy="1547640"/>
          </a:xfrm>
          <a:prstGeom prst="rect">
            <a:avLst/>
          </a:prstGeom>
          <a:ln w="0">
            <a:noFill/>
          </a:ln>
        </p:spPr>
      </p:pic>
      <p:sp>
        <p:nvSpPr>
          <p:cNvPr id="1587" name="18 Flecha abajo"/>
          <p:cNvSpPr/>
          <p:nvPr/>
        </p:nvSpPr>
        <p:spPr>
          <a:xfrm rot="3031800">
            <a:off x="1715400" y="1797480"/>
            <a:ext cx="71640" cy="1400400"/>
          </a:xfrm>
          <a:prstGeom prst="downArrow">
            <a:avLst>
              <a:gd name="adj1" fmla="val 50000"/>
              <a:gd name="adj2" fmla="val 5855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31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19 Flecha abajo"/>
          <p:cNvSpPr/>
          <p:nvPr/>
        </p:nvSpPr>
        <p:spPr>
          <a:xfrm flipH="1">
            <a:off x="3343320" y="2068560"/>
            <a:ext cx="71280" cy="949320"/>
          </a:xfrm>
          <a:prstGeom prst="downArrow">
            <a:avLst>
              <a:gd name="adj1" fmla="val 50000"/>
              <a:gd name="adj2" fmla="val 588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20 Flecha abajo"/>
          <p:cNvSpPr/>
          <p:nvPr/>
        </p:nvSpPr>
        <p:spPr>
          <a:xfrm rot="18302400">
            <a:off x="4806000" y="1803960"/>
            <a:ext cx="71640" cy="1400040"/>
          </a:xfrm>
          <a:prstGeom prst="downArrow">
            <a:avLst>
              <a:gd name="adj1" fmla="val 50000"/>
              <a:gd name="adj2" fmla="val 5853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9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23 Flecha abajo"/>
          <p:cNvSpPr/>
          <p:nvPr/>
        </p:nvSpPr>
        <p:spPr>
          <a:xfrm flipH="1">
            <a:off x="7812000" y="1986120"/>
            <a:ext cx="108000" cy="950760"/>
          </a:xfrm>
          <a:prstGeom prst="downArrow">
            <a:avLst>
              <a:gd name="adj1" fmla="val 50000"/>
              <a:gd name="adj2" fmla="val 586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1" name="Picture 2" descr="C:\Program Files (x86)\Microsoft Office\MEDIA\CAGCAT10\j0222015.wmf"/>
          <p:cNvPicPr/>
          <p:nvPr/>
        </p:nvPicPr>
        <p:blipFill>
          <a:blip r:embed="rId4"/>
          <a:stretch/>
        </p:blipFill>
        <p:spPr>
          <a:xfrm>
            <a:off x="2622600" y="257508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Users\pcalderon\AppData\Local\Microsoft\Windows\Temporary Internet Files\Content.IE5\HBJSFNSQ\MC900205568[1].wmf"/>
          <p:cNvPicPr/>
          <p:nvPr/>
        </p:nvPicPr>
        <p:blipFill>
          <a:blip r:embed="rId5"/>
          <a:stretch/>
        </p:blipFill>
        <p:spPr>
          <a:xfrm>
            <a:off x="4438800" y="25542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2" descr="C:\Users\pcalderon\AppData\Local\Microsoft\Windows\Temporary Internet Files\Content.IE5\TK2EW9WX\MC900297161[1].wmf"/>
          <p:cNvPicPr/>
          <p:nvPr/>
        </p:nvPicPr>
        <p:blipFill>
          <a:blip r:embed="rId6"/>
          <a:stretch/>
        </p:blipFill>
        <p:spPr>
          <a:xfrm>
            <a:off x="285840" y="2585880"/>
            <a:ext cx="53964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94" name="19 Grupo"/>
          <p:cNvGrpSpPr/>
          <p:nvPr/>
        </p:nvGrpSpPr>
        <p:grpSpPr>
          <a:xfrm>
            <a:off x="6570720" y="2241720"/>
            <a:ext cx="1150920" cy="973080"/>
            <a:chOff x="6570720" y="2241720"/>
            <a:chExt cx="1150920" cy="973080"/>
          </a:xfrm>
        </p:grpSpPr>
        <p:pic>
          <p:nvPicPr>
            <p:cNvPr id="1595" name="25 Imagen" descr=""/>
            <p:cNvPicPr/>
            <p:nvPr/>
          </p:nvPicPr>
          <p:blipFill>
            <a:blip r:embed="rId7"/>
            <a:stretch/>
          </p:blipFill>
          <p:spPr>
            <a:xfrm>
              <a:off x="7032240" y="2529360"/>
              <a:ext cx="68940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5" descr="C:\Users\gvillanueva\Desktop\Diseño 2013\IEF\PNG\lupa.png"/>
            <p:cNvPicPr/>
            <p:nvPr/>
          </p:nvPicPr>
          <p:blipFill>
            <a:blip r:embed="rId8"/>
            <a:stretch/>
          </p:blipFill>
          <p:spPr>
            <a:xfrm rot="2925600">
              <a:off x="6933600" y="2424600"/>
              <a:ext cx="19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17 Imagen" descr="IEF_ilustraciones19.png"/>
            <p:cNvPicPr/>
            <p:nvPr/>
          </p:nvPicPr>
          <p:blipFill>
            <a:blip r:embed="rId9"/>
            <a:srcRect l="29576" t="0" r="30991" b="0"/>
            <a:stretch/>
          </p:blipFill>
          <p:spPr>
            <a:xfrm>
              <a:off x="6570720" y="2241720"/>
              <a:ext cx="308160" cy="97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5" name="7 Cheurón" descr=""/>
          <p:cNvPicPr/>
          <p:nvPr/>
        </p:nvPicPr>
        <p:blipFill>
          <a:blip r:embed="rId1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76" name="8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77" name="9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78" name="1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5"/>
          <a:srcRect l="20079" t="9759" r="19443" b="51602"/>
          <a:stretch/>
        </p:blipFill>
        <p:spPr>
          <a:xfrm>
            <a:off x="468360" y="2565360"/>
            <a:ext cx="8244000" cy="2962440"/>
          </a:xfrm>
          <a:prstGeom prst="rect">
            <a:avLst/>
          </a:prstGeom>
          <a:ln w="0">
            <a:noFill/>
          </a:ln>
        </p:spPr>
      </p:pic>
      <p:sp>
        <p:nvSpPr>
          <p:cNvPr id="1980" name="27 Rectángulo"/>
          <p:cNvSpPr/>
          <p:nvPr/>
        </p:nvSpPr>
        <p:spPr>
          <a:xfrm>
            <a:off x="7164360" y="407664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28 Rectángulo"/>
          <p:cNvSpPr/>
          <p:nvPr/>
        </p:nvSpPr>
        <p:spPr>
          <a:xfrm>
            <a:off x="395280" y="429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2" name="Picture 3" descr=""/>
          <p:cNvPicPr/>
          <p:nvPr/>
        </p:nvPicPr>
        <p:blipFill>
          <a:blip r:embed="rId6"/>
          <a:srcRect l="20079" t="36640" r="20861" b="23042"/>
          <a:stretch/>
        </p:blipFill>
        <p:spPr>
          <a:xfrm>
            <a:off x="826920" y="3354480"/>
            <a:ext cx="7885440" cy="302724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83" name="32 Conector curvado"/>
          <p:cNvCxnSpPr/>
          <p:nvPr/>
        </p:nvCxnSpPr>
        <p:spPr>
          <a:xfrm flipH="1" rot="16200000">
            <a:off x="2060640" y="3436560"/>
            <a:ext cx="3961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4" name="33 Conector curvado"/>
          <p:cNvCxnSpPr/>
          <p:nvPr/>
        </p:nvCxnSpPr>
        <p:spPr>
          <a:xfrm rot="5400000">
            <a:off x="3283560" y="3564720"/>
            <a:ext cx="3961080" cy="232560"/>
          </a:xfrm>
          <a:prstGeom prst="curvedConnector5">
            <a:avLst>
              <a:gd name="adj1" fmla="val 50000"/>
              <a:gd name="adj2" fmla="val 49922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5" name="34 Conector curvado"/>
          <p:cNvCxnSpPr/>
          <p:nvPr/>
        </p:nvCxnSpPr>
        <p:spPr>
          <a:xfrm rot="5400000">
            <a:off x="4434840" y="3132000"/>
            <a:ext cx="3961080" cy="109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86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87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m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8 Cheurón" descr=""/>
          <p:cNvPicPr/>
          <p:nvPr/>
        </p:nvPicPr>
        <p:blipFill>
          <a:blip r:embed="rId1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89" name="9 Cheurón" descr=""/>
          <p:cNvPicPr/>
          <p:nvPr/>
        </p:nvPicPr>
        <p:blipFill>
          <a:blip r:embed="rId2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90" name="10 Cheurón" descr=""/>
          <p:cNvPicPr/>
          <p:nvPr/>
        </p:nvPicPr>
        <p:blipFill>
          <a:blip r:embed="rId3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2" descr=""/>
          <p:cNvPicPr/>
          <p:nvPr/>
        </p:nvPicPr>
        <p:blipFill>
          <a:blip r:embed="rId4"/>
          <a:srcRect l="38979" t="14799" r="0" b="51602"/>
          <a:stretch/>
        </p:blipFill>
        <p:spPr>
          <a:xfrm>
            <a:off x="343080" y="2708280"/>
            <a:ext cx="8602560" cy="2665440"/>
          </a:xfrm>
          <a:prstGeom prst="rect">
            <a:avLst/>
          </a:prstGeom>
          <a:ln w="0">
            <a:noFill/>
          </a:ln>
        </p:spPr>
      </p:pic>
      <p:sp>
        <p:nvSpPr>
          <p:cNvPr id="1992" name="17 Rectángulo"/>
          <p:cNvSpPr/>
          <p:nvPr/>
        </p:nvSpPr>
        <p:spPr>
          <a:xfrm>
            <a:off x="3882960" y="417996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3" name="Picture 2" descr=""/>
          <p:cNvPicPr/>
          <p:nvPr/>
        </p:nvPicPr>
        <p:blipFill>
          <a:blip r:embed="rId5"/>
          <a:srcRect l="28110" t="39163" r="13299" b="22034"/>
          <a:stretch/>
        </p:blipFill>
        <p:spPr>
          <a:xfrm>
            <a:off x="414360" y="3645000"/>
            <a:ext cx="8118360" cy="302400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94" name="23 Conector curvado"/>
          <p:cNvCxnSpPr/>
          <p:nvPr/>
        </p:nvCxnSpPr>
        <p:spPr>
          <a:xfrm flipH="1" rot="16200000">
            <a:off x="1844640" y="3652560"/>
            <a:ext cx="4393440" cy="488160"/>
          </a:xfrm>
          <a:prstGeom prst="curvedConnector5">
            <a:avLst>
              <a:gd name="adj1" fmla="val 49995"/>
              <a:gd name="adj2" fmla="val 49963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5" name="25 Conector curvado"/>
          <p:cNvCxnSpPr/>
          <p:nvPr/>
        </p:nvCxnSpPr>
        <p:spPr>
          <a:xfrm rot="5400000">
            <a:off x="2959200" y="3672720"/>
            <a:ext cx="4393440" cy="448560"/>
          </a:xfrm>
          <a:prstGeom prst="curvedConnector5">
            <a:avLst>
              <a:gd name="adj1" fmla="val 49995"/>
              <a:gd name="adj2" fmla="val 49959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6" name="27 Conector curvado"/>
          <p:cNvCxnSpPr/>
          <p:nvPr/>
        </p:nvCxnSpPr>
        <p:spPr>
          <a:xfrm rot="5400000">
            <a:off x="4182840" y="3312360"/>
            <a:ext cx="4393440" cy="11689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97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98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Vínc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6444190D-B373-42EA-9AB4-1AC415A915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1" name="8 Grupo"/>
          <p:cNvGrpSpPr/>
          <p:nvPr/>
        </p:nvGrpSpPr>
        <p:grpSpPr>
          <a:xfrm>
            <a:off x="-36360" y="196920"/>
            <a:ext cx="4479840" cy="676080"/>
            <a:chOff x="-36360" y="196920"/>
            <a:chExt cx="4479840" cy="676080"/>
          </a:xfrm>
        </p:grpSpPr>
        <p:sp>
          <p:nvSpPr>
            <p:cNvPr id="1602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Pentágono 4"/>
            <p:cNvSpPr/>
            <p:nvPr/>
          </p:nvSpPr>
          <p:spPr>
            <a:xfrm>
              <a:off x="7632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Relación entre institu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4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1605" name="9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10 Elipse"/>
          <p:cNvSpPr/>
          <p:nvPr/>
        </p:nvSpPr>
        <p:spPr>
          <a:xfrm>
            <a:off x="5796000" y="3068640"/>
            <a:ext cx="1800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SER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11 Elipse"/>
          <p:cNvSpPr/>
          <p:nvPr/>
        </p:nvSpPr>
        <p:spPr>
          <a:xfrm>
            <a:off x="3635280" y="4941720"/>
            <a:ext cx="1800360" cy="1151280"/>
          </a:xfrm>
          <a:prstGeom prst="ellipse">
            <a:avLst/>
          </a:prstGeom>
          <a:solidFill>
            <a:srgbClr val="b9cde5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12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c3d6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Calibri"/>
              </a:rPr>
              <a:t>INSTIT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13 Elipse"/>
          <p:cNvSpPr/>
          <p:nvPr/>
        </p:nvSpPr>
        <p:spPr>
          <a:xfrm>
            <a:off x="1494000" y="3068640"/>
            <a:ext cx="1800000" cy="1152360"/>
          </a:xfrm>
          <a:prstGeom prst="ellipse">
            <a:avLst/>
          </a:prstGeom>
          <a:solidFill>
            <a:srgbClr val="d7e4b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14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15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e6b9b8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iniste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2" name="16 Conector recto de flecha"/>
          <p:cNvCxnSpPr/>
          <p:nvPr/>
        </p:nvCxnSpPr>
        <p:spPr>
          <a:xfrm>
            <a:off x="3294000" y="1699920"/>
            <a:ext cx="25027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3" name="17 Conector recto de flecha"/>
          <p:cNvCxnSpPr/>
          <p:nvPr/>
        </p:nvCxnSpPr>
        <p:spPr>
          <a:xfrm flipH="1">
            <a:off x="3293640" y="1915920"/>
            <a:ext cx="250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4" name="18 Conector recto de flecha"/>
          <p:cNvCxnSpPr/>
          <p:nvPr/>
        </p:nvCxnSpPr>
        <p:spPr>
          <a:xfrm>
            <a:off x="6948000" y="2491920"/>
            <a:ext cx="1080" cy="577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5" name="19 Conector recto de flecha"/>
          <p:cNvCxnSpPr>
            <a:stCxn id="1608" idx="4"/>
          </p:cNvCxnSpPr>
          <p:nvPr/>
        </p:nvCxnSpPr>
        <p:spPr>
          <a:xfrm>
            <a:off x="2394000" y="2491920"/>
            <a:ext cx="18000" cy="5770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6" name="20 Forma"/>
          <p:cNvCxnSpPr>
            <a:stCxn id="1609" idx="4"/>
            <a:endCxn id="1607" idx="2"/>
          </p:cNvCxnSpPr>
          <p:nvPr/>
        </p:nvCxnSpPr>
        <p:spPr>
          <a:xfrm flipH="1" rot="16200000">
            <a:off x="2366640" y="4247640"/>
            <a:ext cx="1296360" cy="1242000"/>
          </a:xfrm>
          <a:prstGeom prst="bentConnector2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7" name="146 Conector angular"/>
          <p:cNvCxnSpPr>
            <a:stCxn id="1606" idx="4"/>
            <a:endCxn id="1607" idx="6"/>
          </p:cNvCxnSpPr>
          <p:nvPr/>
        </p:nvCxnSpPr>
        <p:spPr>
          <a:xfrm rot="5400000">
            <a:off x="5417280" y="4238280"/>
            <a:ext cx="1296360" cy="1261080"/>
          </a:xfrm>
          <a:prstGeom prst="bentConnector2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sp>
        <p:nvSpPr>
          <p:cNvPr id="1618" name="24 Conector recto"/>
          <p:cNvSpPr/>
          <p:nvPr/>
        </p:nvSpPr>
        <p:spPr>
          <a:xfrm>
            <a:off x="6948360" y="4221000"/>
            <a:ext cx="0" cy="151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9" name="25 Conector recto de flecha"/>
          <p:cNvCxnSpPr/>
          <p:nvPr/>
        </p:nvCxnSpPr>
        <p:spPr>
          <a:xfrm flipH="1">
            <a:off x="5435280" y="5732280"/>
            <a:ext cx="1513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20" name="26 Conector recto de flecha"/>
          <p:cNvCxnSpPr/>
          <p:nvPr/>
        </p:nvCxnSpPr>
        <p:spPr>
          <a:xfrm>
            <a:off x="3294000" y="2133360"/>
            <a:ext cx="250272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1" name="27 Conector recto de flecha"/>
          <p:cNvCxnSpPr/>
          <p:nvPr/>
        </p:nvCxnSpPr>
        <p:spPr>
          <a:xfrm>
            <a:off x="7164000" y="2491920"/>
            <a:ext cx="1080" cy="577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2" name="28 Conector recto de flecha"/>
          <p:cNvCxnSpPr/>
          <p:nvPr/>
        </p:nvCxnSpPr>
        <p:spPr>
          <a:xfrm>
            <a:off x="7164000" y="4220640"/>
            <a:ext cx="1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23" name="29 Conector recto de flecha"/>
          <p:cNvCxnSpPr>
            <a:endCxn id="1607" idx="5"/>
          </p:cNvCxnSpPr>
          <p:nvPr/>
        </p:nvCxnSpPr>
        <p:spPr>
          <a:xfrm flipH="1" flipV="1">
            <a:off x="5172120" y="5923800"/>
            <a:ext cx="1992600" cy="262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24" name="30 Conector recto de flecha"/>
          <p:cNvCxnSpPr/>
          <p:nvPr/>
        </p:nvCxnSpPr>
        <p:spPr>
          <a:xfrm flipV="1">
            <a:off x="7164000" y="4220280"/>
            <a:ext cx="1080" cy="17298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625" name="31 Conector recto"/>
          <p:cNvSpPr/>
          <p:nvPr/>
        </p:nvSpPr>
        <p:spPr>
          <a:xfrm>
            <a:off x="395280" y="285264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32 Conector recto"/>
          <p:cNvSpPr/>
          <p:nvPr/>
        </p:nvSpPr>
        <p:spPr>
          <a:xfrm>
            <a:off x="395280" y="479736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7" name="33 Conector recto" descr=""/>
          <p:cNvPicPr/>
          <p:nvPr/>
        </p:nvPicPr>
        <p:blipFill>
          <a:blip r:embed="rId2"/>
          <a:stretch/>
        </p:blipFill>
        <p:spPr>
          <a:xfrm>
            <a:off x="3249720" y="3481560"/>
            <a:ext cx="2590560" cy="109440"/>
          </a:xfrm>
          <a:prstGeom prst="rect">
            <a:avLst/>
          </a:prstGeom>
          <a:ln w="0">
            <a:noFill/>
          </a:ln>
        </p:spPr>
      </p:pic>
      <p:cxnSp>
        <p:nvCxnSpPr>
          <p:cNvPr id="1628" name="34 Conector recto de flecha"/>
          <p:cNvCxnSpPr/>
          <p:nvPr/>
        </p:nvCxnSpPr>
        <p:spPr>
          <a:xfrm>
            <a:off x="395280" y="5924160"/>
            <a:ext cx="14403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29" name="35 Conector recto de flecha"/>
          <p:cNvCxnSpPr/>
          <p:nvPr/>
        </p:nvCxnSpPr>
        <p:spPr>
          <a:xfrm>
            <a:off x="395280" y="6171840"/>
            <a:ext cx="14403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30" name="36 Conector recto de flecha"/>
          <p:cNvCxnSpPr/>
          <p:nvPr/>
        </p:nvCxnSpPr>
        <p:spPr>
          <a:xfrm>
            <a:off x="395280" y="6420960"/>
            <a:ext cx="1440360" cy="10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631" name="37 Conector recto de flecha"/>
          <p:cNvCxnSpPr/>
          <p:nvPr/>
        </p:nvCxnSpPr>
        <p:spPr>
          <a:xfrm>
            <a:off x="395280" y="6668640"/>
            <a:ext cx="144036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632" name="38 CuadroTexto"/>
          <p:cNvSpPr/>
          <p:nvPr/>
        </p:nvSpPr>
        <p:spPr>
          <a:xfrm>
            <a:off x="1979640" y="580068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c00000"/>
                </a:solidFill>
                <a:latin typeface="Arial"/>
              </a:rPr>
              <a:t>Conven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39 CuadroTexto"/>
          <p:cNvSpPr/>
          <p:nvPr/>
        </p:nvSpPr>
        <p:spPr>
          <a:xfrm>
            <a:off x="1979640" y="60516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2b67af"/>
                </a:solidFill>
                <a:latin typeface="Arial"/>
              </a:rPr>
              <a:t>Traspaso de recur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40 CuadroTexto"/>
          <p:cNvSpPr/>
          <p:nvPr/>
        </p:nvSpPr>
        <p:spPr>
          <a:xfrm>
            <a:off x="1979640" y="62974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77933c"/>
                </a:solidFill>
                <a:latin typeface="Arial"/>
              </a:rPr>
              <a:t>Asistencia Téc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41 CuadroTexto"/>
          <p:cNvSpPr/>
          <p:nvPr/>
        </p:nvSpPr>
        <p:spPr>
          <a:xfrm>
            <a:off x="1979640" y="65469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e46c0a"/>
                </a:solidFill>
                <a:latin typeface="Arial"/>
              </a:rPr>
              <a:t>Seguimiento administrativo en SIGE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41 Conector recto"/>
          <p:cNvSpPr/>
          <p:nvPr/>
        </p:nvSpPr>
        <p:spPr>
          <a:xfrm>
            <a:off x="339408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25 Conector recto"/>
          <p:cNvSpPr/>
          <p:nvPr/>
        </p:nvSpPr>
        <p:spPr>
          <a:xfrm>
            <a:off x="-71280" y="404172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26 Conector recto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22 Conector recto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21 Conector recto"/>
          <p:cNvSpPr/>
          <p:nvPr/>
        </p:nvSpPr>
        <p:spPr>
          <a:xfrm>
            <a:off x="1344600" y="-7128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24 Conector recto"/>
          <p:cNvSpPr/>
          <p:nvPr/>
        </p:nvSpPr>
        <p:spPr>
          <a:xfrm>
            <a:off x="34920" y="191628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60 Rectángulo"/>
          <p:cNvSpPr/>
          <p:nvPr/>
        </p:nvSpPr>
        <p:spPr>
          <a:xfrm>
            <a:off x="0" y="2133720"/>
            <a:ext cx="2195640" cy="934920"/>
          </a:xfrm>
          <a:prstGeom prst="rect">
            <a:avLst/>
          </a:prstGeom>
          <a:noFill/>
          <a:ln w="0">
            <a:noFill/>
          </a:ln>
          <a:effectLst>
            <a:outerShdw dist="101597" dir="16861874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3" name="61 Rectángulo redondeado"/>
          <p:cNvGrpSpPr/>
          <p:nvPr/>
        </p:nvGrpSpPr>
        <p:grpSpPr>
          <a:xfrm>
            <a:off x="1347840" y="371520"/>
            <a:ext cx="2035080" cy="1542960"/>
            <a:chOff x="1347840" y="371520"/>
            <a:chExt cx="2035080" cy="1542960"/>
          </a:xfrm>
        </p:grpSpPr>
        <p:pic>
          <p:nvPicPr>
            <p:cNvPr id="1644" name="6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347840" y="371520"/>
              <a:ext cx="2035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1474920" y="474840"/>
              <a:ext cx="178596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rogra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Presupues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gresa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cuo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lan de Cuen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Envía invitaciones a reg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6" name="62 Flecha derecha" descr=""/>
          <p:cNvPicPr/>
          <p:nvPr/>
        </p:nvPicPr>
        <p:blipFill>
          <a:blip r:embed="rId2"/>
          <a:stretch/>
        </p:blipFill>
        <p:spPr>
          <a:xfrm>
            <a:off x="-12600" y="536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7" name="63 Flecha derecha" descr=""/>
          <p:cNvPicPr/>
          <p:nvPr/>
        </p:nvPicPr>
        <p:blipFill>
          <a:blip r:embed="rId3"/>
          <a:stretch/>
        </p:blipFill>
        <p:spPr>
          <a:xfrm>
            <a:off x="-12600" y="2030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8" name="64 Flecha derecha" descr=""/>
          <p:cNvPicPr/>
          <p:nvPr/>
        </p:nvPicPr>
        <p:blipFill>
          <a:blip r:embed="rId4"/>
          <a:stretch/>
        </p:blipFill>
        <p:spPr>
          <a:xfrm>
            <a:off x="-12600" y="400536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9" name="65 Flecha derecha" descr=""/>
          <p:cNvPicPr/>
          <p:nvPr/>
        </p:nvPicPr>
        <p:blipFill>
          <a:blip r:embed="rId5"/>
          <a:stretch/>
        </p:blipFill>
        <p:spPr>
          <a:xfrm>
            <a:off x="-12600" y="5626080"/>
            <a:ext cx="13237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650" name="67 Rectángulo redondeado"/>
          <p:cNvGrpSpPr/>
          <p:nvPr/>
        </p:nvGrpSpPr>
        <p:grpSpPr>
          <a:xfrm>
            <a:off x="6261120" y="1981080"/>
            <a:ext cx="2035080" cy="397080"/>
            <a:chOff x="6261120" y="1981080"/>
            <a:chExt cx="2035080" cy="397080"/>
          </a:xfrm>
        </p:grpSpPr>
        <p:pic>
          <p:nvPicPr>
            <p:cNvPr id="1651" name="67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6261120" y="198108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6327720" y="20257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cepta invitac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3" name="68 Rectángulo redondeado"/>
          <p:cNvGrpSpPr/>
          <p:nvPr/>
        </p:nvGrpSpPr>
        <p:grpSpPr>
          <a:xfrm>
            <a:off x="6261120" y="2378160"/>
            <a:ext cx="2035080" cy="401400"/>
            <a:chOff x="6261120" y="2378160"/>
            <a:chExt cx="2035080" cy="401400"/>
          </a:xfrm>
        </p:grpSpPr>
        <p:pic>
          <p:nvPicPr>
            <p:cNvPr id="1654" name="68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6261120" y="2378160"/>
              <a:ext cx="20350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>
              <a:off x="63277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Present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" name="70 Rectángulo redondeado"/>
          <p:cNvGrpSpPr/>
          <p:nvPr/>
        </p:nvGrpSpPr>
        <p:grpSpPr>
          <a:xfrm>
            <a:off x="6261120" y="3176640"/>
            <a:ext cx="2035080" cy="395280"/>
            <a:chOff x="6261120" y="3176640"/>
            <a:chExt cx="2035080" cy="395280"/>
          </a:xfrm>
        </p:grpSpPr>
        <p:pic>
          <p:nvPicPr>
            <p:cNvPr id="1657" name="7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261120" y="31766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6327720" y="32194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Distribución Presupuesta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9" name="75 Rectángulo redondeado"/>
          <p:cNvGrpSpPr/>
          <p:nvPr/>
        </p:nvGrpSpPr>
        <p:grpSpPr>
          <a:xfrm>
            <a:off x="3541680" y="4548240"/>
            <a:ext cx="2036880" cy="395280"/>
            <a:chOff x="3541680" y="4548240"/>
            <a:chExt cx="2036880" cy="395280"/>
          </a:xfrm>
        </p:grpSpPr>
        <p:pic>
          <p:nvPicPr>
            <p:cNvPr id="1660" name="75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3541680" y="45482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1" name=""/>
            <p:cNvSpPr/>
            <p:nvPr/>
          </p:nvSpPr>
          <p:spPr>
            <a:xfrm>
              <a:off x="36115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2" name="77 Rectángulo redondeado"/>
          <p:cNvGrpSpPr/>
          <p:nvPr/>
        </p:nvGrpSpPr>
        <p:grpSpPr>
          <a:xfrm>
            <a:off x="3541680" y="5016600"/>
            <a:ext cx="2036880" cy="403200"/>
            <a:chOff x="3541680" y="5016600"/>
            <a:chExt cx="2036880" cy="403200"/>
          </a:xfrm>
        </p:grpSpPr>
        <p:pic>
          <p:nvPicPr>
            <p:cNvPr id="1663" name="77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3541680" y="50166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3611520" y="50626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81 Rectángulo redondeado"/>
          <p:cNvGrpSpPr/>
          <p:nvPr/>
        </p:nvGrpSpPr>
        <p:grpSpPr>
          <a:xfrm>
            <a:off x="6261120" y="6486480"/>
            <a:ext cx="2035080" cy="401760"/>
            <a:chOff x="6261120" y="6486480"/>
            <a:chExt cx="2035080" cy="401760"/>
          </a:xfrm>
        </p:grpSpPr>
        <p:pic>
          <p:nvPicPr>
            <p:cNvPr id="1666" name="8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6261120" y="6486480"/>
              <a:ext cx="20350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7" name=""/>
            <p:cNvSpPr/>
            <p:nvPr/>
          </p:nvSpPr>
          <p:spPr>
            <a:xfrm>
              <a:off x="63277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 reinteg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8" name="82 Rectángulo redondeado"/>
          <p:cNvGrpSpPr/>
          <p:nvPr/>
        </p:nvGrpSpPr>
        <p:grpSpPr>
          <a:xfrm>
            <a:off x="3541680" y="6486480"/>
            <a:ext cx="2036880" cy="401760"/>
            <a:chOff x="3541680" y="6486480"/>
            <a:chExt cx="2036880" cy="401760"/>
          </a:xfrm>
        </p:grpSpPr>
        <p:pic>
          <p:nvPicPr>
            <p:cNvPr id="1669" name="8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3541680" y="6486480"/>
              <a:ext cx="2036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36115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de Cier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1" name="83 Rectángulo redondeado"/>
          <p:cNvGrpSpPr/>
          <p:nvPr/>
        </p:nvGrpSpPr>
        <p:grpSpPr>
          <a:xfrm>
            <a:off x="3541680" y="5784840"/>
            <a:ext cx="2036880" cy="396720"/>
            <a:chOff x="3541680" y="5784840"/>
            <a:chExt cx="2036880" cy="396720"/>
          </a:xfrm>
        </p:grpSpPr>
        <p:pic>
          <p:nvPicPr>
            <p:cNvPr id="1672" name="8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3541680" y="57848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36115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4" name="84 Rectángulo redondeado"/>
          <p:cNvGrpSpPr/>
          <p:nvPr/>
        </p:nvGrpSpPr>
        <p:grpSpPr>
          <a:xfrm>
            <a:off x="6261120" y="2779560"/>
            <a:ext cx="2035080" cy="397080"/>
            <a:chOff x="6261120" y="2779560"/>
            <a:chExt cx="2035080" cy="397080"/>
          </a:xfrm>
        </p:grpSpPr>
        <p:pic>
          <p:nvPicPr>
            <p:cNvPr id="1675" name="8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6261120" y="277956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"/>
            <p:cNvSpPr/>
            <p:nvPr/>
          </p:nvSpPr>
          <p:spPr>
            <a:xfrm>
              <a:off x="6327720" y="28209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Firma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7" name="93 Rectángulo redondeado"/>
          <p:cNvGrpSpPr/>
          <p:nvPr/>
        </p:nvGrpSpPr>
        <p:grpSpPr>
          <a:xfrm>
            <a:off x="3541680" y="2378160"/>
            <a:ext cx="2036880" cy="401400"/>
            <a:chOff x="3541680" y="2378160"/>
            <a:chExt cx="2036880" cy="401400"/>
          </a:xfrm>
        </p:grpSpPr>
        <p:pic>
          <p:nvPicPr>
            <p:cNvPr id="1678" name="93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3541680" y="237816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"/>
            <p:cNvSpPr/>
            <p:nvPr/>
          </p:nvSpPr>
          <p:spPr>
            <a:xfrm>
              <a:off x="36115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95 Rectángulo redondeado"/>
          <p:cNvGrpSpPr/>
          <p:nvPr/>
        </p:nvGrpSpPr>
        <p:grpSpPr>
          <a:xfrm>
            <a:off x="6261120" y="3638520"/>
            <a:ext cx="2035080" cy="397080"/>
            <a:chOff x="6261120" y="3638520"/>
            <a:chExt cx="2035080" cy="397080"/>
          </a:xfrm>
        </p:grpSpPr>
        <p:pic>
          <p:nvPicPr>
            <p:cNvPr id="1681" name="95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261120" y="363852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2" name=""/>
            <p:cNvSpPr/>
            <p:nvPr/>
          </p:nvSpPr>
          <p:spPr>
            <a:xfrm>
              <a:off x="6327720" y="368460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Confirma recepción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3" name="96 Rectángulo redondeado"/>
          <p:cNvGrpSpPr/>
          <p:nvPr/>
        </p:nvGrpSpPr>
        <p:grpSpPr>
          <a:xfrm>
            <a:off x="6261120" y="4187880"/>
            <a:ext cx="2035080" cy="396720"/>
            <a:chOff x="6261120" y="4187880"/>
            <a:chExt cx="2035080" cy="396720"/>
          </a:xfrm>
        </p:grpSpPr>
        <p:pic>
          <p:nvPicPr>
            <p:cNvPr id="1684" name="96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6261120" y="418788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5" name=""/>
            <p:cNvSpPr/>
            <p:nvPr/>
          </p:nvSpPr>
          <p:spPr>
            <a:xfrm>
              <a:off x="6327720" y="42292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Decreto  Alcaldic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6" name="97 Rectángulo redondeado"/>
          <p:cNvGrpSpPr/>
          <p:nvPr/>
        </p:nvGrpSpPr>
        <p:grpSpPr>
          <a:xfrm>
            <a:off x="6261120" y="4548240"/>
            <a:ext cx="2035080" cy="395280"/>
            <a:chOff x="6261120" y="4548240"/>
            <a:chExt cx="2035080" cy="395280"/>
          </a:xfrm>
        </p:grpSpPr>
        <p:pic>
          <p:nvPicPr>
            <p:cNvPr id="1687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261120" y="45482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8" name=""/>
            <p:cNvSpPr/>
            <p:nvPr/>
          </p:nvSpPr>
          <p:spPr>
            <a:xfrm>
              <a:off x="63277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9" name="98 Rectángulo redondeado"/>
          <p:cNvGrpSpPr/>
          <p:nvPr/>
        </p:nvGrpSpPr>
        <p:grpSpPr>
          <a:xfrm>
            <a:off x="6261120" y="4950000"/>
            <a:ext cx="2035080" cy="403200"/>
            <a:chOff x="6261120" y="4950000"/>
            <a:chExt cx="2035080" cy="403200"/>
          </a:xfrm>
        </p:grpSpPr>
        <p:pic>
          <p:nvPicPr>
            <p:cNvPr id="1690" name="98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6261120" y="4950000"/>
              <a:ext cx="2035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1" name=""/>
            <p:cNvSpPr/>
            <p:nvPr/>
          </p:nvSpPr>
          <p:spPr>
            <a:xfrm>
              <a:off x="63277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2" name="99 Rectángulo redondeado"/>
          <p:cNvGrpSpPr/>
          <p:nvPr/>
        </p:nvGrpSpPr>
        <p:grpSpPr>
          <a:xfrm>
            <a:off x="6261120" y="5284800"/>
            <a:ext cx="2035080" cy="396720"/>
            <a:chOff x="6261120" y="5284800"/>
            <a:chExt cx="2035080" cy="396720"/>
          </a:xfrm>
        </p:grpSpPr>
        <p:pic>
          <p:nvPicPr>
            <p:cNvPr id="1693" name="99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6261120" y="528480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"/>
            <p:cNvSpPr/>
            <p:nvPr/>
          </p:nvSpPr>
          <p:spPr>
            <a:xfrm>
              <a:off x="6327720" y="532908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otros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100 Rectángulo redondeado"/>
          <p:cNvGrpSpPr/>
          <p:nvPr/>
        </p:nvGrpSpPr>
        <p:grpSpPr>
          <a:xfrm>
            <a:off x="6261120" y="5784840"/>
            <a:ext cx="2035080" cy="396720"/>
            <a:chOff x="6261120" y="5784840"/>
            <a:chExt cx="2035080" cy="396720"/>
          </a:xfrm>
        </p:grpSpPr>
        <p:pic>
          <p:nvPicPr>
            <p:cNvPr id="1696" name="100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6261120" y="578484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63277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" name="101 Rectángulo redondeado"/>
          <p:cNvGrpSpPr/>
          <p:nvPr/>
        </p:nvGrpSpPr>
        <p:grpSpPr>
          <a:xfrm>
            <a:off x="6261120" y="6156360"/>
            <a:ext cx="2035080" cy="396720"/>
            <a:chOff x="6261120" y="6156360"/>
            <a:chExt cx="2035080" cy="396720"/>
          </a:xfrm>
        </p:grpSpPr>
        <p:pic>
          <p:nvPicPr>
            <p:cNvPr id="1699" name="101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6261120" y="615636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"/>
            <p:cNvSpPr/>
            <p:nvPr/>
          </p:nvSpPr>
          <p:spPr>
            <a:xfrm>
              <a:off x="63277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 Técnico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1" name="102 Flecha abajo"/>
          <p:cNvSpPr/>
          <p:nvPr/>
        </p:nvSpPr>
        <p:spPr>
          <a:xfrm>
            <a:off x="3451320" y="0"/>
            <a:ext cx="248904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SEREMIA – DIR. REG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103 Flecha abajo"/>
          <p:cNvSpPr/>
          <p:nvPr/>
        </p:nvSpPr>
        <p:spPr>
          <a:xfrm>
            <a:off x="1327320" y="0"/>
            <a:ext cx="20491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MDS – FOSIS - SEN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105 Flecha abajo"/>
          <p:cNvSpPr/>
          <p:nvPr/>
        </p:nvSpPr>
        <p:spPr>
          <a:xfrm>
            <a:off x="5952960" y="0"/>
            <a:ext cx="20815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EJEC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111 Conector recto"/>
          <p:cNvSpPr/>
          <p:nvPr/>
        </p:nvSpPr>
        <p:spPr>
          <a:xfrm>
            <a:off x="2397240" y="1836720"/>
            <a:ext cx="0" cy="297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5" name="113 Conector recto de flecha"/>
          <p:cNvCxnSpPr/>
          <p:nvPr/>
        </p:nvCxnSpPr>
        <p:spPr>
          <a:xfrm>
            <a:off x="2389320" y="2133720"/>
            <a:ext cx="121032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6" name="118 Conector recto de flecha"/>
          <p:cNvCxnSpPr/>
          <p:nvPr/>
        </p:nvCxnSpPr>
        <p:spPr>
          <a:xfrm>
            <a:off x="5524200" y="213624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7" name="121 Conector recto de flecha"/>
          <p:cNvCxnSpPr/>
          <p:nvPr/>
        </p:nvCxnSpPr>
        <p:spPr>
          <a:xfrm>
            <a:off x="7276680" y="227952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8" name="123 Conector recto de flecha"/>
          <p:cNvCxnSpPr/>
          <p:nvPr/>
        </p:nvCxnSpPr>
        <p:spPr>
          <a:xfrm flipH="1" flipV="1">
            <a:off x="5523840" y="25344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709" name="126 Conector recto"/>
          <p:cNvSpPr/>
          <p:nvPr/>
        </p:nvSpPr>
        <p:spPr>
          <a:xfrm>
            <a:off x="4560840" y="2678040"/>
            <a:ext cx="11160" cy="26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0" name="129 Conector recto de flecha"/>
          <p:cNvCxnSpPr/>
          <p:nvPr/>
        </p:nvCxnSpPr>
        <p:spPr>
          <a:xfrm>
            <a:off x="4571640" y="2941200"/>
            <a:ext cx="1742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1" name="130 Conector recto de flecha"/>
          <p:cNvCxnSpPr/>
          <p:nvPr/>
        </p:nvCxnSpPr>
        <p:spPr>
          <a:xfrm>
            <a:off x="7276680" y="3075120"/>
            <a:ext cx="1080" cy="1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2" name="132 Conector recto de flecha"/>
          <p:cNvCxnSpPr/>
          <p:nvPr/>
        </p:nvCxnSpPr>
        <p:spPr>
          <a:xfrm flipH="1">
            <a:off x="5503680" y="3339720"/>
            <a:ext cx="810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3" name="134 Conector recto de flecha"/>
          <p:cNvCxnSpPr/>
          <p:nvPr/>
        </p:nvCxnSpPr>
        <p:spPr>
          <a:xfrm>
            <a:off x="4417560" y="3472920"/>
            <a:ext cx="1080" cy="197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4" name="136 Conector recto de flecha"/>
          <p:cNvCxnSpPr/>
          <p:nvPr/>
        </p:nvCxnSpPr>
        <p:spPr>
          <a:xfrm>
            <a:off x="5524560" y="3795480"/>
            <a:ext cx="8244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5" name="138 Conector recto de flecha"/>
          <p:cNvCxnSpPr/>
          <p:nvPr/>
        </p:nvCxnSpPr>
        <p:spPr>
          <a:xfrm>
            <a:off x="7276680" y="3938400"/>
            <a:ext cx="1080" cy="27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6" name="139 Conector recto de flecha"/>
          <p:cNvCxnSpPr/>
          <p:nvPr/>
        </p:nvCxnSpPr>
        <p:spPr>
          <a:xfrm>
            <a:off x="7276680" y="44830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7" name="143 Conector recto de flecha"/>
          <p:cNvCxnSpPr/>
          <p:nvPr/>
        </p:nvCxnSpPr>
        <p:spPr>
          <a:xfrm flipH="1" flipV="1">
            <a:off x="5523840" y="46998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8" name="145 Conector recto de flecha"/>
          <p:cNvCxnSpPr/>
          <p:nvPr/>
        </p:nvCxnSpPr>
        <p:spPr>
          <a:xfrm>
            <a:off x="7276680" y="484344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9" name="148 Conector recto de flecha"/>
          <p:cNvCxnSpPr/>
          <p:nvPr/>
        </p:nvCxnSpPr>
        <p:spPr>
          <a:xfrm flipH="1" flipV="1">
            <a:off x="5523840" y="51159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0" name="150 Conector recto de flecha"/>
          <p:cNvCxnSpPr/>
          <p:nvPr/>
        </p:nvCxnSpPr>
        <p:spPr>
          <a:xfrm>
            <a:off x="7276680" y="52498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1" name="151 Conector recto de flecha"/>
          <p:cNvCxnSpPr/>
          <p:nvPr/>
        </p:nvCxnSpPr>
        <p:spPr>
          <a:xfrm>
            <a:off x="7276680" y="5584320"/>
            <a:ext cx="1080" cy="229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2" name="154 Conector recto de flecha"/>
          <p:cNvCxnSpPr/>
          <p:nvPr/>
        </p:nvCxnSpPr>
        <p:spPr>
          <a:xfrm flipH="1">
            <a:off x="5523840" y="594972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3" name="155 Conector recto de flecha"/>
          <p:cNvCxnSpPr/>
          <p:nvPr/>
        </p:nvCxnSpPr>
        <p:spPr>
          <a:xfrm>
            <a:off x="7276680" y="6054480"/>
            <a:ext cx="1080" cy="130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24" name="156 Rectángulo redondeado"/>
          <p:cNvGrpSpPr/>
          <p:nvPr/>
        </p:nvGrpSpPr>
        <p:grpSpPr>
          <a:xfrm>
            <a:off x="3541680" y="6156360"/>
            <a:ext cx="2036880" cy="396720"/>
            <a:chOff x="3541680" y="6156360"/>
            <a:chExt cx="2036880" cy="396720"/>
          </a:xfrm>
        </p:grpSpPr>
        <p:pic>
          <p:nvPicPr>
            <p:cNvPr id="1725" name="156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3541680" y="61563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>
              <a:off x="36115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27" name="157 Conector recto de flecha"/>
          <p:cNvCxnSpPr/>
          <p:nvPr/>
        </p:nvCxnSpPr>
        <p:spPr>
          <a:xfrm flipH="1">
            <a:off x="5523840" y="630828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8" name="158 Conector recto de flecha"/>
          <p:cNvCxnSpPr/>
          <p:nvPr/>
        </p:nvCxnSpPr>
        <p:spPr>
          <a:xfrm>
            <a:off x="7276680" y="6499080"/>
            <a:ext cx="108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9" name="162 Conector recto de flecha"/>
          <p:cNvCxnSpPr/>
          <p:nvPr/>
        </p:nvCxnSpPr>
        <p:spPr>
          <a:xfrm flipH="1">
            <a:off x="5523840" y="66513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30" name="182 Rectángulo redondeado"/>
          <p:cNvGrpSpPr/>
          <p:nvPr/>
        </p:nvGrpSpPr>
        <p:grpSpPr>
          <a:xfrm>
            <a:off x="3541680" y="1974960"/>
            <a:ext cx="2036880" cy="396720"/>
            <a:chOff x="3541680" y="1974960"/>
            <a:chExt cx="2036880" cy="396720"/>
          </a:xfrm>
        </p:grpSpPr>
        <p:pic>
          <p:nvPicPr>
            <p:cNvPr id="1731" name="18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3541680" y="19749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"/>
            <p:cNvSpPr/>
            <p:nvPr/>
          </p:nvSpPr>
          <p:spPr>
            <a:xfrm>
              <a:off x="3611520" y="201600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Envía invitación a los Ejecutor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3" name="183 Rectángulo redondeado"/>
          <p:cNvGrpSpPr/>
          <p:nvPr/>
        </p:nvGrpSpPr>
        <p:grpSpPr>
          <a:xfrm>
            <a:off x="3541680" y="3633840"/>
            <a:ext cx="2036880" cy="395280"/>
            <a:chOff x="3541680" y="3633840"/>
            <a:chExt cx="2036880" cy="395280"/>
          </a:xfrm>
        </p:grpSpPr>
        <p:pic>
          <p:nvPicPr>
            <p:cNvPr id="1734" name="183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3541680" y="36338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3611520" y="3675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utoriza y traspasa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6" name="184 Rectángulo redondeado"/>
          <p:cNvGrpSpPr/>
          <p:nvPr/>
        </p:nvGrpSpPr>
        <p:grpSpPr>
          <a:xfrm>
            <a:off x="3541680" y="4535640"/>
            <a:ext cx="2036880" cy="396720"/>
            <a:chOff x="3541680" y="4535640"/>
            <a:chExt cx="2036880" cy="396720"/>
          </a:xfrm>
        </p:grpSpPr>
        <p:pic>
          <p:nvPicPr>
            <p:cNvPr id="1737" name="184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3541680" y="45356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"/>
            <p:cNvSpPr/>
            <p:nvPr/>
          </p:nvSpPr>
          <p:spPr>
            <a:xfrm>
              <a:off x="3611520" y="45799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9" name="185 Rectángulo redondeado"/>
          <p:cNvGrpSpPr/>
          <p:nvPr/>
        </p:nvGrpSpPr>
        <p:grpSpPr>
          <a:xfrm>
            <a:off x="3541680" y="4950000"/>
            <a:ext cx="2036880" cy="403200"/>
            <a:chOff x="3541680" y="4950000"/>
            <a:chExt cx="2036880" cy="403200"/>
          </a:xfrm>
        </p:grpSpPr>
        <p:pic>
          <p:nvPicPr>
            <p:cNvPr id="1740" name="185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3541680" y="49500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1" name=""/>
            <p:cNvSpPr/>
            <p:nvPr/>
          </p:nvSpPr>
          <p:spPr>
            <a:xfrm>
              <a:off x="36115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2" name="186 Rectángulo redondeado"/>
          <p:cNvGrpSpPr/>
          <p:nvPr/>
        </p:nvGrpSpPr>
        <p:grpSpPr>
          <a:xfrm>
            <a:off x="3541680" y="5772240"/>
            <a:ext cx="2036880" cy="396720"/>
            <a:chOff x="3541680" y="5772240"/>
            <a:chExt cx="2036880" cy="396720"/>
          </a:xfrm>
        </p:grpSpPr>
        <p:pic>
          <p:nvPicPr>
            <p:cNvPr id="1743" name="186 Rectángulo redondeado" descr=""/>
            <p:cNvPicPr/>
            <p:nvPr/>
          </p:nvPicPr>
          <p:blipFill>
            <a:blip r:embed="rId28"/>
            <a:stretch/>
          </p:blipFill>
          <p:spPr>
            <a:xfrm>
              <a:off x="3541680" y="57722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/>
            <p:nvPr/>
          </p:nvSpPr>
          <p:spPr>
            <a:xfrm>
              <a:off x="3611520" y="58165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187 Rectángulo redondeado"/>
          <p:cNvGrpSpPr/>
          <p:nvPr/>
        </p:nvGrpSpPr>
        <p:grpSpPr>
          <a:xfrm>
            <a:off x="3541680" y="3164040"/>
            <a:ext cx="2036880" cy="401400"/>
            <a:chOff x="3541680" y="3164040"/>
            <a:chExt cx="2036880" cy="401400"/>
          </a:xfrm>
        </p:grpSpPr>
        <p:pic>
          <p:nvPicPr>
            <p:cNvPr id="1746" name="187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3541680" y="316404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3611520" y="320976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8" name="188 Rectángulo redondeado"/>
          <p:cNvGrpSpPr/>
          <p:nvPr/>
        </p:nvGrpSpPr>
        <p:grpSpPr>
          <a:xfrm>
            <a:off x="3541680" y="2371680"/>
            <a:ext cx="2036880" cy="395280"/>
            <a:chOff x="3541680" y="2371680"/>
            <a:chExt cx="2036880" cy="395280"/>
          </a:xfrm>
        </p:grpSpPr>
        <p:pic>
          <p:nvPicPr>
            <p:cNvPr id="1749" name="188 Rectángulo redondeado" descr=""/>
            <p:cNvPicPr/>
            <p:nvPr/>
          </p:nvPicPr>
          <p:blipFill>
            <a:blip r:embed="rId30"/>
            <a:stretch/>
          </p:blipFill>
          <p:spPr>
            <a:xfrm>
              <a:off x="3541680" y="237168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0" name=""/>
            <p:cNvSpPr/>
            <p:nvPr/>
          </p:nvSpPr>
          <p:spPr>
            <a:xfrm>
              <a:off x="3611520" y="24145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1" name="189 Rectángulo redondeado"/>
          <p:cNvGrpSpPr/>
          <p:nvPr/>
        </p:nvGrpSpPr>
        <p:grpSpPr>
          <a:xfrm>
            <a:off x="3541680" y="6145200"/>
            <a:ext cx="2036880" cy="395280"/>
            <a:chOff x="3541680" y="6145200"/>
            <a:chExt cx="2036880" cy="395280"/>
          </a:xfrm>
        </p:grpSpPr>
        <p:pic>
          <p:nvPicPr>
            <p:cNvPr id="1752" name="189 Rectángulo redondeado" descr=""/>
            <p:cNvPicPr/>
            <p:nvPr/>
          </p:nvPicPr>
          <p:blipFill>
            <a:blip r:embed="rId31"/>
            <a:stretch/>
          </p:blipFill>
          <p:spPr>
            <a:xfrm>
              <a:off x="3541680" y="614520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"/>
            <p:cNvSpPr/>
            <p:nvPr/>
          </p:nvSpPr>
          <p:spPr>
            <a:xfrm>
              <a:off x="3611520" y="61880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574432C6-7077-4804-8617-C77A5C7126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Rectangle 19"/>
          <p:cNvSpPr/>
          <p:nvPr/>
        </p:nvSpPr>
        <p:spPr>
          <a:xfrm>
            <a:off x="539640" y="1210680"/>
            <a:ext cx="777744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El Sistema de Gestión de Convenios – SIGEC </a:t>
            </a:r>
            <a:r>
              <a:rPr b="0" i="1" lang="es-CL" sz="2000" spc="-1" strike="noStrike">
                <a:solidFill>
                  <a:srgbClr val="006cb7"/>
                </a:solidFill>
                <a:latin typeface="Arial"/>
                <a:ea typeface="Verdana"/>
              </a:rPr>
              <a:t>–</a:t>
            </a: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 es una plataforma informática radicada en el Ministerio de Desarrollo Social destinada a la gestión en línea de los programas implementados a nivel local y que tienen transferencia de recursos desde el Ministerio de Desarrollo Social a través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esta plataforma acceden todos los usuarios involucrados en cada programa a nivel nacional, regional y comu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 gestionan tanto los convenios nacionales (entre dos ministerios y/o servicios públicos) como los convenios realizados entre las SEREMIAS y los Municipios y/o ejecu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través de esta plataforma se interactúa entre los distintos ac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8" name="8 Grupo"/>
          <p:cNvGrpSpPr/>
          <p:nvPr/>
        </p:nvGrpSpPr>
        <p:grpSpPr>
          <a:xfrm>
            <a:off x="-19080" y="196920"/>
            <a:ext cx="4479840" cy="711000"/>
            <a:chOff x="-19080" y="196920"/>
            <a:chExt cx="4479840" cy="711000"/>
          </a:xfrm>
        </p:grpSpPr>
        <p:sp>
          <p:nvSpPr>
            <p:cNvPr id="1759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Pentágono 4"/>
            <p:cNvSpPr/>
            <p:nvPr/>
          </p:nvSpPr>
          <p:spPr>
            <a:xfrm>
              <a:off x="9360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1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87C70F5D-DE66-49C5-856A-BB04BD7C76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Rectangle 19"/>
          <p:cNvSpPr/>
          <p:nvPr/>
        </p:nvSpPr>
        <p:spPr>
          <a:xfrm>
            <a:off x="722160" y="1495800"/>
            <a:ext cx="77774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alizar seguimiento presupuestario, de actividades, plazos, productos, y de gestión a los proyectos y/o programas con transferencia de recursos por medio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Generar información relevante y suficiente para la toma de decisiones a nivel estratégico y opera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cceder de forma rápida y simple a la información de los distintos convenios cualquiera sea el fin o requeri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tectar los niveles de avance, cumplimiento de actividades, plazos  y compromisos establec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6" name="8 Grupo"/>
          <p:cNvGrpSpPr/>
          <p:nvPr/>
        </p:nvGrpSpPr>
        <p:grpSpPr>
          <a:xfrm>
            <a:off x="-36360" y="196920"/>
            <a:ext cx="4479840" cy="711000"/>
            <a:chOff x="-36360" y="196920"/>
            <a:chExt cx="4479840" cy="711000"/>
          </a:xfrm>
        </p:grpSpPr>
        <p:sp>
          <p:nvSpPr>
            <p:cNvPr id="1767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Pentágono 4"/>
            <p:cNvSpPr/>
            <p:nvPr/>
          </p:nvSpPr>
          <p:spPr>
            <a:xfrm>
              <a:off x="7632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Funci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9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7CD7FD43-8B2A-4A1A-BD0C-FEE58F84C0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19"/>
          <p:cNvSpPr/>
          <p:nvPr/>
        </p:nvSpPr>
        <p:spPr>
          <a:xfrm>
            <a:off x="539640" y="1060200"/>
            <a:ext cx="77774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atos del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munas y ejecutores inv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la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ocumentos de apoyo (Manual de Operación, Orientaciones técnicas, format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creto Alcald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prórroga de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aprobación de Modificación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cier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4" name="8 Grupo"/>
          <p:cNvGrpSpPr/>
          <p:nvPr/>
        </p:nvGrpSpPr>
        <p:grpSpPr>
          <a:xfrm>
            <a:off x="-27000" y="189000"/>
            <a:ext cx="4479840" cy="676080"/>
            <a:chOff x="-27000" y="189000"/>
            <a:chExt cx="4479840" cy="676080"/>
          </a:xfrm>
        </p:grpSpPr>
        <p:sp>
          <p:nvSpPr>
            <p:cNvPr id="1775" name="7 Pentágono"/>
            <p:cNvSpPr/>
            <p:nvPr/>
          </p:nvSpPr>
          <p:spPr>
            <a:xfrm>
              <a:off x="-27000" y="18900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Pentágono 4"/>
            <p:cNvSpPr/>
            <p:nvPr/>
          </p:nvSpPr>
          <p:spPr>
            <a:xfrm>
              <a:off x="85680" y="22536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convocator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7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E8E89C07-5CF1-4E23-B1B1-EC95CAD2F3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19"/>
          <p:cNvSpPr/>
          <p:nvPr/>
        </p:nvSpPr>
        <p:spPr>
          <a:xfrm>
            <a:off x="539640" y="1296720"/>
            <a:ext cx="777744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 por ejecutor por 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úmero y monto de cuo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ndiciones financieras mens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dificación de 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nto reinteg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es Técnicos de Av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rumentos técnicos (P2 en Habitabilidad, Ficha Familia en Autoconsumo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2" name="8 Grupo"/>
          <p:cNvGrpSpPr/>
          <p:nvPr/>
        </p:nvGrpSpPr>
        <p:grpSpPr>
          <a:xfrm>
            <a:off x="-19080" y="196920"/>
            <a:ext cx="4479840" cy="676080"/>
            <a:chOff x="-19080" y="196920"/>
            <a:chExt cx="4479840" cy="676080"/>
          </a:xfrm>
        </p:grpSpPr>
        <p:sp>
          <p:nvSpPr>
            <p:cNvPr id="1783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Pentágono 4"/>
            <p:cNvSpPr/>
            <p:nvPr/>
          </p:nvSpPr>
          <p:spPr>
            <a:xfrm>
              <a:off x="9360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programa 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85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Usuario</cp:lastModifiedBy>
  <dcterms:modified xsi:type="dcterms:W3CDTF">2014-06-30T14:26:36Z</dcterms:modified>
  <cp:revision>175</cp:revision>
  <dc:subject/>
  <dc:title>Slide 1</dc:title>
</cp:coreProperties>
</file>