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C0B943-3869-4F0D-A058-ADECA9F592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30A89B-FB8F-443A-A1E5-3FAC4DD22BC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B54195-A7DC-4843-ADEE-7C7F4834C8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A83FA0-BABF-4B17-B6AA-63333D5C4C2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B33945-4A3B-4E6E-B00E-25138533A70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363438-5250-4A9C-BD73-042D4ECE340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B85367-BDF7-4407-BED4-0558A0A79C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C83A62-6555-4256-9D2A-218E2F839A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8F7816-106C-490A-839C-2D3F02D3D30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08B74A-996B-4250-8F93-FD807BBD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1A3A2A-4173-4A53-B735-2BF9BD42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D3BD7A-BAEE-4231-8899-570F750C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3176BE-A4BB-445E-B3EE-F9ACF9B0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D6E982-9905-47E1-8C2E-F3E0B67D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93BBBD-3768-4A51-A543-80F0E9DF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93C07E-43A3-4980-A4B1-AE79F4E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3021A2-5C50-43E1-A92E-48906B2E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2334D6-8277-4092-B827-69CC8C7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2D26DE-C5C0-4E42-9576-AC3EA0E1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00D68B-2DE4-4B31-A835-3F3070B8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7F2A72-41EE-4813-A94B-409AB0A5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6704A-2A0F-4EE2-A0C6-830100FD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F6E3E-EE1B-42A1-BE0C-D7E8E7F3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50B13-9949-4E0B-8A35-9C3DD771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E8C34-48EF-4A67-ADBD-011D4BDD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8A313-926C-4AD3-9D96-8CC7E84E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C2BF0-8BF8-42FB-9A90-E429D7D9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BC83A-D4A1-482D-AC43-84B107F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5CB96-AD2F-4FF8-A086-51CB5A69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DD179-B6EF-45D6-A5CC-94CC05BD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6EDE-58D7-41F7-B5C7-5873F10C1A5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4EB72-7A3A-4C6F-8029-CDA43811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BC0C8-DEB1-47E5-9A65-7C5DEDA4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787BF-1BEB-4018-8FC4-D804B915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A33CB-2876-440B-B776-C949FCCC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62AA1-0641-486F-BEEF-71BB1A40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92BF0-5FD4-48B2-BF53-A4570B02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2B26E-7F11-49A8-9222-C06C71FA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9FE17-E3B4-4646-8FC6-BA6FC1D5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50668-C52B-4D04-9125-4D0BEDA7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D430D-3D43-4A99-9628-5F62FB95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A515-EFD3-4990-BDBA-71B3DE0D130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E92C3-FDAD-4C7C-8D10-D614029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15CC4-1DD5-4084-9A24-B71C4D80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45DB5-816A-4DA1-8EC2-F342E11D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C5075-E608-44F0-AA2D-5E3767D1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5BE07-F730-4545-824D-9F65E12E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D62A7-1D7F-48B2-A707-C57DAC494FA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8A373-B9C3-433F-B2C6-12615D9A64F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E0F63-861E-4109-8AD5-75D882F7933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C92AF-1448-4C9B-A582-1C116DBBB0C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B8FF5-4EA2-4E8D-8BA4-1EA1CEC892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E302-CF1F-4EA5-BB36-A94C70942C4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9AD95-B1D5-4175-A194-8A74AE7509D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16529-47D0-41A0-90D7-7A4A8026FD0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37ADB-256E-4A62-989E-5A261A14CA9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FB59B-87A2-48B0-8CDB-B3B525457CE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669E2-1F74-4BD3-9DBD-6B2FA59B22A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A65B6-B2FB-4253-A12D-4D6F867AE99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5992A-57F3-4FF7-946F-6A147D24355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7EDEDF-C8B9-49A2-A9DB-9190423EA14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991B5C-97F1-4661-83E2-9F60D3C212B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8D6100-95CE-4895-95D6-67C8B49B8D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DDA6-62C1-49A4-A305-31B6DD84322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20DE17-B548-461E-BF32-5A9DC1FC05C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D03CB3-C6E1-4A27-89AB-3AEA27B5234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0D82AC-0E02-4AC1-B19A-FE676312927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5C93A6-27B3-4E4F-B01E-E83CF5561B6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7E6299-203A-441D-B8DF-CE92C7BFC09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C591A8-4ED9-4CF6-A45E-F5DC1464E80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91E7AE-281E-4A67-9C1F-DBA107E27B9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CC52A1-DFAB-45F0-927E-29095E7FF92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0475B1-8A7D-4C6E-803F-DB803297925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F4BB0-D5D4-4E40-BAF6-BAD1DE57CE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0AF1-9248-4C30-891B-5EDDDF60CC0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4FD13-9DEB-4670-B16E-6DE6BBFF353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FA0AE-18F4-4AD1-BB04-00EDCA3A072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36F34-8AB4-46CB-BF98-CCFE86AAB2B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BDFAF-678A-4E2D-A475-8B337ED2F4F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66BF8-AD5C-4712-BC3E-71D2775A39B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F5703-52F0-4238-9832-2792A69A116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46865-2825-4089-88D1-3FE96B002CE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77998-5902-4C8F-9737-98CA198BB79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80656-3CF4-41BA-88B7-BD2014EA935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C4FAC-024F-4D85-972D-5466FFABDF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4202-12D3-4A35-A76E-375FA56410B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1852F-60D1-40E0-AEB7-EB572189CE9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6C587-E8DA-4A2A-81AA-F6E14DE44A8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6DCCB-2E96-45FB-9744-659FC861132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D36D0-F8ED-4759-A4AB-B7B2C4EA334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9949A-07FE-414C-99E9-C168F541D45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CB34D-15BA-48E4-88BB-3739CD73675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0CE92-CCA6-4819-822F-29B5414EEBD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19944-B8A3-44F4-B9DE-CBA3FD50063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F07B0-1EAB-4E97-99D4-C7A6E2EC05D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65064-7ACF-40E9-978C-089499323E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3233A-C7A4-4E95-8A2D-3C561D3FA93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93726-F67D-4CE5-A553-6AEDFE62C62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0330A-DB27-40B4-B945-424C0A60456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C853B-6A79-4DCD-B4D0-B12806814CF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BE7629-9AEA-4CE5-88CF-525F0A28553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902891-B5E5-45B3-B188-4E7B243E31C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F56403-5108-4E4E-BC68-12B493C937E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431F3A-9F9A-458B-AAB4-75D8D5EC656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632B71-E05D-4812-BE2E-D933C25BAA7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E4C2D9-7972-4FFA-80F4-7280A958711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E5E79E-9DB3-4ED9-895F-8793A93A9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1BF9-2D5E-45BB-ADCB-AAAED5ED6EE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6935E2-0DE2-4932-8BED-79121301DF4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7CEA0A-62CE-43F4-9D66-F14F85DA3AE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C67082-550E-4D96-A7E5-1F69BCAE7EF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535936-146F-44DF-80C4-653463DE908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DB460A-0F42-4257-B5C0-83F780C97A9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4F2451-0901-4F72-ADF3-961CB9E54B2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72E2DA-1F94-4EAA-ABE3-EDA0212DAB5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E694A4-20AA-44EA-B28F-5A5459F1849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4D9E5A-9692-4542-BDE3-D7754493371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90B3FD-B353-40E3-A5D5-DB23A97158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5A5C-B930-4F83-922E-86410AFB263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DD369F-F5B3-44BD-9E55-FA305B8864D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27F238-5831-4BCE-BBDE-8674D92026C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0B808D-5452-4F47-B26B-E16375C752B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5392A0-6617-4586-833C-E3BF6DC0164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BA566A-28B3-4F80-99EE-1930E14647E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E48104-53BC-478F-B3F9-30DF16B70E3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490B88-DA39-4308-9981-F2B9B582D7B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12A368-A96B-4920-8318-D863D8B9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E4BCD0-65BF-4718-9EDF-AD0BE3D0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F1257ED-1F8D-483B-A60A-7C2233B1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6DD7-1ADB-45EF-BA80-11FA23AD3BA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1B83A9-613A-4800-A0E0-FEB38D33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93E3E2B-C6BF-48DC-A6BE-0A8BFB4B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04DD92-424C-4E75-8C9E-9DC20096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21D8CE-0A3A-4170-A9B4-1B69B97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63F3C8F-D9D0-41DE-9B79-FAE0B847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00C022-755D-4551-8562-09F82CAE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07DFBE-2966-4842-8937-23542CD8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20287D-DE01-471E-B4B1-2DF5CE27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29B8F2-2E3C-406E-A4CC-93333868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5BDAB6-0BA1-431E-B42A-A0C4BAB6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2CB97-5E74-4A41-9CEC-E1CD1134935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AC0557-594E-499F-9497-388EA576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7C5266-6BCF-437B-8A96-95FBCBFA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818F378-2085-4DA2-ABD2-89DDA6E9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766F87-0801-4DA4-B725-ED8C19B2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B5CDDE9-B3E7-4BDC-B7CA-5A67BF07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1B8610-C9E0-42B6-A642-298D54F1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90C048-FA1E-410C-BF5F-F5734FF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E13CF5-3F9F-42B6-AEDD-2A04ED97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83A488-407B-4749-95C6-52610527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E52DFB-FB97-4447-9A39-8D0FB41B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3806-5326-4E47-AF7C-511D0533B12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1A577DA-CF43-4ACC-92AC-C24D5BAD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D0929B-FBAF-4CFB-9C81-83024663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E7C81DF-4249-429E-BD8A-4CE20875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82DF44-F5F8-4666-8AFC-A18F6ABE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D757351-12CE-47F8-B401-4953D373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1B9650F-E556-4536-A84A-53F3424C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40CF4B4-DECF-45B7-9743-D46FBD51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9C55BB-C11B-4782-AF86-5D76EED2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C1498CF-8A8A-4B81-8E2C-CFB9BBB7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9AFCF3-DD32-4004-926B-61642D25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5386C4-EB73-4D8B-A738-A3120989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64C9302-BDF8-4A8A-99BD-2AB00448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C8CD510-AC00-46E4-9D63-2BD2B5B7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B54D34-2EB6-43AB-9D82-D29D46D6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35D867-35BC-4FAA-A105-9E0484AC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230F6C-BE20-415A-989A-7125177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37C154-0DCC-4DDE-B541-3915EC04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F238F84-7DE7-43DE-88BB-D5AABD82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A485C3-827C-4E37-81D3-67AD1BBC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9644C9-30BF-4969-8951-9AD8C46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7C88DD3-99EA-490E-B1DC-B8F81C31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F115A71-A90B-4995-BB98-162E9B1D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2F350C-D27B-4C72-B483-FD5A3FAA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75B0FE2-C7CD-4887-BBD0-546F2CCF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564769-6A2A-43E1-9F00-4AD786D2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2E97397-B7B3-48FE-A473-37E39DE8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D1B701-639F-46FB-9CE9-00AB9CAF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E6C78C-399C-4572-8320-7DF23AF7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30E4C67-99E6-4126-B4F3-96F3AC67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FF088DE-FDF2-404F-9EC4-D2663687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0F2FC27-1B47-47E1-B2DB-421094F0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B627189-30BB-46DC-9ADC-E3BC20C1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5628B38-0808-4FE2-95A2-D6A673D4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886E404-2676-4D72-81EB-D9AE61F1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9AA5103-D9D8-4406-9FA7-3CEF5C55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7958439-D6F1-4565-BF87-617C741B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444E83E-9EBA-41FE-9718-07018C27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25B3464-854B-4477-8A6B-F64E6530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786CD4-909D-48BE-BDB4-AC9AF5FB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C155FD-A452-447F-AD43-D272EA99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D36F483-DF47-4845-9D84-E2812D58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CCD892-57C6-47D7-B2D1-C724766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C1534F-B8D5-4338-A2EE-17C406C5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EB1CB0-04A4-4AA0-B013-187EAF8F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D11BED8-188F-47D3-953D-567F6C0D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38D1A3D-0DD5-4A63-92E3-1F25EA40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14BA1CA-F4B1-4D16-9FA7-3B19FFC1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967286F-9095-4854-87CC-B082D53D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CCA1423-DBAA-437A-B381-E06C3C59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5A3ABBD-66F6-4152-A848-E407E13E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D302D75-7BEC-4BD1-AF90-8A0CC09A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9008B60-233F-4337-AC94-E1BA9AAB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1CA8A83-CF3D-4DF5-B2F6-A55961FB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9D98E91-FF7A-45CF-9EF0-13335C7A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32FE8C1-7480-45C8-B5EE-7836CCD0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28716AD-F8BE-4CC0-AD2D-644F5CA3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A84020E-801C-41B1-A7AE-02277ACE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C5A8369-B9F1-41C7-B267-AB3786EF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00FEF3B-C885-49F4-8A6E-0A4ADE62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A892F79-556D-49A9-AD88-651131A9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367F09A-FD94-4E7B-9FBF-518CD35D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28B4E2D-23B5-4F58-B1DE-495D2475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E189757-179E-45D5-B505-BB5977DE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B9AD45F-B274-4088-95C6-A67A047B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6E9C28F-5AF6-4624-8ED3-83427B7E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696EDB9-3F38-44E4-B094-CF45AA9B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2500600-7661-4C02-8139-11BEE9EF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26CAB9-F510-4DF7-990E-325B7BF7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7E5618E-1B5D-4138-89A9-64D42B31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D5E829-69AB-483E-B26F-904DCB0B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FFB1EA0-0DF6-4036-A2D3-9CCC6A16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39E0E91-0B6A-490E-9B21-4521C2B8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736D6EA-1D64-453E-BB18-93C094F1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9BAC165-66CD-42AC-96BB-39B46C3D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6F2899-49FF-4288-8C2A-D0919032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6DFABAA-C14F-4064-9E44-820C513F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3A444A4-C1F8-4C53-B7D7-FAF50367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5BFCD05-BADC-41A9-B136-02ED89CE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36CD456-2F8C-4A9B-82F1-ABD98E03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10C4149-57B2-46FB-B8A1-984A389B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705364C-D515-4EAC-BEC3-7084E02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CE4ADFC-5A74-406A-ABDA-853376C3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05C35CD-36A7-472E-9BD5-98F57287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57A4ABD-DC68-4404-A4C0-FFC43669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8099AF-48E9-4BE5-95ED-753E41F5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13FF846-AE11-4E2B-83C7-CB4D1013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5E67BE0-F14B-4C01-9EEB-AD6A9280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67837C1-359A-4DB4-8139-1C2A73FC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4E971E5-4E48-4AFB-A520-69990DB4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2385D43-0B2C-422D-8C0A-4F6EE4F4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B134EC6-5BF3-4300-8EBC-E6015BA0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A2EFBC4-A786-4938-9E52-0D86387B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0C4DCE0-A633-49BA-A225-8891563A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278C603-89D1-4504-B667-3686FD61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4858A1A-64FE-449C-812A-7CA3B8AB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9344D6D-77A6-4E5C-B41C-0919C58C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3689C6C-43A2-4538-81D6-562FFE61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5D7238A-906F-4B35-98BB-EBA27A7F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1F84E87-1456-44C5-BFBF-D27E5C58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037119D-ADA7-4C4D-9584-10AA17BD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3FB583E-EF35-4A93-AA7B-DDD7A86E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2367F5C-7C86-4298-946A-CD733219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83E2615-FA86-4C98-BC44-0A275120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3298221-27B0-4669-A026-CDF953B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6FEC62B-62B1-48FB-9EE1-29EA468A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B816235-4617-48EF-BD3D-FD42DD3C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407347E-066D-44EB-B5F9-492B7319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1147B04-2685-4FC3-B17C-ED5CED98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8E4219D-14D2-4A54-96D5-85F186BE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8BA0E-EB88-4499-9FD7-1BA775E9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19B61-56E5-4E78-9DCE-549363EE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4155B-37D2-455C-B629-0A6258C9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80ECF-2DB1-4907-831A-997C049B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B8251-A54C-40CF-AFDF-F69B7A12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B883E-CF74-48BF-9568-26ACF0DE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B4B2D-2597-44A1-BBF0-CC73AA4C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EBE65-891C-47F3-B2EB-2F58F1AC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BEFFA-ADBB-40BF-9803-8D7363FB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C5441-D4B2-4FE4-BF88-BB624C3D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CC5D4-7370-4E61-A867-82D1342E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A9C5A-3DD1-41BF-8932-9C38F6A3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33346-5629-416A-8872-6BF9B4D1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E47D5-2E5E-4923-A15B-2C51F064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A325B-D052-42A4-BC04-8B627976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5B7A4-F98D-4847-9387-77C7005C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F5D80-7A41-4B3F-94D0-3C5F84D9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51C39-58AB-475D-A7BA-74B12B7B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6E5B0-4CCE-457F-9B1A-D11EC8EF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5E5B2-1D7A-4630-BA92-CE5B7DF4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44614-BB03-4C9F-B64D-E4A2422F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24034-7DD8-419D-9859-01F17CEE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B05DC-F3D8-4A92-8CD8-E44015E4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46E44-B1AF-4783-BC6D-47252CA5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F8974-CAF5-4311-BFC9-E20EF2C8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EE136-03A5-4CB5-9510-41B16B1D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A0A56-6316-4536-86D7-21ED616D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F804B-2728-4F81-9C1F-84FF60C3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2E440-F804-4179-90BD-05C96449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68FCB4-E0C6-4D6C-969C-10B91EDA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6A225-697B-4914-ABE3-E4693A48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1633B-4A92-4CC4-9D0B-1CA04AE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A1F55-4FBF-442A-A5EF-641129C4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C9F6E-12C2-4825-8C92-30396439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8C539-6B99-4406-B7B9-4881613F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7FEF0-001F-47E0-9185-3EA08E35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A1A08-48D9-4A48-B3F8-14CD5F94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DC263-AEA1-441C-82F0-BE6FD889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714EA-C751-4081-90A2-C8F0ADD6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731BE-9AF8-4CA7-BF64-506E6F1D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84591-0BCF-4925-BC2E-F82AB60E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42FF3-CE01-4395-B6B7-E4E2B318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B46B0-BBEC-4E91-92A7-7F4DC450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EBF9A2-B283-47C4-8B54-67198955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98903-DF0F-4438-BAFD-F4AC66D5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61768-FE25-4D2E-B000-8AB4AAF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FB074-279A-4190-A6B3-6B9086D1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0E534-A639-40E5-966E-E058E65B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E381A-925F-48ED-A99B-3C5C1EE2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CF4E4-BF7A-4C21-9067-B9786286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BF0CE-1AF8-491C-B15A-8E7DC77B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C2D88-385E-49EA-962B-C64200E8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3F43E-4211-44DF-A639-942D6D26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FE14A-ECFD-4893-A937-58E5F2EE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F7B85-332A-4429-9234-94DE4253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5048B-F9ED-4BA9-9725-E41E3A64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F1E6E-0587-4024-808A-859F2BEA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16BF9-F139-4F1F-AFC7-6078D0A2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E43C3-DC08-4E34-8C26-A1353C9B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1AD41-6EE4-4247-B7E8-D5F5522B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44DEAF-AC6B-4ADA-A90A-21EBA995DAC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300DA0-9435-4446-8FB7-20E52B1B86A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A76CBF-F362-4FE3-8CFA-DCEAEAC7A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9F68C-A029-4A95-8EA0-C3A2E94CFC8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3D538-E7C9-4E89-A61B-1A2C117BBA8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0264A-ED07-47E8-8961-E6249196CF6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2C11E-AC1F-49B9-8C36-97C05CC387B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DF8ED-C25E-485D-AF2C-68FAC4F8AC0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735B4-90E2-4C3C-8051-13A817F0897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ftr" idx="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sldNum" idx="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16DE6-068B-468A-A79E-35FEE5849B0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3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3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D52BD-6164-4384-B5D5-F99829140FE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3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3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4F467-5DC8-44ED-A3AE-9345BF006BE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3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3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6AB7C-0338-4F5F-828C-FB00D5FCFB9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3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3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C9C99-D750-4108-ABFA-7D7742E5B4F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ftr" idx="3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sldNum" idx="4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D0987-9040-45D0-8DB8-1AB076ABE2B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0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ECE94-F0C2-46B1-98B1-72D016107E9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89C20-E821-4A22-A6D8-81CC9A1337E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28A33-1A5D-42D8-B5AC-BF71A4E4C25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5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F785A-513D-4AA4-AD2A-A588F9FE826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91BF7-F5B8-45AF-822D-458921C7AF6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02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4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3A82F-34C9-4B6D-BD57-E8CCE31B6FC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3EBEF-91D3-463C-BDDC-2BCEB7E67D1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0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51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3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5D9A9-6903-45F5-9DAF-D5CAB37FD56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E0601-1E73-4C90-A556-706F4DD097A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00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02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24546-986B-4DF8-BB28-9EDEE0D0DD8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FD654-6CA5-4F0C-A1D2-B5BC1EE3096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4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30639-E9CE-4FC2-BA95-A00B5542C60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37028-3B66-429D-AFFD-DF8239D4924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98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0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6074E-02DF-49C5-A4F5-E77BDE2F9C4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1A041-F980-470E-A8AC-F9F5CC672E8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6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47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9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A5A04-8DC4-4978-A31C-44403A9BF15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sldNum" idx="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A5DA2-30FE-47D9-8404-196F998058F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96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8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90C43-FBEC-4D86-8093-19FE587DF92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36F2C-9701-4B3A-9282-48A1DFFF324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4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45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7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D4697-3497-428E-BF8E-9630FA5951D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BB8EF-91D2-4C72-91B8-0EAC10FF49F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3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94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96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35152-BEF2-4351-B902-D9C23141017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B0B87-CFCA-4D76-A143-9D251F97CD9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58691-C097-4371-8587-FD932BE94AC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F5BBC-8E29-4682-ADF4-C489BE55601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5DDE1-E997-489F-BFF8-5B8717652B8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FDA00-FB43-4C40-A93F-A0D861E232B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82F50-9330-4210-AB37-B1A75FB4559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86708-8488-49B8-A5C2-6A91F25F5EA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010CF-8063-4834-9316-152A7B55F6F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81735-E783-4441-B323-F47D40E603A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49843-9262-4FCE-B8D6-EAA6D747394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E1CB2-73C4-4582-A794-3EC0C46E33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0C24A-543E-4E80-BCEC-F620A153E4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3 Rectángulo"/>
          <p:cNvSpPr/>
          <p:nvPr/>
        </p:nvSpPr>
        <p:spPr>
          <a:xfrm>
            <a:off x="3851280" y="5518080"/>
            <a:ext cx="51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Verdana"/>
              </a:rPr>
              <a:t>Unidad de Prestaciones Monet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División de Promoción y Protec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Subsecretaría de Servicio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Ministerio de Desarroll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0920" y="1773360"/>
            <a:ext cx="87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gobCL"/>
              </a:rPr>
              <a:t>SUBSIDIO A LA IDENTIFICACIÓ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 u="sng">
                <a:solidFill>
                  <a:srgbClr val="006cb7"/>
                </a:solidFill>
                <a:uFillTx/>
                <a:latin typeface="gobCL"/>
              </a:rPr>
              <a:t>Perfil Regional</a:t>
            </a: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:  Tiene el privilegio de consultar y ver cobertura, según su región.  Cada Encargado/a Regional puede visualizar solo su Región.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67" name="Picture 2" descr=""/>
          <p:cNvPicPr/>
          <p:nvPr/>
        </p:nvPicPr>
        <p:blipFill>
          <a:blip r:embed="rId1"/>
          <a:stretch/>
        </p:blipFill>
        <p:spPr>
          <a:xfrm>
            <a:off x="395280" y="1477800"/>
            <a:ext cx="8177400" cy="4526280"/>
          </a:xfrm>
          <a:prstGeom prst="rect">
            <a:avLst/>
          </a:prstGeom>
          <a:ln w="0">
            <a:noFill/>
          </a:ln>
        </p:spPr>
      </p:pic>
      <p:sp>
        <p:nvSpPr>
          <p:cNvPr id="1368" name="8 Flecha izquierda"/>
          <p:cNvSpPr/>
          <p:nvPr/>
        </p:nvSpPr>
        <p:spPr>
          <a:xfrm>
            <a:off x="2484360" y="3068640"/>
            <a:ext cx="2158920" cy="1297080"/>
          </a:xfrm>
          <a:prstGeom prst="lef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gobCL"/>
              </a:rPr>
              <a:t>Confirma si RUN se encuentra en algunos de los Subsistem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745632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164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Campo que es visualizado, tanto, por los profesionales de los programas Puente, Seguimiento, Vinculo, Personas en Situación-Calle, Camino y últimamente Seguridades y Oportunidades</a:t>
            </a:r>
            <a:br>
              <a:rPr sz="1400"/>
            </a:b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Rectangle 4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3" name="Picture 2" descr=""/>
          <p:cNvPicPr/>
          <p:nvPr/>
        </p:nvPicPr>
        <p:blipFill>
          <a:blip r:embed="rId1"/>
          <a:stretch/>
        </p:blipFill>
        <p:spPr>
          <a:xfrm>
            <a:off x="165240" y="1477800"/>
            <a:ext cx="8667720" cy="4526280"/>
          </a:xfrm>
          <a:prstGeom prst="rect">
            <a:avLst/>
          </a:prstGeom>
          <a:ln w="0">
            <a:noFill/>
          </a:ln>
        </p:spPr>
      </p:pic>
      <p:sp>
        <p:nvSpPr>
          <p:cNvPr id="1374" name="8 Flecha izquierda"/>
          <p:cNvSpPr/>
          <p:nvPr/>
        </p:nvSpPr>
        <p:spPr>
          <a:xfrm>
            <a:off x="2340000" y="2924280"/>
            <a:ext cx="2663640" cy="1873080"/>
          </a:xfrm>
          <a:prstGeom prst="lef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gobCL"/>
              </a:rPr>
              <a:t>Consultar RUN para verificar si registra en plataforma de lo contrario no podrá emitir formulario F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Ingresado el RUN sistema presenta siguiente información:  Datos del Solicitante, tanto su RUN nombres, apellidos, programa, nacionalidad y campo emitir.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76" name="Picture 1" descr=""/>
          <p:cNvPicPr/>
          <p:nvPr/>
        </p:nvPicPr>
        <p:blipFill>
          <a:blip r:embed="rId1"/>
          <a:stretch/>
        </p:blipFill>
        <p:spPr>
          <a:xfrm>
            <a:off x="592200" y="1477800"/>
            <a:ext cx="7297560" cy="45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7" name="Picture 1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53320" cy="3871800"/>
          </a:xfrm>
          <a:prstGeom prst="rect">
            <a:avLst/>
          </a:prstGeom>
          <a:ln w="0">
            <a:noFill/>
          </a:ln>
        </p:spPr>
      </p:pic>
      <p:sp>
        <p:nvSpPr>
          <p:cNvPr id="1378" name="Rectangle 2"/>
          <p:cNvSpPr/>
          <p:nvPr/>
        </p:nvSpPr>
        <p:spPr>
          <a:xfrm>
            <a:off x="250920" y="41040"/>
            <a:ext cx="806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70c0"/>
                </a:solidFill>
                <a:latin typeface="gobCL"/>
                <a:ea typeface="Calibri"/>
              </a:rPr>
              <a:t>Se detalla la cobertura con la que cuenta la comuna y programa. Como ejemplo se detalla la comuna de Santiago. Una vez emitido un FEI estos cupos disminuyen con el fin de controlar cobertura asignada para el periodo (año calendari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Luego de comprobar que el RUN, se encuentra cargado, es posible emitir el formulario (único documento válido para la obtención de la Cédula de Identidad, subsidiada)</a:t>
            </a:r>
            <a:r>
              <a:rPr b="1" lang="es-MX" sz="2400" spc="-1" strike="noStrike">
                <a:solidFill>
                  <a:srgbClr val="006cb7"/>
                </a:solidFill>
                <a:latin typeface="gobCL"/>
              </a:rPr>
              <a:t>: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80" name="Picture 2" descr=""/>
          <p:cNvPicPr/>
          <p:nvPr/>
        </p:nvPicPr>
        <p:blipFill>
          <a:blip r:embed="rId1"/>
          <a:stretch/>
        </p:blipFill>
        <p:spPr>
          <a:xfrm>
            <a:off x="2619360" y="1477800"/>
            <a:ext cx="368136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7993080" cy="20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Servicio de Registro Civil e Identificación: Este actor tiene como tarea, realizar el cambio de estado del subsidio, es decir, de emitido a entregado, como también debe registrar la nacionalidad y así mantener actualizado la entrega de la cédula a los solicitantes del subsistema Seguridad y Oportunidades.</a:t>
            </a:r>
            <a:br>
              <a:rPr sz="2000"/>
            </a:br>
            <a:br>
              <a:rPr sz="2000"/>
            </a:b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82" name="Picture 2" descr=""/>
          <p:cNvPicPr/>
          <p:nvPr/>
        </p:nvPicPr>
        <p:blipFill>
          <a:blip r:embed="rId1"/>
          <a:stretch/>
        </p:blipFill>
        <p:spPr>
          <a:xfrm>
            <a:off x="760320" y="2060640"/>
            <a:ext cx="76280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Verdana"/>
              </a:rPr>
              <a:t>Gracias.</a:t>
            </a:r>
            <a:endParaRPr b="1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4" name="2 Imagen" descr="Macintosh HD:Users:valeriasoto:gráfica:mds:Logos Ministerio 2.0:logo MDS.png"/>
          <p:cNvPicPr/>
          <p:nvPr/>
        </p:nvPicPr>
        <p:blipFill>
          <a:blip r:embed="rId1"/>
          <a:stretch/>
        </p:blipFill>
        <p:spPr>
          <a:xfrm>
            <a:off x="7093080" y="2060640"/>
            <a:ext cx="20509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3 Rectángulo"/>
          <p:cNvSpPr/>
          <p:nvPr/>
        </p:nvSpPr>
        <p:spPr>
          <a:xfrm>
            <a:off x="3851280" y="5518080"/>
            <a:ext cx="51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Verdana"/>
              </a:rPr>
              <a:t>Unidad de Prestaciones Monet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División de Promoción y Protec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Subsecretaría de Servicio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Ministerio de Desarroll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obCL"/>
              </a:rPr>
              <a:t>FORMULARIO ÚNICO DE DERIVACIÓ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6cb7"/>
                </a:solidFill>
                <a:latin typeface="gobCL"/>
              </a:rPr>
              <a:t>FORMULARIO UNICO DE DERIVACIÓN - FUD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151920" y="1052640"/>
            <a:ext cx="8177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gobCL"/>
              </a:rPr>
              <a:t>El Formulario Unico de Derivación tal como lo menciona su nombre es una herramienta creada para derivar a los usuarios de los Subsistemas de Protección Social; Seguridades &amp; Oportunidades y Chile Solidario, para facilitar su vinculación con las redes locales lo que ha permitido el acceso preferente a las familias de los subsistemas, IEF, Puente, Persona en Situación de Calle, Adulto Mayor Vinculo y Abriendo Camino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595959"/>
                </a:solidFill>
                <a:latin typeface="gobCL"/>
              </a:rPr>
              <a:t>Para utilizar esta herramienta de gestión se deben seguir los pasos que a continuación se describen: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816444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Subsidio Identificación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151920" y="1052640"/>
            <a:ext cx="8177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Es un subsidio monetario directo a los Beneficiarios del Subsistema Chile Solidario y del Subsistema Seguridades y Oportunidades.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Consiste en que el Estado a través de las Municipalidades, ONG´S y las Oficinas del Servicio de Registro Civil e Identificación (SRCeI), contribuyen a que los miembros de las familias de ambos subsistemas obtengan, por una sola vez, la Cédula de Identidad, cancelando $500.- por Cédula. Sea que se trate de Chilenos(as) o Extranjeros (as)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344" name="Picture 3" descr="C:\Documents and Settings\ggallardo\Escritorio\IMAGENES\índice.jpg"/>
          <p:cNvPicPr/>
          <p:nvPr/>
        </p:nvPicPr>
        <p:blipFill>
          <a:blip r:embed="rId1"/>
          <a:stretch/>
        </p:blipFill>
        <p:spPr>
          <a:xfrm>
            <a:off x="2916360" y="1773360"/>
            <a:ext cx="2592360" cy="132552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10" descr="C:\Documents and Settings\ggallardo\Escritorio\IMAGENES\6.jpg"/>
          <p:cNvPicPr/>
          <p:nvPr/>
        </p:nvPicPr>
        <p:blipFill>
          <a:blip r:embed="rId2"/>
          <a:stretch/>
        </p:blipFill>
        <p:spPr>
          <a:xfrm>
            <a:off x="4788000" y="4581360"/>
            <a:ext cx="410508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6cb7"/>
                </a:solidFill>
                <a:latin typeface="gobCL"/>
              </a:rPr>
              <a:t>Acceso a la Plataforma FUD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151920" y="1196640"/>
            <a:ext cx="8380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Link de acceso directo, es: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558ed5"/>
                </a:solidFill>
                <a:latin typeface="gobCL"/>
              </a:rPr>
              <a:t>ttp://gestion.chilesolidario.gob.cl/FUD/views/layout/login.php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obCL"/>
              </a:rPr>
              <a:t>Luego, ingresar Usuario y Clave que se le entrego y terminar haciendo CLICK en el campo enviar. 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391" name="7 Imagen" descr=""/>
          <p:cNvPicPr/>
          <p:nvPr/>
        </p:nvPicPr>
        <p:blipFill>
          <a:blip r:embed="rId1"/>
          <a:stretch/>
        </p:blipFill>
        <p:spPr>
          <a:xfrm>
            <a:off x="1403280" y="2852640"/>
            <a:ext cx="63374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Picture 5" descr=""/>
          <p:cNvPicPr/>
          <p:nvPr/>
        </p:nvPicPr>
        <p:blipFill>
          <a:blip r:embed="rId1"/>
          <a:stretch/>
        </p:blipFill>
        <p:spPr>
          <a:xfrm>
            <a:off x="468360" y="2151000"/>
            <a:ext cx="8280360" cy="3654360"/>
          </a:xfrm>
          <a:prstGeom prst="rect">
            <a:avLst/>
          </a:prstGeom>
          <a:ln w="0">
            <a:noFill/>
          </a:ln>
        </p:spPr>
      </p:pic>
      <p:sp>
        <p:nvSpPr>
          <p:cNvPr id="1393" name="1 Título"/>
          <p:cNvSpPr/>
          <p:nvPr/>
        </p:nvSpPr>
        <p:spPr>
          <a:xfrm>
            <a:off x="152280" y="115920"/>
            <a:ext cx="8164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006cb7"/>
                </a:solidFill>
                <a:latin typeface="gobCL"/>
              </a:rPr>
              <a:t>Esta opción se utiliza para emitir Formulario Único de Derivación-FUD y la búsqueda de algún documento emi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6cb7"/>
                </a:solidFill>
                <a:latin typeface="gobCL"/>
              </a:rPr>
              <a:t>Paso a Paso para la creación de un FUD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95" name="3 Marcador de contenido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1244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s-CL" sz="2400" spc="-1" strike="noStrike">
                <a:solidFill>
                  <a:srgbClr val="006cb7"/>
                </a:solidFill>
                <a:latin typeface="Verdana"/>
              </a:rPr>
              <a:t> 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006cb7"/>
                </a:solidFill>
                <a:latin typeface="Verdana"/>
              </a:rPr>
              <a:t>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97" name="7 Marcador de contenido" descr=""/>
          <p:cNvPicPr/>
          <p:nvPr/>
        </p:nvPicPr>
        <p:blipFill>
          <a:blip r:embed="rId1"/>
          <a:stretch/>
        </p:blipFill>
        <p:spPr>
          <a:xfrm>
            <a:off x="152280" y="981000"/>
            <a:ext cx="8667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6cb7"/>
                </a:solidFill>
                <a:latin typeface="gobCL"/>
              </a:rPr>
              <a:t>Para terminar un FUD, se debe: Hacer CLICK en Emitir FUD y así grabar lo antes digitado de acuerdo a la información del Usuario o bien cancelar para desistir de la operación</a:t>
            </a:r>
            <a:endParaRPr b="0" lang="en-US" sz="18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400" name="5 Imagen" descr=""/>
          <p:cNvPicPr/>
          <p:nvPr/>
        </p:nvPicPr>
        <p:blipFill>
          <a:blip r:embed="rId1"/>
          <a:stretch/>
        </p:blipFill>
        <p:spPr>
          <a:xfrm>
            <a:off x="395280" y="1295280"/>
            <a:ext cx="84535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6cb7"/>
                </a:solidFill>
                <a:latin typeface="gobCL"/>
              </a:rPr>
              <a:t>Filtros de búsqueda de un FUD emitido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151920" y="836640"/>
            <a:ext cx="81774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595959"/>
                </a:solidFill>
                <a:latin typeface="gobCL"/>
              </a:rPr>
              <a:t>Por RUN: Debe digitar el RUN del beneficiario/a y presionar el campo búsqued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595959"/>
                </a:solidFill>
                <a:latin typeface="gobCL"/>
              </a:rPr>
              <a:t>Por Folio: Se debe ingresar el numero del Folio del FUD y presionar el campo búsqued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595959"/>
                </a:solidFill>
                <a:latin typeface="gobCL"/>
              </a:rPr>
              <a:t>Por Programa: Filtrando por Puente, Vinculo, Calle, Camino o IEF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403" name="4 Imagen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77058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6cb7"/>
                </a:solidFill>
                <a:latin typeface="gobCL"/>
              </a:rPr>
              <a:t>Copia del Formulario FUD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405" name="7 Marcador de contenido" descr=""/>
          <p:cNvPicPr/>
          <p:nvPr/>
        </p:nvPicPr>
        <p:blipFill>
          <a:blip r:embed="rId1"/>
          <a:stretch/>
        </p:blipFill>
        <p:spPr>
          <a:xfrm>
            <a:off x="152280" y="911160"/>
            <a:ext cx="852336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Verdana"/>
              </a:rPr>
              <a:t>Gracias.</a:t>
            </a:r>
            <a:endParaRPr b="1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7" name="2 Imagen" descr="Macintosh HD:Users:valeriasoto:gráfica:mds:Logos Ministerio 2.0:logo MDS.png"/>
          <p:cNvPicPr/>
          <p:nvPr/>
        </p:nvPicPr>
        <p:blipFill>
          <a:blip r:embed="rId1"/>
          <a:stretch/>
        </p:blipFill>
        <p:spPr>
          <a:xfrm>
            <a:off x="7093080" y="2060640"/>
            <a:ext cx="20509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Subsidio Identificación</a:t>
            </a:r>
            <a:br>
              <a:rPr sz="2000"/>
            </a:b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151920" y="1196640"/>
            <a:ext cx="8380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Excepcionalmente quienes hayan perdido a consecuencia de alguna catástrofe como Incendio, Terremoto, Maremoto o Inundación, podrán optar por segunda vez al beneficio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El Modulo de Identificación es el medio a través del cual se emite el formulario electrónico de Identificación (FEI). Permite a los diferentes actores involucrados  en la tramitación del Subsidio, generar en línea los procedimientos administrativos para que las personas pertenecientes a Chile Solidario y Seguridades y Oportunidades, puedan acceder al beneficio.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348" name="Picture 4" descr="C:\Documents and Settings\ggallardo\Escritorio\IMAGENES\06.jpg"/>
          <p:cNvPicPr/>
          <p:nvPr/>
        </p:nvPicPr>
        <p:blipFill>
          <a:blip r:embed="rId1"/>
          <a:stretch/>
        </p:blipFill>
        <p:spPr>
          <a:xfrm>
            <a:off x="2916360" y="2421000"/>
            <a:ext cx="352728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Orden para la Asignación del Beneficio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151920" y="1477800"/>
            <a:ext cx="8177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Serán Beneficiarios (as), los (las) chilenos (as) y extranjeros (as) que sean miembros de  personas o familias adscritas al Sistema Intersectorial de Protección Social, es decir, que pertenezcan a: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- Seguridades y Oportunidades o Chile Solidario, éste último ya sea en su fase de apoyo psicosocial o seguimiento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351" name="Picture 2" descr="C:\Documents and Settings\ggallardo\Escritorio\IMAGENES\empresa-familiar-56.jpg"/>
          <p:cNvPicPr/>
          <p:nvPr/>
        </p:nvPicPr>
        <p:blipFill>
          <a:blip r:embed="rId1"/>
          <a:stretch/>
        </p:blipFill>
        <p:spPr>
          <a:xfrm>
            <a:off x="5435640" y="3789360"/>
            <a:ext cx="2736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Modulo Informático; Subsidio Identificación,  Roles de cada Nivel Operacional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151920" y="980640"/>
            <a:ext cx="817740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Nacional: Seguimiento a Nivel Nacional del Programa, distribuye y redistribuye los subsidios a nivel nacional y brinda la asesoría técnica y el apoyo a los demás niveles subnacionales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Regional: Seguimiento y Monitoreo del Programa a nivel Territorial (Regional y Comunal)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Municipal u ONG: Emitir Formularios de Identificación a Nivel Local, es decir, la entrega del único documento válido para la obtención de la Cédula de Identidad,  subsidiad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Registro Civil: Es quien otorga la cédula cobrando al Ministerio de Desarrollo Social la parte subsidiada y realiza el cambio de estado (de Emitido a Entregado), en la plataforma computacional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6cb7"/>
                </a:solidFill>
                <a:latin typeface="Verdana"/>
              </a:rPr>
              <a:t>                                                        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5" name="4 Rectángulo"/>
          <p:cNvSpPr/>
          <p:nvPr/>
        </p:nvSpPr>
        <p:spPr>
          <a:xfrm>
            <a:off x="324000" y="277920"/>
            <a:ext cx="3411360" cy="54108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obCL"/>
              </a:rPr>
              <a:t>Como Acceder al Mód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5 Flecha derecha"/>
          <p:cNvSpPr/>
          <p:nvPr/>
        </p:nvSpPr>
        <p:spPr>
          <a:xfrm>
            <a:off x="4067280" y="404640"/>
            <a:ext cx="360360" cy="414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6 Rectángulo"/>
          <p:cNvSpPr/>
          <p:nvPr/>
        </p:nvSpPr>
        <p:spPr>
          <a:xfrm>
            <a:off x="4572000" y="277920"/>
            <a:ext cx="3529080" cy="63000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obCL"/>
              </a:rPr>
              <a:t>http://www.ministeriodesarrollosocial.gob.cl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9 Llamada rectangular"/>
          <p:cNvSpPr/>
          <p:nvPr/>
        </p:nvSpPr>
        <p:spPr>
          <a:xfrm>
            <a:off x="826920" y="1295280"/>
            <a:ext cx="4105440" cy="405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obCL"/>
              </a:rPr>
              <a:t>Link, principal FEI http://siis.mideplan.cl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9" name="Picture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17704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Pagina ingreso al Formulario Electrónico de Identificación (FEI)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61" name="Picture 2" descr=""/>
          <p:cNvPicPr/>
          <p:nvPr/>
        </p:nvPicPr>
        <p:blipFill>
          <a:blip r:embed="rId1"/>
          <a:stretch/>
        </p:blipFill>
        <p:spPr>
          <a:xfrm>
            <a:off x="793800" y="1197000"/>
            <a:ext cx="752328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Si el Usuario no es válido o existe error al registrar acceso, el Sistema reportará error y deberá volver a  intentar (Ingresar).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63" name="Picture 2" descr=""/>
          <p:cNvPicPr/>
          <p:nvPr/>
        </p:nvPicPr>
        <p:blipFill>
          <a:blip r:embed="rId1"/>
          <a:stretch/>
        </p:blipFill>
        <p:spPr>
          <a:xfrm>
            <a:off x="774720" y="1949400"/>
            <a:ext cx="754236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Presentación de Perfiles y sus Funciones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65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44:20Z</dcterms:created>
  <dc:creator>Executive Director</dc:creator>
  <dc:description/>
  <dc:language>en-US</dc:language>
  <cp:lastModifiedBy>giovanna silva</cp:lastModifiedBy>
  <dcterms:modified xsi:type="dcterms:W3CDTF">2014-06-26T14:16:55Z</dcterms:modified>
  <cp:revision>152</cp:revision>
  <dc:subject/>
  <dc:title>Slide 1</dc:title>
</cp:coreProperties>
</file>