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4.png" ContentType="image/png"/>
  <Override PartName="/ppt/media/image1.png" ContentType="image/png"/>
  <Override PartName="/ppt/media/image29.wmf" ContentType="image/x-wmf"/>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46.png" ContentType="image/png"/>
  <Override PartName="/ppt/media/image11.png" ContentType="image/png"/>
  <Override PartName="/ppt/media/image48.png" ContentType="image/png"/>
  <Override PartName="/ppt/media/image50.png" ContentType="image/png"/>
  <Override PartName="/ppt/media/image36.png" ContentType="image/png"/>
  <Override PartName="/ppt/media/image8.gif" ContentType="image/gif"/>
  <Override PartName="/ppt/media/image38.png" ContentType="image/png"/>
  <Override PartName="/ppt/media/image40.png" ContentType="image/png"/>
  <Override PartName="/ppt/media/image41.png" ContentType="image/png"/>
  <Override PartName="/ppt/media/image42.png" ContentType="image/png"/>
  <Override PartName="/ppt/media/image43.png" ContentType="image/png"/>
  <Override PartName="/ppt/media/image34.png" ContentType="image/png"/>
  <Override PartName="/ppt/media/image39.png" ContentType="image/png"/>
  <Override PartName="/ppt/media/image9.png" ContentType="image/png"/>
  <Override PartName="/ppt/media/image6.gif" ContentType="image/gif"/>
  <Override PartName="/ppt/media/image44.jpeg" ContentType="image/jpeg"/>
  <Override PartName="/ppt/media/image45.png" ContentType="image/png"/>
  <Override PartName="/ppt/media/image13.wmf" ContentType="image/x-wmf"/>
  <Override PartName="/ppt/media/image28.wmf" ContentType="image/x-wmf"/>
  <Override PartName="/ppt/media/image30.png" ContentType="image/png"/>
  <Override PartName="/ppt/media/image5.png" ContentType="image/png"/>
  <Override PartName="/ppt/media/image35.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15.wmf" ContentType="image/x-wmf"/>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 id="285" r:id="rId61"/>
    <p:sldId id="286" r:id="rId62"/>
    <p:sldId id="287" r:id="rId63"/>
    <p:sldId id="288" r:id="rId64"/>
    <p:sldId id="289" r:id="rId65"/>
    <p:sldId id="290" r:id="rId66"/>
    <p:sldId id="291" r:id="rId67"/>
    <p:sldId id="292" r:id="rId68"/>
    <p:sldId id="293" r:id="rId69"/>
    <p:sldId id="294" r:id="rId70"/>
    <p:sldId id="295" r:id="rId71"/>
    <p:sldId id="296" r:id="rId72"/>
    <p:sldId id="297" r:id="rId73"/>
    <p:sldId id="298" r:id="rId74"/>
    <p:sldId id="299" r:id="rId75"/>
    <p:sldId id="300" r:id="rId76"/>
    <p:sldId id="301" r:id="rId77"/>
    <p:sldId id="302" r:id="rId78"/>
    <p:sldId id="303" r:id="rId79"/>
    <p:sldId id="304" r:id="rId80"/>
    <p:sldId id="305" r:id="rId81"/>
    <p:sldId id="306" r:id="rId82"/>
    <p:sldId id="307" r:id="rId83"/>
    <p:sldId id="308" r:id="rId8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slide" Target="slides/slide30.xml"/><Relationship Id="rId62" Type="http://schemas.openxmlformats.org/officeDocument/2006/relationships/slide" Target="slides/slide31.xml"/><Relationship Id="rId63" Type="http://schemas.openxmlformats.org/officeDocument/2006/relationships/slide" Target="slides/slide32.xml"/><Relationship Id="rId64" Type="http://schemas.openxmlformats.org/officeDocument/2006/relationships/slide" Target="slides/slide33.xml"/><Relationship Id="rId65" Type="http://schemas.openxmlformats.org/officeDocument/2006/relationships/slide" Target="slides/slide34.xml"/><Relationship Id="rId66" Type="http://schemas.openxmlformats.org/officeDocument/2006/relationships/slide" Target="slides/slide35.xml"/><Relationship Id="rId67" Type="http://schemas.openxmlformats.org/officeDocument/2006/relationships/slide" Target="slides/slide36.xml"/><Relationship Id="rId68" Type="http://schemas.openxmlformats.org/officeDocument/2006/relationships/slide" Target="slides/slide37.xml"/><Relationship Id="rId69" Type="http://schemas.openxmlformats.org/officeDocument/2006/relationships/slide" Target="slides/slide38.xml"/><Relationship Id="rId70" Type="http://schemas.openxmlformats.org/officeDocument/2006/relationships/slide" Target="slides/slide39.xml"/><Relationship Id="rId71" Type="http://schemas.openxmlformats.org/officeDocument/2006/relationships/slide" Target="slides/slide40.xml"/><Relationship Id="rId72" Type="http://schemas.openxmlformats.org/officeDocument/2006/relationships/slide" Target="slides/slide41.xml"/><Relationship Id="rId73" Type="http://schemas.openxmlformats.org/officeDocument/2006/relationships/slide" Target="slides/slide42.xml"/><Relationship Id="rId74" Type="http://schemas.openxmlformats.org/officeDocument/2006/relationships/slide" Target="slides/slide43.xml"/><Relationship Id="rId75" Type="http://schemas.openxmlformats.org/officeDocument/2006/relationships/slide" Target="slides/slide44.xml"/><Relationship Id="rId76" Type="http://schemas.openxmlformats.org/officeDocument/2006/relationships/slide" Target="slides/slide45.xml"/><Relationship Id="rId77" Type="http://schemas.openxmlformats.org/officeDocument/2006/relationships/slide" Target="slides/slide46.xml"/><Relationship Id="rId78" Type="http://schemas.openxmlformats.org/officeDocument/2006/relationships/slide" Target="slides/slide47.xml"/><Relationship Id="rId79" Type="http://schemas.openxmlformats.org/officeDocument/2006/relationships/slide" Target="slides/slide48.xml"/><Relationship Id="rId80" Type="http://schemas.openxmlformats.org/officeDocument/2006/relationships/slide" Target="slides/slide49.xml"/><Relationship Id="rId81" Type="http://schemas.openxmlformats.org/officeDocument/2006/relationships/slide" Target="slides/slide50.xml"/><Relationship Id="rId82" Type="http://schemas.openxmlformats.org/officeDocument/2006/relationships/slide" Target="slides/slide51.xml"/><Relationship Id="rId83" Type="http://schemas.openxmlformats.org/officeDocument/2006/relationships/slide" Target="slides/slide52.xml"/><Relationship Id="rId84" Type="http://schemas.openxmlformats.org/officeDocument/2006/relationships/slide" Target="slides/slide53.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7C68519-ADA4-4819-9CCD-371BDE6064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2DB363-79A2-4022-9EFC-CB482D743C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51036A5-3405-4B4E-BDDC-B4414F28FF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C90490-3EA4-4760-857C-FC91F1B049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CFE862-E69F-422C-9C3C-3A4265A96F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6DC5FF-5EFA-4AA4-96D3-FBD5B716AB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A955C3-0C08-40B2-B6FD-EB058F2BD6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2E1D97-FD6D-4631-B44D-83C5B016BB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506D8E0-CD05-41AD-A9DB-15FD10D0F4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CE47A50-638A-48EF-BBC6-8E14E14323C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837963-A7BF-4372-B0AE-A1D5C0B7BE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DFC4239-2361-4F84-B71A-BCBF657C7B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B7D1268-6AE0-4CEE-9EA8-7EB9143A6C9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E2FD91-817E-4124-BAEA-CFB870EC7C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A70ECA2-40CF-467A-AB8A-E9760600132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29B28DF-109F-4021-8155-E2400E69D0E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3330EF-EF8C-44D5-A3D5-EA7F3A0C410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870380A-EA16-481B-AF7E-7296029CDA9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6FA7335-E342-43C0-A1CF-78ED5978E37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CAB70D1-38F5-44A0-B37D-E1E8BCE6DBF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3814ACA-C31E-4164-9E07-EE94CA495A3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455D4FE-A22B-46F6-A9C0-1A71ABEE61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D21D06C-5E2E-463A-BE05-BB32A860B58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2ABDBE5-D42A-4B35-8BFE-A46BC78219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088789A-7BFD-49D0-BB55-8D18E869519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A81143D-3DCF-410A-8FBC-61246D1E0D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ACA2491-E9A6-46B2-928C-CAB5BCCED1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8FD0360-B60B-48C7-A358-ACCD2649F74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2135ED-8DA9-4147-8DCB-C02E12F226E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95765E-86E8-447E-9ADC-16CE146497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29C7CB-E60B-43E2-A898-BDE3EE91CC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D3DA011-8ECE-43AB-B370-7D9D91D64C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B969262-34E4-43A9-9639-A57ED8F10CC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F392F6D-40F7-4CF7-BC01-933D180BBA9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2F18316-0250-4F7B-9816-DEB3509303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9F186E4-C139-4C1E-BF00-22F15B79284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61831EC-098B-4AB6-9445-9006474DF2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AC9FDCA-FB9E-472D-BDCF-D485102993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BD8861B-B751-4BA2-BEE4-4113B350FB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CB27915-23C5-4B9C-81E3-2D182D3CC9F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60E689C-605A-4E9C-A2E8-0241CA598C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E16B8D-EB73-4373-8169-BF31710F4A8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D8F0F84-583F-4D1E-81B9-430A45F44A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533A181-5C4B-450E-8C5E-4FA375CB13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A9F3B75-61B7-45E9-AA2B-2F78F61DF8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CC65F15-D724-441C-B4C3-13B78C76735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82623B1-422F-4569-AB06-300C7F428D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D6A792-57A1-4A62-9CB5-A8633AC1588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0FE169-F672-450E-ABE3-F814A5D3C58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D5406B-A4AD-4636-A72F-BDA8C58170B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85299A-ABA8-4789-9854-3EEC27E9474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7A8344-4489-481E-9C29-A0F32329E0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54398-513F-4B7B-ACA5-2FA49901E25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C64448-428F-43A8-849D-5A8E01AADF2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F5A7A-A941-446E-B1BC-7D5107599CB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B7742A-0BD0-4A52-B0FA-8F15BCBF16D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E960A4-A29C-4BC1-970E-08F043D1D0C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D8C5D8-824F-4295-ACCE-1E1C6C608C4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B0F7CD-2674-4411-858B-AC790D71DE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773E2D-E43F-477F-9C0A-5F871BC8E9F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DF143F4-13BA-41B7-AD62-3C62C3296DA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085F8D4-BEAD-49E0-8B53-5268EA6B51A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804FED7-765E-438B-9ADF-162CDF036B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9E600-5D4C-4D52-A7AC-E37C78F2FF0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D7E053C-57BB-4964-864F-E40D0AED705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F2597C4-CD8C-45C0-A81C-739F4AA5935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BDFBE8B-37E0-46B2-A069-BB432C566A6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F523D10-EEEB-4936-A96A-620A567EBC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648B9B-568C-4640-96A0-E1C2A00DF5B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4AD30B-1705-44E1-B319-6BFFAC215A8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C171847-BD8F-4692-9019-23C3CD66F8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4854AD7-6FE7-43D6-A3C0-C38E2FC4E5A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141DCC3-C9A0-4925-97D0-4AEAE083321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800F7F9-2C18-4833-9E0C-A8DED0656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E5761-3488-4B07-B53E-8AFB835535D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2533A4-7A1E-4EF4-BF32-3F9FF3E5F52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2DD1219-602E-42AD-AC03-C8FC6F0847C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4E4CD04-24F4-4875-B0F7-56AFFD140A5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533ADEF-737D-4A5B-A6EE-8F071797DA0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E47A024-4E82-42D3-A914-F0FCFFD18A6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BEE530-89E1-43C0-A4F6-8F7FD0FDE45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26CDCA2-0BD9-47D4-A4D5-4F6D342FB53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7340E48-960A-4B29-9AF3-1F46D9CB4AA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7202E59-8269-4528-81D9-BB797A45A99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6BCEADA-BDB2-4E24-B908-9090D62752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04480-865F-4A40-B404-B70CBD4A992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70DB993-B6A7-4681-A34B-EAD644918CB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C50C79-C97A-4D04-8B9D-0799947AE44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4588FD-7E9A-4FD5-AE64-85AD3153F16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84E42D-34C0-4C5A-9C92-0D5330C7B4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6974B4-3DBB-4CBD-B7DD-2ADA7FD2001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D7AC8F-B321-4DD9-B5C8-25880CE50C5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B8FED7-557F-4786-87A3-03C71BD96FB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4F086C-4EE7-4136-B668-9AC9A3623FF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2EAED6-6FFA-4506-AE8D-BE14166356C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CE45ED-CDB7-49FD-A47D-20FCDB129E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ED296-0758-4C69-A4EA-47EB04E17BF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51525E-73BD-4184-8B01-180CC0CB40E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FA1848-562A-440A-AEA7-ECF5CD302E1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45E8FF-D07C-4516-8109-FF1A25F668D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6B11BAB-1FFB-4EF0-97DE-899E9DCC460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B1C0137-4735-44D4-AA34-E39C3CEF216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5160F47-6101-4924-951B-875E057EC12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3C14145-5216-4A25-B121-7FA3344A897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7F25194-34A6-4309-A5AE-F9AD360AFA5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5704420-BE1B-457E-962C-DBB1901073A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3EE4404-92BE-4E60-A6EB-C0E97E971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5D956-4845-4D53-B57E-D27544675BD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6D25B9F-35B2-4B1C-B3DD-E86B5D11943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04F6C67-CD8B-411B-9D3D-D4B3140569A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092DBE8-A1BC-4DD3-A1D2-EA0DB918E00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C60B3D2-ED31-4E7F-886C-1798BFE21E2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045137C-08BC-4B69-AC81-807DA5A5D74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D707381-61EB-4DD5-8BB6-EE8FFFB15DE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204AFC2-2030-40CB-B120-312AA688B30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01D8954-1AEF-4374-BF4A-9C6CF797E0B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B50D0E0-1EE3-4E4A-A405-C78841482A6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4C56EDC-A8B9-4016-938C-86957C0DE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85642-3B4F-4C7F-B9AC-98BAD4581DB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F6727BB-CC3A-4914-AB06-87346A39A21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FC8510C-ED40-4632-AFF1-BD0EF7257F8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A61C3D1-6F5A-4706-854B-B26DE3EA46B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3CC4E13-ACC2-450A-AD9E-3E24F068F47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4914EFE-6710-45F2-B11D-755D759C4A0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3E2D5D7-3775-4CAF-8B89-F3F34F1CA1B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8E7BDE7-4967-43B8-9E65-5FE0B6838BF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EF9FEDE-23D0-4BD1-B1DD-E0DA44F5D2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D71919B-519E-44EB-82E4-95F97B227A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2683DB4-B1EF-4F45-8FD0-E7B2B4011E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FC8961-947D-4C70-B4FC-BF1614485CB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5853018-F7F1-467E-9EBB-9BB95522C3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9168C94-2224-4627-B012-F142F51E1E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BED960F-03D4-4601-9B12-46B68FCAD7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8BF4D4A-268A-458D-B9EF-1DDE001EE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79642CA-A376-4705-A6EC-7BD57AD9FE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90E3ED-AE54-4E58-854F-62BD3E28C4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DA2AAD6-8974-436E-8F18-D8FA72985F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41EE83C-0A35-40E7-8E6E-517031D377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0113AE1-A932-4C5D-8A14-CA81633099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380943A-B603-4E2F-99BC-8858FF5B9B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B34E72-7F4F-422A-9174-FF8D67A1734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78AA874-B08D-42A2-88DF-9B1E65C4EF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34D672E-22E5-48B2-B15D-8D0B0C7A7B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DFFC8B5-C1F6-4090-BC25-9C88BCDF65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1864CDE-FF79-4ABD-A38F-AAD46C95DF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906EA8F-4411-4145-B726-7B12E2B699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E71CEB6-1197-4B46-896D-434B95A4B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4373EE5-C263-4E59-A148-BF0B18B520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3E572CE-1571-4EFD-B879-8A57F3A6D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E36B2A6-3D10-43A5-8E12-5BAB2C968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FF784F6-696C-42BB-B581-F760002FF1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2DFDAB-87C5-4A95-A730-E63D6B0FCD7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A05B1CD-A0E9-494E-B1E7-895B2C1201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7CCDA82-D44C-4163-A5BA-F00AE137D5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9056839-CC37-49E2-8765-1866A38E97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09FC520-37B2-41F4-BD37-05BF750995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85F4CA4-2B84-4C03-9594-C6FA5D7C4E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25C73FA-6BB5-4876-BBDE-873F85A92E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23EABC1-4B81-4B57-B67E-77D345F126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CAAA55B-10FC-46CA-94BB-CE93912EB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01BF466-35F2-4EBE-9B85-D152998676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A9BC6C7-7225-4F15-9226-AE3A58DAD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0B7CEC2-1897-4D67-8766-7B26F22EDE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137A2D6-D4B7-4420-91C2-9EC9ABE4DD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23A5C9E-CD32-486E-AC39-2AF93537F9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1EFADC1-72A3-4CB6-A0A8-375182BC1A5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A7B031E-4A5D-473D-85C7-5BEAE6C2FC7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0546C30-E11D-4BEB-B6DA-89E3F5A4C9C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586FBBF-6F2C-45DB-B5B4-C312EDEF607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DD0540C-5F73-43EF-AA75-157B0998F79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BED6774-6855-4FDC-A354-FE98F8FCF35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D14C5E5-712F-4C35-8B00-21FC3812CAA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9767368-31C7-4A73-BDCE-7A7CFA728B2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909147D-41C0-4D96-99E6-098E8EFA4D1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D4370CC-4B96-491F-AF93-5F00091D36E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D835F3D-6E0C-4CA2-A385-B45A89639D1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EBE345A-13C0-4F23-BFD1-4D2C0E83FA7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CD9B1B4-C451-4B66-93A2-4DAC4566A7E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BA65410-99E1-449B-9F69-9B9079DE577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28B64B8-F716-4FF0-B5CD-E3E8DBD5FC8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BB8EB91-1856-4F0C-B971-F83EC52F270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4146B87-F073-49DD-BB78-BD06F5E8DEF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26B6DB6-B246-4819-A8FA-63502610AF6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F5E3868-EA24-408A-946A-BC05AE37A2F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6E2EF61-D5D4-4C8D-A874-426FE2F07A6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2744D1B-9AE7-40C3-B920-93C9A2CADBC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423E4CD-B61D-44F8-9FFB-D5B19A5814A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0CAC630-358D-4736-856D-9C69BE01709E}"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639F746-4CBB-463B-8473-4F3FF64A435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0274299-0608-484B-8A8C-11AA73B0F170}"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766F9A3-27C9-4A1E-A8CE-51833536492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55E282E-1FA6-4384-9809-207F43CE101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6614624-86E6-4580-97C4-E5A6866920A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3D3D0B4-CA28-43C9-8903-FC6E7D9DAC4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F4AC708-37B5-4DC0-A66F-5301D7AE719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6C455BE-3AC2-4E31-B41F-E4D57AC8BBB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09BD736-0E76-4407-9692-AF7A1EB892F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49C1236-67E6-4D39-98AA-2744CC7B46D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52B7714-3F78-4B76-B2B8-3E6683B99DC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784F35CE-AC7C-4602-83D1-7E7BC3BE2547}"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FFF8503-6097-4F63-95F6-333DB57CC2D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835B365-9ECF-4025-97F8-236BF1F592D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C776CFD-C07B-41BD-BE43-9880D9B3E95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9DF6811-E7B3-4EF6-A984-F8892C5980F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C6EDE09-1050-4FEE-ABDE-7EA2E7FE535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5C66621-7667-4E1D-B1F2-59320D37D2A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D140EDC-72E3-474A-892A-7C305285B89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3585436-7742-4735-A9A7-40F4FE9D2BB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B3DC35E-BD79-4E94-9D23-CAF0A6BD66D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B1D9D76-87FF-45D8-9C95-A02E8F74DCF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2553739-106E-44E6-A17B-C9E6936551A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0253AAED-FDCA-4F1B-8D83-44680B1A4D9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9ADE5D81-206B-4430-99FE-7437F5CEA0A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1ACBAD52-CA9B-4B0A-B233-F4A3A3386F7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E9784C3-EBDF-493B-980B-71B1E041E89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5F0D39F-110C-47DF-BB26-1540B325614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ADC2A3C-2ACB-4965-B276-CA086AA9B57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6CA76FE-0DEB-421F-9639-DB31F2D72F4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5871918-9C81-4EC7-8778-05C3533BA4E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A3E41B5-370D-4E9F-BE46-58FE7CD7855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9E3E34F-B45F-4A68-B289-77FD0039ADA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845513A-BC58-473E-A5EC-640D81B03AC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92FE0A0-0E97-4132-BC1E-1E246690119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91DAA98A-6D3C-44C1-9685-AB577ADBDB4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810D231E-59FE-4073-8DC2-EB9B94851FD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6B344FC0-66DB-46C6-8561-BD507D5B580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86828C6-2EAF-4E87-92BF-3F8EC6C8929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0730937-AC7D-4C36-ADED-C2FAD71DA06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DDE932A-7DA4-4B56-B69C-9D119FC429D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1D3ABDA-A571-4E84-97A1-FC309B9DF8C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408C91C-450B-4849-8840-3461D6FFE6A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DF5D7DC-9EC4-4F37-AAB3-FFB3D43A99C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0E5B47C-8E24-466C-A87C-295DC0F5692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716E603-7A10-4F85-88DB-AEAD2F4EFC9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F46512F-345E-4406-AA1E-5115D4959F3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E2986D1-BBBB-451F-A4EE-94FCB494736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4A8C8745-EFC1-4A21-B198-72F629F5FA9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BF90844-F998-4C92-9148-5A12620904C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E31CD55-EB97-41D3-B5B8-9A8BDBE73C5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115BDB9-D59B-447C-8F19-03F44CEF503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44D2314-513E-4DC8-A1A3-17379C7B718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D9DA3C5-E308-4999-94D8-9844B3D8B5A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83DA3DB-718F-40A6-A437-194FA807312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A77F171-15E5-4252-891A-E799DF47E99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309B794-C4D6-44FD-8396-42ACC498F70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389CDF1-663C-4CD9-8451-4B5B2D357DC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8346918-C7F3-4756-BFD0-82B030C4C1C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B20DA8B-C968-48F8-8CD7-80C3559F9740}"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818DBE4-779C-4C88-AA1B-DE8FBE9D5F1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178CD459-847C-4EDF-838F-BC1E57443B4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6513322-1F75-45B6-86B9-B6039F01296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3BDB570-7F73-4918-AADC-E9D168EAF5D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49705D8-2DAC-4D1E-8934-F178A62FCB3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8E0844D-680E-467E-B39C-99ACC8F0588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F393EEB-667D-446A-930B-574E39BE9A8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ECBC02A-366C-4624-AC71-9D4072767D1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D6C2255-124A-4702-BA99-96103E3E53B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E551728-597E-49FE-9969-FAA1ED118E0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6CD97BE-5250-4BC3-8B95-91FE01FC34D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E2FC571-5AE1-45CB-ABDE-D7475B8AE1A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660040B2-6487-4B18-9E8A-077565AA3549}"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46EE8BAC-F791-4582-A1A7-6DFF053AC0AE}"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C8E3328-99FD-4454-8B8F-23834175927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9C533D2E-4D76-4E3C-9579-D34BBC2AC6F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9AD17DEB-8CEA-4B9E-B5AE-3D431371BEE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01D3BC9-85EB-4430-9F71-F33D45EFC10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68E88D3-00D0-4186-ACA1-7AB2F9BD1E1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0E6BB4C-5B06-4109-8216-516F981DCF3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1A6D77D-316C-453A-9B58-68E671E744C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B38689ED-6366-49A4-8B55-EC53FFE02B1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93FDA682-0BE6-419D-A724-AD1119209AE5}"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D4444592-3F32-4E54-B64E-7D33B9F3DA43}"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7F115330-FF0A-4C93-85D7-D96F95116507}"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52E59-B771-4593-A0FF-598CDBA43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57548-0467-4F6C-A634-4B322890A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415CD-25DC-4C3D-9EF3-A9D376367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11DC6-47B5-4C98-B19D-8E13BF40A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0C571-6F19-4C19-B2CE-0C23CB8DA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D0123-BD61-45ED-B04B-0DF43BBB4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A6937-1812-4C2B-8B55-52F4FE7D5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39E9A-8E85-47AF-99DC-AC18C9F6A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AD39E-8F22-4207-A288-45CEAB9BD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53C2A-030E-4660-8D74-A5ACDBD34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0A662-BC9B-42F9-BCEE-EBE08533C5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114B6-5C83-49C6-8902-0127CB7CAB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26EAEF-8D78-45CE-8FC0-A01A90A615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427F73-6238-4723-B8BD-36B7565B63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6ECF4F-857E-48D5-84F3-3D54D5140D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05EEC1-CF61-4F5C-A062-B5A1AFC17C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980EAD-C7CD-4192-90C1-663B532144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3E66FD-7A83-4A45-AE2E-CB0D0A5219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97252A-9132-4E02-A9D9-6090E584BB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968A6-729F-426E-846B-1C3ED12A8A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5EEE1C-0B3A-4A68-8398-30A921CD7D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28366B-4DD2-41C8-BA60-CA0DE050A8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EB8380-06A9-4FE2-B30F-ECB0D0BB813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17549E-1FB6-47B9-A7DC-751E813DD6E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B0DD5E-003C-40F4-A376-1EB5752E3E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F2372F-AF96-45D3-AF89-E8693AA4A9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603BE0-B7CB-4B74-A209-5EA59D6005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8E0DC8-36FA-4B8B-903B-23087673F0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81F9A0-405E-4F53-9F8F-B721CA3010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3E4F2B-F66E-4DFF-A170-7F02AF07B8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2E8190-1DBA-4388-BE35-0E67AB37B6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3A5476-40CB-4B0F-A816-181387CA01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75854F-CB5A-409B-89A0-0985581CF3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06F29C-A09D-40DA-9D90-312A0F601E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D25B73-D305-4315-A147-6EC1312712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B4301E-F880-42BC-B2FF-C61F79C83F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E78B0E-01B9-4749-88F1-B1D437CB388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38F23D-0681-48CD-80CE-0BC428CB58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20E6D40-8E50-478E-BFBF-68951360527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F7F577-639E-431A-9E30-5DF639C3DE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902E8A-54B8-4443-8E54-06F473B5EE7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C68C85-835E-4F03-8AD7-0FC43FAADC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FFBAF6-4690-47D0-B509-5D213DD735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7EA9EE-57F4-4BD7-9629-0FA812879B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A36DD7-EC10-45B2-BEA1-3F431AAE2F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AF5DDD-31EE-4415-8CAE-DB9386B038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8B96C4C-2A67-4C31-B476-5A77AB315DE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976181E-2E20-4824-AF98-C67A2DACDB1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D343761-21D4-49B9-B860-9704A78999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8BB5E7-FED6-4487-99DA-6CE0E8D238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E33E3A-8F96-466F-A588-96A7496171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971B09-4884-4868-8B02-4AF3C880DF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728AFE9-E303-415D-B833-4EFC75E63E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F3FF81B-4EF0-47D7-9791-B0A6931FA6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8B8CF5-73C6-4B0A-88C7-AA9C40DC99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290A35-866B-4A4C-9051-F45C8FB9B6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D97FE9-A6A5-45AE-936A-05EA5A09DA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E0B915-8BEB-49DF-99E9-3D6893A0AE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E7A9825-97AD-4AE7-8EE3-BE155EE1DAF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A0FFB4-E320-4B3F-A5FA-A3323E4A140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5FE0D9A-213D-41BE-9A76-9528E9FD2A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D7A84A9-382A-444B-9FC4-1AAD696A0D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B0DAE98-5F56-4115-B9E6-94F55EF62F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C0BCE-E639-452D-858F-BD877AB058E1}"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08"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D26D7-C181-4D7A-B860-80163F8CE82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5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93AB8-84AE-4075-9B40-F8C23BADAE9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53"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6D234-B278-4983-85CD-4985602CE6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7"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C8F95-49DA-4C33-AA9E-6E06D9DBDE6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98"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7B3E9-88C9-4A5D-A140-F38B74E321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4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42"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BD550-49B3-4F6A-82AD-C86EBD3F8C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6"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7"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54AFC-548E-4E78-95BD-FE855E4BC0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30"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6E990-D0FB-42AF-9FE2-3B9DADCFC0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4"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5"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33432-9F3E-4CA2-B355-0A613A4F7D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8"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6E07D-23CC-4032-9D2F-F154CCA0D2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6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62"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3"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E3FAC-6D7B-480A-A7E6-31FA4F0EEC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6"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7" name="PlaceHolder 4"/>
          <p:cNvSpPr>
            <a:spLocks noGrp="1"/>
          </p:cNvSpPr>
          <p:nvPr>
            <p:ph type="ftr" idx="4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8" name="PlaceHolder 5"/>
          <p:cNvSpPr>
            <a:spLocks noGrp="1"/>
          </p:cNvSpPr>
          <p:nvPr>
            <p:ph type="sldNum" idx="4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B3B36-181F-4F21-868A-4DAD3692D92A}" type="slidenum">
              <a:rPr b="0" lang="es-E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05236-6838-41C0-A340-8F258D96D8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47" name="Group 11"/>
          <p:cNvGrpSpPr/>
          <p:nvPr/>
        </p:nvGrpSpPr>
        <p:grpSpPr>
          <a:xfrm>
            <a:off x="7153200" y="2058840"/>
            <a:ext cx="1990800" cy="2038320"/>
            <a:chOff x="7153200" y="2058840"/>
            <a:chExt cx="1990800" cy="2038320"/>
          </a:xfrm>
        </p:grpSpPr>
        <p:sp>
          <p:nvSpPr>
            <p:cNvPr id="84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50" name="Picture 1" descr=""/>
            <p:cNvPicPr/>
            <p:nvPr/>
          </p:nvPicPr>
          <p:blipFill>
            <a:blip r:embed="rId2"/>
            <a:stretch/>
          </p:blipFill>
          <p:spPr>
            <a:xfrm>
              <a:off x="7252920" y="2161800"/>
              <a:ext cx="696600" cy="508320"/>
            </a:xfrm>
            <a:prstGeom prst="rect">
              <a:avLst/>
            </a:prstGeom>
            <a:ln w="0">
              <a:noFill/>
            </a:ln>
          </p:spPr>
        </p:pic>
        <p:pic>
          <p:nvPicPr>
            <p:cNvPr id="851" name="Picture 1" descr=""/>
            <p:cNvPicPr/>
            <p:nvPr/>
          </p:nvPicPr>
          <p:blipFill>
            <a:blip r:embed="rId3"/>
            <a:stretch/>
          </p:blipFill>
          <p:spPr>
            <a:xfrm>
              <a:off x="8146080" y="2161800"/>
              <a:ext cx="896040" cy="363960"/>
            </a:xfrm>
            <a:prstGeom prst="rect">
              <a:avLst/>
            </a:prstGeom>
            <a:ln w="0">
              <a:noFill/>
            </a:ln>
          </p:spPr>
        </p:pic>
        <p:pic>
          <p:nvPicPr>
            <p:cNvPr id="852" name="Picture 1" descr=""/>
            <p:cNvPicPr/>
            <p:nvPr/>
          </p:nvPicPr>
          <p:blipFill>
            <a:blip r:embed="rId4"/>
            <a:stretch/>
          </p:blipFill>
          <p:spPr>
            <a:xfrm>
              <a:off x="8151120" y="3876480"/>
              <a:ext cx="893880" cy="153720"/>
            </a:xfrm>
            <a:prstGeom prst="rect">
              <a:avLst/>
            </a:prstGeom>
            <a:ln w="0">
              <a:noFill/>
            </a:ln>
          </p:spPr>
        </p:pic>
      </p:grpSp>
      <p:sp>
        <p:nvSpPr>
          <p:cNvPr id="85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55"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DBCF7-DBE2-4D16-9806-1C5C4FFDB20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56"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7"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34D24-84C7-4937-8974-03AE7504A7D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8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97" name="Group 11"/>
          <p:cNvGrpSpPr/>
          <p:nvPr/>
        </p:nvGrpSpPr>
        <p:grpSpPr>
          <a:xfrm>
            <a:off x="7153200" y="2058840"/>
            <a:ext cx="1990800" cy="2038320"/>
            <a:chOff x="7153200" y="2058840"/>
            <a:chExt cx="1990800" cy="2038320"/>
          </a:xfrm>
        </p:grpSpPr>
        <p:sp>
          <p:nvSpPr>
            <p:cNvPr id="89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0" name="Picture 1" descr=""/>
            <p:cNvPicPr/>
            <p:nvPr/>
          </p:nvPicPr>
          <p:blipFill>
            <a:blip r:embed="rId2"/>
            <a:stretch/>
          </p:blipFill>
          <p:spPr>
            <a:xfrm>
              <a:off x="7252920" y="2161800"/>
              <a:ext cx="696600" cy="508320"/>
            </a:xfrm>
            <a:prstGeom prst="rect">
              <a:avLst/>
            </a:prstGeom>
            <a:ln w="0">
              <a:noFill/>
            </a:ln>
          </p:spPr>
        </p:pic>
        <p:pic>
          <p:nvPicPr>
            <p:cNvPr id="901" name="Picture 1" descr=""/>
            <p:cNvPicPr/>
            <p:nvPr/>
          </p:nvPicPr>
          <p:blipFill>
            <a:blip r:embed="rId3"/>
            <a:stretch/>
          </p:blipFill>
          <p:spPr>
            <a:xfrm>
              <a:off x="8146080" y="2161800"/>
              <a:ext cx="896040" cy="363960"/>
            </a:xfrm>
            <a:prstGeom prst="rect">
              <a:avLst/>
            </a:prstGeom>
            <a:ln w="0">
              <a:noFill/>
            </a:ln>
          </p:spPr>
        </p:pic>
        <p:pic>
          <p:nvPicPr>
            <p:cNvPr id="902" name="Picture 1" descr=""/>
            <p:cNvPicPr/>
            <p:nvPr/>
          </p:nvPicPr>
          <p:blipFill>
            <a:blip r:embed="rId4"/>
            <a:stretch/>
          </p:blipFill>
          <p:spPr>
            <a:xfrm>
              <a:off x="8151120" y="3876480"/>
              <a:ext cx="893880" cy="153720"/>
            </a:xfrm>
            <a:prstGeom prst="rect">
              <a:avLst/>
            </a:prstGeom>
            <a:ln w="0">
              <a:noFill/>
            </a:ln>
          </p:spPr>
        </p:pic>
      </p:grpSp>
      <p:sp>
        <p:nvSpPr>
          <p:cNvPr id="90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0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77CB2-6A80-4DB4-A455-55BFA2991CB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0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34357-D9A6-4A40-9951-F815077E369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46" name="Group 11"/>
          <p:cNvGrpSpPr/>
          <p:nvPr/>
        </p:nvGrpSpPr>
        <p:grpSpPr>
          <a:xfrm>
            <a:off x="7153200" y="2058840"/>
            <a:ext cx="1990800" cy="2038320"/>
            <a:chOff x="7153200" y="2058840"/>
            <a:chExt cx="1990800" cy="2038320"/>
          </a:xfrm>
        </p:grpSpPr>
        <p:sp>
          <p:nvSpPr>
            <p:cNvPr id="947"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8"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49" name="Picture 1" descr=""/>
            <p:cNvPicPr/>
            <p:nvPr/>
          </p:nvPicPr>
          <p:blipFill>
            <a:blip r:embed="rId2"/>
            <a:stretch/>
          </p:blipFill>
          <p:spPr>
            <a:xfrm>
              <a:off x="7252920" y="2161800"/>
              <a:ext cx="696600" cy="508320"/>
            </a:xfrm>
            <a:prstGeom prst="rect">
              <a:avLst/>
            </a:prstGeom>
            <a:ln w="0">
              <a:noFill/>
            </a:ln>
          </p:spPr>
        </p:pic>
        <p:pic>
          <p:nvPicPr>
            <p:cNvPr id="950" name="Picture 1" descr=""/>
            <p:cNvPicPr/>
            <p:nvPr/>
          </p:nvPicPr>
          <p:blipFill>
            <a:blip r:embed="rId3"/>
            <a:stretch/>
          </p:blipFill>
          <p:spPr>
            <a:xfrm>
              <a:off x="8146080" y="2161800"/>
              <a:ext cx="896040" cy="363960"/>
            </a:xfrm>
            <a:prstGeom prst="rect">
              <a:avLst/>
            </a:prstGeom>
            <a:ln w="0">
              <a:noFill/>
            </a:ln>
          </p:spPr>
        </p:pic>
        <p:pic>
          <p:nvPicPr>
            <p:cNvPr id="951" name="Picture 1" descr=""/>
            <p:cNvPicPr/>
            <p:nvPr/>
          </p:nvPicPr>
          <p:blipFill>
            <a:blip r:embed="rId4"/>
            <a:stretch/>
          </p:blipFill>
          <p:spPr>
            <a:xfrm>
              <a:off x="8151120" y="3876480"/>
              <a:ext cx="893880" cy="153720"/>
            </a:xfrm>
            <a:prstGeom prst="rect">
              <a:avLst/>
            </a:prstGeom>
            <a:ln w="0">
              <a:noFill/>
            </a:ln>
          </p:spPr>
        </p:pic>
      </p:grpSp>
      <p:sp>
        <p:nvSpPr>
          <p:cNvPr id="95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54"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42622-12F0-4409-BAFD-4FBD000F9F1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55"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6"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0D0B7-0A77-4A4F-B256-1329BE81D1B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95" name="Group 11"/>
          <p:cNvGrpSpPr/>
          <p:nvPr/>
        </p:nvGrpSpPr>
        <p:grpSpPr>
          <a:xfrm>
            <a:off x="7153200" y="2058840"/>
            <a:ext cx="1990800" cy="2038320"/>
            <a:chOff x="7153200" y="2058840"/>
            <a:chExt cx="1990800" cy="2038320"/>
          </a:xfrm>
        </p:grpSpPr>
        <p:sp>
          <p:nvSpPr>
            <p:cNvPr id="996"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7"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98" name="Picture 1" descr=""/>
            <p:cNvPicPr/>
            <p:nvPr/>
          </p:nvPicPr>
          <p:blipFill>
            <a:blip r:embed="rId2"/>
            <a:stretch/>
          </p:blipFill>
          <p:spPr>
            <a:xfrm>
              <a:off x="7252920" y="2161800"/>
              <a:ext cx="696600" cy="508320"/>
            </a:xfrm>
            <a:prstGeom prst="rect">
              <a:avLst/>
            </a:prstGeom>
            <a:ln w="0">
              <a:noFill/>
            </a:ln>
          </p:spPr>
        </p:pic>
        <p:pic>
          <p:nvPicPr>
            <p:cNvPr id="999" name="Picture 1" descr=""/>
            <p:cNvPicPr/>
            <p:nvPr/>
          </p:nvPicPr>
          <p:blipFill>
            <a:blip r:embed="rId3"/>
            <a:stretch/>
          </p:blipFill>
          <p:spPr>
            <a:xfrm>
              <a:off x="8146080" y="2161800"/>
              <a:ext cx="896040" cy="363960"/>
            </a:xfrm>
            <a:prstGeom prst="rect">
              <a:avLst/>
            </a:prstGeom>
            <a:ln w="0">
              <a:noFill/>
            </a:ln>
          </p:spPr>
        </p:pic>
        <p:pic>
          <p:nvPicPr>
            <p:cNvPr id="1000" name="Picture 1" descr=""/>
            <p:cNvPicPr/>
            <p:nvPr/>
          </p:nvPicPr>
          <p:blipFill>
            <a:blip r:embed="rId4"/>
            <a:stretch/>
          </p:blipFill>
          <p:spPr>
            <a:xfrm>
              <a:off x="8151120" y="3876480"/>
              <a:ext cx="893880" cy="153720"/>
            </a:xfrm>
            <a:prstGeom prst="rect">
              <a:avLst/>
            </a:prstGeom>
            <a:ln w="0">
              <a:noFill/>
            </a:ln>
          </p:spPr>
        </p:pic>
      </p:grpSp>
      <p:sp>
        <p:nvSpPr>
          <p:cNvPr id="100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03"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2CE91-1FBE-4E72-AB23-D43D31E6746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04"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5"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46424-C94B-4F7A-B2DE-F0C4DC5FDC4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44" name="Group 11"/>
          <p:cNvGrpSpPr/>
          <p:nvPr/>
        </p:nvGrpSpPr>
        <p:grpSpPr>
          <a:xfrm>
            <a:off x="7153200" y="2058840"/>
            <a:ext cx="1990800" cy="2038320"/>
            <a:chOff x="7153200" y="2058840"/>
            <a:chExt cx="1990800" cy="2038320"/>
          </a:xfrm>
        </p:grpSpPr>
        <p:sp>
          <p:nvSpPr>
            <p:cNvPr id="1045"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6"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47" name="Picture 1" descr=""/>
            <p:cNvPicPr/>
            <p:nvPr/>
          </p:nvPicPr>
          <p:blipFill>
            <a:blip r:embed="rId2"/>
            <a:stretch/>
          </p:blipFill>
          <p:spPr>
            <a:xfrm>
              <a:off x="7252920" y="2161800"/>
              <a:ext cx="696600" cy="508320"/>
            </a:xfrm>
            <a:prstGeom prst="rect">
              <a:avLst/>
            </a:prstGeom>
            <a:ln w="0">
              <a:noFill/>
            </a:ln>
          </p:spPr>
        </p:pic>
        <p:pic>
          <p:nvPicPr>
            <p:cNvPr id="1048" name="Picture 1" descr=""/>
            <p:cNvPicPr/>
            <p:nvPr/>
          </p:nvPicPr>
          <p:blipFill>
            <a:blip r:embed="rId3"/>
            <a:stretch/>
          </p:blipFill>
          <p:spPr>
            <a:xfrm>
              <a:off x="8146080" y="2161800"/>
              <a:ext cx="896040" cy="363960"/>
            </a:xfrm>
            <a:prstGeom prst="rect">
              <a:avLst/>
            </a:prstGeom>
            <a:ln w="0">
              <a:noFill/>
            </a:ln>
          </p:spPr>
        </p:pic>
        <p:pic>
          <p:nvPicPr>
            <p:cNvPr id="1049" name="Picture 1" descr=""/>
            <p:cNvPicPr/>
            <p:nvPr/>
          </p:nvPicPr>
          <p:blipFill>
            <a:blip r:embed="rId4"/>
            <a:stretch/>
          </p:blipFill>
          <p:spPr>
            <a:xfrm>
              <a:off x="8151120" y="3876480"/>
              <a:ext cx="893880" cy="153720"/>
            </a:xfrm>
            <a:prstGeom prst="rect">
              <a:avLst/>
            </a:prstGeom>
            <a:ln w="0">
              <a:noFill/>
            </a:ln>
          </p:spPr>
        </p:pic>
      </p:grpSp>
      <p:sp>
        <p:nvSpPr>
          <p:cNvPr id="105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52"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2E61C-BB90-4F7E-8658-A341C5D42B8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53"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4"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424FD-940C-439D-8A9F-CEED5859D81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93" name="Group 11"/>
          <p:cNvGrpSpPr/>
          <p:nvPr/>
        </p:nvGrpSpPr>
        <p:grpSpPr>
          <a:xfrm>
            <a:off x="7153200" y="2058840"/>
            <a:ext cx="1990800" cy="2038320"/>
            <a:chOff x="7153200" y="2058840"/>
            <a:chExt cx="1990800" cy="2038320"/>
          </a:xfrm>
        </p:grpSpPr>
        <p:sp>
          <p:nvSpPr>
            <p:cNvPr id="1094"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5"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96" name="Picture 1" descr=""/>
            <p:cNvPicPr/>
            <p:nvPr/>
          </p:nvPicPr>
          <p:blipFill>
            <a:blip r:embed="rId2"/>
            <a:stretch/>
          </p:blipFill>
          <p:spPr>
            <a:xfrm>
              <a:off x="7252920" y="2161800"/>
              <a:ext cx="696600" cy="508320"/>
            </a:xfrm>
            <a:prstGeom prst="rect">
              <a:avLst/>
            </a:prstGeom>
            <a:ln w="0">
              <a:noFill/>
            </a:ln>
          </p:spPr>
        </p:pic>
        <p:pic>
          <p:nvPicPr>
            <p:cNvPr id="1097" name="Picture 1" descr=""/>
            <p:cNvPicPr/>
            <p:nvPr/>
          </p:nvPicPr>
          <p:blipFill>
            <a:blip r:embed="rId3"/>
            <a:stretch/>
          </p:blipFill>
          <p:spPr>
            <a:xfrm>
              <a:off x="8146080" y="2161800"/>
              <a:ext cx="896040" cy="363960"/>
            </a:xfrm>
            <a:prstGeom prst="rect">
              <a:avLst/>
            </a:prstGeom>
            <a:ln w="0">
              <a:noFill/>
            </a:ln>
          </p:spPr>
        </p:pic>
        <p:pic>
          <p:nvPicPr>
            <p:cNvPr id="1098" name="Picture 1" descr=""/>
            <p:cNvPicPr/>
            <p:nvPr/>
          </p:nvPicPr>
          <p:blipFill>
            <a:blip r:embed="rId4"/>
            <a:stretch/>
          </p:blipFill>
          <p:spPr>
            <a:xfrm>
              <a:off x="8151120" y="3876480"/>
              <a:ext cx="893880" cy="153720"/>
            </a:xfrm>
            <a:prstGeom prst="rect">
              <a:avLst/>
            </a:prstGeom>
            <a:ln w="0">
              <a:noFill/>
            </a:ln>
          </p:spPr>
        </p:pic>
      </p:grpSp>
      <p:sp>
        <p:nvSpPr>
          <p:cNvPr id="109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01"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3B2CB-1F3B-4CFF-B03E-D786B3D0612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02"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3"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51D38-A4BC-44F2-9B3C-CBB490DD643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42" name="Group 11"/>
          <p:cNvGrpSpPr/>
          <p:nvPr/>
        </p:nvGrpSpPr>
        <p:grpSpPr>
          <a:xfrm>
            <a:off x="7153200" y="2058840"/>
            <a:ext cx="1990800" cy="2038320"/>
            <a:chOff x="7153200" y="2058840"/>
            <a:chExt cx="1990800" cy="2038320"/>
          </a:xfrm>
        </p:grpSpPr>
        <p:sp>
          <p:nvSpPr>
            <p:cNvPr id="1143"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4"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45" name="Picture 1" descr=""/>
            <p:cNvPicPr/>
            <p:nvPr/>
          </p:nvPicPr>
          <p:blipFill>
            <a:blip r:embed="rId2"/>
            <a:stretch/>
          </p:blipFill>
          <p:spPr>
            <a:xfrm>
              <a:off x="7252920" y="2161800"/>
              <a:ext cx="696600" cy="508320"/>
            </a:xfrm>
            <a:prstGeom prst="rect">
              <a:avLst/>
            </a:prstGeom>
            <a:ln w="0">
              <a:noFill/>
            </a:ln>
          </p:spPr>
        </p:pic>
        <p:pic>
          <p:nvPicPr>
            <p:cNvPr id="1146" name="Picture 1" descr=""/>
            <p:cNvPicPr/>
            <p:nvPr/>
          </p:nvPicPr>
          <p:blipFill>
            <a:blip r:embed="rId3"/>
            <a:stretch/>
          </p:blipFill>
          <p:spPr>
            <a:xfrm>
              <a:off x="8146080" y="2161800"/>
              <a:ext cx="896040" cy="363960"/>
            </a:xfrm>
            <a:prstGeom prst="rect">
              <a:avLst/>
            </a:prstGeom>
            <a:ln w="0">
              <a:noFill/>
            </a:ln>
          </p:spPr>
        </p:pic>
        <p:pic>
          <p:nvPicPr>
            <p:cNvPr id="1147" name="Picture 1" descr=""/>
            <p:cNvPicPr/>
            <p:nvPr/>
          </p:nvPicPr>
          <p:blipFill>
            <a:blip r:embed="rId4"/>
            <a:stretch/>
          </p:blipFill>
          <p:spPr>
            <a:xfrm>
              <a:off x="8151120" y="3876480"/>
              <a:ext cx="893880" cy="153720"/>
            </a:xfrm>
            <a:prstGeom prst="rect">
              <a:avLst/>
            </a:prstGeom>
            <a:ln w="0">
              <a:noFill/>
            </a:ln>
          </p:spPr>
        </p:pic>
      </p:grpSp>
      <p:sp>
        <p:nvSpPr>
          <p:cNvPr id="11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0"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9710-B2F3-43AB-B518-92A6ED2BD7C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51"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2"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D7A71-7919-4D94-A9D3-4F206C8A1BC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91" name="Group 11"/>
          <p:cNvGrpSpPr/>
          <p:nvPr/>
        </p:nvGrpSpPr>
        <p:grpSpPr>
          <a:xfrm>
            <a:off x="7153200" y="2058840"/>
            <a:ext cx="1990800" cy="2038320"/>
            <a:chOff x="7153200" y="2058840"/>
            <a:chExt cx="1990800" cy="2038320"/>
          </a:xfrm>
        </p:grpSpPr>
        <p:sp>
          <p:nvSpPr>
            <p:cNvPr id="1192"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3"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4" name="Picture 1" descr=""/>
            <p:cNvPicPr/>
            <p:nvPr/>
          </p:nvPicPr>
          <p:blipFill>
            <a:blip r:embed="rId2"/>
            <a:stretch/>
          </p:blipFill>
          <p:spPr>
            <a:xfrm>
              <a:off x="7252920" y="2161800"/>
              <a:ext cx="696600" cy="508320"/>
            </a:xfrm>
            <a:prstGeom prst="rect">
              <a:avLst/>
            </a:prstGeom>
            <a:ln w="0">
              <a:noFill/>
            </a:ln>
          </p:spPr>
        </p:pic>
        <p:pic>
          <p:nvPicPr>
            <p:cNvPr id="1195" name="Picture 1" descr=""/>
            <p:cNvPicPr/>
            <p:nvPr/>
          </p:nvPicPr>
          <p:blipFill>
            <a:blip r:embed="rId3"/>
            <a:stretch/>
          </p:blipFill>
          <p:spPr>
            <a:xfrm>
              <a:off x="8146080" y="2161800"/>
              <a:ext cx="896040" cy="363960"/>
            </a:xfrm>
            <a:prstGeom prst="rect">
              <a:avLst/>
            </a:prstGeom>
            <a:ln w="0">
              <a:noFill/>
            </a:ln>
          </p:spPr>
        </p:pic>
        <p:pic>
          <p:nvPicPr>
            <p:cNvPr id="1196" name="Picture 1" descr=""/>
            <p:cNvPicPr/>
            <p:nvPr/>
          </p:nvPicPr>
          <p:blipFill>
            <a:blip r:embed="rId4"/>
            <a:stretch/>
          </p:blipFill>
          <p:spPr>
            <a:xfrm>
              <a:off x="8151120" y="3876480"/>
              <a:ext cx="893880" cy="153720"/>
            </a:xfrm>
            <a:prstGeom prst="rect">
              <a:avLst/>
            </a:prstGeom>
            <a:ln w="0">
              <a:noFill/>
            </a:ln>
          </p:spPr>
        </p:pic>
      </p:grpSp>
      <p:sp>
        <p:nvSpPr>
          <p:cNvPr id="119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9"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92988-ADBD-4B7A-8160-0EAA2A74381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00"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1"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37E02-8524-4C34-9A4D-E1DC127CA6C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40" name="Group 11"/>
          <p:cNvGrpSpPr/>
          <p:nvPr/>
        </p:nvGrpSpPr>
        <p:grpSpPr>
          <a:xfrm>
            <a:off x="7153200" y="2058840"/>
            <a:ext cx="1990800" cy="2038320"/>
            <a:chOff x="7153200" y="2058840"/>
            <a:chExt cx="1990800" cy="2038320"/>
          </a:xfrm>
        </p:grpSpPr>
        <p:sp>
          <p:nvSpPr>
            <p:cNvPr id="1241"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2"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3" name="Picture 1" descr=""/>
            <p:cNvPicPr/>
            <p:nvPr/>
          </p:nvPicPr>
          <p:blipFill>
            <a:blip r:embed="rId2"/>
            <a:stretch/>
          </p:blipFill>
          <p:spPr>
            <a:xfrm>
              <a:off x="7252920" y="2161800"/>
              <a:ext cx="696600" cy="508320"/>
            </a:xfrm>
            <a:prstGeom prst="rect">
              <a:avLst/>
            </a:prstGeom>
            <a:ln w="0">
              <a:noFill/>
            </a:ln>
          </p:spPr>
        </p:pic>
        <p:pic>
          <p:nvPicPr>
            <p:cNvPr id="1244" name="Picture 1" descr=""/>
            <p:cNvPicPr/>
            <p:nvPr/>
          </p:nvPicPr>
          <p:blipFill>
            <a:blip r:embed="rId3"/>
            <a:stretch/>
          </p:blipFill>
          <p:spPr>
            <a:xfrm>
              <a:off x="8146080" y="2161800"/>
              <a:ext cx="896040" cy="363960"/>
            </a:xfrm>
            <a:prstGeom prst="rect">
              <a:avLst/>
            </a:prstGeom>
            <a:ln w="0">
              <a:noFill/>
            </a:ln>
          </p:spPr>
        </p:pic>
        <p:pic>
          <p:nvPicPr>
            <p:cNvPr id="1245" name="Picture 1" descr=""/>
            <p:cNvPicPr/>
            <p:nvPr/>
          </p:nvPicPr>
          <p:blipFill>
            <a:blip r:embed="rId4"/>
            <a:stretch/>
          </p:blipFill>
          <p:spPr>
            <a:xfrm>
              <a:off x="8151120" y="3876480"/>
              <a:ext cx="893880" cy="153720"/>
            </a:xfrm>
            <a:prstGeom prst="rect">
              <a:avLst/>
            </a:prstGeom>
            <a:ln w="0">
              <a:noFill/>
            </a:ln>
          </p:spPr>
        </p:pic>
      </p:grpSp>
      <p:sp>
        <p:nvSpPr>
          <p:cNvPr id="12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8"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8793A-AF53-48AA-8511-DE5A7A43E72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49"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0"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9357E-15D5-4B4A-962C-E4E301838BB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89" name="Group 11"/>
          <p:cNvGrpSpPr/>
          <p:nvPr/>
        </p:nvGrpSpPr>
        <p:grpSpPr>
          <a:xfrm>
            <a:off x="7153200" y="2058840"/>
            <a:ext cx="1990800" cy="2038320"/>
            <a:chOff x="7153200" y="2058840"/>
            <a:chExt cx="1990800" cy="2038320"/>
          </a:xfrm>
        </p:grpSpPr>
        <p:sp>
          <p:nvSpPr>
            <p:cNvPr id="1290"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1"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92" name="Picture 1" descr=""/>
            <p:cNvPicPr/>
            <p:nvPr/>
          </p:nvPicPr>
          <p:blipFill>
            <a:blip r:embed="rId2"/>
            <a:stretch/>
          </p:blipFill>
          <p:spPr>
            <a:xfrm>
              <a:off x="7252920" y="2161800"/>
              <a:ext cx="696600" cy="508320"/>
            </a:xfrm>
            <a:prstGeom prst="rect">
              <a:avLst/>
            </a:prstGeom>
            <a:ln w="0">
              <a:noFill/>
            </a:ln>
          </p:spPr>
        </p:pic>
        <p:pic>
          <p:nvPicPr>
            <p:cNvPr id="1293" name="Picture 1" descr=""/>
            <p:cNvPicPr/>
            <p:nvPr/>
          </p:nvPicPr>
          <p:blipFill>
            <a:blip r:embed="rId3"/>
            <a:stretch/>
          </p:blipFill>
          <p:spPr>
            <a:xfrm>
              <a:off x="8146080" y="2161800"/>
              <a:ext cx="896040" cy="363960"/>
            </a:xfrm>
            <a:prstGeom prst="rect">
              <a:avLst/>
            </a:prstGeom>
            <a:ln w="0">
              <a:noFill/>
            </a:ln>
          </p:spPr>
        </p:pic>
        <p:pic>
          <p:nvPicPr>
            <p:cNvPr id="1294" name="Picture 1" descr=""/>
            <p:cNvPicPr/>
            <p:nvPr/>
          </p:nvPicPr>
          <p:blipFill>
            <a:blip r:embed="rId4"/>
            <a:stretch/>
          </p:blipFill>
          <p:spPr>
            <a:xfrm>
              <a:off x="8151120" y="3876480"/>
              <a:ext cx="893880" cy="153720"/>
            </a:xfrm>
            <a:prstGeom prst="rect">
              <a:avLst/>
            </a:prstGeom>
            <a:ln w="0">
              <a:noFill/>
            </a:ln>
          </p:spPr>
        </p:pic>
      </p:grpSp>
      <p:sp>
        <p:nvSpPr>
          <p:cNvPr id="12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97"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081D7-9088-4E9D-809B-834244FEE9D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98"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9"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58DDC-1778-44CA-A9F4-284FE288F25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338" name="Group 11"/>
          <p:cNvGrpSpPr/>
          <p:nvPr/>
        </p:nvGrpSpPr>
        <p:grpSpPr>
          <a:xfrm>
            <a:off x="7153200" y="2058840"/>
            <a:ext cx="1990800" cy="2038320"/>
            <a:chOff x="7153200" y="2058840"/>
            <a:chExt cx="1990800" cy="2038320"/>
          </a:xfrm>
        </p:grpSpPr>
        <p:sp>
          <p:nvSpPr>
            <p:cNvPr id="133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1" name="Picture 1" descr=""/>
            <p:cNvPicPr/>
            <p:nvPr/>
          </p:nvPicPr>
          <p:blipFill>
            <a:blip r:embed="rId2"/>
            <a:stretch/>
          </p:blipFill>
          <p:spPr>
            <a:xfrm>
              <a:off x="7252920" y="2161800"/>
              <a:ext cx="696600" cy="508320"/>
            </a:xfrm>
            <a:prstGeom prst="rect">
              <a:avLst/>
            </a:prstGeom>
            <a:ln w="0">
              <a:noFill/>
            </a:ln>
          </p:spPr>
        </p:pic>
        <p:pic>
          <p:nvPicPr>
            <p:cNvPr id="1342" name="Picture 1" descr=""/>
            <p:cNvPicPr/>
            <p:nvPr/>
          </p:nvPicPr>
          <p:blipFill>
            <a:blip r:embed="rId3"/>
            <a:stretch/>
          </p:blipFill>
          <p:spPr>
            <a:xfrm>
              <a:off x="8146080" y="2161800"/>
              <a:ext cx="896040" cy="363960"/>
            </a:xfrm>
            <a:prstGeom prst="rect">
              <a:avLst/>
            </a:prstGeom>
            <a:ln w="0">
              <a:noFill/>
            </a:ln>
          </p:spPr>
        </p:pic>
        <p:pic>
          <p:nvPicPr>
            <p:cNvPr id="1343" name="Picture 1" descr=""/>
            <p:cNvPicPr/>
            <p:nvPr/>
          </p:nvPicPr>
          <p:blipFill>
            <a:blip r:embed="rId4"/>
            <a:stretch/>
          </p:blipFill>
          <p:spPr>
            <a:xfrm>
              <a:off x="8151120" y="3876480"/>
              <a:ext cx="893880" cy="153720"/>
            </a:xfrm>
            <a:prstGeom prst="rect">
              <a:avLst/>
            </a:prstGeom>
            <a:ln w="0">
              <a:noFill/>
            </a:ln>
          </p:spPr>
        </p:pic>
      </p:grpSp>
      <p:sp>
        <p:nvSpPr>
          <p:cNvPr id="134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46"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6C27A-A0CF-44B7-9EEF-50CFD07A50D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47"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8"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6E0FE-0EA2-428A-B3E0-BDE1CB9A4F6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 name="Picture 1" descr=""/>
          <p:cNvPicPr/>
          <p:nvPr/>
        </p:nvPicPr>
        <p:blipFill>
          <a:blip r:embed="rId2"/>
          <a:stretch/>
        </p:blipFill>
        <p:spPr>
          <a:xfrm>
            <a:off x="647640" y="3452760"/>
            <a:ext cx="803160" cy="585720"/>
          </a:xfrm>
          <a:prstGeom prst="rect">
            <a:avLst/>
          </a:prstGeom>
          <a:ln w="0">
            <a:noFill/>
          </a:ln>
        </p:spPr>
      </p:pic>
      <p:pic>
        <p:nvPicPr>
          <p:cNvPr id="135" name="Picture 1" descr=""/>
          <p:cNvPicPr/>
          <p:nvPr/>
        </p:nvPicPr>
        <p:blipFill>
          <a:blip r:embed="rId3"/>
          <a:stretch/>
        </p:blipFill>
        <p:spPr>
          <a:xfrm>
            <a:off x="1677960" y="3452760"/>
            <a:ext cx="1031760" cy="419040"/>
          </a:xfrm>
          <a:prstGeom prst="rect">
            <a:avLst/>
          </a:prstGeom>
          <a:ln w="0">
            <a:noFill/>
          </a:ln>
        </p:spPr>
      </p:pic>
      <p:sp>
        <p:nvSpPr>
          <p:cNvPr id="13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476A9-B567-449B-ADCC-4C88F73E72C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9"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C8EF9-C50A-499C-B701-C6BA20E212A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9" name="Picture 1" descr=""/>
          <p:cNvPicPr/>
          <p:nvPr/>
        </p:nvPicPr>
        <p:blipFill>
          <a:blip r:embed="rId2"/>
          <a:stretch/>
        </p:blipFill>
        <p:spPr>
          <a:xfrm>
            <a:off x="647640" y="3452760"/>
            <a:ext cx="803160" cy="585720"/>
          </a:xfrm>
          <a:prstGeom prst="rect">
            <a:avLst/>
          </a:prstGeom>
          <a:ln w="0">
            <a:noFill/>
          </a:ln>
        </p:spPr>
      </p:pic>
      <p:pic>
        <p:nvPicPr>
          <p:cNvPr id="180" name="Picture 1" descr=""/>
          <p:cNvPicPr/>
          <p:nvPr/>
        </p:nvPicPr>
        <p:blipFill>
          <a:blip r:embed="rId3"/>
          <a:stretch/>
        </p:blipFill>
        <p:spPr>
          <a:xfrm>
            <a:off x="1677960" y="3452760"/>
            <a:ext cx="1031760" cy="419040"/>
          </a:xfrm>
          <a:prstGeom prst="rect">
            <a:avLst/>
          </a:prstGeom>
          <a:ln w="0">
            <a:noFill/>
          </a:ln>
        </p:spPr>
      </p:pic>
      <p:sp>
        <p:nvSpPr>
          <p:cNvPr id="18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094C2-AE00-4330-AC96-7F419EC0F85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84"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95823-6F9C-4817-BFAD-7F0C8560806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2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4" name="Picture 1" descr=""/>
          <p:cNvPicPr/>
          <p:nvPr/>
        </p:nvPicPr>
        <p:blipFill>
          <a:blip r:embed="rId2"/>
          <a:stretch/>
        </p:blipFill>
        <p:spPr>
          <a:xfrm>
            <a:off x="647640" y="3452760"/>
            <a:ext cx="803160" cy="585720"/>
          </a:xfrm>
          <a:prstGeom prst="rect">
            <a:avLst/>
          </a:prstGeom>
          <a:ln w="0">
            <a:noFill/>
          </a:ln>
        </p:spPr>
      </p:pic>
      <p:pic>
        <p:nvPicPr>
          <p:cNvPr id="225" name="Picture 1" descr=""/>
          <p:cNvPicPr/>
          <p:nvPr/>
        </p:nvPicPr>
        <p:blipFill>
          <a:blip r:embed="rId3"/>
          <a:stretch/>
        </p:blipFill>
        <p:spPr>
          <a:xfrm>
            <a:off x="1677960" y="3452760"/>
            <a:ext cx="1031760" cy="419040"/>
          </a:xfrm>
          <a:prstGeom prst="rect">
            <a:avLst/>
          </a:prstGeom>
          <a:ln w="0">
            <a:noFill/>
          </a:ln>
        </p:spPr>
      </p:pic>
      <p:sp>
        <p:nvSpPr>
          <p:cNvPr id="22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803D6-1326-4571-B8CB-C58C2099D43E}"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29"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D3642-1D89-4C2D-B6BF-28B081E4241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9" name="Picture 1" descr=""/>
          <p:cNvPicPr/>
          <p:nvPr/>
        </p:nvPicPr>
        <p:blipFill>
          <a:blip r:embed="rId2"/>
          <a:stretch/>
        </p:blipFill>
        <p:spPr>
          <a:xfrm>
            <a:off x="647640" y="3452760"/>
            <a:ext cx="803160" cy="585720"/>
          </a:xfrm>
          <a:prstGeom prst="rect">
            <a:avLst/>
          </a:prstGeom>
          <a:ln w="0">
            <a:noFill/>
          </a:ln>
        </p:spPr>
      </p:pic>
      <p:pic>
        <p:nvPicPr>
          <p:cNvPr id="270" name="Picture 1" descr=""/>
          <p:cNvPicPr/>
          <p:nvPr/>
        </p:nvPicPr>
        <p:blipFill>
          <a:blip r:embed="rId3"/>
          <a:stretch/>
        </p:blipFill>
        <p:spPr>
          <a:xfrm>
            <a:off x="1677960" y="3452760"/>
            <a:ext cx="1031760" cy="419040"/>
          </a:xfrm>
          <a:prstGeom prst="rect">
            <a:avLst/>
          </a:prstGeom>
          <a:ln w="0">
            <a:noFill/>
          </a:ln>
        </p:spPr>
      </p:pic>
      <p:sp>
        <p:nvSpPr>
          <p:cNvPr id="27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FBDD2-8804-4858-91B2-90D111A202C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74"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67894-8277-45F6-B727-4A31A3623DB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417FA-4A2F-47B4-8404-6BA42E1080B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19"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8E213-952F-47BB-A472-FC512164A8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6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63"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364"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A6F5A-960A-4418-B277-673F7E2DDF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1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45.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3 Rectángulo"/>
          <p:cNvSpPr/>
          <p:nvPr/>
        </p:nvSpPr>
        <p:spPr>
          <a:xfrm>
            <a:off x="3851280" y="5518080"/>
            <a:ext cx="5148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ffffff"/>
                </a:solidFill>
                <a:latin typeface="Verdana"/>
                <a:ea typeface="Verdana"/>
              </a:rPr>
              <a:t>Unidad de Prestaciones Monetaria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División de Promoción y Protección Soci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Subsecretaría de Servicios Sociale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Ministerio de Desarrollo Social</a:t>
            </a:r>
            <a:endParaRPr b="0" lang="en-US" sz="1600" spc="-1" strike="noStrike">
              <a:solidFill>
                <a:srgbClr val="ffffff"/>
              </a:solidFill>
              <a:latin typeface="Arial"/>
            </a:endParaRPr>
          </a:p>
        </p:txBody>
      </p:sp>
      <p:sp>
        <p:nvSpPr>
          <p:cNvPr id="1386" name="PlaceHolder 1"/>
          <p:cNvSpPr>
            <a:spLocks noGrp="1"/>
          </p:cNvSpPr>
          <p:nvPr>
            <p:ph type="title"/>
          </p:nvPr>
        </p:nvSpPr>
        <p:spPr>
          <a:xfrm>
            <a:off x="642960" y="2143080"/>
            <a:ext cx="7850160" cy="1752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4000" spc="-1" strike="noStrike">
                <a:solidFill>
                  <a:srgbClr val="ffffff"/>
                </a:solidFill>
                <a:latin typeface="Verdana"/>
              </a:rPr>
              <a:t>Prestaciones Monetarias</a:t>
            </a:r>
            <a:endParaRPr b="0" lang="en-US" sz="40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31" name="PlaceHolder 2"/>
          <p:cNvSpPr>
            <a:spLocks noGrp="1"/>
          </p:cNvSpPr>
          <p:nvPr>
            <p:ph/>
          </p:nvPr>
        </p:nvSpPr>
        <p:spPr>
          <a:xfrm>
            <a:off x="394920" y="1390680"/>
            <a:ext cx="7921800" cy="452592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000" spc="-1" strike="noStrike">
                <a:solidFill>
                  <a:srgbClr val="000000"/>
                </a:solidFill>
                <a:latin typeface="Verdana"/>
                <a:ea typeface="Verdana"/>
              </a:rPr>
              <a:t>El Subsidio a la Discapacidad mental, se reajusta anualmente, en el 100% de la variación experimentada por el IPC y el monto vigente para este programa a contar del 01 de Enero de 2014, asciende a </a:t>
            </a:r>
            <a:r>
              <a:rPr b="1" lang="es-ES" sz="2000" spc="-1" strike="noStrike">
                <a:solidFill>
                  <a:srgbClr val="000000"/>
                </a:solidFill>
                <a:latin typeface="Verdana"/>
                <a:ea typeface="Verdana"/>
              </a:rPr>
              <a:t>$58.264,26 </a:t>
            </a:r>
            <a:r>
              <a:rPr b="0" lang="es-ES" sz="2000" spc="-1" strike="noStrike">
                <a:solidFill>
                  <a:srgbClr val="000000"/>
                </a:solidFill>
                <a:latin typeface="Verdana"/>
                <a:ea typeface="Verdana"/>
              </a:rPr>
              <a:t>pesos (US$ 105).</a:t>
            </a:r>
            <a:endParaRPr b="0" lang="en-US" sz="20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p:txBody>
      </p:sp>
      <p:sp>
        <p:nvSpPr>
          <p:cNvPr id="1432" name="Text Box 7"/>
          <p:cNvSpPr/>
          <p:nvPr/>
        </p:nvSpPr>
        <p:spPr>
          <a:xfrm>
            <a:off x="2050920" y="3524400"/>
            <a:ext cx="6266160" cy="1692000"/>
          </a:xfrm>
          <a:prstGeom prst="rect">
            <a:avLst/>
          </a:prstGeom>
          <a:noFill/>
          <a:ln w="0">
            <a:noFill/>
          </a:ln>
        </p:spPr>
        <p:style>
          <a:lnRef idx="0"/>
          <a:fillRef idx="0"/>
          <a:effectRef idx="0"/>
          <a:fontRef idx="minor"/>
        </p:style>
        <p:txBody>
          <a:bodyPr lIns="90000" rIns="90000" tIns="46800" bIns="46800" anchor="t">
            <a:spAutoFit/>
          </a:bodyPr>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Su condición debe ser evaluada y declarada por la Comisión de Medicina Preventiva e Invalidez (COMPIN) correspondiente.</a:t>
            </a:r>
            <a:endParaRPr b="0" lang="en-US" sz="1900" spc="-1" strike="noStrike">
              <a:solidFill>
                <a:srgbClr val="ffffff"/>
              </a:solidFill>
              <a:latin typeface="Arial"/>
            </a:endParaRPr>
          </a:p>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Pueden postular por intermedio de la persona que los tenga a su cargo.</a:t>
            </a:r>
            <a:endParaRPr b="0" lang="en-US" sz="1900" spc="-1" strike="noStrike">
              <a:solidFill>
                <a:srgbClr val="ffffff"/>
              </a:solidFill>
              <a:latin typeface="Arial"/>
            </a:endParaRPr>
          </a:p>
        </p:txBody>
      </p:sp>
      <p:pic>
        <p:nvPicPr>
          <p:cNvPr id="1433" name="6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pic>
        <p:nvPicPr>
          <p:cNvPr id="1434" name="Picture 7" descr="C:\Documents and Settings\fsocias\Configuración local\Archivos temporales de Internet\Content.IE5\WQJQYZA5\MC900088744[1].wmf"/>
          <p:cNvPicPr/>
          <p:nvPr/>
        </p:nvPicPr>
        <p:blipFill>
          <a:blip r:embed="rId2"/>
          <a:stretch/>
        </p:blipFill>
        <p:spPr>
          <a:xfrm>
            <a:off x="900000" y="3600360"/>
            <a:ext cx="792360" cy="1625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p:nvPr>
        </p:nvSpPr>
        <p:spPr>
          <a:xfrm>
            <a:off x="713880" y="1857240"/>
            <a:ext cx="738684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Carecer de recursos; esto significa no tener ingresos propios ni per cápita del grupo familiar superiores al 50% de la pensión mínima (artículo 26º, Ley Nº 15.386). Monto de la Pensión mínima </a:t>
            </a:r>
            <a:r>
              <a:rPr b="1" lang="es-ES" sz="2000" spc="-1" strike="noStrike">
                <a:solidFill>
                  <a:srgbClr val="000000"/>
                </a:solidFill>
                <a:latin typeface="Verdana"/>
              </a:rPr>
              <a:t>$116.945,31 (US$210)</a:t>
            </a:r>
            <a:r>
              <a:rPr b="0" lang="es-ES" sz="2000" spc="-1" strike="noStrike">
                <a:solidFill>
                  <a:srgbClr val="000000"/>
                </a:solidFill>
                <a:latin typeface="Verdana"/>
              </a:rPr>
              <a:t>, por lo tanto, el ingreso debe ser inferior a </a:t>
            </a:r>
            <a:r>
              <a:rPr b="1" lang="es-ES" sz="2000" spc="-1" strike="noStrike">
                <a:solidFill>
                  <a:srgbClr val="000000"/>
                </a:solidFill>
                <a:latin typeface="Verdana"/>
              </a:rPr>
              <a:t>$58.472,76</a:t>
            </a:r>
            <a:r>
              <a:rPr b="0" lang="es-ES" sz="2000" spc="-1" strike="noStrike">
                <a:solidFill>
                  <a:srgbClr val="000000"/>
                </a:solidFill>
                <a:latin typeface="Verdana"/>
              </a:rPr>
              <a:t> (US$105).</a:t>
            </a:r>
            <a:endParaRPr b="0" lang="en-US" sz="2000" spc="-1" strike="noStrike">
              <a:solidFill>
                <a:srgbClr val="595959"/>
              </a:solidFill>
              <a:latin typeface="Calibri"/>
            </a:endParaRPr>
          </a:p>
        </p:txBody>
      </p:sp>
      <p:pic>
        <p:nvPicPr>
          <p:cNvPr id="1436" name="Picture 1028" descr="HAND29"/>
          <p:cNvPicPr/>
          <p:nvPr/>
        </p:nvPicPr>
        <p:blipFill>
          <a:blip r:embed="rId1"/>
          <a:stretch/>
        </p:blipFill>
        <p:spPr>
          <a:xfrm>
            <a:off x="6086520" y="4221000"/>
            <a:ext cx="1293840" cy="1295640"/>
          </a:xfrm>
          <a:prstGeom prst="rect">
            <a:avLst/>
          </a:prstGeom>
          <a:ln w="0">
            <a:noFill/>
          </a:ln>
        </p:spPr>
      </p:pic>
      <p:sp>
        <p:nvSpPr>
          <p:cNvPr id="1437" name="PlaceHolder 2"/>
          <p:cNvSpPr>
            <a:spLocks noGrp="1"/>
          </p:cNvSpPr>
          <p:nvPr>
            <p:ph type="title"/>
          </p:nvPr>
        </p:nvSpPr>
        <p:spPr>
          <a:xfrm>
            <a:off x="268200" y="247320"/>
            <a:ext cx="71121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Requisitos para obtener el Subsidio</a:t>
            </a:r>
            <a:endParaRPr b="0" lang="en-US" sz="2400" spc="-1" strike="noStrike">
              <a:solidFill>
                <a:srgbClr val="006cb7"/>
              </a:solidFill>
              <a:latin typeface="Verdana"/>
            </a:endParaRPr>
          </a:p>
        </p:txBody>
      </p:sp>
      <p:pic>
        <p:nvPicPr>
          <p:cNvPr id="1438"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p:nvPr>
        </p:nvSpPr>
        <p:spPr>
          <a:xfrm>
            <a:off x="293760" y="1430280"/>
            <a:ext cx="823896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Pueden ser beneficiarios de asignación familiar, a su valor máximo, reconociendo como causantes a sus descendientes que vivan a sus expensas.</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asistencia médica gratuita de acuerdo al régimen de salud de la Ley Nº 18.469 (Art.6º letra 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la asignación por muerte del D.F.L. Nº 90, de 1979 equivalente a tres ingresos mínimos sin incremento.</a:t>
            </a:r>
            <a:endParaRPr b="0" lang="en-US" sz="2000" spc="-1" strike="noStrike">
              <a:solidFill>
                <a:srgbClr val="595959"/>
              </a:solidFill>
              <a:latin typeface="Calibri"/>
            </a:endParaRPr>
          </a:p>
        </p:txBody>
      </p:sp>
      <p:grpSp>
        <p:nvGrpSpPr>
          <p:cNvPr id="1440" name="Group 1032"/>
          <p:cNvGrpSpPr/>
          <p:nvPr/>
        </p:nvGrpSpPr>
        <p:grpSpPr>
          <a:xfrm>
            <a:off x="7145280" y="5029200"/>
            <a:ext cx="1258920" cy="1243080"/>
            <a:chOff x="7145280" y="5029200"/>
            <a:chExt cx="1258920" cy="1243080"/>
          </a:xfrm>
        </p:grpSpPr>
        <p:sp>
          <p:nvSpPr>
            <p:cNvPr id="1441" name="Freeform 1033"/>
            <p:cNvSpPr/>
            <p:nvPr/>
          </p:nvSpPr>
          <p:spPr>
            <a:xfrm>
              <a:off x="7145280" y="5029200"/>
              <a:ext cx="1258920" cy="1243080"/>
            </a:xfrm>
            <a:custGeom>
              <a:avLst/>
              <a:gdLst>
                <a:gd name="textAreaLeft" fmla="*/ 0 w 1258920"/>
                <a:gd name="textAreaRight" fmla="*/ 1259280 w 1258920"/>
                <a:gd name="textAreaTop" fmla="*/ 0 h 1243080"/>
                <a:gd name="textAreaBottom" fmla="*/ 1243440 h 1243080"/>
              </a:gdLst>
              <a:ahLst/>
              <a:rect l="textAreaLeft" t="textAreaTop" r="textAreaRight" b="textAreaBottom"/>
              <a:pathLst>
                <a:path w="8599" h="8096">
                  <a:moveTo>
                    <a:pt x="1786" y="8046"/>
                  </a:moveTo>
                  <a:lnTo>
                    <a:pt x="891" y="7951"/>
                  </a:lnTo>
                  <a:lnTo>
                    <a:pt x="859" y="7937"/>
                  </a:lnTo>
                  <a:lnTo>
                    <a:pt x="827" y="7922"/>
                  </a:lnTo>
                  <a:lnTo>
                    <a:pt x="796" y="7907"/>
                  </a:lnTo>
                  <a:lnTo>
                    <a:pt x="764" y="7892"/>
                  </a:lnTo>
                  <a:lnTo>
                    <a:pt x="732" y="7876"/>
                  </a:lnTo>
                  <a:lnTo>
                    <a:pt x="703" y="7860"/>
                  </a:lnTo>
                  <a:lnTo>
                    <a:pt x="671" y="7844"/>
                  </a:lnTo>
                  <a:lnTo>
                    <a:pt x="641" y="7828"/>
                  </a:lnTo>
                  <a:lnTo>
                    <a:pt x="612" y="7811"/>
                  </a:lnTo>
                  <a:lnTo>
                    <a:pt x="583" y="7793"/>
                  </a:lnTo>
                  <a:lnTo>
                    <a:pt x="554" y="7776"/>
                  </a:lnTo>
                  <a:lnTo>
                    <a:pt x="525" y="7758"/>
                  </a:lnTo>
                  <a:lnTo>
                    <a:pt x="496" y="7739"/>
                  </a:lnTo>
                  <a:lnTo>
                    <a:pt x="469" y="7721"/>
                  </a:lnTo>
                  <a:lnTo>
                    <a:pt x="442" y="7701"/>
                  </a:lnTo>
                  <a:lnTo>
                    <a:pt x="415" y="7682"/>
                  </a:lnTo>
                  <a:lnTo>
                    <a:pt x="388" y="7661"/>
                  </a:lnTo>
                  <a:lnTo>
                    <a:pt x="363" y="7640"/>
                  </a:lnTo>
                  <a:lnTo>
                    <a:pt x="336" y="7619"/>
                  </a:lnTo>
                  <a:lnTo>
                    <a:pt x="311" y="7599"/>
                  </a:lnTo>
                  <a:lnTo>
                    <a:pt x="287" y="7577"/>
                  </a:lnTo>
                  <a:lnTo>
                    <a:pt x="262" y="7554"/>
                  </a:lnTo>
                  <a:lnTo>
                    <a:pt x="238" y="7531"/>
                  </a:lnTo>
                  <a:lnTo>
                    <a:pt x="215" y="7508"/>
                  </a:lnTo>
                  <a:lnTo>
                    <a:pt x="192" y="7483"/>
                  </a:lnTo>
                  <a:lnTo>
                    <a:pt x="170" y="7459"/>
                  </a:lnTo>
                  <a:lnTo>
                    <a:pt x="148" y="7435"/>
                  </a:lnTo>
                  <a:lnTo>
                    <a:pt x="127" y="7410"/>
                  </a:lnTo>
                  <a:lnTo>
                    <a:pt x="106" y="7383"/>
                  </a:lnTo>
                  <a:lnTo>
                    <a:pt x="86" y="7357"/>
                  </a:lnTo>
                  <a:lnTo>
                    <a:pt x="67" y="7330"/>
                  </a:lnTo>
                  <a:lnTo>
                    <a:pt x="47" y="7303"/>
                  </a:lnTo>
                  <a:lnTo>
                    <a:pt x="97" y="4668"/>
                  </a:lnTo>
                  <a:lnTo>
                    <a:pt x="78" y="4547"/>
                  </a:lnTo>
                  <a:lnTo>
                    <a:pt x="63" y="4427"/>
                  </a:lnTo>
                  <a:lnTo>
                    <a:pt x="49" y="4307"/>
                  </a:lnTo>
                  <a:lnTo>
                    <a:pt x="37" y="4188"/>
                  </a:lnTo>
                  <a:lnTo>
                    <a:pt x="26" y="4068"/>
                  </a:lnTo>
                  <a:lnTo>
                    <a:pt x="18" y="3949"/>
                  </a:lnTo>
                  <a:lnTo>
                    <a:pt x="11" y="3829"/>
                  </a:lnTo>
                  <a:lnTo>
                    <a:pt x="6" y="3711"/>
                  </a:lnTo>
                  <a:lnTo>
                    <a:pt x="2" y="3592"/>
                  </a:lnTo>
                  <a:lnTo>
                    <a:pt x="0" y="3473"/>
                  </a:lnTo>
                  <a:lnTo>
                    <a:pt x="0" y="3355"/>
                  </a:lnTo>
                  <a:lnTo>
                    <a:pt x="0" y="3236"/>
                  </a:lnTo>
                  <a:lnTo>
                    <a:pt x="2" y="3117"/>
                  </a:lnTo>
                  <a:lnTo>
                    <a:pt x="4" y="2999"/>
                  </a:lnTo>
                  <a:lnTo>
                    <a:pt x="9" y="2880"/>
                  </a:lnTo>
                  <a:lnTo>
                    <a:pt x="15" y="2762"/>
                  </a:lnTo>
                  <a:lnTo>
                    <a:pt x="21" y="2643"/>
                  </a:lnTo>
                  <a:lnTo>
                    <a:pt x="27" y="2524"/>
                  </a:lnTo>
                  <a:lnTo>
                    <a:pt x="36" y="2406"/>
                  </a:lnTo>
                  <a:lnTo>
                    <a:pt x="45" y="2287"/>
                  </a:lnTo>
                  <a:lnTo>
                    <a:pt x="54" y="2168"/>
                  </a:lnTo>
                  <a:lnTo>
                    <a:pt x="64" y="2048"/>
                  </a:lnTo>
                  <a:lnTo>
                    <a:pt x="76" y="1930"/>
                  </a:lnTo>
                  <a:lnTo>
                    <a:pt x="87" y="1810"/>
                  </a:lnTo>
                  <a:lnTo>
                    <a:pt x="99" y="1691"/>
                  </a:lnTo>
                  <a:lnTo>
                    <a:pt x="112" y="1572"/>
                  </a:lnTo>
                  <a:lnTo>
                    <a:pt x="124" y="1452"/>
                  </a:lnTo>
                  <a:lnTo>
                    <a:pt x="137" y="1332"/>
                  </a:lnTo>
                  <a:lnTo>
                    <a:pt x="151" y="1211"/>
                  </a:lnTo>
                  <a:lnTo>
                    <a:pt x="165" y="1091"/>
                  </a:lnTo>
                  <a:lnTo>
                    <a:pt x="177" y="970"/>
                  </a:lnTo>
                  <a:lnTo>
                    <a:pt x="191" y="849"/>
                  </a:lnTo>
                  <a:lnTo>
                    <a:pt x="438" y="452"/>
                  </a:lnTo>
                  <a:lnTo>
                    <a:pt x="891" y="207"/>
                  </a:lnTo>
                  <a:lnTo>
                    <a:pt x="2384" y="5"/>
                  </a:lnTo>
                  <a:lnTo>
                    <a:pt x="4911" y="56"/>
                  </a:lnTo>
                  <a:lnTo>
                    <a:pt x="7047" y="5"/>
                  </a:lnTo>
                  <a:lnTo>
                    <a:pt x="7095" y="1"/>
                  </a:lnTo>
                  <a:lnTo>
                    <a:pt x="7143" y="0"/>
                  </a:lnTo>
                  <a:lnTo>
                    <a:pt x="7192" y="1"/>
                  </a:lnTo>
                  <a:lnTo>
                    <a:pt x="7244" y="4"/>
                  </a:lnTo>
                  <a:lnTo>
                    <a:pt x="7296" y="8"/>
                  </a:lnTo>
                  <a:lnTo>
                    <a:pt x="7349" y="15"/>
                  </a:lnTo>
                  <a:lnTo>
                    <a:pt x="7403" y="25"/>
                  </a:lnTo>
                  <a:lnTo>
                    <a:pt x="7459" y="35"/>
                  </a:lnTo>
                  <a:lnTo>
                    <a:pt x="7513" y="49"/>
                  </a:lnTo>
                  <a:lnTo>
                    <a:pt x="7568" y="63"/>
                  </a:lnTo>
                  <a:lnTo>
                    <a:pt x="7623" y="80"/>
                  </a:lnTo>
                  <a:lnTo>
                    <a:pt x="7679" y="98"/>
                  </a:lnTo>
                  <a:lnTo>
                    <a:pt x="7733" y="119"/>
                  </a:lnTo>
                  <a:lnTo>
                    <a:pt x="7787" y="142"/>
                  </a:lnTo>
                  <a:lnTo>
                    <a:pt x="7841" y="167"/>
                  </a:lnTo>
                  <a:lnTo>
                    <a:pt x="7894" y="194"/>
                  </a:lnTo>
                  <a:lnTo>
                    <a:pt x="7946" y="223"/>
                  </a:lnTo>
                  <a:lnTo>
                    <a:pt x="7995" y="254"/>
                  </a:lnTo>
                  <a:lnTo>
                    <a:pt x="8045" y="286"/>
                  </a:lnTo>
                  <a:lnTo>
                    <a:pt x="8093" y="321"/>
                  </a:lnTo>
                  <a:lnTo>
                    <a:pt x="8139" y="357"/>
                  </a:lnTo>
                  <a:lnTo>
                    <a:pt x="8183" y="397"/>
                  </a:lnTo>
                  <a:lnTo>
                    <a:pt x="8226" y="437"/>
                  </a:lnTo>
                  <a:lnTo>
                    <a:pt x="8265" y="480"/>
                  </a:lnTo>
                  <a:lnTo>
                    <a:pt x="8303" y="524"/>
                  </a:lnTo>
                  <a:lnTo>
                    <a:pt x="8338" y="572"/>
                  </a:lnTo>
                  <a:lnTo>
                    <a:pt x="8370" y="620"/>
                  </a:lnTo>
                  <a:lnTo>
                    <a:pt x="8400" y="671"/>
                  </a:lnTo>
                  <a:lnTo>
                    <a:pt x="8426" y="724"/>
                  </a:lnTo>
                  <a:lnTo>
                    <a:pt x="8449" y="778"/>
                  </a:lnTo>
                  <a:lnTo>
                    <a:pt x="8469" y="834"/>
                  </a:lnTo>
                  <a:lnTo>
                    <a:pt x="8485" y="893"/>
                  </a:lnTo>
                  <a:lnTo>
                    <a:pt x="8510" y="1066"/>
                  </a:lnTo>
                  <a:lnTo>
                    <a:pt x="8532" y="1238"/>
                  </a:lnTo>
                  <a:lnTo>
                    <a:pt x="8551" y="1409"/>
                  </a:lnTo>
                  <a:lnTo>
                    <a:pt x="8566" y="1581"/>
                  </a:lnTo>
                  <a:lnTo>
                    <a:pt x="8578" y="1752"/>
                  </a:lnTo>
                  <a:lnTo>
                    <a:pt x="8586" y="1923"/>
                  </a:lnTo>
                  <a:lnTo>
                    <a:pt x="8593" y="2093"/>
                  </a:lnTo>
                  <a:lnTo>
                    <a:pt x="8597" y="2264"/>
                  </a:lnTo>
                  <a:lnTo>
                    <a:pt x="8599" y="2434"/>
                  </a:lnTo>
                  <a:lnTo>
                    <a:pt x="8599" y="2604"/>
                  </a:lnTo>
                  <a:lnTo>
                    <a:pt x="8597" y="2773"/>
                  </a:lnTo>
                  <a:lnTo>
                    <a:pt x="8593" y="2942"/>
                  </a:lnTo>
                  <a:lnTo>
                    <a:pt x="8589" y="3112"/>
                  </a:lnTo>
                  <a:lnTo>
                    <a:pt x="8583" y="3281"/>
                  </a:lnTo>
                  <a:lnTo>
                    <a:pt x="8577" y="3450"/>
                  </a:lnTo>
                  <a:lnTo>
                    <a:pt x="8570" y="3619"/>
                  </a:lnTo>
                  <a:lnTo>
                    <a:pt x="8562" y="3787"/>
                  </a:lnTo>
                  <a:lnTo>
                    <a:pt x="8555" y="3956"/>
                  </a:lnTo>
                  <a:lnTo>
                    <a:pt x="8548" y="4124"/>
                  </a:lnTo>
                  <a:lnTo>
                    <a:pt x="8541" y="4292"/>
                  </a:lnTo>
                  <a:lnTo>
                    <a:pt x="8536" y="4461"/>
                  </a:lnTo>
                  <a:lnTo>
                    <a:pt x="8530" y="4628"/>
                  </a:lnTo>
                  <a:lnTo>
                    <a:pt x="8526" y="4796"/>
                  </a:lnTo>
                  <a:lnTo>
                    <a:pt x="8524" y="4964"/>
                  </a:lnTo>
                  <a:lnTo>
                    <a:pt x="8523" y="5132"/>
                  </a:lnTo>
                  <a:lnTo>
                    <a:pt x="8523" y="5299"/>
                  </a:lnTo>
                  <a:lnTo>
                    <a:pt x="8526" y="5467"/>
                  </a:lnTo>
                  <a:lnTo>
                    <a:pt x="8531" y="5635"/>
                  </a:lnTo>
                  <a:lnTo>
                    <a:pt x="8539" y="5803"/>
                  </a:lnTo>
                  <a:lnTo>
                    <a:pt x="8549" y="5971"/>
                  </a:lnTo>
                  <a:lnTo>
                    <a:pt x="8563" y="6138"/>
                  </a:lnTo>
                  <a:lnTo>
                    <a:pt x="8579" y="6306"/>
                  </a:lnTo>
                  <a:lnTo>
                    <a:pt x="8333" y="7346"/>
                  </a:lnTo>
                  <a:lnTo>
                    <a:pt x="8037" y="7749"/>
                  </a:lnTo>
                  <a:lnTo>
                    <a:pt x="7967" y="7784"/>
                  </a:lnTo>
                  <a:lnTo>
                    <a:pt x="7897" y="7815"/>
                  </a:lnTo>
                  <a:lnTo>
                    <a:pt x="7826" y="7842"/>
                  </a:lnTo>
                  <a:lnTo>
                    <a:pt x="7756" y="7866"/>
                  </a:lnTo>
                  <a:lnTo>
                    <a:pt x="7684" y="7887"/>
                  </a:lnTo>
                  <a:lnTo>
                    <a:pt x="7614" y="7904"/>
                  </a:lnTo>
                  <a:lnTo>
                    <a:pt x="7543" y="7919"/>
                  </a:lnTo>
                  <a:lnTo>
                    <a:pt x="7470" y="7930"/>
                  </a:lnTo>
                  <a:lnTo>
                    <a:pt x="7399" y="7941"/>
                  </a:lnTo>
                  <a:lnTo>
                    <a:pt x="7327" y="7948"/>
                  </a:lnTo>
                  <a:lnTo>
                    <a:pt x="7255" y="7953"/>
                  </a:lnTo>
                  <a:lnTo>
                    <a:pt x="7183" y="7957"/>
                  </a:lnTo>
                  <a:lnTo>
                    <a:pt x="7111" y="7958"/>
                  </a:lnTo>
                  <a:lnTo>
                    <a:pt x="7038" y="7959"/>
                  </a:lnTo>
                  <a:lnTo>
                    <a:pt x="6966" y="7958"/>
                  </a:lnTo>
                  <a:lnTo>
                    <a:pt x="6893" y="7957"/>
                  </a:lnTo>
                  <a:lnTo>
                    <a:pt x="6822" y="7953"/>
                  </a:lnTo>
                  <a:lnTo>
                    <a:pt x="6749" y="7951"/>
                  </a:lnTo>
                  <a:lnTo>
                    <a:pt x="6676" y="7948"/>
                  </a:lnTo>
                  <a:lnTo>
                    <a:pt x="6604" y="7943"/>
                  </a:lnTo>
                  <a:lnTo>
                    <a:pt x="6532" y="7940"/>
                  </a:lnTo>
                  <a:lnTo>
                    <a:pt x="6460" y="7935"/>
                  </a:lnTo>
                  <a:lnTo>
                    <a:pt x="6387" y="7933"/>
                  </a:lnTo>
                  <a:lnTo>
                    <a:pt x="6316" y="7929"/>
                  </a:lnTo>
                  <a:lnTo>
                    <a:pt x="6244" y="7927"/>
                  </a:lnTo>
                  <a:lnTo>
                    <a:pt x="6173" y="7926"/>
                  </a:lnTo>
                  <a:lnTo>
                    <a:pt x="6102" y="7926"/>
                  </a:lnTo>
                  <a:lnTo>
                    <a:pt x="6030" y="7928"/>
                  </a:lnTo>
                  <a:lnTo>
                    <a:pt x="5960" y="7930"/>
                  </a:lnTo>
                  <a:lnTo>
                    <a:pt x="5890" y="7935"/>
                  </a:lnTo>
                  <a:lnTo>
                    <a:pt x="5819" y="7942"/>
                  </a:lnTo>
                  <a:lnTo>
                    <a:pt x="5749" y="7951"/>
                  </a:lnTo>
                  <a:lnTo>
                    <a:pt x="5680" y="7960"/>
                  </a:lnTo>
                  <a:lnTo>
                    <a:pt x="5611" y="7968"/>
                  </a:lnTo>
                  <a:lnTo>
                    <a:pt x="5542" y="7978"/>
                  </a:lnTo>
                  <a:lnTo>
                    <a:pt x="5474" y="7986"/>
                  </a:lnTo>
                  <a:lnTo>
                    <a:pt x="5407" y="7995"/>
                  </a:lnTo>
                  <a:lnTo>
                    <a:pt x="5340" y="8003"/>
                  </a:lnTo>
                  <a:lnTo>
                    <a:pt x="5273" y="8011"/>
                  </a:lnTo>
                  <a:lnTo>
                    <a:pt x="5207" y="8018"/>
                  </a:lnTo>
                  <a:lnTo>
                    <a:pt x="5141" y="8026"/>
                  </a:lnTo>
                  <a:lnTo>
                    <a:pt x="5075" y="8033"/>
                  </a:lnTo>
                  <a:lnTo>
                    <a:pt x="5011" y="8039"/>
                  </a:lnTo>
                  <a:lnTo>
                    <a:pt x="4945" y="8044"/>
                  </a:lnTo>
                  <a:lnTo>
                    <a:pt x="4881" y="8050"/>
                  </a:lnTo>
                  <a:lnTo>
                    <a:pt x="4816" y="8055"/>
                  </a:lnTo>
                  <a:lnTo>
                    <a:pt x="4752" y="8059"/>
                  </a:lnTo>
                  <a:lnTo>
                    <a:pt x="4688" y="8063"/>
                  </a:lnTo>
                  <a:lnTo>
                    <a:pt x="4624" y="8066"/>
                  </a:lnTo>
                  <a:lnTo>
                    <a:pt x="4560" y="8067"/>
                  </a:lnTo>
                  <a:lnTo>
                    <a:pt x="4497" y="8070"/>
                  </a:lnTo>
                  <a:lnTo>
                    <a:pt x="4434" y="8070"/>
                  </a:lnTo>
                  <a:lnTo>
                    <a:pt x="4370" y="8070"/>
                  </a:lnTo>
                  <a:lnTo>
                    <a:pt x="4307" y="8069"/>
                  </a:lnTo>
                  <a:lnTo>
                    <a:pt x="4244" y="8066"/>
                  </a:lnTo>
                  <a:lnTo>
                    <a:pt x="4180" y="8063"/>
                  </a:lnTo>
                  <a:lnTo>
                    <a:pt x="4117" y="8058"/>
                  </a:lnTo>
                  <a:lnTo>
                    <a:pt x="4053" y="8052"/>
                  </a:lnTo>
                  <a:lnTo>
                    <a:pt x="3990" y="8047"/>
                  </a:lnTo>
                  <a:lnTo>
                    <a:pt x="3927" y="8039"/>
                  </a:lnTo>
                  <a:lnTo>
                    <a:pt x="3863" y="8029"/>
                  </a:lnTo>
                  <a:lnTo>
                    <a:pt x="3799" y="8019"/>
                  </a:lnTo>
                  <a:lnTo>
                    <a:pt x="3736" y="8008"/>
                  </a:lnTo>
                  <a:lnTo>
                    <a:pt x="3671" y="7995"/>
                  </a:lnTo>
                  <a:lnTo>
                    <a:pt x="1881" y="8096"/>
                  </a:lnTo>
                  <a:lnTo>
                    <a:pt x="1786" y="8046"/>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1034"/>
            <p:cNvSpPr/>
            <p:nvPr/>
          </p:nvSpPr>
          <p:spPr>
            <a:xfrm>
              <a:off x="7203240" y="5083560"/>
              <a:ext cx="1132920" cy="1123920"/>
            </a:xfrm>
            <a:custGeom>
              <a:avLst/>
              <a:gdLst>
                <a:gd name="textAreaLeft" fmla="*/ 0 w 1132920"/>
                <a:gd name="textAreaRight" fmla="*/ 1133280 w 1132920"/>
                <a:gd name="textAreaTop" fmla="*/ 0 h 1123920"/>
                <a:gd name="textAreaBottom" fmla="*/ 1124280 h 1123920"/>
              </a:gdLst>
              <a:ahLst/>
              <a:rect l="textAreaLeft" t="textAreaTop" r="textAreaRight" b="textAreaBottom"/>
              <a:pathLst>
                <a:path w="7739" h="7319">
                  <a:moveTo>
                    <a:pt x="650" y="7247"/>
                  </a:moveTo>
                  <a:lnTo>
                    <a:pt x="650" y="7247"/>
                  </a:lnTo>
                  <a:lnTo>
                    <a:pt x="94" y="6844"/>
                  </a:lnTo>
                  <a:lnTo>
                    <a:pt x="94" y="6829"/>
                  </a:lnTo>
                  <a:lnTo>
                    <a:pt x="94" y="6817"/>
                  </a:lnTo>
                  <a:lnTo>
                    <a:pt x="94" y="6810"/>
                  </a:lnTo>
                  <a:lnTo>
                    <a:pt x="94" y="6805"/>
                  </a:lnTo>
                  <a:lnTo>
                    <a:pt x="94" y="6801"/>
                  </a:lnTo>
                  <a:lnTo>
                    <a:pt x="94" y="6800"/>
                  </a:lnTo>
                  <a:lnTo>
                    <a:pt x="94" y="6799"/>
                  </a:lnTo>
                  <a:lnTo>
                    <a:pt x="0" y="3233"/>
                  </a:lnTo>
                  <a:lnTo>
                    <a:pt x="151" y="3328"/>
                  </a:lnTo>
                  <a:lnTo>
                    <a:pt x="166" y="3344"/>
                  </a:lnTo>
                  <a:lnTo>
                    <a:pt x="177" y="3357"/>
                  </a:lnTo>
                  <a:lnTo>
                    <a:pt x="184" y="3366"/>
                  </a:lnTo>
                  <a:lnTo>
                    <a:pt x="190" y="3372"/>
                  </a:lnTo>
                  <a:lnTo>
                    <a:pt x="193" y="3375"/>
                  </a:lnTo>
                  <a:lnTo>
                    <a:pt x="195" y="3376"/>
                  </a:lnTo>
                  <a:lnTo>
                    <a:pt x="196" y="3377"/>
                  </a:lnTo>
                  <a:lnTo>
                    <a:pt x="223" y="3396"/>
                  </a:lnTo>
                  <a:lnTo>
                    <a:pt x="251" y="3413"/>
                  </a:lnTo>
                  <a:lnTo>
                    <a:pt x="278" y="3430"/>
                  </a:lnTo>
                  <a:lnTo>
                    <a:pt x="304" y="3447"/>
                  </a:lnTo>
                  <a:lnTo>
                    <a:pt x="331" y="3463"/>
                  </a:lnTo>
                  <a:lnTo>
                    <a:pt x="356" y="3478"/>
                  </a:lnTo>
                  <a:lnTo>
                    <a:pt x="381" y="3493"/>
                  </a:lnTo>
                  <a:lnTo>
                    <a:pt x="405" y="3508"/>
                  </a:lnTo>
                  <a:lnTo>
                    <a:pt x="430" y="3521"/>
                  </a:lnTo>
                  <a:lnTo>
                    <a:pt x="454" y="3534"/>
                  </a:lnTo>
                  <a:lnTo>
                    <a:pt x="478" y="3547"/>
                  </a:lnTo>
                  <a:lnTo>
                    <a:pt x="501" y="3559"/>
                  </a:lnTo>
                  <a:lnTo>
                    <a:pt x="525" y="3571"/>
                  </a:lnTo>
                  <a:lnTo>
                    <a:pt x="548" y="3581"/>
                  </a:lnTo>
                  <a:lnTo>
                    <a:pt x="571" y="3592"/>
                  </a:lnTo>
                  <a:lnTo>
                    <a:pt x="594" y="3602"/>
                  </a:lnTo>
                  <a:lnTo>
                    <a:pt x="619" y="3611"/>
                  </a:lnTo>
                  <a:lnTo>
                    <a:pt x="642" y="3619"/>
                  </a:lnTo>
                  <a:lnTo>
                    <a:pt x="665" y="3627"/>
                  </a:lnTo>
                  <a:lnTo>
                    <a:pt x="688" y="3636"/>
                  </a:lnTo>
                  <a:lnTo>
                    <a:pt x="712" y="3642"/>
                  </a:lnTo>
                  <a:lnTo>
                    <a:pt x="735" y="3648"/>
                  </a:lnTo>
                  <a:lnTo>
                    <a:pt x="759" y="3654"/>
                  </a:lnTo>
                  <a:lnTo>
                    <a:pt x="783" y="3660"/>
                  </a:lnTo>
                  <a:lnTo>
                    <a:pt x="807" y="3664"/>
                  </a:lnTo>
                  <a:lnTo>
                    <a:pt x="832" y="3668"/>
                  </a:lnTo>
                  <a:lnTo>
                    <a:pt x="857" y="3671"/>
                  </a:lnTo>
                  <a:lnTo>
                    <a:pt x="882" y="3675"/>
                  </a:lnTo>
                  <a:lnTo>
                    <a:pt x="909" y="3677"/>
                  </a:lnTo>
                  <a:lnTo>
                    <a:pt x="935" y="3678"/>
                  </a:lnTo>
                  <a:lnTo>
                    <a:pt x="962" y="3679"/>
                  </a:lnTo>
                  <a:lnTo>
                    <a:pt x="989" y="3679"/>
                  </a:lnTo>
                  <a:lnTo>
                    <a:pt x="1285" y="3624"/>
                  </a:lnTo>
                  <a:lnTo>
                    <a:pt x="1734" y="3176"/>
                  </a:lnTo>
                  <a:lnTo>
                    <a:pt x="1841" y="2584"/>
                  </a:lnTo>
                  <a:lnTo>
                    <a:pt x="1734" y="2433"/>
                  </a:lnTo>
                  <a:lnTo>
                    <a:pt x="1191" y="1885"/>
                  </a:lnTo>
                  <a:lnTo>
                    <a:pt x="296" y="1935"/>
                  </a:lnTo>
                  <a:lnTo>
                    <a:pt x="280" y="1951"/>
                  </a:lnTo>
                  <a:lnTo>
                    <a:pt x="267" y="1964"/>
                  </a:lnTo>
                  <a:lnTo>
                    <a:pt x="258" y="1973"/>
                  </a:lnTo>
                  <a:lnTo>
                    <a:pt x="252" y="1979"/>
                  </a:lnTo>
                  <a:lnTo>
                    <a:pt x="249" y="1982"/>
                  </a:lnTo>
                  <a:lnTo>
                    <a:pt x="248" y="1984"/>
                  </a:lnTo>
                  <a:lnTo>
                    <a:pt x="246" y="1985"/>
                  </a:lnTo>
                  <a:lnTo>
                    <a:pt x="0" y="2332"/>
                  </a:lnTo>
                  <a:lnTo>
                    <a:pt x="44" y="2030"/>
                  </a:lnTo>
                  <a:lnTo>
                    <a:pt x="0" y="693"/>
                  </a:lnTo>
                  <a:lnTo>
                    <a:pt x="397" y="202"/>
                  </a:lnTo>
                  <a:lnTo>
                    <a:pt x="602" y="175"/>
                  </a:lnTo>
                  <a:lnTo>
                    <a:pt x="806" y="151"/>
                  </a:lnTo>
                  <a:lnTo>
                    <a:pt x="1010" y="129"/>
                  </a:lnTo>
                  <a:lnTo>
                    <a:pt x="1214" y="111"/>
                  </a:lnTo>
                  <a:lnTo>
                    <a:pt x="1418" y="93"/>
                  </a:lnTo>
                  <a:lnTo>
                    <a:pt x="1622" y="78"/>
                  </a:lnTo>
                  <a:lnTo>
                    <a:pt x="1825" y="64"/>
                  </a:lnTo>
                  <a:lnTo>
                    <a:pt x="2027" y="53"/>
                  </a:lnTo>
                  <a:lnTo>
                    <a:pt x="2230" y="44"/>
                  </a:lnTo>
                  <a:lnTo>
                    <a:pt x="2433" y="35"/>
                  </a:lnTo>
                  <a:lnTo>
                    <a:pt x="2636" y="28"/>
                  </a:lnTo>
                  <a:lnTo>
                    <a:pt x="2837" y="23"/>
                  </a:lnTo>
                  <a:lnTo>
                    <a:pt x="3040" y="18"/>
                  </a:lnTo>
                  <a:lnTo>
                    <a:pt x="3241" y="15"/>
                  </a:lnTo>
                  <a:lnTo>
                    <a:pt x="3444" y="13"/>
                  </a:lnTo>
                  <a:lnTo>
                    <a:pt x="3646" y="10"/>
                  </a:lnTo>
                  <a:lnTo>
                    <a:pt x="3849" y="10"/>
                  </a:lnTo>
                  <a:lnTo>
                    <a:pt x="4050" y="10"/>
                  </a:lnTo>
                  <a:lnTo>
                    <a:pt x="4253" y="10"/>
                  </a:lnTo>
                  <a:lnTo>
                    <a:pt x="4456" y="10"/>
                  </a:lnTo>
                  <a:lnTo>
                    <a:pt x="4657" y="11"/>
                  </a:lnTo>
                  <a:lnTo>
                    <a:pt x="4860" y="13"/>
                  </a:lnTo>
                  <a:lnTo>
                    <a:pt x="5063" y="13"/>
                  </a:lnTo>
                  <a:lnTo>
                    <a:pt x="5267" y="14"/>
                  </a:lnTo>
                  <a:lnTo>
                    <a:pt x="5469" y="14"/>
                  </a:lnTo>
                  <a:lnTo>
                    <a:pt x="5673" y="14"/>
                  </a:lnTo>
                  <a:lnTo>
                    <a:pt x="5877" y="14"/>
                  </a:lnTo>
                  <a:lnTo>
                    <a:pt x="6081" y="13"/>
                  </a:lnTo>
                  <a:lnTo>
                    <a:pt x="6285" y="11"/>
                  </a:lnTo>
                  <a:lnTo>
                    <a:pt x="6490" y="8"/>
                  </a:lnTo>
                  <a:lnTo>
                    <a:pt x="6695" y="5"/>
                  </a:lnTo>
                  <a:lnTo>
                    <a:pt x="6900" y="0"/>
                  </a:lnTo>
                  <a:lnTo>
                    <a:pt x="7247" y="151"/>
                  </a:lnTo>
                  <a:lnTo>
                    <a:pt x="7695" y="498"/>
                  </a:lnTo>
                  <a:lnTo>
                    <a:pt x="7739" y="1790"/>
                  </a:lnTo>
                  <a:lnTo>
                    <a:pt x="7719" y="1843"/>
                  </a:lnTo>
                  <a:lnTo>
                    <a:pt x="7696" y="1893"/>
                  </a:lnTo>
                  <a:lnTo>
                    <a:pt x="7671" y="1938"/>
                  </a:lnTo>
                  <a:lnTo>
                    <a:pt x="7643" y="1978"/>
                  </a:lnTo>
                  <a:lnTo>
                    <a:pt x="7612" y="2017"/>
                  </a:lnTo>
                  <a:lnTo>
                    <a:pt x="7578" y="2052"/>
                  </a:lnTo>
                  <a:lnTo>
                    <a:pt x="7544" y="2085"/>
                  </a:lnTo>
                  <a:lnTo>
                    <a:pt x="7508" y="2115"/>
                  </a:lnTo>
                  <a:lnTo>
                    <a:pt x="7470" y="2144"/>
                  </a:lnTo>
                  <a:lnTo>
                    <a:pt x="7432" y="2171"/>
                  </a:lnTo>
                  <a:lnTo>
                    <a:pt x="7393" y="2199"/>
                  </a:lnTo>
                  <a:lnTo>
                    <a:pt x="7353" y="2224"/>
                  </a:lnTo>
                  <a:lnTo>
                    <a:pt x="7314" y="2251"/>
                  </a:lnTo>
                  <a:lnTo>
                    <a:pt x="7273" y="2277"/>
                  </a:lnTo>
                  <a:lnTo>
                    <a:pt x="7234" y="2304"/>
                  </a:lnTo>
                  <a:lnTo>
                    <a:pt x="7196" y="2332"/>
                  </a:lnTo>
                  <a:lnTo>
                    <a:pt x="6900" y="2533"/>
                  </a:lnTo>
                  <a:lnTo>
                    <a:pt x="6402" y="2678"/>
                  </a:lnTo>
                  <a:lnTo>
                    <a:pt x="6387" y="2697"/>
                  </a:lnTo>
                  <a:lnTo>
                    <a:pt x="6377" y="2711"/>
                  </a:lnTo>
                  <a:lnTo>
                    <a:pt x="6369" y="2721"/>
                  </a:lnTo>
                  <a:lnTo>
                    <a:pt x="6364" y="2728"/>
                  </a:lnTo>
                  <a:lnTo>
                    <a:pt x="6361" y="2731"/>
                  </a:lnTo>
                  <a:lnTo>
                    <a:pt x="6360" y="2734"/>
                  </a:lnTo>
                  <a:lnTo>
                    <a:pt x="6359" y="2735"/>
                  </a:lnTo>
                  <a:lnTo>
                    <a:pt x="5854" y="2433"/>
                  </a:lnTo>
                  <a:lnTo>
                    <a:pt x="5614" y="2231"/>
                  </a:lnTo>
                  <a:lnTo>
                    <a:pt x="4908" y="2137"/>
                  </a:lnTo>
                  <a:lnTo>
                    <a:pt x="4764" y="2181"/>
                  </a:lnTo>
                  <a:lnTo>
                    <a:pt x="4115" y="1544"/>
                  </a:lnTo>
                  <a:lnTo>
                    <a:pt x="3820" y="1191"/>
                  </a:lnTo>
                  <a:lnTo>
                    <a:pt x="3624" y="1242"/>
                  </a:lnTo>
                  <a:lnTo>
                    <a:pt x="3277" y="1689"/>
                  </a:lnTo>
                  <a:lnTo>
                    <a:pt x="3277" y="2137"/>
                  </a:lnTo>
                  <a:lnTo>
                    <a:pt x="3479" y="2433"/>
                  </a:lnTo>
                  <a:lnTo>
                    <a:pt x="3820" y="2785"/>
                  </a:lnTo>
                  <a:lnTo>
                    <a:pt x="4071" y="2936"/>
                  </a:lnTo>
                  <a:lnTo>
                    <a:pt x="3669" y="3233"/>
                  </a:lnTo>
                  <a:lnTo>
                    <a:pt x="3422" y="3277"/>
                  </a:lnTo>
                  <a:lnTo>
                    <a:pt x="2925" y="3126"/>
                  </a:lnTo>
                  <a:lnTo>
                    <a:pt x="2736" y="2936"/>
                  </a:lnTo>
                  <a:lnTo>
                    <a:pt x="2288" y="2880"/>
                  </a:lnTo>
                  <a:lnTo>
                    <a:pt x="2086" y="2974"/>
                  </a:lnTo>
                  <a:lnTo>
                    <a:pt x="1992" y="3679"/>
                  </a:lnTo>
                  <a:lnTo>
                    <a:pt x="2382" y="4070"/>
                  </a:lnTo>
                  <a:lnTo>
                    <a:pt x="2364" y="4097"/>
                  </a:lnTo>
                  <a:lnTo>
                    <a:pt x="2346" y="4125"/>
                  </a:lnTo>
                  <a:lnTo>
                    <a:pt x="2330" y="4152"/>
                  </a:lnTo>
                  <a:lnTo>
                    <a:pt x="2315" y="4178"/>
                  </a:lnTo>
                  <a:lnTo>
                    <a:pt x="2301" y="4206"/>
                  </a:lnTo>
                  <a:lnTo>
                    <a:pt x="2289" y="4231"/>
                  </a:lnTo>
                  <a:lnTo>
                    <a:pt x="2276" y="4258"/>
                  </a:lnTo>
                  <a:lnTo>
                    <a:pt x="2266" y="4283"/>
                  </a:lnTo>
                  <a:lnTo>
                    <a:pt x="2255" y="4309"/>
                  </a:lnTo>
                  <a:lnTo>
                    <a:pt x="2246" y="4335"/>
                  </a:lnTo>
                  <a:lnTo>
                    <a:pt x="2237" y="4360"/>
                  </a:lnTo>
                  <a:lnTo>
                    <a:pt x="2230" y="4385"/>
                  </a:lnTo>
                  <a:lnTo>
                    <a:pt x="2223" y="4410"/>
                  </a:lnTo>
                  <a:lnTo>
                    <a:pt x="2216" y="4435"/>
                  </a:lnTo>
                  <a:lnTo>
                    <a:pt x="2210" y="4459"/>
                  </a:lnTo>
                  <a:lnTo>
                    <a:pt x="2206" y="4483"/>
                  </a:lnTo>
                  <a:lnTo>
                    <a:pt x="2201" y="4508"/>
                  </a:lnTo>
                  <a:lnTo>
                    <a:pt x="2198" y="4532"/>
                  </a:lnTo>
                  <a:lnTo>
                    <a:pt x="2194" y="4556"/>
                  </a:lnTo>
                  <a:lnTo>
                    <a:pt x="2191" y="4580"/>
                  </a:lnTo>
                  <a:lnTo>
                    <a:pt x="2189" y="4604"/>
                  </a:lnTo>
                  <a:lnTo>
                    <a:pt x="2186" y="4629"/>
                  </a:lnTo>
                  <a:lnTo>
                    <a:pt x="2185" y="4652"/>
                  </a:lnTo>
                  <a:lnTo>
                    <a:pt x="2184" y="4676"/>
                  </a:lnTo>
                  <a:lnTo>
                    <a:pt x="2183" y="4699"/>
                  </a:lnTo>
                  <a:lnTo>
                    <a:pt x="2182" y="4723"/>
                  </a:lnTo>
                  <a:lnTo>
                    <a:pt x="2182" y="4747"/>
                  </a:lnTo>
                  <a:lnTo>
                    <a:pt x="2181" y="4770"/>
                  </a:lnTo>
                  <a:lnTo>
                    <a:pt x="2181" y="4793"/>
                  </a:lnTo>
                  <a:lnTo>
                    <a:pt x="2181" y="4817"/>
                  </a:lnTo>
                  <a:lnTo>
                    <a:pt x="2181" y="4840"/>
                  </a:lnTo>
                  <a:lnTo>
                    <a:pt x="2181" y="4865"/>
                  </a:lnTo>
                  <a:lnTo>
                    <a:pt x="2679" y="5355"/>
                  </a:lnTo>
                  <a:lnTo>
                    <a:pt x="3032" y="5507"/>
                  </a:lnTo>
                  <a:lnTo>
                    <a:pt x="3221" y="5760"/>
                  </a:lnTo>
                  <a:lnTo>
                    <a:pt x="3964" y="6056"/>
                  </a:lnTo>
                  <a:lnTo>
                    <a:pt x="4034" y="6051"/>
                  </a:lnTo>
                  <a:lnTo>
                    <a:pt x="4103" y="6048"/>
                  </a:lnTo>
                  <a:lnTo>
                    <a:pt x="4175" y="6043"/>
                  </a:lnTo>
                  <a:lnTo>
                    <a:pt x="4245" y="6040"/>
                  </a:lnTo>
                  <a:lnTo>
                    <a:pt x="4315" y="6036"/>
                  </a:lnTo>
                  <a:lnTo>
                    <a:pt x="4386" y="6033"/>
                  </a:lnTo>
                  <a:lnTo>
                    <a:pt x="4458" y="6028"/>
                  </a:lnTo>
                  <a:lnTo>
                    <a:pt x="4528" y="6024"/>
                  </a:lnTo>
                  <a:lnTo>
                    <a:pt x="4600" y="6018"/>
                  </a:lnTo>
                  <a:lnTo>
                    <a:pt x="4671" y="6012"/>
                  </a:lnTo>
                  <a:lnTo>
                    <a:pt x="4742" y="6005"/>
                  </a:lnTo>
                  <a:lnTo>
                    <a:pt x="4813" y="5997"/>
                  </a:lnTo>
                  <a:lnTo>
                    <a:pt x="4884" y="5987"/>
                  </a:lnTo>
                  <a:lnTo>
                    <a:pt x="4954" y="5976"/>
                  </a:lnTo>
                  <a:lnTo>
                    <a:pt x="5025" y="5964"/>
                  </a:lnTo>
                  <a:lnTo>
                    <a:pt x="5095" y="5949"/>
                  </a:lnTo>
                  <a:lnTo>
                    <a:pt x="5165" y="5933"/>
                  </a:lnTo>
                  <a:lnTo>
                    <a:pt x="5235" y="5915"/>
                  </a:lnTo>
                  <a:lnTo>
                    <a:pt x="5305" y="5894"/>
                  </a:lnTo>
                  <a:lnTo>
                    <a:pt x="5374" y="5871"/>
                  </a:lnTo>
                  <a:lnTo>
                    <a:pt x="5442" y="5846"/>
                  </a:lnTo>
                  <a:lnTo>
                    <a:pt x="5510" y="5818"/>
                  </a:lnTo>
                  <a:lnTo>
                    <a:pt x="5578" y="5787"/>
                  </a:lnTo>
                  <a:lnTo>
                    <a:pt x="5644" y="5753"/>
                  </a:lnTo>
                  <a:lnTo>
                    <a:pt x="5711" y="5716"/>
                  </a:lnTo>
                  <a:lnTo>
                    <a:pt x="5777" y="5676"/>
                  </a:lnTo>
                  <a:lnTo>
                    <a:pt x="5843" y="5632"/>
                  </a:lnTo>
                  <a:lnTo>
                    <a:pt x="5907" y="5585"/>
                  </a:lnTo>
                  <a:lnTo>
                    <a:pt x="5970" y="5533"/>
                  </a:lnTo>
                  <a:lnTo>
                    <a:pt x="6034" y="5479"/>
                  </a:lnTo>
                  <a:lnTo>
                    <a:pt x="6096" y="5419"/>
                  </a:lnTo>
                  <a:lnTo>
                    <a:pt x="6157" y="5355"/>
                  </a:lnTo>
                  <a:lnTo>
                    <a:pt x="6203" y="5327"/>
                  </a:lnTo>
                  <a:lnTo>
                    <a:pt x="6247" y="5297"/>
                  </a:lnTo>
                  <a:lnTo>
                    <a:pt x="6289" y="5266"/>
                  </a:lnTo>
                  <a:lnTo>
                    <a:pt x="6330" y="5232"/>
                  </a:lnTo>
                  <a:lnTo>
                    <a:pt x="6370" y="5199"/>
                  </a:lnTo>
                  <a:lnTo>
                    <a:pt x="6408" y="5163"/>
                  </a:lnTo>
                  <a:lnTo>
                    <a:pt x="6446" y="5128"/>
                  </a:lnTo>
                  <a:lnTo>
                    <a:pt x="6482" y="5092"/>
                  </a:lnTo>
                  <a:lnTo>
                    <a:pt x="6518" y="5055"/>
                  </a:lnTo>
                  <a:lnTo>
                    <a:pt x="6552" y="5018"/>
                  </a:lnTo>
                  <a:lnTo>
                    <a:pt x="6586" y="4981"/>
                  </a:lnTo>
                  <a:lnTo>
                    <a:pt x="6619" y="4944"/>
                  </a:lnTo>
                  <a:lnTo>
                    <a:pt x="6652" y="4907"/>
                  </a:lnTo>
                  <a:lnTo>
                    <a:pt x="6685" y="4872"/>
                  </a:lnTo>
                  <a:lnTo>
                    <a:pt x="6717" y="4836"/>
                  </a:lnTo>
                  <a:lnTo>
                    <a:pt x="6749" y="4800"/>
                  </a:lnTo>
                  <a:lnTo>
                    <a:pt x="6781" y="4766"/>
                  </a:lnTo>
                  <a:lnTo>
                    <a:pt x="6814" y="4733"/>
                  </a:lnTo>
                  <a:lnTo>
                    <a:pt x="6846" y="4701"/>
                  </a:lnTo>
                  <a:lnTo>
                    <a:pt x="6879" y="4670"/>
                  </a:lnTo>
                  <a:lnTo>
                    <a:pt x="6913" y="4641"/>
                  </a:lnTo>
                  <a:lnTo>
                    <a:pt x="6946" y="4614"/>
                  </a:lnTo>
                  <a:lnTo>
                    <a:pt x="6981" y="4588"/>
                  </a:lnTo>
                  <a:lnTo>
                    <a:pt x="7016" y="4564"/>
                  </a:lnTo>
                  <a:lnTo>
                    <a:pt x="7052" y="4543"/>
                  </a:lnTo>
                  <a:lnTo>
                    <a:pt x="7090" y="4524"/>
                  </a:lnTo>
                  <a:lnTo>
                    <a:pt x="7128" y="4508"/>
                  </a:lnTo>
                  <a:lnTo>
                    <a:pt x="7168" y="4494"/>
                  </a:lnTo>
                  <a:lnTo>
                    <a:pt x="7209" y="4482"/>
                  </a:lnTo>
                  <a:lnTo>
                    <a:pt x="7251" y="4474"/>
                  </a:lnTo>
                  <a:lnTo>
                    <a:pt x="7295" y="4468"/>
                  </a:lnTo>
                  <a:lnTo>
                    <a:pt x="7341" y="4467"/>
                  </a:lnTo>
                  <a:lnTo>
                    <a:pt x="7739" y="4366"/>
                  </a:lnTo>
                  <a:lnTo>
                    <a:pt x="7695" y="6655"/>
                  </a:lnTo>
                  <a:lnTo>
                    <a:pt x="7493" y="6995"/>
                  </a:lnTo>
                  <a:lnTo>
                    <a:pt x="7284" y="7049"/>
                  </a:lnTo>
                  <a:lnTo>
                    <a:pt x="7075" y="7096"/>
                  </a:lnTo>
                  <a:lnTo>
                    <a:pt x="6865" y="7139"/>
                  </a:lnTo>
                  <a:lnTo>
                    <a:pt x="6657" y="7175"/>
                  </a:lnTo>
                  <a:lnTo>
                    <a:pt x="6447" y="7207"/>
                  </a:lnTo>
                  <a:lnTo>
                    <a:pt x="6239" y="7234"/>
                  </a:lnTo>
                  <a:lnTo>
                    <a:pt x="6029" y="7257"/>
                  </a:lnTo>
                  <a:lnTo>
                    <a:pt x="5819" y="7276"/>
                  </a:lnTo>
                  <a:lnTo>
                    <a:pt x="5611" y="7291"/>
                  </a:lnTo>
                  <a:lnTo>
                    <a:pt x="5401" y="7302"/>
                  </a:lnTo>
                  <a:lnTo>
                    <a:pt x="5193" y="7310"/>
                  </a:lnTo>
                  <a:lnTo>
                    <a:pt x="4983" y="7316"/>
                  </a:lnTo>
                  <a:lnTo>
                    <a:pt x="4775" y="7318"/>
                  </a:lnTo>
                  <a:lnTo>
                    <a:pt x="4565" y="7319"/>
                  </a:lnTo>
                  <a:lnTo>
                    <a:pt x="4357" y="7318"/>
                  </a:lnTo>
                  <a:lnTo>
                    <a:pt x="4147" y="7315"/>
                  </a:lnTo>
                  <a:lnTo>
                    <a:pt x="3937" y="7310"/>
                  </a:lnTo>
                  <a:lnTo>
                    <a:pt x="3729" y="7306"/>
                  </a:lnTo>
                  <a:lnTo>
                    <a:pt x="3519" y="7299"/>
                  </a:lnTo>
                  <a:lnTo>
                    <a:pt x="3311" y="7293"/>
                  </a:lnTo>
                  <a:lnTo>
                    <a:pt x="3101" y="7286"/>
                  </a:lnTo>
                  <a:lnTo>
                    <a:pt x="2892" y="7279"/>
                  </a:lnTo>
                  <a:lnTo>
                    <a:pt x="2683" y="7273"/>
                  </a:lnTo>
                  <a:lnTo>
                    <a:pt x="2474" y="7269"/>
                  </a:lnTo>
                  <a:lnTo>
                    <a:pt x="2265" y="7264"/>
                  </a:lnTo>
                  <a:lnTo>
                    <a:pt x="2055" y="7261"/>
                  </a:lnTo>
                  <a:lnTo>
                    <a:pt x="1846" y="7261"/>
                  </a:lnTo>
                  <a:lnTo>
                    <a:pt x="1637" y="7261"/>
                  </a:lnTo>
                  <a:lnTo>
                    <a:pt x="1428" y="7264"/>
                  </a:lnTo>
                  <a:lnTo>
                    <a:pt x="1219" y="7270"/>
                  </a:lnTo>
                  <a:lnTo>
                    <a:pt x="1010" y="7279"/>
                  </a:lnTo>
                  <a:lnTo>
                    <a:pt x="801" y="7291"/>
                  </a:lnTo>
                  <a:lnTo>
                    <a:pt x="650" y="7247"/>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1035"/>
            <p:cNvSpPr/>
            <p:nvPr/>
          </p:nvSpPr>
          <p:spPr>
            <a:xfrm>
              <a:off x="7369920" y="6111720"/>
              <a:ext cx="65160" cy="52920"/>
            </a:xfrm>
            <a:custGeom>
              <a:avLst/>
              <a:gdLst>
                <a:gd name="textAreaLeft" fmla="*/ 0 w 65160"/>
                <a:gd name="textAreaRight" fmla="*/ 65520 w 65160"/>
                <a:gd name="textAreaTop" fmla="*/ 0 h 52920"/>
                <a:gd name="textAreaBottom" fmla="*/ 53280 h 52920"/>
              </a:gdLst>
              <a:ahLst/>
              <a:rect l="textAreaLeft" t="textAreaTop" r="textAreaRight" b="textAreaBottom"/>
              <a:pathLst>
                <a:path w="447" h="346">
                  <a:moveTo>
                    <a:pt x="51" y="296"/>
                  </a:moveTo>
                  <a:lnTo>
                    <a:pt x="0" y="0"/>
                  </a:lnTo>
                  <a:lnTo>
                    <a:pt x="347" y="0"/>
                  </a:lnTo>
                  <a:lnTo>
                    <a:pt x="380" y="16"/>
                  </a:lnTo>
                  <a:lnTo>
                    <a:pt x="405" y="29"/>
                  </a:lnTo>
                  <a:lnTo>
                    <a:pt x="423" y="38"/>
                  </a:lnTo>
                  <a:lnTo>
                    <a:pt x="434" y="44"/>
                  </a:lnTo>
                  <a:lnTo>
                    <a:pt x="441" y="47"/>
                  </a:lnTo>
                  <a:lnTo>
                    <a:pt x="446" y="49"/>
                  </a:lnTo>
                  <a:lnTo>
                    <a:pt x="447" y="50"/>
                  </a:lnTo>
                  <a:lnTo>
                    <a:pt x="145" y="346"/>
                  </a:lnTo>
                  <a:lnTo>
                    <a:pt x="51"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44" name="Freeform 1036"/>
            <p:cNvSpPr/>
            <p:nvPr/>
          </p:nvSpPr>
          <p:spPr>
            <a:xfrm>
              <a:off x="7231320" y="6081840"/>
              <a:ext cx="56160" cy="53640"/>
            </a:xfrm>
            <a:custGeom>
              <a:avLst/>
              <a:gdLst>
                <a:gd name="textAreaLeft" fmla="*/ 0 w 56160"/>
                <a:gd name="textAreaRight" fmla="*/ 56520 w 56160"/>
                <a:gd name="textAreaTop" fmla="*/ 0 h 53640"/>
                <a:gd name="textAreaBottom" fmla="*/ 54000 h 53640"/>
              </a:gdLst>
              <a:ahLst/>
              <a:rect l="textAreaLeft" t="textAreaTop" r="textAreaRight" b="textAreaBottom"/>
              <a:pathLst>
                <a:path w="385" h="350">
                  <a:moveTo>
                    <a:pt x="145" y="296"/>
                  </a:moveTo>
                  <a:lnTo>
                    <a:pt x="0" y="195"/>
                  </a:lnTo>
                  <a:lnTo>
                    <a:pt x="102" y="0"/>
                  </a:lnTo>
                  <a:lnTo>
                    <a:pt x="347" y="94"/>
                  </a:lnTo>
                  <a:lnTo>
                    <a:pt x="357" y="114"/>
                  </a:lnTo>
                  <a:lnTo>
                    <a:pt x="365" y="136"/>
                  </a:lnTo>
                  <a:lnTo>
                    <a:pt x="372" y="160"/>
                  </a:lnTo>
                  <a:lnTo>
                    <a:pt x="378" y="183"/>
                  </a:lnTo>
                  <a:lnTo>
                    <a:pt x="382" y="207"/>
                  </a:lnTo>
                  <a:lnTo>
                    <a:pt x="384" y="231"/>
                  </a:lnTo>
                  <a:lnTo>
                    <a:pt x="385" y="254"/>
                  </a:lnTo>
                  <a:lnTo>
                    <a:pt x="384" y="276"/>
                  </a:lnTo>
                  <a:lnTo>
                    <a:pt x="380" y="297"/>
                  </a:lnTo>
                  <a:lnTo>
                    <a:pt x="376" y="314"/>
                  </a:lnTo>
                  <a:lnTo>
                    <a:pt x="369" y="329"/>
                  </a:lnTo>
                  <a:lnTo>
                    <a:pt x="361" y="341"/>
                  </a:lnTo>
                  <a:lnTo>
                    <a:pt x="349" y="347"/>
                  </a:lnTo>
                  <a:lnTo>
                    <a:pt x="337" y="350"/>
                  </a:lnTo>
                  <a:lnTo>
                    <a:pt x="321" y="349"/>
                  </a:lnTo>
                  <a:lnTo>
                    <a:pt x="303" y="341"/>
                  </a:lnTo>
                  <a:lnTo>
                    <a:pt x="145" y="296"/>
                  </a:lnTo>
                  <a:close/>
                </a:path>
              </a:pathLst>
            </a:custGeom>
            <a:solidFill>
              <a:srgbClr val="6666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45" name="Freeform 1037"/>
            <p:cNvSpPr/>
            <p:nvPr/>
          </p:nvSpPr>
          <p:spPr>
            <a:xfrm>
              <a:off x="7298280" y="6036480"/>
              <a:ext cx="49680" cy="52200"/>
            </a:xfrm>
            <a:custGeom>
              <a:avLst/>
              <a:gdLst>
                <a:gd name="textAreaLeft" fmla="*/ 0 w 49680"/>
                <a:gd name="textAreaRight" fmla="*/ 50040 w 49680"/>
                <a:gd name="textAreaTop" fmla="*/ 0 h 52200"/>
                <a:gd name="textAreaBottom" fmla="*/ 52560 h 52200"/>
              </a:gdLst>
              <a:ahLst/>
              <a:rect l="textAreaLeft" t="textAreaTop" r="textAreaRight" b="textAreaBottom"/>
              <a:pathLst>
                <a:path w="339" h="339">
                  <a:moveTo>
                    <a:pt x="0" y="296"/>
                  </a:moveTo>
                  <a:lnTo>
                    <a:pt x="0" y="0"/>
                  </a:lnTo>
                  <a:lnTo>
                    <a:pt x="339" y="94"/>
                  </a:lnTo>
                  <a:lnTo>
                    <a:pt x="94" y="339"/>
                  </a:lnTo>
                  <a:lnTo>
                    <a:pt x="0" y="296"/>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46" name="Freeform 1038"/>
            <p:cNvSpPr/>
            <p:nvPr/>
          </p:nvSpPr>
          <p:spPr>
            <a:xfrm>
              <a:off x="8125560" y="5990760"/>
              <a:ext cx="95400" cy="97920"/>
            </a:xfrm>
            <a:custGeom>
              <a:avLst/>
              <a:gdLst>
                <a:gd name="textAreaLeft" fmla="*/ 0 w 95400"/>
                <a:gd name="textAreaRight" fmla="*/ 95760 w 95400"/>
                <a:gd name="textAreaTop" fmla="*/ 0 h 97920"/>
                <a:gd name="textAreaBottom" fmla="*/ 98280 h 97920"/>
              </a:gdLst>
              <a:ahLst/>
              <a:rect l="textAreaLeft" t="textAreaTop" r="textAreaRight" b="textAreaBottom"/>
              <a:pathLst>
                <a:path w="653" h="637">
                  <a:moveTo>
                    <a:pt x="0" y="594"/>
                  </a:moveTo>
                  <a:lnTo>
                    <a:pt x="0" y="594"/>
                  </a:lnTo>
                  <a:lnTo>
                    <a:pt x="542" y="0"/>
                  </a:lnTo>
                  <a:lnTo>
                    <a:pt x="578" y="15"/>
                  </a:lnTo>
                  <a:lnTo>
                    <a:pt x="605" y="27"/>
                  </a:lnTo>
                  <a:lnTo>
                    <a:pt x="623" y="34"/>
                  </a:lnTo>
                  <a:lnTo>
                    <a:pt x="636" y="39"/>
                  </a:lnTo>
                  <a:lnTo>
                    <a:pt x="644" y="43"/>
                  </a:lnTo>
                  <a:lnTo>
                    <a:pt x="648" y="44"/>
                  </a:lnTo>
                  <a:lnTo>
                    <a:pt x="650" y="45"/>
                  </a:lnTo>
                  <a:lnTo>
                    <a:pt x="653" y="99"/>
                  </a:lnTo>
                  <a:lnTo>
                    <a:pt x="650" y="152"/>
                  </a:lnTo>
                  <a:lnTo>
                    <a:pt x="637" y="202"/>
                  </a:lnTo>
                  <a:lnTo>
                    <a:pt x="618" y="249"/>
                  </a:lnTo>
                  <a:lnTo>
                    <a:pt x="594" y="295"/>
                  </a:lnTo>
                  <a:lnTo>
                    <a:pt x="564" y="338"/>
                  </a:lnTo>
                  <a:lnTo>
                    <a:pt x="531" y="378"/>
                  </a:lnTo>
                  <a:lnTo>
                    <a:pt x="493" y="417"/>
                  </a:lnTo>
                  <a:lnTo>
                    <a:pt x="453" y="453"/>
                  </a:lnTo>
                  <a:lnTo>
                    <a:pt x="410" y="486"/>
                  </a:lnTo>
                  <a:lnTo>
                    <a:pt x="365" y="518"/>
                  </a:lnTo>
                  <a:lnTo>
                    <a:pt x="321" y="546"/>
                  </a:lnTo>
                  <a:lnTo>
                    <a:pt x="276" y="573"/>
                  </a:lnTo>
                  <a:lnTo>
                    <a:pt x="233" y="597"/>
                  </a:lnTo>
                  <a:lnTo>
                    <a:pt x="191" y="619"/>
                  </a:lnTo>
                  <a:lnTo>
                    <a:pt x="152" y="637"/>
                  </a:lnTo>
                  <a:lnTo>
                    <a:pt x="0" y="594"/>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39"/>
            <p:cNvSpPr/>
            <p:nvPr/>
          </p:nvSpPr>
          <p:spPr>
            <a:xfrm>
              <a:off x="7979760" y="5914080"/>
              <a:ext cx="233280" cy="167400"/>
            </a:xfrm>
            <a:custGeom>
              <a:avLst/>
              <a:gdLst>
                <a:gd name="textAreaLeft" fmla="*/ 0 w 233280"/>
                <a:gd name="textAreaRight" fmla="*/ 233640 w 233280"/>
                <a:gd name="textAreaTop" fmla="*/ 0 h 167400"/>
                <a:gd name="textAreaBottom" fmla="*/ 167760 h 167400"/>
              </a:gdLst>
              <a:ahLst/>
              <a:rect l="textAreaLeft" t="textAreaTop" r="textAreaRight" b="textAreaBottom"/>
              <a:pathLst>
                <a:path w="1596" h="1091">
                  <a:moveTo>
                    <a:pt x="0" y="1091"/>
                  </a:moveTo>
                  <a:lnTo>
                    <a:pt x="0" y="838"/>
                  </a:lnTo>
                  <a:lnTo>
                    <a:pt x="701" y="642"/>
                  </a:lnTo>
                  <a:lnTo>
                    <a:pt x="1394" y="0"/>
                  </a:lnTo>
                  <a:lnTo>
                    <a:pt x="1596" y="94"/>
                  </a:lnTo>
                  <a:lnTo>
                    <a:pt x="1558" y="145"/>
                  </a:lnTo>
                  <a:lnTo>
                    <a:pt x="1520" y="196"/>
                  </a:lnTo>
                  <a:lnTo>
                    <a:pt x="1481" y="244"/>
                  </a:lnTo>
                  <a:lnTo>
                    <a:pt x="1440" y="292"/>
                  </a:lnTo>
                  <a:lnTo>
                    <a:pt x="1399" y="340"/>
                  </a:lnTo>
                  <a:lnTo>
                    <a:pt x="1357" y="386"/>
                  </a:lnTo>
                  <a:lnTo>
                    <a:pt x="1316" y="431"/>
                  </a:lnTo>
                  <a:lnTo>
                    <a:pt x="1273" y="474"/>
                  </a:lnTo>
                  <a:lnTo>
                    <a:pt x="1230" y="517"/>
                  </a:lnTo>
                  <a:lnTo>
                    <a:pt x="1186" y="558"/>
                  </a:lnTo>
                  <a:lnTo>
                    <a:pt x="1141" y="599"/>
                  </a:lnTo>
                  <a:lnTo>
                    <a:pt x="1096" y="637"/>
                  </a:lnTo>
                  <a:lnTo>
                    <a:pt x="1051" y="675"/>
                  </a:lnTo>
                  <a:lnTo>
                    <a:pt x="1005" y="710"/>
                  </a:lnTo>
                  <a:lnTo>
                    <a:pt x="959" y="746"/>
                  </a:lnTo>
                  <a:lnTo>
                    <a:pt x="913" y="778"/>
                  </a:lnTo>
                  <a:lnTo>
                    <a:pt x="866" y="811"/>
                  </a:lnTo>
                  <a:lnTo>
                    <a:pt x="819" y="842"/>
                  </a:lnTo>
                  <a:lnTo>
                    <a:pt x="772" y="871"/>
                  </a:lnTo>
                  <a:lnTo>
                    <a:pt x="725" y="897"/>
                  </a:lnTo>
                  <a:lnTo>
                    <a:pt x="677" y="924"/>
                  </a:lnTo>
                  <a:lnTo>
                    <a:pt x="629" y="948"/>
                  </a:lnTo>
                  <a:lnTo>
                    <a:pt x="582" y="970"/>
                  </a:lnTo>
                  <a:lnTo>
                    <a:pt x="535" y="990"/>
                  </a:lnTo>
                  <a:lnTo>
                    <a:pt x="487" y="1010"/>
                  </a:lnTo>
                  <a:lnTo>
                    <a:pt x="439" y="1027"/>
                  </a:lnTo>
                  <a:lnTo>
                    <a:pt x="392" y="1042"/>
                  </a:lnTo>
                  <a:lnTo>
                    <a:pt x="345" y="1056"/>
                  </a:lnTo>
                  <a:lnTo>
                    <a:pt x="298" y="1068"/>
                  </a:lnTo>
                  <a:lnTo>
                    <a:pt x="252" y="1077"/>
                  </a:lnTo>
                  <a:lnTo>
                    <a:pt x="204" y="1085"/>
                  </a:lnTo>
                  <a:lnTo>
                    <a:pt x="158" y="1091"/>
                  </a:lnTo>
                  <a:lnTo>
                    <a:pt x="0" y="1091"/>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040"/>
            <p:cNvSpPr/>
            <p:nvPr/>
          </p:nvSpPr>
          <p:spPr>
            <a:xfrm>
              <a:off x="7762320" y="5837040"/>
              <a:ext cx="173880" cy="137520"/>
            </a:xfrm>
            <a:custGeom>
              <a:avLst/>
              <a:gdLst>
                <a:gd name="textAreaLeft" fmla="*/ 0 w 173880"/>
                <a:gd name="textAreaRight" fmla="*/ 174240 w 173880"/>
                <a:gd name="textAreaTop" fmla="*/ 0 h 137520"/>
                <a:gd name="textAreaBottom" fmla="*/ 137880 h 137520"/>
              </a:gdLst>
              <a:ahLst/>
              <a:rect l="textAreaLeft" t="textAreaTop" r="textAreaRight" b="textAreaBottom"/>
              <a:pathLst>
                <a:path w="1190" h="895">
                  <a:moveTo>
                    <a:pt x="100" y="852"/>
                  </a:moveTo>
                  <a:lnTo>
                    <a:pt x="0" y="707"/>
                  </a:lnTo>
                  <a:lnTo>
                    <a:pt x="547" y="449"/>
                  </a:lnTo>
                  <a:lnTo>
                    <a:pt x="1088" y="0"/>
                  </a:lnTo>
                  <a:lnTo>
                    <a:pt x="1122" y="19"/>
                  </a:lnTo>
                  <a:lnTo>
                    <a:pt x="1147" y="33"/>
                  </a:lnTo>
                  <a:lnTo>
                    <a:pt x="1165" y="43"/>
                  </a:lnTo>
                  <a:lnTo>
                    <a:pt x="1177" y="50"/>
                  </a:lnTo>
                  <a:lnTo>
                    <a:pt x="1184" y="53"/>
                  </a:lnTo>
                  <a:lnTo>
                    <a:pt x="1189" y="56"/>
                  </a:lnTo>
                  <a:lnTo>
                    <a:pt x="1190" y="57"/>
                  </a:lnTo>
                  <a:lnTo>
                    <a:pt x="887" y="599"/>
                  </a:lnTo>
                  <a:lnTo>
                    <a:pt x="200" y="895"/>
                  </a:lnTo>
                  <a:lnTo>
                    <a:pt x="100" y="85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041"/>
            <p:cNvSpPr/>
            <p:nvPr/>
          </p:nvSpPr>
          <p:spPr>
            <a:xfrm>
              <a:off x="7725600" y="5311440"/>
              <a:ext cx="617040" cy="624960"/>
            </a:xfrm>
            <a:custGeom>
              <a:avLst/>
              <a:gdLst>
                <a:gd name="textAreaLeft" fmla="*/ 0 w 617040"/>
                <a:gd name="textAreaRight" fmla="*/ 617400 w 617040"/>
                <a:gd name="textAreaTop" fmla="*/ 0 h 624960"/>
                <a:gd name="textAreaBottom" fmla="*/ 625320 h 624960"/>
              </a:gdLst>
              <a:ahLst/>
              <a:rect l="textAreaLeft" t="textAreaTop" r="textAreaRight" b="textAreaBottom"/>
              <a:pathLst>
                <a:path w="4215" h="4070">
                  <a:moveTo>
                    <a:pt x="1580" y="4020"/>
                  </a:moveTo>
                  <a:lnTo>
                    <a:pt x="1599" y="4003"/>
                  </a:lnTo>
                  <a:lnTo>
                    <a:pt x="1614" y="3984"/>
                  </a:lnTo>
                  <a:lnTo>
                    <a:pt x="1626" y="3966"/>
                  </a:lnTo>
                  <a:lnTo>
                    <a:pt x="1636" y="3948"/>
                  </a:lnTo>
                  <a:lnTo>
                    <a:pt x="1644" y="3928"/>
                  </a:lnTo>
                  <a:lnTo>
                    <a:pt x="1651" y="3910"/>
                  </a:lnTo>
                  <a:lnTo>
                    <a:pt x="1656" y="3889"/>
                  </a:lnTo>
                  <a:lnTo>
                    <a:pt x="1661" y="3868"/>
                  </a:lnTo>
                  <a:lnTo>
                    <a:pt x="1666" y="3847"/>
                  </a:lnTo>
                  <a:lnTo>
                    <a:pt x="1671" y="3825"/>
                  </a:lnTo>
                  <a:lnTo>
                    <a:pt x="1677" y="3804"/>
                  </a:lnTo>
                  <a:lnTo>
                    <a:pt x="1684" y="3781"/>
                  </a:lnTo>
                  <a:lnTo>
                    <a:pt x="1692" y="3756"/>
                  </a:lnTo>
                  <a:lnTo>
                    <a:pt x="1704" y="3732"/>
                  </a:lnTo>
                  <a:lnTo>
                    <a:pt x="1716" y="3706"/>
                  </a:lnTo>
                  <a:lnTo>
                    <a:pt x="1732" y="3679"/>
                  </a:lnTo>
                  <a:lnTo>
                    <a:pt x="1688" y="3377"/>
                  </a:lnTo>
                  <a:lnTo>
                    <a:pt x="1335" y="3232"/>
                  </a:lnTo>
                  <a:lnTo>
                    <a:pt x="1039" y="2936"/>
                  </a:lnTo>
                  <a:lnTo>
                    <a:pt x="1039" y="2784"/>
                  </a:lnTo>
                  <a:lnTo>
                    <a:pt x="1001" y="2756"/>
                  </a:lnTo>
                  <a:lnTo>
                    <a:pt x="962" y="2732"/>
                  </a:lnTo>
                  <a:lnTo>
                    <a:pt x="921" y="2709"/>
                  </a:lnTo>
                  <a:lnTo>
                    <a:pt x="881" y="2688"/>
                  </a:lnTo>
                  <a:lnTo>
                    <a:pt x="840" y="2670"/>
                  </a:lnTo>
                  <a:lnTo>
                    <a:pt x="798" y="2654"/>
                  </a:lnTo>
                  <a:lnTo>
                    <a:pt x="756" y="2639"/>
                  </a:lnTo>
                  <a:lnTo>
                    <a:pt x="714" y="2626"/>
                  </a:lnTo>
                  <a:lnTo>
                    <a:pt x="673" y="2616"/>
                  </a:lnTo>
                  <a:lnTo>
                    <a:pt x="630" y="2607"/>
                  </a:lnTo>
                  <a:lnTo>
                    <a:pt x="589" y="2599"/>
                  </a:lnTo>
                  <a:lnTo>
                    <a:pt x="547" y="2593"/>
                  </a:lnTo>
                  <a:lnTo>
                    <a:pt x="507" y="2588"/>
                  </a:lnTo>
                  <a:lnTo>
                    <a:pt x="466" y="2585"/>
                  </a:lnTo>
                  <a:lnTo>
                    <a:pt x="427" y="2584"/>
                  </a:lnTo>
                  <a:lnTo>
                    <a:pt x="389" y="2583"/>
                  </a:lnTo>
                  <a:lnTo>
                    <a:pt x="0" y="2192"/>
                  </a:lnTo>
                  <a:lnTo>
                    <a:pt x="14" y="2147"/>
                  </a:lnTo>
                  <a:lnTo>
                    <a:pt x="37" y="2107"/>
                  </a:lnTo>
                  <a:lnTo>
                    <a:pt x="67" y="2071"/>
                  </a:lnTo>
                  <a:lnTo>
                    <a:pt x="102" y="2039"/>
                  </a:lnTo>
                  <a:lnTo>
                    <a:pt x="145" y="2010"/>
                  </a:lnTo>
                  <a:lnTo>
                    <a:pt x="192" y="1982"/>
                  </a:lnTo>
                  <a:lnTo>
                    <a:pt x="243" y="1956"/>
                  </a:lnTo>
                  <a:lnTo>
                    <a:pt x="298" y="1931"/>
                  </a:lnTo>
                  <a:lnTo>
                    <a:pt x="355" y="1904"/>
                  </a:lnTo>
                  <a:lnTo>
                    <a:pt x="412" y="1876"/>
                  </a:lnTo>
                  <a:lnTo>
                    <a:pt x="471" y="1846"/>
                  </a:lnTo>
                  <a:lnTo>
                    <a:pt x="530" y="1814"/>
                  </a:lnTo>
                  <a:lnTo>
                    <a:pt x="587" y="1777"/>
                  </a:lnTo>
                  <a:lnTo>
                    <a:pt x="643" y="1737"/>
                  </a:lnTo>
                  <a:lnTo>
                    <a:pt x="695" y="1690"/>
                  </a:lnTo>
                  <a:lnTo>
                    <a:pt x="743" y="1638"/>
                  </a:lnTo>
                  <a:lnTo>
                    <a:pt x="988" y="2042"/>
                  </a:lnTo>
                  <a:lnTo>
                    <a:pt x="1486" y="2488"/>
                  </a:lnTo>
                  <a:lnTo>
                    <a:pt x="1503" y="2488"/>
                  </a:lnTo>
                  <a:lnTo>
                    <a:pt x="1515" y="2488"/>
                  </a:lnTo>
                  <a:lnTo>
                    <a:pt x="1524" y="2488"/>
                  </a:lnTo>
                  <a:lnTo>
                    <a:pt x="1531" y="2488"/>
                  </a:lnTo>
                  <a:lnTo>
                    <a:pt x="1534" y="2488"/>
                  </a:lnTo>
                  <a:lnTo>
                    <a:pt x="1535" y="2488"/>
                  </a:lnTo>
                  <a:lnTo>
                    <a:pt x="1537" y="2488"/>
                  </a:lnTo>
                  <a:lnTo>
                    <a:pt x="1586" y="2488"/>
                  </a:lnTo>
                  <a:lnTo>
                    <a:pt x="1624" y="2488"/>
                  </a:lnTo>
                  <a:lnTo>
                    <a:pt x="1651" y="2488"/>
                  </a:lnTo>
                  <a:lnTo>
                    <a:pt x="1669" y="2488"/>
                  </a:lnTo>
                  <a:lnTo>
                    <a:pt x="1679" y="2488"/>
                  </a:lnTo>
                  <a:lnTo>
                    <a:pt x="1685" y="2488"/>
                  </a:lnTo>
                  <a:lnTo>
                    <a:pt x="1688" y="2488"/>
                  </a:lnTo>
                  <a:lnTo>
                    <a:pt x="1658" y="2442"/>
                  </a:lnTo>
                  <a:lnTo>
                    <a:pt x="1625" y="2396"/>
                  </a:lnTo>
                  <a:lnTo>
                    <a:pt x="1590" y="2352"/>
                  </a:lnTo>
                  <a:lnTo>
                    <a:pt x="1553" y="2308"/>
                  </a:lnTo>
                  <a:lnTo>
                    <a:pt x="1514" y="2266"/>
                  </a:lnTo>
                  <a:lnTo>
                    <a:pt x="1474" y="2223"/>
                  </a:lnTo>
                  <a:lnTo>
                    <a:pt x="1434" y="2180"/>
                  </a:lnTo>
                  <a:lnTo>
                    <a:pt x="1394" y="2139"/>
                  </a:lnTo>
                  <a:lnTo>
                    <a:pt x="1355" y="2098"/>
                  </a:lnTo>
                  <a:lnTo>
                    <a:pt x="1317" y="2055"/>
                  </a:lnTo>
                  <a:lnTo>
                    <a:pt x="1279" y="2012"/>
                  </a:lnTo>
                  <a:lnTo>
                    <a:pt x="1244" y="1970"/>
                  </a:lnTo>
                  <a:lnTo>
                    <a:pt x="1212" y="1926"/>
                  </a:lnTo>
                  <a:lnTo>
                    <a:pt x="1182" y="1882"/>
                  </a:lnTo>
                  <a:lnTo>
                    <a:pt x="1155" y="1836"/>
                  </a:lnTo>
                  <a:lnTo>
                    <a:pt x="1133" y="1790"/>
                  </a:lnTo>
                  <a:lnTo>
                    <a:pt x="1039" y="1393"/>
                  </a:lnTo>
                  <a:lnTo>
                    <a:pt x="1022" y="1375"/>
                  </a:lnTo>
                  <a:lnTo>
                    <a:pt x="1010" y="1364"/>
                  </a:lnTo>
                  <a:lnTo>
                    <a:pt x="1001" y="1355"/>
                  </a:lnTo>
                  <a:lnTo>
                    <a:pt x="995" y="1348"/>
                  </a:lnTo>
                  <a:lnTo>
                    <a:pt x="991" y="1344"/>
                  </a:lnTo>
                  <a:lnTo>
                    <a:pt x="989" y="1343"/>
                  </a:lnTo>
                  <a:lnTo>
                    <a:pt x="988" y="1342"/>
                  </a:lnTo>
                  <a:lnTo>
                    <a:pt x="648" y="1247"/>
                  </a:lnTo>
                  <a:lnTo>
                    <a:pt x="51" y="743"/>
                  </a:lnTo>
                  <a:lnTo>
                    <a:pt x="0" y="302"/>
                  </a:lnTo>
                  <a:lnTo>
                    <a:pt x="202" y="0"/>
                  </a:lnTo>
                  <a:lnTo>
                    <a:pt x="692" y="397"/>
                  </a:lnTo>
                  <a:lnTo>
                    <a:pt x="704" y="443"/>
                  </a:lnTo>
                  <a:lnTo>
                    <a:pt x="720" y="487"/>
                  </a:lnTo>
                  <a:lnTo>
                    <a:pt x="739" y="529"/>
                  </a:lnTo>
                  <a:lnTo>
                    <a:pt x="763" y="568"/>
                  </a:lnTo>
                  <a:lnTo>
                    <a:pt x="788" y="605"/>
                  </a:lnTo>
                  <a:lnTo>
                    <a:pt x="815" y="640"/>
                  </a:lnTo>
                  <a:lnTo>
                    <a:pt x="845" y="674"/>
                  </a:lnTo>
                  <a:lnTo>
                    <a:pt x="878" y="705"/>
                  </a:lnTo>
                  <a:lnTo>
                    <a:pt x="910" y="735"/>
                  </a:lnTo>
                  <a:lnTo>
                    <a:pt x="943" y="762"/>
                  </a:lnTo>
                  <a:lnTo>
                    <a:pt x="977" y="788"/>
                  </a:lnTo>
                  <a:lnTo>
                    <a:pt x="1010" y="813"/>
                  </a:lnTo>
                  <a:lnTo>
                    <a:pt x="1044" y="835"/>
                  </a:lnTo>
                  <a:lnTo>
                    <a:pt x="1075" y="857"/>
                  </a:lnTo>
                  <a:lnTo>
                    <a:pt x="1105" y="876"/>
                  </a:lnTo>
                  <a:lnTo>
                    <a:pt x="1133" y="895"/>
                  </a:lnTo>
                  <a:lnTo>
                    <a:pt x="1889" y="946"/>
                  </a:lnTo>
                  <a:lnTo>
                    <a:pt x="2230" y="1147"/>
                  </a:lnTo>
                  <a:lnTo>
                    <a:pt x="2784" y="1839"/>
                  </a:lnTo>
                  <a:lnTo>
                    <a:pt x="2829" y="1543"/>
                  </a:lnTo>
                  <a:lnTo>
                    <a:pt x="4215" y="844"/>
                  </a:lnTo>
                  <a:lnTo>
                    <a:pt x="4215" y="2488"/>
                  </a:lnTo>
                  <a:lnTo>
                    <a:pt x="3024" y="2936"/>
                  </a:lnTo>
                  <a:lnTo>
                    <a:pt x="3024" y="2677"/>
                  </a:lnTo>
                  <a:lnTo>
                    <a:pt x="2829" y="2432"/>
                  </a:lnTo>
                  <a:lnTo>
                    <a:pt x="2829" y="2879"/>
                  </a:lnTo>
                  <a:lnTo>
                    <a:pt x="2583" y="3623"/>
                  </a:lnTo>
                  <a:lnTo>
                    <a:pt x="2550" y="3641"/>
                  </a:lnTo>
                  <a:lnTo>
                    <a:pt x="2518" y="3660"/>
                  </a:lnTo>
                  <a:lnTo>
                    <a:pt x="2486" y="3677"/>
                  </a:lnTo>
                  <a:lnTo>
                    <a:pt x="2455" y="3694"/>
                  </a:lnTo>
                  <a:lnTo>
                    <a:pt x="2425" y="3710"/>
                  </a:lnTo>
                  <a:lnTo>
                    <a:pt x="2395" y="3726"/>
                  </a:lnTo>
                  <a:lnTo>
                    <a:pt x="2365" y="3743"/>
                  </a:lnTo>
                  <a:lnTo>
                    <a:pt x="2336" y="3757"/>
                  </a:lnTo>
                  <a:lnTo>
                    <a:pt x="2307" y="3772"/>
                  </a:lnTo>
                  <a:lnTo>
                    <a:pt x="2278" y="3786"/>
                  </a:lnTo>
                  <a:lnTo>
                    <a:pt x="2251" y="3801"/>
                  </a:lnTo>
                  <a:lnTo>
                    <a:pt x="2222" y="3815"/>
                  </a:lnTo>
                  <a:lnTo>
                    <a:pt x="2196" y="3829"/>
                  </a:lnTo>
                  <a:lnTo>
                    <a:pt x="2168" y="3842"/>
                  </a:lnTo>
                  <a:lnTo>
                    <a:pt x="2140" y="3855"/>
                  </a:lnTo>
                  <a:lnTo>
                    <a:pt x="2114" y="3868"/>
                  </a:lnTo>
                  <a:lnTo>
                    <a:pt x="2087" y="3881"/>
                  </a:lnTo>
                  <a:lnTo>
                    <a:pt x="2061" y="3893"/>
                  </a:lnTo>
                  <a:lnTo>
                    <a:pt x="2034" y="3906"/>
                  </a:lnTo>
                  <a:lnTo>
                    <a:pt x="2008" y="3918"/>
                  </a:lnTo>
                  <a:lnTo>
                    <a:pt x="1981" y="3930"/>
                  </a:lnTo>
                  <a:lnTo>
                    <a:pt x="1955" y="3943"/>
                  </a:lnTo>
                  <a:lnTo>
                    <a:pt x="1929" y="3956"/>
                  </a:lnTo>
                  <a:lnTo>
                    <a:pt x="1903" y="3967"/>
                  </a:lnTo>
                  <a:lnTo>
                    <a:pt x="1876" y="3980"/>
                  </a:lnTo>
                  <a:lnTo>
                    <a:pt x="1850" y="3992"/>
                  </a:lnTo>
                  <a:lnTo>
                    <a:pt x="1823" y="4005"/>
                  </a:lnTo>
                  <a:lnTo>
                    <a:pt x="1797" y="4018"/>
                  </a:lnTo>
                  <a:lnTo>
                    <a:pt x="1769" y="4031"/>
                  </a:lnTo>
                  <a:lnTo>
                    <a:pt x="1743" y="4043"/>
                  </a:lnTo>
                  <a:lnTo>
                    <a:pt x="1715" y="4056"/>
                  </a:lnTo>
                  <a:lnTo>
                    <a:pt x="1688" y="4070"/>
                  </a:lnTo>
                  <a:lnTo>
                    <a:pt x="1580" y="40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042"/>
            <p:cNvSpPr/>
            <p:nvPr/>
          </p:nvSpPr>
          <p:spPr>
            <a:xfrm>
              <a:off x="7668000" y="5790960"/>
              <a:ext cx="218520" cy="130680"/>
            </a:xfrm>
            <a:custGeom>
              <a:avLst/>
              <a:gdLst>
                <a:gd name="textAreaLeft" fmla="*/ 0 w 218520"/>
                <a:gd name="textAreaRight" fmla="*/ 218880 w 218520"/>
                <a:gd name="textAreaTop" fmla="*/ 0 h 130680"/>
                <a:gd name="textAreaBottom" fmla="*/ 131040 h 130680"/>
              </a:gdLst>
              <a:ahLst/>
              <a:rect l="textAreaLeft" t="textAreaTop" r="textAreaRight" b="textAreaBottom"/>
              <a:pathLst>
                <a:path w="1493" h="851">
                  <a:moveTo>
                    <a:pt x="100" y="801"/>
                  </a:moveTo>
                  <a:lnTo>
                    <a:pt x="0" y="650"/>
                  </a:lnTo>
                  <a:lnTo>
                    <a:pt x="447" y="599"/>
                  </a:lnTo>
                  <a:lnTo>
                    <a:pt x="843" y="403"/>
                  </a:lnTo>
                  <a:lnTo>
                    <a:pt x="1290" y="0"/>
                  </a:lnTo>
                  <a:lnTo>
                    <a:pt x="1493" y="107"/>
                  </a:lnTo>
                  <a:lnTo>
                    <a:pt x="1234" y="498"/>
                  </a:lnTo>
                  <a:lnTo>
                    <a:pt x="1201" y="519"/>
                  </a:lnTo>
                  <a:lnTo>
                    <a:pt x="1170" y="541"/>
                  </a:lnTo>
                  <a:lnTo>
                    <a:pt x="1139" y="561"/>
                  </a:lnTo>
                  <a:lnTo>
                    <a:pt x="1108" y="579"/>
                  </a:lnTo>
                  <a:lnTo>
                    <a:pt x="1077" y="597"/>
                  </a:lnTo>
                  <a:lnTo>
                    <a:pt x="1047" y="613"/>
                  </a:lnTo>
                  <a:lnTo>
                    <a:pt x="1016" y="628"/>
                  </a:lnTo>
                  <a:lnTo>
                    <a:pt x="986" y="642"/>
                  </a:lnTo>
                  <a:lnTo>
                    <a:pt x="955" y="655"/>
                  </a:lnTo>
                  <a:lnTo>
                    <a:pt x="925" y="667"/>
                  </a:lnTo>
                  <a:lnTo>
                    <a:pt x="895" y="678"/>
                  </a:lnTo>
                  <a:lnTo>
                    <a:pt x="865" y="690"/>
                  </a:lnTo>
                  <a:lnTo>
                    <a:pt x="835" y="699"/>
                  </a:lnTo>
                  <a:lnTo>
                    <a:pt x="805" y="710"/>
                  </a:lnTo>
                  <a:lnTo>
                    <a:pt x="775" y="718"/>
                  </a:lnTo>
                  <a:lnTo>
                    <a:pt x="745" y="727"/>
                  </a:lnTo>
                  <a:lnTo>
                    <a:pt x="714" y="735"/>
                  </a:lnTo>
                  <a:lnTo>
                    <a:pt x="684" y="743"/>
                  </a:lnTo>
                  <a:lnTo>
                    <a:pt x="654" y="750"/>
                  </a:lnTo>
                  <a:lnTo>
                    <a:pt x="624" y="757"/>
                  </a:lnTo>
                  <a:lnTo>
                    <a:pt x="593" y="765"/>
                  </a:lnTo>
                  <a:lnTo>
                    <a:pt x="563" y="772"/>
                  </a:lnTo>
                  <a:lnTo>
                    <a:pt x="532" y="779"/>
                  </a:lnTo>
                  <a:lnTo>
                    <a:pt x="501" y="786"/>
                  </a:lnTo>
                  <a:lnTo>
                    <a:pt x="470" y="792"/>
                  </a:lnTo>
                  <a:lnTo>
                    <a:pt x="439" y="799"/>
                  </a:lnTo>
                  <a:lnTo>
                    <a:pt x="408" y="807"/>
                  </a:lnTo>
                  <a:lnTo>
                    <a:pt x="375" y="816"/>
                  </a:lnTo>
                  <a:lnTo>
                    <a:pt x="343" y="824"/>
                  </a:lnTo>
                  <a:lnTo>
                    <a:pt x="311" y="833"/>
                  </a:lnTo>
                  <a:lnTo>
                    <a:pt x="279" y="842"/>
                  </a:lnTo>
                  <a:lnTo>
                    <a:pt x="245" y="851"/>
                  </a:lnTo>
                  <a:lnTo>
                    <a:pt x="100" y="80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043"/>
            <p:cNvSpPr/>
            <p:nvPr/>
          </p:nvSpPr>
          <p:spPr>
            <a:xfrm>
              <a:off x="7565760" y="5739120"/>
              <a:ext cx="276480" cy="120960"/>
            </a:xfrm>
            <a:custGeom>
              <a:avLst/>
              <a:gdLst>
                <a:gd name="textAreaLeft" fmla="*/ 0 w 276480"/>
                <a:gd name="textAreaRight" fmla="*/ 276840 w 276480"/>
                <a:gd name="textAreaTop" fmla="*/ 0 h 120960"/>
                <a:gd name="textAreaBottom" fmla="*/ 121320 h 120960"/>
              </a:gdLst>
              <a:ahLst/>
              <a:rect l="textAreaLeft" t="textAreaTop" r="textAreaRight" b="textAreaBottom"/>
              <a:pathLst>
                <a:path w="1891" h="788">
                  <a:moveTo>
                    <a:pt x="354" y="744"/>
                  </a:moveTo>
                  <a:lnTo>
                    <a:pt x="0" y="492"/>
                  </a:lnTo>
                  <a:lnTo>
                    <a:pt x="108" y="151"/>
                  </a:lnTo>
                  <a:lnTo>
                    <a:pt x="144" y="168"/>
                  </a:lnTo>
                  <a:lnTo>
                    <a:pt x="180" y="185"/>
                  </a:lnTo>
                  <a:lnTo>
                    <a:pt x="217" y="201"/>
                  </a:lnTo>
                  <a:lnTo>
                    <a:pt x="253" y="216"/>
                  </a:lnTo>
                  <a:lnTo>
                    <a:pt x="288" y="229"/>
                  </a:lnTo>
                  <a:lnTo>
                    <a:pt x="324" y="243"/>
                  </a:lnTo>
                  <a:lnTo>
                    <a:pt x="359" y="256"/>
                  </a:lnTo>
                  <a:lnTo>
                    <a:pt x="394" y="269"/>
                  </a:lnTo>
                  <a:lnTo>
                    <a:pt x="429" y="280"/>
                  </a:lnTo>
                  <a:lnTo>
                    <a:pt x="464" y="291"/>
                  </a:lnTo>
                  <a:lnTo>
                    <a:pt x="499" y="301"/>
                  </a:lnTo>
                  <a:lnTo>
                    <a:pt x="533" y="310"/>
                  </a:lnTo>
                  <a:lnTo>
                    <a:pt x="567" y="319"/>
                  </a:lnTo>
                  <a:lnTo>
                    <a:pt x="602" y="327"/>
                  </a:lnTo>
                  <a:lnTo>
                    <a:pt x="635" y="334"/>
                  </a:lnTo>
                  <a:lnTo>
                    <a:pt x="669" y="341"/>
                  </a:lnTo>
                  <a:lnTo>
                    <a:pt x="703" y="348"/>
                  </a:lnTo>
                  <a:lnTo>
                    <a:pt x="737" y="354"/>
                  </a:lnTo>
                  <a:lnTo>
                    <a:pt x="769" y="360"/>
                  </a:lnTo>
                  <a:lnTo>
                    <a:pt x="802" y="364"/>
                  </a:lnTo>
                  <a:lnTo>
                    <a:pt x="836" y="369"/>
                  </a:lnTo>
                  <a:lnTo>
                    <a:pt x="869" y="373"/>
                  </a:lnTo>
                  <a:lnTo>
                    <a:pt x="901" y="377"/>
                  </a:lnTo>
                  <a:lnTo>
                    <a:pt x="934" y="380"/>
                  </a:lnTo>
                  <a:lnTo>
                    <a:pt x="967" y="383"/>
                  </a:lnTo>
                  <a:lnTo>
                    <a:pt x="999" y="385"/>
                  </a:lnTo>
                  <a:lnTo>
                    <a:pt x="1031" y="386"/>
                  </a:lnTo>
                  <a:lnTo>
                    <a:pt x="1064" y="388"/>
                  </a:lnTo>
                  <a:lnTo>
                    <a:pt x="1096" y="390"/>
                  </a:lnTo>
                  <a:lnTo>
                    <a:pt x="1128" y="390"/>
                  </a:lnTo>
                  <a:lnTo>
                    <a:pt x="1159" y="391"/>
                  </a:lnTo>
                  <a:lnTo>
                    <a:pt x="1192" y="391"/>
                  </a:lnTo>
                  <a:lnTo>
                    <a:pt x="1227" y="373"/>
                  </a:lnTo>
                  <a:lnTo>
                    <a:pt x="1254" y="362"/>
                  </a:lnTo>
                  <a:lnTo>
                    <a:pt x="1272" y="353"/>
                  </a:lnTo>
                  <a:lnTo>
                    <a:pt x="1285" y="346"/>
                  </a:lnTo>
                  <a:lnTo>
                    <a:pt x="1293" y="342"/>
                  </a:lnTo>
                  <a:lnTo>
                    <a:pt x="1298" y="341"/>
                  </a:lnTo>
                  <a:lnTo>
                    <a:pt x="1299" y="340"/>
                  </a:lnTo>
                  <a:lnTo>
                    <a:pt x="1488" y="0"/>
                  </a:lnTo>
                  <a:lnTo>
                    <a:pt x="1891" y="44"/>
                  </a:lnTo>
                  <a:lnTo>
                    <a:pt x="1853" y="103"/>
                  </a:lnTo>
                  <a:lnTo>
                    <a:pt x="1814" y="159"/>
                  </a:lnTo>
                  <a:lnTo>
                    <a:pt x="1774" y="212"/>
                  </a:lnTo>
                  <a:lnTo>
                    <a:pt x="1734" y="263"/>
                  </a:lnTo>
                  <a:lnTo>
                    <a:pt x="1693" y="310"/>
                  </a:lnTo>
                  <a:lnTo>
                    <a:pt x="1651" y="354"/>
                  </a:lnTo>
                  <a:lnTo>
                    <a:pt x="1609" y="395"/>
                  </a:lnTo>
                  <a:lnTo>
                    <a:pt x="1566" y="435"/>
                  </a:lnTo>
                  <a:lnTo>
                    <a:pt x="1523" y="470"/>
                  </a:lnTo>
                  <a:lnTo>
                    <a:pt x="1480" y="505"/>
                  </a:lnTo>
                  <a:lnTo>
                    <a:pt x="1436" y="536"/>
                  </a:lnTo>
                  <a:lnTo>
                    <a:pt x="1391" y="565"/>
                  </a:lnTo>
                  <a:lnTo>
                    <a:pt x="1347" y="592"/>
                  </a:lnTo>
                  <a:lnTo>
                    <a:pt x="1302" y="617"/>
                  </a:lnTo>
                  <a:lnTo>
                    <a:pt x="1257" y="640"/>
                  </a:lnTo>
                  <a:lnTo>
                    <a:pt x="1211" y="659"/>
                  </a:lnTo>
                  <a:lnTo>
                    <a:pt x="1166" y="679"/>
                  </a:lnTo>
                  <a:lnTo>
                    <a:pt x="1120" y="695"/>
                  </a:lnTo>
                  <a:lnTo>
                    <a:pt x="1075" y="711"/>
                  </a:lnTo>
                  <a:lnTo>
                    <a:pt x="1029" y="724"/>
                  </a:lnTo>
                  <a:lnTo>
                    <a:pt x="984" y="736"/>
                  </a:lnTo>
                  <a:lnTo>
                    <a:pt x="939" y="747"/>
                  </a:lnTo>
                  <a:lnTo>
                    <a:pt x="893" y="756"/>
                  </a:lnTo>
                  <a:lnTo>
                    <a:pt x="848" y="763"/>
                  </a:lnTo>
                  <a:lnTo>
                    <a:pt x="803" y="770"/>
                  </a:lnTo>
                  <a:lnTo>
                    <a:pt x="760" y="776"/>
                  </a:lnTo>
                  <a:lnTo>
                    <a:pt x="715" y="779"/>
                  </a:lnTo>
                  <a:lnTo>
                    <a:pt x="671" y="782"/>
                  </a:lnTo>
                  <a:lnTo>
                    <a:pt x="627" y="786"/>
                  </a:lnTo>
                  <a:lnTo>
                    <a:pt x="584" y="787"/>
                  </a:lnTo>
                  <a:lnTo>
                    <a:pt x="542" y="788"/>
                  </a:lnTo>
                  <a:lnTo>
                    <a:pt x="499" y="788"/>
                  </a:lnTo>
                  <a:lnTo>
                    <a:pt x="354" y="7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044"/>
            <p:cNvSpPr/>
            <p:nvPr/>
          </p:nvSpPr>
          <p:spPr>
            <a:xfrm>
              <a:off x="7290720" y="5784840"/>
              <a:ext cx="93960" cy="37440"/>
            </a:xfrm>
            <a:custGeom>
              <a:avLst/>
              <a:gdLst>
                <a:gd name="textAreaLeft" fmla="*/ 0 w 93960"/>
                <a:gd name="textAreaRight" fmla="*/ 94320 w 93960"/>
                <a:gd name="textAreaTop" fmla="*/ 0 h 37440"/>
                <a:gd name="textAreaBottom" fmla="*/ 37800 h 37440"/>
              </a:gdLst>
              <a:ahLst/>
              <a:rect l="textAreaLeft" t="textAreaTop" r="textAreaRight" b="textAreaBottom"/>
              <a:pathLst>
                <a:path w="643" h="246">
                  <a:moveTo>
                    <a:pt x="51" y="196"/>
                  </a:moveTo>
                  <a:lnTo>
                    <a:pt x="51" y="196"/>
                  </a:lnTo>
                  <a:lnTo>
                    <a:pt x="33" y="163"/>
                  </a:lnTo>
                  <a:lnTo>
                    <a:pt x="22" y="138"/>
                  </a:lnTo>
                  <a:lnTo>
                    <a:pt x="13" y="119"/>
                  </a:lnTo>
                  <a:lnTo>
                    <a:pt x="7" y="108"/>
                  </a:lnTo>
                  <a:lnTo>
                    <a:pt x="2" y="101"/>
                  </a:lnTo>
                  <a:lnTo>
                    <a:pt x="1" y="96"/>
                  </a:lnTo>
                  <a:lnTo>
                    <a:pt x="0" y="95"/>
                  </a:lnTo>
                  <a:lnTo>
                    <a:pt x="347" y="0"/>
                  </a:lnTo>
                  <a:lnTo>
                    <a:pt x="643" y="44"/>
                  </a:lnTo>
                  <a:lnTo>
                    <a:pt x="625" y="80"/>
                  </a:lnTo>
                  <a:lnTo>
                    <a:pt x="614" y="106"/>
                  </a:lnTo>
                  <a:lnTo>
                    <a:pt x="605" y="125"/>
                  </a:lnTo>
                  <a:lnTo>
                    <a:pt x="599" y="138"/>
                  </a:lnTo>
                  <a:lnTo>
                    <a:pt x="594" y="146"/>
                  </a:lnTo>
                  <a:lnTo>
                    <a:pt x="593" y="150"/>
                  </a:lnTo>
                  <a:lnTo>
                    <a:pt x="592" y="151"/>
                  </a:lnTo>
                  <a:lnTo>
                    <a:pt x="145" y="246"/>
                  </a:lnTo>
                  <a:lnTo>
                    <a:pt x="51" y="196"/>
                  </a:lnTo>
                  <a:close/>
                </a:path>
              </a:pathLst>
            </a:custGeom>
            <a:solidFill>
              <a:srgbClr val="6666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53" name="Freeform 1045"/>
            <p:cNvSpPr/>
            <p:nvPr/>
          </p:nvSpPr>
          <p:spPr>
            <a:xfrm>
              <a:off x="7529760" y="5556600"/>
              <a:ext cx="217800" cy="212400"/>
            </a:xfrm>
            <a:custGeom>
              <a:avLst/>
              <a:gdLst>
                <a:gd name="textAreaLeft" fmla="*/ 0 w 217800"/>
                <a:gd name="textAreaRight" fmla="*/ 218160 w 217800"/>
                <a:gd name="textAreaTop" fmla="*/ 0 h 212400"/>
                <a:gd name="textAreaBottom" fmla="*/ 212760 h 212400"/>
              </a:gdLst>
              <a:ahLst/>
              <a:rect l="textAreaLeft" t="textAreaTop" r="textAreaRight" b="textAreaBottom"/>
              <a:pathLst>
                <a:path w="1488" h="1386">
                  <a:moveTo>
                    <a:pt x="895" y="1342"/>
                  </a:moveTo>
                  <a:lnTo>
                    <a:pt x="397" y="1039"/>
                  </a:lnTo>
                  <a:lnTo>
                    <a:pt x="247" y="838"/>
                  </a:lnTo>
                  <a:lnTo>
                    <a:pt x="152" y="598"/>
                  </a:lnTo>
                  <a:lnTo>
                    <a:pt x="0" y="296"/>
                  </a:lnTo>
                  <a:lnTo>
                    <a:pt x="101" y="0"/>
                  </a:lnTo>
                  <a:lnTo>
                    <a:pt x="650" y="196"/>
                  </a:lnTo>
                  <a:lnTo>
                    <a:pt x="846" y="398"/>
                  </a:lnTo>
                  <a:lnTo>
                    <a:pt x="851" y="442"/>
                  </a:lnTo>
                  <a:lnTo>
                    <a:pt x="870" y="485"/>
                  </a:lnTo>
                  <a:lnTo>
                    <a:pt x="896" y="527"/>
                  </a:lnTo>
                  <a:lnTo>
                    <a:pt x="933" y="566"/>
                  </a:lnTo>
                  <a:lnTo>
                    <a:pt x="976" y="605"/>
                  </a:lnTo>
                  <a:lnTo>
                    <a:pt x="1024" y="644"/>
                  </a:lnTo>
                  <a:lnTo>
                    <a:pt x="1076" y="682"/>
                  </a:lnTo>
                  <a:lnTo>
                    <a:pt x="1131" y="721"/>
                  </a:lnTo>
                  <a:lnTo>
                    <a:pt x="1188" y="760"/>
                  </a:lnTo>
                  <a:lnTo>
                    <a:pt x="1243" y="801"/>
                  </a:lnTo>
                  <a:lnTo>
                    <a:pt x="1297" y="842"/>
                  </a:lnTo>
                  <a:lnTo>
                    <a:pt x="1348" y="885"/>
                  </a:lnTo>
                  <a:lnTo>
                    <a:pt x="1394" y="931"/>
                  </a:lnTo>
                  <a:lnTo>
                    <a:pt x="1433" y="978"/>
                  </a:lnTo>
                  <a:lnTo>
                    <a:pt x="1465" y="1029"/>
                  </a:lnTo>
                  <a:lnTo>
                    <a:pt x="1488" y="1083"/>
                  </a:lnTo>
                  <a:lnTo>
                    <a:pt x="1394" y="1342"/>
                  </a:lnTo>
                  <a:lnTo>
                    <a:pt x="990" y="1386"/>
                  </a:lnTo>
                  <a:lnTo>
                    <a:pt x="895" y="13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046"/>
            <p:cNvSpPr/>
            <p:nvPr/>
          </p:nvSpPr>
          <p:spPr>
            <a:xfrm>
              <a:off x="7268760" y="5700600"/>
              <a:ext cx="151920" cy="52920"/>
            </a:xfrm>
            <a:custGeom>
              <a:avLst/>
              <a:gdLst>
                <a:gd name="textAreaLeft" fmla="*/ 0 w 151920"/>
                <a:gd name="textAreaRight" fmla="*/ 152280 w 151920"/>
                <a:gd name="textAreaTop" fmla="*/ 0 h 52920"/>
                <a:gd name="textAreaBottom" fmla="*/ 53280 h 52920"/>
              </a:gdLst>
              <a:ahLst/>
              <a:rect l="textAreaLeft" t="textAreaTop" r="textAreaRight" b="textAreaBottom"/>
              <a:pathLst>
                <a:path w="1039" h="347">
                  <a:moveTo>
                    <a:pt x="202" y="296"/>
                  </a:moveTo>
                  <a:lnTo>
                    <a:pt x="0" y="202"/>
                  </a:lnTo>
                  <a:lnTo>
                    <a:pt x="0" y="0"/>
                  </a:lnTo>
                  <a:lnTo>
                    <a:pt x="794" y="51"/>
                  </a:lnTo>
                  <a:lnTo>
                    <a:pt x="1039" y="100"/>
                  </a:lnTo>
                  <a:lnTo>
                    <a:pt x="1039" y="134"/>
                  </a:lnTo>
                  <a:lnTo>
                    <a:pt x="1039" y="159"/>
                  </a:lnTo>
                  <a:lnTo>
                    <a:pt x="1039" y="177"/>
                  </a:lnTo>
                  <a:lnTo>
                    <a:pt x="1039" y="189"/>
                  </a:lnTo>
                  <a:lnTo>
                    <a:pt x="1039" y="196"/>
                  </a:lnTo>
                  <a:lnTo>
                    <a:pt x="1039" y="200"/>
                  </a:lnTo>
                  <a:lnTo>
                    <a:pt x="1039" y="202"/>
                  </a:lnTo>
                  <a:lnTo>
                    <a:pt x="985" y="227"/>
                  </a:lnTo>
                  <a:lnTo>
                    <a:pt x="934" y="250"/>
                  </a:lnTo>
                  <a:lnTo>
                    <a:pt x="886" y="268"/>
                  </a:lnTo>
                  <a:lnTo>
                    <a:pt x="841" y="286"/>
                  </a:lnTo>
                  <a:lnTo>
                    <a:pt x="797" y="299"/>
                  </a:lnTo>
                  <a:lnTo>
                    <a:pt x="755" y="311"/>
                  </a:lnTo>
                  <a:lnTo>
                    <a:pt x="714" y="321"/>
                  </a:lnTo>
                  <a:lnTo>
                    <a:pt x="675" y="328"/>
                  </a:lnTo>
                  <a:lnTo>
                    <a:pt x="636" y="334"/>
                  </a:lnTo>
                  <a:lnTo>
                    <a:pt x="597" y="339"/>
                  </a:lnTo>
                  <a:lnTo>
                    <a:pt x="559" y="342"/>
                  </a:lnTo>
                  <a:lnTo>
                    <a:pt x="520" y="344"/>
                  </a:lnTo>
                  <a:lnTo>
                    <a:pt x="479" y="346"/>
                  </a:lnTo>
                  <a:lnTo>
                    <a:pt x="439" y="347"/>
                  </a:lnTo>
                  <a:lnTo>
                    <a:pt x="396" y="347"/>
                  </a:lnTo>
                  <a:lnTo>
                    <a:pt x="353" y="347"/>
                  </a:lnTo>
                  <a:lnTo>
                    <a:pt x="202"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55" name="Freeform 1047"/>
            <p:cNvSpPr/>
            <p:nvPr/>
          </p:nvSpPr>
          <p:spPr>
            <a:xfrm>
              <a:off x="7225200" y="5394960"/>
              <a:ext cx="203760" cy="222480"/>
            </a:xfrm>
            <a:custGeom>
              <a:avLst/>
              <a:gdLst>
                <a:gd name="textAreaLeft" fmla="*/ 0 w 203760"/>
                <a:gd name="textAreaRight" fmla="*/ 204120 w 203760"/>
                <a:gd name="textAreaTop" fmla="*/ 0 h 222480"/>
                <a:gd name="textAreaBottom" fmla="*/ 222840 h 222480"/>
              </a:gdLst>
              <a:ahLst/>
              <a:rect l="textAreaLeft" t="textAreaTop" r="textAreaRight" b="textAreaBottom"/>
              <a:pathLst>
                <a:path w="1394" h="1449">
                  <a:moveTo>
                    <a:pt x="499" y="1392"/>
                  </a:moveTo>
                  <a:lnTo>
                    <a:pt x="145" y="1096"/>
                  </a:lnTo>
                  <a:lnTo>
                    <a:pt x="0" y="504"/>
                  </a:lnTo>
                  <a:lnTo>
                    <a:pt x="347" y="56"/>
                  </a:lnTo>
                  <a:lnTo>
                    <a:pt x="838" y="0"/>
                  </a:lnTo>
                  <a:lnTo>
                    <a:pt x="1336" y="352"/>
                  </a:lnTo>
                  <a:lnTo>
                    <a:pt x="1394" y="851"/>
                  </a:lnTo>
                  <a:lnTo>
                    <a:pt x="1091" y="1298"/>
                  </a:lnTo>
                  <a:lnTo>
                    <a:pt x="946" y="1392"/>
                  </a:lnTo>
                  <a:lnTo>
                    <a:pt x="593" y="1449"/>
                  </a:lnTo>
                  <a:lnTo>
                    <a:pt x="499" y="1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048"/>
            <p:cNvSpPr/>
            <p:nvPr/>
          </p:nvSpPr>
          <p:spPr>
            <a:xfrm>
              <a:off x="7609680" y="5358240"/>
              <a:ext cx="28440" cy="83160"/>
            </a:xfrm>
            <a:custGeom>
              <a:avLst/>
              <a:gdLst>
                <a:gd name="textAreaLeft" fmla="*/ 0 w 28440"/>
                <a:gd name="textAreaRight" fmla="*/ 28800 w 28440"/>
                <a:gd name="textAreaTop" fmla="*/ 0 h 83160"/>
                <a:gd name="textAreaBottom" fmla="*/ 83520 h 83160"/>
              </a:gdLst>
              <a:ahLst/>
              <a:rect l="textAreaLeft" t="textAreaTop" r="textAreaRight" b="textAreaBottom"/>
              <a:pathLst>
                <a:path w="196" h="542">
                  <a:moveTo>
                    <a:pt x="51" y="498"/>
                  </a:moveTo>
                  <a:lnTo>
                    <a:pt x="51" y="498"/>
                  </a:lnTo>
                  <a:lnTo>
                    <a:pt x="0" y="0"/>
                  </a:lnTo>
                  <a:lnTo>
                    <a:pt x="196" y="145"/>
                  </a:lnTo>
                  <a:lnTo>
                    <a:pt x="146" y="542"/>
                  </a:lnTo>
                  <a:lnTo>
                    <a:pt x="51" y="498"/>
                  </a:lnTo>
                  <a:close/>
                </a:path>
              </a:pathLst>
            </a:custGeom>
            <a:solidFill>
              <a:srgbClr val="6633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457" name="Freeform 1049"/>
            <p:cNvSpPr/>
            <p:nvPr/>
          </p:nvSpPr>
          <p:spPr>
            <a:xfrm>
              <a:off x="7965720" y="5289120"/>
              <a:ext cx="180360" cy="84960"/>
            </a:xfrm>
            <a:custGeom>
              <a:avLst/>
              <a:gdLst>
                <a:gd name="textAreaLeft" fmla="*/ 0 w 180360"/>
                <a:gd name="textAreaRight" fmla="*/ 180720 w 180360"/>
                <a:gd name="textAreaTop" fmla="*/ 0 h 84960"/>
                <a:gd name="textAreaBottom" fmla="*/ 85320 h 84960"/>
              </a:gdLst>
              <a:ahLst/>
              <a:rect l="textAreaLeft" t="textAreaTop" r="textAreaRight" b="textAreaBottom"/>
              <a:pathLst>
                <a:path w="1230" h="553">
                  <a:moveTo>
                    <a:pt x="996" y="497"/>
                  </a:moveTo>
                  <a:lnTo>
                    <a:pt x="969" y="479"/>
                  </a:lnTo>
                  <a:lnTo>
                    <a:pt x="940" y="462"/>
                  </a:lnTo>
                  <a:lnTo>
                    <a:pt x="911" y="444"/>
                  </a:lnTo>
                  <a:lnTo>
                    <a:pt x="882" y="428"/>
                  </a:lnTo>
                  <a:lnTo>
                    <a:pt x="854" y="413"/>
                  </a:lnTo>
                  <a:lnTo>
                    <a:pt x="825" y="400"/>
                  </a:lnTo>
                  <a:lnTo>
                    <a:pt x="795" y="386"/>
                  </a:lnTo>
                  <a:lnTo>
                    <a:pt x="765" y="373"/>
                  </a:lnTo>
                  <a:lnTo>
                    <a:pt x="735" y="362"/>
                  </a:lnTo>
                  <a:lnTo>
                    <a:pt x="704" y="350"/>
                  </a:lnTo>
                  <a:lnTo>
                    <a:pt x="674" y="340"/>
                  </a:lnTo>
                  <a:lnTo>
                    <a:pt x="643" y="329"/>
                  </a:lnTo>
                  <a:lnTo>
                    <a:pt x="612" y="320"/>
                  </a:lnTo>
                  <a:lnTo>
                    <a:pt x="581" y="312"/>
                  </a:lnTo>
                  <a:lnTo>
                    <a:pt x="548" y="304"/>
                  </a:lnTo>
                  <a:lnTo>
                    <a:pt x="517" y="296"/>
                  </a:lnTo>
                  <a:lnTo>
                    <a:pt x="485" y="290"/>
                  </a:lnTo>
                  <a:lnTo>
                    <a:pt x="454" y="283"/>
                  </a:lnTo>
                  <a:lnTo>
                    <a:pt x="422" y="277"/>
                  </a:lnTo>
                  <a:lnTo>
                    <a:pt x="389" y="273"/>
                  </a:lnTo>
                  <a:lnTo>
                    <a:pt x="357" y="268"/>
                  </a:lnTo>
                  <a:lnTo>
                    <a:pt x="325" y="264"/>
                  </a:lnTo>
                  <a:lnTo>
                    <a:pt x="293" y="260"/>
                  </a:lnTo>
                  <a:lnTo>
                    <a:pt x="260" y="257"/>
                  </a:lnTo>
                  <a:lnTo>
                    <a:pt x="228" y="254"/>
                  </a:lnTo>
                  <a:lnTo>
                    <a:pt x="196" y="252"/>
                  </a:lnTo>
                  <a:lnTo>
                    <a:pt x="162" y="250"/>
                  </a:lnTo>
                  <a:lnTo>
                    <a:pt x="130" y="249"/>
                  </a:lnTo>
                  <a:lnTo>
                    <a:pt x="98" y="248"/>
                  </a:lnTo>
                  <a:lnTo>
                    <a:pt x="64" y="248"/>
                  </a:lnTo>
                  <a:lnTo>
                    <a:pt x="32" y="246"/>
                  </a:lnTo>
                  <a:lnTo>
                    <a:pt x="0" y="246"/>
                  </a:lnTo>
                  <a:lnTo>
                    <a:pt x="0" y="0"/>
                  </a:lnTo>
                  <a:lnTo>
                    <a:pt x="32" y="0"/>
                  </a:lnTo>
                  <a:lnTo>
                    <a:pt x="66" y="1"/>
                  </a:lnTo>
                  <a:lnTo>
                    <a:pt x="99" y="2"/>
                  </a:lnTo>
                  <a:lnTo>
                    <a:pt x="132" y="4"/>
                  </a:lnTo>
                  <a:lnTo>
                    <a:pt x="166" y="7"/>
                  </a:lnTo>
                  <a:lnTo>
                    <a:pt x="199" y="10"/>
                  </a:lnTo>
                  <a:lnTo>
                    <a:pt x="234" y="14"/>
                  </a:lnTo>
                  <a:lnTo>
                    <a:pt x="268" y="18"/>
                  </a:lnTo>
                  <a:lnTo>
                    <a:pt x="302" y="23"/>
                  </a:lnTo>
                  <a:lnTo>
                    <a:pt x="336" y="27"/>
                  </a:lnTo>
                  <a:lnTo>
                    <a:pt x="371" y="34"/>
                  </a:lnTo>
                  <a:lnTo>
                    <a:pt x="407" y="40"/>
                  </a:lnTo>
                  <a:lnTo>
                    <a:pt x="441" y="47"/>
                  </a:lnTo>
                  <a:lnTo>
                    <a:pt x="476" y="55"/>
                  </a:lnTo>
                  <a:lnTo>
                    <a:pt x="510" y="63"/>
                  </a:lnTo>
                  <a:lnTo>
                    <a:pt x="546" y="72"/>
                  </a:lnTo>
                  <a:lnTo>
                    <a:pt x="581" y="82"/>
                  </a:lnTo>
                  <a:lnTo>
                    <a:pt x="615" y="92"/>
                  </a:lnTo>
                  <a:lnTo>
                    <a:pt x="650" y="102"/>
                  </a:lnTo>
                  <a:lnTo>
                    <a:pt x="684" y="114"/>
                  </a:lnTo>
                  <a:lnTo>
                    <a:pt x="720" y="125"/>
                  </a:lnTo>
                  <a:lnTo>
                    <a:pt x="754" y="138"/>
                  </a:lnTo>
                  <a:lnTo>
                    <a:pt x="789" y="151"/>
                  </a:lnTo>
                  <a:lnTo>
                    <a:pt x="822" y="165"/>
                  </a:lnTo>
                  <a:lnTo>
                    <a:pt x="857" y="178"/>
                  </a:lnTo>
                  <a:lnTo>
                    <a:pt x="892" y="193"/>
                  </a:lnTo>
                  <a:lnTo>
                    <a:pt x="925" y="209"/>
                  </a:lnTo>
                  <a:lnTo>
                    <a:pt x="958" y="226"/>
                  </a:lnTo>
                  <a:lnTo>
                    <a:pt x="992" y="242"/>
                  </a:lnTo>
                  <a:lnTo>
                    <a:pt x="1025" y="259"/>
                  </a:lnTo>
                  <a:lnTo>
                    <a:pt x="1059" y="277"/>
                  </a:lnTo>
                  <a:lnTo>
                    <a:pt x="1091" y="296"/>
                  </a:lnTo>
                  <a:lnTo>
                    <a:pt x="1125" y="325"/>
                  </a:lnTo>
                  <a:lnTo>
                    <a:pt x="1155" y="352"/>
                  </a:lnTo>
                  <a:lnTo>
                    <a:pt x="1180" y="380"/>
                  </a:lnTo>
                  <a:lnTo>
                    <a:pt x="1198" y="405"/>
                  </a:lnTo>
                  <a:lnTo>
                    <a:pt x="1212" y="431"/>
                  </a:lnTo>
                  <a:lnTo>
                    <a:pt x="1222" y="454"/>
                  </a:lnTo>
                  <a:lnTo>
                    <a:pt x="1228" y="476"/>
                  </a:lnTo>
                  <a:lnTo>
                    <a:pt x="1230" y="495"/>
                  </a:lnTo>
                  <a:lnTo>
                    <a:pt x="1229" y="512"/>
                  </a:lnTo>
                  <a:lnTo>
                    <a:pt x="1224" y="526"/>
                  </a:lnTo>
                  <a:lnTo>
                    <a:pt x="1216" y="538"/>
                  </a:lnTo>
                  <a:lnTo>
                    <a:pt x="1207" y="547"/>
                  </a:lnTo>
                  <a:lnTo>
                    <a:pt x="1195" y="552"/>
                  </a:lnTo>
                  <a:lnTo>
                    <a:pt x="1181" y="553"/>
                  </a:lnTo>
                  <a:lnTo>
                    <a:pt x="1165" y="549"/>
                  </a:lnTo>
                  <a:lnTo>
                    <a:pt x="1147" y="542"/>
                  </a:lnTo>
                  <a:lnTo>
                    <a:pt x="996" y="497"/>
                  </a:lnTo>
                  <a:close/>
                </a:path>
              </a:pathLst>
            </a:custGeom>
            <a:solidFill>
              <a:srgbClr val="66663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58" name="Freeform 1050"/>
            <p:cNvSpPr/>
            <p:nvPr/>
          </p:nvSpPr>
          <p:spPr>
            <a:xfrm>
              <a:off x="7311600" y="5266080"/>
              <a:ext cx="35640" cy="76320"/>
            </a:xfrm>
            <a:custGeom>
              <a:avLst/>
              <a:gdLst>
                <a:gd name="textAreaLeft" fmla="*/ 0 w 35640"/>
                <a:gd name="textAreaRight" fmla="*/ 36000 w 35640"/>
                <a:gd name="textAreaTop" fmla="*/ 0 h 76320"/>
                <a:gd name="textAreaBottom" fmla="*/ 76680 h 76320"/>
              </a:gdLst>
              <a:ahLst/>
              <a:rect l="textAreaLeft" t="textAreaTop" r="textAreaRight" b="textAreaBottom"/>
              <a:pathLst>
                <a:path w="245" h="498">
                  <a:moveTo>
                    <a:pt x="0" y="447"/>
                  </a:moveTo>
                  <a:lnTo>
                    <a:pt x="0" y="447"/>
                  </a:lnTo>
                  <a:lnTo>
                    <a:pt x="151" y="0"/>
                  </a:lnTo>
                  <a:lnTo>
                    <a:pt x="182" y="17"/>
                  </a:lnTo>
                  <a:lnTo>
                    <a:pt x="205" y="29"/>
                  </a:lnTo>
                  <a:lnTo>
                    <a:pt x="222" y="38"/>
                  </a:lnTo>
                  <a:lnTo>
                    <a:pt x="233" y="44"/>
                  </a:lnTo>
                  <a:lnTo>
                    <a:pt x="240" y="48"/>
                  </a:lnTo>
                  <a:lnTo>
                    <a:pt x="244" y="49"/>
                  </a:lnTo>
                  <a:lnTo>
                    <a:pt x="245" y="51"/>
                  </a:lnTo>
                  <a:lnTo>
                    <a:pt x="101" y="498"/>
                  </a:lnTo>
                  <a:lnTo>
                    <a:pt x="0" y="447"/>
                  </a:lnTo>
                  <a:close/>
                </a:path>
              </a:pathLst>
            </a:custGeom>
            <a:solidFill>
              <a:srgbClr val="6633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459" name="Freeform 1051"/>
            <p:cNvSpPr/>
            <p:nvPr/>
          </p:nvSpPr>
          <p:spPr>
            <a:xfrm>
              <a:off x="7565760" y="5258520"/>
              <a:ext cx="51480" cy="75960"/>
            </a:xfrm>
            <a:custGeom>
              <a:avLst/>
              <a:gdLst>
                <a:gd name="textAreaLeft" fmla="*/ 0 w 51480"/>
                <a:gd name="textAreaRight" fmla="*/ 51840 w 51480"/>
                <a:gd name="textAreaTop" fmla="*/ 0 h 75960"/>
                <a:gd name="textAreaBottom" fmla="*/ 76320 h 75960"/>
              </a:gdLst>
              <a:ahLst/>
              <a:rect l="textAreaLeft" t="textAreaTop" r="textAreaRight" b="textAreaBottom"/>
              <a:pathLst>
                <a:path w="353" h="498">
                  <a:moveTo>
                    <a:pt x="202" y="498"/>
                  </a:moveTo>
                  <a:lnTo>
                    <a:pt x="151" y="296"/>
                  </a:lnTo>
                  <a:lnTo>
                    <a:pt x="0" y="102"/>
                  </a:lnTo>
                  <a:lnTo>
                    <a:pt x="19" y="68"/>
                  </a:lnTo>
                  <a:lnTo>
                    <a:pt x="33" y="43"/>
                  </a:lnTo>
                  <a:lnTo>
                    <a:pt x="43" y="24"/>
                  </a:lnTo>
                  <a:lnTo>
                    <a:pt x="50" y="13"/>
                  </a:lnTo>
                  <a:lnTo>
                    <a:pt x="53" y="6"/>
                  </a:lnTo>
                  <a:lnTo>
                    <a:pt x="56" y="1"/>
                  </a:lnTo>
                  <a:lnTo>
                    <a:pt x="57" y="0"/>
                  </a:lnTo>
                  <a:lnTo>
                    <a:pt x="302" y="102"/>
                  </a:lnTo>
                  <a:lnTo>
                    <a:pt x="311" y="129"/>
                  </a:lnTo>
                  <a:lnTo>
                    <a:pt x="320" y="156"/>
                  </a:lnTo>
                  <a:lnTo>
                    <a:pt x="325" y="181"/>
                  </a:lnTo>
                  <a:lnTo>
                    <a:pt x="331" y="206"/>
                  </a:lnTo>
                  <a:lnTo>
                    <a:pt x="337" y="229"/>
                  </a:lnTo>
                  <a:lnTo>
                    <a:pt x="340" y="254"/>
                  </a:lnTo>
                  <a:lnTo>
                    <a:pt x="344" y="277"/>
                  </a:lnTo>
                  <a:lnTo>
                    <a:pt x="347" y="300"/>
                  </a:lnTo>
                  <a:lnTo>
                    <a:pt x="348" y="323"/>
                  </a:lnTo>
                  <a:lnTo>
                    <a:pt x="351" y="346"/>
                  </a:lnTo>
                  <a:lnTo>
                    <a:pt x="352" y="370"/>
                  </a:lnTo>
                  <a:lnTo>
                    <a:pt x="352" y="393"/>
                  </a:lnTo>
                  <a:lnTo>
                    <a:pt x="353" y="418"/>
                  </a:lnTo>
                  <a:lnTo>
                    <a:pt x="353" y="444"/>
                  </a:lnTo>
                  <a:lnTo>
                    <a:pt x="353" y="470"/>
                  </a:lnTo>
                  <a:lnTo>
                    <a:pt x="353" y="498"/>
                  </a:lnTo>
                  <a:lnTo>
                    <a:pt x="202" y="498"/>
                  </a:lnTo>
                  <a:close/>
                </a:path>
              </a:pathLst>
            </a:custGeom>
            <a:solidFill>
              <a:srgbClr val="6633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0" name="Freeform 1052"/>
            <p:cNvSpPr/>
            <p:nvPr/>
          </p:nvSpPr>
          <p:spPr>
            <a:xfrm>
              <a:off x="8030520" y="5228280"/>
              <a:ext cx="117000" cy="52200"/>
            </a:xfrm>
            <a:custGeom>
              <a:avLst/>
              <a:gdLst>
                <a:gd name="textAreaLeft" fmla="*/ 0 w 117000"/>
                <a:gd name="textAreaRight" fmla="*/ 117360 w 117000"/>
                <a:gd name="textAreaTop" fmla="*/ 0 h 52200"/>
                <a:gd name="textAreaBottom" fmla="*/ 52560 h 52200"/>
              </a:gdLst>
              <a:ahLst/>
              <a:rect l="textAreaLeft" t="textAreaTop" r="textAreaRight" b="textAreaBottom"/>
              <a:pathLst>
                <a:path w="801" h="340">
                  <a:moveTo>
                    <a:pt x="649" y="340"/>
                  </a:moveTo>
                  <a:lnTo>
                    <a:pt x="0" y="151"/>
                  </a:lnTo>
                  <a:lnTo>
                    <a:pt x="0" y="116"/>
                  </a:lnTo>
                  <a:lnTo>
                    <a:pt x="0" y="89"/>
                  </a:lnTo>
                  <a:lnTo>
                    <a:pt x="0" y="71"/>
                  </a:lnTo>
                  <a:lnTo>
                    <a:pt x="0" y="58"/>
                  </a:lnTo>
                  <a:lnTo>
                    <a:pt x="0" y="50"/>
                  </a:lnTo>
                  <a:lnTo>
                    <a:pt x="0" y="45"/>
                  </a:lnTo>
                  <a:lnTo>
                    <a:pt x="0" y="44"/>
                  </a:lnTo>
                  <a:lnTo>
                    <a:pt x="403" y="0"/>
                  </a:lnTo>
                  <a:lnTo>
                    <a:pt x="801" y="246"/>
                  </a:lnTo>
                  <a:lnTo>
                    <a:pt x="801" y="263"/>
                  </a:lnTo>
                  <a:lnTo>
                    <a:pt x="801" y="275"/>
                  </a:lnTo>
                  <a:lnTo>
                    <a:pt x="801" y="284"/>
                  </a:lnTo>
                  <a:lnTo>
                    <a:pt x="801" y="290"/>
                  </a:lnTo>
                  <a:lnTo>
                    <a:pt x="801" y="294"/>
                  </a:lnTo>
                  <a:lnTo>
                    <a:pt x="801" y="295"/>
                  </a:lnTo>
                  <a:lnTo>
                    <a:pt x="801" y="296"/>
                  </a:lnTo>
                  <a:lnTo>
                    <a:pt x="649" y="340"/>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1" name="Freeform 1053"/>
            <p:cNvSpPr/>
            <p:nvPr/>
          </p:nvSpPr>
          <p:spPr>
            <a:xfrm>
              <a:off x="7355160" y="5196960"/>
              <a:ext cx="73440" cy="60840"/>
            </a:xfrm>
            <a:custGeom>
              <a:avLst/>
              <a:gdLst>
                <a:gd name="textAreaLeft" fmla="*/ 0 w 73440"/>
                <a:gd name="textAreaRight" fmla="*/ 73800 w 73440"/>
                <a:gd name="textAreaTop" fmla="*/ 0 h 60840"/>
                <a:gd name="textAreaBottom" fmla="*/ 61200 h 60840"/>
              </a:gdLst>
              <a:ahLst/>
              <a:rect l="textAreaLeft" t="textAreaTop" r="textAreaRight" b="textAreaBottom"/>
              <a:pathLst>
                <a:path w="503" h="397">
                  <a:moveTo>
                    <a:pt x="0" y="352"/>
                  </a:moveTo>
                  <a:lnTo>
                    <a:pt x="0" y="352"/>
                  </a:lnTo>
                  <a:lnTo>
                    <a:pt x="2" y="315"/>
                  </a:lnTo>
                  <a:lnTo>
                    <a:pt x="9" y="280"/>
                  </a:lnTo>
                  <a:lnTo>
                    <a:pt x="19" y="245"/>
                  </a:lnTo>
                  <a:lnTo>
                    <a:pt x="33" y="212"/>
                  </a:lnTo>
                  <a:lnTo>
                    <a:pt x="52" y="181"/>
                  </a:lnTo>
                  <a:lnTo>
                    <a:pt x="71" y="152"/>
                  </a:lnTo>
                  <a:lnTo>
                    <a:pt x="94" y="125"/>
                  </a:lnTo>
                  <a:lnTo>
                    <a:pt x="120" y="100"/>
                  </a:lnTo>
                  <a:lnTo>
                    <a:pt x="146" y="78"/>
                  </a:lnTo>
                  <a:lnTo>
                    <a:pt x="175" y="58"/>
                  </a:lnTo>
                  <a:lnTo>
                    <a:pt x="204" y="41"/>
                  </a:lnTo>
                  <a:lnTo>
                    <a:pt x="234" y="26"/>
                  </a:lnTo>
                  <a:lnTo>
                    <a:pt x="264" y="15"/>
                  </a:lnTo>
                  <a:lnTo>
                    <a:pt x="294" y="7"/>
                  </a:lnTo>
                  <a:lnTo>
                    <a:pt x="324" y="2"/>
                  </a:lnTo>
                  <a:lnTo>
                    <a:pt x="352" y="0"/>
                  </a:lnTo>
                  <a:lnTo>
                    <a:pt x="402" y="0"/>
                  </a:lnTo>
                  <a:lnTo>
                    <a:pt x="440" y="0"/>
                  </a:lnTo>
                  <a:lnTo>
                    <a:pt x="466" y="0"/>
                  </a:lnTo>
                  <a:lnTo>
                    <a:pt x="485" y="0"/>
                  </a:lnTo>
                  <a:lnTo>
                    <a:pt x="495" y="0"/>
                  </a:lnTo>
                  <a:lnTo>
                    <a:pt x="501" y="0"/>
                  </a:lnTo>
                  <a:lnTo>
                    <a:pt x="503" y="0"/>
                  </a:lnTo>
                  <a:lnTo>
                    <a:pt x="352" y="201"/>
                  </a:lnTo>
                  <a:lnTo>
                    <a:pt x="100" y="397"/>
                  </a:lnTo>
                  <a:lnTo>
                    <a:pt x="0" y="352"/>
                  </a:lnTo>
                  <a:close/>
                </a:path>
              </a:pathLst>
            </a:custGeom>
            <a:solidFill>
              <a:srgbClr val="6633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462" name="Freeform 1054"/>
            <p:cNvSpPr/>
            <p:nvPr/>
          </p:nvSpPr>
          <p:spPr>
            <a:xfrm>
              <a:off x="7472160" y="5182560"/>
              <a:ext cx="86400" cy="52200"/>
            </a:xfrm>
            <a:custGeom>
              <a:avLst/>
              <a:gdLst>
                <a:gd name="textAreaLeft" fmla="*/ 0 w 86400"/>
                <a:gd name="textAreaRight" fmla="*/ 86760 w 86400"/>
                <a:gd name="textAreaTop" fmla="*/ 0 h 52200"/>
                <a:gd name="textAreaBottom" fmla="*/ 52560 h 52200"/>
              </a:gdLst>
              <a:ahLst/>
              <a:rect l="textAreaLeft" t="textAreaTop" r="textAreaRight" b="textAreaBottom"/>
              <a:pathLst>
                <a:path w="592" h="341">
                  <a:moveTo>
                    <a:pt x="391" y="341"/>
                  </a:moveTo>
                  <a:lnTo>
                    <a:pt x="44" y="247"/>
                  </a:lnTo>
                  <a:lnTo>
                    <a:pt x="0" y="0"/>
                  </a:lnTo>
                  <a:lnTo>
                    <a:pt x="592" y="247"/>
                  </a:lnTo>
                  <a:lnTo>
                    <a:pt x="575" y="278"/>
                  </a:lnTo>
                  <a:lnTo>
                    <a:pt x="564" y="301"/>
                  </a:lnTo>
                  <a:lnTo>
                    <a:pt x="554" y="318"/>
                  </a:lnTo>
                  <a:lnTo>
                    <a:pt x="549" y="330"/>
                  </a:lnTo>
                  <a:lnTo>
                    <a:pt x="544" y="337"/>
                  </a:lnTo>
                  <a:lnTo>
                    <a:pt x="543" y="340"/>
                  </a:lnTo>
                  <a:lnTo>
                    <a:pt x="542" y="341"/>
                  </a:lnTo>
                  <a:lnTo>
                    <a:pt x="391" y="341"/>
                  </a:lnTo>
                  <a:close/>
                </a:path>
              </a:pathLst>
            </a:custGeom>
            <a:solidFill>
              <a:srgbClr val="6633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3" name="Freeform 1055"/>
            <p:cNvSpPr/>
            <p:nvPr/>
          </p:nvSpPr>
          <p:spPr>
            <a:xfrm>
              <a:off x="8134200" y="5114160"/>
              <a:ext cx="78840" cy="45360"/>
            </a:xfrm>
            <a:custGeom>
              <a:avLst/>
              <a:gdLst>
                <a:gd name="textAreaLeft" fmla="*/ 0 w 78840"/>
                <a:gd name="textAreaRight" fmla="*/ 79200 w 78840"/>
                <a:gd name="textAreaTop" fmla="*/ 0 h 45360"/>
                <a:gd name="textAreaBottom" fmla="*/ 45720 h 45360"/>
              </a:gdLst>
              <a:ahLst/>
              <a:rect l="textAreaLeft" t="textAreaTop" r="textAreaRight" b="textAreaBottom"/>
              <a:pathLst>
                <a:path w="542" h="296">
                  <a:moveTo>
                    <a:pt x="144" y="296"/>
                  </a:moveTo>
                  <a:lnTo>
                    <a:pt x="0" y="195"/>
                  </a:lnTo>
                  <a:lnTo>
                    <a:pt x="15" y="162"/>
                  </a:lnTo>
                  <a:lnTo>
                    <a:pt x="26" y="137"/>
                  </a:lnTo>
                  <a:lnTo>
                    <a:pt x="34" y="119"/>
                  </a:lnTo>
                  <a:lnTo>
                    <a:pt x="38" y="108"/>
                  </a:lnTo>
                  <a:lnTo>
                    <a:pt x="42" y="101"/>
                  </a:lnTo>
                  <a:lnTo>
                    <a:pt x="43" y="96"/>
                  </a:lnTo>
                  <a:lnTo>
                    <a:pt x="44" y="95"/>
                  </a:lnTo>
                  <a:lnTo>
                    <a:pt x="340" y="0"/>
                  </a:lnTo>
                  <a:lnTo>
                    <a:pt x="542" y="246"/>
                  </a:lnTo>
                  <a:lnTo>
                    <a:pt x="240" y="296"/>
                  </a:lnTo>
                  <a:lnTo>
                    <a:pt x="144" y="296"/>
                  </a:lnTo>
                  <a:close/>
                </a:path>
              </a:pathLst>
            </a:custGeom>
            <a:solidFill>
              <a:srgbClr val="66663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sp>
        <p:nvSpPr>
          <p:cNvPr id="1464" name="PlaceHolder 2"/>
          <p:cNvSpPr>
            <a:spLocks noGrp="1"/>
          </p:cNvSpPr>
          <p:nvPr>
            <p:ph type="title"/>
          </p:nvPr>
        </p:nvSpPr>
        <p:spPr>
          <a:xfrm>
            <a:off x="179280" y="247680"/>
            <a:ext cx="5570640" cy="804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a:t>
            </a:r>
            <a:endParaRPr b="0" lang="en-US" sz="2400" spc="-1" strike="noStrike">
              <a:solidFill>
                <a:srgbClr val="006cb7"/>
              </a:solidFill>
              <a:latin typeface="Verdana"/>
            </a:endParaRPr>
          </a:p>
        </p:txBody>
      </p:sp>
      <p:pic>
        <p:nvPicPr>
          <p:cNvPr id="1465" name="29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Picture 2" descr=""/>
          <p:cNvPicPr/>
          <p:nvPr/>
        </p:nvPicPr>
        <p:blipFill>
          <a:blip r:embed="rId1"/>
          <a:stretch/>
        </p:blipFill>
        <p:spPr>
          <a:xfrm>
            <a:off x="723960" y="1197000"/>
            <a:ext cx="7696080" cy="37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7" name="Picture 2" descr=""/>
          <p:cNvPicPr/>
          <p:nvPr/>
        </p:nvPicPr>
        <p:blipFill>
          <a:blip r:embed="rId1"/>
          <a:stretch/>
        </p:blipFill>
        <p:spPr>
          <a:xfrm>
            <a:off x="838080" y="1341360"/>
            <a:ext cx="7467840" cy="361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Picture 2" descr=""/>
          <p:cNvPicPr/>
          <p:nvPr/>
        </p:nvPicPr>
        <p:blipFill>
          <a:blip r:embed="rId1"/>
          <a:stretch/>
        </p:blipFill>
        <p:spPr>
          <a:xfrm>
            <a:off x="611280" y="1290600"/>
            <a:ext cx="7942320" cy="3722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0" name="Picture 5" descr=""/>
          <p:cNvPicPr/>
          <p:nvPr/>
        </p:nvPicPr>
        <p:blipFill>
          <a:blip r:embed="rId1"/>
          <a:stretch/>
        </p:blipFill>
        <p:spPr>
          <a:xfrm>
            <a:off x="743040" y="676440"/>
            <a:ext cx="7657920" cy="5505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1" name="Picture 3" descr=""/>
          <p:cNvPicPr/>
          <p:nvPr/>
        </p:nvPicPr>
        <p:blipFill>
          <a:blip r:embed="rId1"/>
          <a:stretch/>
        </p:blipFill>
        <p:spPr>
          <a:xfrm>
            <a:off x="938160" y="614520"/>
            <a:ext cx="7267680" cy="562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2" name="Picture 3" descr=""/>
          <p:cNvPicPr/>
          <p:nvPr/>
        </p:nvPicPr>
        <p:blipFill>
          <a:blip r:embed="rId1"/>
          <a:stretch/>
        </p:blipFill>
        <p:spPr>
          <a:xfrm>
            <a:off x="985680" y="843120"/>
            <a:ext cx="7172640" cy="5171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lataforma de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Gestión en Línea</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p:txBody>
      </p:sp>
      <p:pic>
        <p:nvPicPr>
          <p:cNvPr id="1388" name="6 Imagen" descr="pc_activo.gif"/>
          <p:cNvPicPr/>
          <p:nvPr/>
        </p:nvPicPr>
        <p:blipFill>
          <a:blip r:embed="rId1"/>
          <a:stretch/>
        </p:blipFill>
        <p:spPr>
          <a:xfrm>
            <a:off x="3564000" y="3500280"/>
            <a:ext cx="2309760" cy="2116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714240" y="1785600"/>
            <a:ext cx="7772400" cy="1469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Familiar</a:t>
            </a:r>
            <a:endParaRPr b="0" lang="en-US" sz="3200" spc="-1" strike="noStrike">
              <a:solidFill>
                <a:srgbClr val="006cb7"/>
              </a:solidFill>
              <a:latin typeface="Verdana"/>
            </a:endParaRPr>
          </a:p>
        </p:txBody>
      </p:sp>
      <p:pic>
        <p:nvPicPr>
          <p:cNvPr id="1474" name="Picture 3" descr="C:\Documents and Settings\fsocias\Configuración local\Archivos temporales de Internet\Content.IE5\WQJQYZA5\MC900338368[1].wmf"/>
          <p:cNvPicPr/>
          <p:nvPr/>
        </p:nvPicPr>
        <p:blipFill>
          <a:blip r:embed="rId1"/>
          <a:stretch/>
        </p:blipFill>
        <p:spPr>
          <a:xfrm>
            <a:off x="3419640" y="2637000"/>
            <a:ext cx="2376360" cy="2363760"/>
          </a:xfrm>
          <a:prstGeom prst="rect">
            <a:avLst/>
          </a:prstGeom>
          <a:ln w="0">
            <a:noFill/>
          </a:ln>
        </p:spPr>
      </p:pic>
      <p:pic>
        <p:nvPicPr>
          <p:cNvPr id="147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324000" y="247320"/>
            <a:ext cx="648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Concepto:  Subsidio Familiar</a:t>
            </a:r>
            <a:endParaRPr b="0" lang="en-US" sz="2400" spc="-1" strike="noStrike">
              <a:solidFill>
                <a:srgbClr val="006cb7"/>
              </a:solidFill>
              <a:latin typeface="Verdana"/>
            </a:endParaRPr>
          </a:p>
        </p:txBody>
      </p:sp>
      <p:sp>
        <p:nvSpPr>
          <p:cNvPr id="1477" name="PlaceHolder 2"/>
          <p:cNvSpPr>
            <a:spLocks noGrp="1"/>
          </p:cNvSpPr>
          <p:nvPr>
            <p:ph/>
          </p:nvPr>
        </p:nvSpPr>
        <p:spPr>
          <a:xfrm>
            <a:off x="323640" y="1628640"/>
            <a:ext cx="806436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000000"/>
                </a:solidFill>
                <a:latin typeface="Verdana"/>
              </a:rPr>
              <a:t>	</a:t>
            </a:r>
            <a:r>
              <a:rPr b="0" lang="es-ES" sz="2000" spc="-1" strike="noStrike">
                <a:solidFill>
                  <a:srgbClr val="000000"/>
                </a:solidFill>
                <a:latin typeface="Verdana"/>
              </a:rPr>
              <a:t>Es el beneficio equivalente a la Asignación Familiar en su primer tramo, para personas de escasos recursos, que no pueden acceder al beneficio del DFL Nº 150, de 1982, por no ser trabajadores afiliados a un sistema previsional.</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Valor del Subsidio Familiar a contar del 01 de Julio del 2013: </a:t>
            </a:r>
            <a:r>
              <a:rPr b="1" lang="es-CL" sz="2000" spc="-1" strike="noStrike">
                <a:solidFill>
                  <a:srgbClr val="000000"/>
                </a:solidFill>
                <a:latin typeface="Verdana"/>
              </a:rPr>
              <a:t>$ 8.426.- (US$15).</a:t>
            </a:r>
            <a:endParaRPr b="0" lang="en-US" sz="2000" spc="-1" strike="noStrike">
              <a:solidFill>
                <a:srgbClr val="595959"/>
              </a:solidFill>
              <a:latin typeface="Calibri"/>
            </a:endParaRPr>
          </a:p>
        </p:txBody>
      </p:sp>
      <p:pic>
        <p:nvPicPr>
          <p:cNvPr id="1478" name="Picture 4" descr="HAND55"/>
          <p:cNvPicPr/>
          <p:nvPr/>
        </p:nvPicPr>
        <p:blipFill>
          <a:blip r:embed="rId1"/>
          <a:stretch/>
        </p:blipFill>
        <p:spPr>
          <a:xfrm>
            <a:off x="6242040" y="4630680"/>
            <a:ext cx="1368360" cy="1285920"/>
          </a:xfrm>
          <a:prstGeom prst="rect">
            <a:avLst/>
          </a:prstGeom>
          <a:ln w="0">
            <a:noFill/>
          </a:ln>
        </p:spPr>
      </p:pic>
      <p:pic>
        <p:nvPicPr>
          <p:cNvPr id="147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95280" y="247320"/>
            <a:ext cx="7215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 requisitos</a:t>
            </a:r>
            <a:endParaRPr b="0" lang="en-US" sz="2400" spc="-1" strike="noStrike">
              <a:solidFill>
                <a:srgbClr val="006cb7"/>
              </a:solidFill>
              <a:latin typeface="Verdana"/>
            </a:endParaRPr>
          </a:p>
        </p:txBody>
      </p:sp>
      <p:sp>
        <p:nvSpPr>
          <p:cNvPr id="1481" name="PlaceHolder 2"/>
          <p:cNvSpPr>
            <a:spLocks noGrp="1"/>
          </p:cNvSpPr>
          <p:nvPr>
            <p:ph/>
          </p:nvPr>
        </p:nvSpPr>
        <p:spPr>
          <a:xfrm>
            <a:off x="395280" y="1699920"/>
            <a:ext cx="7632720" cy="42368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menores hasta los 18 años de edad y los inválidos de cualquier edad, que vivan a expensas del beneficiario, que participen de los programas de salud establecidos por el Ministerio de Salud para la atención infantil (hasta los 6 años) y que no perciban renta igual o superior al valor del Subsidio Familiar. Para los mayores de 6 años y hasta 18 años, deben acreditar que asisten a Establecimientos Educacionales reconocidos por el Estado.</a:t>
            </a:r>
            <a:endParaRPr b="0" lang="en-US" sz="2000" spc="-1" strike="noStrike">
              <a:solidFill>
                <a:srgbClr val="595959"/>
              </a:solidFill>
              <a:latin typeface="Calibri"/>
            </a:endParaRPr>
          </a:p>
        </p:txBody>
      </p:sp>
      <p:pic>
        <p:nvPicPr>
          <p:cNvPr id="1482" name="Picture 5" descr="C:\Documents and Settings\fsocias\Configuración local\Archivos temporales de Internet\Content.IE5\QLP373CG\MC900024499[1].wmf"/>
          <p:cNvPicPr/>
          <p:nvPr/>
        </p:nvPicPr>
        <p:blipFill>
          <a:blip r:embed="rId1"/>
          <a:stretch/>
        </p:blipFill>
        <p:spPr>
          <a:xfrm>
            <a:off x="6242040" y="4292640"/>
            <a:ext cx="1368360" cy="1808280"/>
          </a:xfrm>
          <a:prstGeom prst="rect">
            <a:avLst/>
          </a:prstGeom>
          <a:ln w="0">
            <a:noFill/>
          </a:ln>
        </p:spPr>
      </p:pic>
      <p:pic>
        <p:nvPicPr>
          <p:cNvPr id="1483"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p:nvPr>
        </p:nvSpPr>
        <p:spPr>
          <a:xfrm>
            <a:off x="409320" y="1557000"/>
            <a:ext cx="7978680" cy="48848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s madres de menores que vivan a sus expensas, por los cuales perciban Subsidio Familiar. </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 mujer embarazada.</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Inválidos a que se refiere la Ley Nº 18.600, de cualquier edad, </a:t>
            </a:r>
            <a:r>
              <a:rPr b="1" lang="es-ES" sz="2000" spc="-1" strike="noStrike">
                <a:solidFill>
                  <a:srgbClr val="000000"/>
                </a:solidFill>
                <a:latin typeface="Verdana"/>
              </a:rPr>
              <a:t>que no sean beneficiarios de Subsidio de Discapacidad Mental ni de PBSI</a:t>
            </a:r>
            <a:r>
              <a:rPr b="0" lang="es-ES" sz="2000" spc="-1" strike="noStrike">
                <a:solidFill>
                  <a:srgbClr val="000000"/>
                </a:solidFill>
                <a:latin typeface="Verdana"/>
              </a:rPr>
              <a:t>. Monto del Subsidio Familiar Duplo: </a:t>
            </a:r>
            <a:r>
              <a:rPr b="1" lang="es-ES" sz="2000" spc="-1" strike="noStrike">
                <a:solidFill>
                  <a:srgbClr val="000000"/>
                </a:solidFill>
                <a:latin typeface="Verdana"/>
              </a:rPr>
              <a:t>$16.852 (US$30)</a:t>
            </a:r>
            <a:r>
              <a:rPr b="0" lang="es-ES" sz="2000" spc="-1" strike="noStrike">
                <a:solidFill>
                  <a:srgbClr val="000000"/>
                </a:solidFill>
                <a:latin typeface="Verdana"/>
              </a:rPr>
              <a:t>, a contar del 01 de julio 2013.</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595959"/>
              </a:solidFill>
              <a:latin typeface="Calibri"/>
            </a:endParaRPr>
          </a:p>
        </p:txBody>
      </p:sp>
      <p:sp>
        <p:nvSpPr>
          <p:cNvPr id="1485" name="PlaceHolder 2"/>
          <p:cNvSpPr>
            <a:spLocks noGrp="1"/>
          </p:cNvSpPr>
          <p:nvPr>
            <p:ph type="title"/>
          </p:nvPr>
        </p:nvSpPr>
        <p:spPr>
          <a:xfrm>
            <a:off x="250920" y="247320"/>
            <a:ext cx="7129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a:t>
            </a:r>
            <a:br>
              <a:rPr sz="2400"/>
            </a:br>
            <a:r>
              <a:rPr b="1" lang="es-ES" sz="2400" spc="-1" strike="noStrike">
                <a:solidFill>
                  <a:srgbClr val="006cb7"/>
                </a:solidFill>
                <a:latin typeface="Verdana"/>
              </a:rPr>
              <a:t>requisitos</a:t>
            </a:r>
            <a:endParaRPr b="0" lang="en-US" sz="2400" spc="-1" strike="noStrike">
              <a:solidFill>
                <a:srgbClr val="006cb7"/>
              </a:solidFill>
              <a:latin typeface="Verdana"/>
            </a:endParaRPr>
          </a:p>
        </p:txBody>
      </p:sp>
      <p:pic>
        <p:nvPicPr>
          <p:cNvPr id="1486" name="Picture 4" descr="C:\Documents and Settings\fsocias\Configuración local\Archivos temporales de Internet\Content.IE5\LI2FRN51\MC900341796[1].jpg"/>
          <p:cNvPicPr/>
          <p:nvPr/>
        </p:nvPicPr>
        <p:blipFill>
          <a:blip r:embed="rId1"/>
          <a:stretch/>
        </p:blipFill>
        <p:spPr>
          <a:xfrm>
            <a:off x="6264360" y="4869000"/>
            <a:ext cx="2124000" cy="1893600"/>
          </a:xfrm>
          <a:prstGeom prst="rect">
            <a:avLst/>
          </a:prstGeom>
          <a:ln w="0">
            <a:noFill/>
          </a:ln>
        </p:spPr>
      </p:pic>
      <p:pic>
        <p:nvPicPr>
          <p:cNvPr id="1487"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250920" y="247320"/>
            <a:ext cx="475128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89" name="PlaceHolder 2"/>
          <p:cNvSpPr>
            <a:spLocks noGrp="1"/>
          </p:cNvSpPr>
          <p:nvPr>
            <p:ph/>
          </p:nvPr>
        </p:nvSpPr>
        <p:spPr>
          <a:xfrm>
            <a:off x="250560" y="1390680"/>
            <a:ext cx="7848360" cy="48988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on beneficiarios del Subsidio Familiar causado por el menor que viva a sus expensas, en el siguiente orden:</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 m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En su defecto el p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os guardadores o personas que hayan tomando a su cargo el menor; y</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s personas naturales que tengan a su cargo deficientes mentales de cualquier edad y que vivan a sus expensas</a:t>
            </a:r>
            <a:endParaRPr b="0" lang="en-US" sz="2000" spc="-1" strike="noStrike">
              <a:solidFill>
                <a:srgbClr val="595959"/>
              </a:solidFill>
              <a:latin typeface="Calibri"/>
            </a:endParaRPr>
          </a:p>
        </p:txBody>
      </p:sp>
      <p:pic>
        <p:nvPicPr>
          <p:cNvPr id="1490" name="Picture 4" descr="NA1236"/>
          <p:cNvPicPr/>
          <p:nvPr/>
        </p:nvPicPr>
        <p:blipFill>
          <a:blip r:embed="rId1"/>
          <a:stretch/>
        </p:blipFill>
        <p:spPr>
          <a:xfrm>
            <a:off x="6659640" y="5373720"/>
            <a:ext cx="1361880" cy="1297080"/>
          </a:xfrm>
          <a:prstGeom prst="rect">
            <a:avLst/>
          </a:prstGeom>
          <a:ln w="0">
            <a:noFill/>
          </a:ln>
        </p:spPr>
      </p:pic>
      <p:pic>
        <p:nvPicPr>
          <p:cNvPr id="149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237600" y="333000"/>
            <a:ext cx="707076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Vigencia del beneficio</a:t>
            </a:r>
            <a:endParaRPr b="0" lang="en-US" sz="2400" spc="-1" strike="noStrike">
              <a:solidFill>
                <a:srgbClr val="006cb7"/>
              </a:solidFill>
              <a:latin typeface="Verdana"/>
            </a:endParaRPr>
          </a:p>
        </p:txBody>
      </p:sp>
      <p:sp>
        <p:nvSpPr>
          <p:cNvPr id="1493" name="PlaceHolder 2"/>
          <p:cNvSpPr>
            <a:spLocks noGrp="1"/>
          </p:cNvSpPr>
          <p:nvPr>
            <p:ph/>
          </p:nvPr>
        </p:nvSpPr>
        <p:spPr>
          <a:xfrm>
            <a:off x="336600" y="1390320"/>
            <a:ext cx="7764480" cy="48466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Subsidio Familiar se devenga a contar del mes siguiente a aquél en que se haya dictado el Decreto que reconoce el beneficio. Éste es inembargabl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ubsiste hasta el 31 de diciembre del año en que el causante cumple los 18 años de edad.</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beneficiario debe acreditar anualmente, hasta los 6 años de edad del causante, que éste participa en los programas de salud para atención infantil del Ministerio de Salud.</a:t>
            </a:r>
            <a:endParaRPr b="0" lang="en-US" sz="2000" spc="-1" strike="noStrike">
              <a:solidFill>
                <a:srgbClr val="595959"/>
              </a:solidFill>
              <a:latin typeface="Calibri"/>
            </a:endParaRPr>
          </a:p>
        </p:txBody>
      </p:sp>
      <p:pic>
        <p:nvPicPr>
          <p:cNvPr id="1494" name="Picture 4" descr="C:\Documents and Settings\fsocias\Configuración local\Archivos temporales de Internet\Content.IE5\QLP373CG\MC900441464[1].png"/>
          <p:cNvPicPr/>
          <p:nvPr/>
        </p:nvPicPr>
        <p:blipFill>
          <a:blip r:embed="rId1"/>
          <a:stretch/>
        </p:blipFill>
        <p:spPr>
          <a:xfrm>
            <a:off x="6300720" y="4897440"/>
            <a:ext cx="1800360" cy="1960560"/>
          </a:xfrm>
          <a:prstGeom prst="rect">
            <a:avLst/>
          </a:prstGeom>
          <a:ln w="0">
            <a:noFill/>
          </a:ln>
        </p:spPr>
      </p:pic>
      <p:pic>
        <p:nvPicPr>
          <p:cNvPr id="149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193320" y="333000"/>
            <a:ext cx="5832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 del Causante</a:t>
            </a:r>
            <a:endParaRPr b="0" lang="en-US" sz="2400" spc="-1" strike="noStrike">
              <a:solidFill>
                <a:srgbClr val="006cb7"/>
              </a:solidFill>
              <a:latin typeface="Verdana"/>
            </a:endParaRPr>
          </a:p>
        </p:txBody>
      </p:sp>
      <p:sp>
        <p:nvSpPr>
          <p:cNvPr id="1497" name="PlaceHolder 2"/>
          <p:cNvSpPr>
            <a:spLocks noGrp="1"/>
          </p:cNvSpPr>
          <p:nvPr>
            <p:ph/>
          </p:nvPr>
        </p:nvSpPr>
        <p:spPr>
          <a:xfrm>
            <a:off x="394920" y="1989000"/>
            <a:ext cx="7921800" cy="423720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odas las prestaciones de la Ley Nº 18.469 sobre salud; esto es, prestaciones médicas (preventivas y curativas) y odontológicas.</a:t>
            </a:r>
            <a:endParaRPr b="0" lang="en-US" sz="2000" spc="-1" strike="noStrike">
              <a:solidFill>
                <a:srgbClr val="595959"/>
              </a:solidFill>
              <a:latin typeface="Calibri"/>
            </a:endParaRPr>
          </a:p>
        </p:txBody>
      </p:sp>
      <p:pic>
        <p:nvPicPr>
          <p:cNvPr id="1498" name="Picture 4" descr="NA1218"/>
          <p:cNvPicPr/>
          <p:nvPr/>
        </p:nvPicPr>
        <p:blipFill>
          <a:blip r:embed="rId1"/>
          <a:stretch/>
        </p:blipFill>
        <p:spPr>
          <a:xfrm>
            <a:off x="5651640" y="3537000"/>
            <a:ext cx="1584360" cy="1657440"/>
          </a:xfrm>
          <a:prstGeom prst="rect">
            <a:avLst/>
          </a:prstGeom>
          <a:ln w="0">
            <a:noFill/>
          </a:ln>
        </p:spPr>
      </p:pic>
      <p:pic>
        <p:nvPicPr>
          <p:cNvPr id="149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32364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Asistencia Maternal</a:t>
            </a:r>
            <a:endParaRPr b="0" lang="en-US" sz="2400" spc="-1" strike="noStrike">
              <a:solidFill>
                <a:srgbClr val="006cb7"/>
              </a:solidFill>
              <a:latin typeface="Verdana"/>
            </a:endParaRPr>
          </a:p>
        </p:txBody>
      </p:sp>
      <p:pic>
        <p:nvPicPr>
          <p:cNvPr id="1501" name="Picture 4" descr="BIRTH01"/>
          <p:cNvPicPr/>
          <p:nvPr/>
        </p:nvPicPr>
        <p:blipFill>
          <a:blip r:embed="rId1"/>
          <a:stretch/>
        </p:blipFill>
        <p:spPr>
          <a:xfrm>
            <a:off x="6723000" y="5427720"/>
            <a:ext cx="1522440" cy="1430280"/>
          </a:xfrm>
          <a:prstGeom prst="rect">
            <a:avLst/>
          </a:prstGeom>
          <a:ln w="0">
            <a:noFill/>
          </a:ln>
        </p:spPr>
      </p:pic>
      <p:sp>
        <p:nvSpPr>
          <p:cNvPr id="1502" name="Rectangle 3"/>
          <p:cNvSpPr/>
          <p:nvPr/>
        </p:nvSpPr>
        <p:spPr>
          <a:xfrm>
            <a:off x="611280" y="1506600"/>
            <a:ext cx="7634160" cy="392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e rige por las mismas normas que el Subsidio Familiar.</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u pago se hace exigible </a:t>
            </a:r>
            <a:r>
              <a:rPr b="1" lang="es-ES" sz="2000" spc="-1" strike="noStrike">
                <a:solidFill>
                  <a:srgbClr val="ffffff"/>
                </a:solidFill>
                <a:latin typeface="Verdana"/>
                <a:ea typeface="Verdana"/>
              </a:rPr>
              <a:t>a partir del quinto mes </a:t>
            </a:r>
            <a:r>
              <a:rPr b="0" lang="es-ES" sz="2000" spc="-1" strike="noStrike">
                <a:solidFill>
                  <a:srgbClr val="ffffff"/>
                </a:solidFill>
                <a:latin typeface="Verdana"/>
                <a:ea typeface="Verdana"/>
              </a:rPr>
              <a:t>de embarazo, con efecto retroactivo por el período completo de gestación.</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Producido el nacimiento, el menor será causante de SUF desde el día de su nacimiento. </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ffffff"/>
                </a:solidFill>
                <a:latin typeface="Verdana"/>
                <a:ea typeface="Verdana"/>
              </a:rPr>
              <a:t>Valor del Subsidio de Asistencia Maternal puede escalar a </a:t>
            </a:r>
            <a:r>
              <a:rPr b="1" lang="es-CL" sz="2000" spc="-1" strike="noStrike">
                <a:solidFill>
                  <a:srgbClr val="ffffff"/>
                </a:solidFill>
                <a:latin typeface="Verdana"/>
                <a:ea typeface="Verdana"/>
              </a:rPr>
              <a:t>: $ 84.260.-  (US$151) </a:t>
            </a:r>
            <a:endParaRPr b="0" lang="en-US" sz="2000" spc="-1" strike="noStrike">
              <a:solidFill>
                <a:srgbClr val="ffffff"/>
              </a:solidFill>
              <a:latin typeface="Arial"/>
            </a:endParaRPr>
          </a:p>
        </p:txBody>
      </p:sp>
      <p:pic>
        <p:nvPicPr>
          <p:cNvPr id="1503"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4" name="Picture 2" descr=""/>
          <p:cNvPicPr/>
          <p:nvPr/>
        </p:nvPicPr>
        <p:blipFill>
          <a:blip r:embed="rId1"/>
          <a:stretch/>
        </p:blipFill>
        <p:spPr>
          <a:xfrm>
            <a:off x="919080" y="1197000"/>
            <a:ext cx="7305840" cy="3524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5" name="Picture 3" descr=""/>
          <p:cNvPicPr/>
          <p:nvPr/>
        </p:nvPicPr>
        <p:blipFill>
          <a:blip r:embed="rId1"/>
          <a:stretch/>
        </p:blipFill>
        <p:spPr>
          <a:xfrm>
            <a:off x="755640" y="1190520"/>
            <a:ext cx="7693200" cy="3751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3 Elipse"/>
          <p:cNvSpPr/>
          <p:nvPr/>
        </p:nvSpPr>
        <p:spPr>
          <a:xfrm>
            <a:off x="1547640" y="1052640"/>
            <a:ext cx="6264360" cy="5616360"/>
          </a:xfrm>
          <a:prstGeom prst="ellipse">
            <a:avLst/>
          </a:prstGeom>
          <a:noFill/>
          <a:ln w="255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0" name="4 Elipse"/>
          <p:cNvSpPr/>
          <p:nvPr/>
        </p:nvSpPr>
        <p:spPr>
          <a:xfrm>
            <a:off x="2195640" y="3068640"/>
            <a:ext cx="1584360" cy="144000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1" name="5 CuadroTexto"/>
          <p:cNvSpPr/>
          <p:nvPr/>
        </p:nvSpPr>
        <p:spPr>
          <a:xfrm>
            <a:off x="0" y="22212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6cb7"/>
                </a:solidFill>
                <a:latin typeface="Verdana"/>
              </a:rPr>
              <a:t>Sistema de Información–Ficha de Protección Social (FPS)</a:t>
            </a:r>
            <a:endParaRPr b="0" lang="en-US" sz="2400" spc="-1" strike="noStrike">
              <a:solidFill>
                <a:srgbClr val="ffffff"/>
              </a:solidFill>
              <a:latin typeface="Arial"/>
            </a:endParaRPr>
          </a:p>
        </p:txBody>
      </p:sp>
      <p:sp>
        <p:nvSpPr>
          <p:cNvPr id="1392" name="6 CuadroTexto"/>
          <p:cNvSpPr/>
          <p:nvPr/>
        </p:nvSpPr>
        <p:spPr>
          <a:xfrm>
            <a:off x="2195640" y="350028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dministración FPS</a:t>
            </a:r>
            <a:endParaRPr b="0" lang="en-US" sz="1400" spc="-1" strike="noStrike">
              <a:solidFill>
                <a:srgbClr val="ffffff"/>
              </a:solidFill>
              <a:latin typeface="Arial"/>
            </a:endParaRPr>
          </a:p>
        </p:txBody>
      </p:sp>
      <p:sp>
        <p:nvSpPr>
          <p:cNvPr id="1393" name="7 Elipse"/>
          <p:cNvSpPr/>
          <p:nvPr/>
        </p:nvSpPr>
        <p:spPr>
          <a:xfrm>
            <a:off x="4643280" y="141300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4" name="13 CuadroTexto"/>
          <p:cNvSpPr/>
          <p:nvPr/>
        </p:nvSpPr>
        <p:spPr>
          <a:xfrm>
            <a:off x="4859280" y="1825560"/>
            <a:ext cx="15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Prestaciones SUF, SAP - SDM</a:t>
            </a:r>
            <a:endParaRPr b="0" lang="en-US" sz="1400" spc="-1" strike="noStrike">
              <a:solidFill>
                <a:srgbClr val="ffffff"/>
              </a:solidFill>
              <a:latin typeface="Arial"/>
            </a:endParaRPr>
          </a:p>
        </p:txBody>
      </p:sp>
      <p:sp>
        <p:nvSpPr>
          <p:cNvPr id="1395" name="14 Elipse"/>
          <p:cNvSpPr/>
          <p:nvPr/>
        </p:nvSpPr>
        <p:spPr>
          <a:xfrm>
            <a:off x="4643280" y="306864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6" name="15 Elipse"/>
          <p:cNvSpPr/>
          <p:nvPr/>
        </p:nvSpPr>
        <p:spPr>
          <a:xfrm>
            <a:off x="4643280" y="4724280"/>
            <a:ext cx="1729080" cy="14511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7" name="16 CuadroTexto"/>
          <p:cNvSpPr/>
          <p:nvPr/>
        </p:nvSpPr>
        <p:spPr>
          <a:xfrm>
            <a:off x="4859280" y="350028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creditación Control Niño Sano IEF</a:t>
            </a:r>
            <a:endParaRPr b="0" lang="en-US" sz="1400" spc="-1" strike="noStrike">
              <a:solidFill>
                <a:srgbClr val="ffffff"/>
              </a:solidFill>
              <a:latin typeface="Arial"/>
            </a:endParaRPr>
          </a:p>
        </p:txBody>
      </p:sp>
      <p:sp>
        <p:nvSpPr>
          <p:cNvPr id="1398" name="17 CuadroTexto"/>
          <p:cNvSpPr/>
          <p:nvPr/>
        </p:nvSpPr>
        <p:spPr>
          <a:xfrm>
            <a:off x="4859280" y="508464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Modifica Forma de Pago – Chile Cuenta</a:t>
            </a:r>
            <a:endParaRPr b="0" lang="en-US" sz="1400" spc="-1" strike="noStrike">
              <a:solidFill>
                <a:srgbClr val="ffffff"/>
              </a:solidFill>
              <a:latin typeface="Arial"/>
            </a:endParaRPr>
          </a:p>
        </p:txBody>
      </p:sp>
      <p:cxnSp>
        <p:nvCxnSpPr>
          <p:cNvPr id="1399" name="19 Conector recto de flecha"/>
          <p:cNvCxnSpPr/>
          <p:nvPr/>
        </p:nvCxnSpPr>
        <p:spPr>
          <a:xfrm flipV="1">
            <a:off x="3276720" y="2276280"/>
            <a:ext cx="1367280" cy="792720"/>
          </a:xfrm>
          <a:prstGeom prst="straightConnector1">
            <a:avLst/>
          </a:prstGeom>
          <a:ln w="25560">
            <a:solidFill>
              <a:srgbClr val="4f81bd"/>
            </a:solidFill>
            <a:miter/>
            <a:tailEnd len="med" type="arrow" w="med"/>
          </a:ln>
        </p:spPr>
      </p:cxnSp>
      <p:cxnSp>
        <p:nvCxnSpPr>
          <p:cNvPr id="1400" name="21 Conector recto de flecha"/>
          <p:cNvCxnSpPr/>
          <p:nvPr/>
        </p:nvCxnSpPr>
        <p:spPr>
          <a:xfrm>
            <a:off x="3780000" y="3870000"/>
            <a:ext cx="864000" cy="1080"/>
          </a:xfrm>
          <a:prstGeom prst="straightConnector1">
            <a:avLst/>
          </a:prstGeom>
          <a:ln w="25560">
            <a:solidFill>
              <a:srgbClr val="4f81bd"/>
            </a:solidFill>
            <a:miter/>
            <a:tailEnd len="med" type="arrow" w="med"/>
          </a:ln>
        </p:spPr>
      </p:cxnSp>
      <p:cxnSp>
        <p:nvCxnSpPr>
          <p:cNvPr id="1401" name="23 Conector recto de flecha"/>
          <p:cNvCxnSpPr/>
          <p:nvPr/>
        </p:nvCxnSpPr>
        <p:spPr>
          <a:xfrm>
            <a:off x="3276720" y="4508640"/>
            <a:ext cx="1367280" cy="792720"/>
          </a:xfrm>
          <a:prstGeom prst="straightConnector1">
            <a:avLst/>
          </a:prstGeom>
          <a:ln w="25560">
            <a:solidFill>
              <a:srgbClr val="4f81bd"/>
            </a:solidFill>
            <a:miter/>
            <a:tailEnd len="med" type="arrow" w="med"/>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6" name="Picture 2" descr=""/>
          <p:cNvPicPr/>
          <p:nvPr/>
        </p:nvPicPr>
        <p:blipFill>
          <a:blip r:embed="rId1"/>
          <a:stretch/>
        </p:blipFill>
        <p:spPr>
          <a:xfrm>
            <a:off x="611280" y="1243080"/>
            <a:ext cx="7951680" cy="3841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8" name="Picture 3" descr=""/>
          <p:cNvPicPr/>
          <p:nvPr/>
        </p:nvPicPr>
        <p:blipFill>
          <a:blip r:embed="rId1"/>
          <a:stretch/>
        </p:blipFill>
        <p:spPr>
          <a:xfrm>
            <a:off x="755640" y="673200"/>
            <a:ext cx="7383600" cy="5332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9" name="Picture 3" descr=""/>
          <p:cNvPicPr/>
          <p:nvPr/>
        </p:nvPicPr>
        <p:blipFill>
          <a:blip r:embed="rId1"/>
          <a:stretch/>
        </p:blipFill>
        <p:spPr>
          <a:xfrm>
            <a:off x="728640" y="709560"/>
            <a:ext cx="7686720" cy="5438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0" name="Picture 3" descr=""/>
          <p:cNvPicPr/>
          <p:nvPr/>
        </p:nvPicPr>
        <p:blipFill>
          <a:blip r:embed="rId1"/>
          <a:stretch/>
        </p:blipFill>
        <p:spPr>
          <a:xfrm>
            <a:off x="947880" y="795240"/>
            <a:ext cx="7248240" cy="526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2" descr=""/>
          <p:cNvPicPr/>
          <p:nvPr/>
        </p:nvPicPr>
        <p:blipFill>
          <a:blip r:embed="rId1"/>
          <a:stretch/>
        </p:blipFill>
        <p:spPr>
          <a:xfrm>
            <a:off x="468360" y="476280"/>
            <a:ext cx="7632720" cy="5832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2" name="Picture 2" descr=""/>
          <p:cNvPicPr/>
          <p:nvPr/>
        </p:nvPicPr>
        <p:blipFill>
          <a:blip r:embed="rId1"/>
          <a:stretch/>
        </p:blipFill>
        <p:spPr>
          <a:xfrm>
            <a:off x="473040" y="549360"/>
            <a:ext cx="7844040" cy="5759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3" name="Picture 2" descr=""/>
          <p:cNvPicPr/>
          <p:nvPr/>
        </p:nvPicPr>
        <p:blipFill>
          <a:blip r:embed="rId1"/>
          <a:stretch/>
        </p:blipFill>
        <p:spPr>
          <a:xfrm>
            <a:off x="611280" y="549360"/>
            <a:ext cx="7705800" cy="5759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3" descr=""/>
          <p:cNvPicPr/>
          <p:nvPr/>
        </p:nvPicPr>
        <p:blipFill>
          <a:blip r:embed="rId1"/>
          <a:stretch/>
        </p:blipFill>
        <p:spPr>
          <a:xfrm>
            <a:off x="1033560" y="728640"/>
            <a:ext cx="7076880" cy="5400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5" name="Picture 3" descr=""/>
          <p:cNvPicPr/>
          <p:nvPr/>
        </p:nvPicPr>
        <p:blipFill>
          <a:blip r:embed="rId1"/>
          <a:stretch/>
        </p:blipFill>
        <p:spPr>
          <a:xfrm>
            <a:off x="838080" y="762120"/>
            <a:ext cx="7467840" cy="5333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94920" y="1844640"/>
            <a:ext cx="8177400" cy="452592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Ingreso de datos y verificación de existencia de la Ficha de Protección Soci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es Locales</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Reg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Nac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Cada uno de éstos con perfiles de acceso diferenciado </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
        <p:nvSpPr>
          <p:cNvPr id="1403" name="1 Título"/>
          <p:cNvSpPr/>
          <p:nvPr/>
        </p:nvSpPr>
        <p:spPr>
          <a:xfrm>
            <a:off x="304920" y="304920"/>
            <a:ext cx="816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FUNCIONES DEL SISTEMA e INTEROPERABILIDAD</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6" name="Picture 2" descr=""/>
          <p:cNvPicPr/>
          <p:nvPr/>
        </p:nvPicPr>
        <p:blipFill>
          <a:blip r:embed="rId1"/>
          <a:stretch/>
        </p:blipFill>
        <p:spPr>
          <a:xfrm>
            <a:off x="684360" y="476280"/>
            <a:ext cx="7488000" cy="5832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7" name="Picture 2" descr=""/>
          <p:cNvPicPr/>
          <p:nvPr/>
        </p:nvPicPr>
        <p:blipFill>
          <a:blip r:embed="rId1"/>
          <a:stretch/>
        </p:blipFill>
        <p:spPr>
          <a:xfrm>
            <a:off x="395280" y="549360"/>
            <a:ext cx="7921800" cy="5543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Picture 3" descr=""/>
          <p:cNvPicPr/>
          <p:nvPr/>
        </p:nvPicPr>
        <p:blipFill>
          <a:blip r:embed="rId1"/>
          <a:stretch/>
        </p:blipFill>
        <p:spPr>
          <a:xfrm>
            <a:off x="395280" y="692280"/>
            <a:ext cx="7921800" cy="525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642960" y="1857240"/>
            <a:ext cx="7848720" cy="1873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al Pago del Consumo de Agua Potable, Alcantarillado y Tratamiento de Aguas Servidas</a:t>
            </a:r>
            <a:endParaRPr b="0" lang="en-US" sz="3200" spc="-1" strike="noStrike">
              <a:solidFill>
                <a:srgbClr val="006cb7"/>
              </a:solidFill>
              <a:latin typeface="Verdana"/>
            </a:endParaRPr>
          </a:p>
        </p:txBody>
      </p:sp>
      <p:pic>
        <p:nvPicPr>
          <p:cNvPr id="1520" name="Picture 4" descr="agua2"/>
          <p:cNvPicPr/>
          <p:nvPr/>
        </p:nvPicPr>
        <p:blipFill>
          <a:blip r:embed="rId1"/>
          <a:stretch/>
        </p:blipFill>
        <p:spPr>
          <a:xfrm>
            <a:off x="3000240" y="3857760"/>
            <a:ext cx="2438640" cy="1676160"/>
          </a:xfrm>
          <a:prstGeom prst="rect">
            <a:avLst/>
          </a:prstGeom>
          <a:ln w="0">
            <a:noFill/>
          </a:ln>
        </p:spPr>
      </p:pic>
      <p:pic>
        <p:nvPicPr>
          <p:cNvPr id="152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p:nvPr>
        </p:nvSpPr>
        <p:spPr>
          <a:xfrm>
            <a:off x="250560" y="1889280"/>
            <a:ext cx="8497800" cy="49687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Verdana"/>
              </a:rPr>
              <a:t>Consiste en </a:t>
            </a:r>
            <a:r>
              <a:rPr b="0" lang="es-ES_tradnl" sz="2000" spc="-1" strike="noStrike">
                <a:solidFill>
                  <a:srgbClr val="000000"/>
                </a:solidFill>
                <a:latin typeface="Verdana"/>
              </a:rPr>
              <a:t>que </a:t>
            </a:r>
            <a:r>
              <a:rPr b="1" lang="es-ES_tradnl" sz="2000" spc="-1" strike="noStrike">
                <a:solidFill>
                  <a:srgbClr val="000000"/>
                </a:solidFill>
                <a:latin typeface="Verdana"/>
              </a:rPr>
              <a:t>el Estado, vía municipalidades, cancela una parte de la cuenta del servicio del beneficiario </a:t>
            </a:r>
            <a:r>
              <a:rPr b="0" lang="es-ES_tradnl" sz="2000" spc="-1" strike="noStrike">
                <a:solidFill>
                  <a:srgbClr val="000000"/>
                </a:solidFill>
                <a:latin typeface="Verdana"/>
              </a:rPr>
              <a:t>a las empresas sanitarias (Prestadores) de la(s) región(es) o a los Administradores de los S.A.P.R.</a:t>
            </a:r>
            <a:r>
              <a:rPr b="0" lang="es-ES_tradnl" sz="2000" spc="-1" strike="noStrike">
                <a:solidFill>
                  <a:srgbClr val="000000"/>
                </a:solidFill>
                <a:latin typeface="Verdana"/>
              </a:rPr>
              <a:t>	</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Los niveles de consumo a subsidiar fluctúan entre los 0 y los 20M3.</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El rango de intensidad del subsidio oscila desde el  25% al 85%. en tramos tradicionales y al 1</a:t>
            </a:r>
            <a:r>
              <a:rPr b="0" lang="es-ES" sz="2000" spc="-1" strike="noStrike">
                <a:solidFill>
                  <a:srgbClr val="000000"/>
                </a:solidFill>
                <a:latin typeface="Verdana"/>
              </a:rPr>
              <a:t>00% en tramo Chile Solidario.</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El subsidio es diferencial </a:t>
            </a:r>
            <a:r>
              <a:rPr b="0" lang="es-ES" sz="2000" spc="-1" strike="noStrike">
                <a:solidFill>
                  <a:srgbClr val="000000"/>
                </a:solidFill>
                <a:latin typeface="Verdana"/>
              </a:rPr>
              <a:t>según  grupo tarifario y por Nivel de Vulnerabilidad Social de las familias .</a:t>
            </a:r>
            <a:endParaRPr b="0" lang="en-US" sz="2000" spc="-1" strike="noStrike">
              <a:solidFill>
                <a:srgbClr val="595959"/>
              </a:solidFill>
              <a:latin typeface="Calibri"/>
            </a:endParaRPr>
          </a:p>
        </p:txBody>
      </p:sp>
      <p:sp>
        <p:nvSpPr>
          <p:cNvPr id="1523" name="Rectangle 6"/>
          <p:cNvSpPr/>
          <p:nvPr/>
        </p:nvSpPr>
        <p:spPr>
          <a:xfrm>
            <a:off x="250920" y="39060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En que consiste el Subsidio al Consumo?</a:t>
            </a:r>
            <a:endParaRPr b="0" lang="en-US" sz="2400" spc="-1" strike="noStrike">
              <a:solidFill>
                <a:srgbClr val="ffffff"/>
              </a:solidFill>
              <a:latin typeface="Arial"/>
            </a:endParaRPr>
          </a:p>
        </p:txBody>
      </p:sp>
      <p:pic>
        <p:nvPicPr>
          <p:cNvPr id="1524" name="5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3"/>
          <p:cNvSpPr/>
          <p:nvPr/>
        </p:nvSpPr>
        <p:spPr>
          <a:xfrm>
            <a:off x="395280" y="1557360"/>
            <a:ext cx="8353440" cy="513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Verdana"/>
                <a:ea typeface="Verdana"/>
              </a:rPr>
              <a:t>Debe ser residente permanente de una vivienda</a:t>
            </a:r>
            <a:r>
              <a:rPr b="0" lang="es-ES" sz="2000" spc="-1" strike="noStrike">
                <a:solidFill>
                  <a:srgbClr val="ffffff"/>
                </a:solidFill>
                <a:latin typeface="Verdana"/>
                <a:ea typeface="Verdana"/>
              </a:rPr>
              <a:t> ubicada en el Área Urbana o Rural (propietario, arrendatario o usufructuario).</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La Vivienda </a:t>
            </a:r>
            <a:r>
              <a:rPr b="1" lang="es-ES" sz="2000" spc="-1" strike="noStrike">
                <a:solidFill>
                  <a:srgbClr val="ffffff"/>
                </a:solidFill>
                <a:latin typeface="Verdana"/>
                <a:ea typeface="Verdana"/>
              </a:rPr>
              <a:t>debe contar con conexión</a:t>
            </a:r>
            <a:r>
              <a:rPr b="0" lang="es-ES" sz="2000" spc="-1" strike="noStrike">
                <a:solidFill>
                  <a:srgbClr val="ffffff"/>
                </a:solidFill>
                <a:latin typeface="Verdana"/>
                <a:ea typeface="Verdana"/>
              </a:rPr>
              <a:t> al Servicio de Agua Potable. </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al día en los pagos</a:t>
            </a:r>
            <a:r>
              <a:rPr b="0" lang="es-MX" sz="2000" spc="-1" strike="noStrike">
                <a:solidFill>
                  <a:srgbClr val="ffffff"/>
                </a:solidFill>
                <a:latin typeface="Verdana"/>
                <a:ea typeface="Verdana"/>
              </a:rPr>
              <a:t> o convenio con el Prestador o Administrador.</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encuestado con la FPS y</a:t>
            </a:r>
            <a:r>
              <a:rPr b="1" lang="es-ES" sz="2000" spc="-1" strike="noStrike">
                <a:solidFill>
                  <a:srgbClr val="ffffff"/>
                </a:solidFill>
                <a:latin typeface="Verdana"/>
                <a:ea typeface="Verdana"/>
              </a:rPr>
              <a:t> presentar postulación</a:t>
            </a:r>
            <a:r>
              <a:rPr b="0" lang="es-ES" sz="2000" spc="-1" strike="noStrike">
                <a:solidFill>
                  <a:srgbClr val="ffffff"/>
                </a:solidFill>
                <a:latin typeface="Verdana"/>
                <a:ea typeface="Verdana"/>
              </a:rPr>
              <a:t> en la Municipalidad de residencia.</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526" name="Rectangle 6"/>
          <p:cNvSpPr/>
          <p:nvPr/>
        </p:nvSpPr>
        <p:spPr>
          <a:xfrm>
            <a:off x="575640" y="318960"/>
            <a:ext cx="55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Requisitos para acceder al Subsidio</a:t>
            </a:r>
            <a:endParaRPr b="0" lang="en-US" sz="2400" spc="-1" strike="noStrike">
              <a:solidFill>
                <a:srgbClr val="ffffff"/>
              </a:solidFill>
              <a:latin typeface="Arial"/>
            </a:endParaRPr>
          </a:p>
        </p:txBody>
      </p:sp>
      <p:pic>
        <p:nvPicPr>
          <p:cNvPr id="1527" name="6 Imagen" descr="Macintosh HD:Users:valeriasoto:gráfica:mds:Logos Ministerio 2.0:logo MDS.png"/>
          <p:cNvPicPr/>
          <p:nvPr/>
        </p:nvPicPr>
        <p:blipFill>
          <a:blip r:embed="rId1"/>
          <a:stretch/>
        </p:blipFill>
        <p:spPr>
          <a:xfrm>
            <a:off x="7610400" y="0"/>
            <a:ext cx="1533600" cy="1197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p:nvPr>
        </p:nvSpPr>
        <p:spPr>
          <a:xfrm>
            <a:off x="323640" y="1341000"/>
            <a:ext cx="8351640" cy="4894200"/>
          </a:xfrm>
          <a:prstGeom prst="rect">
            <a:avLst/>
          </a:prstGeom>
          <a:noFill/>
          <a:ln w="0">
            <a:noFill/>
          </a:ln>
        </p:spPr>
        <p:txBody>
          <a:bodyPr anchor="t">
            <a:normAutofit/>
          </a:bodyPr>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Alcalde, de acuerdo al puntaje obtenido en la Ficha de Protección Social por los postulantes, confecciona un listado de prelación y dicta el decreto de concesión de acuerdo al número de beneficios disponibles en el mes.</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Valores referenciales del Subsidio (Cuenta de 15M3):</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Ordinaria: </a:t>
            </a:r>
            <a:r>
              <a:rPr b="1" lang="es-CL" sz="2000" spc="-1" strike="noStrike">
                <a:solidFill>
                  <a:srgbClr val="000000"/>
                </a:solidFill>
                <a:latin typeface="Verdana"/>
              </a:rPr>
              <a:t>$ 4.947 (US$9) </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Chile Solidario: </a:t>
            </a:r>
            <a:r>
              <a:rPr b="1" lang="es-CL" sz="2000" spc="-1" strike="noStrike">
                <a:solidFill>
                  <a:srgbClr val="000000"/>
                </a:solidFill>
                <a:latin typeface="Verdana"/>
              </a:rPr>
              <a:t>$ 9.893,15 (US$18)</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1: </a:t>
            </a:r>
            <a:r>
              <a:rPr b="1" lang="es-CL" sz="2000" spc="-1" strike="noStrike">
                <a:solidFill>
                  <a:srgbClr val="000000"/>
                </a:solidFill>
                <a:latin typeface="Verdana"/>
              </a:rPr>
              <a:t>$ 18.098. (US$32)</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2: </a:t>
            </a:r>
            <a:r>
              <a:rPr b="1" lang="es-CL" sz="2000" spc="-1" strike="noStrike">
                <a:solidFill>
                  <a:srgbClr val="000000"/>
                </a:solidFill>
                <a:latin typeface="Verdana"/>
              </a:rPr>
              <a:t>$ 11.602. (US$21)</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Chile Solidario : </a:t>
            </a: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 23.203. (US$42)</a:t>
            </a:r>
            <a:endParaRPr b="0" lang="en-US" sz="2000" spc="-1" strike="noStrike">
              <a:solidFill>
                <a:srgbClr val="595959"/>
              </a:solidFill>
              <a:latin typeface="Calibri"/>
            </a:endParaRPr>
          </a:p>
        </p:txBody>
      </p:sp>
      <p:sp>
        <p:nvSpPr>
          <p:cNvPr id="1529" name="Rectangle 4"/>
          <p:cNvSpPr/>
          <p:nvPr/>
        </p:nvSpPr>
        <p:spPr>
          <a:xfrm>
            <a:off x="324000" y="333360"/>
            <a:ext cx="293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Otorgamiento</a:t>
            </a:r>
            <a:endParaRPr b="0" lang="en-US" sz="2400" spc="-1" strike="noStrike">
              <a:solidFill>
                <a:srgbClr val="ffffff"/>
              </a:solidFill>
              <a:latin typeface="Arial"/>
            </a:endParaRPr>
          </a:p>
        </p:txBody>
      </p:sp>
      <p:pic>
        <p:nvPicPr>
          <p:cNvPr id="1530" name="5 Imagen" descr="Macintosh HD:Users:valeriasoto:gráfica:mds:Logos Ministerio 2.0:logo MDS.png"/>
          <p:cNvPicPr/>
          <p:nvPr/>
        </p:nvPicPr>
        <p:blipFill>
          <a:blip r:embed="rId1"/>
          <a:stretch/>
        </p:blipFill>
        <p:spPr>
          <a:xfrm>
            <a:off x="7610400" y="0"/>
            <a:ext cx="1533600" cy="134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2"/>
          <p:cNvSpPr/>
          <p:nvPr/>
        </p:nvSpPr>
        <p:spPr>
          <a:xfrm>
            <a:off x="714240" y="2276640"/>
            <a:ext cx="7772400" cy="97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2" name="Picture 3" descr=""/>
          <p:cNvPicPr/>
          <p:nvPr/>
        </p:nvPicPr>
        <p:blipFill>
          <a:blip r:embed="rId1"/>
          <a:stretch/>
        </p:blipFill>
        <p:spPr>
          <a:xfrm>
            <a:off x="826920" y="1125360"/>
            <a:ext cx="7561440" cy="4464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 SAP</a:t>
            </a:r>
            <a:endParaRPr b="0" lang="en-US" sz="2400" spc="-1" strike="noStrike">
              <a:solidFill>
                <a:srgbClr val="006cb7"/>
              </a:solidFill>
              <a:latin typeface="Verdana"/>
            </a:endParaRPr>
          </a:p>
        </p:txBody>
      </p:sp>
      <p:pic>
        <p:nvPicPr>
          <p:cNvPr id="1534" name="Picture 2" descr=""/>
          <p:cNvPicPr/>
          <p:nvPr/>
        </p:nvPicPr>
        <p:blipFill>
          <a:blip r:embed="rId1"/>
          <a:stretch/>
        </p:blipFill>
        <p:spPr>
          <a:xfrm>
            <a:off x="1835280" y="1628640"/>
            <a:ext cx="5715000" cy="2971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64880" y="495000"/>
            <a:ext cx="816444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2400" spc="-1" strike="noStrike">
                <a:solidFill>
                  <a:srgbClr val="006cb7"/>
                </a:solidFill>
                <a:latin typeface="Verdana"/>
              </a:rPr>
              <a:t>http://www.fichaproteccionsocial.gob.cl/ </a:t>
            </a:r>
            <a:endParaRPr b="0" lang="en-US" sz="2400" spc="-1" strike="noStrike">
              <a:solidFill>
                <a:srgbClr val="006cb7"/>
              </a:solidFill>
              <a:latin typeface="Verdana"/>
            </a:endParaRPr>
          </a:p>
        </p:txBody>
      </p:sp>
      <p:pic>
        <p:nvPicPr>
          <p:cNvPr id="1405" name="Picture 2" descr=""/>
          <p:cNvPicPr/>
          <p:nvPr/>
        </p:nvPicPr>
        <p:blipFill>
          <a:blip r:embed="rId1"/>
          <a:stretch/>
        </p:blipFill>
        <p:spPr>
          <a:xfrm>
            <a:off x="4519440" y="2359080"/>
            <a:ext cx="3810240" cy="3591000"/>
          </a:xfrm>
          <a:prstGeom prst="rect">
            <a:avLst/>
          </a:prstGeom>
          <a:ln w="0">
            <a:noFill/>
          </a:ln>
        </p:spPr>
      </p:pic>
      <p:sp>
        <p:nvSpPr>
          <p:cNvPr id="1406" name="6 CuadroTexto"/>
          <p:cNvSpPr/>
          <p:nvPr/>
        </p:nvSpPr>
        <p:spPr>
          <a:xfrm flipV="1" rot="10800000">
            <a:off x="826560" y="2926440"/>
            <a:ext cx="318780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Verdana"/>
              </a:rPr>
              <a:t>Ingresa Nombre de </a:t>
            </a:r>
            <a:r>
              <a:rPr b="1" lang="es-ES" sz="1600" spc="-1" strike="noStrike">
                <a:solidFill>
                  <a:srgbClr val="ffffff"/>
                </a:solidFill>
                <a:latin typeface="Verdana"/>
              </a:rPr>
              <a:t>usuario </a:t>
            </a:r>
            <a:r>
              <a:rPr b="0" lang="es-ES" sz="1600" spc="-1" strike="noStrike">
                <a:solidFill>
                  <a:srgbClr val="ffffff"/>
                </a:solidFill>
                <a:latin typeface="Verdana"/>
              </a:rPr>
              <a:t> y </a:t>
            </a:r>
            <a:r>
              <a:rPr b="1" lang="es-ES" sz="1600" spc="-1" strike="noStrike">
                <a:solidFill>
                  <a:srgbClr val="ffffff"/>
                </a:solidFill>
                <a:latin typeface="Verdana"/>
              </a:rPr>
              <a:t>clave</a:t>
            </a:r>
            <a:r>
              <a:rPr b="0" lang="es-ES" sz="1600" spc="-1" strike="noStrike">
                <a:solidFill>
                  <a:srgbClr val="ffffff"/>
                </a:solidFill>
                <a:latin typeface="Verdana"/>
              </a:rPr>
              <a:t> asignada por el Encargado Comunal FPS y luego accede al Sistema</a:t>
            </a:r>
            <a:endParaRPr b="0" lang="en-US" sz="1600" spc="-1" strike="noStrike">
              <a:solidFill>
                <a:srgbClr val="ffffff"/>
              </a:solidFill>
              <a:latin typeface="Arial"/>
            </a:endParaRPr>
          </a:p>
        </p:txBody>
      </p:sp>
      <p:sp>
        <p:nvSpPr>
          <p:cNvPr id="1407" name="7 Rectángulo"/>
          <p:cNvSpPr/>
          <p:nvPr/>
        </p:nvSpPr>
        <p:spPr>
          <a:xfrm>
            <a:off x="5508720" y="2816280"/>
            <a:ext cx="1800000" cy="1657440"/>
          </a:xfrm>
          <a:prstGeom prst="rect">
            <a:avLst/>
          </a:prstGeom>
          <a:noFill/>
          <a:ln w="190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8" name="8 Flecha derecha"/>
          <p:cNvSpPr/>
          <p:nvPr/>
        </p:nvSpPr>
        <p:spPr>
          <a:xfrm>
            <a:off x="4014720" y="3465360"/>
            <a:ext cx="1494000" cy="216000"/>
          </a:xfrm>
          <a:prstGeom prst="rightArrow">
            <a:avLst>
              <a:gd name="adj1" fmla="val 50000"/>
              <a:gd name="adj2" fmla="val 49986"/>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09" name="9 Imagen" descr="Computador.gif"/>
          <p:cNvPicPr/>
          <p:nvPr/>
        </p:nvPicPr>
        <p:blipFill>
          <a:blip r:embed="rId2"/>
          <a:stretch/>
        </p:blipFill>
        <p:spPr>
          <a:xfrm>
            <a:off x="826920" y="4473720"/>
            <a:ext cx="2340000" cy="17478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a:t>
            </a:r>
            <a:endParaRPr b="0" lang="en-US" sz="2400" spc="-1" strike="noStrike">
              <a:solidFill>
                <a:srgbClr val="006cb7"/>
              </a:solidFill>
              <a:latin typeface="Verdana"/>
            </a:endParaRPr>
          </a:p>
        </p:txBody>
      </p:sp>
      <p:pic>
        <p:nvPicPr>
          <p:cNvPr id="1536" name="Picture 2" descr=""/>
          <p:cNvPicPr/>
          <p:nvPr/>
        </p:nvPicPr>
        <p:blipFill>
          <a:blip r:embed="rId1"/>
          <a:stretch/>
        </p:blipFill>
        <p:spPr>
          <a:xfrm>
            <a:off x="1042920" y="1557360"/>
            <a:ext cx="6939000" cy="35971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SAP Individual Urbano.</a:t>
            </a:r>
            <a:br>
              <a:rPr sz="2400"/>
            </a:br>
            <a:endParaRPr b="0" lang="en-US" sz="2400" spc="-1" strike="noStrike">
              <a:solidFill>
                <a:srgbClr val="006cb7"/>
              </a:solidFill>
              <a:latin typeface="Verdana"/>
            </a:endParaRPr>
          </a:p>
        </p:txBody>
      </p:sp>
      <p:pic>
        <p:nvPicPr>
          <p:cNvPr id="1538" name="Picture 2" descr=""/>
          <p:cNvPicPr/>
          <p:nvPr/>
        </p:nvPicPr>
        <p:blipFill>
          <a:blip r:embed="rId1"/>
          <a:stretch/>
        </p:blipFill>
        <p:spPr>
          <a:xfrm>
            <a:off x="1476360" y="907920"/>
            <a:ext cx="5614920" cy="2976840"/>
          </a:xfrm>
          <a:prstGeom prst="rect">
            <a:avLst/>
          </a:prstGeom>
          <a:ln w="0">
            <a:noFill/>
          </a:ln>
        </p:spPr>
      </p:pic>
      <p:pic>
        <p:nvPicPr>
          <p:cNvPr id="1539" name="Picture 3" descr=""/>
          <p:cNvPicPr/>
          <p:nvPr/>
        </p:nvPicPr>
        <p:blipFill>
          <a:blip r:embed="rId2"/>
          <a:stretch/>
        </p:blipFill>
        <p:spPr>
          <a:xfrm>
            <a:off x="1476360" y="4221000"/>
            <a:ext cx="5781600" cy="141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Para finalizar la postulación el usuario debe registrar el número de cliente y pinchar el botón INGRESAR POSTULACION </a:t>
            </a:r>
            <a:br>
              <a:rPr sz="2400"/>
            </a:br>
            <a:endParaRPr b="0" lang="en-US" sz="2400" spc="-1" strike="noStrike">
              <a:solidFill>
                <a:srgbClr val="006cb7"/>
              </a:solidFill>
              <a:latin typeface="Verdana"/>
            </a:endParaRPr>
          </a:p>
        </p:txBody>
      </p:sp>
      <p:pic>
        <p:nvPicPr>
          <p:cNvPr id="1541" name="Picture 2" descr=""/>
          <p:cNvPicPr/>
          <p:nvPr/>
        </p:nvPicPr>
        <p:blipFill>
          <a:blip r:embed="rId1"/>
          <a:stretch/>
        </p:blipFill>
        <p:spPr>
          <a:xfrm>
            <a:off x="1547640" y="1773360"/>
            <a:ext cx="5829480" cy="3124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pic>
        <p:nvPicPr>
          <p:cNvPr id="1543" name="2 Imagen" descr="Macintosh HD:Users:valeriasoto:gráfica:mds:Logos Ministerio 2.0:logo MDS.png"/>
          <p:cNvPicPr/>
          <p:nvPr/>
        </p:nvPicPr>
        <p:blipFill>
          <a:blip r:embed="rId1"/>
          <a:stretch/>
        </p:blipFill>
        <p:spPr>
          <a:xfrm>
            <a:off x="7093080" y="2060640"/>
            <a:ext cx="205092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52280" y="333000"/>
            <a:ext cx="816480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1" name="Picture 5" descr=""/>
          <p:cNvPicPr/>
          <p:nvPr/>
        </p:nvPicPr>
        <p:blipFill>
          <a:blip r:embed="rId1"/>
          <a:stretch/>
        </p:blipFill>
        <p:spPr>
          <a:xfrm>
            <a:off x="942840" y="1322280"/>
            <a:ext cx="7258320" cy="4791240"/>
          </a:xfrm>
          <a:prstGeom prst="rect">
            <a:avLst/>
          </a:prstGeom>
          <a:ln w="9360">
            <a:solidFill>
              <a:srgbClr val="4a7ebb"/>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C:\Documents and Settings\eibar\Mis documentos\Mis imágenes\INTERA~2.GIF"/>
          <p:cNvPicPr/>
          <p:nvPr/>
        </p:nvPicPr>
        <p:blipFill>
          <a:blip r:embed="rId1"/>
          <a:stretch/>
        </p:blipFill>
        <p:spPr>
          <a:xfrm>
            <a:off x="3419640" y="1273320"/>
            <a:ext cx="1944360" cy="2358720"/>
          </a:xfrm>
          <a:prstGeom prst="rect">
            <a:avLst/>
          </a:prstGeom>
          <a:ln w="0">
            <a:noFill/>
          </a:ln>
        </p:spPr>
      </p:pic>
      <p:pic>
        <p:nvPicPr>
          <p:cNvPr id="1413" name="Picture 2" descr=""/>
          <p:cNvPicPr/>
          <p:nvPr/>
        </p:nvPicPr>
        <p:blipFill>
          <a:blip r:embed="rId2"/>
          <a:stretch/>
        </p:blipFill>
        <p:spPr>
          <a:xfrm>
            <a:off x="6534000" y="5300640"/>
            <a:ext cx="1459080" cy="720720"/>
          </a:xfrm>
          <a:prstGeom prst="rect">
            <a:avLst/>
          </a:prstGeom>
          <a:ln w="0">
            <a:noFill/>
          </a:ln>
        </p:spPr>
      </p:pic>
      <p:pic>
        <p:nvPicPr>
          <p:cNvPr id="1414" name="Picture 3" descr=""/>
          <p:cNvPicPr/>
          <p:nvPr/>
        </p:nvPicPr>
        <p:blipFill>
          <a:blip r:embed="rId3"/>
          <a:stretch/>
        </p:blipFill>
        <p:spPr>
          <a:xfrm>
            <a:off x="6534000" y="3789360"/>
            <a:ext cx="1459080" cy="665280"/>
          </a:xfrm>
          <a:prstGeom prst="rect">
            <a:avLst/>
          </a:prstGeom>
          <a:ln w="0">
            <a:noFill/>
          </a:ln>
        </p:spPr>
      </p:pic>
      <p:pic>
        <p:nvPicPr>
          <p:cNvPr id="1415" name="Picture 4" descr=""/>
          <p:cNvPicPr/>
          <p:nvPr/>
        </p:nvPicPr>
        <p:blipFill>
          <a:blip r:embed="rId4"/>
          <a:stretch/>
        </p:blipFill>
        <p:spPr>
          <a:xfrm>
            <a:off x="6534000" y="4667400"/>
            <a:ext cx="1459080" cy="560160"/>
          </a:xfrm>
          <a:prstGeom prst="rect">
            <a:avLst/>
          </a:prstGeom>
          <a:ln w="0">
            <a:noFill/>
          </a:ln>
        </p:spPr>
      </p:pic>
      <p:sp>
        <p:nvSpPr>
          <p:cNvPr id="1416" name="9 Cilindro"/>
          <p:cNvSpPr/>
          <p:nvPr/>
        </p:nvSpPr>
        <p:spPr>
          <a:xfrm>
            <a:off x="1619280" y="1733400"/>
            <a:ext cx="936720" cy="1360800"/>
          </a:xfrm>
          <a:prstGeom prst="can">
            <a:avLst>
              <a:gd name="adj" fmla="val 1721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7" name="16 CuadroTexto"/>
          <p:cNvSpPr/>
          <p:nvPr/>
        </p:nvSpPr>
        <p:spPr>
          <a:xfrm>
            <a:off x="1692360" y="231948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Arial"/>
              </a:rPr>
              <a:t>FPS</a:t>
            </a:r>
            <a:endParaRPr b="0" lang="en-US" sz="1400" spc="-1" strike="noStrike">
              <a:solidFill>
                <a:srgbClr val="ffffff"/>
              </a:solidFill>
              <a:latin typeface="Arial"/>
            </a:endParaRPr>
          </a:p>
        </p:txBody>
      </p:sp>
      <p:sp>
        <p:nvSpPr>
          <p:cNvPr id="1418" name="PlaceHolder 1"/>
          <p:cNvSpPr>
            <a:spLocks noGrp="1"/>
          </p:cNvSpPr>
          <p:nvPr>
            <p:ph type="title"/>
          </p:nvPr>
        </p:nvSpPr>
        <p:spPr>
          <a:xfrm>
            <a:off x="152280" y="333000"/>
            <a:ext cx="8164800" cy="9399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9" name="Picture 5" descr=""/>
          <p:cNvPicPr/>
          <p:nvPr/>
        </p:nvPicPr>
        <p:blipFill>
          <a:blip r:embed="rId5"/>
          <a:stretch/>
        </p:blipFill>
        <p:spPr>
          <a:xfrm>
            <a:off x="611280" y="3789360"/>
            <a:ext cx="5356080" cy="2316240"/>
          </a:xfrm>
          <a:prstGeom prst="rect">
            <a:avLst/>
          </a:prstGeom>
          <a:ln w="9360">
            <a:solidFill>
              <a:srgbClr val="ff0000"/>
            </a:solidFill>
            <a:miter/>
          </a:ln>
        </p:spPr>
      </p:pic>
      <p:sp>
        <p:nvSpPr>
          <p:cNvPr id="1420" name="31 Flecha izquierda y derecha"/>
          <p:cNvSpPr/>
          <p:nvPr/>
        </p:nvSpPr>
        <p:spPr>
          <a:xfrm>
            <a:off x="2771640" y="2313000"/>
            <a:ext cx="648000" cy="412560"/>
          </a:xfrm>
          <a:prstGeom prst="leftRightArrow">
            <a:avLst>
              <a:gd name="adj1" fmla="val 50000"/>
              <a:gd name="adj2" fmla="val 5004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32 Llamada de flecha hacia abajo"/>
          <p:cNvSpPr/>
          <p:nvPr/>
        </p:nvSpPr>
        <p:spPr>
          <a:xfrm>
            <a:off x="3995640" y="3192480"/>
            <a:ext cx="216000" cy="439560"/>
          </a:xfrm>
          <a:prstGeom prst="downArrowCallout">
            <a:avLst>
              <a:gd name="adj1" fmla="val 25002"/>
              <a:gd name="adj2" fmla="val 25000"/>
              <a:gd name="adj3" fmla="val 24976"/>
              <a:gd name="adj4" fmla="val 6497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1422" name="35 Conector recto de flecha"/>
          <p:cNvCxnSpPr/>
          <p:nvPr/>
        </p:nvCxnSpPr>
        <p:spPr>
          <a:xfrm flipV="1">
            <a:off x="5967360" y="4164840"/>
            <a:ext cx="567360" cy="578520"/>
          </a:xfrm>
          <a:prstGeom prst="straightConnector1">
            <a:avLst/>
          </a:prstGeom>
          <a:ln w="25560">
            <a:solidFill>
              <a:srgbClr val="4f81bd"/>
            </a:solidFill>
            <a:miter/>
            <a:tailEnd len="med" type="arrow" w="med"/>
          </a:ln>
        </p:spPr>
      </p:cxnSp>
      <p:cxnSp>
        <p:nvCxnSpPr>
          <p:cNvPr id="1423" name="37 Conector recto de flecha"/>
          <p:cNvCxnSpPr/>
          <p:nvPr/>
        </p:nvCxnSpPr>
        <p:spPr>
          <a:xfrm>
            <a:off x="5967360" y="4946400"/>
            <a:ext cx="567360" cy="1080"/>
          </a:xfrm>
          <a:prstGeom prst="straightConnector1">
            <a:avLst/>
          </a:prstGeom>
          <a:ln w="25560">
            <a:solidFill>
              <a:srgbClr val="4f81bd"/>
            </a:solidFill>
            <a:miter/>
            <a:tailEnd len="med" type="arrow" w="med"/>
          </a:ln>
        </p:spPr>
      </p:cxnSp>
      <p:cxnSp>
        <p:nvCxnSpPr>
          <p:cNvPr id="1424" name="39 Conector recto de flecha"/>
          <p:cNvCxnSpPr/>
          <p:nvPr/>
        </p:nvCxnSpPr>
        <p:spPr>
          <a:xfrm>
            <a:off x="5967360" y="5140440"/>
            <a:ext cx="567360" cy="521280"/>
          </a:xfrm>
          <a:prstGeom prst="straightConnector1">
            <a:avLst/>
          </a:prstGeom>
          <a:ln w="25560">
            <a:solidFill>
              <a:srgbClr val="4f81bd"/>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2"/>
          <p:cNvSpPr/>
          <p:nvPr/>
        </p:nvSpPr>
        <p:spPr>
          <a:xfrm>
            <a:off x="714240" y="213372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Descripción programas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DM – SUF y SAP</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360" y="247320"/>
            <a:ext cx="6737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Discapacidad Mental</a:t>
            </a:r>
            <a:endParaRPr b="0" lang="en-US" sz="2400" spc="-1" strike="noStrike">
              <a:solidFill>
                <a:srgbClr val="006cb7"/>
              </a:solidFill>
              <a:latin typeface="Verdana"/>
            </a:endParaRPr>
          </a:p>
        </p:txBody>
      </p:sp>
      <p:sp>
        <p:nvSpPr>
          <p:cNvPr id="1427" name="PlaceHolder 2"/>
          <p:cNvSpPr>
            <a:spLocks noGrp="1"/>
          </p:cNvSpPr>
          <p:nvPr>
            <p:ph/>
          </p:nvPr>
        </p:nvSpPr>
        <p:spPr>
          <a:xfrm>
            <a:off x="755640" y="1557360"/>
            <a:ext cx="741672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000000"/>
                </a:solidFill>
                <a:latin typeface="Arial Narrow"/>
              </a:rPr>
              <a:t>	</a:t>
            </a:r>
            <a:r>
              <a:rPr b="0" lang="es-ES" sz="2000" spc="-1" strike="noStrike">
                <a:solidFill>
                  <a:srgbClr val="000000"/>
                </a:solidFill>
                <a:latin typeface="Verdana"/>
              </a:rPr>
              <a:t>Es  un subsidio mensual para personas con discapacidad mental menores de 18 años de edad, es un beneficio no contributivo consistente en una prestación pecuniaria mensual de monto igual para todos los beneficiarios. </a:t>
            </a:r>
            <a:endParaRPr b="0" lang="en-US" sz="2000" spc="-1" strike="noStrike">
              <a:solidFill>
                <a:srgbClr val="595959"/>
              </a:solidFill>
              <a:latin typeface="Calibri"/>
            </a:endParaRPr>
          </a:p>
        </p:txBody>
      </p:sp>
      <p:pic>
        <p:nvPicPr>
          <p:cNvPr id="1428" name="Picture 6" descr="HAND55"/>
          <p:cNvPicPr/>
          <p:nvPr/>
        </p:nvPicPr>
        <p:blipFill>
          <a:blip r:embed="rId1"/>
          <a:stretch/>
        </p:blipFill>
        <p:spPr>
          <a:xfrm>
            <a:off x="6227640" y="4724280"/>
            <a:ext cx="1656000" cy="1359000"/>
          </a:xfrm>
          <a:prstGeom prst="rect">
            <a:avLst/>
          </a:prstGeom>
          <a:ln w="0">
            <a:noFill/>
          </a:ln>
        </p:spPr>
      </p:pic>
      <p:pic>
        <p:nvPicPr>
          <p:cNvPr id="1429"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giovanna silva</cp:lastModifiedBy>
  <dcterms:modified xsi:type="dcterms:W3CDTF">2014-06-26T14:16:07Z</dcterms:modified>
  <cp:revision>153</cp:revision>
  <dc:subject/>
  <dc:title>Slide 1</dc:title>
</cp:coreProperties>
</file>