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92DA-9C41-440C-B775-4F5080703F9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D2A1-E696-4B7C-9238-4CE0767FEAC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5B4E-6EC5-4072-B1FE-E3173DD5BF1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87D-4AE9-409A-AB23-C9C4B488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A90-114E-44E1-BEE1-1F38C70C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F54-6512-4BCF-BF59-747E1CBF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27D-5228-4887-BFFF-CBDB4109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649-C191-4865-9F5C-0F29C7DB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2CD-731F-4C23-871B-D05E117D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585-D6B0-4BEB-9B7F-ABD8EE55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14B-8B9D-47DF-B871-62569B4A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160-A310-4DE4-83B7-1AC51090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7F1-783E-43DC-8A3A-6AE8F2B0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B3F-1199-4212-AD27-0078E6DB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8EC-1294-453C-B337-634CDF91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22C6-9D2F-4874-A2D5-9CB6BA22A8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SISTEMA NAICA CHILEN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ÓN PÚBLICA CHILEN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262673"/>
                </a:solidFill>
                <a:latin typeface="Arial"/>
                <a:ea typeface="Arial"/>
              </a:rPr>
              <a:t>SISTEMA NACIONAL 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262673"/>
                </a:solidFill>
                <a:latin typeface="Arial"/>
                <a:ea typeface="Arial"/>
              </a:rPr>
              <a:t>INVERSIÓN PÚB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62673"/>
                </a:solidFill>
                <a:latin typeface="Arial"/>
                <a:ea typeface="Arial"/>
              </a:rPr>
              <a:t>Nancy Whittle Finch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62673"/>
                </a:solidFill>
                <a:latin typeface="Arial"/>
                <a:ea typeface="Arial"/>
              </a:rPr>
              <a:t>Departamento de Invers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62673"/>
                </a:solidFill>
                <a:latin typeface="Arial"/>
                <a:ea typeface="Arial"/>
              </a:rPr>
              <a:t>Ministerio de Desarrollo So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11280" y="836640"/>
            <a:ext cx="8075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211640" y="1916280"/>
            <a:ext cx="71280" cy="7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635280" y="2205000"/>
            <a:ext cx="1657440" cy="3603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564000" y="2781360"/>
            <a:ext cx="1800000" cy="3585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e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635280" y="3357720"/>
            <a:ext cx="1657440" cy="3603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635280" y="1628640"/>
            <a:ext cx="16574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635280" y="3933720"/>
            <a:ext cx="16574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635280" y="4797360"/>
            <a:ext cx="16574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564000" y="5734080"/>
            <a:ext cx="16556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3059280" y="1484280"/>
            <a:ext cx="2879640" cy="28814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971640" y="2637000"/>
            <a:ext cx="1512720" cy="504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e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971640" y="4797360"/>
            <a:ext cx="1584360" cy="432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971640" y="5734080"/>
            <a:ext cx="1584360" cy="358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635280" y="836640"/>
            <a:ext cx="1728720" cy="5014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6372360" y="836640"/>
            <a:ext cx="1800000" cy="503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6443640" y="2781360"/>
            <a:ext cx="1728720" cy="3585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x - 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227640" y="4653000"/>
            <a:ext cx="223200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ísico/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6372360" y="5734080"/>
            <a:ext cx="1944720" cy="3589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x -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5508720" y="580536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5508720" y="4869000"/>
            <a:ext cx="576000" cy="215640"/>
          </a:xfrm>
          <a:prstGeom prst="rightArrow">
            <a:avLst>
              <a:gd name="adj1" fmla="val 50000"/>
              <a:gd name="adj2" fmla="val 66778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1"/>
          <p:cNvSpPr/>
          <p:nvPr/>
        </p:nvSpPr>
        <p:spPr>
          <a:xfrm>
            <a:off x="6012000" y="285264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>
            <a:off x="2627280" y="278136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4"/>
          <p:cNvSpPr/>
          <p:nvPr/>
        </p:nvSpPr>
        <p:spPr>
          <a:xfrm>
            <a:off x="2771640" y="494172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5"/>
          <p:cNvSpPr/>
          <p:nvPr/>
        </p:nvSpPr>
        <p:spPr>
          <a:xfrm>
            <a:off x="2771640" y="580536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1116000" y="836640"/>
            <a:ext cx="1295280" cy="504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8"/>
          <p:cNvSpPr/>
          <p:nvPr/>
        </p:nvSpPr>
        <p:spPr>
          <a:xfrm>
            <a:off x="1042920" y="134136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1187280" y="333360"/>
            <a:ext cx="6985080" cy="3589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iclo de Vida de una Iniciativa de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262673"/>
                </a:solidFill>
                <a:latin typeface="Arial"/>
              </a:rPr>
              <a:t>Principales Elementos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Elaboración y revisión de normas, instrucciones y procedimientos para la inversión pública (NIP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Revisión y análisis de iniciativas de inversión: Labor desarrollada por las SEREMI y Departamento de Inversiones del M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Desarrollo y actualización de Metodologías de Formulación y Evaluación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Precios soci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Arial"/>
                <a:ea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Arial"/>
                <a:ea typeface="Arial"/>
              </a:rPr>
              <a:t>Banco Integrado de proy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62673"/>
                </a:solidFill>
                <a:latin typeface="Calibri"/>
              </a:rPr>
              <a:t>Metodologías Vig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4360" y="965160"/>
          <a:ext cx="7488000" cy="5702400"/>
        </p:xfrm>
        <a:graphic>
          <a:graphicData uri="http://schemas.openxmlformats.org/drawingml/2006/table">
            <a:tbl>
              <a:tblPr/>
              <a:tblGrid>
                <a:gridCol w="3174840"/>
                <a:gridCol w="4313160"/>
              </a:tblGrid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NFOQUE COSTO - BENEF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NFOQUE COSTO - EFICI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Transporte Interurb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de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Vialidad Urbana Estructur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Atención Primaria en 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Vialidad 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Hospi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Aeroportu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Vigilancia Polic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Defensas Fluv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y Equipamiento Carabin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dificación Públ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entros de Rehabilitación para Men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olectores Aguas llu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Recintos Carcel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aletas Pesqu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Depor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Obras de R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Pequeños Aeródro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icloru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Residuos Sólidos Domicili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Reemplazo de Equ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Agua Potable (Urbano y Ru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Plan Marco de Desarrollo Terr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Saneamiento (Urbano y ru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lectrificación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Cálculo y actualización de precios sociales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, de manera que reflejen el verdadero valor para la socie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MDS actualiza y difun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Tasa social de descuento (costo de oportunidad del capita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l tipo de cambio (costo que le significa al país producir una divisa adiciona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 la mano de obra (costo marginal en que incurre la sociedad por emplear un trabajador más de cierta calificación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 combust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l tiemp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62673"/>
                </a:solidFill>
                <a:latin typeface="Calibri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El establecimiento del S.N.I. requiere de la existencia de equipos profesionales calificados en el campo de formulación y evaluación social de proyectos distribuidos en toda la administración pública, capaces de identificar y preparar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Actividades realizadas por M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Diplomado en Preparación y Evaluación de Proy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Cursos Básicos e Intermedios Regionales de Preparación y Evaluación de Proyec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Cursos Regionales de Formulación y Presentación de  Progra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Cursos Manejo del Banco Integrado de Proy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Arial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Banco Integrado de Proye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262673"/>
                </a:solidFill>
                <a:latin typeface="Arial"/>
              </a:rPr>
              <a:t>Sistema de información de apoyo al S.N.I. , cuyos objetivos s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Establecer una base de datos de proyectos de inversión pública a nivel nacional y regional a disposición de las instituciones públicas y de la ciudadan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Posibilitar análisis agregados y específicos de la inversión púb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Posibilitar control de gestión del proceso inver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Permitir análisis de Evaluación Ex – Post de las iniciativa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  <a:ea typeface="Calibri"/>
              </a:rPr>
              <a:t>Subsistema de Formulación Presupues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Su objetivo es asignar recursos financieros a los proyectos de interés sectorial, regional y de las Empresas del Estado que cuentan con la recomendación favorable  (RS) de M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ermite a las instituciones contar con los recursos financieros necesarios para ejecutar sus proyec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La DIPRES es la institución responsable de formular el Presupuesto del Sector Público, la que finalmente se aprueba como Ley de Presupuesto del Sector Púb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oceso de Discusión y Asignación Presupues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eparación del Presupuesto Exploratorio y del Marco Financi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eparación y Discusión del Proyecto de Presupues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Aprobación del Proyecto de Presupuesto a nivel sup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eparación de la Ley de Presupuestos para aprobación por el Congreso Na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Implementación de la Ley de Presupues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>
            <a:off x="1066680" y="36576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1066680" y="38862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295280" y="16002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295280" y="41148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127160" y="324180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6144a"/>
                </a:solidFill>
                <a:latin typeface="Arial"/>
              </a:rPr>
              <a:t>E     F     M     A     M     J     J     A     S     O     N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1447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1476360" y="465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2438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2438280" y="2743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5003640" y="2708280"/>
            <a:ext cx="83844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867280" y="2708280"/>
            <a:ext cx="0" cy="5335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5435640" y="2708280"/>
            <a:ext cx="0" cy="5335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4788000" y="18446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6156360" y="1197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7391520" y="1219320"/>
            <a:ext cx="0" cy="4343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3200400" y="4648320"/>
            <a:ext cx="33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6516720" y="4149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066680" y="57564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Y FORMUL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.N.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819520" y="598500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4788000" y="472428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LISIS TE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CONOMICO PRO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2556000" y="4149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P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332000" y="4724280"/>
            <a:ext cx="14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643280" y="4221000"/>
            <a:ext cx="86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2666880" y="2895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P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362320" y="179388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UPUESTO EXPLORATORIO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RCO 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3962520" y="12193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 Y PRESEN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5181480" y="57456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GRES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4"/>
          <p:cNvSpPr/>
          <p:nvPr/>
        </p:nvSpPr>
        <p:spPr>
          <a:xfrm>
            <a:off x="7147080" y="650880"/>
            <a:ext cx="15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ULG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DE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5"/>
          <p:cNvSpPr/>
          <p:nvPr/>
        </p:nvSpPr>
        <p:spPr>
          <a:xfrm>
            <a:off x="7467480" y="281952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EMEN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7375680" y="407988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7604280" y="4003560"/>
            <a:ext cx="131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2627280" y="5084640"/>
            <a:ext cx="223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CESO PRIORIZ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.N.D.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9"/>
          <p:cNvSpPr/>
          <p:nvPr/>
        </p:nvSpPr>
        <p:spPr>
          <a:xfrm>
            <a:off x="6248520" y="1295280"/>
            <a:ext cx="1295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ROB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PRESENT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CONGR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11280" y="0"/>
            <a:ext cx="8137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Calibri"/>
              </a:rPr>
              <a:t>Calendario Anu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4932360" y="2205000"/>
            <a:ext cx="107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SCU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NDR  y S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2"/>
          <p:cNvSpPr/>
          <p:nvPr/>
        </p:nvSpPr>
        <p:spPr>
          <a:xfrm>
            <a:off x="5003640" y="2708280"/>
            <a:ext cx="0" cy="5763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3"/>
          <p:cNvSpPr/>
          <p:nvPr/>
        </p:nvSpPr>
        <p:spPr>
          <a:xfrm>
            <a:off x="4643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1619280" y="5229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9"/>
          <p:cNvSpPr/>
          <p:nvPr/>
        </p:nvSpPr>
        <p:spPr>
          <a:xfrm>
            <a:off x="5292720" y="5229360"/>
            <a:ext cx="574560" cy="215640"/>
          </a:xfrm>
          <a:prstGeom prst="leftArrow">
            <a:avLst>
              <a:gd name="adj1" fmla="val 50000"/>
              <a:gd name="adj2" fmla="val 6661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755640" y="1335240"/>
            <a:ext cx="36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684360" y="3927600"/>
            <a:ext cx="43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42 Rectángulo"/>
          <p:cNvSpPr/>
          <p:nvPr/>
        </p:nvSpPr>
        <p:spPr>
          <a:xfrm>
            <a:off x="1476360" y="4221000"/>
            <a:ext cx="504036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ubsistema Ejecución Presupues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Su objetivo es regular y supervisar la ejecución del gasto público y su respectivo financ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La DIPRES tiene como función regular y supervisar la ejecución del gasto público; sin perjuicio de las atribuciones de la Contraloría General de la Repúbl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La información de ejecución financiera 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(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asignaciones, contratos y gastos) es ingresada en el BIP, por la entidad ejecutora de la inicia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547640" y="54936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Arial"/>
              </a:rPr>
              <a:t>Sistema Nacional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55640" y="134136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Establece las bases y condiciones sobre las cuales se desarrolla el proceso de inversión pública en el país, de manera de impulsar aquellas iniciativas de inversión más convenientes para la sociedad, 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según los lineamientos de la política de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62673"/>
                </a:solidFill>
                <a:latin typeface="Arial"/>
              </a:rPr>
              <a:t>OBJETIVOS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Apoyar la toma de decisiones sobre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Velar por una eficiente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Contribuir a aumentar el bienestar general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ubsistema de Evaluación Ex – P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Determina la eficiencia y eficacia del uso de los recursos públicos y verifica si las iniciativas de inversión una vez ejecutadas, cumplen con los objetivos y rentabilidades sociales estimadas en la evaluación ex–ante, lo que además permi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800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73"/>
                </a:solidFill>
                <a:latin typeface="Arial"/>
              </a:rPr>
              <a:t>Generar información para completar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el ciclo de vida de un proyecto y retroalimentar el S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800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73"/>
                </a:solidFill>
                <a:latin typeface="Arial"/>
              </a:rPr>
              <a:t>Derivar acciones correctivas para mejorar procesos de inversión vig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800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73"/>
                </a:solidFill>
                <a:latin typeface="Arial"/>
              </a:rPr>
              <a:t>Apoyar el proceso continuo de actualización de metodologías y criterios de formulación y evaluación ex – a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ubsistema de Evaluación Ex – P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62673"/>
                </a:solidFill>
                <a:latin typeface="Calibri"/>
              </a:rPr>
              <a:t>Evaluación ex post simple</a:t>
            </a:r>
            <a:r>
              <a:rPr b="0" lang="es-ES_tradnl" sz="2400" spc="-1" strike="noStrike">
                <a:solidFill>
                  <a:srgbClr val="262673"/>
                </a:solidFill>
                <a:latin typeface="Calibri"/>
              </a:rPr>
              <a:t>: se realiza una vez finalizada la fase de ejecución de la iniciativa, donde se miden los resultados en las variables de costos, tiempos y especificaciones técn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62673"/>
                </a:solidFill>
                <a:latin typeface="Calibri"/>
              </a:rPr>
              <a:t>Evaluación ex post en profundidad</a:t>
            </a:r>
            <a:r>
              <a:rPr b="0" lang="es-ES_tradnl" sz="2400" spc="-1" strike="noStrike">
                <a:solidFill>
                  <a:srgbClr val="262673"/>
                </a:solidFill>
                <a:latin typeface="Calibri"/>
              </a:rPr>
              <a:t>: corresponde aplicarla cuando la iniciativa está operando o en régimen normal y analiza si las estimaciones ex-ante se cump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62673"/>
                </a:solidFill>
                <a:latin typeface="Arial"/>
                <a:ea typeface="Arial"/>
              </a:rPr>
              <a:t>MARCO LEGAL DEL S.N.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928880"/>
            <a:ext cx="78883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ORGANICA DE ADMINISTRACION FINANCIERA DEL ESTADO (Art.19 Bi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Nº 20.530 DEL AÑO 2011 CREACION DE MINISTERIO DE DESARROLLO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DE PRESUPUESTOS DEL SECTOR PUBL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ORGANICA CONSTITUCIONAL N°19.175 SOBRE GOBIERNO Y   ADMINISTRACION REG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Arial"/>
                <a:ea typeface="Arial"/>
              </a:rPr>
              <a:t>Sistema Nacional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A MDS y a DIPRES, les corresponde normar y administrar el S.N.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El S.N.I. implementa procedimientos que permiten la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participa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ción coordinada de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las distintas instituciones púb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licas que participan en el proceso de inversión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, ya sea 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en su calidad de: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Gestor (Comunidad organiza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d 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valuad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d T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éc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d Operado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Arial"/>
                <a:ea typeface="Arial"/>
              </a:rPr>
              <a:t>Sistema</a:t>
            </a:r>
            <a:r>
              <a:rPr b="1" lang="es-MX" sz="28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000099"/>
                </a:solidFill>
                <a:latin typeface="Arial"/>
                <a:ea typeface="Arial"/>
              </a:rPr>
              <a:t>Nacional de Inversio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76360" y="1341360"/>
            <a:ext cx="26668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estor/Form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6019920" y="220968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76360" y="2276640"/>
            <a:ext cx="2664000" cy="226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248520" y="3657600"/>
            <a:ext cx="259056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INISTE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AC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476360" y="4941720"/>
            <a:ext cx="26668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nidad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476360" y="5950080"/>
            <a:ext cx="27432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nidad Oper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20364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4140360" y="256536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4140000" y="2781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4140360" y="371628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H="1">
            <a:off x="4140000" y="38606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>
            <a:off x="320364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6156360" y="5257800"/>
            <a:ext cx="26636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TRAL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8077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V="1">
            <a:off x="6858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>
            <a:off x="3200040" y="5445000"/>
            <a:ext cx="32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4140360" y="220356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Ingresa iniciativa al S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4501080" y="278136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Informa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572000" y="3573360"/>
            <a:ext cx="1501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4140360" y="3429000"/>
            <a:ext cx="19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Solicita Asignac.Presup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211640" y="3860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Asigna 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3492360" y="299736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9"/>
          <p:cNvSpPr/>
          <p:nvPr/>
        </p:nvSpPr>
        <p:spPr>
          <a:xfrm>
            <a:off x="4140360" y="4365720"/>
            <a:ext cx="21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 flipH="1">
            <a:off x="4140360" y="4508640"/>
            <a:ext cx="2303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4211640" y="44370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Sin Análisis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3419640" y="4508640"/>
            <a:ext cx="0" cy="43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3"/>
          <p:cNvSpPr/>
          <p:nvPr/>
        </p:nvSpPr>
        <p:spPr>
          <a:xfrm>
            <a:off x="3348000" y="5516640"/>
            <a:ext cx="0" cy="4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62673"/>
                </a:solidFill>
                <a:latin typeface="Calibri"/>
              </a:rPr>
              <a:t>El SNI está compuesto por cuatro Subsistemas</a:t>
            </a:r>
            <a:r>
              <a:rPr b="0" lang="es-MX" sz="32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628640"/>
          <a:ext cx="8129520" cy="4535640"/>
        </p:xfrm>
        <a:graphic>
          <a:graphicData uri="http://schemas.openxmlformats.org/drawingml/2006/table">
            <a:tbl>
              <a:tblPr/>
              <a:tblGrid>
                <a:gridCol w="4268880"/>
                <a:gridCol w="386064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Subsis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Responsable de la Administ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.- Análisis Técnico  Económ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visión de Inver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I.- Formulación Presupues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rección de Presu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inisterio de Hacie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        </a:t>
                      </a: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II.-  Ejecución Presupues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rección de Presu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inisterio de Hacie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        </a:t>
                      </a: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V.-  Evaluación Ex P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visión de Invers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23"/>
          <p:cNvSpPr/>
          <p:nvPr/>
        </p:nvSpPr>
        <p:spPr>
          <a:xfrm>
            <a:off x="5497560" y="6597720"/>
            <a:ext cx="3646440" cy="246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 Narrow"/>
              </a:rPr>
              <a:t>DIVISION DE PLANIFICACION, ESTUDIOS E INVERS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Conjunto de normas, instrucciones y procedimientos que permite homogenizar y coordinar el proceso de identificación, formulación, presentación y evaluación de las iniciativas de inversión que llevan a cabo las distintas instituciones del sector públ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Su objetivo es orientar el proceso de asignación de recursos hacia aquellas oportunidades de inversión más convenientes para la socie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Tipologías de Iniciativas de Inver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Estudio Básico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: Son los gastos por concepto de iniciativas de inversión destinadas a generar información sobre recursos humanos, físicos o biológicos, que permiten generar nuevas iniciativa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Programa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: Son los gastos por concepto de iniciativas de inversión destinadas a incrementar, mantener o recuperar la capacidad de generación de beneficios de un recurso humano o físico, y que no corresponda a aquellos inherentes a la institución que formula el progra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Proyecto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: Corresponde a los gastos por concepto de estudios pre inversionales, destinados a generar información que sirva para decidir y llevar a cabo la ejecución futura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Asimismo, considera los gastos de inversión , para la ejecución de obras, con el fin de incrementar, mantener o mejorar la producción de bienes o prestación de servic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770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26920" y="2349360"/>
          <a:ext cx="7632720" cy="2581560"/>
        </p:xfrm>
        <a:graphic>
          <a:graphicData uri="http://schemas.openxmlformats.org/drawingml/2006/table">
            <a:tbl>
              <a:tblPr/>
              <a:tblGrid>
                <a:gridCol w="2543400"/>
                <a:gridCol w="2546280"/>
                <a:gridCol w="2543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udio Bás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ac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36"/>
          <p:cNvSpPr/>
          <p:nvPr/>
        </p:nvSpPr>
        <p:spPr>
          <a:xfrm>
            <a:off x="1187280" y="1484280"/>
            <a:ext cx="6913800" cy="720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tapas de Postulación por Tipologías de Invers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0:15:56Z</dcterms:created>
  <dc:creator>Carlos Echavarría</dc:creator>
  <dc:description/>
  <dc:language>en-US</dc:language>
  <cp:lastModifiedBy>Administrador</cp:lastModifiedBy>
  <dcterms:modified xsi:type="dcterms:W3CDTF">2014-06-25T22:32:10Z</dcterms:modified>
  <cp:revision>87</cp:revision>
  <dc:subject/>
  <dc:title>Diapositiva 1</dc:title>
</cp:coreProperties>
</file>