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5.jpeg" ContentType="image/jpeg"/>
  <Override PartName="/ppt/media/image24.wmf" ContentType="image/x-wmf"/>
  <Override PartName="/ppt/media/image25.wmf" ContentType="image/x-wmf"/>
  <Override PartName="/ppt/media/image23.jpeg" ContentType="image/jpeg"/>
  <Override PartName="/ppt/media/image22.png" ContentType="image/png"/>
  <Override PartName="/ppt/media/image19.png" ContentType="image/png"/>
  <Override PartName="/ppt/media/image21.gif" ContentType="image/gif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4BFAF-DE26-474D-9469-8F23CFE9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067E8-D4C6-4D68-8D6F-79382FAD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C2BF1-B80E-412E-B443-BE2073C2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3BC22-3088-43A3-AD22-0909D34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F8E27-A7EF-477D-8571-E7841042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1EAE4-FE78-4913-B6DE-4B57C6B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01E0E-C2AD-4BD4-8F6A-48B2AD6B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9A74C-AA3E-4996-B228-83B768B4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F64A4-B551-4822-92AE-AE8F6CB0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CB4B0-7C66-4400-A78E-22FE3CC3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5E3D5-FA63-487E-8C65-79592FB0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9A87E-B5D7-4405-A140-023F89E8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F1437-5728-4676-A87D-F0E7727E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05488-164F-4120-8A3D-8BCC56C9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84B1B-C5B7-469E-8C55-0ECD425A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26835-2B14-4E62-BD04-B1667384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A5202-DFF0-4EE6-B99A-C401468E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09709-21A7-4629-B232-540134B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12099-6513-4FC6-8757-81F034B4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B20BB-2685-4FA8-BF35-65986C03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8FA8B-C48E-4305-81CC-51A0E19D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EA1E2-7D4B-454E-BD40-9B2966CD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1E8BC-288A-4E9F-BB05-A55AD387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A3416-77F1-4CFF-9C80-3B860F95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62F11-9B7A-478D-ABA8-3A77F4D2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61B80-4FDD-47F5-87BB-FA0AC90D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EB835-16CC-4A23-B97D-4654CD77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C3D4F-EABD-4FDC-86C7-9F7CF937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4332A-9ED6-49C9-A484-C908F23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CB5D0-B22D-4689-B6B5-C0A741D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35B-D302-4AF3-BEA6-8C1726BA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AA131-38CE-4D38-8160-38E1E969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09AD3-E6A7-438E-9FFD-0A5F9A81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F2DEA-4D15-4329-B085-FAEBC870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3C292-4C4F-4331-A740-E33A73CF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B681B-A6C2-4B37-B6EE-7C5D8F57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9B7F4-0C6D-45D1-82F1-9A9ED57B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7FAC9-1A57-48AC-ACE1-6553D218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7C00C-FD87-410F-9BFD-63552E79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B4FBF-2627-4B93-8B81-DA2E1285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E79F2-3727-49F2-B600-873C2C28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FD9-34F5-4B5D-BFFA-E544DCED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F9229-E515-4252-9039-D97711E5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8FE8F-CBB2-466F-8417-1F61942C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EF11F-1376-4B5B-84B6-5C99778D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ACD06-F678-4DE4-A23C-A4D8F8AD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797E9-5A26-4B95-9671-3DE464C2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D0A3F-EA1E-45A1-ADEA-8D4FAD63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42B58-CEF2-43C7-9A8E-5B8F97A0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D2ADD-116D-4EDD-9AA4-A2B0550C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0A6F6-FE20-4F06-88ED-DD9AC535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54F0F-7127-4D13-A24A-3294C26B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0EA-014D-450C-A581-40B77B7F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6D3F0-8036-4227-B0AF-BBFC96F5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51F83-2CA2-4963-873C-FE0A9B75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E9C18-C17D-4EAA-A92B-3678FD0C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0C6C4-E098-4162-A14E-127CD54C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3F0AA-6C59-4897-9B6E-6D2FBBB7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2C355-2E03-45CE-BD88-4CEEE96A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310BF-68AD-402C-AB61-289F456B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0AE98-A730-432F-8AD2-0FA33BF9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F3485-AFCD-49CD-AE4F-6263E72B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39838-9361-4067-A944-B67F3D9F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62B-5E6A-4E51-A3B1-FA2EB93D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FBDD0-1EEB-4850-B88F-09B6F6E1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53B19-494B-4C64-B331-161DA714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CB84F-E260-4A8B-A4F6-1D1E3CD5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8163A-CF77-4710-86D3-4CD461DB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14E43-399E-4302-9F05-41AEC9FA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2CC31-BB97-4C85-93CC-88FE0852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7904B-8E27-4917-A245-F8767D71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D3762-8560-427A-9227-747388AC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31769-170E-438C-920C-9AB685F6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ED816-8157-498F-8058-03265172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358-6B6D-4EBB-AAAC-51E03B6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E34D4-FD88-405C-AB9F-99B60A3E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35E83-E624-42BF-9AF1-BC7D3C08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7F627-CC84-4F45-84F3-BD0D4AB4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0172F-D5F8-4BD0-ADB5-C23DD6BB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ED8DE-34D7-4F46-8B80-F93B063B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12B4B-A20E-45AD-9B4B-B16B62D5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64C44-449A-491D-B306-8B62F04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D918A-FFEA-48A5-A531-CCE7BA53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410F2-A424-4EDC-A1B3-73AFD652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0B1F8-6694-4854-B004-BBCEE249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CA0-E87D-4BED-9D62-5894453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FE33C-C6EF-46AF-967E-EF55BA44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5A17C-0F1E-4FD9-BD2C-0C631F90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F2216-C0DF-42D0-90BE-74F8D7D6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5DC7E-DE30-4E6C-A438-2BA7FD7E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A981C-B85C-4F49-9BC3-AB4897F5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2FE07-1ADB-4608-B154-A8BF4A32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D8427-570B-446B-9AF0-4BBAD490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4BCCA-7624-418B-9CC2-C7AC710F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B0541-CE05-43E0-A059-893A967E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8996C-FC8C-49B8-BDF6-D024F4C5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3BA-5C33-4BA2-B9DF-7096BDE2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590A6-38D0-4D87-9260-8C0BC79A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2796E-7065-4825-B090-23351A1C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8004B-B7A8-4B99-9679-5A43F447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925CAB-C626-4140-851B-8CF14952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2C3C7D-49C7-4806-B3CF-63EEEEC3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68D59-0E8B-4188-AF7E-392233A5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347D2B-DCC5-4FA1-9E01-EB9EF81F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FC016-F49D-4A19-8205-E92987FF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E05E9-2BB3-4633-84A9-BE5744E2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29696-E318-45AD-87D4-93A45E51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EC1-363E-4BF9-82C3-07408B7E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00704-9DE2-4ACB-ADB6-E9B353B9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20D81-4CF7-4FFF-98C4-1C0794A0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2EDCB-2BA8-42A0-A6E0-16A2AC47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0A54C-5325-4091-B854-7E9D0016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8A10A-1ADC-4195-AEF9-9B817168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7AEA1-F473-4631-B037-39B30FB1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2173E-02E9-4370-ADA0-C0FE333B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160CC-58C4-477D-BD55-0DAC21CB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B0C8B-400A-49A2-9891-F07C98FD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F205B-8022-4CF1-833B-031CA195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10B-4CF2-4BD4-8281-D346E1A0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D9B23-2DFC-486F-B52D-3FF1340A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1895E-D29B-4622-9FAD-594B2F8B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3B53A-E187-4B0D-A9DF-E9F7D0D8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94A37-DA77-497A-BC22-B5355D1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E6E32-0C7A-4496-9F20-AC9E7A75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4CF86-2C6C-46E4-BD76-6CCBEAF3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C7B98-D52C-4A76-A34E-391E89BD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5195B-2813-4E62-B862-ABA19EBA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C02BB-3D45-4A18-A87D-F24F3D67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C8075-F647-48FC-9CE0-09C51889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3FE-65A0-49E0-BE96-548AF8E8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F35B5-20D4-41C7-9DE1-CA8B1BEA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1D57BD-8E11-4EDD-8B4A-717B0A4E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83802-70AD-4FCB-A2A8-0EDD7C78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FEE36-1F06-42A5-B58B-B285308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DB3D3E-0D17-4F44-B59A-F3B1789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A19627-4A19-47F4-B319-7388FA65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FE607-6D76-453C-BF2C-F73DFAB5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0BDCE-BA9B-4B2D-A752-D49354B0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57977-178F-46AD-800E-BB39590E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D37E72-7CC8-48B0-95FF-466EFDE2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A63-C311-4E01-94C5-0BE6B674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AD972-3F97-426E-B743-7BA2893B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311DD7-B2D5-487A-A628-FB575E3A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27E0A-FED9-4BD7-8BDA-5E8EB98A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22EDD2-BDAB-47B7-A671-A23E9BFD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42E75-A02A-4A46-B853-4D4FBBF1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8FF01-4DBF-42FA-B5F6-B60F229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2A095-2F7E-4AF0-8C50-9917F2E0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4DB7D8-0D23-4E89-AB30-C693247F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EB86E-8A05-4AFE-BFB9-D3E8975C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962A89-0B2C-40E5-BF04-22C3199F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740-E7EB-4ADF-908C-80F446D9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02177-E461-4F39-8521-DE43A429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67465B-1EFE-42C6-B91F-5AF23DE8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3FE1C-493F-4AFE-B075-518DC35E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4B9FF2-1999-4FD7-B5C3-12585CE9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15035-AF92-4F6C-8946-6A9AA0AB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3C8AB1-74C8-44F9-8BFD-89CE25BF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0F4786-BCEE-4597-B94E-E4BF1725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EEDCA-E314-486B-A899-8BA67963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FD7DB-B50E-456D-8F70-A5F5F424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66767-157A-430E-AA9A-C8EF9BBC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EFF1-C84D-40A6-9767-851E2E16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D385C7-9C35-47FE-8BC7-A58DF55E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F98B08-0FCE-4BE5-9C8E-94472D15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EB6B8-5FBF-44FF-A9D8-602EBC7A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086484-16F9-4E1A-8711-5985AF71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0EB07-E463-4E4F-ADF2-0A2D3C34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871B6-6565-44A0-86D9-299D6675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600AA9-F875-4625-A0E9-186B9583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D2B63-6B7F-475E-9D50-1C3C59AC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8A5E2-FA9E-4387-8DCA-EA5F468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B63D89-D389-424D-A1CD-0E9503E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83FF-8754-4ECF-A17E-6B299C0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88B312-92AB-4EDB-A1FF-43109039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3B15F-26B9-46B9-9A9B-933D5341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993DD-72DC-472E-83FF-18FC17E2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1B218-5831-4BEE-8329-54663EE1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3B3919-9849-4D28-A595-1165C595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1760D4-C99E-4B0D-95C9-AF129CA9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A1CD1A-7C74-4A29-B2FF-061212D2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7B16EE-F7A0-4FF1-8B1F-5F9A77F0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91B6EF-57BD-44E6-BDA2-ED289CA8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05C2B5-DA57-41D0-8DDA-2883C577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87F3-49A4-4791-A89A-6077F619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5781FF-F17C-4654-96BE-FB3314E8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7CA4C0-4A2A-4FB4-B206-F69444BE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6C89F2-C268-44C5-899B-13EEC28B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E3577C-6414-44B7-82EE-FBA1FEF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C0C66-C1EF-41F1-84E0-77B915C4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E78E66-0374-4404-BC1C-1E8C039E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640585-8033-4489-AB36-C14E683E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BC1CD3-EEBB-48B3-95C6-130B518F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DB334-263E-44CC-B55C-ADA9875B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7E2AAE-D077-46CF-9C94-01294465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FB6C-234A-46FD-96D2-3B6FF655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526AD4-7C34-4BBB-84CE-5F0BB3CF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F98499-0FE1-4812-A045-12130114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F1071D-B538-486B-898F-289885F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653A41-B335-4FA5-A617-3725435F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EACD51-EDF8-4C06-AF7B-F67403A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CA4380-38BC-47E8-B6CA-98935E21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C1E7AF-B794-4249-AC1D-36429BE5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6CF19B-0370-43B6-84DD-E8C3E951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67831D-7749-42DF-9F21-90452EFF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D16F34-7F4A-4E4D-8FEB-9C387B62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A2A5-B7F4-4CC7-A0E4-5A4B685D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A36F03-1E7D-4241-AD25-8E9CE6BA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370E2F-A1F0-4F1B-B934-FE51843D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1953BE-07F9-46F7-9C17-C92BA802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04C9DC-44BB-4507-8828-C7760784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F3E97A-6CC9-4988-84BC-985DFAFF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7EF912-DB0F-4CA3-AD83-B316613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2E40F0-397D-43EB-BDD8-9634866A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0CB6B0-E997-4295-8341-D3857E0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51B377-089B-4634-A797-EE2CDAF9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B48E46-EBC6-4932-A010-965440DA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34FE-7546-4F1F-9E35-9C1437BD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2FAB43-D1A7-4A8B-AE53-26DE0CB1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DFDC05-5591-4FE2-ABBF-6BA67BD1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E7A5BD-0A75-4284-8CF2-0C055B8B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011DA7-9022-4719-859F-A1778FE7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C24941-BA0B-449E-96DC-B62F8B03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96976E-FDCB-4098-93F5-496FCCD1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D40022-A234-41F0-BDAB-17413D2F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11FAF1-50CD-425A-BE3A-2248945B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F91F88-7B3D-4CC6-9221-0D321438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404ED5-ACDC-4EF7-8A75-84E3E461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6E2B-6CD3-4FD7-9E54-5C510181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A19243-473D-4C40-B738-BB6D640F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850896-648A-40AD-8A08-90A8EAC0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C00DF1-D5A3-41F1-A4DE-9DE60AB8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EEBF06-A898-43F0-9B15-18A9AC82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992A11-0873-4E95-BD08-9E7AA97C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223173-F70F-4C01-8E02-B91152BD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7DA768-8F70-43B6-A71E-D768CD06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9B1A2B-2071-4EF6-BBBE-D057070F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E2EDEF-6CE2-47E7-B4FE-2F6E1355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A40DA7-F33D-43BE-8A4C-9C0B074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9C19-79D8-49D7-A697-5C843558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0424DD-6DE9-4465-9004-B43B97AF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B0356E-7CC7-4888-AD74-7F8952F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2716DB-BBB1-4626-81F8-750AC2D1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2EBFEC-5473-43D5-AC06-51C69A50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9AC160-EF56-4E76-9A82-DA2CD040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65B0DD-183F-4CE8-A746-A7C3B087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460758-495F-465F-B514-741F15DB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572FA3-D04B-4EEA-9476-DAB8C4C1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68E644-9F54-46E0-95D5-295F8C92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06986A-26F1-4D43-AEF5-9A9BF540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78D8-5BBD-4B9F-8DBA-01A0B5FE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0E2C2A-3981-4F8E-B243-ED6DB3F9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359D64-9976-4B2E-B83E-FDD0BEBB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486CE6-A8FC-4A49-ADAB-B65D7354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9EFA66-C39E-4AD9-8740-8C499EFF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EED04B-508D-4289-842A-310E0CB3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3B6969-7920-42D7-BC16-8FCBAB42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466E8D-CE04-44EE-AC9B-5C4183F4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8CB56C-D38B-4BF5-993A-F64C20A2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370440-2DB0-424E-A8AA-E6595E1B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382615-1713-4107-80F3-ACED9A3E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24A3-09BF-4505-9E90-D1A25536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EDBD27-95E9-4EEA-B095-A4418A52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EEDBA7-C6BE-46B4-973B-0BA23760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6DADE7-5861-4CDD-8440-5F3C9A03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89D19F-255B-47D1-9592-9440C85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A9ADA4-5C37-4E04-BE0E-D924E2B0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5A2D80-84D5-42B7-9933-75DD2120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76CE81-3B3F-4B81-BA37-CA5F958B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021120-A2F5-44CA-8DEC-B5FAA519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7DAC4F-711C-4B2D-B847-7ADF8DA7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F80B62-13D4-401D-AC41-DC6123A4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2B2F-452B-4E41-AD7B-13BB1297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DCFE58-3BBB-4EEB-971C-1ED6F197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AC0CF9-6B5E-4BB2-A921-8E71A69F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731F19-B178-4244-9A99-C97C2EC3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B80203-2F50-4444-B5E1-0D662EB3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38C805-A297-4C22-8E28-0476951F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B3B0BF-A859-4892-9C77-F07957B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7DFA8D-AFE9-440F-AF47-9C8C980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EEEAE5-AAC1-4AA1-8424-DB1465B1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358820-2935-477B-9799-63FADEF0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F6B1CC-D582-42BC-B76B-9F1EC8C7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0E16-830D-4E2C-8A3E-5971D68E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F37AE9-C490-4EA3-AE54-A9F4070E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9DFB95-E3B9-4BFB-981D-CCADA806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01E867-9D05-4A98-8B5C-34DE0C68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C083A0-703E-45C1-9DC4-8CBA575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CAF1DB-E695-4039-BAD2-9011003F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C23FC2-D431-4D8F-93E1-3A1DA51F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C79DE5-1C50-4CD9-899A-1BFE2422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751B5A-A727-4ACE-A54D-BC88EA90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25D1A0-92A6-45A5-B8F7-1628CDE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4399D0-CDBB-497C-B136-9CACBA41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97B6-1921-4E7D-9570-2C23F175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60018F-4F64-424D-84B3-837F6EDD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73E114-FAC2-40BC-B1F2-706A442E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C1CFD3-6485-4005-B491-9985519E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AB4A45-0C4A-4BB3-AC3A-6FB86B6E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7D7867-06A0-4ABD-AC14-B0193970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24049C-6D77-4A37-867D-FC36F408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497961-2D8E-4670-8A2A-9FCFF109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57073C-EE6A-4CCF-983F-78C14037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8FA8D2-4E15-4EA3-9573-DE9CA7F4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E52026-2FE9-4AE3-B0C6-C03A6BC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7929-D1AF-486E-ADC1-B8850898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13A070-AEA0-40AB-9AFD-9DAD995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78F692-3C25-486F-9EE9-69051A32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3B670B-0E5B-4C68-AC30-E854057D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EB8902-7E2F-42C5-B8E7-E6EB8D88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547872-BD99-4980-96F8-7C2EC09F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AC8E71-AAAB-4CFB-88A7-393648AF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0A58C4-DAD9-4670-840D-C4011634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2C3D67-42DE-46AD-B985-F8A8A660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39AB9E-0464-4D1D-ADD8-97E0A63A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BDE0CB-34AC-44FE-AD02-F6DEA7F5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3221-C2FB-47DA-919B-0EA21FF9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3CC24A-3EB2-4ECA-95E1-0BC9A3DD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FA6D30-C9F6-407D-AAAE-97B18AD6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2B109A-F273-428C-B6B7-A8E7C0F5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AFECF4-136B-4C77-B6E1-FD572136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C0A193-1D12-422A-A9F3-BB8C46FC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680A30-A076-4EE5-87CD-B6F098AF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0250C8-E723-4249-BD1E-ED68A588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DD903A-87E5-46FC-834E-0C3A9D42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BC0A45-0202-42A4-9BAF-A5C83AAA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12CC27-BA0E-43BF-9BE8-053A775F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759A-7BD2-4D22-B409-6C03418D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53846A-D2E5-4E44-B611-2D13B46C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71BA99-BCAB-49BC-8893-A6102568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8F421D-C80B-4350-9B37-E29E14F5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6AB569-3539-47F5-AA9E-503E47C8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71C5B3-BC09-4808-B649-7CF5A6C1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6A4F14-D921-4903-8DF9-9B3DE1F0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35C922-5D8C-4105-AC50-B7B64DF8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2D133F-CB06-4F4D-8856-A016CF95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1A8E08-495C-4928-B512-A389485B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70BF3C-D809-424C-AFD7-F6AAE1E1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F479-4389-4140-AFFC-07070DCD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89A613-2650-4521-AACB-4A51C1F1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B5F6E2-4E05-426B-96F0-D9C9EA75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895AAC-16AC-40B1-9DF2-8A2DCA5D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43C62E-4502-4F0D-8173-454902B4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3B4659-7AE9-4A7D-AEA0-B326DBC8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557D33-5783-40EE-B440-9DC1197B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B979CB-6B44-4ADD-A760-23FD309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71CC71-B18F-4B6C-B8CE-88F3ECC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05928E-1D5B-4DC4-8650-08B5D6A8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D6A14E-01BC-48D0-BDEA-645182E0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12E35-9B96-4378-9938-72472A54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F41370-91BF-4196-BA44-4DF2BE0B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FAFF8C-23E0-40BC-9CAB-81FA8FD7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D11233-8E38-43FF-9502-30664564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09238D-0826-40DA-A3C1-414D531A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CD3099-AEB5-44E5-B462-6611AF7C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A3B30F-BA5E-4F9D-A6E2-C95CB32A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DAB56F-E0E6-41F5-BA7B-39549DD8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D56715-7B28-4580-93B0-62A9773B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299617-0028-42B5-A650-9841936E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6A6B3D-10AA-4730-A270-86714B38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D9CE-7B49-4DE2-94B0-94575150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3921F9-4C02-4282-9CE6-058A336F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78C3B7-1938-404A-9086-56CC9242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97FBCC-DFB9-436E-93A4-8F936A93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292E9C-4D76-4161-9287-7D1AFBF6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6AFD9C-5783-4E94-9F23-F6F2843B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F1C556-6192-45E1-991F-A1A3D343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74B05D-7418-43F0-89A8-5E9F30E9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1C9AC8-8D5F-441F-AAE8-90A1DF40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7FE1A7-560D-47E5-956C-54E7215A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913988-3C2B-41A3-A891-92694FA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D8D8-FA8D-479B-BBBC-BE296A92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0CBCCC-48D3-4212-8DF0-06AE2D2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002512-9251-40E3-AA2F-26C1079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7E3A73-477C-40D9-8690-C31C595B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E6499D-33CD-4938-BCA8-E20CD935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D022E6-876E-4B5C-9B1F-32C46CE7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1F1EA1-95DB-4503-9DC7-E132EF84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6A63CB-0885-4066-AB17-E6B50D81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A5381F-E3E3-42BD-B21A-A7B27D43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A162B5-E5C7-4852-B669-90901E49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663F35-2A7D-4B05-8374-0D769D90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C859-FC25-4D74-A6D5-BFA633E8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A78F45-E304-4535-92ED-8B1EF357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A8E85E-07F2-4682-B005-80EA8F8A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FCA4E3-8AF6-4A44-88A1-5B74B14F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051A69-A1B7-4395-B5CA-45EE502E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19BB70-EB35-4351-8A0C-4C0B53D4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01C87F-2E96-4CE5-A825-B56FD4E8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F78DEB-CB6A-4A99-89FB-A359EA87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B690-BD80-4957-A1AC-EAD20946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4871-82D3-4214-9E91-9BBFA008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A25F2-5FD7-4246-B6D0-982D901B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E3857-BDC4-4EAB-A942-6CF623B2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78B06-AE7D-4D4C-B445-864F985B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807ED-44CC-431E-84A0-52808798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839FC-4213-49B2-9C68-BCC1E783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5517B-9858-4015-9490-E3A0C009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176B-BF0F-418B-BD54-86E51255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427A-61EB-4D7D-82B5-60272AB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3BF07-9F38-4767-B409-B314A7AD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D6941-1119-472C-8850-390E578E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8DFE-D4EC-41B7-B020-AA3EA895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BA545-2948-4069-9561-B34CD62F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4D38-B4C5-4FC1-8A37-A5250482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DD04F-B42F-445E-87D6-70CA8C00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55239-91D3-4698-9539-99A1924C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DFB8-5D3B-465A-AAFA-4AEC6173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B698E-3A49-4AF9-A1B4-CB6387AB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D3641-B32C-4A11-9206-3BB5B973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86C54-2445-4B67-B4C9-6E00DEB8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8A41-C94F-42B4-968D-A76E616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53692-04A5-44A6-8BDA-95AC2A55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0F019-48DC-4439-8278-7274AB29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27C99-6A17-426E-9D7C-5F84B68F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9D1C-F601-4760-B52F-0E76EE13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35B3F-23E7-4AD3-A154-C1951C4A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2CB0D-869E-479B-82C8-1BA0138D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CEABD-E860-4965-ADCC-A679D55A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18C2C-0093-4183-9B5E-70609B02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45D9-BFF6-4DC4-AD22-C3F48555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CC100-EA99-48DF-93C4-1A512087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B8B6D-2F41-47CB-8CC5-633EBA32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B78F-26C3-4F69-B372-2B9465CF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FA9D-CE2C-4F4F-9A4D-09963EB8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75020-E061-432A-BD4E-290B9FE6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0D343-EE16-42EB-B798-E1CC27FF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6FE6D-015A-48B6-85E8-897B7F98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F9E10-B17B-48EA-80DC-3760F0F2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D19F6-E2F5-4628-B126-4A049C5A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35BC-435E-4019-B3A1-37D33B95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427A4-EB98-4027-8794-D650DDBE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A29E-D38F-48C9-A674-3E1A4933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5797D-6E59-4820-A854-424B1E6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D4193-9953-4DEA-B587-C4D4E496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17824-0761-480B-9DD9-71EDFD15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BF66B-CFA8-4037-B2A7-DB93D3BE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3166A-5519-43F9-B5A3-193DA185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40D82-DF74-4D10-ACFC-FD4F1075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1F302-AEFC-4630-8F35-249CCE0E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B2A3-2AC7-4B9C-AA5E-2B715295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CCA3-7F5E-4B0B-B349-460BD340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11F56-0BB0-41CC-B352-03B8CB7A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88A33-D081-4846-930F-0BE21E8C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88720"/>
            <a:ext cx="86421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58680" indent="0">
              <a:lnSpc>
                <a:spcPts val="2625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400" y="1320480"/>
            <a:ext cx="8609040" cy="4235400"/>
          </a:xfrm>
          <a:prstGeom prst="rect">
            <a:avLst/>
          </a:prstGeom>
          <a:noFill/>
          <a:ln w="0">
            <a:noFill/>
          </a:ln>
        </p:spPr>
        <p:txBody>
          <a:bodyPr lIns="86040" rIns="34200" tIns="34200" bIns="342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195120" indent="-191880">
              <a:lnSpc>
                <a:spcPct val="110000"/>
              </a:lnSpc>
              <a:spcBef>
                <a:spcPts val="1137"/>
              </a:spcBef>
              <a:buClr>
                <a:srgbClr val="be0027"/>
              </a:buClr>
              <a:buSzPct val="92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398520" indent="-19836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12720" indent="-21096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26920" indent="-21096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26920" indent="-21096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26920" indent="-21096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17"/>
          <p:cNvSpPr/>
          <p:nvPr/>
        </p:nvSpPr>
        <p:spPr>
          <a:xfrm>
            <a:off x="7358040" y="6446880"/>
            <a:ext cx="18003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ts val="8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58b46"/>
                </a:solidFill>
                <a:latin typeface="Trebuchet MS"/>
                <a:ea typeface="ＭＳ Ｐゴシック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-2126880" y="673200"/>
            <a:ext cx="2142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e0027"/>
                </a:solidFill>
                <a:latin typeface="Trebuchet MS"/>
                <a:ea typeface="ＭＳ Ｐゴシック"/>
              </a:rPr>
              <a:t>DO NOT REFRESH</a:t>
            </a:r>
            <a:endParaRPr b="1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Text Box 24"/>
          <p:cNvSpPr/>
          <p:nvPr/>
        </p:nvSpPr>
        <p:spPr>
          <a:xfrm>
            <a:off x="6499080" y="6396120"/>
            <a:ext cx="301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Ministerio de Economía y Finanzas 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Dirección de Calidad del Gasto Público-DGP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25"/>
          <p:cNvSpPr/>
          <p:nvPr/>
        </p:nvSpPr>
        <p:spPr>
          <a:xfrm>
            <a:off x="666720" y="6234120"/>
            <a:ext cx="8972640" cy="1440"/>
          </a:xfrm>
          <a:prstGeom prst="line">
            <a:avLst/>
          </a:prstGeom>
          <a:ln cap="sq"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1150920" y="6257520"/>
            <a:ext cx="22384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2625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 </a:t>
            </a:r>
            <a:r>
              <a:rPr b="0" lang="es-ES" sz="14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República del Perú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Picture 5" descr="escperu"/>
          <p:cNvPicPr/>
          <p:nvPr/>
        </p:nvPicPr>
        <p:blipFill>
          <a:blip r:embed="rId2"/>
          <a:stretch/>
        </p:blipFill>
        <p:spPr>
          <a:xfrm>
            <a:off x="668160" y="6265800"/>
            <a:ext cx="457200" cy="480960"/>
          </a:xfrm>
          <a:prstGeom prst="rect">
            <a:avLst/>
          </a:prstGeom>
          <a:ln w="0">
            <a:noFill/>
          </a:ln>
        </p:spPr>
      </p:pic>
      <p:sp>
        <p:nvSpPr>
          <p:cNvPr id="8" name="Rectangle 9"/>
          <p:cNvSpPr/>
          <p:nvPr/>
        </p:nvSpPr>
        <p:spPr>
          <a:xfrm rot="10800000">
            <a:off x="236520" y="0"/>
            <a:ext cx="3110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rot="10800000">
            <a:noAutofit/>
          </a:bodyPr>
          <a:p>
            <a:pPr>
              <a:lnSpc>
                <a:spcPts val="26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Line 4"/>
          <p:cNvSpPr/>
          <p:nvPr/>
        </p:nvSpPr>
        <p:spPr>
          <a:xfrm>
            <a:off x="619200" y="946080"/>
            <a:ext cx="6000840" cy="0"/>
          </a:xfrm>
          <a:prstGeom prst="line">
            <a:avLst/>
          </a:prstGeom>
          <a:ln w="38160">
            <a:solidFill>
              <a:srgbClr val="be00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DF09-74B6-4BDD-97AC-DAA78EC3A93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5206-F8E4-47F4-8EAA-346027FA4A3A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5495-4F45-430A-9B14-2B1A5CFB76A6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CC9D-C330-4020-88ED-E113BDA49C01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81E0-0D26-480D-8E93-8CFBB0FCD4FA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BD3A-89A4-4A7B-B622-A2393A3C64BB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1B1F-3989-4707-ADD6-7528A96FCFF7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30A2-D64D-4B0C-A304-0EB8A85E3B89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6134-EAD7-4281-908D-2A42B26FCC5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F010-1FF1-47D5-AFAF-16F1862A42D4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1F05-F87A-48F7-B1CC-B9A887E9F0D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39CE-0FD0-48F5-AE18-C135C67D92E7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47FF-344F-4C0B-9916-7C2A93237F1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60AA-ADFC-408A-8556-DA89A73852D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30F8-E270-421B-A49C-FB3D2905B3D9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6AE6-84FB-402F-A50A-FC13FDA4D05B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F2AF-834D-4856-9878-54494970D5DB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2F07-12C4-4A55-B757-9E14BB7DA976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7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7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2DAF-3E3D-4695-A85E-0F6C5C9355E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7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6E6A-ABD9-48A2-A3E3-5461B1719B8B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8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281D-FDAB-4104-B773-D99973542F4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E1F5-57D2-4178-B77B-F01A62B29F4A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8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5677-6DA3-4096-8C33-D8F971154855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8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8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9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4B59-C776-4CFF-B3C7-0B6192ABCC52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9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9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9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B99B-53CF-42E3-A343-03229CF42F13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dt" idx="9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ftr" idx="9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 type="sldNum" idx="9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3175-1AAF-4580-9C3E-C59219BAC476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9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9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9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A709-BEC6-4039-A295-C72C5E6836C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D704-F34E-40AE-8573-1EB7026593F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 type="dt" idx="10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 type="ftr" idx="10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 type="sldNum" idx="10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7B1C-8BD1-4A6A-BF83-8E4D9DCEA4F1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ED1-8458-43E0-A942-B69B0D2E0837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0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1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1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6273-C803-487F-B494-06F7F5D95B8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F32D-D748-4726-9AA4-9E497A51CD6E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D5F0-B5AD-46F1-96BD-7975522A8E76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20EB-208F-427E-90F7-AC3A9117974A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C8DF-7A62-4323-9181-F2D00B287EC5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2BA9-36E1-441C-914A-ADFE3130AB07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C9B0-C345-4DD6-838D-5BBF45C486F0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Text Box 4"/>
          <p:cNvSpPr/>
          <p:nvPr/>
        </p:nvSpPr>
        <p:spPr>
          <a:xfrm>
            <a:off x="7358040" y="6446880"/>
            <a:ext cx="18003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d58b46"/>
                </a:solidFill>
                <a:latin typeface="Trebuchet MS"/>
                <a:ea typeface="ＭＳ Ｐゴシック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4" name="Text Box 5"/>
          <p:cNvSpPr/>
          <p:nvPr/>
        </p:nvSpPr>
        <p:spPr>
          <a:xfrm>
            <a:off x="-2126880" y="673200"/>
            <a:ext cx="2142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be0027"/>
                </a:solidFill>
                <a:latin typeface="Trebuchet MS"/>
                <a:ea typeface="ＭＳ Ｐゴシック"/>
              </a:rPr>
              <a:t>DO NOT REFRESH</a:t>
            </a:r>
            <a:endParaRPr b="1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5" name="Text Box 17"/>
          <p:cNvSpPr/>
          <p:nvPr/>
        </p:nvSpPr>
        <p:spPr>
          <a:xfrm>
            <a:off x="7624800" y="6446880"/>
            <a:ext cx="18003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d58b46"/>
                </a:solidFill>
                <a:latin typeface="Trebuchet MS"/>
                <a:ea typeface="ＭＳ Ｐゴシック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Text Box 24"/>
          <p:cNvSpPr/>
          <p:nvPr/>
        </p:nvSpPr>
        <p:spPr>
          <a:xfrm>
            <a:off x="7185960" y="6391440"/>
            <a:ext cx="27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55555"/>
                </a:solidFill>
                <a:latin typeface="Trebuchet MS"/>
                <a:ea typeface="ＭＳ Ｐゴシック"/>
              </a:rPr>
              <a:t>Ministerio de Economía y Finanzas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7" name="Line 25"/>
          <p:cNvSpPr/>
          <p:nvPr/>
        </p:nvSpPr>
        <p:spPr>
          <a:xfrm>
            <a:off x="933480" y="6234120"/>
            <a:ext cx="8972640" cy="1440"/>
          </a:xfrm>
          <a:prstGeom prst="line">
            <a:avLst/>
          </a:prstGeom>
          <a:ln cap="sq"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8" name="Text Box 14"/>
          <p:cNvSpPr/>
          <p:nvPr/>
        </p:nvSpPr>
        <p:spPr>
          <a:xfrm>
            <a:off x="1417680" y="6422760"/>
            <a:ext cx="223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55555"/>
                </a:solidFill>
                <a:latin typeface="Trebuchet MS"/>
                <a:ea typeface="ＭＳ Ｐゴシック"/>
              </a:rPr>
              <a:t> </a:t>
            </a:r>
            <a:r>
              <a:rPr b="0" lang="es-ES" sz="1200" spc="-1" strike="noStrike">
                <a:solidFill>
                  <a:srgbClr val="555555"/>
                </a:solidFill>
                <a:latin typeface="Trebuchet MS"/>
                <a:ea typeface="ＭＳ Ｐゴシック"/>
              </a:rPr>
              <a:t>República del Perú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9" name="Picture 5" descr="escperu"/>
          <p:cNvPicPr/>
          <p:nvPr/>
        </p:nvPicPr>
        <p:blipFill>
          <a:blip r:embed="rId1"/>
          <a:stretch/>
        </p:blipFill>
        <p:spPr>
          <a:xfrm>
            <a:off x="934920" y="6265800"/>
            <a:ext cx="457200" cy="480960"/>
          </a:xfrm>
          <a:prstGeom prst="rect">
            <a:avLst/>
          </a:prstGeom>
          <a:ln w="0">
            <a:noFill/>
          </a:ln>
        </p:spPr>
      </p:pic>
      <p:sp>
        <p:nvSpPr>
          <p:cNvPr id="1570" name="Rectangle 9"/>
          <p:cNvSpPr/>
          <p:nvPr/>
        </p:nvSpPr>
        <p:spPr>
          <a:xfrm rot="10800000">
            <a:off x="523440" y="0"/>
            <a:ext cx="311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1" name="12 Imagen" descr="FONDO_MOD_2-01.tif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938400" y="2306520"/>
            <a:ext cx="545940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SISTENCIA TÉCNICA EN EL MARCO DEL PLAN DE INCENTIVOS A LA MEJORA DE LA GESTIÓN Y MODERNIZACIÓN MUNICIPA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1 Título"/>
          <p:cNvSpPr/>
          <p:nvPr/>
        </p:nvSpPr>
        <p:spPr>
          <a:xfrm>
            <a:off x="3919680" y="5033880"/>
            <a:ext cx="546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rección General de Presupuesto Público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1 Título"/>
          <p:cNvSpPr/>
          <p:nvPr/>
        </p:nvSpPr>
        <p:spPr>
          <a:xfrm>
            <a:off x="3938760" y="6237360"/>
            <a:ext cx="2831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ma,  Noviembre de 2014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5" name="14 Rectángulo"/>
          <p:cNvSpPr/>
          <p:nvPr/>
        </p:nvSpPr>
        <p:spPr>
          <a:xfrm flipH="1">
            <a:off x="3801960" y="2306520"/>
            <a:ext cx="46080" cy="137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6" name="15 Rectángulo"/>
          <p:cNvSpPr/>
          <p:nvPr/>
        </p:nvSpPr>
        <p:spPr>
          <a:xfrm flipH="1">
            <a:off x="3867840" y="5033880"/>
            <a:ext cx="47880" cy="981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7" name="Picture 5" descr=""/>
          <p:cNvPicPr/>
          <p:nvPr/>
        </p:nvPicPr>
        <p:blipFill>
          <a:blip r:embed="rId3"/>
          <a:srcRect l="0" t="0" r="26785" b="0"/>
          <a:stretch/>
        </p:blipFill>
        <p:spPr>
          <a:xfrm>
            <a:off x="735120" y="542880"/>
            <a:ext cx="4314600" cy="571680"/>
          </a:xfrm>
          <a:prstGeom prst="rect">
            <a:avLst/>
          </a:prstGeom>
          <a:ln w="0">
            <a:noFill/>
          </a:ln>
        </p:spPr>
      </p:pic>
      <p:sp>
        <p:nvSpPr>
          <p:cNvPr id="1578" name="1 CuadroTexto"/>
          <p:cNvSpPr/>
          <p:nvPr/>
        </p:nvSpPr>
        <p:spPr>
          <a:xfrm>
            <a:off x="1521000" y="622440"/>
            <a:ext cx="186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2 CuadroTexto"/>
          <p:cNvSpPr/>
          <p:nvPr/>
        </p:nvSpPr>
        <p:spPr>
          <a:xfrm>
            <a:off x="3430800" y="695160"/>
            <a:ext cx="140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espacho  Viceministerial 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B26F-74CA-4DFF-80ED-E5F347AAB623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53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54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5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6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7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1.  Preparación de la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58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59" name="Diagrama 1" descr=""/>
          <p:cNvPicPr/>
          <p:nvPr/>
        </p:nvPicPr>
        <p:blipFill>
          <a:blip r:embed="rId3"/>
          <a:stretch/>
        </p:blipFill>
        <p:spPr>
          <a:xfrm>
            <a:off x="384120" y="1792440"/>
            <a:ext cx="6980400" cy="482112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10" descr="C:\Users\Jorge Nicho\AppData\Local\Microsoft\Windows\Temporary Internet Files\Content.IE5\C2ZX4099\MC900441400[1].png"/>
          <p:cNvPicPr/>
          <p:nvPr/>
        </p:nvPicPr>
        <p:blipFill>
          <a:blip r:embed="rId4"/>
          <a:stretch/>
        </p:blipFill>
        <p:spPr>
          <a:xfrm>
            <a:off x="7483320" y="3559320"/>
            <a:ext cx="2400480" cy="300960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12" descr="C:\Users\Jorge Nicho\AppData\Local\Microsoft\Windows\Temporary Internet Files\Content.IE5\C2ZX4099\MM900283190[1].gif"/>
          <p:cNvPicPr/>
          <p:nvPr/>
        </p:nvPicPr>
        <p:blipFill>
          <a:blip r:embed="rId5"/>
          <a:stretch/>
        </p:blipFill>
        <p:spPr>
          <a:xfrm>
            <a:off x="7905600" y="1987560"/>
            <a:ext cx="159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CF5-A5A1-467A-80EB-0A1610183FF5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3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64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7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2.  Realización de la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8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69" name="Diagrama 1" descr=""/>
          <p:cNvPicPr/>
          <p:nvPr/>
        </p:nvPicPr>
        <p:blipFill>
          <a:blip r:embed="rId3"/>
          <a:stretch/>
        </p:blipFill>
        <p:spPr>
          <a:xfrm>
            <a:off x="1359000" y="1773360"/>
            <a:ext cx="68832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000C-0407-4973-A021-5B6982DDA542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1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72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5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3.  Lecciones aprendidas de la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6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12" descr="C:\Users\Jorge Nicho\AppData\Local\Microsoft\Windows\Temporary Internet Files\Content.IE5\J6OMQB5M\MP900387543[1].jpg"/>
          <p:cNvPicPr/>
          <p:nvPr/>
        </p:nvPicPr>
        <p:blipFill>
          <a:blip r:embed="rId3"/>
          <a:stretch/>
        </p:blipFill>
        <p:spPr>
          <a:xfrm>
            <a:off x="857160" y="1927080"/>
            <a:ext cx="2406600" cy="1716120"/>
          </a:xfrm>
          <a:prstGeom prst="rect">
            <a:avLst/>
          </a:prstGeom>
          <a:ln w="0">
            <a:noFill/>
          </a:ln>
        </p:spPr>
      </p:pic>
      <p:pic>
        <p:nvPicPr>
          <p:cNvPr id="1678" name="Picture 13" descr="C:\Users\Jorge Nicho\AppData\Local\Microsoft\Windows\Temporary Internet Files\Content.IE5\J6OMQB5M\MC900251701[1].wmf"/>
          <p:cNvPicPr/>
          <p:nvPr/>
        </p:nvPicPr>
        <p:blipFill>
          <a:blip r:embed="rId4"/>
          <a:stretch/>
        </p:blipFill>
        <p:spPr>
          <a:xfrm>
            <a:off x="4156200" y="40924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1679" name="Picture 18" descr="C:\Users\Jorge Nicho\AppData\Local\Microsoft\Windows\Temporary Internet Files\Content.IE5\2IVDAV29\MC900437115[1].wmf"/>
          <p:cNvPicPr/>
          <p:nvPr/>
        </p:nvPicPr>
        <p:blipFill>
          <a:blip r:embed="rId5"/>
          <a:stretch/>
        </p:blipFill>
        <p:spPr>
          <a:xfrm>
            <a:off x="6634080" y="1889280"/>
            <a:ext cx="2509920" cy="1712880"/>
          </a:xfrm>
          <a:prstGeom prst="rect">
            <a:avLst/>
          </a:prstGeom>
          <a:ln w="0">
            <a:noFill/>
          </a:ln>
        </p:spPr>
      </p:pic>
      <p:sp>
        <p:nvSpPr>
          <p:cNvPr id="1680" name="21 Rectángulo redondeado"/>
          <p:cNvSpPr/>
          <p:nvPr/>
        </p:nvSpPr>
        <p:spPr>
          <a:xfrm>
            <a:off x="969840" y="4135320"/>
            <a:ext cx="2082960" cy="105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Espacios de reflexió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22 Rectángulo redondeado"/>
          <p:cNvSpPr/>
          <p:nvPr/>
        </p:nvSpPr>
        <p:spPr>
          <a:xfrm>
            <a:off x="3965400" y="2644920"/>
            <a:ext cx="2081520" cy="1012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Implementar las mejor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23 Rectángulo redondeado"/>
          <p:cNvSpPr/>
          <p:nvPr/>
        </p:nvSpPr>
        <p:spPr>
          <a:xfrm>
            <a:off x="6834240" y="4105440"/>
            <a:ext cx="2082600" cy="104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DGPP-MEF puede compartir recomendacio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BDAD-FB6C-4F9D-8164-9175D927F89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4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85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7.  Ciclo del Plan de Incentiv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9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90" name="9 Diagrama" descr=""/>
          <p:cNvPicPr/>
          <p:nvPr/>
        </p:nvPicPr>
        <p:blipFill>
          <a:blip r:embed="rId3"/>
          <a:stretch/>
        </p:blipFill>
        <p:spPr>
          <a:xfrm>
            <a:off x="1523880" y="2041560"/>
            <a:ext cx="6602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8 Imagen" descr="FONDO_MOD_2-01.tif"/>
          <p:cNvPicPr/>
          <p:nvPr/>
        </p:nvPicPr>
        <p:blipFill>
          <a:blip r:embed="rId1"/>
          <a:stretch/>
        </p:blipFill>
        <p:spPr>
          <a:xfrm>
            <a:off x="-11160" y="-11160"/>
            <a:ext cx="9904320" cy="685656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5" descr=""/>
          <p:cNvPicPr/>
          <p:nvPr/>
        </p:nvPicPr>
        <p:blipFill>
          <a:blip r:embed="rId2"/>
          <a:srcRect l="0" t="0" r="55000" b="0"/>
          <a:stretch/>
        </p:blipFill>
        <p:spPr>
          <a:xfrm>
            <a:off x="571680" y="404640"/>
            <a:ext cx="2808000" cy="559080"/>
          </a:xfrm>
          <a:prstGeom prst="rect">
            <a:avLst/>
          </a:prstGeom>
          <a:ln w="0">
            <a:noFill/>
          </a:ln>
        </p:spPr>
      </p:pic>
      <p:sp>
        <p:nvSpPr>
          <p:cNvPr id="1693" name="14 CuadroTexto"/>
          <p:cNvSpPr/>
          <p:nvPr/>
        </p:nvSpPr>
        <p:spPr>
          <a:xfrm>
            <a:off x="1663560" y="525600"/>
            <a:ext cx="17938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inisterio</a:t>
            </a:r>
            <a:endParaRPr b="1" lang="en-US" sz="13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 Economía y Finanzas</a:t>
            </a:r>
            <a:endParaRPr b="1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1 Título"/>
          <p:cNvSpPr/>
          <p:nvPr/>
        </p:nvSpPr>
        <p:spPr>
          <a:xfrm>
            <a:off x="6330960" y="5099040"/>
            <a:ext cx="35751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orge L. Nicho Cárdena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nichoc@mef.gob.p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16 Rectángulo"/>
          <p:cNvSpPr/>
          <p:nvPr/>
        </p:nvSpPr>
        <p:spPr>
          <a:xfrm flipH="1">
            <a:off x="6298560" y="5943600"/>
            <a:ext cx="50760" cy="76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6" name="9 CuadroTexto"/>
          <p:cNvSpPr/>
          <p:nvPr/>
        </p:nvSpPr>
        <p:spPr>
          <a:xfrm>
            <a:off x="4003560" y="316692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¡GRACIAS!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581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2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1 CuadroTexto"/>
          <p:cNvSpPr/>
          <p:nvPr/>
        </p:nvSpPr>
        <p:spPr>
          <a:xfrm>
            <a:off x="1353240" y="103500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1. ¿Qué se entiende por asistencia técnica? (1/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5" name="Picture 2" descr=""/>
          <p:cNvPicPr/>
          <p:nvPr/>
        </p:nvPicPr>
        <p:blipFill>
          <a:blip r:embed="rId2"/>
          <a:stretch/>
        </p:blipFill>
        <p:spPr>
          <a:xfrm>
            <a:off x="603360" y="318960"/>
            <a:ext cx="6245280" cy="603360"/>
          </a:xfrm>
          <a:prstGeom prst="rect">
            <a:avLst/>
          </a:prstGeom>
          <a:ln w="0">
            <a:noFill/>
          </a:ln>
        </p:spPr>
      </p:pic>
      <p:sp>
        <p:nvSpPr>
          <p:cNvPr id="1586" name="Rectángulo 1"/>
          <p:cNvSpPr/>
          <p:nvPr/>
        </p:nvSpPr>
        <p:spPr>
          <a:xfrm>
            <a:off x="782640" y="2382840"/>
            <a:ext cx="3846600" cy="2838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Asesoría técnica (conocimiento técnico y experiencia práctica) y soporte que brindará la entidad pública responsable de meta a los gobiernos locales para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HelveticaNeue-BoldItalic"/>
              </a:rPr>
              <a:t>promover el cumplimiento de las metas</a:t>
            </a: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 establecidas en el PI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7" name="Imagen 1" descr=""/>
          <p:cNvPicPr/>
          <p:nvPr/>
        </p:nvPicPr>
        <p:blipFill>
          <a:blip r:embed="rId3"/>
          <a:srcRect l="2787" t="0" r="4542" b="0"/>
          <a:stretch/>
        </p:blipFill>
        <p:spPr>
          <a:xfrm>
            <a:off x="4870440" y="4243320"/>
            <a:ext cx="3781440" cy="229572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9" descr="C:\Users\Jorge Nicho\AppData\Local\Microsoft\Windows\Temporary Internet Files\Content.IE5\C2ZX4099\MC900230931[1].wmf"/>
          <p:cNvPicPr/>
          <p:nvPr/>
        </p:nvPicPr>
        <p:blipFill>
          <a:blip r:embed="rId4"/>
          <a:stretch/>
        </p:blipFill>
        <p:spPr>
          <a:xfrm>
            <a:off x="6089760" y="1981080"/>
            <a:ext cx="1638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590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1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2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3" name="1 CuadroTexto"/>
          <p:cNvSpPr/>
          <p:nvPr/>
        </p:nvSpPr>
        <p:spPr>
          <a:xfrm>
            <a:off x="1353240" y="103500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1. ¿Qué se entiende por asistencia técnica? (2/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4" name="Picture 2" descr=""/>
          <p:cNvPicPr/>
          <p:nvPr/>
        </p:nvPicPr>
        <p:blipFill>
          <a:blip r:embed="rId2"/>
          <a:stretch/>
        </p:blipFill>
        <p:spPr>
          <a:xfrm>
            <a:off x="603360" y="318960"/>
            <a:ext cx="6245280" cy="603360"/>
          </a:xfrm>
          <a:prstGeom prst="rect">
            <a:avLst/>
          </a:prstGeom>
          <a:ln w="0">
            <a:noFill/>
          </a:ln>
        </p:spPr>
      </p:pic>
      <p:sp>
        <p:nvSpPr>
          <p:cNvPr id="1595" name="Rectángulo 1"/>
          <p:cNvSpPr/>
          <p:nvPr/>
        </p:nvSpPr>
        <p:spPr>
          <a:xfrm>
            <a:off x="5845320" y="3164040"/>
            <a:ext cx="3846240" cy="19234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Un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HelveticaNeue-BoldItalic"/>
              </a:rPr>
              <a:t>proceso</a:t>
            </a: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 planificado y articulado que combina las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HelveticaNeue-BoldItalic"/>
              </a:rPr>
              <a:t>3 modalidades </a:t>
            </a: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de AT para  promover el cumplimiento de las metas establecidas en el PI por parte de los GL’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6" name="Diagrama 9" descr=""/>
          <p:cNvPicPr/>
          <p:nvPr/>
        </p:nvPicPr>
        <p:blipFill>
          <a:blip r:embed="rId3"/>
          <a:stretch/>
        </p:blipFill>
        <p:spPr>
          <a:xfrm>
            <a:off x="-639720" y="1908000"/>
            <a:ext cx="615636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95000" y="79380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07b9"/>
                </a:solidFill>
                <a:latin typeface="Calibri"/>
              </a:rPr>
              <a:t>2. </a:t>
            </a:r>
            <a:r>
              <a:rPr b="1" lang="es-ES" sz="3200" spc="-1" strike="noStrike">
                <a:solidFill>
                  <a:srgbClr val="1c07b9"/>
                </a:solidFill>
                <a:latin typeface="Calibri"/>
              </a:rPr>
              <a:t>¿Cuál es el proceso de Asistencia Técn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541080" y="1775880"/>
            <a:ext cx="891540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9" name="Group 15"/>
          <p:cNvGrpSpPr/>
          <p:nvPr/>
        </p:nvGrpSpPr>
        <p:grpSpPr>
          <a:xfrm>
            <a:off x="703440" y="336600"/>
            <a:ext cx="6242040" cy="579240"/>
            <a:chOff x="703440" y="336600"/>
            <a:chExt cx="6242040" cy="579240"/>
          </a:xfrm>
        </p:grpSpPr>
        <p:pic>
          <p:nvPicPr>
            <p:cNvPr id="1600" name="Picture 5" descr=""/>
            <p:cNvPicPr/>
            <p:nvPr/>
          </p:nvPicPr>
          <p:blipFill>
            <a:blip r:embed="rId1"/>
            <a:stretch/>
          </p:blipFill>
          <p:spPr>
            <a:xfrm>
              <a:off x="703440" y="336600"/>
              <a:ext cx="624204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1" name="1 CuadroTexto"/>
            <p:cNvSpPr/>
            <p:nvPr/>
          </p:nvSpPr>
          <p:spPr>
            <a:xfrm>
              <a:off x="1293120" y="466560"/>
              <a:ext cx="2014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Ministerio de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Economía y finanzas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2" name="2 CuadroTexto"/>
            <p:cNvSpPr/>
            <p:nvPr/>
          </p:nvSpPr>
          <p:spPr>
            <a:xfrm>
              <a:off x="3575160" y="517320"/>
              <a:ext cx="1462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Despacho 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Viceministerial de Hacienda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3" name="5 CuadroTexto"/>
            <p:cNvSpPr/>
            <p:nvPr/>
          </p:nvSpPr>
          <p:spPr>
            <a:xfrm>
              <a:off x="5460120" y="430200"/>
              <a:ext cx="115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Dirección General de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Presupuesto Público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604" name="Diagrama 3" descr=""/>
          <p:cNvPicPr/>
          <p:nvPr/>
        </p:nvPicPr>
        <p:blipFill>
          <a:blip r:embed="rId2"/>
          <a:stretch/>
        </p:blipFill>
        <p:spPr>
          <a:xfrm>
            <a:off x="1292400" y="1596960"/>
            <a:ext cx="6960960" cy="47246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0" descr="C:\Users\Jorge Nicho\AppData\Local\Microsoft\Windows\Temporary Internet Files\Content.IE5\2IVDAV29\MC900240365[1].wmf"/>
          <p:cNvPicPr/>
          <p:nvPr/>
        </p:nvPicPr>
        <p:blipFill>
          <a:blip r:embed="rId3"/>
          <a:stretch/>
        </p:blipFill>
        <p:spPr>
          <a:xfrm>
            <a:off x="6840360" y="2084400"/>
            <a:ext cx="1879920" cy="111456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13" descr="C:\Users\Jorge Nicho\AppData\Local\Microsoft\Windows\Temporary Internet Files\Content.IE5\J6OMQB5M\MC900335216[1].wmf"/>
          <p:cNvPicPr/>
          <p:nvPr/>
        </p:nvPicPr>
        <p:blipFill>
          <a:blip r:embed="rId4"/>
          <a:stretch/>
        </p:blipFill>
        <p:spPr>
          <a:xfrm>
            <a:off x="677880" y="3159000"/>
            <a:ext cx="1798560" cy="175104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14" descr="C:\Users\Jorge Nicho\AppData\Local\Microsoft\Windows\Temporary Internet Files\Content.IE5\C2ZX4099\MC900289939[1].wmf"/>
          <p:cNvPicPr/>
          <p:nvPr/>
        </p:nvPicPr>
        <p:blipFill>
          <a:blip r:embed="rId5"/>
          <a:stretch/>
        </p:blipFill>
        <p:spPr>
          <a:xfrm>
            <a:off x="6745320" y="5230800"/>
            <a:ext cx="201924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9B6-3760-40F7-9A07-588B277C6D62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09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10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2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3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3.  Planificación de los compromisos de 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4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15" name="Diagrama 1" descr=""/>
          <p:cNvPicPr/>
          <p:nvPr/>
        </p:nvPicPr>
        <p:blipFill>
          <a:blip r:embed="rId3"/>
          <a:stretch/>
        </p:blipFill>
        <p:spPr>
          <a:xfrm>
            <a:off x="1195560" y="1700280"/>
            <a:ext cx="74548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096D-D524-4BD7-A680-6785E301DD85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7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18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9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0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1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4.  Modalidad: Materiales educativos (1/2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2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23" name="Diagrama 2" descr=""/>
          <p:cNvPicPr/>
          <p:nvPr/>
        </p:nvPicPr>
        <p:blipFill>
          <a:blip r:embed="rId3"/>
          <a:stretch/>
        </p:blipFill>
        <p:spPr>
          <a:xfrm>
            <a:off x="1000080" y="1901880"/>
            <a:ext cx="66070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011B-710A-41CD-B28C-069FD663726B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5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26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8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9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4.  Modalidad: Materiales educativos (2/2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30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31" name="Diagrama 1" descr=""/>
          <p:cNvPicPr/>
          <p:nvPr/>
        </p:nvPicPr>
        <p:blipFill>
          <a:blip r:embed="rId3"/>
          <a:stretch/>
        </p:blipFill>
        <p:spPr>
          <a:xfrm>
            <a:off x="1487520" y="1779480"/>
            <a:ext cx="66196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2414-6C16-47BB-8556-BA1D3A79A69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33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34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5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6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5.  Modalidad: Asesorí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38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39" name="Diagrama 1" descr=""/>
          <p:cNvPicPr/>
          <p:nvPr/>
        </p:nvPicPr>
        <p:blipFill>
          <a:blip r:embed="rId3"/>
          <a:stretch/>
        </p:blipFill>
        <p:spPr>
          <a:xfrm>
            <a:off x="1835280" y="1712880"/>
            <a:ext cx="6229080" cy="415152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0" descr="C:\Users\Jorge Nicho\AppData\Local\Microsoft\Windows\Temporary Internet Files\Content.IE5\J6OMQB5M\MC900434874[1].png"/>
          <p:cNvPicPr/>
          <p:nvPr/>
        </p:nvPicPr>
        <p:blipFill>
          <a:blip r:embed="rId4"/>
          <a:stretch/>
        </p:blipFill>
        <p:spPr>
          <a:xfrm>
            <a:off x="8051760" y="2813040"/>
            <a:ext cx="1843200" cy="184320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1" descr="C:\Users\Jorge Nicho\AppData\Local\Microsoft\Windows\Temporary Internet Files\Content.IE5\2IVDAV29\MC900088866[1].wmf"/>
          <p:cNvPicPr/>
          <p:nvPr/>
        </p:nvPicPr>
        <p:blipFill>
          <a:blip r:embed="rId5"/>
          <a:stretch/>
        </p:blipFill>
        <p:spPr>
          <a:xfrm>
            <a:off x="31680" y="2998800"/>
            <a:ext cx="1822680" cy="1592280"/>
          </a:xfrm>
          <a:prstGeom prst="rect">
            <a:avLst/>
          </a:prstGeom>
          <a:ln w="0">
            <a:noFill/>
          </a:ln>
        </p:spPr>
      </p:pic>
      <p:sp>
        <p:nvSpPr>
          <p:cNvPr id="1642" name="11 Rectángulo redondeado"/>
          <p:cNvSpPr/>
          <p:nvPr/>
        </p:nvSpPr>
        <p:spPr>
          <a:xfrm>
            <a:off x="1884240" y="5937120"/>
            <a:ext cx="6177240" cy="892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 Narrow"/>
              </a:rPr>
              <a:t>Se recomienda: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 Narrow"/>
              </a:rPr>
              <a:t>Sistematizar las consultas recurrentes (FAQ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 Narrow"/>
              </a:rPr>
              <a:t>Crear correos para consulta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B13F-0B58-4A8C-891F-B6B33CC3C4E6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4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45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6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7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8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  Modalidad: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9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50" name="Diagrama 2" descr=""/>
          <p:cNvPicPr/>
          <p:nvPr/>
        </p:nvPicPr>
        <p:blipFill>
          <a:blip r:embed="rId3"/>
          <a:stretch/>
        </p:blipFill>
        <p:spPr>
          <a:xfrm>
            <a:off x="2090880" y="1768320"/>
            <a:ext cx="5443560" cy="3473640"/>
          </a:xfrm>
          <a:prstGeom prst="rect">
            <a:avLst/>
          </a:prstGeom>
          <a:ln w="0">
            <a:noFill/>
          </a:ln>
        </p:spPr>
      </p:pic>
      <p:sp>
        <p:nvSpPr>
          <p:cNvPr id="1651" name="Rectángulo redondeado 3"/>
          <p:cNvSpPr/>
          <p:nvPr/>
        </p:nvSpPr>
        <p:spPr>
          <a:xfrm>
            <a:off x="1806480" y="5761080"/>
            <a:ext cx="6015240" cy="826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La capacitación par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Narrow"/>
              </a:rPr>
              <a:t>cumplimiento de meta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será presencial, pudiendo complementarse con otras capacitacion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rgas Terrones, Karina</dc:creator>
  <dc:description/>
  <dc:language>en-US</dc:language>
  <cp:lastModifiedBy>Nicho Cárdenas, Jorge</cp:lastModifiedBy>
  <dcterms:modified xsi:type="dcterms:W3CDTF">2015-06-02T19:12:51Z</dcterms:modified>
  <cp:revision>67</cp:revision>
  <dc:subject/>
  <dc:title>PLAN DE INCENTIVOS A LA MEJORA DE LA GESTIÓN Y MODERNIZACIÓN MUNICIPAL</dc:title>
</cp:coreProperties>
</file>