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3C5-2135-4C9A-A55C-875ABC07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020-0ACD-45F7-AD1A-4F4C9C6B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9CF-F9DD-4FAC-9FC0-809E9029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4D5-B394-47E7-AF08-B850DE70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696F-3B93-4638-BCAE-526583BD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5916-FF52-42C2-8FA9-9A3ECB0D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D285-C6E6-4B6B-BB08-3C258B7D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F8D0-9E4D-4CD5-965E-C2F47E47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10FA-55E1-4FF6-A487-0DE14C36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DE4C-223E-4D51-94B3-B4654435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F86D-7AF9-4C3A-BE62-244F5897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B1E-961F-4E06-9B1F-82F043D4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4FA3-642D-4963-BE91-719619D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3718-753E-41DE-9F9B-2B8DA72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09FF-A5CA-4026-8D21-8448E134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54B1-E426-418F-A5FE-2DA2F6AD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DBF5-172A-44BD-AEFF-346A986B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49A08-D0CD-4E9A-B463-9158C438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1C428-0A5A-44E4-AB17-367B8167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25FBD-D5A6-43AF-8851-01914A0D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CF79D-2018-498C-B2B5-541FB181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048D0-0364-4E2F-B378-9229F755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315-1929-432C-8B54-DA391D1B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E9E6A-7E80-48A9-BDDB-C54D45E9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ABC7B-E69A-43B4-AA63-73B48E0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6EEEA-C6FD-4A2F-B01C-E9C959FE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1F102-5469-4CB0-BA2B-DD0A283B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03C02-9A38-4CF2-B073-962E3B6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50504-DBBB-438B-85C3-BF33890F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A1D06-C1E2-4513-A77F-15DDFD5A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EB4CC-88F2-43B8-B19F-86652D88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69E09-DA99-4988-84EC-B2443E0C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7AE7DC-4CE8-4A37-89DA-B1E7444A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ACD-B738-402A-B5FE-A5BC7753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57B44-F980-4EED-9D49-3A6552EA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E1C7E-E928-4D99-8140-5FE7DAD2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83D7A-C670-4534-A0F1-F50A7E23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D60CB-86E7-4217-9663-7C37E62B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29CF7-08E0-4D2E-B6E5-9D922CE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854BF-79B2-4CFC-A79D-80014576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0B037-9E6A-4211-AD6F-9280D0B5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F14CC-BC5E-42ED-8870-6D0A5D6E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681F9-BC8C-4D7E-B3FA-990C55E4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F70ED-9EAF-4010-A2FD-67C8F208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B67-DBEA-4823-800A-A1F920E2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1AB7B-474C-452C-9792-3FB8262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B2FB6-2B16-4D5D-99D5-E97054DB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FB26D-246C-490C-982D-A5D7C29E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913D0-9412-4A96-9382-69B0C163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196BB-6124-414D-8D82-EEA441CE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C6122-503F-4A05-957E-38686819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A044D-9A8C-4782-9CB7-EC7B315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1861F-60AA-48E2-B88E-B0F460CD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64B75-0A6B-44C0-B4D3-BE5B7E18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875CA-63BC-4074-A52A-88132A8F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1DC-E736-4FEB-89D6-47F68DD3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5B21A-9E97-4656-AE1D-E3164916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C8C9-974D-412E-B82C-4148C22B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9DAF1-97C7-445F-AEEC-3DDED1CE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5B7E7-ECE1-4331-9D29-F9A36BF7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1E14-0542-4A80-8AD5-F5F0CA2A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B6B3B-EB09-43B2-BBF4-A5C2DFF8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02D8C-6A3E-4121-8B98-D36DA3B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2C436-862C-4E03-B4E5-A8A46767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5EEB6-49B3-4A50-AD2A-22ABB5CF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F070D-3E5A-467B-AE47-26D22C48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F2E-A25A-43DD-90DF-FDB6EEC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8A3FC-D64C-4DE4-A738-696DD2CB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B58FD-958C-4CDC-A67B-94F52A46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DA8A5-E1D5-4C56-AC4B-5226F35A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1B9B7-E73B-4B6A-A008-611BFDDD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86D74-39B7-46E1-9B5B-56393CE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D7084-E5EB-4BAA-86F0-B15E1219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BE8DC-C82D-4CA9-836B-C206D1AC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68555-DF93-479A-9ACC-5D6F1CDA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139DE-3EA9-4AC2-9B83-7984CA8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E5E65-56ED-4B38-B96F-54E8A56D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8F9-8111-49FE-B23C-36FDE1BD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B63CB-93F9-4EF0-899F-CBE6B5F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9FE13-FB98-4C3C-8388-D9AA3B78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B9709-2B9D-46A1-BE7E-26FB5C83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2B74D-4E97-44CD-9F16-4F066139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A7DFBB-71D4-4100-BAAC-EA5711BF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4D637-F00A-4995-87FD-DD7A803D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F82AB-096E-48EF-931C-4A497F6C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F8928-3080-464D-B249-7D1E1256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453C8-4171-4686-BD4E-4491B7F7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5CDFF-6408-4079-9073-1D14FD88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CD9-4C25-41BE-82F5-0F3DC7AA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368C4-4DED-463A-BF6A-3D4252A3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ED377-FC07-4254-96CE-F05E129C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28F9-529F-42C2-90B0-20F8B742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D2FCA-C898-4185-9AFF-88656AB3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AC5BE-4139-498A-BA60-CE1ADA4F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80668-FF7E-47FA-8C0D-23AA1F66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7828F-92A0-417E-A18B-0A5E8814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B096-536A-48D2-9DBF-2CBEC37947E0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39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EA68-2DA2-4069-A09E-7021462945C6}" type="slidenum">
              <a:rPr b="1" lang="es-SV" sz="1400" spc="-1" strike="noStrike">
                <a:solidFill>
                  <a:srgbClr val="fff39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0356-5D75-4E25-85F9-9EE1890B9FA9}" type="slidenum">
              <a:rPr b="1" lang="es-SV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D337-21ED-49E2-AF01-E2F55156DE2F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B171-9AD2-420B-9CF8-F730030705C1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A46C-C2A4-4815-A60E-EB7EE3948E8C}" type="slidenum">
              <a:rPr b="1" lang="es-SV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FEDA-78E2-4697-B72D-C171884BF070}" type="slidenum">
              <a:rPr b="1" lang="es-SV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68E7-88AD-4895-A05B-A4543175B04A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071440" y="314316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fff39d"/>
                </a:solidFill>
                <a:latin typeface="Tw Cen MT"/>
              </a:rPr>
              <a:t>HACIA UNA POLITICA NACIONAL DE PERSONA ADULTA MAYOR EN EL SALVADOR </a:t>
            </a:r>
            <a:endParaRPr b="0" lang="en-US" sz="40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5857560"/>
            <a:ext cx="67053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600" spc="-1" strike="noStrike">
                <a:solidFill>
                  <a:srgbClr val="000000"/>
                </a:solidFill>
                <a:latin typeface="Tw Cen MT"/>
              </a:rPr>
              <a:t>Mcs  Nadia Jennifer Soundy Ellerbrock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600" spc="-1" strike="noStrike">
                <a:solidFill>
                  <a:srgbClr val="000000"/>
                </a:solidFill>
                <a:latin typeface="Tw Cen MT"/>
              </a:rPr>
              <a:t>Directora de Persona Adulta Mayor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Imagen 1" descr=""/>
          <p:cNvPicPr/>
          <p:nvPr/>
        </p:nvPicPr>
        <p:blipFill>
          <a:blip r:embed="rId1"/>
          <a:stretch/>
        </p:blipFill>
        <p:spPr>
          <a:xfrm>
            <a:off x="179280" y="125280"/>
            <a:ext cx="87854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 política pública es la oferta que hace el Estado para responder a los derechos y necesidades de los habitantes de un paí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s políticas públicas son un instrumento de promoción y ejercicio efectivo de los derech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 titularidad de los derechos se fundamenta en la convenciones de derechos humanos y las Constituciones naciona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Que es una política pública?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2. OBJETIVO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Tw Cen MT"/>
              </a:rPr>
              <a:t>Reconocimiento pleno y ejercicio de  derechos,  a través de acceso efectivo a mecanismos de protección, empoderamiento y participació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Nuevo paradigma: enfoque de derecho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pic>
        <p:nvPicPr>
          <p:cNvPr id="358" name="3 Marcador de contenido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8175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Por que se debe contar con una politica publica para mayore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Razón jurídica:  Compromisos internacionales de derechos humanos.  El enfoque de derechos implica incluir a las personas mayores en las políticas públicas y en planes de desarroll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Razón demográfica: el cambio demografico es inminente, y el país debe contar con las condiciones para la atención a esta població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575f6d"/>
                </a:solidFill>
                <a:latin typeface="Tw Cen MT"/>
              </a:rPr>
              <a:t>NUESTROS MAYORES DERECHOS: NUEVO PARADIGMA PARA LA POLITICA PUBLICA</a:t>
            </a:r>
            <a:endParaRPr b="0" lang="en-US" sz="36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484280"/>
            <a:ext cx="8153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OBJETIVO: Mejorar la calidad de vida y el ejercicio de derechos de las personas adultas may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AMBITO DE APLICACIÓN: 100 municipios de mayor pobreza  rural y en asentamientos de 25 Municipios a nivel urban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DURACIÓN: Cuatro año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COORDINACIÓN : Secretaría de Inclusión Social y Secretaría Técnica de la Presidenc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COMITÉ DE COORDINACIÓN: FISDL, SECULTURA, PGR, MINED, MINSAL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575f6d"/>
                </a:solidFill>
                <a:latin typeface="Tw Cen MT"/>
              </a:rPr>
              <a:t>Componentes del programa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Salud y Nutri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Aprendiendo Juntos y Juntas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ofert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Ejerciendo Derechos y Ciudadanía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bás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Pensión básica univers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Mejorando espaci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Recreando tradiciones y 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oferta cultura popular 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adicional  monitoreo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4 Cerrar llave"/>
          <p:cNvSpPr/>
          <p:nvPr/>
        </p:nvSpPr>
        <p:spPr>
          <a:xfrm>
            <a:off x="6443640" y="1773360"/>
            <a:ext cx="262080" cy="1726920"/>
          </a:xfrm>
          <a:custGeom>
            <a:avLst/>
            <a:gdLst>
              <a:gd name="textAreaLeft" fmla="*/ 0 w 262080"/>
              <a:gd name="textAreaRight" fmla="*/ 94680 w 262080"/>
              <a:gd name="textAreaTop" fmla="*/ 6480 h 1726920"/>
              <a:gd name="textAreaBottom" fmla="*/ 172044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16200" y="10800"/>
                  <a:pt x="21600" y="10800"/>
                </a:cubicBezTo>
                <a:cubicBezTo>
                  <a:pt x="162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5 Cerrar llave"/>
          <p:cNvSpPr/>
          <p:nvPr/>
        </p:nvSpPr>
        <p:spPr>
          <a:xfrm>
            <a:off x="6875640" y="3789360"/>
            <a:ext cx="144360" cy="1295280"/>
          </a:xfrm>
          <a:custGeom>
            <a:avLst/>
            <a:gdLst>
              <a:gd name="textAreaLeft" fmla="*/ 0 w 144360"/>
              <a:gd name="textAreaRight" fmla="*/ 52200 w 144360"/>
              <a:gd name="textAreaTop" fmla="*/ 3600 h 1295280"/>
              <a:gd name="textAreaBottom" fmla="*/ 12916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Logros relevantes</a:t>
            </a: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ntrega de pensiones a 26 mi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Atención domiciliar en salud a 29 mi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Alfabetización de 9 mi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Impulso de convenciòn PAM en O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Diplomado de gerontología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Huertos familia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Programa de mejoramiento de hoga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Atenciòn a PAM en red de casas de la cultu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Mejoramiento de espacios pùblic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Nuevos proyectos</a:t>
            </a: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Creacion de la politica naciona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Nueva ley de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Creacion de unidad geriátr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Implementación de programas para cuidado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Congreso de gerontologí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strategia de sensibilización para el buen trato de las personas mayo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Manual de manejo de Hogares y Residencias Sustitut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22:03:28Z</dcterms:created>
  <dc:creator>nsoundy</dc:creator>
  <dc:description/>
  <dc:language>en-US</dc:language>
  <cp:lastModifiedBy>Your User Name</cp:lastModifiedBy>
  <dcterms:modified xsi:type="dcterms:W3CDTF">2002-02-10T04:24:31Z</dcterms:modified>
  <cp:revision>42</cp:revision>
  <dc:subject/>
  <dc:title>Diapositiva 1</dc:title>
</cp:coreProperties>
</file>