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5442-C8AC-490C-BD62-979778125D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F1E9-F4B1-4570-ACC0-0734F7B7CF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C3AB-7BF3-479B-B56A-645B230382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92A9-ECEA-4017-8AA9-445AB7F9BF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15EF-DF6A-49F3-A29F-CFC56E3947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D707-41EE-4D1F-AD78-BFBF831ADA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F9E9-961D-4405-A47D-910C1B09BA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5DBB-B0C6-4574-B9C2-0A840D9C84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1BB7-8DEF-403C-AB18-EE773FB9BB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C36C-82D4-4E79-9F1A-155E877BCA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B202-09A3-4B9C-B9EA-DF46172F89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C607-A0A0-422F-A9C6-70BE1AC8DC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42D0-12C3-4936-8009-637A6DAA20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B627-9B0E-4FB8-BF13-85B09EE0DE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585C-8B45-4C56-A826-9C22559778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91E1-94B6-4B09-85B1-8E62F0EF8B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BBF7-15E9-4A4B-9E4E-F102C76F0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D1EE-703D-412B-9B27-AF994ED5A3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DFCD-E8C3-4E94-8439-314E9CD9C3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C6F1-2C93-4625-B7E7-80201E6A08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60D6-90F2-47C8-8C2C-2E61CBFDB3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2009-6E02-46C3-8CA2-0639C5C885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4FCF-97A1-4E85-9F14-4A1C837BBB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9455-DB4C-401D-A0F4-DBFE9CD9DF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EFE1-201A-4F55-A35D-4AA1AA25F2A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601560" y="13464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Gill Sans MT"/>
              </a:rPr>
              <a:t>Índice         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79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72BA-77C2-4121-B06C-7FD4CC00EC5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4876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0" y="1908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829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800" spc="-1" strike="noStrike">
                <a:solidFill>
                  <a:srgbClr val="ffffff"/>
                </a:solidFill>
                <a:latin typeface="Gill Sans MT"/>
              </a:rPr>
              <a:t>Institucionalización de la evaluación en Europa y en América Latina</a:t>
            </a:r>
            <a:br>
              <a:rPr sz="6800"/>
            </a:b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-Blanca Lázaro. 9 de Marzo de 2015-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6678720"/>
            <a:ext cx="13004640" cy="3093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0" y="6676560"/>
            <a:ext cx="13004640" cy="180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3600" y="6748560"/>
            <a:ext cx="1727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Gill Sans MT"/>
              </a:rPr>
              <a:t>Socios Operativ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11 Conector recto"/>
          <p:cNvSpPr/>
          <p:nvPr/>
        </p:nvSpPr>
        <p:spPr>
          <a:xfrm>
            <a:off x="293760" y="7037280"/>
            <a:ext cx="152712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0247400" y="6676920"/>
            <a:ext cx="24368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www.eurosocial-ii.eu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@EUROsociALII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2"/>
          <a:stretch/>
        </p:blipFill>
        <p:spPr>
          <a:xfrm>
            <a:off x="10760040" y="2284560"/>
            <a:ext cx="107172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2 Imagen" descr=""/>
          <p:cNvPicPr/>
          <p:nvPr/>
        </p:nvPicPr>
        <p:blipFill>
          <a:blip r:embed="rId3"/>
          <a:stretch/>
        </p:blipFill>
        <p:spPr>
          <a:xfrm>
            <a:off x="706320" y="8190000"/>
            <a:ext cx="11557080" cy="1339920"/>
          </a:xfrm>
          <a:prstGeom prst="rect">
            <a:avLst/>
          </a:prstGeom>
          <a:ln w="0">
            <a:noFill/>
          </a:ln>
        </p:spPr>
      </p:pic>
      <p:pic>
        <p:nvPicPr>
          <p:cNvPr id="166" name="16 Imagen" descr=""/>
          <p:cNvPicPr/>
          <p:nvPr/>
        </p:nvPicPr>
        <p:blipFill>
          <a:blip r:embed="rId4"/>
          <a:stretch/>
        </p:blipFill>
        <p:spPr>
          <a:xfrm>
            <a:off x="511200" y="7253280"/>
            <a:ext cx="8920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22ED-2F98-410A-BA1B-5A8E25EA150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690480" y="2627280"/>
            <a:ext cx="113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Diferencias entre Evaluación y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Performance Monitor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5" name="Imatge 4" descr=""/>
          <p:cNvPicPr/>
          <p:nvPr/>
        </p:nvPicPr>
        <p:blipFill>
          <a:blip r:embed="rId1"/>
          <a:stretch/>
        </p:blipFill>
        <p:spPr>
          <a:xfrm>
            <a:off x="488880" y="3730680"/>
            <a:ext cx="12344400" cy="4476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774720" y="7927920"/>
            <a:ext cx="1145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Fuente: elaboración propia a partir de Talbot (2010)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0365-FE2E-46D4-919E-7017AF42E99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552600" y="2355840"/>
            <a:ext cx="118998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Proceso tendente a establecer un </a:t>
            </a:r>
            <a:r>
              <a:rPr b="1" i="1" lang="es-ES" sz="3600" spc="-1" strike="noStrike">
                <a:solidFill>
                  <a:srgbClr val="000000"/>
                </a:solidFill>
                <a:latin typeface="Gill Sans"/>
              </a:rPr>
              <a:t>sistema de evaluación </a:t>
            </a: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en entornos gubernamentales, a través de </a:t>
            </a:r>
            <a:r>
              <a:rPr b="1" i="1" lang="es-ES" sz="3600" spc="-1" strike="noStrike">
                <a:solidFill>
                  <a:srgbClr val="000000"/>
                </a:solidFill>
                <a:latin typeface="Gill Sans"/>
              </a:rPr>
              <a:t>políticas o estrategias concretas</a:t>
            </a: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IMPORTANTE : RECONOCER LAS LIMITACIONES DE L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 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EVALUACIÓN Y EVITAR FALSAS EXPECTATIVAS 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Los informes de evaluación son hitos en el camino hacia el conocimiento, no puntos finales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Las evidencias que produce la evaluación deben ser tenidas en cuenta junto con criterios legítimos de carácter político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Estel de 5 puntes 3"/>
          <p:cNvSpPr/>
          <p:nvPr/>
        </p:nvSpPr>
        <p:spPr>
          <a:xfrm>
            <a:off x="957240" y="4444920"/>
            <a:ext cx="936720" cy="865440"/>
          </a:xfrm>
          <a:custGeom>
            <a:avLst/>
            <a:gdLst/>
            <a:ahLst/>
            <a:rect l="l" t="t" r="r" b="b"/>
            <a:pathLst>
              <a:path w="936625" h="865188">
                <a:moveTo>
                  <a:pt x="1" y="330472"/>
                </a:moveTo>
                <a:lnTo>
                  <a:pt x="357761" y="330474"/>
                </a:lnTo>
                <a:lnTo>
                  <a:pt x="468313" y="0"/>
                </a:lnTo>
                <a:lnTo>
                  <a:pt x="578864" y="330474"/>
                </a:lnTo>
                <a:lnTo>
                  <a:pt x="936624" y="330472"/>
                </a:lnTo>
                <a:lnTo>
                  <a:pt x="647189" y="534713"/>
                </a:lnTo>
                <a:lnTo>
                  <a:pt x="757745" y="865186"/>
                </a:lnTo>
                <a:lnTo>
                  <a:pt x="468313" y="660940"/>
                </a:lnTo>
                <a:lnTo>
                  <a:pt x="178880" y="865186"/>
                </a:lnTo>
                <a:lnTo>
                  <a:pt x="289436" y="534713"/>
                </a:lnTo>
                <a:lnTo>
                  <a:pt x="1" y="330472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C4CC-3D08-4650-84F8-26944EF5465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552600" y="2932200"/>
            <a:ext cx="11899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Sistema de evaluación de políticas públicas: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Aquél en que la evaluación forma parte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habitual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del ciclo de vida de las políticas y programas públicos, se lleva a término de forma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sistemática y metodológicamente rigurosa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, sus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resultados son utilizados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por parte de decisores políticos y de gestores a cargo de las intervenciones, y sus resultados son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accesibles a la ciudadanía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E5D1-1980-4624-83D2-8E4E91DB6F0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0" name="Imatge 3" descr=""/>
          <p:cNvPicPr/>
          <p:nvPr/>
        </p:nvPicPr>
        <p:blipFill>
          <a:blip r:embed="rId1"/>
          <a:stretch/>
        </p:blipFill>
        <p:spPr>
          <a:xfrm>
            <a:off x="1647720" y="2725560"/>
            <a:ext cx="9740880" cy="53262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576360" y="8489880"/>
            <a:ext cx="108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Fuente: adaptación de Barbier y Hawkins (2012)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9121-EBA5-40DF-99EE-8BACF69E168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52600" y="2158920"/>
            <a:ext cx="11899800" cy="74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Rasgos distintivos de los sistemas de evaluació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scurso político y social sobre la necesidad y la utilidad de evalua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xistencia de una base epistemológica común: ¿Qué es la evaluación y qué tipo de conocimiento debe producir? ¿Con qué finalidad –control, mejora de la gestión, reflexión y aprendizaje-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Responsabilidad organizativa: ¿Qué funciones? ¿Quién debe ejercerlas? ¿Con qué capacidades / recursos? ¿Cómo conseguimos que el sistema funcione (normas, procedimientos, incentivos…)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áctica evaluadora (evaluaciones de diseño, de proceso, de impacto…; demanda regular, oferta suficiente…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ermane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Énfasis en la utiliz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fusión pública como medida de transparencia y de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ccountability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7B61-6544-434E-AE49-213AFFF4FDF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28480" y="2212920"/>
            <a:ext cx="11900160" cy="85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Factores que influyen en el desarrollo de los sistemas de evaluació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alidad democrát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Tradición científica y de gestión públic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levada inversión pública (o necesidad de ajustes!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Fuerzas exógenas favorables a la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ontexto institucional y características propias del sistema polític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Sistemas mayoritarios o regímenes presidencialistas vs. sistemas proporcionales o democracias consociativa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dependencia de los órganos de control del ejecutiv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cesos de reforma o de modernización administrativ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CF81-737F-40AB-AF5B-3B5609A011E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15960" y="2068560"/>
            <a:ext cx="11899800" cy="82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Un sistema de evaluación no coincide necesariamente con una institución pública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ternational Initiative for Impact Evaluation (3i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n una misma institución pública pueden coincidir diversos sistemas de evaluación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Oficina de Evaluación y Supervisión (OVE) y Oficina de Planificación Estratégica y Efectividad en el Desarrollo (SPD) en el BI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dependent Evaluation Group (IEG), Development Impact Evaluation Initiative (DIME), en el W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o pueden articularse alrededor de un determinado sector de intervención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ducation Endowment Foundation, en el Reino Unid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Fondo de experimentación para la juventud, en Fra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 incluso en colaboración publico-privada, como los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Social Impact Bond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B02E-2AA1-4857-AB57-9F175D0DBCE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-383040" y="354600"/>
            <a:ext cx="956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Gill Sans MT"/>
              </a:rPr>
              <a:t>Panorámic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1" name="Imatge 1" descr=""/>
          <p:cNvPicPr/>
          <p:nvPr/>
        </p:nvPicPr>
        <p:blipFill>
          <a:blip r:embed="rId1"/>
          <a:stretch/>
        </p:blipFill>
        <p:spPr>
          <a:xfrm>
            <a:off x="166680" y="1160640"/>
            <a:ext cx="12988800" cy="8508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BF13-0EF2-4DEA-9012-398AC6C6F92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-383040" y="354600"/>
            <a:ext cx="956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Gill Sans MT"/>
              </a:rPr>
              <a:t>Panorámic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6" name="Imatge 1" descr=""/>
          <p:cNvPicPr/>
          <p:nvPr/>
        </p:nvPicPr>
        <p:blipFill>
          <a:blip r:embed="rId1"/>
          <a:stretch/>
        </p:blipFill>
        <p:spPr>
          <a:xfrm>
            <a:off x="111240" y="1343160"/>
            <a:ext cx="12728520" cy="8105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D2DD-A0E7-4A3C-856A-A476E09440F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549360" y="2279520"/>
            <a:ext cx="1189836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l desarrollo exitoso de sistemas de evaluación compor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no tanto un cambio técnico o un cambio institucional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Implica, ante todo, un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ambio cultural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Voluntad política de impulsar un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flexión rigurosa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sobre qué constituye el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nterés general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y cuáles son las políticas que mejor lo sirve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Convencimiento personal sob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la necesidad de mejorar la acción de gobierno para perseguir el bien público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l valor que aporta la evaluación a esa tare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Reconocimiento de ignora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l fracaso como forma de aprendizaj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Voluntad de diálogo y deliberación sobre problemas y posibles solucion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2" name="Imatge 3" descr=""/>
          <p:cNvPicPr/>
          <p:nvPr/>
        </p:nvPicPr>
        <p:blipFill>
          <a:blip r:embed="rId1"/>
          <a:stretch/>
        </p:blipFill>
        <p:spPr>
          <a:xfrm>
            <a:off x="9526680" y="1177920"/>
            <a:ext cx="4419360" cy="2416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ECDE-21F2-4C00-B04E-B3D282BC27D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669960" y="2428920"/>
            <a:ext cx="110361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Marco conceptu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Panorámica de la institucionalización de la evaluación en países de la Unión Europea y de América Latin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Conclusiones y recomendaciones sobre estrategias de institucionaliz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A3F1-B98A-4040-A027-FBC28A47983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49360" y="2279520"/>
            <a:ext cx="11898360" cy="9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Generar una cultura política, social y administrativa fértil para la evaluación requerirá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nvertir tiempo y recursos en sensibilizar, en explicar, en formar a una multiplicidad de actores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–no sólo élites políticas, también funcionarios públicos, miembros de entidades sociales, etc.- sobre qué es la evaluación de políticas públicas y por qué es interesante adoptarla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sas actuaciones de sensibilización y de formación introductoria ayudarán 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mpartir una misma forma de entender qué es la evaluación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de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olíticas públic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8" name="Imatge 3" descr=""/>
          <p:cNvPicPr/>
          <p:nvPr/>
        </p:nvPicPr>
        <p:blipFill>
          <a:blip r:embed="rId1"/>
          <a:stretch/>
        </p:blipFill>
        <p:spPr>
          <a:xfrm>
            <a:off x="9526680" y="1177920"/>
            <a:ext cx="4419360" cy="2416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53EA-71CC-4A9A-81D8-8A0A9ADE88E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64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549360" y="3789360"/>
            <a:ext cx="12136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ocimiento experto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sobre problemáticas sociales, políticas públicas, métodos de investigación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be alcanzar una masa crítica adecuada para garantizar una cobertura óptima de la necesidad de evaluacion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Hibridación entre ámbitos de conocimiento, equipos multidisciplinares, métodos mixtos de investigació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Transferencia de conocimiento entre academia y administració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Fomentar la investigación evaluativa más allá de los proyectos puntuales (avance del conocimiento de las problemáticas sociales, generación de modelos de análisis e instrumentos para su evaluación, etc.)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5F28-C361-4B62-8A59-610C5292FC4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1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549360" y="3789360"/>
            <a:ext cx="121363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diciones de evaluabilidad de las polític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isponibilidad y calidad de los datos contenidos en los registros administrativos y aprovechamiento estadístic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cceso por parte de los profesionales de la evaluació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lanificar de antemano las evaluaciones y abordarlas siempre que sea posible de forma prospectiv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38DE-D7D6-400A-A7E9-48C2D409ADD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8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549360" y="3789360"/>
            <a:ext cx="121363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Planes o agendas de evaluación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para promover una práctica regular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riorización de un determinado número de políticas y programas sobre la base de criterios de relevancia política, de presupuesto de los programa, de viabilidad de las evaluaciones, grado de madurez de los programas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Inclusión de los programas a evaluar, del tipo de evaluación a aplicar en cada caso; la programación en el tiempo de las evaluaciones; la asignación de  responsabilidades, presupuesto y forma de ejecución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También, reglas de difusión pública de las evaluaciones y mecanismos previstos para el seguimiento de la aplicación de los resultado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CA29-0767-4412-A453-9422C346619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85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549360" y="3789360"/>
            <a:ext cx="121363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Demanda de evaluaciones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or parte de las instancias políticas y/o de los órganos gestores de los program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 entrada tienen escasos incentivos para someter a evaluación sus programas y rendir cuentas sobre su funcionamient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Una centralización excesiva puede implicar problemas de “internalización” de la necesidad de evaluar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Los sistemas de evaluación deben incluir incentivos –positivos y negativos- que estimulen la demanda y la apropiación de la evaluación por parte de los órganos gestor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5E02-788A-4EC7-A570-346FF2AE03F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2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549360" y="4365720"/>
            <a:ext cx="121363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mplicar en el proceso evaluador a todos los actores relevantes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, tanto responsables políticos, como gestores del programa, otros organismos públicos o externos implicados en su diseño o implementación, beneficiarios, etc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La participación de esos actores a lo largo del proceso constituye una ocasión excelente de sensibilización y de formación sobre qué es la evaluació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386E-1368-4E7A-8D27-B2EE7E7F468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71520" y="4032360"/>
            <a:ext cx="121363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Cierto grado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nstitucionalización formal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ece importante para que la evaluación pueda jugar un papel en entornos gubernamentales, y en particular: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otorgarle visibilidad y transparenci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protegerla contra presiones del sistema político y burocrátic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promover una práctica regular previsible, que siga estándares adecuados de calidad y que impulse su utilización efectiv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facilitar el aprendizaje sobre su desarrollo, formas de implantación y conexión con procesos de toma de decisiones y rendición de cuenta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0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6838-4913-4155-95A8-4CD577E6DEF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379440" y="3603600"/>
            <a:ext cx="12136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No parece necesaria un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gulación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prolija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Normas transversales, no necesariamente específicas sobre evaluación (finanzas públicas, planeación nacional…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Cláusulas de evaluación en normativa sectorial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irectrices internas (órdenes, circulares…) que dictan la política de evaluació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l marco normativo debe incidir en elementos clave de la práctica evaluadora: objetivos, criterios, estándares de calidad, recursos, utilización y difusión públic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 una forma de anclar la evaluación en entornos refractarios, y para superar obstáculos provocados por el miedo a la transparencia y a la rendición de cuent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7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8CFB-611F-4A4E-87D7-7E8797696BB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430200" y="4678200"/>
            <a:ext cx="10393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Evitar aproximaciones excesivamente (o exclusivamente) legalistas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, que impongan obligaciones de evaluación poco adaptadas a organizaciones escasamente receptivas o todavía no capacitadas para poderlas asumir </a:t>
            </a:r>
            <a:r>
              <a:rPr b="0" i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iesgo de burocratización 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14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39CC-345D-4C66-8A59-F2FE0C1BD4F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426960" y="3164040"/>
            <a:ext cx="11833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versas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figuraciones organizativas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sibl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n el interior de la Administración,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mbinación de instancias de impulso, coordinación y supervisión centralizada de la evaluación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, que actúan también como centros de recursos y apoyo metodológico,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 una función evaluadora descentralizada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, adaptada de forma más o menos flexible a cada contexto organizativo, parece favorecer el avance de la evaluació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sumir progreso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 gradual, irregular y asimétrico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favorecer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focos de práctica avanzada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onde se den las condiciones e impulsar el aprendizaje y “efecto contagio” a travé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de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interadministrativas y profesional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21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6611-F741-4FC8-BABB-2FF53837F17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“…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evaluation is a judgment of interventions according to their results, impacts and needs they aim to satisfy. It is a systematic tool which provides a rigorous evidence-base to inform decision-making.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(Commission of the European Communities, 2007, pág. 3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50A4-1872-4071-B547-B25E1279AC4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426960" y="3862440"/>
            <a:ext cx="118332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Hay que definir las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funcione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organizativas relacionadas con el sistema de evaluación y hay que situarlas adecuadamente en los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organigrama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y en los catálogo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puestos de trabajo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 las administraciones públic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Hay que definir sistemas adecuado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selección del personal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, y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desarrollo profesional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s preciso dotar al personal técnico de la administración que deba gestionar o utilizar la evaluación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apacidades analíticas y de gestión del conocimiento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mover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equipos mixtos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 evaluadores externos expertos y profesionales de la Administración puede dar buenos resultado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28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73F2-5AC8-4627-BD3B-334A1BDC97A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480960" y="4649760"/>
            <a:ext cx="11835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doptar mecanismos que permitan garantizar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neutralidad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y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alidad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 las evaluacion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ontar con mecanismos capace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supervisar el funcionamiento global del sistema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y de introducir los ajustes y correcciones que sean necesari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5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513B-E4AF-49BD-A923-1C2D8E84190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85640" y="2932200"/>
            <a:ext cx="118350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ntender qué es la evaluación, cuáles son sus activos y sus limitaciones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y apostar por ella, implica acometer un proceso de</a:t>
            </a:r>
            <a:r>
              <a:rPr b="1" i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transforma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profunda del modelo actual de administración pública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segurar y proclamar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orientación finalista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 todos los aspectos de la actuación administrativa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vanzar hacia una Administración capaz de apoyar y de gestionar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generación y la utilización continua de conocimiento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 calidad sobre problemas e intervenciones públic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Si esa es la Administración que queremos, habrá que acometer en algún momento un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visión en profundidad de las políticas actuales de reforma administrativa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, para asegurar que priorizan visiones y medidas orientadas a la consecución de ese objetiv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2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1 CuadroTexto"/>
          <p:cNvSpPr/>
          <p:nvPr/>
        </p:nvSpPr>
        <p:spPr>
          <a:xfrm>
            <a:off x="4686480" y="3652920"/>
            <a:ext cx="3616200" cy="42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4" name="Picture 12" descr=""/>
          <p:cNvPicPr/>
          <p:nvPr/>
        </p:nvPicPr>
        <p:blipFill>
          <a:blip r:embed="rId1"/>
          <a:stretch/>
        </p:blipFill>
        <p:spPr>
          <a:xfrm>
            <a:off x="7942320" y="1636560"/>
            <a:ext cx="1512720" cy="1016280"/>
          </a:xfrm>
          <a:prstGeom prst="rect">
            <a:avLst/>
          </a:prstGeom>
          <a:ln w="0">
            <a:noFill/>
          </a:ln>
        </p:spPr>
      </p:pic>
      <p:sp>
        <p:nvSpPr>
          <p:cNvPr id="345" name="2 CuadroTexto"/>
          <p:cNvSpPr/>
          <p:nvPr/>
        </p:nvSpPr>
        <p:spPr>
          <a:xfrm>
            <a:off x="2325600" y="624528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"/>
              </a:rPr>
              <a:t>Para más información, contactar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"/>
              </a:rPr>
              <a:t>Blanca Lázaro - blazarov@gmail.co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"/>
              </a:rPr>
              <a:t>FIIAPP -  www.fiiapp.or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3CD2-A0AE-40B7-B3F2-6A84B7C82BA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5" name="Imatge 1" descr=""/>
          <p:cNvPicPr/>
          <p:nvPr/>
        </p:nvPicPr>
        <p:blipFill>
          <a:blip r:embed="rId1"/>
          <a:stretch/>
        </p:blipFill>
        <p:spPr>
          <a:xfrm>
            <a:off x="914400" y="3005280"/>
            <a:ext cx="12425400" cy="3743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914400" y="7437600"/>
            <a:ext cx="114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Instituto Catalán de Evaluación de Políticas Públicas (Ivàlua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9AC2-32AA-4CD3-A26B-9C2ACD92A20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933480" y="8247240"/>
            <a:ext cx="114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Casado, 2009 (adaptación de William y Wright, 1998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1" name="Imatge 3" descr=""/>
          <p:cNvPicPr/>
          <p:nvPr/>
        </p:nvPicPr>
        <p:blipFill>
          <a:blip r:embed="rId1"/>
          <a:stretch/>
        </p:blipFill>
        <p:spPr>
          <a:xfrm>
            <a:off x="447840" y="2500200"/>
            <a:ext cx="117918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4374-5B11-417E-9D62-D3A552831D1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37960" y="8815320"/>
            <a:ext cx="114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elaboración propi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6" name="Imatge 3" descr=""/>
          <p:cNvPicPr/>
          <p:nvPr/>
        </p:nvPicPr>
        <p:blipFill>
          <a:blip r:embed="rId1"/>
          <a:stretch/>
        </p:blipFill>
        <p:spPr>
          <a:xfrm>
            <a:off x="3378240" y="1963800"/>
            <a:ext cx="6583320" cy="7219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229-7863-4587-BD66-A7F4D93B122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37960" y="8702640"/>
            <a:ext cx="114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adaptación de Nahlinder (2013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1" name="Imatge 1" descr=""/>
          <p:cNvPicPr/>
          <p:nvPr/>
        </p:nvPicPr>
        <p:blipFill>
          <a:blip r:embed="rId1"/>
          <a:stretch/>
        </p:blipFill>
        <p:spPr>
          <a:xfrm>
            <a:off x="2124000" y="2344680"/>
            <a:ext cx="907416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B1D3-1D6A-4950-B87D-1324B1ACD68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53960" y="8807400"/>
            <a:ext cx="114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Fuente: elaboración propi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Imatge 1" descr=""/>
          <p:cNvPicPr/>
          <p:nvPr/>
        </p:nvPicPr>
        <p:blipFill>
          <a:blip r:embed="rId1"/>
          <a:stretch/>
        </p:blipFill>
        <p:spPr>
          <a:xfrm>
            <a:off x="914400" y="2374920"/>
            <a:ext cx="11445840" cy="6432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70EF-2E20-429A-ABD2-3E8AC7C5DBF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820800" y="3005280"/>
            <a:ext cx="11709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≠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ance Monitor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Monitoreo o seguimiento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Peformance Audit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</a:t>
            </a: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Inspection and Oversight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Regulatory Impact Analys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creditación de servicios u organiz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Blanca Lazaro</cp:lastModifiedBy>
  <dcterms:modified xsi:type="dcterms:W3CDTF">2015-03-09T10:29:35Z</dcterms:modified>
  <cp:revision>235</cp:revision>
  <dc:subject/>
  <dc:title>Titulo de la presentación -Subtítulo de la presentación-</dc:title>
</cp:coreProperties>
</file>