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A82-6E67-4BC0-A05E-1D9F4358B0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7ACB-42A4-4254-8F71-9A84286BE4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9DDF-34F1-40A7-9B7F-F51DC2829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32D5-2414-4ED4-A45D-34F807E69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6A01-725E-4A09-9A40-7424CF060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2236-8FC7-41B9-AE51-28B6C60A7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82B6-5ED9-46A6-AB68-AEF61AB8E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F514-74A0-4678-A430-B0DCDF7797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3892-C6A0-49AE-B363-3B21681BD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312E-A0B6-43C9-94A1-A4F4396C0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7E4D-6282-4052-9380-24D09749EF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2FB6-9038-4DBC-BCEF-26519E3C69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7433-3C1E-47E4-BE7C-3219882A88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5680-9280-492B-84BB-2555519F0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83B7-F8C4-4C01-9A35-57429E46C8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2AD5-0BCE-4366-AE8D-A74C727D67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9652-0A1B-4586-95C0-EC2AC625D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01D8-E5A0-4A88-9926-9374AF01AD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CDBE-1859-416D-AC94-A6C3845B43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8846-703B-4C6A-A81B-D05479E424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823D-0A2A-4694-A44B-5D5475ED6A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1EBA-23C6-4150-BDFC-263731CC46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3B45-381A-4F54-A4EB-6D9996D62B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4EFC-0340-4055-B595-ED46862147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48F-1EDA-4F26-A603-96DC479C2F6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5D78-2B5B-400D-96D7-81DC97768F8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Las políticas públicas desde una perspectiva territorial: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problemas y oportunidades </a:t>
            </a:r>
            <a:br>
              <a:rPr sz="4800"/>
            </a:br>
            <a:r>
              <a:rPr b="0" lang="es-ES" sz="4400" spc="-1" strike="noStrike">
                <a:solidFill>
                  <a:srgbClr val="ffffff"/>
                </a:solidFill>
                <a:latin typeface="Gill Sans MT"/>
              </a:rPr>
              <a:t>-Reflexiones desde la experiencia EUROsociAL-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4970520" y="6415200"/>
            <a:ext cx="2992320" cy="93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787-590A-4C35-A10B-75FE68710BB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322280" y="2671920"/>
            <a:ext cx="1103652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tex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ogros y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53960" y="2671920"/>
            <a:ext cx="5508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996-76BF-4665-821F-8C10EF28D26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5953" t="0" r="0" b="0"/>
          <a:stretch/>
        </p:blipFill>
        <p:spPr>
          <a:xfrm>
            <a:off x="1368360" y="2068560"/>
            <a:ext cx="968076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91E0-48C8-46F2-B11C-D181CBBABBC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mérica Latina es la región del mundo mas desigual y diversa social y territorialm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hesión social es también territor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se requiere una capacidad de adaptar las políticas sectoriales a la medida, tomando en cuenta las condiciones especificas de las reg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ministración publica es organizada temática y sectorialmente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tal característica prevalente dificulta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rientar las políticas hacia las necesidades especificas de cada territorio, región, provincia o municip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cebir las políticas como sistema según un enfoque integr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475-B669-4964-9A0D-B70AB1D9A30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necesidad de adapta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orientarlas según las necesidades de los territorio es reconocida en general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formal per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baja aplicación efec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imitada aceptación de la necesidad de dirigi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política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sectorial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hacia los territo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escentralización es todavía un desafío abiert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América Latina, como condición previa para un desarrollo regional que logre establecerse efectivamente y permanecer en el tiemp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815-A94C-420E-9CB4-7DF0C3AB09F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rdinación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continua para mantener un método de trabajo compartido entre los distintos paí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cada context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aptación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las actividades a las condiciones técnicas e institucionales, con base en los intereses y las prioridades manifestadas por las contrapartes loc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pel medular de las visita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tercambio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a Europa con función de establecer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peración entre par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para identificar practicas relevantes y lecciones de interé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014-1782-4021-8DBC-1D094DDEBD5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ituación diferente y heterogénea a nivel institu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e han desarrollado actividades distintas en Argentina, Colombia, Guatemala y Méx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cada una de ellas se han sacad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diferentes pero igualment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elevant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 nivel gene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0901-BDCC-40E9-8F9E-F926D613B48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9692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er 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stitucionalizar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os procesos para 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Énfasis en los proceso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tre niveles de gobierno sectoriales y regionales (gobernanza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y 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ol articulador de las instituciones a cargo de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sos concreto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el fin de resaltar las implicaciones de 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entre las políticas universales y sectorial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en los distintos contextos regionales, enmarcándolas en una visión de conjunto de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pital soc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a través de proceso de empoderamiento de 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erramienta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ra instrumentar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209D-C987-41D5-B0EB-04FDD129F5F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dicionalmente a los resultados concretos se han generado externalidades positivas important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oner en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ialog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instituciones que no dialogab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rticulación entre instituciones,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gitim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Generación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abilidades bland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1T05:18:40Z</dcterms:modified>
  <cp:revision>22</cp:revision>
  <dc:subject/>
  <dc:title>Titulo de la presentación -Subtítulo de la presentación-</dc:title>
</cp:coreProperties>
</file>