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10FA-E2FA-45B5-8447-E2DD760C71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6B5E-37FA-4D5C-AC33-BCCF7A0147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7EC6-B864-420D-AAC9-133C6918D6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5ED1-831C-49FC-840A-7020EC133C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0BC7-E831-4A26-BE39-02C264B490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4B12-181F-4149-9CA1-E7AFF12899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6FCF-7B4E-40AB-A110-B17E6B68C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40C0-A47A-48F0-8B20-9B97B960B0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095A-8D29-4848-A959-1DF0F63173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AF5E-0290-49D5-A945-4CECFF35CC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DAB0-3695-442F-9A5B-21EF4A9614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1D01-963E-483C-8B21-2236DF98BB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BBE3-7867-4C3B-8BCD-1F1A4ADAC7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2629-DD4D-4216-AC95-2EAD40A15F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FCE1-BE3D-4F3E-9FCB-8D5B96A306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101C-D570-4B3F-BFB0-868CBDF52E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4FEE-553B-4EBC-AA2A-B34B5E4FD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BC8C-52D0-4768-9F98-BF5FC78C2F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41B9-AB60-4F91-80CA-FCDEF4C26B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51BE-C97A-44FD-B9C5-C12A9B97E2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D356-1D82-4D5C-BC0B-41C2308E90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8754-8D9A-4097-A1A0-5591049441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FCC3-7149-4CDB-BA80-8BC9ACCACA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C01F-1F42-4539-A7F1-39E76DAF64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" name="Immagine 3" descr="Logo-FORMEZ-PA-09032010"/>
          <p:cNvPicPr/>
          <p:nvPr/>
        </p:nvPicPr>
        <p:blipFill>
          <a:blip r:embed="rId2"/>
          <a:stretch/>
        </p:blipFill>
        <p:spPr>
          <a:xfrm>
            <a:off x="453960" y="206856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9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4682-AB40-4A5D-A1B6-8B0BF62D75C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01560" y="13464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Gill Sans MT"/>
              </a:rPr>
              <a:t>Índice         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2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9133-6F93-466A-8D4F-740D0CC4AEF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4876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Argentina: Mesa de Programas de Promoción de Proyectos de Desarrollo Regional</a:t>
            </a:r>
            <a:br>
              <a:rPr sz="6800"/>
            </a:b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Resultados y aprendizajes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62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8161200"/>
            <a:ext cx="1264896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1 CuadroTexto"/>
          <p:cNvSpPr/>
          <p:nvPr/>
        </p:nvSpPr>
        <p:spPr>
          <a:xfrm>
            <a:off x="4054320" y="3560760"/>
            <a:ext cx="482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Immagine 19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6408720"/>
            <a:ext cx="12484080" cy="1449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8615-F964-4853-A082-378094C99C7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885960" y="2716200"/>
            <a:ext cx="110361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 trabajo con la Mesa: génesis y evolució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 y leccion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c92"/>
                </a:solidFill>
                <a:latin typeface="Gill Sans MT"/>
                <a:ea typeface="Gill Sans MT"/>
              </a:rPr>
              <a:t>Tres tipos de resultados: sobre la Mesa en sí,  las políticas y los territorios y resultados de proces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598320" y="2789280"/>
            <a:ext cx="35568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EC6E-74F9-4528-A28D-D23C4DAEA36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2279880" y="1343520"/>
            <a:ext cx="8447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 trabajo con la Mesa: génesis y evolu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ínculo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con Jefatura de Gabinete propuso a EuroSocial trabajar con la Mesa de Programas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Objetivo gobernanza multinivel: estudiamos funciones de la Mesa y como se podían mejor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Base en acciones en territorios que pudieran ser adaptadas y replicables como política públi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No era pensar soluciones en un sector especifico como si fuera un proyecto de desarrollo en territorio sino experimentar polít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s decir cómo definir políticas publicas a nivel local con validez nacional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0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BD76-911A-4A35-932B-2F2F6F16269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2279880" y="1343520"/>
            <a:ext cx="8447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 trabajo con la Mesa: génesis y evolu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levó a cambiar forma de trabajo de la Mesa: Formalizar su accionar y funciones, hacer reglamento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l papel de EuroSocial: transformar reuniones no sistemáticas de diálogo interpersonal en una experiencia de trabajo interinstitucional entre altos funcionarios técnicos que coordinan acciones y polít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Facilitación del proces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3DD3-A2D8-4AA5-8D83-6EBB542FCCA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69960" y="2068560"/>
            <a:ext cx="11709360" cy="73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Tres tipos de 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Mesa de Programas cambia en parte su naturaleza y se hace más organizad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xperimentacion de políticas públicas en territorios que son reconocidos de interés por el gobierno nacional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xternalidades y resultados en el proceso de actuación de la Me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Mesa de Program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Mesa mejora su f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orma de actuación ganando mayor formalización,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sto fue clave para 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darle mayor entidad a través de un reglamento; 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se adopta una metodología, un sistema de monitoreo y un sistema de evaluació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Territorios y governance multinivel :lo que se hizo en función de la lectura desde EuroSocial, diálogo multinivel y multisectorial con diferentes act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8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CC34-0AE3-46B5-A781-5DC07DB1D3E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98320" y="2212920"/>
            <a:ext cx="1170972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Provincia deTucumán: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Alderetes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: un caso de política regional y urbana en un área metropolitana del interior del país. Lineamientos estratégicos para el desarrollo urbano con base a experiencias de URBAL  y URBACT . Planificación estratégica y desarrollo  del cual resultaron proyectos en temas ambientales, ordenamiento territorial, destino de un terreno fiscal a incubación de empresas, desarrollo tecnológico e innovador con foco en jóvenes y mujeres. Puesta en relación con Programa DAMI Desarrollo de Áreas Metropolitanas del Interior (BID con Ministerio e Obras Públicas)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. Colalao y La Madrid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: áreas rurales deprimidas. Con base en experiencias de la UE (LEADER) se elaboró diagnóstico que sirve de base para coordinar y articular iniciativas de concertación local y microregional con instancias subnacionales y Nació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CA17-6F13-4C30-AE2F-D25AEC21B84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525600" y="1924200"/>
            <a:ext cx="1170936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Posadas, Provincia de Misiones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Integración Trasfronteriza en región de tres fronteras basado en experiencias de la Asociación Europea de Regiones Transfronteriz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Avances en proceso de integración con mayor formalización e integración entre act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Hospit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rque Tecnológic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Turismo en el circuito de la Región de las Mis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rque ambiental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Intercambios y aprendizajes con Brasil y Paragu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Mar del Plata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Agricultura periurbana: Compatibilidad con normas de sostenibilidad ambient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Innovación, tecnología y TICs: apoyo al polo tecnológico lógica de colaboración sur-su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5E8D-E58B-43F4-8E1D-1320ED48A61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647640" y="1924200"/>
            <a:ext cx="1170936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Externalidad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Capacitación de funcionarios y empresarios con ConectaDEL y SEBRAE con fondos BI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rticipación de la Universidad,  Ministerio de Integración (Brasi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RREE: Invitación de la cancilleria para que la Mesa participe de los Comités de Frontera y poner en valor otras actividades transfronteriz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Vínculos entre instituciones que no dialogaba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coordinación y articulación de instrumentos produce resultados con impacto mayor que actuación sectorial de cada ministe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Viaje de estudios e intercambio de experiencias a Europa abre nuevas oportunidades de actuación. Ej Lanzamiento de la Red de Centros Tecnologicos del Min CyT en octubre con participación de la Mesa y EuroSocial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3BED-0D41-4883-9387-9ECA30FE29E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egitimación y empoderamiento: el papel de EuroSocial como un catalizador de 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pel de articulad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l rol y la importancia de la facilit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Resultados del proceso reconocidos por los miembros de la Mesa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Mesa presentará resultados y metodologia a nuevas autoridades en noviembre para continuidad, aprendizajes compartidos y replica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Paolo</cp:lastModifiedBy>
  <dcterms:modified xsi:type="dcterms:W3CDTF">2015-10-20T19:54:18Z</dcterms:modified>
  <cp:revision>22</cp:revision>
  <dc:subject/>
  <dc:title>Titulo de la presentación -Subtítulo de la presentación-</dc:title>
</cp:coreProperties>
</file>