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4591-1F30-463E-B6EB-8E2A053C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012A-8133-403E-98C7-990F0250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03A11-F3AE-4AC1-865F-A2C64E0A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C22CA-BD9E-4A6B-A486-236B86D6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7EDCC-E8FA-4E1A-BCF2-C3610C8A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FDB4E-7A3E-4072-9A31-CB99D8FB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CDA7C-133A-4EFE-9B85-2E0F6061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7B085-9714-4C77-87E1-D98D9D49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61F95-B38B-4BA5-855C-A3943AB9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D09E0-4581-4C12-90AD-95B2559B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21C3C-419E-44A1-A2D3-92C19A68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9063C-F8AE-4E4C-97AC-20B7796A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61E-E7B0-4624-A90E-582F4FE6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B869E-3314-4FA3-8462-021D1512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FC3F8-E7E4-4A0C-8FF8-871FC459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E9988-CAE7-42AE-9AB8-F65E3B81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858D4-154A-4C4A-8FE4-64A624F4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480FF-5FDA-4C73-A4F4-2D5527DD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A5E38-5FF7-4B63-B71B-2251A620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090DB-4112-466D-8F52-24E312AE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888D5-B70B-4124-9B9B-BC74934A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00E7A-7426-4A72-AFF2-55747315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05502-7979-4CD7-8AD7-2B7A6659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5167-5444-4F01-9BDD-A7305781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23539-DF28-4D80-865B-DABED950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4A54B-C548-4897-BBFF-5AB4C9B2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39D13-F346-4D94-B9FF-E7D9427E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F3D52-85F7-4503-833A-929ED6A8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1CC15-B06F-4F14-B2DF-9612CAAE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E3D17-4770-4796-8D32-EE75461E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5041F-8575-4616-A8C2-237CE87F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2A067-6001-4994-8340-C2A04459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FF602-59E7-46EF-B73A-20FC496E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1A90F-8CEA-4AEC-9503-D3EB6709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B992-D544-4260-90BB-F7D7125C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0CCED-6206-4EE2-B665-335930FB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A6125-E6D8-4F2C-9E06-5D914B3E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F51F2-D74F-49BF-B2BE-8D67B0FA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22CC1-5755-45D7-80BD-451D6BAA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8A24C-4B47-432B-8116-BA4468B0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0DEE3-5D09-4B08-B0BB-7B135067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ADEED-B204-4BE7-83CD-112FE1C6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96AC4-9D6F-4FE7-8523-0DAA3D51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8FB59-C013-427F-8019-B3EEF939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E461A-5986-4943-A624-2319B820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93A9-892B-4090-9D5C-1F50BA56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3C726-22BD-4868-98F5-37EBB288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DC1DF-93CB-4B75-B893-60A58313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ABD14-5C99-43D8-B998-85C3F523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8C18A-E4D4-4048-8A67-6599D0DB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9F03F-62AB-4225-95F7-906D11CD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DB7F-5992-426E-9EFA-8D13C63F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391A-8664-4ED8-891C-8D9BBB90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8142-CBF8-4419-B4C5-04DD3FB3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4FB8-F483-4495-BFAF-84CA499E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49AF-40EF-44A0-B788-94BDE582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D63-DFE6-4036-8897-36235655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0950-5C63-456D-9FD2-1429E0A8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7739-32C3-408B-A67D-B3C2E1AF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D7F9-546D-485F-A1E9-796322BC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73AA-8633-4520-84D1-6DBBE9AD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D574-6117-4FC7-A5D1-394E579B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83F2A-3AA6-4C23-B657-620B6589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D8967-6C58-4EFE-86B0-380C5A16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FC119-C479-4E87-9D37-845C4D82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2DF87-0BAB-4950-8134-65277677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846E9-22B2-46DD-9A7B-B6E3F90A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1EBF-AA3B-4FCF-8FD9-04BC3B1A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CE400-BD74-42D2-B461-2007322F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56C79-53DC-4D7A-BCDC-55F60547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268FF-C28F-45B0-94BC-E1AD495E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1426F-1F02-421E-AAB9-07720A83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78484-B71C-4D65-87DE-F8C7C86B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F444B-D3E2-4397-A757-10761831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73BDF-61D7-4874-9C49-ADB8A1CC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5FCB9-6F7F-48AE-9D12-CD990907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1D872-D65D-49C7-B4B1-678E52C8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EC250-E460-4D55-B55D-5D0D9940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731-2F85-41A8-9239-D8CB960D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84292-3E64-43AB-AE9A-354D57B0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2C1EC-2AAC-48BC-AC04-F7962B94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2A493-E761-4BE3-A8E3-BFCB8F08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D66C0-4A14-4B55-AA8B-CDDCF9FE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48385-23EF-4AA0-90C7-E546980B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1CC6E-7334-46E1-A8D5-9EEB95D0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3DBB9-A13A-4C98-9BC6-E83DC4F7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2403D-747B-4A18-BAC1-BEF5D82E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8E74C-2B73-421A-A030-C350F0FC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3C436-865A-42BE-A1CA-67692B2D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A2E-F6C7-4753-8191-FD73E83A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B6A02-A302-4EBB-A857-820BF6F7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C796B-D640-4EE0-BCA3-007E441B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80391-8418-4EDF-ABAE-4D4739D8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A7783-1DB2-4623-8D40-95FCDC2C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C57C6-7733-4DE0-B18B-4CB15440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F2E1A-949C-4A51-BFEF-EDDDFBDC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4647D-D85C-4F13-AB01-0999C8B1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0021E-790B-4B2E-A490-CB9712C4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CB1E2-BA0C-4F6D-ABBD-8F390FAE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25801-D5C5-4595-8190-1056D1BB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ACB-018C-4A37-B723-7531FE39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1916A-9919-4BA9-B241-44663CBF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489A0-E891-4675-A8AD-28A8683B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81B7C-E37A-4D15-84E2-C37F24C8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D17DF-254C-474B-A534-4B63C45A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BBB84-C674-4CF8-9412-999D9FC2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86D82-0FBF-4A46-8263-A1B37ACB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AA659-B8A2-4585-A179-87726A50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5FF7F-5459-4A11-9D1E-54DA9360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12534-2AF6-43D4-A8A6-FAACE049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87714-207A-415F-B146-894357CE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BB62-DC63-46B7-BF64-534852DF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2D7FB-D740-4A96-A39B-55FC87BA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87BAB-6408-423A-B7EB-1FC36D02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9BAEF-308F-41A1-909B-EEC7AD99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4CA39-4BCA-421D-A623-F6A15C9D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3EF94-145C-42BD-B457-20626593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99212-5131-4BB3-A660-2E264204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5F36E-ABBC-4D83-99B6-CE59D393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F1281-0C02-422F-A782-74E2C8D3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3294E-247A-4475-B7EE-4C729A44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B25D8-24A2-4509-8C63-6208755A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B00-53BF-4444-9ACB-0DF2EC55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41336-330E-452C-A597-0933A812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0086A-2FC5-4395-ABD1-5FDAAB73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27CD0-424D-437D-B1E8-95547F99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E4BB9-894C-4BDF-BD25-D0309646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F6AA8-2F75-47AB-B856-B189C000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6D6E5-8A9C-47EC-B95C-10570596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83321-AB40-47D7-B1DD-4B8FB70E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C56FD-07C4-46D2-AE23-85E48E9E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869A2-5388-48FA-B236-0C2788B8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CEE62-51B4-4CD7-A97F-F90E5B40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47C-C7FA-43E8-B9C3-365F7C4D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23ABB-A123-463B-9979-AC6FD17B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738E8-BBA5-40E7-9649-D8F0AEE7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B5BB9-C992-4FE5-8EFD-4620DA4E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25F5C-6312-408B-8766-3A29F60B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A9FA6-0B99-4DF9-8BE7-83811E8B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A85F6-C301-4AFA-9DBA-B09C92E9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91B9D-C445-4137-B69D-BB07CEFE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68F1C-6366-49A0-88F8-A6F890F1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7120D-9C2B-4A7E-B3E1-21712D20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79A19-AC61-478F-BE7E-E9940BEA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EC2D-2440-4A93-9FF5-83D239D6D9E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01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5C13-6A0C-47EC-837F-34C8000FD2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45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ACCC-CB43-4279-A445-752E179B6B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9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D11D-C2AC-4D4D-AC06-E542D647DC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6" descr="LOGO CE-EN-quadri.eps"/>
          <p:cNvPicPr/>
          <p:nvPr/>
        </p:nvPicPr>
        <p:blipFill>
          <a:blip r:embed="rId4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40BF-956F-47A1-88F9-54DD3A3E1CE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3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E16B-7E74-45E1-9A73-903A1BF307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7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5D40-447A-4629-8ECB-BD2BB74584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1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7C4D-161A-4253-A8BD-988B25B5E7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5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C0F4-592A-4338-A451-6A4668405B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69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BBF8-BDED-4A57-A289-B5555BEAD0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13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0D3E-8F0D-43B9-8B1D-09699FB9B9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57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B6A0-ED06-4A02-A997-4115D42191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565360"/>
            <a:ext cx="82090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800" spc="-1" strike="noStrike">
                <a:solidFill>
                  <a:srgbClr val="ffd624"/>
                </a:solidFill>
                <a:latin typeface="Verdana"/>
              </a:rPr>
              <a:t>Oportunidades para el desarrollo territorial inclusivo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610920" y="3716280"/>
            <a:ext cx="8064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ffff"/>
                </a:solidFill>
                <a:latin typeface="Verdana"/>
              </a:rPr>
              <a:t>Gerhard Kovatsch, Cooperación Norte-Su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f5494"/>
                </a:solidFill>
                <a:latin typeface="Verdana"/>
              </a:rPr>
              <a:t>Desarrollo inclusivo  tiene que ver con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• 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Crecimiento equitativo (distribución de 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ingreso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•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Gobernanza inclusiva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• 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Desarrollo territorial equitativ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•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Empleo productivo (trabajo decent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•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Protección soci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•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Acceso a servicios básicos (salud, educación, 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finanzas, infraestructura) prestados con  base 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en un sistema equitativo fisc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Estrategias  DEL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Articulación de actores públicos y privad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Desarrollo de capacidades, formación de equip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(Ojo: ≠ capacitación en nuevos perfiles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Concertación, Planificación territoria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Acceso a insumos, equipos, servicios financieros y materia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Servicios técnicos, información, investigación, mercados de tecnología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Estrategias DEL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Promoción de la asociatividad  gremial, cooperativa y comunitaria (territorial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Redes  empresariales horizonta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Redes/Articulación vertica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Redes territoriale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Cooperativa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Cadenas de valo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Polos territoriale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Otras expresiones organizativas : Consorci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Estrategias 3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Inversione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(Facilitación  de articulación con) mercado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Mercados municipa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Mercados /centros turístico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Ferias locales, nacionales, internacionale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Redes de comercialización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Comercio just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Ruedas de negocio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Estrategias  4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0f5494"/>
                </a:solidFill>
                <a:latin typeface="Verdana"/>
              </a:rPr>
              <a:t>Laboratorios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0f5494"/>
                </a:solidFill>
                <a:latin typeface="Verdana"/>
              </a:rPr>
              <a:t>Pilotajes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0f5494"/>
                </a:solidFill>
                <a:latin typeface="Verdana"/>
              </a:rPr>
              <a:t>Replicas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0f5494"/>
                </a:solidFill>
                <a:latin typeface="Verdana"/>
              </a:rPr>
              <a:t>Multiplicación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0f5494"/>
                </a:solidFill>
                <a:latin typeface="Verdana"/>
              </a:rPr>
              <a:t>Masificación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La articulación de los actores 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500" spc="-1" strike="noStrike">
                <a:solidFill>
                  <a:srgbClr val="0f5494"/>
                </a:solidFill>
                <a:latin typeface="Verdana"/>
              </a:rPr>
              <a:t>„</a:t>
            </a:r>
            <a:r>
              <a:rPr b="0" i="1" lang="de-AT" sz="2500" spc="-1" strike="noStrike">
                <a:solidFill>
                  <a:srgbClr val="0f5494"/>
                </a:solidFill>
                <a:latin typeface="Verdana"/>
              </a:rPr>
              <a:t>Innovaciones sociales“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500" spc="-1" strike="noStrike">
                <a:solidFill>
                  <a:srgbClr val="0f5494"/>
                </a:solidFill>
                <a:latin typeface="Verdana"/>
              </a:rPr>
              <a:t>Ejemplo CIDEL de Masaya (Consorcio Intermunicipal de Desarrollo Económico Local)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500" spc="-1" strike="noStrike">
                <a:solidFill>
                  <a:srgbClr val="0f5494"/>
                </a:solidFill>
                <a:latin typeface="Verdana"/>
              </a:rPr>
              <a:t>Cuando actores cambian el rol y la función a expresiones institucionales.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7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NI" sz="24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562" name="Group 4"/>
          <p:cNvGrpSpPr/>
          <p:nvPr/>
        </p:nvGrpSpPr>
        <p:grpSpPr>
          <a:xfrm>
            <a:off x="755640" y="2133720"/>
            <a:ext cx="7632720" cy="3887640"/>
            <a:chOff x="755640" y="2133720"/>
            <a:chExt cx="7632720" cy="3887640"/>
          </a:xfrm>
        </p:grpSpPr>
        <p:sp>
          <p:nvSpPr>
            <p:cNvPr id="563" name="AutoShape 5"/>
            <p:cNvSpPr/>
            <p:nvPr/>
          </p:nvSpPr>
          <p:spPr>
            <a:xfrm>
              <a:off x="755640" y="2133720"/>
              <a:ext cx="7632720" cy="3887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4" name="Text Box 6"/>
            <p:cNvSpPr/>
            <p:nvPr/>
          </p:nvSpPr>
          <p:spPr>
            <a:xfrm>
              <a:off x="1550520" y="3079440"/>
              <a:ext cx="572508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Comité de Dirección del Programa DEL-Masaya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5" name="Text Box 7"/>
            <p:cNvSpPr/>
            <p:nvPr/>
          </p:nvSpPr>
          <p:spPr>
            <a:xfrm>
              <a:off x="1073160" y="2238480"/>
              <a:ext cx="1590120" cy="42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Cooperación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ustriaca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6" name="Text Box 8"/>
            <p:cNvSpPr/>
            <p:nvPr/>
          </p:nvSpPr>
          <p:spPr>
            <a:xfrm>
              <a:off x="2981880" y="3709440"/>
              <a:ext cx="3020760" cy="105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Unidad técnica /INS 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Fortalecimiento Institucion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Servicios Financieros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Cooperación Empresarial Desarrollo Empresari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7" name="Text Box 9"/>
            <p:cNvSpPr/>
            <p:nvPr/>
          </p:nvSpPr>
          <p:spPr>
            <a:xfrm>
              <a:off x="2981880" y="2238480"/>
              <a:ext cx="1271520" cy="42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INPYME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8" name="Text Box 10"/>
            <p:cNvSpPr/>
            <p:nvPr/>
          </p:nvSpPr>
          <p:spPr>
            <a:xfrm>
              <a:off x="4572360" y="2238480"/>
              <a:ext cx="1589040" cy="42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MUDEMAS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9" name="Text Box 11"/>
            <p:cNvSpPr/>
            <p:nvPr/>
          </p:nvSpPr>
          <p:spPr>
            <a:xfrm>
              <a:off x="6639120" y="2238480"/>
              <a:ext cx="1112760" cy="42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Grupo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Meta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0" name="Text Box 12"/>
            <p:cNvSpPr/>
            <p:nvPr/>
          </p:nvSpPr>
          <p:spPr>
            <a:xfrm>
              <a:off x="1550520" y="5180400"/>
              <a:ext cx="143136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Comité Desarrollo Municip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1" name="Text Box 13"/>
            <p:cNvSpPr/>
            <p:nvPr/>
          </p:nvSpPr>
          <p:spPr>
            <a:xfrm>
              <a:off x="3777120" y="5180400"/>
              <a:ext cx="127152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Unidad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Técnica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Municip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2" name="Text Box 14"/>
            <p:cNvSpPr/>
            <p:nvPr/>
          </p:nvSpPr>
          <p:spPr>
            <a:xfrm>
              <a:off x="5843880" y="5180400"/>
              <a:ext cx="142920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Comisión Municipal MIPYME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3" name="AutoShape 15"/>
            <p:cNvSpPr/>
            <p:nvPr/>
          </p:nvSpPr>
          <p:spPr>
            <a:xfrm rot="16200000">
              <a:off x="4387320" y="-549720"/>
              <a:ext cx="209520" cy="6837840"/>
            </a:xfrm>
            <a:custGeom>
              <a:avLst/>
              <a:gdLst>
                <a:gd name="textAreaLeft" fmla="*/ 133920 w 209520"/>
                <a:gd name="textAreaRight" fmla="*/ 209880 w 209520"/>
                <a:gd name="textAreaTop" fmla="*/ 178200 h 6837840"/>
                <a:gd name="textAreaBottom" fmla="*/ 6659640 h 683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4" name="AutoShape 16"/>
            <p:cNvSpPr/>
            <p:nvPr/>
          </p:nvSpPr>
          <p:spPr>
            <a:xfrm>
              <a:off x="6161760" y="3604680"/>
              <a:ext cx="318600" cy="1261080"/>
            </a:xfrm>
            <a:custGeom>
              <a:avLst/>
              <a:gdLst>
                <a:gd name="textAreaLeft" fmla="*/ 203760 w 318600"/>
                <a:gd name="textAreaRight" fmla="*/ 318960 w 318600"/>
                <a:gd name="textAreaTop" fmla="*/ 32760 h 1261080"/>
                <a:gd name="textAreaBottom" fmla="*/ 1228320 h 126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5" name="AutoShape 17"/>
            <p:cNvSpPr/>
            <p:nvPr/>
          </p:nvSpPr>
          <p:spPr>
            <a:xfrm rot="10800000">
              <a:off x="2504520" y="3604320"/>
              <a:ext cx="317520" cy="126108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32760 h 1261080"/>
                <a:gd name="textAreaBottom" fmla="*/ 1228320 h 126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6" name="Text Box 18"/>
            <p:cNvSpPr/>
            <p:nvPr/>
          </p:nvSpPr>
          <p:spPr>
            <a:xfrm>
              <a:off x="6639120" y="3604680"/>
              <a:ext cx="1431360" cy="126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SOCIOS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MIFIC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INIFOM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PASE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CPML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ONUDI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RENICC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Otros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7" name="Text Box 19"/>
            <p:cNvSpPr/>
            <p:nvPr/>
          </p:nvSpPr>
          <p:spPr>
            <a:xfrm>
              <a:off x="914040" y="3709440"/>
              <a:ext cx="1590120" cy="105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CONDEMAS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rticulación/ participación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Mesa PYME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8" name="AutoShape 20"/>
            <p:cNvSpPr/>
            <p:nvPr/>
          </p:nvSpPr>
          <p:spPr>
            <a:xfrm rot="5400000">
              <a:off x="4230000" y="1550880"/>
              <a:ext cx="208800" cy="6837840"/>
            </a:xfrm>
            <a:custGeom>
              <a:avLst/>
              <a:gdLst>
                <a:gd name="textAreaLeft" fmla="*/ 133560 w 208800"/>
                <a:gd name="textAreaRight" fmla="*/ 209160 w 208800"/>
                <a:gd name="textAreaTop" fmla="*/ 178200 h 6837840"/>
                <a:gd name="textAreaBottom" fmla="*/ 6659640 h 683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9" name="Line 21"/>
            <p:cNvSpPr/>
            <p:nvPr/>
          </p:nvSpPr>
          <p:spPr>
            <a:xfrm>
              <a:off x="4253760" y="3394080"/>
              <a:ext cx="0" cy="3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Roles predefinidos 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Institucionalización del Desrrollo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La  CIDEL como Institución creada y o inducida por la Cooperación  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La  CIDEL como correo de política  nacional en el territorio 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La  CIDEL  como expresión institucionalizada  del desarrollo económico local de los municipios de Masaya 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f5494"/>
                </a:solidFill>
                <a:latin typeface="Verdana"/>
              </a:rPr>
              <a:t>Relaciones efectivas entre los actor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Las municipalidades y los MIPY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pagar impuestos  versus  fomento MIPYMES,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asignación de crédito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Comisiones mixtas a nivel de municipio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Consorcio (paridad Alcaldías, empresarias/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7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1" lang="de-AT" sz="2700" spc="-1" strike="noStrike">
                <a:solidFill>
                  <a:srgbClr val="0f5494"/>
                </a:solidFill>
                <a:latin typeface="Verdana"/>
              </a:rPr>
              <a:t>Articulación (institucional)  Local- Nacional –Global </a:t>
            </a: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La articulación entre lo sectorial y lo territorial, gobierno central y municipios /regiones,  relaciones horizontales y verticales, políticas de escala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La dimensión internacional, transnacional (ejemplos específicos tranfronterizos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(Alianzas DR-CAFTA, AdA-Integración Centroamericana, ALBA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3000" spc="-1" strike="noStrike">
                <a:solidFill>
                  <a:srgbClr val="0f5494"/>
                </a:solidFill>
                <a:latin typeface="Verdana"/>
              </a:rPr>
              <a:t>Cooperación Norte-Sur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Cooperación = Interacción recíproca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No llevamos el „desarrollo“ en nuestro nombre y filosofía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Nuestros campos de cooperación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- Educación,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- Economía,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- Fortalecimento organizacional e institucional,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- Cultura(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Alianza con la </a:t>
            </a:r>
            <a:r>
              <a:rPr b="1" i="1" lang="de-AT" sz="2000" spc="-1" strike="noStrike">
                <a:solidFill>
                  <a:srgbClr val="0f5494"/>
                </a:solidFill>
                <a:latin typeface="Verdana"/>
              </a:rPr>
              <a:t>UIM (Unión Iberoamericana de Municipalista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f5494"/>
                </a:solidFill>
                <a:latin typeface="Verdana"/>
              </a:rPr>
              <a:t>Articulación:  actores internos y  externos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Población autóctona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Foráneo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Extranjer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Migrantes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Pertinencia e identidad, migraciones, interculturalidad y transculturalización,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Relaciones efectiva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Relaciones  con reciprocidad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Elaboración y reconocimiento mutuo de roles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Base sobre la cual se pueden edificar medidas en pro del desarrollo inclusivo, pueden ser elementos „desencadenantes“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Mecanismos de comunicación y de cooperación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Acoplamientos a mecanismos y articulaciones existente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Pero ..estas relaciones pueden entrar en crisis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Aprendizaje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200" spc="-1" strike="noStrike">
                <a:solidFill>
                  <a:srgbClr val="0f5494"/>
                </a:solidFill>
                <a:latin typeface="Verdana"/>
              </a:rPr>
              <a:t>La (re-)asignación y el reconocimiento mutuo de rol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200" spc="-1" strike="noStrike">
                <a:solidFill>
                  <a:srgbClr val="0f5494"/>
                </a:solidFill>
                <a:latin typeface="Verdana"/>
              </a:rPr>
              <a:t>La Cooperación un actor entre varios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200" spc="-1" strike="noStrike">
                <a:solidFill>
                  <a:srgbClr val="0f5494"/>
                </a:solidFill>
                <a:latin typeface="Verdana"/>
              </a:rPr>
              <a:t>Los demás también siguen sus  estrategias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200" spc="-1" strike="noStrike">
                <a:solidFill>
                  <a:srgbClr val="0f5494"/>
                </a:solidFill>
                <a:latin typeface="Verdana"/>
              </a:rPr>
              <a:t>Lo formal y lo informal, no todo se comunica a todos 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Aprendizaj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Contextualizarse, participar en los procesos territoriales  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Inmersió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Capacidad de atender actores muy diversos (flexibilidad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Mayor capacidad de auto-reflexió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Aprendizaje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500" spc="-1" strike="noStrike">
                <a:solidFill>
                  <a:srgbClr val="0f5494"/>
                </a:solidFill>
                <a:latin typeface="Verdana"/>
              </a:rPr>
              <a:t>Contra posiciones ego-centristas - la concepción  de programas y proyectos desde posiciones demiúrgicas (omnipotentes, omniscientes)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500" spc="-1" strike="noStrike">
                <a:solidFill>
                  <a:srgbClr val="0f5494"/>
                </a:solidFill>
                <a:latin typeface="Verdana"/>
              </a:rPr>
              <a:t>Nuevos diálogos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500" spc="-1" strike="noStrike">
                <a:solidFill>
                  <a:srgbClr val="0f5494"/>
                </a:solidFill>
                <a:latin typeface="Verdana"/>
              </a:rPr>
              <a:t>Cómo aprendemos?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604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7200" y="437796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f5494"/>
                </a:solidFill>
                <a:latin typeface="Calibri"/>
              </a:rPr>
              <a:t>Contacto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f5494"/>
                </a:solidFill>
                <a:latin typeface="Calibri"/>
              </a:rPr>
              <a:t>Managua, Nicaragua: dela rotonda Rúben darío 1 c al sur 1 ½ c. Abajo. ++505 2270 6002, 22706022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f5494"/>
                </a:solidFill>
                <a:latin typeface="Calibri"/>
              </a:rPr>
              <a:t>Viena, Austria: Cooperación Norte-Sur (CONS); Sechshauserstrasse 68-70, 1150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f5494"/>
                </a:solidFill>
                <a:latin typeface="Calibri"/>
              </a:rPr>
              <a:t>++43 699 17840841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99" name="Bild 3" descr="&quot;logo-1.jpg"/>
          <p:cNvPicPr/>
          <p:nvPr/>
        </p:nvPicPr>
        <p:blipFill>
          <a:blip r:embed="rId1"/>
          <a:stretch/>
        </p:blipFill>
        <p:spPr>
          <a:xfrm>
            <a:off x="2330280" y="1989000"/>
            <a:ext cx="451656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Experiencias de referencia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Cooperaciones en CA en los últimos 30 a</a:t>
            </a: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ñ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o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f5494"/>
                </a:solidFill>
                <a:latin typeface="Verdana"/>
              </a:rPr>
              <a:t>Cambian las  políticas,  los enfoques  y las                            conviccióne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f5494"/>
                </a:solidFill>
                <a:latin typeface="Verdana"/>
              </a:rPr>
              <a:t>Experiencias de Nicaragua, El Salvador y Guatemala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f5494"/>
                </a:solidFill>
                <a:latin typeface="Verdana"/>
              </a:rPr>
              <a:t>Enfásis en desarrollo territorial desde los gobiernos locale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f5494"/>
                </a:solidFill>
                <a:latin typeface="Verdana"/>
              </a:rPr>
              <a:t>Fomento de derechos indígenas, trabajo con migrantes en Austria  („Integración“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f5494"/>
                </a:solidFill>
                <a:latin typeface="Verdana"/>
              </a:rPr>
              <a:t>Docencia en Universidades: filosofía política </a:t>
            </a: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  </a:t>
            </a: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Espacios, territorio 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68000" y="234936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Como seres físicos necesitamos espacios -públicos y privados - para vivir, trabajar, producir y hacer política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Límites, fronteras, soberanía, dominio sobre un territorio - supranacional,  nacional,  subnacional, o loca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La presencia del estado en el territori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Articular lo sectorial y lo territorial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Qué es desarrollo inclusiv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≠ </a:t>
            </a: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crecimiento inclusiv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f5494"/>
                </a:solidFill>
                <a:latin typeface="Verdana"/>
              </a:rPr>
              <a:t>Referencia al bienestar (Educación, Salud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f5494"/>
                </a:solidFill>
                <a:latin typeface="Verdana"/>
              </a:rPr>
              <a:t>A la distribución de ingresos y otros   bienes/valores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f5494"/>
                </a:solidFill>
                <a:latin typeface="Verdana"/>
              </a:rPr>
              <a:t>Se opone a la exclusión en el ámbito político, económico, social, cultural, de género …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Libertad y mayores opcion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D</a:t>
            </a:r>
            <a:r>
              <a:rPr b="1" lang="es-NI" sz="2000" spc="-1" strike="noStrike">
                <a:solidFill>
                  <a:srgbClr val="0f5494"/>
                </a:solidFill>
                <a:latin typeface="Verdana"/>
              </a:rPr>
              <a:t>I como proceso y resultad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Exclusión    Inclusión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Exclusión de persona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Exclusión de territorios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Mecanismos de exclusió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Políticas y medidas de inclusió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Cohesión social: „pega“ que junta y une  los grupos sociale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El problema no es sólo económic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Inclusión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Inclusión= participación política y oportunidades de trabajo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Hay excluidos que no quieren  participar 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Participar- ser parte y </a:t>
            </a:r>
            <a:r>
              <a:rPr b="0" i="1" lang="es-NI" sz="2400" spc="-1" strike="noStrike" u="sng">
                <a:solidFill>
                  <a:srgbClr val="0f5494"/>
                </a:solidFill>
                <a:uFillTx/>
                <a:latin typeface="Verdana"/>
              </a:rPr>
              <a:t>tener parte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Cambiar a los excluidos  o a la sociedad 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Desarrollo : enfoqu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0f5494"/>
                </a:solidFill>
                <a:latin typeface="Verdana"/>
              </a:rPr>
              <a:t>Centrado en los mercados 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0f5494"/>
                </a:solidFill>
                <a:latin typeface="Verdana"/>
              </a:rPr>
              <a:t>Centrado en las personas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0f5494"/>
                </a:solidFill>
                <a:latin typeface="Verdana"/>
              </a:rPr>
              <a:t>Enfoque de medios de vida sostenibl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0f5494"/>
                </a:solidFill>
                <a:latin typeface="Verdana"/>
              </a:rPr>
              <a:t>Enfoque basado en derechos</a:t>
            </a:r>
            <a:r>
              <a:rPr b="0" i="1" lang="de-AT" sz="4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4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Desarrollo inclusivo : grupos meta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Los/as pobres  Los/as excluidos/a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Los/as empresarios/as de la MIPYME,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Jóvenes </a:t>
            </a: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desempleados, “en riesgo”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La población del territorio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Gerardo</cp:lastModifiedBy>
  <dcterms:modified xsi:type="dcterms:W3CDTF">2013-06-12T12:39:32Z</dcterms:modified>
  <cp:revision>94</cp:revision>
  <dc:subject/>
  <dc:title>Slide 1</dc:title>
</cp:coreProperties>
</file>