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01CB-7DF4-45E5-900E-AEFE4AF3B2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F02F-1F24-4281-BCC6-4698AD0408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YME, acoge a todas las pequeñas y medianas empresas, en España mas del 80% de las empresas tienen me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2B77-AFD4-4A32-8C7B-00708F6461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EOE, es una organizacion de organizaciones empresariales que estan confederad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9990-1005-4828-BA59-FEDFEB4E37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YME, acoge a todas las pequeñas y medianas empresas, en España, actualmente hay 3195210 empresas, segun el Directorio Central de Emp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C66E-48FD-4376-BDBA-08A4191522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cion segun el Directorio Central de Empresas, del 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F628-51F0-4634-8E0C-54398FFF79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7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deracion organizaciones agr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deracion de coopera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dores, amas de casa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2170-7937-4FE1-97D5-0F39551BBF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rticulo 87.3 siempre que den ocupación a igual porcentaje de los trabajdores afec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0E0D-C29A-4F16-B499-7573ED24DB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Son sindicatos mas representativos aquellos que obtengan el 10% o mas representación a nivel estat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Gozaran de capacidad representativa tanto a nivel territorial como funcional para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Ostentar representación institucional ante las Administraciones Públicas u otras entidades y organismos de carácter estatal o de Comunidad Autónoma que la tengan previst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La negociación colectiva, en los términos previstos en el Estatuto de los Trabajadore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Participar como interlocutores en la determinación de las condiciones de trabajo en las Administraciones Públicas a través de los oportunos procedimientos de consulta o negociación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Participar en los sistemas no jurisdiccionales de solución de conflictos de trabaj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Promover elecciones para delegados de personal y comités de empresa y órganos correspondientes de las Administraciones Pública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Obtener cesiones temporales del uso de inmuebles patrimoniales públicos en los términos que se establezcan legalment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Cualquier otra función representativa que se establezc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rticulo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Tendrán la consideración de sindicatos más representativos a nivel de Comunidad Autónoma: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a) Los sindicatos de dicho ámbito que acrediten en el mismo una especial audiencia expresada en la obtención de, al menos, </a:t>
            </a:r>
            <a:r>
              <a:rPr b="1" i="1" lang="es-ES" sz="500" spc="-1" strike="noStrike">
                <a:solidFill>
                  <a:srgbClr val="000000"/>
                </a:solidFill>
                <a:latin typeface="Times New Roman"/>
              </a:rPr>
              <a:t>el 15 por 100 de los delegados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 de personal y de los representantes de los trabajadores en los comités de empresa, y en los órganos correspondientes de las Administraciones Públicas, </a:t>
            </a:r>
            <a:r>
              <a:rPr b="1" i="1" lang="es-ES" sz="500" spc="-1" strike="noStrike">
                <a:solidFill>
                  <a:srgbClr val="000000"/>
                </a:solidFill>
                <a:latin typeface="Times New Roman"/>
              </a:rPr>
              <a:t>siempre que cuenten con un mínimo de 1.500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 representantes y no estén federados o confederados con organizaciones sindicales de ámbito estatal; b) Los sindicatos o entes sindicales afiliados, federados o confederados a una organización sindical de ámbito de Comunidad Autónoma que tenga la consideración de más representativa de acuerdo con lo previsto en la letra a)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5D20-7BCC-4CB5-8910-A71FBB1C1F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iculo 61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, recoge el derecho a la participación de los trabajadores en la empresa mediante los órganos de represent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iculo 62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, establece los órganos de representación: delegados de personal (1 delegado de 10 a 30 Trabajadores, 3 delegados de 31 hasta 49Trabajador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iculo 6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, establece  los órganos de representación: comités de empres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ículo 66,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Composi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cincuenta a cien trabajadores, cin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ciento uno a doscientos cincuenta trabajadores, nuev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doscientos cincuenta y uno a quinientos trabajadores, tre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quinientos uno a setecientos cincuenta trabajadores, diecisie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setecientos cincuenta y uno a mil trabajadores, veintiu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mil en adelante, dos por cada mil o fracción, con el máximo de setenta y cin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795-3D23-46A9-8818-CD5F29D3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D12-0538-499A-A525-EF241593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85D-8599-486F-8914-4297A188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55E-2D1C-4DA1-AB92-AAAA4D87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872-4ED0-4622-AAD9-E4F03714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752-73DD-45B6-A81E-DFC4237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C2B-8CE0-47FE-B8D2-3F4D3BCC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B65-42C0-4009-BC76-8BEC1B15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4E7-45FB-4E1E-B998-D279300B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8E6-3C9D-4BFE-939C-839EA2D2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F5E-3127-4F2F-AA56-794FFB3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FE6-6D35-4673-852B-52E5DA66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E784-7237-41A1-A844-D97643ECC20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D0A2-AE35-44FD-940F-84C420E7FF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alogo social, representatividad de los Agentes So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namá, 12 y 13 de Ju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6669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251840" y="9684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1A7-FAE8-41CF-9497-17DEA5860C6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ente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EOE: fundada en 19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sociadas a 2 millones de empresas y autónomos de todos los sector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Integra a mas de 225 organizaciones territoriales y sectoriales (doble via de representa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2A3B-C799-4346-BC11-14A9E17DB5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ente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EPY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onfederación de la Pequeña y Median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 destacar: su integración a la CEO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FBA-9A86-4187-904C-2C8884FD0A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916560"/>
            <a:ext cx="777240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cion empresas segun numero de trabajador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66360" y="2239920"/>
            <a:ext cx="7991640" cy="47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empresas: 3.195.2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 T. 1.763.1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1 a 9 T. 1.286.58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10 a 49 T. 121.60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50 a 248 T. 20.108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AEC8-5B23-4BD8-8AF3-BF91E43974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873720"/>
            <a:ext cx="777240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agentes representativ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ercer sector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41360" y="2729520"/>
            <a:ext cx="64008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perativ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edad Civi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DC34-AFD6-46A3-953A-27645F91C7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presentatividad Agente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nte Certificación administr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reditación, de acuerdo con el articulo 87.3 E.T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as asociaciones empresariales cuyo ámbito geográfico y funcional del convenio representen 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as asociaciones empresariales que en dicho ámbito den ocupación al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96A6-D9F8-4AD8-A2E0-D78236CC050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UCHAS GRACIAS POR SU ATEN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92E7-19ED-4296-8AD0-DCF6A5841DD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conocimiento constitu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t. 7 C.E.: “Los sindicatos y asociaciones empresariales son organizaciones que contribuyen a la defensa y promoción de los intereses económicos y sociales que les son propi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5566-AB4B-460B-A4F0-5BBD9916D4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stitución Españ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ticulo 9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rresponde a los poderes públicos promover las condiciones para qu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libert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igual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 individuo y de los grupos en que se integra sean reales y efectiv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; remover los obstáculos que impidan o dificulten su plenitud y facilitar la participación de todos los ciudadanos en la vida política, económica, cultural y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66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470B-B9C6-4396-85EA-613C2958C50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nio OIT 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rtículo 5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do Miembro qu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atifique el presente Conveni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berá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stablecer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rocedimientos apropi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 las condiciones nacionales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ara garantizar, dentro del sistema de administración del trabajo, la consulta, la cooperación y la negociación entre las autoridades públicas y las organizaciones más representativas de empleadores y de trabajador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o -- cuando fuere apropiado -- los representantes de los empleadores y de los trabajadores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A9CE-3622-4AA8-8411-C5152A3768C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rmas estatales: ET y L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dicatos: representación de ámbito Estatal y de C.A. mediante elecciones sind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0475-4DBC-4B4B-9781-A55AE7620E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LS (Arts. 6 y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iculo 6.- Confiere a los sindicatos mayoritarios una singular posición jurídica tanto en participación institucional como de acción sind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iculo 7.- Establece el porcentaje para tener la consideración de mayor representa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84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B476-2084-4E4B-AEA3-C77E66E0A9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OBTENCION DE MAYOR REPRESENTA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TO ESTATAL: OBTENCION DEL 10 % O MAS DELEGADOS EN LAS ELECCIONES SINDI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TO CCAA: OBTENCION EN EL AMBITO EL 15 % O MAS DELEGADOS EN LAS ELECCIONES, MINIMO 1500 DELE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90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0BB9-1145-4C02-930C-40E5C1F7C5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erechos reconoc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recho a la Negociación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recho a la Participación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recho a la cesión de lo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96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610D-7FE2-412D-B276-0196174CE7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tatuto de los Trabaj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tulo II: De los derechos de representación colectiva y de reunión de los trabajadores en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pitulo I, Del derecho de representación colectiva, artículos 61 al 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pitulo II, Del derecho de reunión, artículos 77 al 8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Titulo III: de la Negociación Colectiva y de los convenios cole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apitulo I, disposiciones Generales, artículos 82 al 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apitulo II, Procedimiento, artículos 89 al 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6-12T16:09:19Z</dcterms:modified>
  <cp:revision>1</cp:revision>
  <dc:subject/>
  <dc:title>Dialogo social, representatividad de los Agentes Sociales</dc:title>
</cp:coreProperties>
</file>