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056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80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004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004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920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80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81080" cy="91764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640"/>
              <a:gd name="textAreaBottom" fmla="*/ 917280 h 917640"/>
            </a:gdLst>
            <a:ahLst/>
            <a:rect l="textAreaLeft" t="textAreaTop" r="textAreaRight" b="textAreaBottom"/>
            <a:pathLst>
              <a:path w="21600" h="109286">
                <a:moveTo>
                  <a:pt x="189" y="0"/>
                </a:moveTo>
                <a:arcTo wR="189" hR="189" stAng="16200000" swAng="-5400000"/>
                <a:lnTo>
                  <a:pt x="0" y="109097"/>
                </a:lnTo>
                <a:arcTo wR="189" hR="189" stAng="10800000" swAng="-5400000"/>
                <a:lnTo>
                  <a:pt x="21411" y="109286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nerling@usp.br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390240"/>
            <a:ext cx="8607600" cy="159372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333333"/>
                </a:solidFill>
                <a:latin typeface="Arial"/>
              </a:rPr>
              <a:t>Estado Plurinacional de Bolivia</a:t>
            </a:r>
            <a:br>
              <a:rPr sz="2200"/>
            </a:br>
            <a:r>
              <a:rPr b="1" lang="en-US" sz="2200" spc="-1" strike="noStrike">
                <a:solidFill>
                  <a:srgbClr val="333333"/>
                </a:solidFill>
                <a:latin typeface="Arial"/>
              </a:rPr>
              <a:t>Servicio de Impuestos Nacionales (SIN)</a:t>
            </a:r>
            <a:br>
              <a:rPr sz="2200"/>
            </a:br>
            <a:r>
              <a:rPr b="1" lang="pt-BR" sz="2200" spc="-1" strike="noStrike">
                <a:solidFill>
                  <a:srgbClr val="333333"/>
                </a:solidFill>
                <a:latin typeface="Arial"/>
              </a:rPr>
              <a:t>Institución coordinadora de EUROsociAL II - La Fundación Internacional y para Iberoamérica de Administración y Políticas Públicas (FIIAPP)</a:t>
            </a: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41240" y="2146320"/>
            <a:ext cx="8607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47880" bIns="0" anchor="ctr">
            <a:noAutofit/>
          </a:bodyPr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rtalecimiento de los Programas de Educació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Fiscal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ller internacional sobre estrategia de comunicación y educación fis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artir mejore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áctic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Educación Fiscal en la Unión Europea y América La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ultura tributaria, cumpliminento fiscal y ciudad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 la 'Ciudad Constitucional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a Paz, 29/07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rcelo Arno Ne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niversidade de São Pa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mnerling@usp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60012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333333"/>
                </a:solidFill>
                <a:latin typeface="Arial"/>
              </a:rPr>
              <a:t>Problema: comunicación y educación fiscal hacen cultura tirubária?</a:t>
            </a: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1240" y="2146320"/>
            <a:ext cx="8607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ipótese: Posi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ariab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) Puentes, entre la administración tributária y la administración educ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2) la gente se olvid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60012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5760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Hacer 'puente' entre el Estado y la ciudadanía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41240" y="2146320"/>
            <a:ext cx="8607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57600" bIns="0" anchor="ctr">
            <a:noAutofit/>
          </a:bodyPr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formar, para que todos conoscam; educar, para que todos pratiquem” (García, Lobo,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'Cohesión social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ciedad civil -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ivers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X Sociedad política –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dministración tribu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ssupuesto por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grama;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formas institucionales y cultu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60012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333333"/>
                </a:solidFill>
                <a:latin typeface="Arial"/>
              </a:rPr>
              <a:t>Cultura ciudadana: derechos y obligaciones</a:t>
            </a:r>
            <a:br>
              <a:rPr sz="2200"/>
            </a:br>
            <a:r>
              <a:rPr b="1" lang="pt-BR" sz="2200" spc="-1" strike="noStrike">
                <a:solidFill>
                  <a:srgbClr val="333333"/>
                </a:solidFill>
                <a:latin typeface="Arial"/>
              </a:rPr>
              <a:t>'Todos somos iguales ante la ley'</a:t>
            </a:r>
            <a:br>
              <a:rPr sz="2200"/>
            </a:br>
            <a:r>
              <a:rPr b="1" lang="pt-BR" sz="2200" spc="-1" strike="noStrike">
                <a:solidFill>
                  <a:srgbClr val="333333"/>
                </a:solidFill>
                <a:latin typeface="Arial"/>
              </a:rPr>
              <a:t>Informar y educar</a:t>
            </a: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41240" y="2146320"/>
            <a:ext cx="8607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ctr">
            <a:noAutofit/>
          </a:bodyPr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que todos conoscam y para que todos pratiqu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eparo para el ejercício de la ciudadan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odología y formato de la experiencia 'Ciudad Constitucional'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asil; Urugu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uente entre la administracion fiscal y educac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operación técnica - USP-ENAP-ESAF-RFB-EURO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60012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333333"/>
                </a:solidFill>
                <a:latin typeface="Arial"/>
              </a:rPr>
              <a:t>Práctica: Ciudad Constitucinal</a:t>
            </a: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41240" y="1989000"/>
            <a:ext cx="8607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ctr">
            <a:noAutofit/>
          </a:bodyPr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iaje de estud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urso Pregrado - Interdisciplin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04 Creditos – 60 ho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-BoldMT"/>
              </a:rPr>
              <a:t>Administración educacional (PDI, PP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-BoldMT"/>
              </a:rPr>
              <a:t>Edital; Contenido (descripción de la asignatur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-BoldMT"/>
              </a:rPr>
              <a:t>Metodología docente,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MT"/>
              </a:rPr>
              <a:t>cronograma y evalu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ocer los poderes, entes, entidades, instituciones y su cult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fraesctructura: a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ditorio, el sonido, la luz (economicidad)...espacios institucion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_tradnl" sz="2200" spc="-1" strike="noStrike" u="sng">
                <a:solidFill>
                  <a:srgbClr val="000000"/>
                </a:solidFill>
                <a:uFillTx/>
                <a:latin typeface="Arial"/>
              </a:rPr>
              <a:t>Recursos human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_tradnl" sz="2200" spc="-1" strike="noStrike" u="sng">
                <a:solidFill>
                  <a:srgbClr val="000000"/>
                </a:solidFill>
                <a:uFillTx/>
                <a:latin typeface="Arial"/>
              </a:rPr>
              <a:t>Programas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y Proyec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laniamiento del pressupuesto públ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que estudiantes del enseño superior conoscam y para que pratiquem la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ducación fiscal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– Eje estructurante de la metodolog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60012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333333"/>
                </a:solidFill>
                <a:latin typeface="Arial"/>
              </a:rPr>
              <a:t>Montevideo: La Red de Educación Fiscal – Comunicación y educación fiscal</a:t>
            </a: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41240" y="1980720"/>
            <a:ext cx="860760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idade Constitucional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etodología activa y flexibilización curricul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ducação formal superior brasileña y latinoamerica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ndragogía – enseño de adul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umen: Curso de pregrado que busca el derecho y las obligaciones en las calles y en las instituciones republicanas, más allá de las paredes del aula, los muros de la universidad, las fronteras municipales, estatales y, recientemente, internacionales (Montevideo-Uruguay, del 28/06 al 03/07/15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través de visitas de estudio de una semana profesores, monitores y estudiantes, interaccionan con servidores públicos de las diferentes instituciones del Estado, con especial énfasis en la gestión de las finanzas públicas y el ejercicio de ciudadanía, en un ambiente altamente participativ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60012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333333"/>
                </a:solidFill>
                <a:latin typeface="Arial"/>
              </a:rPr>
              <a:t>Fomentar la cultura tributária:</a:t>
            </a:r>
            <a:br>
              <a:rPr sz="2200"/>
            </a:br>
            <a:r>
              <a:rPr b="1" lang="pt-BR" sz="2200" spc="-1" strike="noStrike">
                <a:solidFill>
                  <a:srgbClr val="333333"/>
                </a:solidFill>
                <a:latin typeface="Arial"/>
              </a:rPr>
              <a:t>la gente se olvida!</a:t>
            </a: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41240" y="2146320"/>
            <a:ext cx="8607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líticas Públicas de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mejoramiento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 la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educación fiscal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alidad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l Sistema Educativo Plurinacional de Boliv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os principios fundament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 - formar al ciudadano para la vida en democraci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I - capacitarlo como agente dinámico de desarrollo y generar en él actitudes críticas y capacidades creativas que le permitan asumir con responsabilidad las tareas que el cambio en la sociedad exige de cada un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ducación continuada por toda la vi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ducación diferenciada para niños, jóvenes y adul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o se olviden: 'Los adultos aprenden practicando'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1240" y="64404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741240" y="2146320"/>
            <a:ext cx="8607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a comunicación y sus estratégias son fundamentales para mejorar la calidad y los resultados de la educación fiscal para fomentar uma cultura tributá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 universidad y la administración educacional necesita una puente permanente con la administración tribut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60012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333333"/>
                </a:solidFill>
                <a:latin typeface="Arial"/>
              </a:rPr>
              <a:t>Comunicación y educación fiscal hacen cultura tirubária?</a:t>
            </a: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41240" y="2146320"/>
            <a:ext cx="8607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ipótese Positiva requiere puentes, entre la administración tributária y la administración educacional y continuidad, porque la gente se olvid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uchas graci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celo Ne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7T14:37:56Z</dcterms:created>
  <dc:creator>Marcelo Arno Nerling</dc:creator>
  <dc:description/>
  <dc:language>en-US</dc:language>
  <cp:lastModifiedBy/>
  <cp:revision>1</cp:revision>
  <dc:subject/>
  <dc:title/>
</cp:coreProperties>
</file>