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E8C5-DB7D-4CFD-A39B-D385E0656A1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2 países, 19 institu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7A40-98C8-444C-AFCF-1067139653E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482-74DB-4DD5-8C3B-D10BB527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0D3-4389-4442-AC58-3D3ACCCC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B28-6AB9-4F9B-97A9-4C339C57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CD7-AEF6-4652-A5E0-68408A74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68F-1B06-4D0B-A896-C1883A2A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687-727E-4E3F-8460-55D3CEEB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754-D282-4452-A3C9-A50A6116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1C0-936B-469F-BF5D-8B905F8B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1BC-48E2-4E50-A659-75B35829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4CC-A0A7-447C-8CB1-051F173A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0B6-7321-4F84-8D0F-C1CA6637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437-F398-413D-B7B1-125BA94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C477-3A60-4473-9275-090692A0CF1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hyperlink" Target="http://redbancomundial.cplt.cl/index.html" TargetMode="External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rcRect l="6252" t="0" r="70934" b="0"/>
          <a:stretch/>
        </p:blipFill>
        <p:spPr>
          <a:xfrm>
            <a:off x="0" y="189000"/>
            <a:ext cx="3348000" cy="647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egoe UI Emoji"/>
                <a:ea typeface="Segoe UI Emoji"/>
              </a:rPr>
              <a:t>Red de Cooperación y Fortalecimiento Instituc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34920" y="3860280"/>
            <a:ext cx="6624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NSimSun"/>
                <a:ea typeface="NSimSun"/>
              </a:rPr>
              <a:t>La Experiencia de la Red de Transparencia y Acceso a la Información (R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6373800" y="196920"/>
            <a:ext cx="1887480" cy="833400"/>
          </a:xfrm>
          <a:prstGeom prst="rect">
            <a:avLst/>
          </a:prstGeom>
          <a:ln w="0">
            <a:noFill/>
          </a:ln>
        </p:spPr>
      </p:pic>
      <p:sp>
        <p:nvSpPr>
          <p:cNvPr id="52" name="6 CuadroTexto"/>
          <p:cNvSpPr/>
          <p:nvPr/>
        </p:nvSpPr>
        <p:spPr>
          <a:xfrm>
            <a:off x="4122720" y="6021360"/>
            <a:ext cx="433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Secretaria Ejecu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La Paz, Bolivia, julio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rcRect l="6252" t="0" r="70934" b="0"/>
          <a:stretch/>
        </p:blipFill>
        <p:spPr>
          <a:xfrm>
            <a:off x="0" y="189000"/>
            <a:ext cx="3348000" cy="647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egoe UI Emoji"/>
                <a:ea typeface="Segoe UI Emoji"/>
              </a:rPr>
              <a:t>Red de Cooperación y Fortalecimiento Reg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834920" y="3886200"/>
            <a:ext cx="662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NSimSun"/>
                <a:ea typeface="NSimSun"/>
              </a:rPr>
              <a:t>La Experiencia de la Red de Transparencia y Acceso a la Información (R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373800" y="196920"/>
            <a:ext cx="1887480" cy="833400"/>
          </a:xfrm>
          <a:prstGeom prst="rect">
            <a:avLst/>
          </a:prstGeom>
          <a:ln w="0">
            <a:noFill/>
          </a:ln>
        </p:spPr>
      </p:pic>
      <p:sp>
        <p:nvSpPr>
          <p:cNvPr id="131" name="6 CuadroTexto"/>
          <p:cNvSpPr/>
          <p:nvPr/>
        </p:nvSpPr>
        <p:spPr>
          <a:xfrm>
            <a:off x="4122720" y="6021360"/>
            <a:ext cx="433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Secretaria Ejecu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Santiago de Chile, abril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51 Rectángulo"/>
          <p:cNvSpPr/>
          <p:nvPr/>
        </p:nvSpPr>
        <p:spPr>
          <a:xfrm>
            <a:off x="826920" y="333360"/>
            <a:ext cx="8317080" cy="7192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Quienes So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2057" t="4099" r="2200" b="1371"/>
          <a:stretch/>
        </p:blipFill>
        <p:spPr>
          <a:xfrm rot="21129000">
            <a:off x="482400" y="1890720"/>
            <a:ext cx="5354640" cy="3624120"/>
          </a:xfrm>
          <a:prstGeom prst="rect">
            <a:avLst/>
          </a:prstGeom>
          <a:ln w="0">
            <a:noFill/>
          </a:ln>
        </p:spPr>
      </p:pic>
      <p:sp>
        <p:nvSpPr>
          <p:cNvPr id="56" name="44 Llamada rectangular redondeada"/>
          <p:cNvSpPr/>
          <p:nvPr/>
        </p:nvSpPr>
        <p:spPr>
          <a:xfrm>
            <a:off x="5867280" y="1542960"/>
            <a:ext cx="2592360" cy="1656000"/>
          </a:xfrm>
          <a:prstGeom prst="wedgeRoundRectCallout">
            <a:avLst>
              <a:gd name="adj1" fmla="val -54009"/>
              <a:gd name="adj2" fmla="val 84819"/>
              <a:gd name="adj3" fmla="val 16667"/>
            </a:avLst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45 Rectángulo"/>
          <p:cNvSpPr/>
          <p:nvPr/>
        </p:nvSpPr>
        <p:spPr>
          <a:xfrm>
            <a:off x="5796000" y="1916280"/>
            <a:ext cx="26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Generar un espacio permanente de </a:t>
            </a:r>
            <a:r>
              <a:rPr b="1" lang="es-CL" sz="1200" spc="-1" strike="noStrike">
                <a:solidFill>
                  <a:srgbClr val="000000"/>
                </a:solidFill>
                <a:latin typeface="Gill Sans MT Condensed"/>
              </a:rPr>
              <a:t>diálogo, cooperación</a:t>
            </a: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 e </a:t>
            </a:r>
            <a:r>
              <a:rPr b="1" lang="es-CL" sz="1200" spc="-1" strike="noStrike">
                <a:solidFill>
                  <a:srgbClr val="000000"/>
                </a:solidFill>
                <a:latin typeface="Gill Sans MT Condensed"/>
              </a:rPr>
              <a:t>intercambio</a:t>
            </a: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 de conocimientos y experiencias entre autoridades en materia de transparencia y derecho de acceso a la información púb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6 CuadroTexto"/>
          <p:cNvSpPr/>
          <p:nvPr/>
        </p:nvSpPr>
        <p:spPr>
          <a:xfrm>
            <a:off x="6372360" y="154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Segoe Script"/>
              </a:rPr>
              <a:t>M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47 Llamada rectangular redondeada"/>
          <p:cNvSpPr/>
          <p:nvPr/>
        </p:nvSpPr>
        <p:spPr>
          <a:xfrm>
            <a:off x="6135840" y="4797360"/>
            <a:ext cx="2592360" cy="1656000"/>
          </a:xfrm>
          <a:prstGeom prst="wedgeRoundRectCallout">
            <a:avLst>
              <a:gd name="adj1" fmla="val -65268"/>
              <a:gd name="adj2" fmla="val -82578"/>
              <a:gd name="adj3" fmla="val 16667"/>
            </a:avLst>
          </a:prstGeom>
          <a:noFill/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8 CuadroTexto"/>
          <p:cNvSpPr/>
          <p:nvPr/>
        </p:nvSpPr>
        <p:spPr>
          <a:xfrm>
            <a:off x="6588000" y="4780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Segoe Script"/>
              </a:rPr>
              <a:t>V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9 Rectángulo"/>
          <p:cNvSpPr/>
          <p:nvPr/>
        </p:nvSpPr>
        <p:spPr>
          <a:xfrm>
            <a:off x="6084720" y="5084640"/>
            <a:ext cx="266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Ser un </a:t>
            </a:r>
            <a:r>
              <a:rPr b="1" lang="es-CL" sz="1200" spc="-1" strike="noStrike">
                <a:solidFill>
                  <a:srgbClr val="000000"/>
                </a:solidFill>
                <a:latin typeface="Gill Sans MT Condensed"/>
              </a:rPr>
              <a:t>referente en el intercambio y aprendizaje</a:t>
            </a: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 en materia de transparencia y derecho de acceso a la información pública que contribuye a la rendición de cuentas y el fortalecimiento de la gestión púb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0 Rectángulo"/>
          <p:cNvSpPr/>
          <p:nvPr/>
        </p:nvSpPr>
        <p:spPr>
          <a:xfrm>
            <a:off x="262080" y="122544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ill Sans MT Condensed"/>
              </a:rPr>
              <a:t>Lineamientos Estratégicos, declaración realizada en II Encuentro RTA, Septiembre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3 Elipse"/>
          <p:cNvSpPr/>
          <p:nvPr/>
        </p:nvSpPr>
        <p:spPr>
          <a:xfrm>
            <a:off x="225360" y="284040"/>
            <a:ext cx="863640" cy="79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54 Imagen" descr=""/>
          <p:cNvPicPr/>
          <p:nvPr/>
        </p:nvPicPr>
        <p:blipFill>
          <a:blip r:embed="rId2"/>
          <a:srcRect l="0" t="0" r="83267" b="0"/>
          <a:stretch/>
        </p:blipFill>
        <p:spPr>
          <a:xfrm>
            <a:off x="262080" y="333360"/>
            <a:ext cx="709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3 Imagen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  <p:sp>
        <p:nvSpPr>
          <p:cNvPr id="66" name="51 Rectángulo"/>
          <p:cNvSpPr/>
          <p:nvPr/>
        </p:nvSpPr>
        <p:spPr>
          <a:xfrm>
            <a:off x="826920" y="333360"/>
            <a:ext cx="8317080" cy="7192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Quienes So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53 Elipse"/>
          <p:cNvSpPr/>
          <p:nvPr/>
        </p:nvSpPr>
        <p:spPr>
          <a:xfrm>
            <a:off x="225360" y="284040"/>
            <a:ext cx="863640" cy="79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54 Imagen" descr=""/>
          <p:cNvPicPr/>
          <p:nvPr/>
        </p:nvPicPr>
        <p:blipFill>
          <a:blip r:embed="rId2"/>
          <a:srcRect l="0" t="0" r="83267" b="0"/>
          <a:stretch/>
        </p:blipFill>
        <p:spPr>
          <a:xfrm>
            <a:off x="262080" y="333360"/>
            <a:ext cx="709560" cy="647640"/>
          </a:xfrm>
          <a:prstGeom prst="rect">
            <a:avLst/>
          </a:prstGeom>
          <a:ln w="0">
            <a:noFill/>
          </a:ln>
        </p:spPr>
      </p:pic>
      <p:sp>
        <p:nvSpPr>
          <p:cNvPr id="70" name="14 Rectángulo"/>
          <p:cNvSpPr/>
          <p:nvPr/>
        </p:nvSpPr>
        <p:spPr>
          <a:xfrm>
            <a:off x="4537080" y="1125360"/>
            <a:ext cx="4572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Argent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Gobierno de la Ciudad Autónoma de Buenos Ai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Dirección Provincial de Anticorrupción y Transparencia del Sector Público de Santa 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Bras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Contraloría General de la Un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Boliv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Ministerio para la Transparencia Institucional y Lucha contra la Corrup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Chi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Consejo para la Transpa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Secretaría de Transparencia de la Re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Procuraduría General de la N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Ecu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Defensoría del Pueb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El Salv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stituto de Acceso a la Información 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Subsecretaría de Transparencia y Anticorrup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Guatem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Comisión Presidencial de Transparencia y Gobierno Electró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stituto Procurador de Derechos Huma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Paragu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olas"/>
              </a:rPr>
              <a:t>Secretaría Nacional de Anticorrup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olas"/>
              </a:rPr>
              <a:t>Ministerio de Justicia de Paragu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nsolas"/>
              </a:rPr>
              <a:t>España</a:t>
            </a:r>
            <a:r>
              <a:rPr b="0" lang="es-MX" sz="1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olas"/>
              </a:rPr>
              <a:t>Consejo de Transpa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5 Rectángulo"/>
          <p:cNvSpPr/>
          <p:nvPr/>
        </p:nvSpPr>
        <p:spPr>
          <a:xfrm>
            <a:off x="0" y="3429000"/>
            <a:ext cx="334800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Hond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stituto de Acces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a la Inform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Méx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stituto Nacional de Acceso a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formación y Protección de Da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Per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Defensoría del Pueb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Comisión de Alto Nivel Anticorrupción de la Presidencia del Consejo de Minist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Urugu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Unidad de Acceso a la Información 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Organismos Internacion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Programa de Cooperación Regional EURO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Organización de Estados Americanos, O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nsolas"/>
              </a:rPr>
              <a:t>Banco Mun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3520" y="1162080"/>
            <a:ext cx="3930480" cy="5359320"/>
          </a:xfrm>
          <a:prstGeom prst="rect">
            <a:avLst/>
          </a:prstGeom>
          <a:ln w="0">
            <a:noFill/>
          </a:ln>
        </p:spPr>
      </p:pic>
      <p:sp>
        <p:nvSpPr>
          <p:cNvPr id="73" name="5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1f497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Punto de Part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7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6 Marcador de contenido" descr=""/>
          <p:cNvPicPr/>
          <p:nvPr/>
        </p:nvPicPr>
        <p:blipFill>
          <a:blip r:embed="rId2"/>
          <a:srcRect l="21100" t="0" r="59504" b="0"/>
          <a:stretch/>
        </p:blipFill>
        <p:spPr>
          <a:xfrm>
            <a:off x="250920" y="476280"/>
            <a:ext cx="779400" cy="620640"/>
          </a:xfrm>
          <a:prstGeom prst="rect">
            <a:avLst/>
          </a:prstGeom>
          <a:ln w="0">
            <a:noFill/>
          </a:ln>
        </p:spPr>
      </p:pic>
      <p:sp>
        <p:nvSpPr>
          <p:cNvPr id="77" name="9 Rectángulo"/>
          <p:cNvSpPr/>
          <p:nvPr/>
        </p:nvSpPr>
        <p:spPr>
          <a:xfrm>
            <a:off x="419040" y="1611360"/>
            <a:ext cx="5016600" cy="54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Diagnóstico</a:t>
            </a: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: Detección de necesidades de información, desafíos comunes, mecanismos de colaboración.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ero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Países: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 Bolivia, México, Perú, Uruguay y Ch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Temas de Interés: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Jurisprudencia, Archivos, Capacitación y Difusión e Indicado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Abril 2011, I Seminario R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ponsables por país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se asignan un tema y lo desarrollan en base a TdR. Abril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a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proyección de los temas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de interés común se discuten posteriormente en la PE RTA. Septi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Experiencia documentada en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Century Gothic"/>
                <a:hlinkClick r:id="rId3"/>
              </a:rPr>
              <a:t>http://redbancomundial.cplt.cl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 Rectángulo"/>
          <p:cNvSpPr/>
          <p:nvPr/>
        </p:nvSpPr>
        <p:spPr>
          <a:xfrm>
            <a:off x="5435640" y="4941720"/>
            <a:ext cx="187308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4"/>
          <a:stretch/>
        </p:blipFill>
        <p:spPr>
          <a:xfrm>
            <a:off x="5148360" y="6093000"/>
            <a:ext cx="26114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10640" cy="5151600"/>
          </a:xfrm>
          <a:prstGeom prst="rect">
            <a:avLst/>
          </a:prstGeom>
          <a:ln w="0">
            <a:noFill/>
          </a:ln>
        </p:spPr>
      </p:pic>
      <p:sp>
        <p:nvSpPr>
          <p:cNvPr id="81" name="6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Que hace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9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5 Imagen" descr=""/>
          <p:cNvPicPr/>
          <p:nvPr/>
        </p:nvPicPr>
        <p:blipFill>
          <a:blip r:embed="rId2"/>
          <a:srcRect l="41812" t="0" r="39973" b="0"/>
          <a:stretch/>
        </p:blipFill>
        <p:spPr>
          <a:xfrm>
            <a:off x="179280" y="476280"/>
            <a:ext cx="814320" cy="690480"/>
          </a:xfrm>
          <a:prstGeom prst="rect">
            <a:avLst/>
          </a:prstGeom>
          <a:ln w="0">
            <a:noFill/>
          </a:ln>
        </p:spPr>
      </p:pic>
      <p:sp>
        <p:nvSpPr>
          <p:cNvPr id="85" name="8 CuadroTexto"/>
          <p:cNvSpPr/>
          <p:nvPr/>
        </p:nvSpPr>
        <p:spPr>
          <a:xfrm rot="16200000">
            <a:off x="-1807920" y="3482640"/>
            <a:ext cx="46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6a6a6"/>
                </a:solidFill>
                <a:latin typeface="Century Gothic"/>
              </a:rPr>
              <a:t>FOCO EN LA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0 Rectángulo"/>
          <p:cNvSpPr/>
          <p:nvPr/>
        </p:nvSpPr>
        <p:spPr>
          <a:xfrm>
            <a:off x="3492360" y="6486480"/>
            <a:ext cx="562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ill Sans MT Condensed"/>
              </a:rPr>
              <a:t>Mapa Estratégico Ajustado en VIII Encuentro Brasilia 20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 CuadroTexto"/>
          <p:cNvSpPr/>
          <p:nvPr/>
        </p:nvSpPr>
        <p:spPr>
          <a:xfrm>
            <a:off x="1979640" y="3672000"/>
            <a:ext cx="97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Segoe Print"/>
              </a:rPr>
              <a:t>Archiv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1 CuadroTexto"/>
          <p:cNvSpPr/>
          <p:nvPr/>
        </p:nvSpPr>
        <p:spPr>
          <a:xfrm>
            <a:off x="3492360" y="36720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Segoe Print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 CuadroTexto"/>
          <p:cNvSpPr/>
          <p:nvPr/>
        </p:nvSpPr>
        <p:spPr>
          <a:xfrm>
            <a:off x="5148360" y="3672000"/>
            <a:ext cx="158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Segoe Print"/>
              </a:rPr>
              <a:t>Jurisprude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3 CuadroTexto"/>
          <p:cNvSpPr/>
          <p:nvPr/>
        </p:nvSpPr>
        <p:spPr>
          <a:xfrm>
            <a:off x="6588000" y="3673440"/>
            <a:ext cx="151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Segoe Print"/>
              </a:rPr>
              <a:t>Cap. y difus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6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Cómo funciona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9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5 Imagen" descr=""/>
          <p:cNvPicPr/>
          <p:nvPr/>
        </p:nvPicPr>
        <p:blipFill>
          <a:blip r:embed="rId1"/>
          <a:srcRect l="41812" t="0" r="39973" b="0"/>
          <a:stretch/>
        </p:blipFill>
        <p:spPr>
          <a:xfrm>
            <a:off x="179280" y="476280"/>
            <a:ext cx="814320" cy="690480"/>
          </a:xfrm>
          <a:prstGeom prst="rect">
            <a:avLst/>
          </a:prstGeom>
          <a:ln w="0">
            <a:noFill/>
          </a:ln>
        </p:spPr>
      </p:pic>
      <p:sp>
        <p:nvSpPr>
          <p:cNvPr id="95" name="8 CuadroTexto"/>
          <p:cNvSpPr/>
          <p:nvPr/>
        </p:nvSpPr>
        <p:spPr>
          <a:xfrm rot="16200000">
            <a:off x="-1852920" y="3505320"/>
            <a:ext cx="54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6a6a6"/>
                </a:solidFill>
                <a:latin typeface="Century Gothic"/>
              </a:rPr>
              <a:t>HERRAMIENTAS DE AP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 CuadroTexto"/>
          <p:cNvSpPr/>
          <p:nvPr/>
        </p:nvSpPr>
        <p:spPr>
          <a:xfrm>
            <a:off x="1476360" y="1773360"/>
            <a:ext cx="7056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Estudios de entorno y control de gestión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en base a la,</a:t>
            </a:r>
            <a:r>
              <a:rPr b="0" i="1" lang="es-ES" sz="1600" spc="-1" strike="noStrike">
                <a:solidFill>
                  <a:srgbClr val="000000"/>
                </a:solidFill>
                <a:latin typeface="Century Gothic"/>
              </a:rPr>
              <a:t> escucha activa del cliente y otras partes interesadas,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 estándares en base a la metodología BSC, y con evaluación perman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Gobierno Corporativo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: Administración de la Red a través de roles y responsabil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Encuentros Anuales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: Encuentros presenciales, a nivel de estrategia y técnicos. Discusión documentada a tabla definida y con seguimiento de acuer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Espacio Colaborativo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: Espacio online donde: (i)difusión del desempeño de la LT por países y desde la RTA; (ii) Foros de trabajo en base a las iniciativas que acompañan la estrateg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Apoyo Agencias Internacionales y Sociedad Civil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: Colaboración en base a estrategia regionales que impactan en la implementación de la política pública de transpar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25 Llamada ovalada"/>
          <p:cNvSpPr/>
          <p:nvPr/>
        </p:nvSpPr>
        <p:spPr>
          <a:xfrm>
            <a:off x="6005520" y="4749840"/>
            <a:ext cx="2808360" cy="1538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4 Llamada ovalada"/>
          <p:cNvSpPr/>
          <p:nvPr/>
        </p:nvSpPr>
        <p:spPr>
          <a:xfrm>
            <a:off x="468360" y="3675240"/>
            <a:ext cx="2808360" cy="1538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3 Llamada ovalada"/>
          <p:cNvSpPr/>
          <p:nvPr/>
        </p:nvSpPr>
        <p:spPr>
          <a:xfrm>
            <a:off x="4778280" y="2662200"/>
            <a:ext cx="2808360" cy="1538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Llamada ovalada"/>
          <p:cNvSpPr/>
          <p:nvPr/>
        </p:nvSpPr>
        <p:spPr>
          <a:xfrm>
            <a:off x="1044720" y="1319040"/>
            <a:ext cx="2808000" cy="153864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Nuestros Produc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9 Marcador de contenido" descr=""/>
          <p:cNvPicPr/>
          <p:nvPr/>
        </p:nvPicPr>
        <p:blipFill>
          <a:blip r:embed="rId1"/>
          <a:srcRect l="62151" t="0" r="19642" b="0"/>
          <a:stretch/>
        </p:blipFill>
        <p:spPr>
          <a:xfrm>
            <a:off x="144360" y="446040"/>
            <a:ext cx="827280" cy="700200"/>
          </a:xfrm>
          <a:prstGeom prst="rect">
            <a:avLst/>
          </a:prstGeom>
          <a:ln w="0">
            <a:noFill/>
          </a:ln>
        </p:spPr>
      </p:pic>
      <p:sp>
        <p:nvSpPr>
          <p:cNvPr id="105" name="10 CuadroTexto"/>
          <p:cNvSpPr/>
          <p:nvPr/>
        </p:nvSpPr>
        <p:spPr>
          <a:xfrm>
            <a:off x="250920" y="60260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entury Gothic"/>
              </a:rPr>
              <a:t>Bases de Jurisprud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 CuadroTexto"/>
          <p:cNvSpPr/>
          <p:nvPr/>
        </p:nvSpPr>
        <p:spPr>
          <a:xfrm>
            <a:off x="528480" y="1465200"/>
            <a:ext cx="50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6a6a6"/>
                </a:solidFill>
                <a:latin typeface="Century Gothic"/>
              </a:rPr>
              <a:t>Modelo de Gestión Documental y de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2 CuadroTexto"/>
          <p:cNvSpPr/>
          <p:nvPr/>
        </p:nvSpPr>
        <p:spPr>
          <a:xfrm>
            <a:off x="3851280" y="264960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NSimSun"/>
                <a:ea typeface="NSimSun"/>
              </a:rPr>
              <a:t>Cliente Ocul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NSimSun"/>
                <a:ea typeface="NSimSun"/>
              </a:rPr>
              <a:t>Evaluación de Barreras Entrada D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3 CuadroTexto"/>
          <p:cNvSpPr/>
          <p:nvPr/>
        </p:nvSpPr>
        <p:spPr>
          <a:xfrm>
            <a:off x="5722920" y="33465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Century Gothic"/>
              </a:rPr>
              <a:t>Modelo Teórico de Medición del D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4 CuadroTexto"/>
          <p:cNvSpPr/>
          <p:nvPr/>
        </p:nvSpPr>
        <p:spPr>
          <a:xfrm>
            <a:off x="1325520" y="4005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99"/>
                </a:solidFill>
                <a:latin typeface="Segoe Script"/>
              </a:rPr>
              <a:t>Concurso de Co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5 CuadroTexto"/>
          <p:cNvSpPr/>
          <p:nvPr/>
        </p:nvSpPr>
        <p:spPr>
          <a:xfrm>
            <a:off x="468360" y="2273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lan Pil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6 CuadroTexto"/>
          <p:cNvSpPr/>
          <p:nvPr/>
        </p:nvSpPr>
        <p:spPr>
          <a:xfrm>
            <a:off x="2700360" y="5622840"/>
            <a:ext cx="61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6c0a"/>
                </a:solidFill>
                <a:latin typeface="Century Gothic"/>
              </a:rPr>
              <a:t>Modelo de Financi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6c0a"/>
                </a:solidFill>
                <a:latin typeface="Century Gothic"/>
              </a:rPr>
              <a:t>de la 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7 CuadroTexto"/>
          <p:cNvSpPr/>
          <p:nvPr/>
        </p:nvSpPr>
        <p:spPr>
          <a:xfrm>
            <a:off x="1042920" y="3716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58ed5"/>
                </a:solidFill>
                <a:latin typeface="Segoe Print"/>
              </a:rPr>
              <a:t>Folletería 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8 CuadroTexto"/>
          <p:cNvSpPr/>
          <p:nvPr/>
        </p:nvSpPr>
        <p:spPr>
          <a:xfrm>
            <a:off x="4092480" y="3429000"/>
            <a:ext cx="220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Segoe Script"/>
              </a:rPr>
              <a:t>Estu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Segoe Script"/>
              </a:rPr>
              <a:t>Compromisos O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9 CuadroTexto"/>
          <p:cNvSpPr/>
          <p:nvPr/>
        </p:nvSpPr>
        <p:spPr>
          <a:xfrm>
            <a:off x="6289560" y="50450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ERRAMIENTA DIAGNO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0 CuadroTexto"/>
          <p:cNvSpPr/>
          <p:nvPr/>
        </p:nvSpPr>
        <p:spPr>
          <a:xfrm>
            <a:off x="216000" y="54133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Century Gothic"/>
              </a:rPr>
              <a:t>Semin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 Rectángulo"/>
          <p:cNvSpPr/>
          <p:nvPr/>
        </p:nvSpPr>
        <p:spPr>
          <a:xfrm>
            <a:off x="600840" y="4924440"/>
            <a:ext cx="34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Bradley Hand ITC"/>
              </a:rPr>
              <a:t>www.redrta.cplt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1 CuadroTexto"/>
          <p:cNvSpPr/>
          <p:nvPr/>
        </p:nvSpPr>
        <p:spPr>
          <a:xfrm>
            <a:off x="108000" y="4365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030a0"/>
                </a:solidFill>
                <a:latin typeface="Lucida Sans Unicode"/>
                <a:ea typeface="Lucida Sans Unicode"/>
              </a:rPr>
              <a:t>Boletín 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22 CuadroTexto"/>
          <p:cNvSpPr/>
          <p:nvPr/>
        </p:nvSpPr>
        <p:spPr>
          <a:xfrm>
            <a:off x="2790720" y="1881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entury Gothic"/>
              </a:rPr>
              <a:t>Guías de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6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Los Desafí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8 Marcador de contenido" descr=""/>
          <p:cNvPicPr/>
          <p:nvPr/>
        </p:nvPicPr>
        <p:blipFill>
          <a:blip r:embed="rId1"/>
          <a:srcRect l="83244" t="0" r="0" b="0"/>
          <a:stretch/>
        </p:blipFill>
        <p:spPr>
          <a:xfrm>
            <a:off x="179280" y="446040"/>
            <a:ext cx="762120" cy="700200"/>
          </a:xfrm>
          <a:prstGeom prst="rect">
            <a:avLst/>
          </a:prstGeom>
          <a:ln w="0">
            <a:noFill/>
          </a:ln>
        </p:spPr>
      </p:pic>
      <p:sp>
        <p:nvSpPr>
          <p:cNvPr id="123" name="9 Rectángulo"/>
          <p:cNvSpPr/>
          <p:nvPr/>
        </p:nvSpPr>
        <p:spPr>
          <a:xfrm>
            <a:off x="395280" y="1268280"/>
            <a:ext cx="79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30a0"/>
                </a:solidFill>
                <a:latin typeface="Century Gothic"/>
              </a:rPr>
              <a:t>IMPLEMENTACIÓN A NIVEL DE PILOTO DEL MODELO DE GESTIÓN DOCUMENTAL Y EL MODELO DE MEDICIÓN 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b050"/>
                </a:solidFill>
                <a:latin typeface="Century Gothic"/>
              </a:rPr>
              <a:t>Evaluación de Transparencia en Partidos Políticos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: Determinar metodologías e instrumentos de medición que aporten a la evaluación de los procesos de transparencia en los partidos políticos y su gest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b0f0"/>
                </a:solidFill>
                <a:latin typeface="Century Gothic"/>
              </a:rPr>
              <a:t>Procesos alternativos de resolución de conflictos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: Investigar, determinar y formalizar en base a la experiencia internacional buenas prácticas en materia de solución alternativa de conflictos con el objetivo de impactar en la disminución de los tiempos de tramitación de reclamos y mayor satisfacción usu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entury Gothic"/>
              </a:rPr>
              <a:t>Diplomado Regional: 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ictar un diplomado con el objetivo de formar una nueva generación de jóvenes profesionales influyentes de distintos países de la región, expertos en Transparencia y Acceso a la Información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En Sínt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4 Marcador de contenido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032360" cy="622440"/>
          </a:xfrm>
          <a:prstGeom prst="rect">
            <a:avLst/>
          </a:prstGeom>
          <a:ln w="0">
            <a:noFill/>
          </a:ln>
        </p:spPr>
      </p:pic>
      <p:sp>
        <p:nvSpPr>
          <p:cNvPr id="126" name="5 CuadroTexto"/>
          <p:cNvSpPr/>
          <p:nvPr/>
        </p:nvSpPr>
        <p:spPr>
          <a:xfrm>
            <a:off x="611280" y="1700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Una red de colaboración y aprendizaje, impacta no solo en el fortalecimiento de las capacidades institucionales, sino también en la política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a Red funciona en BASE a procesos estandarizados y herramienta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ichos procesos se soportan en una visión estratégica y en la implementación de un rol oper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os organismos internacionales y la sociedad civil son aliados estratég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2:33:30Z</dcterms:created>
  <dc:creator>María José Méndez Hernandez</dc:creator>
  <dc:description/>
  <dc:language>en-US</dc:language>
  <cp:lastModifiedBy>Gabriel Delpiazzo</cp:lastModifiedBy>
  <cp:lastPrinted>2015-04-20T12:16:11Z</cp:lastPrinted>
  <dcterms:modified xsi:type="dcterms:W3CDTF">2015-07-25T14:02:13Z</dcterms:modified>
  <cp:revision>33</cp:revision>
  <dc:subject/>
  <dc:title>Plataforma de Cooperación y Fortalecimiento Regional</dc:title>
</cp:coreProperties>
</file>