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5439B-DB96-47B7-A6A0-7C90418CD5F3}" type="slidenum">
              <a: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63720" y="636480"/>
            <a:ext cx="4225680" cy="3170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qui é o momento de falar do apoio do Eurosocial para a implementação dos NAF, com o apoio técnico da Receita Federal, em diversos países da América Latina. Bolívia, Brasil, Chile, Costa Rica, Equador, El Salvador, Guatemala, Honduras, Méx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razón del desarrollo de los NAF en Brasil, fue comprehendida la necesidad de adoptarse una estandariz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0" algn="just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finalidad de la estandarización es la disponibilización de informaciones y documentos (modelos) que subsidien las unidades de la Receita Federal, desde la prospección de las Instituciones de Enseñanza Superior interesadas en la creación de los NAF hasta la apertura y manutención en funcionamiento de los Núcl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ursos Logístic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A RFB não aporta recursos financeiros, todavía sugere modelo estrutura física dos NAF, establece previsão custos de deslocamentos dos servidores com diárias e passagens, sugestão de destinação preferencial de mercadorias apreendidas em razão das atividades de educação fisca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trutura de Pesso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Quantitativo de servidores, perfil dos servidores, grau de dedicação (preocupação dos gestores regionais sobre quantos servidores e qual o tempo disponibilizado para a atividade, necessidade de planejamento para eventual expansão dos NA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trizes de Relacionamento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o envolver outros órgãos, por exemplo, CFC (isto decorreu de preocupações das Universidades sobre eventual conflito com os contadores), Sefaz, Sefin (experiencia da UNIFOR), Sebrae (responsável pelos MEI). Estabelece-se também 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uxo de aproximacao com as IES (como abordar as 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o básico de formação dos alunos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 a ampliação dos NAF no Brasil, foi necesario formatar uma formação (técnica e valores) para os alunos, preferencialmente de forma não presencial. Oferecimento do curso cidadania fiscal e plataforma de treinamento cubo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entidade Vis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Havia o questionamento reiterado sobre a utilização do logo da RFB no material de divulgacao dos NAF realizado pelas 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etada de dad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necessidade de aprimoramento dos registros tais como (dados dos NAF, dos profesores, dos alunos, do atendimento realizado, da satisfacao do usuario e da fomacao do aluno no que se refere à cultura fis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os padrão – acordo de cooperacao, oficio, palestra padrão, regulamento interno dos NAF, folhetos orientativ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CE9-8671-48F3-BD76-B7541FBA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8BD-2F08-4390-9F01-DD366C7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500-5D05-45F1-A106-E76EC648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90D-C3F7-4F22-B331-158AE2AC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578-56DB-445F-906A-8809B49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0CE-573D-4745-88D1-D0337357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2EE-8DA9-41B1-83D1-2178B4D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FD5-D30A-490C-BE06-41D1354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9988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424-21A9-408E-B564-B7286F4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9A5-A451-4879-B71D-35069BE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A29-15BB-4E76-BAE4-51234E6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0A6-AA0D-40E8-BA4D-42304120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9F6CC-FBBF-410C-8D67-5C8173FE0B2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853920"/>
            <a:ext cx="10061640" cy="670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2998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Taller Internacional de Educación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m 4" descr=""/>
          <p:cNvPicPr/>
          <p:nvPr/>
        </p:nvPicPr>
        <p:blipFill>
          <a:blip r:embed="rId1"/>
          <a:stretch/>
        </p:blipFill>
        <p:spPr>
          <a:xfrm>
            <a:off x="1727280" y="1979640"/>
            <a:ext cx="6351480" cy="3965400"/>
          </a:xfrm>
          <a:prstGeom prst="rect">
            <a:avLst/>
          </a:prstGeom>
          <a:ln w="0">
            <a:noFill/>
          </a:ln>
        </p:spPr>
      </p:pic>
      <p:pic>
        <p:nvPicPr>
          <p:cNvPr id="51" name="Imagem 5" descr=""/>
          <p:cNvPicPr/>
          <p:nvPr/>
        </p:nvPicPr>
        <p:blipFill>
          <a:blip r:embed="rId2"/>
          <a:stretch/>
        </p:blipFill>
        <p:spPr>
          <a:xfrm>
            <a:off x="6261120" y="5448240"/>
            <a:ext cx="3313080" cy="87012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-17640" y="6156360"/>
            <a:ext cx="60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La Paz (Bolivia), 27 – 31 de jul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503280" y="9586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Arial"/>
              </a:rPr>
              <a:t>International Tax Education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4"/>
          <p:cNvSpPr/>
          <p:nvPr/>
        </p:nvSpPr>
        <p:spPr>
          <a:xfrm>
            <a:off x="792000" y="179280"/>
            <a:ext cx="7056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incip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Benefic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2735280" y="611280"/>
            <a:ext cx="705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AF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y bene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de cantos arredondados 5"/>
          <p:cNvSpPr/>
          <p:nvPr/>
        </p:nvSpPr>
        <p:spPr>
          <a:xfrm>
            <a:off x="457200" y="1619280"/>
            <a:ext cx="2854440" cy="115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Soc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de cantos arredondados 13"/>
          <p:cNvSpPr/>
          <p:nvPr/>
        </p:nvSpPr>
        <p:spPr>
          <a:xfrm>
            <a:off x="457200" y="298764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Estu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de cantos arredondados 14"/>
          <p:cNvSpPr/>
          <p:nvPr/>
        </p:nvSpPr>
        <p:spPr>
          <a:xfrm>
            <a:off x="457200" y="435132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de cantos arredondados 15"/>
          <p:cNvSpPr/>
          <p:nvPr/>
        </p:nvSpPr>
        <p:spPr>
          <a:xfrm>
            <a:off x="457200" y="5724360"/>
            <a:ext cx="2854440" cy="115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Adm. Tribu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Tax Admin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16"/>
          <p:cNvSpPr/>
          <p:nvPr/>
        </p:nvSpPr>
        <p:spPr>
          <a:xfrm>
            <a:off x="3402000" y="1857240"/>
            <a:ext cx="5942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sistencia contábile y fiscal gratu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Free tax and accounting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18"/>
          <p:cNvSpPr/>
          <p:nvPr/>
        </p:nvSpPr>
        <p:spPr>
          <a:xfrm>
            <a:off x="3402000" y="3008160"/>
            <a:ext cx="6389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a de la formación técnica y la cultura fi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rov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echni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rain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9"/>
          <p:cNvSpPr/>
          <p:nvPr/>
        </p:nvSpPr>
        <p:spPr>
          <a:xfrm>
            <a:off x="3402000" y="457668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cciones de impacto social (integr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So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ac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ctio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(integr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20"/>
          <p:cNvSpPr/>
          <p:nvPr/>
        </p:nvSpPr>
        <p:spPr>
          <a:xfrm>
            <a:off x="3402000" y="591516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sarrollo de la Moral Fis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 mora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4360" y="1332000"/>
            <a:ext cx="3624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Arial"/>
                <a:ea typeface="SimSun"/>
              </a:rPr>
              <a:t>¿Dónde Esta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3873600"/>
            <a:ext cx="3913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i="1" lang="pt-BR" sz="4800" spc="-1" strike="noStrike">
                <a:solidFill>
                  <a:srgbClr val="ff0000"/>
                </a:solidFill>
                <a:latin typeface="Arial"/>
                <a:ea typeface="SimSun"/>
              </a:rPr>
              <a:t>Where are w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3456000" y="54000"/>
            <a:ext cx="6508800" cy="72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0" y="34920"/>
            <a:ext cx="9793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Arial"/>
                <a:ea typeface="SimSun"/>
              </a:rPr>
              <a:t>Evolución de los NAF en Bras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7"/>
          <p:cNvSpPr/>
          <p:nvPr/>
        </p:nvSpPr>
        <p:spPr>
          <a:xfrm>
            <a:off x="1871640" y="790560"/>
            <a:ext cx="8137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Arial"/>
                <a:ea typeface="SimSun"/>
              </a:rPr>
              <a:t>Evolution of NAF in Braz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8" descr=""/>
          <p:cNvPicPr/>
          <p:nvPr/>
        </p:nvPicPr>
        <p:blipFill>
          <a:blip r:embed="rId1"/>
          <a:stretch/>
        </p:blipFill>
        <p:spPr>
          <a:xfrm>
            <a:off x="647640" y="1835280"/>
            <a:ext cx="89251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1"/>
          <p:cNvSpPr/>
          <p:nvPr/>
        </p:nvSpPr>
        <p:spPr>
          <a:xfrm>
            <a:off x="216000" y="179280"/>
            <a:ext cx="41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Estanda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"/>
          <p:cNvSpPr/>
          <p:nvPr/>
        </p:nvSpPr>
        <p:spPr>
          <a:xfrm>
            <a:off x="144360" y="2266920"/>
            <a:ext cx="468000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Arial"/>
                <a:ea typeface="SimSun"/>
              </a:rPr>
              <a:t>Expansión de los NAF por el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nformación uniforme para los representa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Necesidad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iesgo para la image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5832360" y="581040"/>
            <a:ext cx="41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327640" y="2266920"/>
            <a:ext cx="4537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  <a:ea typeface="SimSun"/>
              </a:rPr>
              <a:t>Expansion of NAF trough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quable information for the local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Need f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put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71280" y="250920"/>
            <a:ext cx="7201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¿Qué estamos estandarizan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2"/>
          <p:cNvSpPr/>
          <p:nvPr/>
        </p:nvSpPr>
        <p:spPr>
          <a:xfrm>
            <a:off x="216000" y="1619280"/>
            <a:ext cx="9577440" cy="53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ecursos Log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Logist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structura de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erso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irectrices de Rela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lationship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Plan básico de formación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Basic plan for training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dentidad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Visu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Colet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Data 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ocumentos estand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atterned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2664000" y="755640"/>
            <a:ext cx="7345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What we are standardiz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71280" y="34920"/>
            <a:ext cx="540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Próximos pa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3"/>
          <p:cNvSpPr/>
          <p:nvPr/>
        </p:nvSpPr>
        <p:spPr>
          <a:xfrm>
            <a:off x="71280" y="4211640"/>
            <a:ext cx="986472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onsolidación de la Red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NAF’s network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Standard en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etting reg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Mecanismos comunes de evaluación de los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Definition of common evaluation mechanisms for the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4"/>
          <p:cNvSpPr/>
          <p:nvPr/>
        </p:nvSpPr>
        <p:spPr>
          <a:xfrm>
            <a:off x="4392720" y="108000"/>
            <a:ext cx="55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2"/>
          <p:cNvSpPr/>
          <p:nvPr/>
        </p:nvSpPr>
        <p:spPr>
          <a:xfrm>
            <a:off x="71280" y="863640"/>
            <a:ext cx="9864720" cy="28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Implementar el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implement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Ampliar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expand nation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rear iniciativas para estim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create iniciatives to stim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3303720" y="533520"/>
            <a:ext cx="340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Brasil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1835280" y="3925800"/>
            <a:ext cx="633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América Latina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4"/>
          <p:cNvSpPr/>
          <p:nvPr/>
        </p:nvSpPr>
        <p:spPr>
          <a:xfrm>
            <a:off x="-431640" y="325440"/>
            <a:ext cx="6335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6"/>
          <p:cNvSpPr/>
          <p:nvPr/>
        </p:nvSpPr>
        <p:spPr>
          <a:xfrm>
            <a:off x="216000" y="5435640"/>
            <a:ext cx="957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ão Mauríci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Coordinador-General de Asistencia al contribuyente y Educación Fis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Secretaria da Receita Federal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ao.vital@rfb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newsrondonia.com.br/imagensNoticias/image/rf01(4).jpg"/>
          <p:cNvPicPr/>
          <p:nvPr/>
        </p:nvPicPr>
        <p:blipFill>
          <a:blip r:embed="rId1"/>
          <a:stretch/>
        </p:blipFill>
        <p:spPr>
          <a:xfrm>
            <a:off x="3086280" y="1979640"/>
            <a:ext cx="4066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7:13:29Z</dcterms:created>
  <dc:creator>Joao Mauricio Vital</dc:creator>
  <dc:description/>
  <dc:language>en-US</dc:language>
  <cp:lastModifiedBy>Joao Mauricio Vital</cp:lastModifiedBy>
  <cp:lastPrinted>2015-07-24T21:58:46Z</cp:lastPrinted>
  <dcterms:modified xsi:type="dcterms:W3CDTF">2015-07-24T22:01:53Z</dcterms:modified>
  <cp:revision>41</cp:revision>
  <dc:subject/>
  <dc:title>Apresentação do PowerPoint</dc:title>
</cp:coreProperties>
</file>