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6FF825-51A4-492B-B461-2CE3B56D3A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3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B07967-8908-4165-807F-8066B51F1B52}" type="slidenum">
              <a:rPr b="0" lang="en-US" sz="1200" spc="-1" strike="noStrike">
                <a:solidFill>
                  <a:srgbClr val="0000a2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7B5960-ABD1-426E-B352-A48A8B8DE1D7}" type="slidenum">
              <a:rPr b="0" lang="en-US" sz="1200" spc="-1" strike="noStrike">
                <a:solidFill>
                  <a:srgbClr val="0000a2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consciencia so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ol instituc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ndición periódica; calidad del ga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e"/>
                  </a:gs>
                  <a:gs pos="100000">
                    <a:srgbClr val="00002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e"/>
                  </a:gs>
                  <a:gs pos="100000">
                    <a:srgbClr val="00002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6"/>
                  </a:gs>
                  <a:gs pos="100000">
                    <a:srgbClr val="00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8"/>
                  </a:gs>
                  <a:gs pos="100000">
                    <a:srgbClr val="0000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27"/>
                </a:gs>
                <a:gs pos="100000">
                  <a:srgbClr val="000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a2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a2"/>
                </a:solidFill>
                <a:latin typeface="Arial"/>
              </a:endParaRPr>
            </a:p>
          </p:txBody>
        </p:sp>
      </p:grpSp>
      <p:pic>
        <p:nvPicPr>
          <p:cNvPr id="9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" descr=""/>
          <p:cNvPicPr/>
          <p:nvPr/>
        </p:nvPicPr>
        <p:blipFill>
          <a:blip r:embed="rId3"/>
          <a:stretch/>
        </p:blipFill>
        <p:spPr>
          <a:xfrm>
            <a:off x="1911240" y="17640"/>
            <a:ext cx="863640" cy="88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  <p:pic>
        <p:nvPicPr>
          <p:cNvPr id="11" name="Picture 4" descr=""/>
          <p:cNvPicPr/>
          <p:nvPr/>
        </p:nvPicPr>
        <p:blipFill>
          <a:blip r:embed="rId4"/>
          <a:stretch/>
        </p:blipFill>
        <p:spPr>
          <a:xfrm>
            <a:off x="2843280" y="1440"/>
            <a:ext cx="2423880" cy="925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  <p:pic>
        <p:nvPicPr>
          <p:cNvPr id="12" name="Picture 5" descr=""/>
          <p:cNvPicPr/>
          <p:nvPr/>
        </p:nvPicPr>
        <p:blipFill>
          <a:blip r:embed="rId5"/>
          <a:stretch/>
        </p:blipFill>
        <p:spPr>
          <a:xfrm>
            <a:off x="5375160" y="0"/>
            <a:ext cx="1424160" cy="917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  <p:pic>
        <p:nvPicPr>
          <p:cNvPr id="13" name="Picture 6" descr=""/>
          <p:cNvPicPr/>
          <p:nvPr/>
        </p:nvPicPr>
        <p:blipFill>
          <a:blip r:embed="rId6"/>
          <a:stretch/>
        </p:blipFill>
        <p:spPr>
          <a:xfrm>
            <a:off x="6912000" y="0"/>
            <a:ext cx="944640" cy="93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fatimac@iadb.org" TargetMode="External"/><Relationship Id="rId2" Type="http://schemas.openxmlformats.org/officeDocument/2006/relationships/hyperlink" Target="http://www.iadb.org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5"/>
          <p:cNvGraphicFramePr/>
          <p:nvPr/>
        </p:nvGraphicFramePr>
        <p:xfrm>
          <a:off x="1523880" y="3581280"/>
          <a:ext cx="19051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1905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3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522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0" y="3581280"/>
          <a:ext cx="15336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81280"/>
                    <a:ext cx="1533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6"/>
          <p:cNvGraphicFramePr/>
          <p:nvPr/>
        </p:nvGraphicFramePr>
        <p:xfrm>
          <a:off x="3429000" y="3581280"/>
          <a:ext cx="16765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81280"/>
                    <a:ext cx="1676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Object 8" descr=""/>
          <p:cNvPicPr/>
          <p:nvPr/>
        </p:nvPicPr>
        <p:blipFill>
          <a:blip r:embed="rId7"/>
          <a:stretch/>
        </p:blipFill>
        <p:spPr>
          <a:xfrm>
            <a:off x="5105520" y="3581280"/>
            <a:ext cx="2057400" cy="9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9"/>
          <p:cNvGraphicFramePr/>
          <p:nvPr/>
        </p:nvGraphicFramePr>
        <p:xfrm>
          <a:off x="7162920" y="3581280"/>
          <a:ext cx="1981080" cy="94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3581280"/>
                    <a:ext cx="1981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Line 10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1522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0" y="4495680"/>
            <a:ext cx="9144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Apresentação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Fátima Cartaxo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Arial Unicode MS"/>
              </a:rPr>
              <a:t>Brasília-DF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Arial Unicode MS"/>
              </a:rPr>
              <a:t>18 de abril de 2013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0" y="1341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NCONTRO INTERNACIONAL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E INTERCÂMBIO TÉCNICO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 EDUCAÇÃO FISCAL </a:t>
            </a:r>
            <a:r>
              <a:rPr b="1" lang="pt-BR" sz="36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Arial"/>
              </a:rPr>
              <a:t>V - COOPERAÇÃO FISCAL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c000"/>
                </a:solidFill>
                <a:latin typeface="Arial"/>
              </a:rPr>
              <a:t>►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Arial"/>
              </a:rPr>
              <a:t>Novos paradigmas para as administrações fiscais: do crime para a cooperação e a confiança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e2f4ff"/>
                </a:solidFill>
                <a:latin typeface="Arial"/>
                <a:ea typeface="Arial"/>
              </a:rPr>
              <a:t>Maior atenção ao contribuinte com oferta de melhores serviços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Arial"/>
              </a:rPr>
              <a:t>Transparência e interlocução com a sociedade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e2f4ff"/>
                </a:solidFill>
                <a:latin typeface="Arial"/>
                <a:ea typeface="Arial"/>
              </a:rPr>
              <a:t>Melhoria do ambiente de negócios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Arial"/>
              </a:rPr>
              <a:t>Fortalecimento da cidadania fiscal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81" name="Retângulo 3"/>
          <p:cNvSpPr/>
          <p:nvPr/>
        </p:nvSpPr>
        <p:spPr>
          <a:xfrm>
            <a:off x="4286520" y="31989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981000"/>
            <a:ext cx="9144000" cy="78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3200" spc="-1" strike="noStrike">
                <a:solidFill>
                  <a:srgbClr val="ffc000"/>
                </a:solidFill>
                <a:latin typeface="Tahoma"/>
              </a:rPr>
              <a:t>VI –  COOPERAÇÃO E CONFIANÇA 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Tahoma"/>
              </a:rPr>
              <a:t>“</a:t>
            </a:r>
            <a:r>
              <a:rPr b="1" i="1" lang="es-BO" sz="2800" spc="-1" strike="noStrike">
                <a:solidFill>
                  <a:srgbClr val="ffc000"/>
                </a:solidFill>
                <a:latin typeface="Tahoma"/>
              </a:rPr>
              <a:t>A confiança é um processo em construção”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Necessidade de implementação de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mecanismos que: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●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fortaleçam o relacionamento entre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atores públicos e privados;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●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assegurem “accountability”;</a:t>
            </a:r>
            <a:r>
              <a:rPr b="1" i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●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forneçam mais transparência às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instituições pública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0" y="836640"/>
            <a:ext cx="9144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EDUCAÇÃO FISCAL COMO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REQUISITO PARA O PLENO EXERCÍCIO DA CIDADANIA E DO CONTROLE SOCIAL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0" y="1197000"/>
            <a:ext cx="9144000" cy="82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VII - CIDADANIA FISCAL </a:t>
            </a:r>
            <a:r>
              <a:rPr b="1" lang="es-ES_tradnl" sz="1600" spc="-1" strike="noStrike">
                <a:solidFill>
                  <a:srgbClr val="ffc000"/>
                </a:solidFill>
                <a:latin typeface="Tahoma"/>
                <a:ea typeface="Times New Roman"/>
              </a:rPr>
              <a:t>(1)</a:t>
            </a: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O cidadão tem que ser capaz de compreender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o funcionamento do sistema tributário e ter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acesso as informações fiscais, para poder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participar e exercer o controle social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para tal, necessita-se de </a:t>
            </a:r>
            <a:r>
              <a:rPr b="1" i="1" lang="es-BO" sz="2800" spc="-1" strike="noStrike">
                <a:solidFill>
                  <a:srgbClr val="00ffcc"/>
                </a:solidFill>
                <a:latin typeface="Arial"/>
              </a:rPr>
              <a:t>accountability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e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transparênc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eficiência e legitimidade das administrações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fiscais estimulam o cujprimento voluntário e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fortalecem o relacionamento entre o Fisco e o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Contribuinte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1628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2f4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buClr>
                <a:srgbClr val="e2f4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Relacionamento com as AT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557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EDUCAÇÃO PARA A CIDADANIA FISCAL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ATENDIMENTO/SERVIÇOS  AOS CONTRIBUINTE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PROTEÇÃO DOS DIREITOS PESSOAIS  E COLETIVOS  -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APEL DOS CONTENCIOSO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755640" y="1125360"/>
            <a:ext cx="7956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VII - CIDADANIA  FISCAL </a:t>
            </a:r>
            <a:r>
              <a:rPr b="1" lang="pt-BR" sz="1600" spc="-1" strike="noStrike">
                <a:solidFill>
                  <a:srgbClr val="ffc000"/>
                </a:solidFill>
                <a:latin typeface="Tahoma"/>
              </a:rPr>
              <a:t>(2)</a:t>
            </a: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81000"/>
            <a:ext cx="9144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VIII–RELAÇÃO  DO FISCO COM O CIDADÃO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000"/>
                </a:solidFill>
                <a:latin typeface="Tahoma"/>
              </a:rPr>
              <a:t>(1)</a:t>
            </a:r>
            <a:r>
              <a:rPr b="1" lang="pt-BR" sz="2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7650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00ffcc"/>
                </a:solidFill>
                <a:latin typeface="Tahoma"/>
                <a:ea typeface="Arial"/>
              </a:rPr>
              <a:t>Tensão e antagonism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 </a:t>
            </a: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Litigiosidade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00ffcc"/>
                </a:solidFill>
                <a:latin typeface="Tahoma"/>
                <a:ea typeface="Arial"/>
              </a:rPr>
              <a:t>Baixa  cooperaçã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Pouco transparênc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0" name="Seta para a direita 3"/>
          <p:cNvSpPr/>
          <p:nvPr/>
        </p:nvSpPr>
        <p:spPr>
          <a:xfrm>
            <a:off x="826920" y="3716280"/>
            <a:ext cx="503280" cy="289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1" name="Seta para a direita 4"/>
          <p:cNvSpPr/>
          <p:nvPr/>
        </p:nvSpPr>
        <p:spPr>
          <a:xfrm>
            <a:off x="828720" y="2779560"/>
            <a:ext cx="503280" cy="289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2" name="Seta para a direita 5"/>
          <p:cNvSpPr/>
          <p:nvPr/>
        </p:nvSpPr>
        <p:spPr>
          <a:xfrm>
            <a:off x="755640" y="5372280"/>
            <a:ext cx="503280" cy="28872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3" name="Seta para a direita 6"/>
          <p:cNvSpPr/>
          <p:nvPr/>
        </p:nvSpPr>
        <p:spPr>
          <a:xfrm>
            <a:off x="755640" y="4508640"/>
            <a:ext cx="503280" cy="28872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7650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e2f4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e2f4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Tahoma"/>
              </a:rPr>
              <a:t>Pilares do Cumprimento Voluntário: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Tahoma"/>
                <a:ea typeface="Arial"/>
              </a:rPr>
              <a:t>Consciência Fiscal, Cultura Cidadã , Risco Subjetiv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0" y="692280"/>
            <a:ext cx="89647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VIII–RELAÇÃO DO FISCO COM O CIDADÃO</a:t>
            </a: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c000"/>
                </a:solidFill>
                <a:latin typeface="Arial"/>
              </a:rPr>
              <a:t>(2) </a:t>
            </a: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0" y="836640"/>
            <a:ext cx="9144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FORTALECENDO A CIDADANIA E REDUZINDO A LITIGIOSIDADE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2286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a- Compreensão pelo cidadão do papel do Estado, seus mecanismos de financiamento e o desempenho das funções pública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80880" y="4343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b- Entendimento da função sócio-econômica do tributo e dos procedimentos fiscais de combate às desigualdades sociai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328464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d-  Relação harmoniosa e cooperativa entre o cidadão e o Estad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e- Proteção dos direitos individuais (do cidadão) e coletivos (da sociedade</a:t>
            </a:r>
            <a:r>
              <a:rPr b="1" i="1" lang="pt-BR" sz="2800" spc="-1" strike="noStrike">
                <a:solidFill>
                  <a:srgbClr val="00ffcc"/>
                </a:solidFill>
                <a:latin typeface="Tahoma"/>
              </a:rPr>
              <a:t>)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8446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c- Explicitação dos critérios jurídicos interpretativos da legislação tributár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1295280"/>
            <a:ext cx="9144000" cy="33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 algn="ctr">
              <a:lnSpc>
                <a:spcPct val="85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250920" y="1052640"/>
            <a:ext cx="8893080" cy="9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cc"/>
                </a:solidFill>
                <a:latin typeface="Tahoma"/>
                <a:ea typeface="Times New Roman"/>
              </a:rPr>
              <a:t>TEMA: 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ffcc"/>
                </a:solidFill>
                <a:latin typeface="Tahoma"/>
                <a:ea typeface="Times New Roman"/>
              </a:rPr>
              <a:t>“</a:t>
            </a:r>
            <a:r>
              <a:rPr b="1" lang="pt-BR" sz="3000" spc="-1" strike="noStrike">
                <a:solidFill>
                  <a:srgbClr val="00ffcc"/>
                </a:solidFill>
                <a:latin typeface="Tahoma"/>
                <a:ea typeface="Times New Roman"/>
              </a:rPr>
              <a:t>Programas de fomento à gestão fiscal de estados e municípios – PROFISCO e PNAFM” 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2"/>
                </a:solidFill>
                <a:latin typeface="Arial"/>
              </a:rPr>
              <a:t>	</a:t>
            </a: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Tahoma"/>
                <a:ea typeface="Times New Roman"/>
              </a:rPr>
              <a:t>Painel VIII  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Tahoma"/>
                <a:ea typeface="Times New Roman"/>
              </a:rPr>
              <a:t>“</a:t>
            </a:r>
            <a:r>
              <a:rPr b="1" lang="pt-BR" sz="3000" spc="-1" strike="noStrike">
                <a:solidFill>
                  <a:srgbClr val="ffc000"/>
                </a:solidFill>
                <a:latin typeface="Tahoma"/>
                <a:ea typeface="Times New Roman"/>
              </a:rPr>
              <a:t>A Educação Fiscal nas instituições gestoras estaduais e municipais”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2"/>
                </a:solidFill>
                <a:latin typeface="Arial"/>
              </a:rPr>
              <a:t>BU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3886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g- Combate às práticas nocivas na gestão pública: corrupção, malversação de recursos, sonegação, competição fiscal predatória, etc.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1523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Tahoma"/>
              </a:rPr>
              <a:t>f</a:t>
            </a: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- Controle social da boa aplicação dos recursos públicos, com vistas à eficiência e qualidade do gast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0" y="836640"/>
            <a:ext cx="9144000" cy="10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IX - PRINCIPAIS LIÇÕES APRENDIDAS 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A falta de confiança como obstáculo à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consolidação da democracia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Administrações Tributárias que atuam de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modo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mais cooperativo são mais eficientes e legítimas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Relevância dos instrumentos  para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promover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a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cooperação entre Fiscos e entre o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Fisco e a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Sociedade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A educação fiscal como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instrumento para a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promoção da cidadania  e redução da litigiosidade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903920" y="2527200"/>
            <a:ext cx="360" cy="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903920" y="2641680"/>
            <a:ext cx="360" cy="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90792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APRESENTAÇÃO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Fátima Cartaxo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Especialista Sênior  em Gestão Fiscal e Municipal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BID – Banco Interamericano de Desenvolvimento</a:t>
            </a: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S.E.N. Quadra 802 Conjunto F lote 39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CEP: 70.800-400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Brasil  - Brasília – DF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  <a:ea typeface="Arial"/>
              </a:rPr>
              <a:t>Telefones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ecff"/>
                </a:solidFill>
                <a:latin typeface="Arial"/>
                <a:ea typeface="Arial"/>
              </a:rPr>
              <a:t>(</a:t>
            </a: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61) 3317- 4284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Fax: (61) 3321-3112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E-Mail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-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fatimac@iadb.org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Home Page -</a:t>
            </a:r>
            <a:r>
              <a:rPr b="1" lang="pt-BR" sz="2000" spc="-1" strike="noStrike">
                <a:solidFill>
                  <a:srgbClr val="0000a2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6600ff"/>
                </a:solidFill>
                <a:uFillTx/>
                <a:latin typeface="Arial"/>
                <a:hlinkClick r:id="rId2"/>
              </a:rPr>
              <a:t>http://www.iadb.org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oto"/>
          <p:cNvPicPr/>
          <p:nvPr/>
        </p:nvPicPr>
        <p:blipFill>
          <a:blip r:embed="rId1"/>
          <a:stretch/>
        </p:blipFill>
        <p:spPr>
          <a:xfrm>
            <a:off x="990720" y="3276720"/>
            <a:ext cx="7391160" cy="3190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80880" y="14479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Banco Interamericano de Desenvolvimento - BID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Representação no Brasil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0" y="83664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EDUCAÇÃO FISCAL COMO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INSTRUMENTO PARA O DESENVOLVIMENTO E A DEMOCRACIA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0" y="981000"/>
            <a:ext cx="9144000" cy="9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I- TRIBUTAÇÃO E DESENVOLVIMENTO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►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inanciamento das funções públicas  -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ferta de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ços  aos cidadão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► 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Função social e redistributiva do tribut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Redução das desigualdades e 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disparidades verticais e horizontai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►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Melhoria da qualidade de vida e do 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ambiente de negócio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0" y="981000"/>
            <a:ext cx="9144000" cy="10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Arial"/>
              </a:rPr>
              <a:t>II – TRIBUTAÇÃO E DEMOCRACIA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Transparência das administrações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fiscai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Cooperação e interlocução com a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sociedade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Controle da gestão fazendár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►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Exercício da cidadania fiscal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0" y="836640"/>
            <a:ext cx="914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O PAPEL DA EDUCAÇÃO FISCAL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PARA UMA MAIOR EFETIVIDADE DAS ADMINISTRAÇÕES FAZENDÁRIAS SUBNACIONAIS: ESTADOS E MUNICÍPIOS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90792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a2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III - EFETIVIDADE DAS ADMINISTRAÇÕES TRIBUTÁRIAS</a:t>
            </a:r>
            <a:r>
              <a:rPr b="0" lang="en-US" sz="3200" spc="-1" strike="noStrike">
                <a:solidFill>
                  <a:srgbClr val="e2f4ff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e2f4ff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2f4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Tahoma"/>
              </a:rPr>
              <a:t>►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REALIZAÇÃO DA ARRECADAÇÃOPOTENCIAL 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DUÇÃO DA LITIGIOSIDADE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Tahoma"/>
              </a:rPr>
              <a:t>►</a:t>
            </a:r>
            <a:r>
              <a:rPr b="1" lang="en-US" sz="28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BASE ECONÔMICA – MELHORIA DO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     AMBIENTE DE NEGÓCIOS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►</a:t>
            </a:r>
            <a:r>
              <a:rPr b="1" lang="es-BO" sz="2400" spc="-1" strike="noStrike">
                <a:solidFill>
                  <a:srgbClr val="ffffff"/>
                </a:solidFill>
                <a:latin typeface="Tahoma"/>
              </a:rPr>
              <a:t>FORTALECIMENTO DA INSTITUCIONALIDADE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600" spc="-1" strike="noStrike">
                <a:solidFill>
                  <a:srgbClr val="00ffcc"/>
                </a:solidFill>
                <a:latin typeface="Tahoma"/>
              </a:rPr>
              <a:t> ►</a:t>
            </a:r>
            <a:r>
              <a:rPr b="1" lang="en-US" sz="26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GESTÃO DE RISCO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33336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IV – PRINCIPAIS ASPECTOS ENVOLVIDOS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765000"/>
            <a:ext cx="9144000" cy="78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Eficiência e efetividade das Administrações  Tributárias: </a:t>
            </a:r>
            <a:r>
              <a:rPr b="1" i="1" lang="pt-BR" sz="2400" spc="-1" strike="noStrike">
                <a:solidFill>
                  <a:srgbClr val="e2f4ff"/>
                </a:solidFill>
                <a:latin typeface="Arial"/>
                <a:ea typeface="Arial"/>
              </a:rPr>
              <a:t>prover os recursos necessários para a execução das políticas públicas e  promoção da justiça fiscal.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Cumprimento voluntário das obrigações tributárias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Cobrança coativa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Mitigação de riscos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0" y="836640"/>
            <a:ext cx="9144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O CÍRCULO VIRTUOSO DA COOPERAÇÃO FISCAL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8:42:11Z</dcterms:created>
  <dc:creator>Andre Ramalho</dc:creator>
  <dc:description/>
  <dc:language>en-US</dc:language>
  <cp:lastModifiedBy>Fátima</cp:lastModifiedBy>
  <cp:lastPrinted>2013-04-17T14:03:26Z</cp:lastPrinted>
  <dcterms:modified xsi:type="dcterms:W3CDTF">2013-04-18T06:35:06Z</dcterms:modified>
  <cp:revision>977</cp:revision>
  <dc:subject/>
  <dc:title>Regras de Licitações Aplicáveis em Projetos Financiados pelo BANCO INTERAMERICANO DE DESENVOLVIMENTO</dc:title>
</cp:coreProperties>
</file>