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3220C-04C5-4F4E-BBCD-8B8C216C8CE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E3C50-C343-4D8C-A062-E2C9C746A20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81514-409F-421F-836A-7FEE7C04B98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1ADC8-1914-4C7F-8CAB-87E02D48029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915FD-5142-4ACB-BC46-4D4AB4E2DDF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AF5C2-BAEE-4730-8080-6BE33F0CF6A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64C36-E469-4300-BBED-569D2D8EE2D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A5F1A-2B73-4102-BA31-EFCB476EF00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B9556-7419-4E84-A14C-390D3C8D160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DA156-D5D8-4485-911C-8BB34DE7F76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768996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4304520"/>
            <a:ext cx="768996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6712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6840" y="234900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7120" y="234900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430452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6840" y="430452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7120" y="430452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43FD-4BE3-4103-82F0-D3D4C5BEA9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560" y="2349000"/>
            <a:ext cx="7689960" cy="37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DC84-8D5A-407B-AC26-992525EC2D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768996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A68C-A8AD-4F63-A9CC-63A7BA92A1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1236-BBBA-4374-88F2-17A5BB3C16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44E5-987C-4332-94E4-D7219FB65C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06400" y="777960"/>
            <a:ext cx="7832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6DA5-819C-4130-92EE-E4612E75DF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656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8ED3B-80CB-4160-9044-DD1EEC0B6E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2349000"/>
            <a:ext cx="7689960" cy="37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6712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F678-A6B2-41DC-9C76-5E62E3D406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6560" y="4304520"/>
            <a:ext cx="768996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1CC7-E8EC-40DF-9766-9484B9B866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768996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26560" y="4304520"/>
            <a:ext cx="768996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3BBB-00E5-498B-B27D-33A616020E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56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6712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2068-E728-4EDD-84FF-64FD4D3465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26840" y="234900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7120" y="234900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26560" y="430452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26840" y="430452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7120" y="430452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0DB1-B5B8-4630-941F-BED2A8E1BB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768996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777960"/>
            <a:ext cx="7832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6712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4304520"/>
            <a:ext cx="768996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179280" y="6384960"/>
            <a:ext cx="8785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300" spc="-1" strike="noStrike">
                <a:solidFill>
                  <a:srgbClr val="000000"/>
                </a:solidFill>
                <a:latin typeface="Arial"/>
              </a:rPr>
              <a:t>Secretaria da Fazenda do Estado de Goiá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Grupo Estadual de Educação Fiscal – GEFE/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0" y="0"/>
            <a:ext cx="7617960" cy="6856560"/>
            <a:chOff x="0" y="0"/>
            <a:chExt cx="7617960" cy="6856560"/>
          </a:xfrm>
        </p:grpSpPr>
        <p:grpSp>
          <p:nvGrpSpPr>
            <p:cNvPr id="42" name="Group 2"/>
            <p:cNvGrpSpPr/>
            <p:nvPr/>
          </p:nvGrpSpPr>
          <p:grpSpPr>
            <a:xfrm>
              <a:off x="0" y="0"/>
              <a:ext cx="3198600" cy="6856560"/>
              <a:chOff x="0" y="0"/>
              <a:chExt cx="3198600" cy="6856560"/>
            </a:xfrm>
          </p:grpSpPr>
          <p:sp>
            <p:nvSpPr>
              <p:cNvPr id="43" name="Rectangle 3"/>
              <p:cNvSpPr/>
              <p:nvPr/>
            </p:nvSpPr>
            <p:spPr>
              <a:xfrm>
                <a:off x="0" y="0"/>
                <a:ext cx="761760" cy="68565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"/>
              <p:cNvSpPr/>
              <p:nvPr/>
            </p:nvSpPr>
            <p:spPr>
              <a:xfrm>
                <a:off x="456840" y="0"/>
                <a:ext cx="2741760" cy="1166400"/>
              </a:xfrm>
              <a:custGeom>
                <a:avLst/>
                <a:gdLst>
                  <a:gd name="textAreaLeft" fmla="*/ 0 w 2741760"/>
                  <a:gd name="textAreaRight" fmla="*/ 2741760 w 2741760"/>
                  <a:gd name="textAreaTop" fmla="*/ 0 h 1166400"/>
                  <a:gd name="textAreaBottom" fmla="*/ 1166760 h 116640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5"/>
            <p:cNvGrpSpPr/>
            <p:nvPr/>
          </p:nvGrpSpPr>
          <p:grpSpPr>
            <a:xfrm>
              <a:off x="228240" y="1981080"/>
              <a:ext cx="7389720" cy="317520"/>
              <a:chOff x="228240" y="1981080"/>
              <a:chExt cx="7389720" cy="317520"/>
            </a:xfrm>
          </p:grpSpPr>
          <p:sp>
            <p:nvSpPr>
              <p:cNvPr id="46" name="AutoShape 6"/>
              <p:cNvSpPr/>
              <p:nvPr/>
            </p:nvSpPr>
            <p:spPr>
              <a:xfrm>
                <a:off x="609120" y="1981080"/>
                <a:ext cx="7008840" cy="315720"/>
              </a:xfrm>
              <a:prstGeom prst="roundRect">
                <a:avLst>
                  <a:gd name="adj" fmla="val 0"/>
                </a:avLst>
              </a:prstGeom>
              <a:solidFill>
                <a:srgbClr val="517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AutoShape 7"/>
              <p:cNvSpPr/>
              <p:nvPr/>
            </p:nvSpPr>
            <p:spPr>
              <a:xfrm flipH="1">
                <a:off x="227880" y="1981080"/>
                <a:ext cx="393480" cy="317520"/>
              </a:xfrm>
              <a:prstGeom prst="flowChartDelay">
                <a:avLst/>
              </a:prstGeom>
              <a:solidFill>
                <a:srgbClr val="517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48" name="Picture 8" descr="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220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26560" y="2349000"/>
            <a:ext cx="768996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1"/>
          </p:nvPr>
        </p:nvSpPr>
        <p:spPr>
          <a:xfrm>
            <a:off x="84240" y="6238800"/>
            <a:ext cx="583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E2EB06-E1D5-4655-A5BE-4E9C06B86352}" type="slidenum"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179280" y="6384960"/>
            <a:ext cx="8785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300" spc="-1" strike="noStrike">
                <a:solidFill>
                  <a:srgbClr val="003366"/>
                </a:solidFill>
                <a:latin typeface="Arial"/>
              </a:rPr>
              <a:t>Secretaria da Fazenda do Estado de Goiá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200" spc="-1" strike="noStrike">
                <a:solidFill>
                  <a:srgbClr val="003366"/>
                </a:solidFill>
                <a:latin typeface="Arial"/>
              </a:rPr>
              <a:t>Grupo Estadual de Educação Fiscal – GEFE/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jcorreademiranda@yahoo.com.br" TargetMode="External"/><Relationship Id="rId2" Type="http://schemas.openxmlformats.org/officeDocument/2006/relationships/hyperlink" Target="mailto:lucirenesantana@yahoo.com.br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eliane.sesi@sistemafieg.org.br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3203640" y="2637000"/>
            <a:ext cx="3384360" cy="3308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822240" y="1012680"/>
            <a:ext cx="77900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EDUCAÇÃO FISCAL </a:t>
            </a:r>
            <a:br>
              <a:rPr sz="3200"/>
            </a:b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CAMINHO PARA  A CIDADANIA</a:t>
            </a: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 rot="2580000">
            <a:off x="5336640" y="331308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mic Sans MS"/>
              </a:rPr>
              <a:t>V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 rot="3120000">
            <a:off x="3352320" y="493848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mic Sans MS"/>
              </a:rPr>
              <a:t>Conosc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806400" y="888840"/>
            <a:ext cx="7836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em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6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OSÉ HUMBERTO CORREA DE MIRAN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–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ditor Fiscal e Coordenador do Programa Estadual de Educação Fiscal - G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jcorreademiranda@yahoo.com.b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(62) 8413-291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6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UCIRENE FERREIRA SANTANA GUALBER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Professora e Coordenadora Pedagógica do Programa Estadual de Educação Fiscal – GO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ucirenesantana@yahoo.com.b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62) 9668 - 240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1871640" y="2465280"/>
            <a:ext cx="539928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933120"/>
            <a:ext cx="79246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:Educação Física e Educação Fisc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6080" y="23950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mpliação dos conhecim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porte e a construção da cidada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idada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rshal,Pharo apud Telles ( 2001,p.6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cidadania está relacionada com a civilidade,ou seja as regras de convivência. A civilidade diz respeito ás regras que articulam indivíduos em situações concretas de interação…Nesse sentido o esporte como bem cultural ou obra cultural apresenta – se como um direito a ser exercido por pelos alunos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-167040"/>
            <a:ext cx="777240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: História e Educação Fiscal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mpliação dos conhecimento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4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mória da Infância : Brinquedos e Brincadeiras como Patrimôn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trimôni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65440" y="3211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933120"/>
            <a:ext cx="79246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: Matemática e Educação Fisc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693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mpliação dos conhecim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s números racionais no cotidi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ributos (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cha individu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duto – feij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dade de Medida em que é comercializado-1 k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ço em reais – R$ 4,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osto de Circulação de mercadorias e serviços –  0,07% (alíquota) X R$ 4,00 = R$ 0,2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933120"/>
            <a:ext cx="79246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 :Língua Portuguesa e Educação Fisc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mpliação de Conhecimen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-mail – Comunicar é preci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clusão digit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933120"/>
            <a:ext cx="79246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 : Geografia e Educação Fisc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mpliação dos conhecim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rtografando o espaço de vivê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rticipação no acompanhamento da função social dos tributos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cha coletiva –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 que existe –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dições-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sequências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ugestões para a melhoria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933120"/>
            <a:ext cx="79246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:Línguas Estrangeiras e Educação Fisc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mpliação dos conhecimen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rdápios – Os hábitos alimentar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limentação alternativ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– Cozinha Bras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ted puede preguntarle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? Cuáles son las características de los platos y los alimentos en el menú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797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Eliane Cândido Carnei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797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Coordenadora do Programa Cozinha Bras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797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SESI Canaã - Mozart Soares Filh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797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Fone: 3236-3818 / 8405-424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797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Email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liane.sesi@sistemafieg.org.b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933120"/>
            <a:ext cx="79246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iências e Educação Fisc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pliação do conheci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ma: Água um bem precio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io Amb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) Leitura de um talão de águ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por o desafio de reduzir o consumo de água em casa no próximo mê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ês atual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ês seguinte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ferença de consumo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7:08:34Z</dcterms:created>
  <dc:creator>Camila</dc:creator>
  <dc:description/>
  <dc:language>en-US</dc:language>
  <cp:lastModifiedBy>esaf</cp:lastModifiedBy>
  <dcterms:modified xsi:type="dcterms:W3CDTF">2013-04-16T20:26:04Z</dcterms:modified>
  <cp:revision>25</cp:revision>
  <dc:subject/>
  <dc:title>EDUCAÇÃO FISCAL – CAMINHO PARA  A CIDADANIA</dc:title>
</cp:coreProperties>
</file>