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0C7-42B2-4686-BD57-3DDDFBA8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CC2-C1F5-427D-A0DD-EBB5966D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DDB-FA9F-47D3-8D12-7C902794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CFB-7AC1-4603-A3E5-1FCDEAB9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6989-222D-4C74-9EC1-CD97FFA6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35D-9D0F-49B6-86A2-1AABF07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EF03-79AF-4379-AC58-111340B4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D20-1A80-4E31-B946-815F482A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98A6-481D-4400-AA8C-6C0914C2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03BE-44E8-4A4E-B2CD-64E2C68D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EF5-A10B-436F-9AB0-A39B937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265-D6FD-4A4A-A895-D37BBD7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36B-A5A3-43E1-A0CD-4EAB41C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4088-7DD7-4B02-98C7-C2EC9B7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DB0-381E-4B54-8D1A-4F24E0F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E76-B94B-4732-BCD7-5B58BFB4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171B-AF4E-486D-8C42-A3CEAECD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A7BE-0947-40EC-A032-05490E05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9D04-0368-441E-8D8E-DD92A5AC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D2A6-F2C9-475E-8856-9EEF0830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557A-5371-4A1F-A4E5-030D5DAF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A3CC-1DF5-4985-BA5A-D9AD985A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AE5-B303-469D-8760-96D297C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014A-D52C-477B-B8EA-7A92C90B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C178-71BB-4718-8559-21D22B3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30FC-96C1-46F0-93EA-8C34186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3CD7-ED83-4461-8FFA-3625655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E1A5-D520-4434-85A7-A89B93E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3DD3-6DEB-4AED-935B-5B894DC2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A590-7F0E-4B78-9D87-1CBC2112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1DA-0D29-4DA7-B9BF-556162CA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C1D-2C81-44F2-8A08-1DCFABA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15C-2102-4670-B16E-04720AB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6C1-2AC0-4091-8C42-BF8FDF8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47-9F50-4A6D-9D02-506A72C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6A8-B6B0-4199-935F-CD6A7E6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6720" y="638172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381720"/>
            <a:ext cx="48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00" y="638172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AB26-0A14-43CE-8524-39A1E84A81D5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6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C712-C2B4-492B-BDE1-0737CD487546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76720" y="652464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08000" y="6524640"/>
            <a:ext cx="662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88000" y="652464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B55-F023-496C-8BCD-DB7428657BA0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70028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“</a:t>
            </a: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Observatórios Sociais do Brasil: Relato das experiências de sucesso no controle social do orçamento público. Estratégias para multiplicação dessas experiências em outros municípios”</a:t>
            </a:r>
            <a:br>
              <a:rPr sz="2400"/>
            </a:b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CaixaDeTexto 6"/>
          <p:cNvSpPr/>
          <p:nvPr/>
        </p:nvSpPr>
        <p:spPr>
          <a:xfrm>
            <a:off x="1547640" y="501336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Encontro de Intercâmbio Téc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Internacional em Educação Fis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Brasília, 16/04/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BELÉMLOGO q"/>
          <p:cNvPicPr/>
          <p:nvPr/>
        </p:nvPicPr>
        <p:blipFill>
          <a:blip r:embed="rId1"/>
          <a:stretch/>
        </p:blipFill>
        <p:spPr>
          <a:xfrm>
            <a:off x="3348000" y="1125360"/>
            <a:ext cx="3095640" cy="1141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Nd9GcT9BHpEWqwPdgncm4EME71LlFgexPD7v29PW9RpT484ns3Mg_8xyg"/>
          <p:cNvPicPr/>
          <p:nvPr/>
        </p:nvPicPr>
        <p:blipFill>
          <a:blip r:embed="rId2"/>
          <a:stretch/>
        </p:blipFill>
        <p:spPr>
          <a:xfrm>
            <a:off x="4140360" y="465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Logo_Ocb_Sescoop_Twitter_normal"/>
          <p:cNvPicPr/>
          <p:nvPr/>
        </p:nvPicPr>
        <p:blipFill>
          <a:blip r:embed="rId3"/>
          <a:stretch/>
        </p:blipFill>
        <p:spPr>
          <a:xfrm>
            <a:off x="6516720" y="2997360"/>
            <a:ext cx="1295280" cy="109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9504"/>
          <p:cNvPicPr/>
          <p:nvPr/>
        </p:nvPicPr>
        <p:blipFill>
          <a:blip r:embed="rId4"/>
          <a:stretch/>
        </p:blipFill>
        <p:spPr>
          <a:xfrm>
            <a:off x="1619280" y="299736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1"/>
          <p:cNvSpPr/>
          <p:nvPr/>
        </p:nvSpPr>
        <p:spPr>
          <a:xfrm>
            <a:off x="3257640" y="2914560"/>
            <a:ext cx="2628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2" descr="edfiz_logo2"/>
          <p:cNvPicPr/>
          <p:nvPr/>
        </p:nvPicPr>
        <p:blipFill>
          <a:blip r:embed="rId5"/>
          <a:stretch/>
        </p:blipFill>
        <p:spPr>
          <a:xfrm>
            <a:off x="4067280" y="321300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Observatorio Social de Belém"/>
          <p:cNvPicPr/>
          <p:nvPr/>
        </p:nvPicPr>
        <p:blipFill>
          <a:blip r:embed="rId6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18" name="CaixaDeTexto 1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2" descr="edfiz_logo2"/>
          <p:cNvPicPr/>
          <p:nvPr/>
        </p:nvPicPr>
        <p:blipFill>
          <a:blip r:embed="rId7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Boas Práticas (executadas/em andament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grama Cidades Sustentáveis como subsídio para regulamentação da Educação Fiscal no Municípi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ventário do Município de Belé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ratos Abert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Dispensa de Licitação na área de Saúde e descontrole de estoque de medicamentos e materiais técnic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moção do Ativismo em Liberdade de Informação (Parceria com Artigo 19, AMARRIBO BRASIL e UNDEF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PPP na área de Resíduos Sólid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BELÉMLOGO q"/>
          <p:cNvPicPr/>
          <p:nvPr/>
        </p:nvPicPr>
        <p:blipFill>
          <a:blip r:embed="rId1"/>
          <a:stretch/>
        </p:blipFill>
        <p:spPr>
          <a:xfrm>
            <a:off x="3564000" y="1052640"/>
            <a:ext cx="27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2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CASO ALEP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ANEXO IV – Demonstrativo da Lotação de Pessoal Ativ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UNIDADE ORÇAMENTÁRI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BIMEST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LDO, art. 55, parágrafo únic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* no caso de encontrar-se cedido a outro Órgão ou 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ctr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ROPOSIÇÃO DO OSDEBELEM E CONSELHO REGIONAL DE CONTABILIDADE À LDO 20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55640" y="3500280"/>
          <a:ext cx="7848720" cy="965520"/>
        </p:xfrm>
        <a:graphic>
          <a:graphicData uri="http://schemas.openxmlformats.org/drawingml/2006/table">
            <a:tbl>
              <a:tblPr/>
              <a:tblGrid>
                <a:gridCol w="1120680"/>
                <a:gridCol w="1122480"/>
                <a:gridCol w="1120680"/>
                <a:gridCol w="1120680"/>
                <a:gridCol w="1122480"/>
                <a:gridCol w="1120680"/>
                <a:gridCol w="112104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P.F Parcial (do 4º ao 9º Dígito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íncul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a Horá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or/Órgão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</a:tr>
            </a:tbl>
          </a:graphicData>
        </a:graphic>
      </p:graphicFrame>
      <p:sp>
        <p:nvSpPr>
          <p:cNvPr id="22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Imagem 7" descr="bannerOSB_site5.jpg"/>
          <p:cNvPicPr/>
          <p:nvPr/>
        </p:nvPicPr>
        <p:blipFill>
          <a:blip r:embed="rId2"/>
          <a:stretch/>
        </p:blipFill>
        <p:spPr>
          <a:xfrm>
            <a:off x="324000" y="1700280"/>
            <a:ext cx="8366040" cy="3357360"/>
          </a:xfrm>
          <a:prstGeom prst="rect">
            <a:avLst/>
          </a:prstGeom>
          <a:ln w="0">
            <a:noFill/>
          </a:ln>
        </p:spPr>
      </p:pic>
      <p:sp>
        <p:nvSpPr>
          <p:cNvPr id="232" name="CaixaDeTexto 6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BRIGADO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Ivan Co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SDEBELEM@GMAIL.C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91 8862-999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A importância da Educação Fisca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4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Teoria &amp; Prátic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28800" y="2428920"/>
            <a:ext cx="2428920" cy="13953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181" name="Text Box 4"/>
          <p:cNvSpPr/>
          <p:nvPr/>
        </p:nvSpPr>
        <p:spPr>
          <a:xfrm>
            <a:off x="2286000" y="1428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no Pro"/>
              </a:rPr>
              <a:t>MARINGÁ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 -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iagrama 3" descr=""/>
          <p:cNvPicPr/>
          <p:nvPr/>
        </p:nvPicPr>
        <p:blipFill>
          <a:blip r:embed="rId2"/>
          <a:stretch/>
        </p:blipFill>
        <p:spPr>
          <a:xfrm>
            <a:off x="920880" y="1322280"/>
            <a:ext cx="794196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Retângulo 3"/>
          <p:cNvSpPr/>
          <p:nvPr/>
        </p:nvSpPr>
        <p:spPr>
          <a:xfrm rot="16200000">
            <a:off x="2089440" y="39967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no Pro"/>
              </a:rPr>
              <a:t>Objetivos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o MP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Observatorio Social de Belém"/>
          <p:cNvPicPr/>
          <p:nvPr/>
        </p:nvPicPr>
        <p:blipFill>
          <a:blip r:embed="rId3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2" descr="edfiz_logo2"/>
          <p:cNvPicPr/>
          <p:nvPr/>
        </p:nvPicPr>
        <p:blipFill>
          <a:blip r:embed="rId4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Diagrama 4" descr=""/>
          <p:cNvPicPr/>
          <p:nvPr/>
        </p:nvPicPr>
        <p:blipFill>
          <a:blip r:embed="rId1"/>
          <a:stretch/>
        </p:blipFill>
        <p:spPr>
          <a:xfrm>
            <a:off x="-549360" y="3760920"/>
            <a:ext cx="7450200" cy="25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354400" y="1125360"/>
            <a:ext cx="3801960" cy="2268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m 9" descr="brand.gif"/>
          <p:cNvPicPr/>
          <p:nvPr/>
        </p:nvPicPr>
        <p:blipFill>
          <a:blip r:embed="rId3"/>
          <a:stretch/>
        </p:blipFill>
        <p:spPr>
          <a:xfrm>
            <a:off x="6948360" y="407664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90" name="CaixaDeTexto 10"/>
          <p:cNvSpPr/>
          <p:nvPr/>
        </p:nvSpPr>
        <p:spPr>
          <a:xfrm>
            <a:off x="7196040" y="5702400"/>
            <a:ext cx="1155960" cy="30708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13/11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Observatorio Social de Belém"/>
          <p:cNvPicPr/>
          <p:nvPr/>
        </p:nvPicPr>
        <p:blipFill>
          <a:blip r:embed="rId4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7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2" descr="edfiz_logo2"/>
          <p:cNvPicPr/>
          <p:nvPr/>
        </p:nvPicPr>
        <p:blipFill>
          <a:blip r:embed="rId5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85982"/>
          <p:cNvPicPr/>
          <p:nvPr/>
        </p:nvPicPr>
        <p:blipFill>
          <a:blip r:embed="rId3"/>
          <a:stretch/>
        </p:blipFill>
        <p:spPr>
          <a:xfrm>
            <a:off x="2195640" y="1341360"/>
            <a:ext cx="4608360" cy="3787920"/>
          </a:xfrm>
          <a:prstGeom prst="rect">
            <a:avLst/>
          </a:prstGeom>
          <a:ln w="0">
            <a:noFill/>
          </a:ln>
        </p:spPr>
      </p:pic>
      <p:sp>
        <p:nvSpPr>
          <p:cNvPr id="198" name="CaixaDeTexto 6"/>
          <p:cNvSpPr/>
          <p:nvPr/>
        </p:nvSpPr>
        <p:spPr>
          <a:xfrm>
            <a:off x="1835280" y="544500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12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95280" y="836640"/>
            <a:ext cx="83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Progr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48720" cy="496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- Fundado, em 16/11/10, por representantes dos mais diversos segmentos da socie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56º Observatório da Rede OS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40 associados fundador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Lançado oficialmente, em 09/12/10, no evento do Dia Internacional contra a Corrup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BELÉMLOGO q"/>
          <p:cNvPicPr/>
          <p:nvPr/>
        </p:nvPicPr>
        <p:blipFill>
          <a:blip r:embed="rId1"/>
          <a:stretch/>
        </p:blipFill>
        <p:spPr>
          <a:xfrm>
            <a:off x="2484360" y="98100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sitivo</dc:creator>
  <dc:description/>
  <dc:language>en-US</dc:language>
  <cp:lastModifiedBy>Acer</cp:lastModifiedBy>
  <dcterms:modified xsi:type="dcterms:W3CDTF">2013-04-16T15:42:29Z</dcterms:modified>
  <cp:revision>46</cp:revision>
  <dc:subject/>
  <dc:title>Observatório Social</dc:title>
</cp:coreProperties>
</file>