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4ECC7-DE09-4457-BBD1-3DE965B587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51C0-8AB5-4742-BF7E-6EB5B771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1EF5-E002-4559-AE3F-5525485B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D767D-A47B-4C10-8434-5E8EB6CC20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5F03-5AE0-4644-8FA8-76ACF850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09D06-0DC7-424F-BC47-9BF08345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CFED-AEA5-45C7-BE54-0119E593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9650D-BA8D-4321-B4AF-59C915D9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EEC87-7921-476E-8DF7-B7BD3552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DFE3E-2941-4B2A-AD84-1D720359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CEFF-2CE4-4774-8F8F-E44CDD2F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7309-93D1-4A6B-A14F-DA8C140A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B2C22E-77A4-43D2-9ABF-B86217478586}" type="slidenum">
              <a:rPr b="0" lang="pt-BR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53964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Educação Fiscal e Controle Soci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187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Experiências do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IFC </a:t>
            </a: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e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Ad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231920" y="3213000"/>
            <a:ext cx="401796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5580000" y="3097080"/>
            <a:ext cx="181620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4896000" y="597528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enis Moura e Jovita Feitos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3419640" y="190440"/>
            <a:ext cx="526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Educação Fiscal e Controle Social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7" name="Group 2"/>
          <p:cNvGrpSpPr/>
          <p:nvPr/>
        </p:nvGrpSpPr>
        <p:grpSpPr>
          <a:xfrm>
            <a:off x="539640" y="2060640"/>
            <a:ext cx="1216080" cy="1717560"/>
            <a:chOff x="539640" y="2060640"/>
            <a:chExt cx="1216080" cy="1717560"/>
          </a:xfrm>
        </p:grpSpPr>
        <p:pic>
          <p:nvPicPr>
            <p:cNvPr id="48" name="Picture 3" descr=""/>
            <p:cNvPicPr/>
            <p:nvPr/>
          </p:nvPicPr>
          <p:blipFill>
            <a:blip r:embed="rId1"/>
            <a:stretch/>
          </p:blipFill>
          <p:spPr>
            <a:xfrm>
              <a:off x="539640" y="2060640"/>
              <a:ext cx="121608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4"/>
            <p:cNvSpPr/>
            <p:nvPr/>
          </p:nvSpPr>
          <p:spPr>
            <a:xfrm>
              <a:off x="539640" y="2060640"/>
              <a:ext cx="1216080" cy="17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179280" y="9360"/>
            <a:ext cx="401976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643280" y="2133720"/>
            <a:ext cx="3962520" cy="130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2189160" y="2075040"/>
            <a:ext cx="2016000" cy="215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5"/>
          <a:stretch/>
        </p:blipFill>
        <p:spPr>
          <a:xfrm>
            <a:off x="5365800" y="4222800"/>
            <a:ext cx="3240000" cy="155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6"/>
          <a:stretch/>
        </p:blipFill>
        <p:spPr>
          <a:xfrm>
            <a:off x="826920" y="4581360"/>
            <a:ext cx="2521080" cy="157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7"/>
          <a:stretch/>
        </p:blipFill>
        <p:spPr>
          <a:xfrm>
            <a:off x="3851280" y="443088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4896000" y="597708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enis Moura e Jovita Feitos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050920" y="222120"/>
            <a:ext cx="5267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Educação Fiscal e Controle Social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85640" y="144360"/>
            <a:ext cx="1818000" cy="18162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3"/>
          <p:cNvGrpSpPr/>
          <p:nvPr/>
        </p:nvGrpSpPr>
        <p:grpSpPr>
          <a:xfrm>
            <a:off x="6516720" y="343080"/>
            <a:ext cx="1903320" cy="1703160"/>
            <a:chOff x="6516720" y="343080"/>
            <a:chExt cx="1903320" cy="1703160"/>
          </a:xfrm>
        </p:grpSpPr>
        <p:pic>
          <p:nvPicPr>
            <p:cNvPr id="60" name="Picture 4" descr=""/>
            <p:cNvPicPr/>
            <p:nvPr/>
          </p:nvPicPr>
          <p:blipFill>
            <a:blip r:embed="rId2"/>
            <a:stretch/>
          </p:blipFill>
          <p:spPr>
            <a:xfrm>
              <a:off x="6516720" y="343080"/>
              <a:ext cx="190332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5"/>
            <p:cNvSpPr/>
            <p:nvPr/>
          </p:nvSpPr>
          <p:spPr>
            <a:xfrm>
              <a:off x="6516720" y="343080"/>
              <a:ext cx="1903320" cy="17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5380200" y="4525920"/>
            <a:ext cx="3730320" cy="2332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50760" y="3495600"/>
            <a:ext cx="3990960" cy="2685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5"/>
          <a:stretch/>
        </p:blipFill>
        <p:spPr>
          <a:xfrm>
            <a:off x="4859280" y="2852640"/>
            <a:ext cx="4154400" cy="276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6"/>
          <a:stretch/>
        </p:blipFill>
        <p:spPr>
          <a:xfrm>
            <a:off x="3276720" y="1919160"/>
            <a:ext cx="2342880" cy="1305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2651040" y="3273480"/>
            <a:ext cx="39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http://assiste.serpro.gov.br/esaf/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008000" y="640404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enis Moura e Jovita Feitos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220840" y="5624640"/>
            <a:ext cx="526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11280" y="431640"/>
            <a:ext cx="1025640" cy="10083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3"/>
          <p:cNvGrpSpPr/>
          <p:nvPr/>
        </p:nvGrpSpPr>
        <p:grpSpPr>
          <a:xfrm>
            <a:off x="6121440" y="360360"/>
            <a:ext cx="1220760" cy="1023840"/>
            <a:chOff x="6121440" y="360360"/>
            <a:chExt cx="1220760" cy="1023840"/>
          </a:xfrm>
        </p:grpSpPr>
        <p:pic>
          <p:nvPicPr>
            <p:cNvPr id="71" name="Picture 4" descr=""/>
            <p:cNvPicPr/>
            <p:nvPr/>
          </p:nvPicPr>
          <p:blipFill>
            <a:blip r:embed="rId2"/>
            <a:stretch/>
          </p:blipFill>
          <p:spPr>
            <a:xfrm>
              <a:off x="6121440" y="360360"/>
              <a:ext cx="122076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5"/>
            <p:cNvSpPr/>
            <p:nvPr/>
          </p:nvSpPr>
          <p:spPr>
            <a:xfrm>
              <a:off x="6121440" y="360360"/>
              <a:ext cx="122076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273480" y="206280"/>
            <a:ext cx="2343240" cy="1305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41400" y="148428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2220840" y="5624640"/>
            <a:ext cx="526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79640" y="360360"/>
            <a:ext cx="1025280" cy="100800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3"/>
          <p:cNvGrpSpPr/>
          <p:nvPr/>
        </p:nvGrpSpPr>
        <p:grpSpPr>
          <a:xfrm>
            <a:off x="6626160" y="360360"/>
            <a:ext cx="1220760" cy="1023840"/>
            <a:chOff x="6626160" y="360360"/>
            <a:chExt cx="1220760" cy="1023840"/>
          </a:xfrm>
        </p:grpSpPr>
        <p:pic>
          <p:nvPicPr>
            <p:cNvPr id="78" name="Picture 4" descr=""/>
            <p:cNvPicPr/>
            <p:nvPr/>
          </p:nvPicPr>
          <p:blipFill>
            <a:blip r:embed="rId2"/>
            <a:stretch/>
          </p:blipFill>
          <p:spPr>
            <a:xfrm>
              <a:off x="6626160" y="360360"/>
              <a:ext cx="122076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5"/>
            <p:cNvSpPr/>
            <p:nvPr/>
          </p:nvSpPr>
          <p:spPr>
            <a:xfrm>
              <a:off x="6626160" y="360360"/>
              <a:ext cx="122076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2303640" y="71280"/>
            <a:ext cx="3990960" cy="2686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5184720" y="619128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emoulidor@ifc.org.b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7:30:56Z</dcterms:created>
  <dc:creator>Denis Moura de Lima</dc:creator>
  <dc:description/>
  <dc:language>en-US</dc:language>
  <cp:lastModifiedBy>esaf</cp:lastModifiedBy>
  <dcterms:modified xsi:type="dcterms:W3CDTF">2013-04-16T20:56:59Z</dcterms:modified>
  <cp:revision>9</cp:revision>
  <dc:subject/>
  <dc:title>Educação Fiscal e Controle Social</dc:title>
</cp:coreProperties>
</file>