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D7706-6CD8-468D-A5E1-3BC8E2A238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E9A67-30CA-4439-9330-386CFC773BBD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27EC9-3FE5-495B-983B-E2A41FE28A9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CAFC5-D5BD-41F5-A4CF-B6EE3F9C708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n el lenguaje empresarial, siempre escuchamos hablar de “estrategia”, “ser estratégico”, “hacer estrategias”, son frases muy usadas que al parecer “elevan” la conversación…. Pero realmente sabemos lo que significan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¿Qué es SER estratégico para ustede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Hablar de ser Estratégicos es acerca de tomar decisiones con conciencia HOY,  por un futuro que deseam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 por eso que no sólo debe de aplicarse a nivel empresarial sino también hay que SER estratégicos a nivel person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Ser estratégico, es tener claro donde estás y hacia donde quieres llegar, sabiendo lo que te va a diferenci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Mucha gente termina haciendo de todo, pero al final no logra nada porque no tiene claro a donde quiere llegar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Recuerden: Cuando uno tiene rumbo… LLEGA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Y las “estrategias” :   Es  el camino, la ruta que tomas, lo que asumes con convicción, lo que decides renunciar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uede ser recta, curva, zigzag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e camino lo decide la empresa y a nivel personal, lo decide uno mis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A879E-78A6-4969-B087-FE18EA219EA5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 fue el problema que  atacaron?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Por qué desarrollaron esa herramienta y no otra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Forma parte de un Pl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on qué recursos contab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as limitaciones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 establecieron indicadores y metas? ¿hacen control de gestió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os resultados esperados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B6D99-C591-46A2-BDA2-35FF816EF8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6112B-1035-4F5C-9BA8-D1F2E07789E5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294DB-F8E9-4951-A2FD-67E3DFF08AC0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E600C-28B4-4EF3-8657-144EF9AB8A79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CF4C4-E3B7-4B44-93B9-CFBC8EBEE67E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3EE-E9B3-4E85-ACDC-878CDDA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7B7-F91D-43A2-8154-9B19FFBD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088-4698-4A8C-BE80-F670D016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D51-1373-4C63-8F67-272A728E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D97-C943-4FDB-800A-7D24CEA7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EA5-174F-40C4-B621-22B422F4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D8D-E1A3-410E-9C5C-7349AB9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285-A7A2-4EDF-B24C-264ED9C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672-DFAA-4131-86DB-7D27917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DDF-EC75-4EE5-8AD0-34F8437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91B-94AC-4514-B183-49D0A17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D62-AF3F-44BC-B542-B753112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EB0A-6345-4627-83AD-05DCDE2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E508-4EB3-4F9E-94CF-795B8B2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9E67-DDFC-4620-B2A4-09F76D5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7CA2-C178-4DA0-AA5B-E57D3BEA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37AC-769E-4D5D-A7B5-54481419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176-0B83-4E07-953E-18519DF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3BA-AA1D-4920-8641-08C657B3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C8E-AE42-451A-BE6C-05A45A4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137-6C8C-4ED4-84DB-04B568A4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891-648D-4801-94B2-9A188D2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B69-45A6-4FD6-9C61-2F0C383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76A-CBA2-4C4A-B371-1AF538D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6DE7B-6396-4BC3-97DC-C60753DCF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ángulo 6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ángulo 7"/>
          <p:cNvSpPr/>
          <p:nvPr/>
        </p:nvSpPr>
        <p:spPr>
          <a:xfrm>
            <a:off x="0" y="60480"/>
            <a:ext cx="9144000" cy="45720"/>
          </a:xfrm>
          <a:prstGeom prst="rect">
            <a:avLst/>
          </a:prstGeom>
          <a:solidFill>
            <a:srgbClr val="006c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ángulo 8"/>
          <p:cNvSpPr/>
          <p:nvPr/>
        </p:nvSpPr>
        <p:spPr>
          <a:xfrm>
            <a:off x="0" y="6769080"/>
            <a:ext cx="9144000" cy="73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A00D6-8404-41AC-A9CE-F9A34E002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carmen.vargas.v@gmail.com" TargetMode="External"/><Relationship Id="rId2" Type="http://schemas.openxmlformats.org/officeDocument/2006/relationships/hyperlink" Target="mailto:cvargas@sunat.gob.pe" TargetMode="External"/><Relationship Id="rId3" Type="http://schemas.openxmlformats.org/officeDocument/2006/relationships/hyperlink" Target="http://carmenvargasv.com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"/>
          <p:cNvPicPr/>
          <p:nvPr/>
        </p:nvPicPr>
        <p:blipFill>
          <a:blip r:embed="rId1"/>
          <a:srcRect l="0" t="3768" r="1469" b="22665"/>
          <a:stretch/>
        </p:blipFill>
        <p:spPr>
          <a:xfrm>
            <a:off x="584280" y="0"/>
            <a:ext cx="7972200" cy="2048040"/>
          </a:xfrm>
          <a:prstGeom prst="rect">
            <a:avLst/>
          </a:prstGeom>
          <a:ln w="0">
            <a:noFill/>
          </a:ln>
        </p:spPr>
      </p:pic>
      <p:sp>
        <p:nvSpPr>
          <p:cNvPr id="93" name="CuadroTexto 3"/>
          <p:cNvSpPr/>
          <p:nvPr/>
        </p:nvSpPr>
        <p:spPr>
          <a:xfrm>
            <a:off x="2197080" y="3000240"/>
            <a:ext cx="573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Comunicación estratégica aplic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a la Educación Fi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8 CuadroTexto"/>
          <p:cNvSpPr/>
          <p:nvPr/>
        </p:nvSpPr>
        <p:spPr>
          <a:xfrm>
            <a:off x="538920" y="189000"/>
            <a:ext cx="61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Qué características tendrán nuestros mensaj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REFERENTES DE COMUNIC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4210200" y="2386080"/>
            <a:ext cx="222552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h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í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cip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no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orgu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009800" y="2233440"/>
            <a:ext cx="2895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ort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á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c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ti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quili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te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 CuadroTexto"/>
          <p:cNvSpPr/>
          <p:nvPr/>
        </p:nvSpPr>
        <p:spPr>
          <a:xfrm>
            <a:off x="535680" y="189000"/>
            <a:ext cx="8453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¿Qué estrategia general utilizaré para lograr mi objet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ángulo 1"/>
          <p:cNvSpPr/>
          <p:nvPr/>
        </p:nvSpPr>
        <p:spPr>
          <a:xfrm>
            <a:off x="743040" y="1941480"/>
            <a:ext cx="45720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edag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ifu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fen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ta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Human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ide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vesti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Gestió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onser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Silen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ángulo 2"/>
          <p:cNvSpPr/>
          <p:nvPr/>
        </p:nvSpPr>
        <p:spPr>
          <a:xfrm>
            <a:off x="5151600" y="1838160"/>
            <a:ext cx="33429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Memorabilidad Pos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Lanz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ortal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cerc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tens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estimon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Expa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rans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474920" y="333360"/>
            <a:ext cx="7200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200" y="317520"/>
            <a:ext cx="825048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edagóg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mecanismos de formación o espacios educativos para que la gente conozca y comprenda un tema o una situación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ifu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masivamente  (publicitaria) una situación o tema importante de la organ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idel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anar lealtad, que las personas que se deseen siempre estén a favor de la organización. Ser la primera op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fen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organización debe salir con argumentos que cuiden  su imagen, reputación , marcas o ejecutivos, con el propósito de blinda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ta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de señalamientos y confrontación que afecten la imagen o la comunicación de contrinc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Hum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catar lo más profundo y humano de las personas para que se sientan valoradas e incrementen su pertenencia y productiv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plie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ga de información de forma sistemática y organizada sobre un tema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vestig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fundizar, especificar sobre un asunto para tener argumentos  más sólidos y convincentes sobre algún tema o asu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Silenc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llar para no generar enfrentamientos, dejar que los demás h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0160" y="333360"/>
            <a:ext cx="826596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romo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para mostrar atracción, deseo y empatía  hacia algo o algu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emorabilidad Posi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jar huella por algo  o alguien que marca diferencia y se convierte en  asuntos inolvidables y valo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articip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brir espacios para que las personas se pronuncien y su voz se sienta valo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Lanz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algo nuevo de forma impac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6280" y="542880"/>
            <a:ext cx="8136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line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ntonizar proyectos, personas o asuntos con una dirección dese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ortaleci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vitalización de situaciones o proyectos específicos, volver a mostrar los beneficios que se pueden generar para que se siga siendo val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osicion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ar con fuerza y arraigo en la mente de quien nos interesa, ganarle el espacio por emoción o razonamiento. Busca generar siempre record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erc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legar directamente a quien nos interesa para que se sienta valorado e inform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tens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olver a hacer énfasis de forma sistemática y programática, para que no se olvide lo que se esta transmitiendo o se genere mayor credibilidad y acep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estimon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voceros para que argumenten lo que se desea transmi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Expan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 para dar a conocer la compañía o diversificar su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no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r nuevas ideas para mantener la expectativa y el inter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rans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ptar por cambiar los esquemas, maneras  o formas de op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form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Que nuestro público conozca un tema que nos interesa para su mejor acci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888840" y="189000"/>
            <a:ext cx="79693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Mediante qué espacios, situaciones o medios vamos a lle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</a:rPr>
              <a:t>TÁCTICA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2158920"/>
            <a:ext cx="823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bri"/>
              </a:rPr>
              <a:t>Clases de acciones y/o tácticas de comun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masivos de comunicación (Audiovisuales,  imp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gitales (Red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rectos comunicación (reuniones, conferencias de prensa, char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entos (Ferias, culturales, deportivos, 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ursos y premios (poesía, cuento, mensajes, triv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íticas, protocolos (Lineamientos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omenajes y conmemo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s (Campañas de atención al contribuy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ciones Públicas y Gubernam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cenazgos: donaciones a obra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pañas (educativas, institucionales, valores, publicitar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8 CuadroTexto"/>
          <p:cNvSpPr/>
          <p:nvPr/>
        </p:nvSpPr>
        <p:spPr>
          <a:xfrm>
            <a:off x="888840" y="189000"/>
            <a:ext cx="79693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  <a:ea typeface="Arial"/>
              </a:rPr>
              <a:t>MED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  <a:ea typeface="Arial"/>
              </a:rPr>
              <a:t>Para demostrar que la gestión comunicacional agrega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n 4" descr=""/>
          <p:cNvPicPr/>
          <p:nvPr/>
        </p:nvPicPr>
        <p:blipFill>
          <a:blip r:embed="rId1"/>
          <a:srcRect l="32616" t="40315" r="17697" b="12446"/>
          <a:stretch/>
        </p:blipFill>
        <p:spPr>
          <a:xfrm>
            <a:off x="4572000" y="4237200"/>
            <a:ext cx="4032360" cy="2157120"/>
          </a:xfrm>
          <a:prstGeom prst="rect">
            <a:avLst/>
          </a:prstGeom>
          <a:ln w="0">
            <a:noFill/>
          </a:ln>
        </p:spPr>
      </p:pic>
      <p:sp>
        <p:nvSpPr>
          <p:cNvPr id="155" name="Rectángulo 1"/>
          <p:cNvSpPr/>
          <p:nvPr/>
        </p:nvSpPr>
        <p:spPr>
          <a:xfrm>
            <a:off x="703440" y="2306520"/>
            <a:ext cx="64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Aplicar indicadores en la gestión comunic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ermite la obtención de información oportuna y obj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Identifica oportunidades de mej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Son una herramienta 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osicionan gestión comuni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ángulo 3"/>
          <p:cNvSpPr/>
          <p:nvPr/>
        </p:nvSpPr>
        <p:spPr>
          <a:xfrm>
            <a:off x="587520" y="62388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68440" y="1447920"/>
          <a:ext cx="6051600" cy="5094000"/>
        </p:xfrm>
        <a:graphic>
          <a:graphicData uri="http://schemas.openxmlformats.org/drawingml/2006/table">
            <a:tbl>
              <a:tblPr/>
              <a:tblGrid>
                <a:gridCol w="6051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diencias c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ntenido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Referentes de comun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humanos (resultados de reunion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técnico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lujos de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mprensión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umplimiento de pl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ángulo 3"/>
          <p:cNvSpPr/>
          <p:nvPr/>
        </p:nvSpPr>
        <p:spPr>
          <a:xfrm>
            <a:off x="587520" y="1085760"/>
            <a:ext cx="51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Con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uest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on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Guías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guimiento a cronogramas, ejecución de pla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lanillas de asis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ocumentos y estudios ant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4" descr=""/>
          <p:cNvPicPr/>
          <p:nvPr/>
        </p:nvPicPr>
        <p:blipFill>
          <a:blip r:embed="rId1"/>
          <a:srcRect l="59493" t="38233" r="23532" b="34660"/>
          <a:stretch/>
        </p:blipFill>
        <p:spPr>
          <a:xfrm>
            <a:off x="5278320" y="2849400"/>
            <a:ext cx="220824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adroTexto 3"/>
          <p:cNvSpPr/>
          <p:nvPr/>
        </p:nvSpPr>
        <p:spPr>
          <a:xfrm>
            <a:off x="760320" y="1297080"/>
            <a:ext cx="292104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Aquellos relacionados a los </a:t>
            </a:r>
            <a:r>
              <a:rPr b="1" lang="es-PE" sz="1600" spc="-1" strike="noStrike">
                <a:solidFill>
                  <a:srgbClr val="17375e"/>
                </a:solidFill>
                <a:latin typeface="Arial"/>
              </a:rPr>
              <a:t>objetivos</a:t>
            </a: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 del Plan estratégico de Comunicación, y el aporte que se genera a la estrategia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Texto 4"/>
          <p:cNvSpPr/>
          <p:nvPr/>
        </p:nvSpPr>
        <p:spPr>
          <a:xfrm>
            <a:off x="5222880" y="1297080"/>
            <a:ext cx="36590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Tá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Medición específica de cada una de las accione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nsignadas en el plan donde se evaluún aspectos como: impacto, convocatoria, receptiv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stos, beneficios, reduccione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presupuestos, tal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ángulo 6"/>
          <p:cNvSpPr/>
          <p:nvPr/>
        </p:nvSpPr>
        <p:spPr>
          <a:xfrm>
            <a:off x="2127600" y="3589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Clases de 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520560" y="3102120"/>
            <a:ext cx="4122720" cy="2801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 del Pla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a buena acogid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as secciones del portal d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rcepción favorable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acerca de los espacios del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úmero de usuarios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ienen una percepción favorabl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s espacios / número total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encues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ángulo 9"/>
          <p:cNvSpPr/>
          <p:nvPr/>
        </p:nvSpPr>
        <p:spPr>
          <a:xfrm>
            <a:off x="5021280" y="3693960"/>
            <a:ext cx="4003560" cy="2315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Acció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ublicación semanal  de artículo en el blo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táct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ivel de cumplimiento de la programación de publicación en el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# publicaciones realizadas / # pub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lane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CuadroTexto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Arial"/>
              </a:rPr>
              <a:t>¿Qué es SER Estratégico en comunicaci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ppalma.managua.gob.ni/Portal/Content/img/adp-plan_410_250.png"/>
          <p:cNvPicPr/>
          <p:nvPr/>
        </p:nvPicPr>
        <p:blipFill>
          <a:blip r:embed="rId1"/>
          <a:stretch/>
        </p:blipFill>
        <p:spPr>
          <a:xfrm>
            <a:off x="2695680" y="2898720"/>
            <a:ext cx="3905280" cy="2381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3"/>
          <p:cNvSpPr/>
          <p:nvPr/>
        </p:nvSpPr>
        <p:spPr>
          <a:xfrm>
            <a:off x="1924200" y="1003320"/>
            <a:ext cx="594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2800" spc="-1" strike="noStrike">
                <a:solidFill>
                  <a:srgbClr val="060f86"/>
                </a:solidFill>
                <a:latin typeface="Berlin Sans FB Demi"/>
              </a:rPr>
              <a:t>Plan estratégico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Verdana"/>
                <a:ea typeface="SimSun"/>
              </a:rPr>
              <a:t>PROCESO DE E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Título"/>
          <p:cNvSpPr/>
          <p:nvPr/>
        </p:nvSpPr>
        <p:spPr>
          <a:xfrm>
            <a:off x="249120" y="419040"/>
            <a:ext cx="94474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Diagrama 1" descr=""/>
          <p:cNvPicPr/>
          <p:nvPr/>
        </p:nvPicPr>
        <p:blipFill>
          <a:blip r:embed="rId1"/>
          <a:stretch/>
        </p:blipFill>
        <p:spPr>
          <a:xfrm>
            <a:off x="1523880" y="725400"/>
            <a:ext cx="685800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81040" y="394920"/>
            <a:ext cx="82296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crementar tráfico a la página web en un 50% más que el año anteri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 de Despliegu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nganchar a la audiencia target con mensajes de valor a ciertas horas del día cuando están más receptiv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Generar tráfico de visitas específicas/ personalizadas a la página we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ublicidad en Facebook de 7:00 am a 10:00 am y de 6:00 pm a 9:00 p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osteos en Twitter a la hora del almuerz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 artículo en una revista dig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ener publicidad en Google Adwords durante todo el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rear contenido para el blog sobre temas de inte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ner el URL del website en todos los pies de firma del 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ntactarse con 10 seguidores diarios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Buscar e incluir a seguidores con influencia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mpartir video institucional en rede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tráfico con respecto al año anter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49440" y="558360"/>
            <a:ext cx="8229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iorizar claridad, oportunidad y cobertura en todas las comunicacione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e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form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dagóg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articip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o accio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esarrollo de la política de comunicación para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laboración de protocolo de actualización del portal que incluye responsables y cronogr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ifusión de política y protocolo entre los miembro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lítica elaborada y difund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otocolo elaborado y difundi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cumplimiento de cronograma de actualiz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34800" y="1495440"/>
          <a:ext cx="8562960" cy="4341960"/>
        </p:xfrm>
        <a:graphic>
          <a:graphicData uri="http://schemas.openxmlformats.org/drawingml/2006/table">
            <a:tbl>
              <a:tblPr/>
              <a:tblGrid>
                <a:gridCol w="1030320"/>
                <a:gridCol w="1131840"/>
                <a:gridCol w="1146240"/>
                <a:gridCol w="1447920"/>
                <a:gridCol w="1609560"/>
                <a:gridCol w="1241640"/>
                <a:gridCol w="95544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strate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5360" y="1484280"/>
          <a:ext cx="8782200" cy="4341960"/>
        </p:xfrm>
        <a:graphic>
          <a:graphicData uri="http://schemas.openxmlformats.org/drawingml/2006/table">
            <a:tbl>
              <a:tblPr/>
              <a:tblGrid>
                <a:gridCol w="830160"/>
                <a:gridCol w="789120"/>
                <a:gridCol w="1079640"/>
                <a:gridCol w="847800"/>
                <a:gridCol w="1001520"/>
                <a:gridCol w="1233360"/>
                <a:gridCol w="1000440"/>
                <a:gridCol w="1079280"/>
                <a:gridCol w="92088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 fís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s </a:t>
                      </a:r>
                      <a:r>
                        <a:rPr b="1" lang="es-ES" sz="12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conó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Áreas que apoyan o respal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Fecha de inicio y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de gest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logístico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85920" y="5209920"/>
            <a:ext cx="29718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7f7f7f"/>
                </a:solidFill>
                <a:latin typeface="Calibri"/>
              </a:rPr>
              <a:t>Carmen Var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rmen.vargas.v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vargas@sunat.gob.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rmenvargasv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minichaplin.com/wp-content/uploads/2014/05/gracias.jpg"/>
          <p:cNvPicPr/>
          <p:nvPr/>
        </p:nvPicPr>
        <p:blipFill>
          <a:blip r:embed="rId4"/>
          <a:stretch/>
        </p:blipFill>
        <p:spPr>
          <a:xfrm>
            <a:off x="1044720" y="1001880"/>
            <a:ext cx="705456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agen 1" descr=""/>
          <p:cNvPicPr/>
          <p:nvPr/>
        </p:nvPicPr>
        <p:blipFill>
          <a:blip r:embed="rId1">
            <a:lum contrast="20000"/>
          </a:blip>
          <a:srcRect l="7299" t="18209" r="15449" b="6795"/>
          <a:stretch/>
        </p:blipFill>
        <p:spPr>
          <a:xfrm>
            <a:off x="0" y="63648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736560"/>
          <a:ext cx="6102360" cy="5410080"/>
        </p:xfrm>
        <a:graphic>
          <a:graphicData uri="http://schemas.openxmlformats.org/drawingml/2006/table">
            <a:tbl>
              <a:tblPr/>
              <a:tblGrid>
                <a:gridCol w="3213360"/>
                <a:gridCol w="2889000"/>
              </a:tblGrid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In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Ex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0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ortun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088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I tiene una ubicación en la estruc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quipo de CI es profesional y muestra compromiso y motivación para trabaj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ersonal tiene experiencia en gestión de medios digitales e impresos, organización y difusión de campañas y actividades de comunicación inter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necesidad de cambio y mejora promovida por la Alta Dirección mediante el nuevo paradigma instituc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tecnología de la información que puede ser efectivamente aprovech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presupue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l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na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9556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omunicación interna institucional no se gestiona estratégicame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gestiona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ción centrada en  información de activ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ización de operatividad en el equipo de Li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encia de Red de gestores en las sedes descentralizad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medición y evaluación sistemát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fortalecimiento del equipo en número y perfi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osicionamiento de la labor de CI en la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unicación y coordinación entre áreas de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prioriza la gestión de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iente y rápido crecimiento del número de personal trastoca la cultura organizacional ya déb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ambios en el ROF  sin una adecuada difusión incrementan confusión, incertidumbre y rumores sobre su efectivida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muchos jefes y pocos lid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9" name="Flecha izquierda 1">
            <a:hlinkClick r:id="rId1" action="ppaction://hlinksldjump"/>
          </p:cNvPr>
          <p:cNvSpPr/>
          <p:nvPr/>
        </p:nvSpPr>
        <p:spPr>
          <a:xfrm>
            <a:off x="7805880" y="5950080"/>
            <a:ext cx="682560" cy="355320"/>
          </a:xfrm>
          <a:prstGeom prst="lef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9360" y="314280"/>
            <a:ext cx="55627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COMUNICACIÓN: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Palabra derivada del latín, a partir de un verbo compuest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Calibri"/>
              </a:rPr>
              <a:t>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Sus dos componentes so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Muneror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regalar, dotar de algo, beneficiar con al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Cum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con otro, mutuamente, de forma recípro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Communio es la acción en la que  me co-benefici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yo y otro nos dotamo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nos regalamos el uno al ot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www.ecured.cu/images/a/a2/Lat%C3%ADnnn.jpeg"/>
          <p:cNvPicPr/>
          <p:nvPr/>
        </p:nvPicPr>
        <p:blipFill>
          <a:blip r:embed="rId1"/>
          <a:stretch/>
        </p:blipFill>
        <p:spPr>
          <a:xfrm>
            <a:off x="5815080" y="1268280"/>
            <a:ext cx="29322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7 CuadroTexto"/>
          <p:cNvSpPr/>
          <p:nvPr/>
        </p:nvSpPr>
        <p:spPr>
          <a:xfrm>
            <a:off x="396720" y="708120"/>
            <a:ext cx="4830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900" spc="-1" strike="noStrike">
                <a:solidFill>
                  <a:srgbClr val="c00000"/>
                </a:solidFill>
                <a:latin typeface="Arial"/>
              </a:rPr>
              <a:t>ESTRATEGIA </a:t>
            </a: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deriva del latín “strategĭa”, que a su vez procede de dos términos grieg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stratos = ejérc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agein = conductor,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proyectar y dirigir grandes operaciones militares con el primer y único objetivo de la victo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contar con la gente y los activos adecuados en el lugar adecuado para triun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s el arte de planificar para llegar a cumplir mis objetivos y mis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pi.ning.com/files/-hwEeqCyyzfDcADREyVw0ctOiPga64QTw*oHJl0oQFJWe7KWJ0K4IPJ-4ha0flVu3fiLhAjazc3r6fIVz9-FxyA4u2HmV0e1/AjedrezEstrategico.jpg"/>
          <p:cNvPicPr/>
          <p:nvPr/>
        </p:nvPicPr>
        <p:blipFill>
          <a:blip r:embed="rId1"/>
          <a:stretch/>
        </p:blipFill>
        <p:spPr>
          <a:xfrm>
            <a:off x="5962680" y="1249200"/>
            <a:ext cx="26510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ángulo 1"/>
          <p:cNvSpPr/>
          <p:nvPr/>
        </p:nvSpPr>
        <p:spPr>
          <a:xfrm>
            <a:off x="1113480" y="555480"/>
            <a:ext cx="691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La comunicación estraté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es la comunicación planific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visualizando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rutas o fórmulas para lograr u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image.slidesharecdn.com/frasesliderazgo-120301113652-phpapp01/95/frases-liderazgo-9-728.jpg?cb=1330677562"/>
          <p:cNvPicPr/>
          <p:nvPr/>
        </p:nvPicPr>
        <p:blipFill>
          <a:blip r:embed="rId1"/>
          <a:srcRect l="2881" t="630" r="26633" b="40987"/>
          <a:stretch/>
        </p:blipFill>
        <p:spPr>
          <a:xfrm>
            <a:off x="68400" y="2717640"/>
            <a:ext cx="5143320" cy="3036960"/>
          </a:xfrm>
          <a:prstGeom prst="rect">
            <a:avLst/>
          </a:prstGeom>
          <a:ln w="0">
            <a:noFill/>
          </a:ln>
        </p:spPr>
      </p:pic>
      <p:sp>
        <p:nvSpPr>
          <p:cNvPr id="102" name="9 CuadroTexto"/>
          <p:cNvSpPr/>
          <p:nvPr/>
        </p:nvSpPr>
        <p:spPr>
          <a:xfrm>
            <a:off x="5396040" y="2943360"/>
            <a:ext cx="3747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Diagnostic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conocer a tus audienc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gestionar indicadores y medir,  son </a:t>
            </a:r>
            <a:r>
              <a:rPr b="1" lang="es-PE" sz="2300" spc="-1" strike="noStrike">
                <a:solidFill>
                  <a:srgbClr val="ffc000"/>
                </a:solidFill>
                <a:latin typeface="Arial"/>
              </a:rPr>
              <a:t>procesos claves </a:t>
            </a: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en una gestión estratégi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CuadroTexto"/>
          <p:cNvSpPr/>
          <p:nvPr/>
        </p:nvSpPr>
        <p:spPr>
          <a:xfrm>
            <a:off x="529920" y="189000"/>
            <a:ext cx="474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¿Donde estamos pa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1152360" y="1274760"/>
            <a:ext cx="7394760" cy="4692600"/>
          </a:xfrm>
          <a:prstGeom prst="rect">
            <a:avLst/>
          </a:prstGeom>
          <a:ln w="0">
            <a:noFill/>
          </a:ln>
        </p:spPr>
      </p:pic>
      <p:sp>
        <p:nvSpPr>
          <p:cNvPr id="106" name="Multidocumento 1">
            <a:hlinkClick r:id="rId2" action="ppaction://hlinksldjump"/>
          </p:cNvPr>
          <p:cNvSpPr/>
          <p:nvPr/>
        </p:nvSpPr>
        <p:spPr>
          <a:xfrm>
            <a:off x="5842080" y="4230720"/>
            <a:ext cx="422280" cy="272880"/>
          </a:xfrm>
          <a:prstGeom prst="flowChartMultidocumen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o 31"/>
          <p:cNvGrpSpPr/>
          <p:nvPr/>
        </p:nvGrpSpPr>
        <p:grpSpPr>
          <a:xfrm>
            <a:off x="203040" y="437040"/>
            <a:ext cx="8626680" cy="5859000"/>
            <a:chOff x="203040" y="437040"/>
            <a:chExt cx="8626680" cy="5859000"/>
          </a:xfrm>
        </p:grpSpPr>
        <p:pic>
          <p:nvPicPr>
            <p:cNvPr id="108" name="Picture 2" descr="ESFERAS1"/>
            <p:cNvPicPr/>
            <p:nvPr/>
          </p:nvPicPr>
          <p:blipFill>
            <a:blip r:embed="rId1"/>
            <a:stretch/>
          </p:blipFill>
          <p:spPr>
            <a:xfrm>
              <a:off x="2786400" y="548280"/>
              <a:ext cx="6043320" cy="57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3"/>
            <p:cNvSpPr/>
            <p:nvPr/>
          </p:nvSpPr>
          <p:spPr>
            <a:xfrm>
              <a:off x="8515080" y="2741400"/>
              <a:ext cx="1774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7553880" y="3672000"/>
              <a:ext cx="111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t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4796640" y="5412960"/>
              <a:ext cx="203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edios mas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tarios, locales, regionales, nacionale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813040" y="2404800"/>
              <a:ext cx="1418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scue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2948760" y="3376800"/>
              <a:ext cx="69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niños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6832800" y="4329000"/>
              <a:ext cx="159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da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r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7413840" y="2844720"/>
              <a:ext cx="1092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e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616440" y="5081760"/>
              <a:ext cx="121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íderes de opin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3381840" y="4626360"/>
              <a:ext cx="168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ubernamenta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ocal, regional y nacion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064200" y="1007640"/>
              <a:ext cx="1906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Organis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203040" y="437040"/>
              <a:ext cx="1364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Soci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116320" y="1470960"/>
              <a:ext cx="1386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Familiares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6207120" y="1947240"/>
              <a:ext cx="1312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remios empresa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829320" y="2833200"/>
              <a:ext cx="1177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Ali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4913280" y="2590560"/>
              <a:ext cx="1940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lta Dir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ers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duane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ractic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ses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indic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Oper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4235400" y="2081880"/>
              <a:ext cx="105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Jóv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5036760" y="4678920"/>
              <a:ext cx="16642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088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Comisiones  del congreso de inter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3030480" y="4179960"/>
              <a:ext cx="96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ng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3521160" y="1215000"/>
              <a:ext cx="179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iniste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6944760" y="173304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gle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5004360" y="66708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8 CuadroTexto"/>
          <p:cNvSpPr/>
          <p:nvPr/>
        </p:nvSpPr>
        <p:spPr>
          <a:xfrm>
            <a:off x="138240" y="189000"/>
            <a:ext cx="30765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¿A quien nos dirigi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Map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úbl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erf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 aud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27040" y="1689120"/>
          <a:ext cx="5919840" cy="4957920"/>
        </p:xfrm>
        <a:graphic>
          <a:graphicData uri="http://schemas.openxmlformats.org/drawingml/2006/table">
            <a:tbl>
              <a:tblPr/>
              <a:tblGrid>
                <a:gridCol w="1971720"/>
                <a:gridCol w="3948120"/>
              </a:tblGrid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ores de cambio mediante la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íderes, nichos de mercado, particip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magen positiva y competi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queñ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inform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sponsabilidad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ntralo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stituciones af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corru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dos se logrará más impa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iod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arto p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ocios de un mismo nego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No para publicar sino para cono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úblico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un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valoración del funcio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ctores Regionales de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sibilidad Medi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ángulo 1"/>
          <p:cNvSpPr/>
          <p:nvPr/>
        </p:nvSpPr>
        <p:spPr>
          <a:xfrm>
            <a:off x="6622920" y="4383000"/>
            <a:ext cx="174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Co-beneficio, el ganar –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Que nos regalamos el uno al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ángulo 3"/>
          <p:cNvSpPr/>
          <p:nvPr/>
        </p:nvSpPr>
        <p:spPr>
          <a:xfrm>
            <a:off x="277920" y="361800"/>
            <a:ext cx="8550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:  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hacer  empa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saber a qué interés apelo para convertirlo en mi aliado o para que acepte participar en mi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6" descr="http://ejemplosde.info/wp-content/uploads/2014/03/Qu%C3%A9-regalar-a-un-hombre-Originales.jpg"/>
          <p:cNvPicPr/>
          <p:nvPr/>
        </p:nvPicPr>
        <p:blipFill>
          <a:blip r:embed="rId1"/>
          <a:stretch/>
        </p:blipFill>
        <p:spPr>
          <a:xfrm>
            <a:off x="6357960" y="2103480"/>
            <a:ext cx="246204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63480" y="1789200"/>
          <a:ext cx="7848720" cy="4611600"/>
        </p:xfrm>
        <a:graphic>
          <a:graphicData uri="http://schemas.openxmlformats.org/drawingml/2006/table">
            <a:tbl>
              <a:tblPr/>
              <a:tblGrid>
                <a:gridCol w="3270240"/>
                <a:gridCol w="4578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ipos de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Énf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Niños de 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ferencia entre los individual y lo de todos (proceso de socializ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resupuesto anual asignado a edu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acilidades y ejemplos para crear estrategias didácticas y sesiones de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Brechas ciudadanas, desigual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rectores 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Situación de su región, presupuesto asig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toridades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4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La eficiencia en la gestión recaudatoria de una administración tributaria depende mucho de la conciencia tributaria de sus ciudad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equeños y medianos empr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ifras de informalidad y competencia desl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Vigilancia del gasto público, lucha contra la corrup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Rectángulo 4"/>
          <p:cNvSpPr/>
          <p:nvPr/>
        </p:nvSpPr>
        <p:spPr>
          <a:xfrm>
            <a:off x="663480" y="36504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: Para saber como adapto mis contenidos, que temas abordo, como respondo al rechazo y al cuest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22:09:29Z</dcterms:created>
  <dc:creator>**</dc:creator>
  <dc:description/>
  <dc:language>en-US</dc:language>
  <cp:lastModifiedBy>RODRIGO morales</cp:lastModifiedBy>
  <dcterms:modified xsi:type="dcterms:W3CDTF">2015-07-30T12:15:29Z</dcterms:modified>
  <cp:revision>169</cp:revision>
  <dc:subject/>
  <dc:title>Slide 1</dc:title>
</cp:coreProperties>
</file>