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0.wmf" ContentType="image/x-wmf"/>
  <Override PartName="/ppt/media/image4.jpeg" ContentType="image/jpeg"/>
  <Override PartName="/ppt/media/image1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34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dt" idx="38"/>
          </p:nvPr>
        </p:nvSpPr>
        <p:spPr>
          <a:xfrm>
            <a:off x="3955680" y="-360"/>
            <a:ext cx="3027240" cy="290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sldImg"/>
          </p:nvPr>
        </p:nvSpPr>
        <p:spPr>
          <a:xfrm>
            <a:off x="1649160" y="409320"/>
            <a:ext cx="3686040" cy="276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ftr" idx="39"/>
          </p:nvPr>
        </p:nvSpPr>
        <p:spPr>
          <a:xfrm>
            <a:off x="-360" y="8921520"/>
            <a:ext cx="3027240" cy="347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 type="sldNum" idx="40"/>
          </p:nvPr>
        </p:nvSpPr>
        <p:spPr>
          <a:xfrm>
            <a:off x="3955680" y="8921520"/>
            <a:ext cx="3027240" cy="347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3F49-A409-47FB-B44F-AF40099E87F1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3 Marcador de número de diapositiva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7740-CEE1-4155-B179-2E0AB1FA9B3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F2F5-5439-48FF-82E2-5AF578D8389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omentar una ciudadanía solidaria, participativa y consciente de sus derechos y obligacio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o se trata solo de explicar por qué se deben pagar los impuestos, sino que intenta lograr el desarrollo de actitudes de responsabilidad y compromiso frente al bien común y las normas que regulan la convivenc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3 Marcador de número de diapositiva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ADE5-D4EE-4809-A943-655B3145197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tas anuales de cumplimiento con visitas a alumnos de educación básica y med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3 Marcador de número de diapositiva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4CF1-3445-4FA2-BE05-686F5E7B9FD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82C8-EC22-452C-B618-264E24AF2E0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lianza de cooperación con Novasur (Canal de TV educativa del Consejo Nacional de Televisión) y a través de ella de canales regionales de todo el paí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 una primera instancia se han transmitido las cápsulas de 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“Las Aventuras de Ivo la Chinchilla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urante el año 2012 se está produciendo una 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serie dirigida al público adolescente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, en conjunto con Tesorería y Adua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3 Marcador de número de diapositiva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2A4E-9B22-4442-B725-77BBD52DFCD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3 Marcador de número de diapositiva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3362-3BA6-44F0-B484-30DAF4011EB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555D-D84E-4216-8A9D-843B9365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7312-5C0E-4122-B435-9961B399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417168-FD51-4B49-B9FD-E4011AA0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469C8D-5120-434D-8E60-1DA93B8C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063D0A-EB0A-4EE9-AEF9-3E8C09A6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3D11B4-A110-49F2-A104-19DB3963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F18542-3635-472C-A1F7-DA7ABA64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548B2F-0A27-4D5F-A0D9-2C53A5D5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9C9B3C-D3B8-4269-A0EB-2F9FDF6B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E1F5CC-8263-4057-93ED-9E6742B3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F30FF2-74FD-4EFD-9029-291F2A53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EA08A-8BFB-4365-AFC5-BCC68F2723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36BB-F351-4922-BA5E-E357CA1A9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7F1BD-4B29-44D7-BBBF-7273E774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48C64-FCB1-44D3-95E1-0FEDFB7A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582FF-D5EC-4370-94F8-0620DEB2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41B5E-4716-48CB-8243-A8370263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5FAD7-E04B-491E-9EC9-DD7E650D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751A4-7EE2-477E-9627-0533B825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84B21-A727-446A-8058-AF37B9A2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AD6F8-276A-44F8-A780-C577A71D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30A21-802D-4D13-BA8A-5067F21C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AF769-E218-4E7A-AE09-0163B8AA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0E6C-D964-40E5-BCEE-5D2A3C85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16F59-3245-47EE-A775-6C3B935994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360224-990B-4DAA-A37D-C086B07E39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FFF965-8CAF-45A1-994F-9B794602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8EADF9-001D-451B-AB60-C8ACA7FB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F65D8B-0EC6-4646-B06F-B344DE46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F7F4B5-02A6-4754-8C0E-48B798C9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6A9A14-B1A1-44EC-9A05-96E258E8A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0362D4-54A1-4443-9FA9-C1D3329C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798BA8-98C3-4A93-BD0C-2E8C1FD3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6D4872-4C1C-46DA-AF6C-A0D36AFF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CB2D-5DB9-4498-B24E-3893FAE8A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79FDCD-60B0-424A-90D8-E38C03FD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2071C9-422D-429B-8B35-FD547850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EF7398-51F8-4080-B46E-D5B42A55FC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9B0253-192C-489E-934D-F846042D00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DBFE73A-3B99-4CB6-A2DA-D2DB9605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DEDEAE-B4FE-457A-A05D-471431A1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25B196A-C56B-42B2-BFD0-32D4CCC2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09757BD-C114-4936-9B8E-F8B8E53F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4599947-C181-4BE0-837A-F064B17D4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0E2A406-BBF5-48F1-9EC0-A7DBB1DF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B1BC-F7B0-4A2A-AA17-F3039BA6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486F0E-B292-4636-A61B-0F78F951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BBA5FD8-1E1F-4C37-9AEF-B9BF95F6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997FE64-B152-4002-A713-63DB9CFE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2F26D9-3B90-418F-A830-8416DB6F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FAA94B0-5CBE-4EAE-B1FC-B4C79DE90C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C5581-9CE4-46B6-91D5-B8172DF623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73801-8415-4447-8285-4AF65F71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9A404-6FAE-42CD-81BA-36026C46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FA1D0-A761-4D02-9E3A-3C4B205F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9C742-7825-4899-9BD7-8993A1F68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9675-583C-49E0-B3F4-B3E68025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D895E-E1D9-4971-923D-6F807B9A1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0D919-AE96-40FA-8A6A-EF3DE85C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8ACD8-5EBA-4A2C-A0DC-0AB697F6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058E5-0A0A-4178-AEFE-5049B1F4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BAAE9-F9D3-421A-A01B-EE078E22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9F913-957F-4446-82B5-DCC9EBC2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0C307-4805-4B4D-98D3-CE809B0879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3620C9-0A7C-4B75-A348-D7DFDA3E22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45EA7E-223A-4994-A233-91372A63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A16DE6-F97E-4A4C-ABBE-11870758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ED8B-4300-4453-93F5-D1640179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E97C46-DC64-4193-8D90-E4D121B9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EB80F2A-7E31-4C97-925E-199484D5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43AE2FF-AE14-4AAD-94E1-E5B530B72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44A9F40-46F7-4178-89CA-A7D4FF55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35B934-69F2-499B-8093-25AA6C50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11DED0C-BD3A-440E-9027-4E23C140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880FF08-35B1-4BF9-9233-039D0138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934B065-6A96-47CD-8537-78338180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D978F4-7476-49AF-B13F-98B0A4CDD7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A9091CF-7832-4C19-AC77-13BC125EA9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2CFC-903D-4459-A25D-74A5EB80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CD144AF-5409-4DE5-870F-6996308E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1DEEDEC-E525-4420-9EED-85B79EB7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6D7B315-8E68-4D31-82AB-C6544BD0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C4C4BC1-516C-4AEC-93EF-73089039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37610D8-BE82-466C-84D0-73429A7C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962A8CF-B471-43B5-BCCD-C6E35058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B90DABA-9E99-4C67-B76A-6E74728F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3B135E4-0773-475F-A098-6601756B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144D50F-6B90-4D8C-A455-4CF5CD1D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3BCBAEC-A4A9-40A6-9DDC-36EFB045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DDD1-EBB8-49A5-8AC5-E46EBB19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41E9D27-C228-4941-B76F-A67895ABD1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718A-483A-4DD1-A792-3F25AB57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D4C4-BF73-41AD-B834-90E329A4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DC99-1D3A-4381-A7A5-62939D9B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A4A1-7964-4194-821A-CE4E529B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5567-8E54-4E06-8C8F-60085AA3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4793-360C-4FFA-9464-861D64EA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5876-567C-4C15-91A0-531E56FA4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F2C96A-1B71-406E-8877-107884384F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7EA1EE-C233-40EA-A725-6CFD18A4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6BE058-8F03-445D-B0FF-12C7A1A6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B00BE5-28EC-427E-8F5D-CC2AF28F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A07791-3B9B-4EB4-BCF4-6AC50C74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4A95-D758-4C1A-AE12-B067B577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B2F205-A02F-4358-9996-C7F4C58F2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224418-D463-44F7-9CF7-E2A3A2F7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B689F1-D3F4-4D55-B6B1-57705F93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AC1AF1-5239-42E4-9E46-9F010A6D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5B2DB9-59AE-4435-93C7-5908C11B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93E57A-9E16-4598-8DAB-041094E5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4FFEF7-DC32-48C6-A891-9996F3AAAE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CAEFFF-FF30-4C50-A4CA-25BC1EB887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CECC8B-C96F-4411-ACBA-A03DE964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8EFDD2-2EFC-4A04-8DFA-E9354DBE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DA20-27F5-4F9E-8C23-047A0135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8D4803-6A7D-4123-B3D1-C2FA5C24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B0460B-86AD-420B-9766-A9B4A2B6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B63CF9-3D6B-4D60-A997-0561BAA14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0E1268-3160-4892-90D2-A125DB3E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D9944A-E7C9-4A6B-A10D-12C856F7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8D7D6B-F33D-4967-8FC3-09CBEB5D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44574A-C2C1-42A6-B660-A5F43D63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5FE366-A654-4D90-9080-F41AE7B9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7DD4CF-69E1-4857-8C51-182D22BCB3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9FBF29-536E-4B51-929C-5E18698D6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FA5B-0821-45F7-8DC3-736E5B8A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34D5A8-6503-4096-A0BE-512F19EE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1C04A6-5100-4F60-8392-1A8B0BF9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65D12F-C59D-406A-9ABA-2ED5B407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2D0925-E716-485E-930C-108CEA4D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830CC4-5C8C-44A3-97C7-4A760E06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C7F40E-CF1E-4EC6-9EB6-6294C5CC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D5BABF-1844-47F7-B104-E6BF3409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3799AD-AC3A-4F5C-BEDD-A7AC1994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C4BE0B-5481-4781-9C61-CE6D3427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6195B5-659C-41D1-99C3-D69085DC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B7FF-739D-4674-8125-0A6BED89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A3C741-AF52-40FF-9B98-19E25DFD2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B159F3-1B25-4ADB-A0BD-5D2081CE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E2431D-2599-4D38-928E-A8FA5A79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19378C-66B3-47C0-B78B-DDFAC615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689DA5-2242-4FB5-9B14-52B8F520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268622-A72F-478D-A96F-13726DE2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D24495-3BFA-466C-8120-B73BCFED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43F343-424C-4491-B580-F28D1A39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D6DE4C-4716-4F1C-BA1F-8D12064D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A30931-D8F8-41DC-BE79-FF3A21DD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7376-4241-4C38-AB4C-75C0BD0F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ED6198-5360-4BD3-B06A-750E49E8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8637A9-E1DD-43E2-830F-11C6CC7EB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CA86A6-CA2E-49EE-8E16-E29E2000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24BE11-60AE-4E2A-9B60-04590726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B352D3-AFA0-4F02-ABF8-0A300A85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AC80F2-CB0E-4B1E-A8BB-FB6C314F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1423BC-0F96-4EDF-9636-F3340F97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AB2178-B454-4BCB-89E7-179BB66F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6FF4F9-896A-42E5-BA96-C10FAA90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4EDBCB-CC32-41ED-BC82-94DAF331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CC9F-6216-4812-A65D-F817875F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852595-9D3B-4BF3-820E-CAFCB1DF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BD4022-D340-4811-9857-4D4CAFBE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4D4095-BB40-425B-BFC5-BD2E51E0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543C98-1D92-4B6D-AD9C-29A511735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86C472-ECB6-4722-A275-F4DB73AA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103869-9CA4-49C8-B0A8-8E3AE25D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2E1289-0346-47AF-82E7-40817AF7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F66E2B-85B7-4C1E-B435-AE8E5376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4FFF93-31D7-4C5D-9536-11772E0F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6FC11A-07C0-40AE-A357-AA2F7D00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4318-9AA9-4740-9D2D-F85EB8D1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8E4178-4DC1-49FB-A083-FE9CE4D6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7B2D72-9448-4483-B0DF-731A363E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0CF7FB-D7AF-4455-96DE-E4732C75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414AA0-8E65-4F92-A625-5904A39D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136EDD-336A-4D73-9836-570ED825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F4CB32-E2D7-4147-95AB-B6ABA997F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C25B4A-E61F-47B6-82AF-551D4447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531A80-9495-4107-9AE2-202543A02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66484C-5598-4A3E-87A7-B0CE0472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245C8F-E3F1-4DA9-838A-8054AC25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3616-2599-466D-BB05-CE587D78E83A}" type="datetime">
              <a:rPr b="0" lang="es-C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9352-A24D-466B-8E68-D1DF939F315B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A74E-2430-4447-A9E7-D46DE7E0C604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3416-5C26-47E9-9524-29242403FB19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F5E9-C18B-47F1-B249-B45198646A30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A9D6-DABC-455F-B764-6CF5765F69EC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1D05-D15A-4229-8873-A6B1CD16BC8F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8C58-438E-4121-BC11-452A7F7EB08D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E8F7-2A0A-4396-AE28-8EA93B4E438B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004D-632F-4056-8301-CDB145BBF657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FD73-E45F-48A3-B44B-034C819AD775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B35B-40FF-450C-8F3D-0931BA0B44BF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E7F7-F11D-457B-A35D-4EF9FE0CB670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79FC-C59E-4291-A0C0-8AC2609DF9A5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38AF-4210-4B46-B0A5-04896DD3352F}" type="datetime">
              <a:rPr b="0" lang="es-C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D09B-974C-4D0E-AC82-B0DF9261A6AE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1B54-8A84-43A2-84CA-7BE0F332DA79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0E31-A640-4021-BF84-2CA4EB881B49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F164-F5AB-48CD-ABA6-EF0E31FD4AF6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6382-B934-453F-B615-10EE8E47D12E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81DA-BEA7-40F9-999C-F14DD1620844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12A3-4615-49A9-A334-6D8BF4FD2977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C13B-9452-435E-BF88-F348DE439FBF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50A9-A9C2-47CA-9804-A3288DA35C8A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674A-EC5F-4FB3-B7E6-1AF83A258F02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EFAD-04BF-4DE0-9A5C-1965FF64B295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6CF2-6F0B-43A3-9A36-B219AB2F2035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198E-0725-4D6D-8382-DF81311307DD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5D07-E9E9-4F2B-91AE-DEC4D2AE683E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A26A-7B37-4C17-A23A-BD62970C98B2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2 Subtítulo"/>
          <p:cNvSpPr/>
          <p:nvPr/>
        </p:nvSpPr>
        <p:spPr>
          <a:xfrm>
            <a:off x="108000" y="6310440"/>
            <a:ext cx="158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ángulo 1"/>
          <p:cNvSpPr/>
          <p:nvPr/>
        </p:nvSpPr>
        <p:spPr>
          <a:xfrm>
            <a:off x="324000" y="1484280"/>
            <a:ext cx="8351640" cy="26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aller Internacional de Educación Fis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La Paz, Bolivia, del 27 al 31 de julio de 201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Imagen 1" descr=""/>
          <p:cNvPicPr/>
          <p:nvPr/>
        </p:nvPicPr>
        <p:blipFill>
          <a:blip r:embed="rId2"/>
          <a:stretch/>
        </p:blipFill>
        <p:spPr>
          <a:xfrm>
            <a:off x="6516720" y="5373720"/>
            <a:ext cx="1862280" cy="1073160"/>
          </a:xfrm>
          <a:prstGeom prst="rect">
            <a:avLst/>
          </a:prstGeom>
          <a:ln w="0">
            <a:noFill/>
          </a:ln>
        </p:spPr>
      </p:pic>
      <p:pic>
        <p:nvPicPr>
          <p:cNvPr id="617" name="Imagen 1" descr=""/>
          <p:cNvPicPr/>
          <p:nvPr/>
        </p:nvPicPr>
        <p:blipFill>
          <a:blip r:embed="rId3"/>
          <a:stretch/>
        </p:blipFill>
        <p:spPr>
          <a:xfrm>
            <a:off x="1042920" y="5226120"/>
            <a:ext cx="1832040" cy="1220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F383-82B0-43B9-B896-131921A7CAF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3" descr="D:\alejandra.garcia\Mis documentos\2009-07-03-para respaldo\1.respaldar_12.01.09\0. Alejandra\REQ_INTERNOS\2009\SIIEDUCA_PLANETASII\logo final planeta SII_sin-dir-web.gif"/>
          <p:cNvPicPr/>
          <p:nvPr/>
        </p:nvPicPr>
        <p:blipFill>
          <a:blip r:embed="rId1"/>
          <a:stretch/>
        </p:blipFill>
        <p:spPr>
          <a:xfrm>
            <a:off x="878040" y="5753160"/>
            <a:ext cx="2155680" cy="745920"/>
          </a:xfrm>
          <a:prstGeom prst="rect">
            <a:avLst/>
          </a:prstGeom>
          <a:ln w="0">
            <a:noFill/>
          </a:ln>
        </p:spPr>
      </p:pic>
      <p:sp>
        <p:nvSpPr>
          <p:cNvPr id="620" name="8 CuadroTexto"/>
          <p:cNvSpPr/>
          <p:nvPr/>
        </p:nvSpPr>
        <p:spPr>
          <a:xfrm>
            <a:off x="3187800" y="11592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ducación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1 Imagen" descr=""/>
          <p:cNvPicPr/>
          <p:nvPr/>
        </p:nvPicPr>
        <p:blipFill>
          <a:blip r:embed="rId2"/>
          <a:stretch/>
        </p:blipFill>
        <p:spPr>
          <a:xfrm>
            <a:off x="3568680" y="5330880"/>
            <a:ext cx="1806480" cy="1152360"/>
          </a:xfrm>
          <a:prstGeom prst="rect">
            <a:avLst/>
          </a:prstGeom>
          <a:ln w="0">
            <a:noFill/>
          </a:ln>
        </p:spPr>
      </p:pic>
      <p:sp>
        <p:nvSpPr>
          <p:cNvPr id="622" name="Rectangle 7"/>
          <p:cNvSpPr/>
          <p:nvPr/>
        </p:nvSpPr>
        <p:spPr>
          <a:xfrm>
            <a:off x="471600" y="1054080"/>
            <a:ext cx="8001000" cy="28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nel III Estrategias de comunicación vinculadas a la educación o la sensibilización ciudadana con series de TV y Videojue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0253f"/>
                </a:solidFill>
                <a:latin typeface="Arial"/>
                <a:ea typeface="Calibri"/>
              </a:rPr>
              <a:t>Serie de Televisión el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Calibri"/>
              </a:rPr>
              <a:t>Debut de la Banda</a:t>
            </a:r>
            <a:r>
              <a:rPr b="1" lang="es-ES" sz="2400" spc="-1" strike="noStrike">
                <a:solidFill>
                  <a:srgbClr val="10253f"/>
                </a:solidFill>
                <a:latin typeface="Arial"/>
                <a:ea typeface="Calibri"/>
              </a:rPr>
              <a:t> y su versión regional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Imagen 1" descr=""/>
          <p:cNvPicPr/>
          <p:nvPr/>
        </p:nvPicPr>
        <p:blipFill>
          <a:blip r:embed="rId3"/>
          <a:stretch/>
        </p:blipFill>
        <p:spPr>
          <a:xfrm>
            <a:off x="6300720" y="5516640"/>
            <a:ext cx="1862280" cy="988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6 Rectángulo"/>
          <p:cNvSpPr/>
          <p:nvPr/>
        </p:nvSpPr>
        <p:spPr>
          <a:xfrm>
            <a:off x="-684360" y="977760"/>
            <a:ext cx="763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Arial"/>
              </a:rPr>
              <a:t>El Debut de la B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1 Imagen" descr=""/>
          <p:cNvPicPr/>
          <p:nvPr/>
        </p:nvPicPr>
        <p:blipFill>
          <a:blip r:embed="rId1"/>
          <a:stretch/>
        </p:blipFill>
        <p:spPr>
          <a:xfrm>
            <a:off x="554040" y="1579680"/>
            <a:ext cx="3895560" cy="3857400"/>
          </a:xfrm>
          <a:prstGeom prst="rect">
            <a:avLst/>
          </a:prstGeom>
          <a:ln w="0">
            <a:noFill/>
          </a:ln>
        </p:spPr>
      </p:pic>
      <p:sp>
        <p:nvSpPr>
          <p:cNvPr id="626" name="2 Rectángulo"/>
          <p:cNvSpPr/>
          <p:nvPr/>
        </p:nvSpPr>
        <p:spPr>
          <a:xfrm>
            <a:off x="4716360" y="1550880"/>
            <a:ext cx="430848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70c0"/>
                </a:solidFill>
                <a:latin typeface="Arial"/>
              </a:rPr>
              <a:t>Serie dirigida a jóvenes de educación media, resultado de la alianza entre SII, Aduana y Tesorería, más la colaboración del Consejo Nacional de Televisión (CNTV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70c0"/>
                </a:solidFill>
                <a:latin typeface="Arial"/>
              </a:rPr>
              <a:t>Cuatro capítulos que abordan temas fiscales y de la Administración Tribu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5 Imagen" descr=""/>
          <p:cNvPicPr/>
          <p:nvPr/>
        </p:nvPicPr>
        <p:blipFill>
          <a:blip r:embed="rId2"/>
          <a:stretch/>
        </p:blipFill>
        <p:spPr>
          <a:xfrm>
            <a:off x="7380360" y="5059440"/>
            <a:ext cx="1436760" cy="917640"/>
          </a:xfrm>
          <a:prstGeom prst="rect">
            <a:avLst/>
          </a:prstGeom>
          <a:ln w="0">
            <a:noFill/>
          </a:ln>
        </p:spPr>
      </p:pic>
      <p:sp>
        <p:nvSpPr>
          <p:cNvPr id="628" name="8 CuadroTexto"/>
          <p:cNvSpPr/>
          <p:nvPr/>
        </p:nvSpPr>
        <p:spPr>
          <a:xfrm>
            <a:off x="3117960" y="14436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ducación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Imagen 6" descr=""/>
          <p:cNvPicPr/>
          <p:nvPr/>
        </p:nvPicPr>
        <p:blipFill>
          <a:blip r:embed="rId1"/>
          <a:stretch/>
        </p:blipFill>
        <p:spPr>
          <a:xfrm>
            <a:off x="2627280" y="5680080"/>
            <a:ext cx="1208160" cy="1001880"/>
          </a:xfrm>
          <a:prstGeom prst="rect">
            <a:avLst/>
          </a:prstGeom>
          <a:ln w="0">
            <a:noFill/>
          </a:ln>
        </p:spPr>
      </p:pic>
      <p:pic>
        <p:nvPicPr>
          <p:cNvPr id="630" name="Imagen 7" descr=""/>
          <p:cNvPicPr/>
          <p:nvPr/>
        </p:nvPicPr>
        <p:blipFill>
          <a:blip r:embed="rId2"/>
          <a:stretch/>
        </p:blipFill>
        <p:spPr>
          <a:xfrm>
            <a:off x="1403280" y="5546880"/>
            <a:ext cx="901800" cy="1103040"/>
          </a:xfrm>
          <a:prstGeom prst="rect">
            <a:avLst/>
          </a:prstGeom>
          <a:ln w="0">
            <a:noFill/>
          </a:ln>
        </p:spPr>
      </p:pic>
      <p:sp>
        <p:nvSpPr>
          <p:cNvPr id="631" name="Rectángulo 9"/>
          <p:cNvSpPr/>
          <p:nvPr/>
        </p:nvSpPr>
        <p:spPr>
          <a:xfrm>
            <a:off x="4075200" y="19890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http://www.youtube.com/watch?v=bppwHxtMYZI&amp;feature=youtu.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8 CuadroTexto"/>
          <p:cNvSpPr/>
          <p:nvPr/>
        </p:nvSpPr>
        <p:spPr>
          <a:xfrm>
            <a:off x="3117960" y="14436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ducación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Imagen 1" descr=""/>
          <p:cNvPicPr/>
          <p:nvPr/>
        </p:nvPicPr>
        <p:blipFill>
          <a:blip r:embed="rId3"/>
          <a:stretch/>
        </p:blipFill>
        <p:spPr>
          <a:xfrm>
            <a:off x="3971880" y="5757840"/>
            <a:ext cx="1862280" cy="988920"/>
          </a:xfrm>
          <a:prstGeom prst="rect">
            <a:avLst/>
          </a:prstGeom>
          <a:ln w="0">
            <a:noFill/>
          </a:ln>
        </p:spPr>
      </p:pic>
      <p:sp>
        <p:nvSpPr>
          <p:cNvPr id="634" name="CuadroTexto 2"/>
          <p:cNvSpPr/>
          <p:nvPr/>
        </p:nvSpPr>
        <p:spPr>
          <a:xfrm>
            <a:off x="4452840" y="2678040"/>
            <a:ext cx="3613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70c0"/>
                </a:solidFill>
                <a:latin typeface="Arial"/>
              </a:rPr>
              <a:t>La serie sirve como material para visitas que los funcionarios realizan a establecimientos educacionales, con la cual dan inicio a conversación y debate con los alum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2 Rectángulo"/>
          <p:cNvSpPr/>
          <p:nvPr/>
        </p:nvSpPr>
        <p:spPr>
          <a:xfrm>
            <a:off x="4203720" y="1181160"/>
            <a:ext cx="43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Arial"/>
              </a:rPr>
              <a:t>Difusión: Presente en sitio educativo www.siieduca.cl  : Sección jóv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11 Imagen" descr=""/>
          <p:cNvPicPr/>
          <p:nvPr/>
        </p:nvPicPr>
        <p:blipFill>
          <a:blip r:embed="rId4"/>
          <a:stretch/>
        </p:blipFill>
        <p:spPr>
          <a:xfrm>
            <a:off x="450720" y="1938240"/>
            <a:ext cx="308448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AE9E-E601-4E62-AA91-E4CB430E49A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3" descr="http://www.expoaprende.cl/images/participantes/novasur.jpg"/>
          <p:cNvPicPr/>
          <p:nvPr/>
        </p:nvPicPr>
        <p:blipFill>
          <a:blip r:embed="rId1"/>
          <a:stretch/>
        </p:blipFill>
        <p:spPr>
          <a:xfrm>
            <a:off x="595440" y="2998800"/>
            <a:ext cx="2998800" cy="2373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39" name="7 Imagen" descr="asosiados a novasur.gif"/>
          <p:cNvPicPr/>
          <p:nvPr/>
        </p:nvPicPr>
        <p:blipFill>
          <a:blip r:embed="rId2"/>
          <a:stretch/>
        </p:blipFill>
        <p:spPr>
          <a:xfrm>
            <a:off x="5186520" y="2394000"/>
            <a:ext cx="3628800" cy="3585960"/>
          </a:xfrm>
          <a:prstGeom prst="rect">
            <a:avLst/>
          </a:prstGeom>
          <a:ln w="0">
            <a:noFill/>
          </a:ln>
        </p:spPr>
      </p:pic>
      <p:grpSp>
        <p:nvGrpSpPr>
          <p:cNvPr id="640" name="8 Flecha derecha"/>
          <p:cNvGrpSpPr/>
          <p:nvPr/>
        </p:nvGrpSpPr>
        <p:grpSpPr>
          <a:xfrm>
            <a:off x="3932280" y="3773520"/>
            <a:ext cx="1163520" cy="695160"/>
            <a:chOff x="3932280" y="3773520"/>
            <a:chExt cx="1163520" cy="695160"/>
          </a:xfrm>
        </p:grpSpPr>
        <p:pic>
          <p:nvPicPr>
            <p:cNvPr id="641" name="8 Flecha derecha" descr=""/>
            <p:cNvPicPr/>
            <p:nvPr/>
          </p:nvPicPr>
          <p:blipFill>
            <a:blip r:embed="rId3"/>
            <a:stretch/>
          </p:blipFill>
          <p:spPr>
            <a:xfrm>
              <a:off x="3932280" y="3773520"/>
              <a:ext cx="116352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3948120" y="3954600"/>
              <a:ext cx="9651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Rectángulo 1"/>
          <p:cNvSpPr/>
          <p:nvPr/>
        </p:nvSpPr>
        <p:spPr>
          <a:xfrm>
            <a:off x="216000" y="1338120"/>
            <a:ext cx="871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70c0"/>
                </a:solidFill>
                <a:latin typeface="Arial"/>
              </a:rPr>
              <a:t>Cobertura directa de 5.000 establecimientos educacionales a través del canal Novasur. Además, la señal de Novasur, se transmite a través de una red de canales regionales y a través del cable</a:t>
            </a:r>
            <a:r>
              <a:rPr b="1" i="1" lang="es-CL" sz="16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8 CuadroTexto"/>
          <p:cNvSpPr/>
          <p:nvPr/>
        </p:nvSpPr>
        <p:spPr>
          <a:xfrm>
            <a:off x="3117960" y="14436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ducación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6 Rectángulo"/>
          <p:cNvSpPr/>
          <p:nvPr/>
        </p:nvSpPr>
        <p:spPr>
          <a:xfrm>
            <a:off x="636480" y="933480"/>
            <a:ext cx="763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Arial"/>
              </a:rPr>
              <a:t>Internacionalización </a:t>
            </a:r>
            <a:r>
              <a:rPr b="1" lang="es-CL" sz="2000" spc="-1" strike="noStrike">
                <a:solidFill>
                  <a:srgbClr val="cc0000"/>
                </a:solidFill>
                <a:latin typeface="Arial"/>
              </a:rPr>
              <a:t>del “Debut de la BAND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1 Imagen" descr=""/>
          <p:cNvPicPr/>
          <p:nvPr/>
        </p:nvPicPr>
        <p:blipFill>
          <a:blip r:embed="rId1"/>
          <a:stretch/>
        </p:blipFill>
        <p:spPr>
          <a:xfrm>
            <a:off x="554040" y="1579680"/>
            <a:ext cx="3895560" cy="3857400"/>
          </a:xfrm>
          <a:prstGeom prst="rect">
            <a:avLst/>
          </a:prstGeom>
          <a:ln w="0">
            <a:noFill/>
          </a:ln>
        </p:spPr>
      </p:pic>
      <p:sp>
        <p:nvSpPr>
          <p:cNvPr id="647" name="Rectángulo 2"/>
          <p:cNvSpPr/>
          <p:nvPr/>
        </p:nvSpPr>
        <p:spPr>
          <a:xfrm>
            <a:off x="4508640" y="1611360"/>
            <a:ext cx="43113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Surgimiento de la idea de compartir “El Debut de la Banda” con la Red de Educación Fisca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con apoyo de EuroSoc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Países interesados envían guiones y observaciones con las que se trabaja una versión neut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Se realiza doblaje a español neutro, segú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Guion y características de cada Adm. Tributar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Mayo de 2015 existe una versión adaptada a sus realidad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222268"/>
                </a:solidFill>
                <a:latin typeface="Arial"/>
              </a:rPr>
              <a:t>Brasil, Costa Rica, El Salvador, Guatemala, Honduras, México, Perú, Urugu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8 CuadroTexto"/>
          <p:cNvSpPr/>
          <p:nvPr/>
        </p:nvSpPr>
        <p:spPr>
          <a:xfrm>
            <a:off x="3117960" y="14436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ducación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5" descr="logo_sii"/>
          <p:cNvPicPr/>
          <p:nvPr/>
        </p:nvPicPr>
        <p:blipFill>
          <a:blip r:embed="rId2"/>
          <a:stretch/>
        </p:blipFill>
        <p:spPr>
          <a:xfrm>
            <a:off x="6929280" y="5500800"/>
            <a:ext cx="1552680" cy="785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650" name="1 Título"/>
          <p:cNvSpPr/>
          <p:nvPr/>
        </p:nvSpPr>
        <p:spPr>
          <a:xfrm>
            <a:off x="611280" y="2637000"/>
            <a:ext cx="81039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Muchas gra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3 Imagen" descr="ivo_etiqueta_transparente.gif"/>
          <p:cNvPicPr/>
          <p:nvPr/>
        </p:nvPicPr>
        <p:blipFill>
          <a:blip r:embed="rId3"/>
          <a:stretch/>
        </p:blipFill>
        <p:spPr>
          <a:xfrm>
            <a:off x="4859280" y="1316160"/>
            <a:ext cx="3400560" cy="3181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5:26:36Z</dcterms:created>
  <dc:creator>OPCGI-SDE</dc:creator>
  <dc:description/>
  <dc:language>en-US</dc:language>
  <cp:lastModifiedBy>Usuario</cp:lastModifiedBy>
  <cp:lastPrinted>2013-05-15T01:14:53Z</cp:lastPrinted>
  <dcterms:modified xsi:type="dcterms:W3CDTF">2015-07-29T15:40:46Z</dcterms:modified>
  <cp:revision>556</cp:revision>
  <dc:subject/>
  <dc:title>Cuenta Pública 2010 SII</dc:title>
</cp:coreProperties>
</file>