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217-1FEA-4A70-B2CA-0D19FCD16D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149-1D53-4991-89C8-922570D560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785-C653-43E4-B4DA-7F4C33EA55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14800" y="380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50532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562720"/>
            <a:ext cx="8305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Taller regional de Educación Fiscal en el ambito de la enseñaz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Porto Alegre, RS, 20-22/nov/2013</a:t>
            </a: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ntos Fuerte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Creatividad y Autonomia universita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odos de actuació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/ó (2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compañar el desarrojo de los alumnos y apoyar los orientador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un posto de atendimento de la Receita Federal. (Igualmente los SAJU no sustituyen los atendimientos del poder judiciári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stituyen las oficinas de cuntadoria (Igualmente, los SAJU no sustituyen las oficinas de abogad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convenio oficial entre la Receita y la Universidad (Puede haber um convenio pero es muy informal. Igualmente, los SAJU no son um Convenio entre la universidad y los organos de la justici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 de forma continu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olo los departamentos de contaduria tienen NAF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s escuelas de administración, las escuelas tecnicas, etc.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AF son una iniciativa de la sociedad civil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ás receptiva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e 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8A52-F586-4F0A-AD4F-734EAF021A99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5E8-F073-4F01-B5B5-BC8E7E72DD70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bs-noticias76x51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89B-C5F1-4EC1-BE8C-59B5671B5E7C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553080" cy="605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72200" y="762120"/>
            <a:ext cx="2362320" cy="330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DERGS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Ritter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leste (M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CED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Novos Horizontes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Canela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UNIPAR (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RI Fred West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SS Ca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495680"/>
            <a:ext cx="3048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+ Goiânia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160" y="685800"/>
            <a:ext cx="906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so la necessidad de no apresentar una formula cerr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7803-6770-4AC8-9A46-6AF6717A3B98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30 NAF en ope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5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SEBRAE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Moonografias de final de curso -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27D-DD11-4E0F-9692-4F94D42A115E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pessoas fazem a História, mas raramente se dão conta do que estão faze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ristopher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he Sceptred Isle -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70" name="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86" name="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87" name="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63054760049</cp:lastModifiedBy>
  <dcterms:modified xsi:type="dcterms:W3CDTF">2013-11-21T12:30:48Z</dcterms:modified>
  <cp:revision>55</cp:revision>
  <dc:subject/>
  <dc:title>Apresentação do PowerPoint</dc:title>
</cp:coreProperties>
</file>