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309-2CA7-4132-BCF1-B4A36E70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8E1-3B15-4A77-AD18-F5E36D9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F88-1647-4D02-9D5D-A9CA179B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802-1C57-4742-BBB0-AEA0AC90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4A6-3A6B-4499-B16D-EEC3D9B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2E4-544B-4179-BC18-B87FA78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AB3-652C-4DCE-A6BB-A280D5D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989-5722-4121-BEB2-1D83BCDC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7A1-0EA9-4CDD-BA50-9BEF165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C0A-303E-4EA6-AD99-9B6CF02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6F6-85FA-4159-B023-D26B026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4C3-0C30-48DE-8CE8-C3EB887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B17D0-3F0D-4A85-984D-AB3B852C67D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9040"/>
            <a:ext cx="9070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UROsociAL II (2010-2014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to Alegre – BR, Novembro de 2013</a:t>
            </a:r>
            <a:br>
              <a:rPr sz="2200"/>
            </a:b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RLING, Marcelo Ar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La ciudad constitucional: Capital de la Repúblic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com as experiências: Estrategias conjuntas entre administração fiscal e instituições de ensino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idade constitucional - (Calvino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'Quem lê muito e anda muito, vê muito e sabe muito' - (Cerva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nhecimento – aproximação do homem com o seu grupo em meio à natureza circund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SB - Patrimônio Cultural da Human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si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lexibilización curricular, didática, pedagógica: Método – PPP de GPP – EACH/USP – ESAF – UFABC – 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ducação para a participação dos estudantes 'superiores' na vida da República – conhecer as instituciones; intervenir; estrategia conjunta de educación fiscal (Arrebatados – 12 ho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idade constitucional: Capital d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agen didatica – 'Semana da Pátri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embro 2006-2013 (SP-BSB-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 encuentros de 04 horas em el aula x 01 semana imer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7 dias, 12 horas atividade, transporte, comida y aloy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ntes: 40, 80, 120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ción por créd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idade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marcantes (2) no ensino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'momento no qual as 'coisas/teorias' fazem sentido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disciplinar com enfase na Gestão das Políticas Públ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obernanza y governa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ogís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públicos existentes – baixo custo e grande imp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Humanos (agentes políticos, administrativos, assesso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Materiais (Auditórios, som, lu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upuesto y programación funcional programatico - proyectos y acciones: gestión de las políticas públic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: Organização do Estado; Origem, aplicação e controle dos recursos públicos; Programas, projetos, atividades e ações. Descentralização e orçamento funcional progra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gogia da participação pop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lidades cognitivas e atitud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73000"/>
            <a:ext cx="9070920" cy="49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abilidade específica: Comportamento fiscal; Educación fiscal (personalidade, cidadania, profissionalizaçã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ortalecer a coesã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overno, universidade e estudantes de grad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ducación Fis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artilhar conhecimentos e 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interagir com a socie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obre a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rigem, aplicação e controle dos recurs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úblicos, favorecendo a participação social”. (ESAF-B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ta, síntese e avali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14320"/>
            <a:ext cx="907092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ir para a melhoria da gestão de programas e projetos de políticas públicas com o apoio dos estudantes do ensino sup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diálogo entre o governo e a socie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oyar el control institucional y el control so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o ciclo da gestão: Formulação, avaliação e implementação das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a disciplina: Prova para a soc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blicação relatório internet com fotograf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ricardomatheus.blogspot.com.br/2013/11/larissa-matheus-cidade-constitucion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28:57Z</dcterms:created>
  <dc:creator>Marcelo Arno Nerling</dc:creator>
  <dc:description/>
  <dc:language>en-US</dc:language>
  <cp:lastModifiedBy/>
  <cp:revision>1</cp:revision>
  <dc:subject/>
  <dc:title/>
</cp:coreProperties>
</file>