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A1BD-A95D-4C18-BDC1-E527B7C491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6665-D908-497B-AD5B-7FE094BC2C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1A7B-C43D-4C44-9F35-01D4C15291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40D8-0BF2-426A-BF7B-31AF851AC4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8851-C561-4F61-8C1B-E5DF655AC2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A529-240D-4423-AECB-EEF1FFFBAA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C847-0CC9-4A7E-9C18-8A81EE588D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9D1-AB4E-42FA-BB79-55B95745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1A9-3400-4716-AA46-3F8DF0C8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D9477-507B-45DF-94CB-6A2B4D07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2F455-A6A7-4BEF-927D-03BA3092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1FFAE-78D7-4F23-B7AD-F900DF75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95F1B-E31A-4E1F-90D7-37798F45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19523-C9A0-4127-BB37-5F881D06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E6457-E87A-459A-AB3F-A86C56C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7535F-A597-4645-A9AF-202EA1A8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FE128-5997-4F3F-A2DD-77DAFD61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0F4FB-8014-49A0-8446-56E6367B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1CA8E-513A-4090-850B-B611FBFE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105-7A0A-4166-B3F0-4EEB2744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8DB81-EFFE-43F3-A5B9-B6F2238E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48070-CBBD-4B34-B97D-71826F0E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9FC15-2E14-4CB5-8DA7-38194F63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5EC89-7A23-4F8B-9A4F-A6B9065B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0CAE2-C43B-41AF-8AEB-DAA4B8DD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D5DB2-1379-4FCA-9688-5576F87E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DA8DC-422A-41AD-BDCD-A27EAC3A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BB1D4-A0AA-418E-AAE0-FF2F844E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B299C-AE0C-4492-ACCF-14D4A8E0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7110C-5598-4E18-A491-1ABF5711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8DD-735B-4358-86B9-B3E49BCC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08627-CD10-497F-8C37-EC7BDF1F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4F8E6-9DDB-42A1-8F45-0E76C233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6A1BA-8BC7-4A17-A555-F2057906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23379-ABC9-4EFF-BB57-53EEC762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E8A7D-4122-470E-BCDD-3CCD2C8E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28B59-549A-4DE1-AF57-AB42F78B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F5FF1-8C3E-4A05-B1F0-9C02F3E7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6927D-10CC-4447-8722-1D82054E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280CC-3A57-4F58-BB6C-F9CA263A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0BF42-6284-4F0F-940F-C9BFB923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FC89-C152-4A6C-8B5C-EE60FF9A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30B3E-95EF-4D5D-8CA0-E7D18A94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42822-DBDF-4E77-BDD7-9C4325B4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7F251-D6A2-4D2B-8792-93283964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B29AF-2B5B-4605-AD5E-32FE4422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1226E-2B27-464B-AB59-178701B7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7CDF0-FDF9-4470-A185-9B75CED0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2D609-1E7E-42AF-8D33-57A36529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26EA6-876F-43BE-8DC2-7CB9A8B3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EE2C4-7411-411F-811E-295F98B9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F002B-A264-48F9-B9BB-21D11AFE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3B79-9C5C-4FB0-ACDB-829935BF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8F4D1-9397-4C2E-A2D0-3118FBAF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EF5F3-73E1-48C6-95A8-E781FBB0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5DD91-9A05-4B5A-B5ED-27F6DE9B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56169-49C8-4712-801F-380D038B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0FBF3-F7F2-4632-AAB7-85E2D33D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0FA76-C849-4310-A852-9E2B3F08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C6D02-85FD-44E2-ADA4-9A7641A5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F3FD3-F455-4FA6-8227-05838F1E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BAF15-B8D9-445A-A801-EAF6094F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6483D-A949-45DB-9A7D-6F83C23E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7F6A-C17E-4D0F-82E6-4A168B76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220CB-A6F4-4374-B8FD-D6BCC568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D7EA4-0943-42F2-AFD8-1AC946AC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CDFB1-5436-4C1C-99B2-5948E79D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9C3BA-2ECB-4495-AFD3-12A8A354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F50E8-75E7-4FE4-A58F-E37DF098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5A010-2DFF-4BEA-8E84-CD38B703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F0F59-B527-4655-A54C-7CB88001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49664-AE03-4BAD-8E7B-60049CBD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D2F08-E7F5-4B91-9DE9-A34910D6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D7228-2D0F-4B05-94A6-3B8AF055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604C-2B6F-402E-AA8B-7F484D68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7DD09-D499-4380-84C2-1ABCE7F1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3ECCF-98B4-47E9-9D33-ACBFAB71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493AC-CAE1-41E2-9B06-AC38463E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90AAF-18C8-4E45-A0EB-3C0EB8F3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3E9D1-3E6A-4D93-B53C-87BE7AD8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2D567-839D-47AF-87E7-034CE515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1387F-918E-4E0C-8362-248FC3F4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7462F-B546-4EF9-94BC-EB516C1A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37F57-5981-43CC-9766-C339FD8B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9A1F-E625-465D-8D60-D6BA756C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E476-1C91-4B11-B598-7CBCED10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4095-1B68-4390-B950-C44D5D34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E75-C33D-4B98-BF69-87EFE4F3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6951-9185-46B5-862B-157D8368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D789-9273-4FF6-A0ED-53A0FF78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1AD9-7CA6-41F5-B325-7CA403F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0BC8-5831-49F7-8871-C9AEE750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287E-2B03-4625-BA8F-E1C9489B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3408-36C6-4693-B023-25273376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C444-4E98-45B5-9B37-16C13EDA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F1F7-28ED-4F94-BDB9-CFA3671D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4A42-BF55-4DFE-9060-0ED8B659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DDAD-644B-4D8C-B365-4C497E68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2F2-247E-4115-BB41-672EDCBD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79F3A-7FDD-4AD7-8D55-F4BAB68E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65084-6312-447D-8FCE-B28F5DDD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36AD-0E55-49E2-B846-755329A7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A2C4-B922-407C-A972-8D47399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F02F-E8A3-4047-8987-607F7195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9910-C2F5-4518-99A9-F19B31E6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6490-DFB1-4F68-8694-90515C51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26498-EC82-4782-BFEB-7CE787D8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1ACEB-6F8B-48D8-A1AB-BBBA29E0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CE95C-605F-47FA-AB63-CA73062A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79A-9591-4A6F-8619-232AA868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22D9B-7B53-4ECE-8D45-A169030D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7FB9-046A-433B-BC9A-86383C8E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0A4E-DCE7-4342-A436-84BCD370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B0CB6-ACCD-4BA6-823A-6878E84B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A2D9B-4735-4E7A-9870-AFE1DD8D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BE1C-63AA-47FB-B59B-45C918B0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FD9C-3C91-42C7-93AA-DBC9C729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901B4-0D73-4E03-B020-58D5EC3E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1FF2E-2E1C-45FD-9160-DA9C9354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7BCD0-B6E9-4ECB-B562-CFFAB7FD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002-EBB8-4DBF-BD06-9B825C8B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C97B1-723C-4C83-8042-7FB02AC8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20051-85E7-4AFD-B788-AF41F94B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58B3B-CE44-4E5A-98FC-B1899F9D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95FC9-C63E-45B9-AB00-0C02AF47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710D-D871-44E6-97BC-D517F597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A5726-2EF0-4741-81FD-09C10FF8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615C0-E5E2-432B-889C-F354827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829C-E923-4D76-BF6F-4F4ECB05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5ED75-5654-426D-B13B-E4DB324C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21305-C6D8-48C7-8D2C-1A559751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843-1BA5-4859-91A8-B2D186A6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A46E5-26E7-4D09-B436-A2809E4A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6CCF6-4D9A-4E85-9AB5-6A8432FE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C9C3-5277-48D4-9408-55C941DB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1613A-BE06-4A09-A880-4CBD2E59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CE356-65FA-4EB9-88F2-A4FEF37B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4A7E2-92F0-4C94-89E1-F8414F3D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802B3-71B8-41B7-AD1E-D8D17C3E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F7943-7862-447F-ACEE-5C588BDD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5D6E1-6760-4FBF-91C2-1CA267E5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B4251-DC1F-4422-A018-D15550A6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945-D960-44AE-9B52-1CED4CDB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32401-F3A5-435C-8FA4-4269C4DF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E0FC8-BAE4-4B39-ACBD-10939E07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075E1-A493-4F2D-B3A9-25925C2B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A181A-2462-4D65-8169-BEE25387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67408-2370-45F5-A5BC-00A70ECF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9A092-4D25-4BAD-AA6D-CD25635F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26572-AA27-4F30-8296-2761AEA7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3ACFA-B430-41BD-ACBF-B9978961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56BE8-3AD6-4282-8F07-DD9293DA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D5877-821E-45A6-80AE-68ACE9D2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591-B990-4CF4-8B65-B6E1F39F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F0326-F817-4E9A-BA54-268D349F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40F44-BAD8-4ADD-96A2-958A9CF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2133F-AD48-45CF-9096-90ADBB1E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91B0F-FF66-416A-902D-D0CED384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5E2F7-D0D2-4DAC-A05C-F24345E6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D96CF-2A08-46BF-A392-1933A543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8EF2E-BA05-48F5-A42C-06DAA895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8015D-85EA-44CC-93B3-037D1386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77457-9793-4245-9928-0F682C21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5565D-531C-492C-BB51-98E45543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8AA-89B1-484E-B272-4EC15BE8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8650E-4561-4782-9F9C-6782A9BB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6E5C2-E612-498D-A846-432E2960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B177-A3B6-4B17-B208-7E2DA710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DB41D-0253-4929-9F86-1DF0455E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2721-07B4-499B-81C9-F5688C10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93701-F564-4161-9323-0769569A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C2D7-9C75-417C-8C2E-354198BE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4F23E-5CAE-44DF-AF17-2D6C8396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9A537-45FB-4232-8BC6-E0AB1F39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3AE56-85CD-4107-B781-D6D9378D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8F96-68F1-44CF-AE2F-BC08E079101A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D1A7-1D95-4DF4-83CA-C34CBB03EF6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4925-13C8-4978-92C1-16728FD3D34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E3DA-0976-432A-94B8-A91ABF3FBFD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90D3-42B3-4E94-864A-0E107E6BBEA1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0D01-CE5F-450F-9F35-E4EC6F34949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5495-2168-48A9-81A8-CED49C4188B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92BE-59BA-49F5-9173-89BA1CC1F7F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A792-913B-45E4-86B8-C36531993747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BF58-B3EB-49FA-BFE5-03D8EE090A1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AC7A-95CB-4070-A624-1ABCA1C8AD1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771A-91CF-4DA9-BC1F-5B30A81A7C4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C105-5F17-4DD0-8649-19ACE8F3C000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891C-E57E-4B38-9445-C714EF7C591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6C52-6248-41B7-82A6-93A8EB250D9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31FD-DA2B-4566-89BD-A4007778979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03A7-BE72-45B7-8E68-5F8D7136C1AC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3873-544C-444F-8F97-9DEC499E575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DDD3-5F11-4BDF-A937-9C6A407ACFF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C658-F3EC-4029-8742-8C10CB33ECB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54C9-9C62-47E2-B46B-FCB0A1CA1382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63F7-B448-4D9C-BB2D-8A75C92CCA1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C78C-9C9A-4296-92AF-072546B5D25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42E9-C234-4E9F-8209-B104FF4A0F0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00A-D941-44C2-9890-CD24DFA97D96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71A6-22B0-4959-8D8F-EDB1FA642C1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1AAC-2340-4DF2-9056-663B633152BB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42CC-82E5-423F-A004-B260FE53E57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583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8"/>
          <p:cNvSpPr/>
          <p:nvPr/>
        </p:nvSpPr>
        <p:spPr>
          <a:xfrm>
            <a:off x="760320" y="1957320"/>
            <a:ext cx="81187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vance adaptación Guía Universitarios del SAT de México a la realidad de Chi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9" descr="logo_sii"/>
          <p:cNvPicPr/>
          <p:nvPr/>
        </p:nvPicPr>
        <p:blipFill>
          <a:blip r:embed="rId2"/>
          <a:stretch/>
        </p:blipFill>
        <p:spPr>
          <a:xfrm>
            <a:off x="6686640" y="779400"/>
            <a:ext cx="1299960" cy="6588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4397400" y="5997600"/>
            <a:ext cx="4494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5184720" y="5877000"/>
            <a:ext cx="435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orto Alegre, Brasil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viembre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9" dur="5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2 Rectángulo"/>
          <p:cNvSpPr/>
          <p:nvPr/>
        </p:nvSpPr>
        <p:spPr>
          <a:xfrm>
            <a:off x="3897360" y="1749600"/>
            <a:ext cx="475920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Desde el 2005 al 2011 el Programa de Educación Fiscal del SII se concentra en educación básic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El 2011 se establece como meta institucional abarcar todos los niveles de educación. (Hasta el 2014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Durante el 2012 se lanza la etapa de educación media, con “El debut de la banda” y el 2013 con etapa “Jóvenes” en sitio web www.siieduca.c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 establece como meta lanzar el 2014 (marzo) etapa de educación superio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 identifica trabajo del SAT de México como referente y se gestiona adaptación de Guía para universitario, a través de la coordinación de  EUROsociAL II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 realiza alianza estratégica con Instituto profesional AIEP, de la Universidad Andrés Bello, Escuela de Negocios 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1 Imagen" descr=""/>
          <p:cNvPicPr/>
          <p:nvPr/>
        </p:nvPicPr>
        <p:blipFill>
          <a:blip r:embed="rId1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C:\Users\Jorge\Desktop\GUIA DE ESTUDIO PARA LA ASIGNATURA FORMACIÓN E INFORMACIÓN TRIBUTARIA (2)-1.jpg"/>
          <p:cNvPicPr/>
          <p:nvPr/>
        </p:nvPicPr>
        <p:blipFill>
          <a:blip r:embed="rId2"/>
          <a:stretch/>
        </p:blipFill>
        <p:spPr>
          <a:xfrm>
            <a:off x="938160" y="1886040"/>
            <a:ext cx="2789280" cy="380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Metodología de trabaj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6 Rectángulo"/>
          <p:cNvSpPr/>
          <p:nvPr/>
        </p:nvSpPr>
        <p:spPr>
          <a:xfrm>
            <a:off x="782640" y="749160"/>
            <a:ext cx="76312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1.- Generación de solicitud formal a SAT de Mé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2.- Revisión de Contenidos de Guía para universitari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3.- Envío de propuesta de contenidos a Mé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4.- Recepción de propuesta de México e identificación de necesidades de contenid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5.- Generación de metodología de tra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6.- Propuesta de cronograma de tra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7.- Envío de información y generación de adapt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8.- Revisión y validación de contenidos, expertos SII y AI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9.- Revisión final del material (versión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0.- Maquet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1.- Adaptación a módulo online en currículo de AI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2.- Lanzamiento y puesta a disposición del materi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1 Imagen" descr=""/>
          <p:cNvPicPr/>
          <p:nvPr/>
        </p:nvPicPr>
        <p:blipFill>
          <a:blip r:embed="rId1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6 Rectángulo"/>
          <p:cNvSpPr/>
          <p:nvPr/>
        </p:nvSpPr>
        <p:spPr>
          <a:xfrm>
            <a:off x="684360" y="965160"/>
            <a:ext cx="76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Contenidos Anexad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7294680" y="5921280"/>
            <a:ext cx="933480" cy="592200"/>
          </a:xfrm>
          <a:prstGeom prst="rect">
            <a:avLst/>
          </a:prstGeom>
          <a:ln w="0">
            <a:noFill/>
          </a:ln>
        </p:spPr>
      </p:pic>
      <p:sp>
        <p:nvSpPr>
          <p:cNvPr id="600" name="2 Rectángulo"/>
          <p:cNvSpPr/>
          <p:nvPr/>
        </p:nvSpPr>
        <p:spPr>
          <a:xfrm>
            <a:off x="728640" y="1371600"/>
            <a:ext cx="7543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1. Ética y Cultura Tributar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2.- Antecedentes de los Organismos públicos del sistema tributari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1 Servicio de Impuestos Intern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2 Servicio Nacional de Aduan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3 Tribunales Tributarios y Aduaner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3. Bases jurídica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1 Bases constituciona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1 Garantías constitucionales referentes a la tributación en Ch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 Bases lega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1 Código Tributario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2 Ley de Impuesto a la Renta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3 Ley de Impuesto al valor agregado (IVA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4 Ley sobre cumplimiento tributario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5 Ley Orgánica del Servicio de Impuestos Intern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6 Ley que Fortalece y Perfecciona la Jurisdicción Tributaria y Aduanera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7 Ley de Transparenc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4. Antecedentes históricos de los impuest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5. Tipos de Impuesto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3667ca"/>
                </a:solidFill>
                <a:uFillTx/>
                <a:latin typeface="Arial"/>
              </a:rPr>
              <a:t>6. Creación de empresa en un día (RES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7. Principales trámites en el SII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3667ca"/>
                </a:solidFill>
                <a:uFillTx/>
                <a:latin typeface="Arial"/>
              </a:rPr>
              <a:t>8. Factura Electrónic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2" descr=""/>
          <p:cNvPicPr/>
          <p:nvPr/>
        </p:nvPicPr>
        <p:blipFill>
          <a:blip r:embed="rId1"/>
          <a:stretch/>
        </p:blipFill>
        <p:spPr>
          <a:xfrm>
            <a:off x="7763040" y="5992920"/>
            <a:ext cx="933120" cy="596880"/>
          </a:xfrm>
          <a:prstGeom prst="rect">
            <a:avLst/>
          </a:prstGeom>
          <a:ln w="0">
            <a:noFill/>
          </a:ln>
        </p:spPr>
      </p:pic>
      <p:sp>
        <p:nvSpPr>
          <p:cNvPr id="602" name="1 CuadroTexto"/>
          <p:cNvSpPr/>
          <p:nvPr/>
        </p:nvSpPr>
        <p:spPr>
          <a:xfrm>
            <a:off x="587520" y="1566720"/>
            <a:ext cx="791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envío de información para el trabajo de adaptación comenzará la semana del 25 de noviembre de 2013, con plazos para construcción, revisión y corrección del materia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Se espera tener la versión final de la Guía adaptada y maquetada en febrero de 2014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Oval 2"/>
          <p:cNvSpPr/>
          <p:nvPr/>
        </p:nvSpPr>
        <p:spPr>
          <a:xfrm rot="20203200">
            <a:off x="3618000" y="3425760"/>
            <a:ext cx="2158920" cy="84780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606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9" name="Picture 9" descr="logo_sii"/>
          <p:cNvPicPr/>
          <p:nvPr/>
        </p:nvPicPr>
        <p:blipFill>
          <a:blip r:embed="rId2"/>
          <a:stretch/>
        </p:blipFill>
        <p:spPr>
          <a:xfrm>
            <a:off x="819000" y="5668920"/>
            <a:ext cx="1300320" cy="6588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6AED-B224-451B-A932-112633004EE6}" type="slidenum">
              <a:rPr b="0" lang="es-CL" sz="1400" spc="-1" strike="noStrike">
                <a:solidFill>
                  <a:srgbClr val="3667ca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766800" y="2143080"/>
            <a:ext cx="80722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 Guzmán Espinoz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.guzman@sii.c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2" descr=""/>
          <p:cNvPicPr/>
          <p:nvPr/>
        </p:nvPicPr>
        <p:blipFill>
          <a:blip r:embed="rId3"/>
          <a:stretch/>
        </p:blipFill>
        <p:spPr>
          <a:xfrm>
            <a:off x="7051680" y="5668920"/>
            <a:ext cx="1244520" cy="81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15" dur="5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799 0.42368 L 4.44444E-006 -3.15449E-006 E">
                                      <p:cBhvr>
                                        <p:cTn id="17" dur="5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2:36:47Z</dcterms:created>
  <dc:creator>Oficina Computación Personal</dc:creator>
  <dc:description/>
  <dc:language>en-US</dc:language>
  <cp:lastModifiedBy>Jorge</cp:lastModifiedBy>
  <dcterms:modified xsi:type="dcterms:W3CDTF">2013-11-22T02:00:52Z</dcterms:modified>
  <cp:revision>2119</cp:revision>
  <dc:subject/>
  <dc:title>Diapositiva 1</dc:title>
</cp:coreProperties>
</file>