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440A-AF1C-4922-860A-031FD0E1EA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6C5C-FF5D-4F0A-8262-C1153F4FDB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38CB-D853-4CB2-937A-A03E8C3719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43A5-50AB-4D2B-A041-4FF51380D0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9770-323F-44B7-88F4-8B38E7331B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5BB2-05FE-4D71-8471-855894C054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132F-2BB3-49B9-90CF-D69340F4B8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65E1-8510-40F5-8EB8-FC1F95EECB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DB9A-A541-4969-94C5-900D474164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1D6A-07A8-4738-B618-8FC24D1A5F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3779-FF58-4538-A3DB-F55EE0D261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1AD-A8D6-4011-B7BE-0EE1B13A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F9A-D955-4865-9507-4C3F8251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ACFCA-7630-4867-A398-B62C8C3E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CF2A3-1E09-44CE-A912-1DD04974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10AFB-1768-431F-9695-FAE8B8BE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4FA32-5266-423E-B86A-8DB19164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024FA-FE06-4A47-957D-04083E21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EC4E3-7F5E-4DDB-8A24-F3D313B2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D9C6F-FC14-4B40-A4CE-40444E2D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2A8ED-9C41-4E8C-A86A-2EC405A7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93179-D40B-46F7-AE47-3A033907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7CE65-8FFC-4450-9FF6-148A57F3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309-85CE-44AD-B505-3811B9E0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30AC3-E173-43B1-A293-390FC349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4A570-4783-4CED-85B0-240DDD41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2037A-8C20-4301-9FD1-20AB05FF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54C7D-8188-46B4-B983-F9547504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463ED-830F-41B3-B8D4-C3775CE6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E2FCB-7A1E-4B58-8483-A992C82C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66117-21A0-4F8D-9BE5-9242ABD6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3F575-A3A1-459B-80D0-483EB8A8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A5807-5122-4F71-B0FE-DEBE11C0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409CC-2678-4D79-ADA2-E6C42247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64F-859C-474E-A482-74521F1C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688BB-024E-492E-8319-F0F7589B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31647-83AE-435B-8591-635178CC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B6F77-4623-4476-8385-40280023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80D80-F072-4888-947D-4E6170A6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90395-42F4-4518-B83D-9507F762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4E132-03A8-472C-809A-B6A472C3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670D9-FC23-4A67-AF3D-3EFB528D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DEA47-DA29-46B7-8BA6-0768CC91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22F7A-0302-4578-94F7-A52AD7A2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DECE5-79C9-4C45-9692-26AAC190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39E8-FB52-4355-B702-D0BE650C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7665E-5031-42DF-BCED-0271C421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DD6ED-EC25-4B02-903A-EC5A9B47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27A97-8591-446A-9159-89D7FB88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FDF50-700F-4357-B2F3-5D9F8F6F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80942-1A92-4E87-829C-B3DE0358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AA9B3-3D87-4B67-9E26-51E5C392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BCF8A-F36A-4DD5-94D2-A2C37FF7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DA0B9-2A75-415F-84E4-85405A3C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F9966-AA4F-4923-A18E-87137130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34E6C-921A-4614-9EDA-1ADA2D5F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DE7F-5587-4BEC-9E79-A75BEFCD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CC106-DEA1-4DC8-B687-86F542FF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65CBC-8872-4C6C-BA24-8AD0F9BF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C4F79-D5B9-4779-8564-26CD32DC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8AB0D-6E58-475C-B335-F1FF8ED8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5B347-0C68-4BB8-849D-32D3209A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CA626-BC76-4375-BFB3-C1EA70BA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7AE48-18AC-4C12-9B3F-3C6EBE00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81430-6C11-4EC5-8FF6-35F4BFAC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303AD-ABA9-4E76-89E8-643BBD66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D8687-498D-4BE8-BC24-96425FCD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D2D0-6CB0-4FFA-ACDF-FCEAA536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A59EF-7FE3-4874-B35A-0D66A0F0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C96D7-DFF9-4DB0-911B-BA84A59F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7DE1A-1B60-4016-BC60-89121F55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C42C5-E7F9-4FF1-A1DB-B8307939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CE123-7862-4C44-A560-DD672040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D94EC-2573-4DD0-AEC2-8B25BF45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CAE0B-43F6-4972-8EF6-9F09E0F1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53C09-AA0E-4B1E-9AD9-9F41EAC2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DC56F-BCC1-4ABB-94BD-E3C4A4EE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B9AA3-C67A-40C9-BE06-CF4EA6CF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0B52-FFAD-4907-9A96-BC6ED8EB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19CB57-3842-4EBA-AF14-F724EDFB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77D08-DA3D-4E81-B137-C16A9B77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5BB68-EF0F-4BEB-87F0-9EE3DA83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57096-D020-4884-B467-4C5E6F27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BDB4E-AA68-43AB-BAE2-6CE4CCB0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647076-0754-4EEA-A958-3F8668AD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556FD-74BF-47FF-979F-B339CB90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D3DA9-1EE2-4B73-A3DA-234413E8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B5995-E5E9-4D65-A24E-78D1AA1A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D2B1-D913-4CB6-92FC-5CCD95FA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7132-C85C-4866-9371-ADF99CEB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E6E3-2F30-4D68-9DC6-9321E4E1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52CE-8ED4-4E9B-9EE3-9673E820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D346-4206-442A-B1A7-D88A33CF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AED8-68E1-4D80-952C-69F9C1E6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99C5-79DC-45F4-97A0-E4208E19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FB62-A528-492B-805E-834455FE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A034-8134-4A05-B4AF-F103A92E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CAF77-93E5-4530-833A-6B746DB6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4E04-9AF2-4D38-A0B1-A71D1970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118CE-F931-4277-BC6A-1A4022B3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94BFE-7495-4CB0-8167-8A413443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097B1-29AB-4DE5-AA9A-CDD2DCDD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1DD-CDB0-44FF-846B-774659BA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17B13-CB42-4644-BBC1-2C1CFB30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E3B53-F6FA-401B-B20F-D49DEA96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82281-3FB0-41D6-AB74-01457EED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6E7EF-63EA-407A-BEE6-6CF8C7DC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2726-9F60-43B2-A5CE-A361AA08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3ADB-A478-4C42-B2D4-15A9337D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60DF1-615D-4D70-B466-2C592D6D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3554E-3B33-45C7-A410-8056C54C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5BAFF-2A6A-4C2C-9E06-1948DDDB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2CEAD-B36B-455A-9F99-8F3E69E4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FF8-B2BE-4DAA-8924-FA35BFC9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6EFF9-CC2D-4728-867D-604BC8BD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B13BF-5968-4B19-AC8C-989BD7A5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893AC-C306-4A82-A884-2BFD7635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AEBB0-3676-4493-B6A7-2DDC0010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34E48-2B57-45E4-A2CC-F564D6F1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266A5-D6EC-415D-BED1-8A761385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160CA-F786-4D9E-B60F-1445A30F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5446C-F53B-48BD-9D15-138B56F9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EC9F8-7700-448C-8A5D-C236490C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4DF18-98AB-488E-A899-1B22AE1F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A8E-1CDA-4136-8F33-38256475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94179-E45D-4C40-9993-9D04FC43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1BF78-F328-43DB-A07D-F006D05F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AAC77-56E0-4568-BFE4-2744961A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4453B-4944-4AF0-BC12-D64FAFBE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A54BB-2045-4AE5-BCA0-46814E87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1CF27-AA10-4A19-B96B-D27F1FBE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A47AE-47B1-4795-B2A4-E4172E56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9B8FD-7012-45FD-99EC-73511270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8B52A-2BCB-44A4-A18B-EBBE9BD2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D4336-C099-4999-A441-AA741FDC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A18-CF46-4D62-9F06-9585DAE8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ADF66-DDF0-4243-8AF3-116BD48A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BB477-8390-47B0-98D5-2D28221A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AE5AA-343F-42F8-970B-4326596B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F598C-98AA-42B4-95FD-BB619BDC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D9E4F-55D4-4676-B154-E344773B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7D57B-C601-47B7-B78C-67CB5CA5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0057E-2727-4DF9-A0C8-9E7FAFBE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8D325-8BEC-476F-9BF3-86C31E20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34550-7F93-40E2-A6EE-9CCF5698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DDFB6-DA26-4F97-92EF-F6384302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BA5-A29E-408D-8F83-E8A208C8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5B901-3C76-4ABD-AE8F-8C43F365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AA67F-8C25-440D-95B6-6D13259B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668E6-58E9-4FF8-9C45-D86904FE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E83A6-2625-43BB-9766-A077291B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53FF2-B10F-41BF-A429-4ABD51EC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891F0-5DD9-4771-A173-98AF2005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8D578-04D0-4F5A-834D-A74F6C1C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45C64-6E68-4C54-9005-13F16B49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EABC6-20D4-4F84-86F2-3C2514B7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EF9C7-BA57-49A2-85AB-39DD53BD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7AE-18CC-4979-9510-83733658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C357C-0021-41F6-964B-3C9EEFDB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92F9C-2F7C-41F9-9152-92712A6D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6C13E-2CC7-4CFA-8084-7F8D2EA3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BE2A3-C7AD-4669-9C55-DAFFCCCE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48AAA-3AFA-432F-911C-1642D58B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FB4F0-EB56-4B6C-BF9C-BDFBAB50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895BC-B84F-452F-8ED5-688EC83D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A6AA8-6F65-4E7D-AB44-98DA5CD7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C2FD9-1F6F-4C27-A4AE-CD151E63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D8DA4-0E7E-4F95-A528-EFEDDE23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2E0-A2E5-43F8-BDDF-CEBA4B4F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E730D-31E5-4C2B-971A-3C63269C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0ED91-00FA-4DFE-8210-06C7211E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9837C-7ACC-4024-85E5-1E3B67A6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10419-697E-4F44-9D51-D59DF0E8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67F6E-4F9A-4148-96E0-674C1AA8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FC6DB-26CF-47A0-BF85-2E7157B3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DEE01-8678-4426-8E62-8176C6CF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CEB47-0042-4862-8E49-959A24B2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26A25-2B57-4375-9E2E-71FCBC05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622A6-D127-4061-AC8F-C430AB12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D59A-7FC6-4F6A-985B-024B32032891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5EF4-8B20-419A-8D2A-1C459DDB128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8C8E-8B63-4067-8E9A-6E847D8B7F57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8682-FECC-43EE-9B52-DAF8D5ED9D2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FCBD-A669-4E70-BF03-174030CE1345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FF8B-0E2D-4DE4-9334-140E848367C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E663-36A5-4236-BE2E-0A18EE064F7F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C079-5DD0-4B91-841F-D59D419D5CE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4558-B3E5-4E7B-BCD5-7353E8146BE9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E675-C162-45A3-8126-27634BB781A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A57D-E2D7-4196-800E-445EFCEB1295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51E3-74DB-4083-8E36-9616ACFE4E2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A3A3-817E-4443-920D-47756E99E2D9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EC61-CE90-477F-9023-8F8A2E11862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361C-33C2-4116-8F9E-67B58930F200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2285-4326-48F0-B4B2-D56C5CE8A315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468E-4FBC-4A58-BC18-A80F6AAF85D3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5E97-D71D-4C03-9CD5-D55E1844FB9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EA70-5A51-4D5E-B837-4BCE78432888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0BA9-DA52-404A-8F29-9689500304B5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0176-C6CE-43CD-BC20-2A9EAB6CFA3E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2825-45C7-4171-8320-60E5024162C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B71E-4E50-4E73-AB91-4AED1016B8F9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FC09-DC1A-4A44-9EE4-92BDAA2E9FE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1DFB-D6A7-4862-964D-8EB82F195E58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D2EE-7107-44EE-9CB2-645E575BF1B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3C58-BCF8-42B7-80E5-181664BACDB9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70AB-B497-4780-9DA2-AE0DCEA3B66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siieduca.cl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Oval 3"/>
          <p:cNvSpPr/>
          <p:nvPr/>
        </p:nvSpPr>
        <p:spPr>
          <a:xfrm rot="20203200">
            <a:off x="864720" y="3449160"/>
            <a:ext cx="2976840" cy="114624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1124280" y="2434680"/>
            <a:ext cx="6186960" cy="4772160"/>
            <a:chOff x="1124280" y="2434680"/>
            <a:chExt cx="6186960" cy="4772160"/>
          </a:xfrm>
        </p:grpSpPr>
        <p:sp>
          <p:nvSpPr>
            <p:cNvPr id="583" name="Oval 5"/>
            <p:cNvSpPr/>
            <p:nvPr/>
          </p:nvSpPr>
          <p:spPr>
            <a:xfrm rot="20203200">
              <a:off x="5797080" y="347292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6"/>
            <p:cNvSpPr/>
            <p:nvPr/>
          </p:nvSpPr>
          <p:spPr>
            <a:xfrm rot="20203200">
              <a:off x="1172880" y="270144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7"/>
            <p:cNvSpPr/>
            <p:nvPr/>
          </p:nvSpPr>
          <p:spPr>
            <a:xfrm rot="20203200">
              <a:off x="1485720" y="5544720"/>
              <a:ext cx="2991960" cy="111600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Rectangle 8"/>
          <p:cNvSpPr/>
          <p:nvPr/>
        </p:nvSpPr>
        <p:spPr>
          <a:xfrm>
            <a:off x="171360" y="2154240"/>
            <a:ext cx="81187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Adaptación de la serie de TV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El Debut de la Banda”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a la realidad d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América Latin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9" descr="logo_sii"/>
          <p:cNvPicPr/>
          <p:nvPr/>
        </p:nvPicPr>
        <p:blipFill>
          <a:blip r:embed="rId2"/>
          <a:stretch/>
        </p:blipFill>
        <p:spPr>
          <a:xfrm>
            <a:off x="6686640" y="779400"/>
            <a:ext cx="1299960" cy="65880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10"/>
          <p:cNvSpPr/>
          <p:nvPr/>
        </p:nvSpPr>
        <p:spPr>
          <a:xfrm>
            <a:off x="7051680" y="5997600"/>
            <a:ext cx="18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0"/>
          <p:cNvSpPr/>
          <p:nvPr/>
        </p:nvSpPr>
        <p:spPr>
          <a:xfrm>
            <a:off x="4397400" y="5997600"/>
            <a:ext cx="4494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5184720" y="5877000"/>
            <a:ext cx="4356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orto Alegre, Brasil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oviembre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868 0.2692 L 3.88889E-006 -9.25069E-007 E">
                                      <p:cBhvr>
                                        <p:cTn id="9" dur="5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Oval 2"/>
          <p:cNvSpPr/>
          <p:nvPr/>
        </p:nvSpPr>
        <p:spPr>
          <a:xfrm rot="20203200">
            <a:off x="3618000" y="3425760"/>
            <a:ext cx="2158920" cy="84780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3"/>
          <p:cNvSpPr/>
          <p:nvPr/>
        </p:nvSpPr>
        <p:spPr>
          <a:xfrm rot="20203200">
            <a:off x="864720" y="3449160"/>
            <a:ext cx="2976840" cy="114624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4"/>
          <p:cNvGrpSpPr/>
          <p:nvPr/>
        </p:nvGrpSpPr>
        <p:grpSpPr>
          <a:xfrm>
            <a:off x="1124280" y="2434680"/>
            <a:ext cx="6186960" cy="4772160"/>
            <a:chOff x="1124280" y="2434680"/>
            <a:chExt cx="6186960" cy="4772160"/>
          </a:xfrm>
        </p:grpSpPr>
        <p:sp>
          <p:nvSpPr>
            <p:cNvPr id="628" name="Oval 5"/>
            <p:cNvSpPr/>
            <p:nvPr/>
          </p:nvSpPr>
          <p:spPr>
            <a:xfrm rot="20203200">
              <a:off x="5797080" y="347292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6"/>
            <p:cNvSpPr/>
            <p:nvPr/>
          </p:nvSpPr>
          <p:spPr>
            <a:xfrm rot="20203200">
              <a:off x="1172880" y="270144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7"/>
            <p:cNvSpPr/>
            <p:nvPr/>
          </p:nvSpPr>
          <p:spPr>
            <a:xfrm rot="20203200">
              <a:off x="1485720" y="5544720"/>
              <a:ext cx="2991960" cy="111600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1" name="Picture 9" descr="logo_sii"/>
          <p:cNvPicPr/>
          <p:nvPr/>
        </p:nvPicPr>
        <p:blipFill>
          <a:blip r:embed="rId2"/>
          <a:stretch/>
        </p:blipFill>
        <p:spPr>
          <a:xfrm>
            <a:off x="819000" y="5668920"/>
            <a:ext cx="1300320" cy="658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10"/>
          <p:cNvSpPr/>
          <p:nvPr/>
        </p:nvSpPr>
        <p:spPr>
          <a:xfrm>
            <a:off x="7051680" y="5997600"/>
            <a:ext cx="18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CB7B-FBA5-4D64-9494-ABA7B8FB9F4B}" type="slidenum">
              <a:rPr b="0" lang="es-CL" sz="1400" spc="-1" strike="noStrike">
                <a:solidFill>
                  <a:srgbClr val="3667ca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"/>
          <p:cNvSpPr/>
          <p:nvPr/>
        </p:nvSpPr>
        <p:spPr>
          <a:xfrm>
            <a:off x="766800" y="2143080"/>
            <a:ext cx="80722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orge Guzmán Espinoz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orge.guzman@sii.c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12" descr=""/>
          <p:cNvPicPr/>
          <p:nvPr/>
        </p:nvPicPr>
        <p:blipFill>
          <a:blip r:embed="rId3"/>
          <a:stretch/>
        </p:blipFill>
        <p:spPr>
          <a:xfrm>
            <a:off x="7051680" y="5668920"/>
            <a:ext cx="1244520" cy="81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868 0.2692 L 3.88889E-006 -9.25069E-007 E">
                                      <p:cBhvr>
                                        <p:cTn id="15" dur="5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799 0.42368 L 4.44444E-006 -3.15449E-006 E">
                                      <p:cBhvr>
                                        <p:cTn id="17" dur="5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6 Rectángulo"/>
          <p:cNvSpPr/>
          <p:nvPr/>
        </p:nvSpPr>
        <p:spPr>
          <a:xfrm>
            <a:off x="684360" y="1058760"/>
            <a:ext cx="41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i="1" lang="es-CL" sz="2000" spc="-1" strike="noStrike">
                <a:solidFill>
                  <a:srgbClr val="ff6600"/>
                </a:solidFill>
                <a:latin typeface="Arial"/>
              </a:rPr>
              <a:t>El Debut de la Banda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1 Imagen" descr=""/>
          <p:cNvPicPr/>
          <p:nvPr/>
        </p:nvPicPr>
        <p:blipFill>
          <a:blip r:embed="rId1"/>
          <a:stretch/>
        </p:blipFill>
        <p:spPr>
          <a:xfrm>
            <a:off x="554040" y="1579680"/>
            <a:ext cx="3895560" cy="3857400"/>
          </a:xfrm>
          <a:prstGeom prst="rect">
            <a:avLst/>
          </a:prstGeom>
          <a:ln w="0">
            <a:noFill/>
          </a:ln>
        </p:spPr>
      </p:pic>
      <p:sp>
        <p:nvSpPr>
          <p:cNvPr id="594" name="2 Rectángulo"/>
          <p:cNvSpPr/>
          <p:nvPr/>
        </p:nvSpPr>
        <p:spPr>
          <a:xfrm>
            <a:off x="4452840" y="1749600"/>
            <a:ext cx="457200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Serie  audiovisual dirigida a jóvenes de educación media, resultado de la alianza entre SII, Aduana y Tesorería, más la colaboración del Consejo Nacional de Televisión (CNTV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a serie cuenta con 4 capítulos, de 10 minutos aproximadamente, en los cuales a través de las aventuras de cuatro jóvenes músicos, se abordan aspectos generales de la Administración Tributaria de Chile, junto a contenidos de los tres ejes de la educación fiscal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Debut de la Banda” fue puesta a disposición de la Red de Educación Fiscal por el Programa de Educación Fiscal del SII, por solicitud emanada en encuentro realizado en Brasilia. La adaptación y coordinación de la misma es realizada en el marco de EUROsociAL II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1 Imagen" descr=""/>
          <p:cNvPicPr/>
          <p:nvPr/>
        </p:nvPicPr>
        <p:blipFill>
          <a:blip r:embed="rId2"/>
          <a:stretch/>
        </p:blipFill>
        <p:spPr>
          <a:xfrm>
            <a:off x="7724880" y="5942160"/>
            <a:ext cx="93168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5 Imagen" descr=""/>
          <p:cNvPicPr/>
          <p:nvPr/>
        </p:nvPicPr>
        <p:blipFill>
          <a:blip r:embed="rId1"/>
          <a:stretch/>
        </p:blipFill>
        <p:spPr>
          <a:xfrm>
            <a:off x="1427040" y="1195560"/>
            <a:ext cx="2438640" cy="16873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" descr="d:\jorge.guzman\Mis documentos\Escritorio\Untitled 4.jpg"/>
          <p:cNvPicPr/>
          <p:nvPr/>
        </p:nvPicPr>
        <p:blipFill>
          <a:blip r:embed="rId2"/>
          <a:stretch/>
        </p:blipFill>
        <p:spPr>
          <a:xfrm>
            <a:off x="4883040" y="1195560"/>
            <a:ext cx="2309760" cy="1699920"/>
          </a:xfrm>
          <a:prstGeom prst="rect">
            <a:avLst/>
          </a:prstGeom>
          <a:ln w="0">
            <a:noFill/>
          </a:ln>
        </p:spPr>
      </p:pic>
      <p:sp>
        <p:nvSpPr>
          <p:cNvPr id="599" name="1 CuadroTexto"/>
          <p:cNvSpPr/>
          <p:nvPr/>
        </p:nvSpPr>
        <p:spPr>
          <a:xfrm>
            <a:off x="4551480" y="866880"/>
            <a:ext cx="29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iieduca.cl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, sección Jóven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2 Rectángulo"/>
          <p:cNvSpPr/>
          <p:nvPr/>
        </p:nvSpPr>
        <p:spPr>
          <a:xfrm>
            <a:off x="1076400" y="3335400"/>
            <a:ext cx="7113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- Serie es concebida como una “excusa educativa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- Se elaboraron guías educativas de cómo usar el material y cómo se vincula a temas curriculares.(Elaboradas con asesoría pedagógica del CNTV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- Se potencian contenidos fiscales transversales y aquellos relacionados con la función general de la administración tributar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1 Imagen" descr=""/>
          <p:cNvPicPr/>
          <p:nvPr/>
        </p:nvPicPr>
        <p:blipFill>
          <a:blip r:embed="rId4"/>
          <a:stretch/>
        </p:blipFill>
        <p:spPr>
          <a:xfrm>
            <a:off x="7724880" y="5942160"/>
            <a:ext cx="93168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Metodología de trabaj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6 Rectángulo"/>
          <p:cNvSpPr/>
          <p:nvPr/>
        </p:nvSpPr>
        <p:spPr>
          <a:xfrm>
            <a:off x="684360" y="1058760"/>
            <a:ext cx="76309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1.- Generación de solicitud formal de los paí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2.- Envío de cuestionario para registro de modificacion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3.- Envío de guiones para observaciones específic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4.- Recepción de la información (observacione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5.- Gestión con la productora audiovisual para  la realización de las adaptaciones a las realidades loca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6.- Trabajo de adaptación (productora- encargado por paí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7.- Revisión final del material (versiones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8.- Lanzamiento y puesta a disposición del materi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1 Imagen" descr=""/>
          <p:cNvPicPr/>
          <p:nvPr/>
        </p:nvPicPr>
        <p:blipFill>
          <a:blip r:embed="rId1"/>
          <a:stretch/>
        </p:blipFill>
        <p:spPr>
          <a:xfrm>
            <a:off x="7724880" y="5942160"/>
            <a:ext cx="93168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CCIONES DESTACADAS 20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6 Rectángulo"/>
          <p:cNvSpPr/>
          <p:nvPr/>
        </p:nvSpPr>
        <p:spPr>
          <a:xfrm>
            <a:off x="684360" y="965160"/>
            <a:ext cx="76309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1.- Solicitud formal de los país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Costa R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El Salvad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Guatema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Méx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Per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Urugu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7294680" y="5921280"/>
            <a:ext cx="933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53" descr=""/>
          <p:cNvPicPr/>
          <p:nvPr/>
        </p:nvPicPr>
        <p:blipFill>
          <a:blip r:embed="rId1"/>
          <a:stretch/>
        </p:blipFill>
        <p:spPr>
          <a:xfrm>
            <a:off x="7969320" y="6110280"/>
            <a:ext cx="933480" cy="592200"/>
          </a:xfrm>
          <a:prstGeom prst="rect">
            <a:avLst/>
          </a:prstGeom>
          <a:ln w="0">
            <a:noFill/>
          </a:ln>
        </p:spPr>
      </p:pic>
      <p:sp>
        <p:nvSpPr>
          <p:cNvPr id="609" name="6 Rectángulo"/>
          <p:cNvSpPr/>
          <p:nvPr/>
        </p:nvSpPr>
        <p:spPr>
          <a:xfrm>
            <a:off x="804960" y="155520"/>
            <a:ext cx="7630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.- Envío de cuestionario para registro de modificacion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068480" y="871560"/>
          <a:ext cx="6724440" cy="941400"/>
        </p:xfrm>
        <a:graphic>
          <a:graphicData uri="http://schemas.openxmlformats.org/drawingml/2006/table">
            <a:tbl>
              <a:tblPr/>
              <a:tblGrid>
                <a:gridCol w="2241360"/>
                <a:gridCol w="2241720"/>
                <a:gridCol w="2241360"/>
              </a:tblGrid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:  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ón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le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98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os de Contacto: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1096920" y="1870200"/>
          <a:ext cx="6710400" cy="1255680"/>
        </p:xfrm>
        <a:graphic>
          <a:graphicData uri="http://schemas.openxmlformats.org/drawingml/2006/table">
            <a:tbl>
              <a:tblPr/>
              <a:tblGrid>
                <a:gridCol w="1119240"/>
                <a:gridCol w="1117440"/>
                <a:gridCol w="1238400"/>
                <a:gridCol w="1195560"/>
                <a:gridCol w="1182600"/>
                <a:gridCol w="857160"/>
              </a:tblGrid>
              <a:tr h="107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Posible adaptar la serie (Sí-No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Capítulos posibles de adaptar (1,2,3,4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requerimientos de adaptación de gráficas (1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requerimientos especiales de doblaje (2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otros requerimient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12" name="5 Rectángulo"/>
          <p:cNvSpPr/>
          <p:nvPr/>
        </p:nvSpPr>
        <p:spPr>
          <a:xfrm>
            <a:off x="550800" y="3317760"/>
            <a:ext cx="7934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1.- Cada capítulo cuenta con una explicación gráfica, que dice relación a la función de la institución a la que se hace referencia en el capítulo. Estas gráficas deben ser adaptadas a las realidades locales, en el mismo formato, estilo y duración de las originale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2.- En este punto debe indicar si detectó algún título, palabra, frase, o diálogo, que crea deba modificarse. (por resultar ofensivo, confuso, etc.). Se debe tomar en cuenta que el doblaje se intentará realizar lo más neutral posi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3.- Debe indicar cualquier requerimiento especial que usted crea sea necesario. Debe considerar que la adaptación no incluye la grabación de nuevas escena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" name=""/>
          <p:cNvGraphicFramePr/>
          <p:nvPr/>
        </p:nvGraphicFramePr>
        <p:xfrm>
          <a:off x="969840" y="1181160"/>
          <a:ext cx="7204320" cy="4443480"/>
        </p:xfrm>
        <a:graphic>
          <a:graphicData uri="http://schemas.openxmlformats.org/drawingml/2006/table">
            <a:tbl>
              <a:tblPr/>
              <a:tblGrid>
                <a:gridCol w="1387440"/>
                <a:gridCol w="1374840"/>
                <a:gridCol w="1521000"/>
                <a:gridCol w="1468440"/>
                <a:gridCol w="145260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Posible adaptar la serie (</a:t>
                      </a:r>
                      <a:r>
                        <a:rPr b="1" lang="es-CL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í-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Capítulos posibles de adaptar (1,2,3,4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requerimientos de adaptación de gráficas (1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requerimientos especiales de doblaje (2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otros requerimient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 Ric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ar logo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ar “boleta” por factur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r devolución de impuest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ar SII por DG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U por examen de admisión para la U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uatemal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gos y gráfic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 incorporan modismos propios (Guione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edición del capítulo 2. (Omitir devolución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7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éxic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 adjuntan gráfic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mbio de municipalidad por escuel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3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I por SUNA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rminos coloquiales: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r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tir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ol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VA por I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uesto General a las Ventas  - IG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I por Dirección General Impositiv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idad por Casa de la cultur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eta de Honorarios por Boleta de Servici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14" name="6 Rectángulo"/>
          <p:cNvSpPr/>
          <p:nvPr/>
        </p:nvSpPr>
        <p:spPr>
          <a:xfrm>
            <a:off x="804960" y="0"/>
            <a:ext cx="7630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 y 3- Envío de cuestionario para registro de modificaciones y observaciones a guion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6" descr=""/>
          <p:cNvPicPr/>
          <p:nvPr/>
        </p:nvPicPr>
        <p:blipFill>
          <a:blip r:embed="rId1"/>
          <a:stretch/>
        </p:blipFill>
        <p:spPr>
          <a:xfrm>
            <a:off x="7502400" y="5989680"/>
            <a:ext cx="933480" cy="596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7" descr="C:\Users\Jorge\Desktop\Ajustes imagenes video cap I octubre 2013 Costa Rica-1.jpg"/>
          <p:cNvPicPr/>
          <p:nvPr/>
        </p:nvPicPr>
        <p:blipFill>
          <a:blip r:embed="rId1"/>
          <a:stretch/>
        </p:blipFill>
        <p:spPr>
          <a:xfrm>
            <a:off x="1225440" y="1341360"/>
            <a:ext cx="6257880" cy="4486320"/>
          </a:xfrm>
          <a:prstGeom prst="rect">
            <a:avLst/>
          </a:prstGeom>
          <a:ln w="0">
            <a:noFill/>
          </a:ln>
        </p:spPr>
      </p:pic>
      <p:sp>
        <p:nvSpPr>
          <p:cNvPr id="617" name="3 CuadroTexto"/>
          <p:cNvSpPr/>
          <p:nvPr/>
        </p:nvSpPr>
        <p:spPr>
          <a:xfrm>
            <a:off x="1243800" y="75708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Costa Rica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8" descr=""/>
          <p:cNvPicPr/>
          <p:nvPr/>
        </p:nvPicPr>
        <p:blipFill>
          <a:blip r:embed="rId2"/>
          <a:stretch/>
        </p:blipFill>
        <p:spPr>
          <a:xfrm>
            <a:off x="7635960" y="5961240"/>
            <a:ext cx="933480" cy="596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8" descr=""/>
          <p:cNvPicPr/>
          <p:nvPr/>
        </p:nvPicPr>
        <p:blipFill>
          <a:blip r:embed="rId1"/>
          <a:stretch/>
        </p:blipFill>
        <p:spPr>
          <a:xfrm>
            <a:off x="1009800" y="1477800"/>
            <a:ext cx="3220920" cy="20815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"/>
          <p:cNvPicPr/>
          <p:nvPr/>
        </p:nvPicPr>
        <p:blipFill>
          <a:blip r:embed="rId2"/>
          <a:stretch/>
        </p:blipFill>
        <p:spPr>
          <a:xfrm>
            <a:off x="4881600" y="1477800"/>
            <a:ext cx="3009960" cy="2081520"/>
          </a:xfrm>
          <a:prstGeom prst="rect">
            <a:avLst/>
          </a:prstGeom>
          <a:ln w="0">
            <a:noFill/>
          </a:ln>
        </p:spPr>
      </p:pic>
      <p:sp>
        <p:nvSpPr>
          <p:cNvPr id="621" name="9 CuadroTexto"/>
          <p:cNvSpPr/>
          <p:nvPr/>
        </p:nvSpPr>
        <p:spPr>
          <a:xfrm>
            <a:off x="959040" y="89388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México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0" descr=""/>
          <p:cNvPicPr/>
          <p:nvPr/>
        </p:nvPicPr>
        <p:blipFill>
          <a:blip r:embed="rId3"/>
          <a:stretch/>
        </p:blipFill>
        <p:spPr>
          <a:xfrm>
            <a:off x="1041480" y="3784680"/>
            <a:ext cx="3220920" cy="22082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1" descr=""/>
          <p:cNvPicPr/>
          <p:nvPr/>
        </p:nvPicPr>
        <p:blipFill>
          <a:blip r:embed="rId4"/>
          <a:stretch/>
        </p:blipFill>
        <p:spPr>
          <a:xfrm>
            <a:off x="4719600" y="3784680"/>
            <a:ext cx="3171960" cy="22082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2" descr=""/>
          <p:cNvPicPr/>
          <p:nvPr/>
        </p:nvPicPr>
        <p:blipFill>
          <a:blip r:embed="rId5"/>
          <a:stretch/>
        </p:blipFill>
        <p:spPr>
          <a:xfrm>
            <a:off x="7763040" y="5992920"/>
            <a:ext cx="933120" cy="596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2:36:47Z</dcterms:created>
  <dc:creator>Oficina Computación Personal</dc:creator>
  <dc:description/>
  <dc:language>en-US</dc:language>
  <cp:lastModifiedBy>Jorge</cp:lastModifiedBy>
  <dcterms:modified xsi:type="dcterms:W3CDTF">2013-11-22T00:52:01Z</dcterms:modified>
  <cp:revision>2112</cp:revision>
  <dc:subject/>
  <dc:title>Diapositiva 1</dc:title>
</cp:coreProperties>
</file>