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720" y="368280"/>
            <a:ext cx="7127640" cy="32400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.pdf" descr=""/>
          <p:cNvPicPr/>
          <p:nvPr/>
        </p:nvPicPr>
        <p:blipFill>
          <a:blip r:embed="rId2"/>
          <a:srcRect l="0" t="4659" r="0" b="0"/>
          <a:stretch/>
        </p:blipFill>
        <p:spPr>
          <a:xfrm>
            <a:off x="0" y="44280"/>
            <a:ext cx="1073160" cy="720720"/>
          </a:xfrm>
          <a:prstGeom prst="rect">
            <a:avLst/>
          </a:prstGeom>
          <a:ln w="0">
            <a:noFill/>
          </a:ln>
        </p:spPr>
      </p:pic>
      <p:pic>
        <p:nvPicPr>
          <p:cNvPr id="2" name="image.png" descr=""/>
          <p:cNvPicPr/>
          <p:nvPr/>
        </p:nvPicPr>
        <p:blipFill>
          <a:blip r:embed="rId3"/>
          <a:srcRect l="34357" t="43975" r="2021" b="17590"/>
          <a:stretch/>
        </p:blipFill>
        <p:spPr>
          <a:xfrm>
            <a:off x="826920" y="530280"/>
            <a:ext cx="118908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2249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antonio.l.baltazar@receita.fazenda.gov.b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.p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image-3.png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a3"/>
                </a:solidFill>
                <a:latin typeface="Arial"/>
                <a:ea typeface="Arial"/>
              </a:rPr>
              <a:t>Porto Alegre, Brasil, Novembr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2480" y="1730520"/>
            <a:ext cx="7873920" cy="287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Taller Regional de Educación Fiscal en el Ambito de la Enseñanza Super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Autoatendimento Orient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-9.png" descr=""/>
          <p:cNvPicPr/>
          <p:nvPr/>
        </p:nvPicPr>
        <p:blipFill>
          <a:blip r:embed="rId3"/>
          <a:stretch/>
        </p:blipFill>
        <p:spPr>
          <a:xfrm>
            <a:off x="3630600" y="374760"/>
            <a:ext cx="3989520" cy="56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6356520"/>
            <a:ext cx="2133720" cy="19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BEE69B-6D0A-485F-8C76-A8247E8E9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asted-image.png" descr=""/>
          <p:cNvPicPr/>
          <p:nvPr/>
        </p:nvPicPr>
        <p:blipFill>
          <a:blip r:embed="rId4"/>
          <a:stretch/>
        </p:blipFill>
        <p:spPr>
          <a:xfrm>
            <a:off x="7848720" y="374760"/>
            <a:ext cx="815760" cy="47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image.jpg" descr=""/>
          <p:cNvPicPr/>
          <p:nvPr/>
        </p:nvPicPr>
        <p:blipFill>
          <a:blip r:embed="rId1"/>
          <a:stretch/>
        </p:blipFill>
        <p:spPr>
          <a:xfrm>
            <a:off x="2838600" y="797040"/>
            <a:ext cx="4686120" cy="6016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grpSp>
        <p:nvGrpSpPr>
          <p:cNvPr id="661" name=""/>
          <p:cNvGrpSpPr/>
          <p:nvPr/>
        </p:nvGrpSpPr>
        <p:grpSpPr>
          <a:xfrm>
            <a:off x="324000" y="981000"/>
            <a:ext cx="2347920" cy="662040"/>
            <a:chOff x="324000" y="981000"/>
            <a:chExt cx="2347920" cy="662040"/>
          </a:xfrm>
        </p:grpSpPr>
        <p:sp>
          <p:nvSpPr>
            <p:cNvPr id="662" name=""/>
            <p:cNvSpPr/>
            <p:nvPr/>
          </p:nvSpPr>
          <p:spPr>
            <a:xfrm>
              <a:off x="324000" y="981000"/>
              <a:ext cx="234792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4000" y="981000"/>
              <a:ext cx="234792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EXO 3 – Formulário Eletrônico da Pesquisa de Satisf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33200" y="1141560"/>
            <a:ext cx="8875800" cy="571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parar os colaboradores do serviço de Autoatendimento Orientado, especialmente os estudantes universitários candidatos a estagiários na RFB, para atuarem neste formato de serviço prestando atendimento de qualidade, com base na Missão e Valores da RFB e em conformidade com os fundamentos da Educação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S ESPECÍF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presentar a estrutura da RFB, sua missão, visão e valores, para engajar o colaborador nos princípios que norteiam a atividade da institui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apacitar os colaboradores para instruir o contribuinte sobre o uso das ferramentas disponíveis no sítio da RFB e nos serviços do portal e-C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star um serviço de qualidade com excelência e conclusividade no atendimento, tendo em vista a excelência no serviço público fed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evar conhecimento e propiciar discussão crítica acerca da função social do tributo, da importância de sua correta aplicação, de modo a atuar como multiplicador no incentivo ao desenvolvimento e exercício da cidad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ÚBLICO A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essoal que atuará no serviço de Autoatendimento Orientado da RFB na 3ª RF: supervisores, triadores e estagiá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17600" y="765000"/>
            <a:ext cx="6624720" cy="559080"/>
          </a:xfrm>
          <a:prstGeom prst="pie">
            <a:avLst/>
          </a:prstGeom>
          <a:solidFill>
            <a:srgbClr val="2929a3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5f5f5"/>
                </a:solidFill>
                <a:latin typeface="Tahoma"/>
                <a:ea typeface="Tahoma"/>
              </a:rPr>
              <a:t>PLANO BÁSICO PARA TREINAMENTO DO PESSOAL DO SERVIÇO DE AUTOATENDIMENTO ORIEN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987640" y="966960"/>
            <a:ext cx="5256360" cy="5331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NTEÚDO PROGRAMÁTICO SUGER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(Carga horária total de 16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6400" y="1887480"/>
          <a:ext cx="8501040" cy="4601880"/>
        </p:xfrm>
        <a:graphic>
          <a:graphicData uri="http://schemas.openxmlformats.org/drawingml/2006/table">
            <a:tbl>
              <a:tblPr/>
              <a:tblGrid>
                <a:gridCol w="3693960"/>
                <a:gridCol w="1162440"/>
                <a:gridCol w="3644640"/>
              </a:tblGrid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CIPL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GA HOR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OD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ções de Financiamento do Estado Brasileiro e a função socioeconômica do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, leitura do texto e discussão no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Nacional de Educação Fis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lestra e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rutura e Papel da Receita Federal d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celência no Atend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em Powerpoi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 Atendimento na RFB e principais serviços ofere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osição oral e apresentação em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Sítio da RFB na Internet e portal e-C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 e vídeo sobre e-CA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vegação pelo sítio e portal e-CAC sob orientação do instrutor e monitor. Criação de códigos de acesso, ver caixa postal, opção pelo D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Autoatendimento orien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Apresentação em Powerpoint e navegação pelos serviços definidos para o Autoatendimen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Orientações sobre Autoatendimento mediante planejamentos entre Chefia do CAC, supervisores, triadores e estagi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789280" y="833400"/>
            <a:ext cx="5653080" cy="7239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squisa de Satisfação do Autoatendimento Crítica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9640" y="1700280"/>
            <a:ext cx="8388360" cy="4965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STE ESPAÇO É ÓTIMO, ANTES A GENTE FICAVA TENTANDO UMA SENHA VARIOS DIAS ESPERANDO PARA RESOLVER UM ASSUNTO BEM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ito bom o serviço. estavamos precisando mesmo. Gra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U APRENDI TIRAR O COMPROVANTE DO MEU CPF, POIS VIVO PERDENDO  MAS A MOCA DISSE QUE POSSO TIRAR  ATÉ NA LAN PERTO DE MINHA CASA, ISSO É LEGAL ME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 esse serviço pode ser feito pela internet, porque não é explicado  quando vamos falar com as atendentes.  Seria muito melhor pra todos. Assim ninguém é prejudicado, pois todos temos compromiss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CHO QUE COM MAIS UM POUQUINHO EU CONSIGO APRENDER USAR A PAGINA DA RECE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rabenizar o auxilio prestado pelo atendente que foi de fundamental importancia para  resolver o problema, tendo sido muito prest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 tempo de espera é muito grande, seria melhor que tivesse mais computadores a disposição do contribui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572000" y="342900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26160" y="368316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079960" y="393696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19112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87920" y="444492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42080" y="469908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4952880"/>
            <a:ext cx="1270080" cy="1270080"/>
          </a:xfrm>
          <a:prstGeom prst="line">
            <a:avLst/>
          </a:prstGeom>
          <a:ln w="12600">
            <a:solidFill>
              <a:srgbClr val="8e8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6760" y="1600200"/>
            <a:ext cx="8224920" cy="525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Antônio Henrique Lindemberg Balt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Coordenador Nacional de Educação Fiscal e Memória Institucional -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antonio.l.baltazar@receita.fazenda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6400" y="1236600"/>
            <a:ext cx="2021040" cy="63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Tahoma"/>
                <a:ea typeface="Tahoma"/>
              </a:rPr>
              <a:t>Concei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" y="2476440"/>
            <a:ext cx="8077320" cy="40593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rviço de apoio ao contribuinte, especialmente àqueles menos providos de recursos tecnológicos para acesso independente ao portal de serviços eletrônicos da Receita Fedral (e-Cac). O espaço de autoatendimento reveste-se de forte aspecto educativo e de respeito à cidadania, configurando-se numa perfeita integração entre Atendimento e Educação Fisc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240" y="1101600"/>
            <a:ext cx="8153280" cy="51609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erecer autoatendimento orientado para facilitar ao contribuinte a obtenção de serviços que podem ser buscados de maneira autônoma pela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bjetivos Específ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ção personalizada ao contribuinte para obtenção dos serviços disponíveis no sítio da RFB na internet e, especialmente, no ambiente e-CA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Informações gerais e disponibilização de folhetos educativos acerca dos serviços disponíveis por meio da inter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)  Oferecimento dos serviços públicos disponíveis no sítio da RFB que não necessitam de senha de a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838080"/>
            <a:ext cx="8153640" cy="3862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Estrutura do Espaço de Auto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aboradores: Supervisor de Autoatendimento e equipe de Estagi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específico com computadores e impress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l identificado com coletes “posso ajudar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hetos de orientação sobre serviç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126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164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Logomarca RFB.png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.jpg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234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268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306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372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.jpg" descr=""/>
          <p:cNvPicPr/>
          <p:nvPr/>
        </p:nvPicPr>
        <p:blipFill>
          <a:blip r:embed="rId2"/>
          <a:stretch/>
        </p:blipFill>
        <p:spPr>
          <a:xfrm>
            <a:off x="619200" y="914400"/>
            <a:ext cx="7905600" cy="593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376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410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448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514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.jpg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696440" cy="5771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552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590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656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image.jpg" descr=""/>
          <p:cNvPicPr/>
          <p:nvPr/>
        </p:nvPicPr>
        <p:blipFill>
          <a:blip r:embed="rId2"/>
          <a:stretch/>
        </p:blipFill>
        <p:spPr>
          <a:xfrm>
            <a:off x="743040" y="961920"/>
            <a:ext cx="765792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80880" y="1082520"/>
            <a:ext cx="8153640" cy="3922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Atendimento do Contribui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 contribuinte será atendido inicialmente pelo supervisor do Autoatendimento, o qual, após ouvir sobre o serviço pretendido, direcionará o cidadão para receber orientação dos estagiá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s próprios contribuintes deverão operar o computador, sob orientação do estagiá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12960" y="5145120"/>
            <a:ext cx="7316640" cy="838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cluída a utilização do Autoatendimento, o contribuinte será convidado a responder a Pesquisa de Satisfação por meio de formulário eletrônico disponibilizado no próprio terminal em que obteve o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