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850-6DA1-4197-8ADE-6E95034E7D0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B41-1CE7-44C3-B67D-586EEB662A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E71-A115-48EA-87E2-AC298A265E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1B9-BD95-44A9-9179-24F71E5243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306-C16F-4417-98E1-2CC45528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56E-0747-4487-84E1-C7C3199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EF0-D34A-4D9E-8F74-4DC6435D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149-B178-45CF-87BF-1D6AE403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F9AD-DB02-4E0E-B4FC-3A7A682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DB8A-43CA-40F5-9C39-C866EED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3EA-F0FF-4AE5-975C-A3D8C705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A55-9CF9-4440-BB8A-29F25514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2AFB-BDF7-4D41-B5F7-BE08C6C9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848D-F172-4C5E-AD9C-BABE1F5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E6F0-AC60-48FB-82E0-9290E5B7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C73-BC52-4344-85E0-0BF5B425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F05-8F9C-4E53-980E-3DC3AE5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9F7-F98C-4502-91C2-C47AAB0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C87B-217F-4595-8C20-938CCC8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C8EE-4F68-4381-93F7-43902BEB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85D5-85AB-442A-9024-1C54E49A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261D-203F-4419-9BC7-C707F856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C3BF-9FF1-4202-AE81-2B308D8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5413-A050-43CF-9DFC-63E4351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8225-05F6-4EE2-A96D-7EDE763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289D-B156-4706-9535-B9AF762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733-90A3-4754-9D01-686EB23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833A-E571-4AB5-9AB9-D34F78B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D914-AC72-4D48-B67B-BC809E1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FAD3-F810-4BA6-97A3-0ECC92D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03C3-3EE6-4915-861E-2A2905E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A4E3-E8D9-4F36-98DD-F6E2182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5A44-47A1-47C5-8F68-C246E6D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E76D-C6C5-4A27-A85C-BE484A73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576F-07EE-4FB9-A414-2F16A7BC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D91B-8B7F-4B36-8B32-00E4CFCC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CF84-A859-46FF-93D4-35E88BD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CE9-170E-4705-B151-C0658D1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E392-ACEB-40EF-9894-B475087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2405-6D2A-44E8-8884-6A84CB5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4194-FEF7-4779-9947-F7E9614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C9A5-D7C7-40F8-835E-E8DB906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32E2-D099-42B6-8012-0167314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57A8-2710-4304-ADF0-CB4769C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3753-A1E8-4493-9541-DA7943C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A580-5683-4C97-A851-C405CEB3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95EA-6272-4AF3-978E-92FC39CA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FE7-E5BC-42DC-A670-03B3CD11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C7E-E644-4A41-85B6-57D9A654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E66-D045-411D-83F0-B94AC1F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6C4-F91B-460F-A7E9-C8DD4CA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13-2676-48A7-AB50-975EF9E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757-52BB-40C7-AF9D-903843469C68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5F9-34AF-4867-87DB-7B3BB6BBE4E8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9EC-E512-493F-8622-7DE715B128B0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20A-F251-4E86-8A00-F55E70D8D0F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g408.imageshack.us/img408/1613/bbxa7dz5bl1.gi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MSc. Roxana Mesén Fonse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Momentos crítico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Mujer toma decisión de separarse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Primera denuncia por malos tratos 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Solicitud de medidas de protecció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tenciones inmedia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evio a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urant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Luego d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ud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4 Diagrama" descr=""/>
          <p:cNvPicPr/>
          <p:nvPr/>
        </p:nvPicPr>
        <p:blipFill>
          <a:blip r:embed="rId1"/>
          <a:stretch/>
        </p:blipFill>
        <p:spPr>
          <a:xfrm>
            <a:off x="3638520" y="2073240"/>
            <a:ext cx="6108840" cy="415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Seguimi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19288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n domicilio u ofici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Vinculación, factores de riesgo, protectores, situaciones de violencia, plan de segur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iesgo- coordin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3 Diagrama" descr=""/>
          <p:cNvPicPr/>
          <p:nvPr/>
        </p:nvPicPr>
        <p:blipFill>
          <a:blip r:embed="rId1"/>
          <a:stretch/>
        </p:blipFill>
        <p:spPr>
          <a:xfrm>
            <a:off x="1359000" y="2786040"/>
            <a:ext cx="6273720" cy="407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7 Título" descr=""/>
          <p:cNvPicPr/>
          <p:nvPr/>
        </p:nvPicPr>
        <p:blipFill>
          <a:blip r:embed="rId1"/>
          <a:stretch/>
        </p:blipFill>
        <p:spPr>
          <a:xfrm>
            <a:off x="79200" y="476280"/>
            <a:ext cx="858384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500120" y="4286160"/>
            <a:ext cx="2314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9 Rectángulo"/>
          <p:cNvGrpSpPr/>
          <p:nvPr/>
        </p:nvGrpSpPr>
        <p:grpSpPr>
          <a:xfrm>
            <a:off x="3913200" y="3486240"/>
            <a:ext cx="4743360" cy="1927080"/>
            <a:chOff x="3913200" y="3486240"/>
            <a:chExt cx="4743360" cy="1927080"/>
          </a:xfrm>
        </p:grpSpPr>
        <p:pic>
          <p:nvPicPr>
            <p:cNvPr id="235" name="9 Rectángulo" descr=""/>
            <p:cNvPicPr/>
            <p:nvPr/>
          </p:nvPicPr>
          <p:blipFill>
            <a:blip r:embed="rId3"/>
            <a:stretch/>
          </p:blipFill>
          <p:spPr>
            <a:xfrm>
              <a:off x="3913200" y="3486240"/>
              <a:ext cx="47433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000680" y="3571920"/>
              <a:ext cx="45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800" spc="-1" strike="noStrike">
                  <a:solidFill>
                    <a:srgbClr val="000000"/>
                  </a:solidFill>
                  <a:latin typeface="Constantia"/>
                </a:rPr>
                <a:t>Servicios de Asistencia a la Víctima y/u otros servicios especializados informan  de los recursos sociales gratuitos y  facilitan el contacto con los servicios sociales correspondientes a fin de que puedan acceder a dichos recursos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 rot="673800">
            <a:off x="5724360" y="907920"/>
            <a:ext cx="2436840" cy="1681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0160" y="2357280"/>
            <a:ext cx="4357800" cy="37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Ambito Jurisdic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zgados  y Tribunales (Juezas y jueces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Ambito Auxiliar de la Justi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IJ, Defensa Publica y Fiscal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mbito Administrativo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cion Ejecutiva:       Depto. de Trabajo Social y Psicologí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450720" y="665280"/>
            <a:ext cx="8240760" cy="942840"/>
            <a:chOff x="450720" y="665280"/>
            <a:chExt cx="8240760" cy="942840"/>
          </a:xfrm>
        </p:grpSpPr>
        <p:pic>
          <p:nvPicPr>
            <p:cNvPr id="206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665280"/>
              <a:ext cx="82407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"/>
            <p:cNvSpPr/>
            <p:nvPr/>
          </p:nvSpPr>
          <p:spPr>
            <a:xfrm>
              <a:off x="450720" y="665280"/>
              <a:ext cx="8240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8" name="AutoShape 5"/>
          <p:cNvSpPr/>
          <p:nvPr/>
        </p:nvSpPr>
        <p:spPr>
          <a:xfrm>
            <a:off x="3786120" y="5013360"/>
            <a:ext cx="533520" cy="228600"/>
          </a:xfrm>
          <a:prstGeom prst="rightArrow">
            <a:avLst>
              <a:gd name="adj1" fmla="val 50000"/>
              <a:gd name="adj2" fmla="val 47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1 CuadroTexto" descr=""/>
          <p:cNvPicPr/>
          <p:nvPr/>
        </p:nvPicPr>
        <p:blipFill>
          <a:blip r:embed="rId1"/>
          <a:stretch/>
        </p:blipFill>
        <p:spPr>
          <a:xfrm>
            <a:off x="281160" y="1006560"/>
            <a:ext cx="8869320" cy="5333760"/>
          </a:xfrm>
          <a:prstGeom prst="rect">
            <a:avLst/>
          </a:prstGeom>
          <a:ln w="0">
            <a:noFill/>
          </a:ln>
        </p:spPr>
      </p:pic>
      <p:sp>
        <p:nvSpPr>
          <p:cNvPr id="210" name="2 CuadroTexto"/>
          <p:cNvSpPr/>
          <p:nvPr/>
        </p:nvSpPr>
        <p:spPr>
          <a:xfrm>
            <a:off x="971640" y="1857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Microsoft YaHei"/>
              </a:rPr>
              <a:t>OFICINA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oración psicosocial, a las personas vinculadas en procesos judiciales, con el propósito de darle respuesta  a las solicitudes de las diferentes instancias judiciales</a:t>
            </a:r>
            <a:r>
              <a:rPr b="0" lang="en-US" sz="3600" spc="-1" strike="noStrike">
                <a:solidFill>
                  <a:srgbClr val="a3171e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450720" y="530280"/>
            <a:ext cx="8240760" cy="1077840"/>
            <a:chOff x="450720" y="530280"/>
            <a:chExt cx="8240760" cy="1077840"/>
          </a:xfrm>
        </p:grpSpPr>
        <p:pic>
          <p:nvPicPr>
            <p:cNvPr id="21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530280"/>
              <a:ext cx="8240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450720" y="530280"/>
              <a:ext cx="824076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4236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3 Marcador de contenido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302320" cy="56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35676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valuaciones individ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 e emite un solo informe cuando ambas partes son referidas (protec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e señalan elementos vulnerabilizantes en historia de vida, dinámica de pareja, situaciones de violencia,  riesgo, protect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1"/>
          <a:stretch/>
        </p:blipFill>
        <p:spPr>
          <a:xfrm>
            <a:off x="3029040" y="3067200"/>
            <a:ext cx="6134040" cy="403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8520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Evaluación del riesg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Variables que permiten un mayor conocimiento: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agresión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víctima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l ofens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5:22:32Z</dcterms:created>
  <dc:creator>Roxana</dc:creator>
  <dc:description/>
  <dc:language>en-US</dc:language>
  <cp:lastModifiedBy>Roxana</cp:lastModifiedBy>
  <dcterms:modified xsi:type="dcterms:W3CDTF">2014-12-04T15:45:17Z</dcterms:modified>
  <cp:revision>22</cp:revision>
  <dc:subject/>
  <dc:title>Departamento Trabajo Social y Psicología</dc:title>
</cp:coreProperties>
</file>