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EAC9-F64A-43E2-A85E-4F8DB7447902}" type="slidenum">
              <a:rPr b="0" lang="es-C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08F2-A2A7-47FF-A8B6-0CE58A12433B}" type="slidenum">
              <a:rPr b="0" lang="es-C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ADD0-416F-45C0-BF2B-16C00242D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E30D-7DC9-464B-81BB-CBFBF37B3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E8963-D91C-4E8A-A85E-4C04CF69A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44CD6-6522-4613-8840-A0AAD4268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5FE13-E78B-4600-9218-651B1DB6C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2E36-C47B-4F89-8328-BA3C248A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00C2-A6F8-4651-AB14-E2553343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E1836-DE51-4EAE-A5C4-E178910F4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67B75-B66C-4972-9F40-18B10569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0499B-894F-4F77-9AF3-10685C383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CE64-A989-4A14-B939-EEF956F51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3E519-7E60-4540-8C06-83D777990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7517-17FB-49B9-BBFC-0804CD8F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7DF23-F3C7-4CAD-B58D-08D3214C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DDF7B-F722-45CC-B8CF-053DA35DE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F6CD5-4322-4AA2-80A1-8524908DA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D3E67-06F8-4D06-8B64-D7279B2E6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04132-EB5A-4900-98D6-CD8CB6307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D7F21-24D2-4C40-8B8B-D4E11608A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7400B-45CA-4D3E-9EC5-DD84B4E06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6F493-647C-4F64-BE46-5C24654F9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12FCC-C8B9-471E-80CC-A84F4CC75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7DF4-F980-4DFF-BAF2-52A88F1B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CFB52-2375-4689-B1E2-4A3CD10F2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1F076-F344-4634-B012-82BB54C63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C9AC0-3B01-4308-A092-597C60769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C9A70-F939-45AC-AE49-CBF1DAD9E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A0A33-672C-4347-B87D-D4A36F912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02B89-BCFC-47B0-BE61-641CA3C417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3611B-871D-46CE-916A-B16128C42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9198F-A578-4835-9E29-9A88AE18F3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88370-C31A-4843-80DD-952087550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5B44F-0B86-4FB9-BB0D-A3B94B9FA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81027-13ED-4F5A-8517-E8DA9028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53128-4CAF-4EB8-A0B1-53DF5E5FF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B592F-A72F-4966-9DDD-1F80E73B0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36EE5-4CC4-44BD-A62B-A7A5A0F19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5BD37-16CB-4054-9AD8-588311E4C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A16E5-E74A-42BD-858F-0DDFA2786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8D703-0836-4804-B7ED-945CBBC8C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BD8FE-CCF7-48D3-BD72-4F78D2B9D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07D13-84A4-4A18-A5C0-5A8B30AB1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2CDAB8-9F74-4CCC-9529-A52D6EA00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E1D51-AC4B-47C0-83C1-F0233B219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F793C-E083-4C6E-8752-D6DAE09E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666E6-07E5-4399-A149-CB97462B5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8B2D7-B4D9-44B2-8D46-3981877D0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BC078-3EEF-408F-9039-5525A6332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1BAA4-B6AA-4A18-9DC1-D4DBBE56C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26E54-9116-4F85-B2BE-7B5D6967A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1061D-7D15-4744-87F3-9A2BD867B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ADD73-DC48-4D09-9F26-F7FA55DB0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EECAE-C49F-4D38-A9C0-1F9A03E37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3E7F14-031B-4403-A295-FF3F02651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F56BBA-D9DB-4AC2-8D15-FA84E78389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3494-0CA2-4942-953E-1C708C34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B957CE-0B12-4184-9FE6-4324960535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B494CE-6251-4537-9C52-DBEB672926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2ECC0-BD86-4DAA-B678-BBB1E15F1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6BDDC-D291-45AE-A05A-41E44FE90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E2369-DB2B-4E6D-ACFB-C6E996A7D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E65F7-90E4-4ACD-B542-F2BD524AB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8E318-CBFE-490A-8E49-B1D5DBAEE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50194-88D3-418A-92B1-A9D2CF92C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72AEE-50B8-4B1C-B96A-484F174C7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B70E0-2F8D-4C78-A846-1FB87F2F1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352B-8BC1-4B11-ADBB-4A0B0CB3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247D3-99B6-4E7E-B7A3-D06F7F9AE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CAAFDA-476D-423C-B789-80CE2ACD5B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230810-6107-4F6E-9B8B-87215BBD00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AD96B9-2F52-4356-B79E-D42CFD4C1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AC9B8-6250-48F1-8DA1-FB2126E46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435F64-4FC0-4320-A333-7FB62C75D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1AB3F-86C0-433E-B9C2-BDF658156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416F1-5608-4CC9-AFC4-AC72FBAE6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581BCD-E39A-4900-AC9D-D94734520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C3EFD-4683-4862-AF59-B2C30C7D8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B23A-8725-4659-A584-F3CEF6DB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F37C9-B973-40CC-8A97-001D7A12A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5CE1E-6D94-42E7-8849-A536A9145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C83E9-98ED-4597-B91D-F563E8748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6571E9-224C-4B73-8839-F1D4C35297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D7BE6C-153D-481A-A99A-FF579F536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D75EBC-D944-4160-8C3D-B1808FAECA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B1D34-6F4B-44E8-B307-6371550B4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084CF1-AA6C-477C-8744-3C7484563F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C26A3-D437-49A6-8A53-15E7711CA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2E9D5-0791-40AA-8A83-6B23A2F08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E3CE-31EB-4AFB-8614-79324C533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6C3F6-857C-471A-B03E-7AA0FF07BB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A2944-90E3-4A51-B24A-5DFFF3BCB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8855B-FC1B-4E13-8E59-C0B752495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8780F-62F3-40BC-AE4A-F219CCBAE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7F7C9-1FFD-45E2-B006-E2B1797B8F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E06C00-48AB-49C2-B715-96DE0E339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65F9A5-30F1-48C1-958F-711A4FB9EA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C558-A732-4D0C-8099-9ABDD5A1D1CD}"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 Grupo"/>
          <p:cNvGrpSpPr/>
          <p:nvPr/>
        </p:nvGrpSpPr>
        <p:grpSpPr>
          <a:xfrm>
            <a:off x="-3240" y="4952880"/>
            <a:ext cx="9147240" cy="1911600"/>
            <a:chOff x="-3240" y="4952880"/>
            <a:chExt cx="9147240" cy="1911600"/>
          </a:xfrm>
        </p:grpSpPr>
        <p:sp>
          <p:nvSpPr>
            <p:cNvPr id="49" name="6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7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0 Forma libre"/>
            <p:cNvGrpSpPr/>
            <p:nvPr/>
          </p:nvGrpSpPr>
          <p:grpSpPr>
            <a:xfrm>
              <a:off x="8640" y="4998600"/>
              <a:ext cx="9135360" cy="1865880"/>
              <a:chOff x="8640" y="4998600"/>
              <a:chExt cx="9135360" cy="1865880"/>
            </a:xfrm>
          </p:grpSpPr>
          <p:pic>
            <p:nvPicPr>
              <p:cNvPr id="52" name="10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1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3D11-7ED0-4210-A4D0-972973AC71A8}"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6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7695-4FCB-4FBA-8C56-E05AB2886292}"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DE91-1BCD-4006-9508-F1916FF687FB}"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C2B6-F4EE-4F30-A575-C416DB727254}"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6CA0-9B79-4553-A1D7-197CCDD6CB1C}"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8C16-6C2A-4F74-95AB-85BD310EEECD}"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7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8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9 Triángulo rectángulo"/>
          <p:cNvGrpSpPr/>
          <p:nvPr/>
        </p:nvGrpSpPr>
        <p:grpSpPr>
          <a:xfrm>
            <a:off x="-6480" y="5791320"/>
            <a:ext cx="3402000" cy="1079280"/>
            <a:chOff x="-6480" y="5791320"/>
            <a:chExt cx="3402000" cy="1079280"/>
          </a:xfrm>
        </p:grpSpPr>
        <p:pic>
          <p:nvPicPr>
            <p:cNvPr id="324" name="9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0 Conector recto" descr=""/>
          <p:cNvPicPr/>
          <p:nvPr/>
        </p:nvPicPr>
        <p:blipFill>
          <a:blip r:embed="rId4"/>
          <a:stretch/>
        </p:blipFill>
        <p:spPr>
          <a:xfrm>
            <a:off x="-19080" y="5778360"/>
            <a:ext cx="3414600" cy="1098720"/>
          </a:xfrm>
          <a:prstGeom prst="rect">
            <a:avLst/>
          </a:prstGeom>
          <a:ln w="0">
            <a:noFill/>
          </a:ln>
        </p:spPr>
      </p:pic>
      <p:sp>
        <p:nvSpPr>
          <p:cNvPr id="327" name="11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2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02CC-D885-490F-A264-E331350B04AD}"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1280" y="1197000"/>
            <a:ext cx="7772400" cy="41767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464646"/>
                </a:solidFill>
                <a:latin typeface="Lucida Sans Unicode"/>
              </a:rPr>
              <a:t>Modelo de protocolo para la investigación de los delitos de violencia contra las mujeres por razones de género</a:t>
            </a:r>
            <a:r>
              <a:rPr b="0" lang="es-MX" sz="3200" spc="-1" strike="noStrike">
                <a:solidFill>
                  <a:srgbClr val="464646"/>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s por esta razón que cada vez cobra más importancia la necesidad de incorporar la perspectiva de género en la conceptualización, análisis y tutela de los derechos humanos, lo que permite, entre otras cosas, visualizar inequidades </a:t>
            </a:r>
            <a:r>
              <a:rPr b="0" lang="es-CR" sz="2700" spc="-1" strike="noStrike">
                <a:solidFill>
                  <a:srgbClr val="000000"/>
                </a:solidFill>
                <a:latin typeface="Lucida Sans Unicode"/>
              </a:rPr>
              <a:t>construidas de manera artificial, socio-culturalmente; y detectar </a:t>
            </a:r>
            <a:r>
              <a:rPr b="0" lang="es-MX" sz="2700" spc="-1" strike="noStrike">
                <a:solidFill>
                  <a:srgbClr val="000000"/>
                </a:solidFill>
                <a:latin typeface="Lucida Sans Unicode"/>
              </a:rPr>
              <a:t>mejor la especificidad en la protección que precisan quienes </a:t>
            </a:r>
            <a:r>
              <a:rPr b="0" lang="es-CR" sz="2700" spc="-1" strike="noStrike">
                <a:solidFill>
                  <a:srgbClr val="000000"/>
                </a:solidFill>
                <a:latin typeface="Lucida Sans Unicode"/>
              </a:rPr>
              <a:t>sufren desigualdad o discriminación.</a:t>
            </a:r>
            <a:endParaRPr b="0" lang="en-US" sz="2700" spc="-1" strike="noStrike">
              <a:solidFill>
                <a:srgbClr val="000000"/>
              </a:solidFill>
              <a:latin typeface="Lucida Sans Unicode"/>
            </a:endParaRPr>
          </a:p>
          <a:p>
            <a:pPr marL="1080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Badilla y Torres, 2004).</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3 Marcador de contenido" descr=""/>
          <p:cNvPicPr/>
          <p:nvPr/>
        </p:nvPicPr>
        <p:blipFill>
          <a:blip r:embed="rId1"/>
          <a:stretch/>
        </p:blipFill>
        <p:spPr>
          <a:xfrm>
            <a:off x="457200" y="1457280"/>
            <a:ext cx="8229600" cy="4651560"/>
          </a:xfrm>
          <a:prstGeom prst="rect">
            <a:avLst/>
          </a:prstGeom>
          <a:ln w="0">
            <a:noFill/>
          </a:ln>
        </p:spPr>
      </p:pic>
      <p:pic>
        <p:nvPicPr>
          <p:cNvPr id="395"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3 Marcador de contenido" descr=""/>
          <p:cNvPicPr/>
          <p:nvPr/>
        </p:nvPicPr>
        <p:blipFill>
          <a:blip r:embed="rId1"/>
          <a:stretch/>
        </p:blipFill>
        <p:spPr>
          <a:xfrm>
            <a:off x="457200" y="1457280"/>
            <a:ext cx="8229600" cy="4754520"/>
          </a:xfrm>
          <a:prstGeom prst="rect">
            <a:avLst/>
          </a:prstGeom>
          <a:ln w="0">
            <a:noFill/>
          </a:ln>
        </p:spPr>
      </p:pic>
      <p:pic>
        <p:nvPicPr>
          <p:cNvPr id="397" name="2 Título" descr=""/>
          <p:cNvPicPr/>
          <p:nvPr/>
        </p:nvPicPr>
        <p:blipFill>
          <a:blip r:embed="rId2"/>
          <a:stretch/>
        </p:blipFill>
        <p:spPr>
          <a:xfrm>
            <a:off x="444600" y="139680"/>
            <a:ext cx="8229600" cy="168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flagrancia del deli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denuncia ante los cuerpos d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policía o la fiscalí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Funcionarios/as y profesionales obligados/a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a denuncia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Detención del presunto agreso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Valoración del riesgo en sede fiscal </a:t>
            </a:r>
            <a:endParaRPr b="0" lang="en-US" sz="2700" spc="-1" strike="noStrike">
              <a:solidFill>
                <a:srgbClr val="000000"/>
              </a:solidFill>
              <a:latin typeface="Lucida Sans Unicode"/>
            </a:endParaRPr>
          </a:p>
        </p:txBody>
      </p:sp>
      <p:pic>
        <p:nvPicPr>
          <p:cNvPr id="399"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en el lugar de los hecho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la vícti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e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gresor/posible responsable </a:t>
            </a:r>
            <a:endParaRPr b="0" lang="en-US" sz="2700" spc="-1" strike="noStrike">
              <a:solidFill>
                <a:srgbClr val="000000"/>
              </a:solidFill>
              <a:latin typeface="Lucida Sans Unicode"/>
            </a:endParaRPr>
          </a:p>
        </p:txBody>
      </p:sp>
      <p:pic>
        <p:nvPicPr>
          <p:cNvPr id="401" name="2 Título" descr=""/>
          <p:cNvPicPr/>
          <p:nvPr/>
        </p:nvPicPr>
        <p:blipFill>
          <a:blip r:embed="rId1"/>
          <a:stretch/>
        </p:blipFill>
        <p:spPr>
          <a:xfrm>
            <a:off x="457200" y="14616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97-2014 Consejo Superi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Guía para valorar el riesgo 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52-2010</a:t>
            </a: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249120" y="182520"/>
            <a:ext cx="8534520" cy="914400"/>
          </a:xfrm>
          <a:prstGeom prst="rect">
            <a:avLst/>
          </a:prstGeom>
          <a:ln w="0">
            <a:noFill/>
          </a:ln>
        </p:spPr>
      </p:pic>
      <p:pic>
        <p:nvPicPr>
          <p:cNvPr id="405" name="3 Diagrama" descr=""/>
          <p:cNvPicPr/>
          <p:nvPr/>
        </p:nvPicPr>
        <p:blipFill>
          <a:blip r:embed="rId2"/>
          <a:stretch/>
        </p:blipFill>
        <p:spPr>
          <a:xfrm>
            <a:off x="-23760" y="1127160"/>
            <a:ext cx="8156520" cy="5730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457200" y="274680"/>
            <a:ext cx="8229600" cy="1146240"/>
          </a:xfrm>
          <a:prstGeom prst="rect">
            <a:avLst/>
          </a:prstGeom>
          <a:ln w="0">
            <a:noFill/>
          </a:ln>
        </p:spPr>
      </p:pic>
      <p:sp>
        <p:nvSpPr>
          <p:cNvPr id="40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rtículo 03 de la Convención Belem do Par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000000"/>
                </a:solidFill>
                <a:latin typeface="Lucida Sans Unicode"/>
              </a:rPr>
              <a:t>Procedimiento legales, justos y eficaces para la mujer sometida a violencia, que incluyan entre otros, medidas de protección, un juicio oportuno y el acceso efectivo a tales procedimiento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7200" y="128520"/>
            <a:ext cx="8229600" cy="1608120"/>
          </a:xfrm>
          <a:prstGeom prst="rect">
            <a:avLst/>
          </a:prstGeom>
          <a:ln w="0">
            <a:noFill/>
          </a:ln>
        </p:spPr>
      </p:pic>
      <p:pic>
        <p:nvPicPr>
          <p:cNvPr id="409" name="3 Marcador de contenido" descr=""/>
          <p:cNvPicPr/>
          <p:nvPr/>
        </p:nvPicPr>
        <p:blipFill>
          <a:blip r:embed="rId2"/>
          <a:stretch/>
        </p:blipFill>
        <p:spPr>
          <a:xfrm>
            <a:off x="12600" y="1487520"/>
            <a:ext cx="8161560" cy="5370480"/>
          </a:xfrm>
          <a:prstGeom prst="rect">
            <a:avLst/>
          </a:prstGeom>
          <a:ln w="0">
            <a:noFill/>
          </a:ln>
        </p:spPr>
      </p:pic>
      <p:sp>
        <p:nvSpPr>
          <p:cNvPr id="410" name="4 CuadroTexto"/>
          <p:cNvSpPr/>
          <p:nvPr/>
        </p:nvSpPr>
        <p:spPr>
          <a:xfrm>
            <a:off x="179280" y="2060640"/>
            <a:ext cx="432144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5a2c64"/>
                </a:solidFill>
                <a:latin typeface="Arial"/>
                <a:ea typeface="Arial"/>
              </a:rPr>
              <a:t>Para proteger a las víctimas, podrán solicitarse, desde el inicio de la investigación judicial, las medidas de protección contempladas en la ley contra la violencia doméstica, así como las medidas cautelares necesarias previstas en el código procesal pe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1 Título" descr=""/>
          <p:cNvPicPr/>
          <p:nvPr/>
        </p:nvPicPr>
        <p:blipFill>
          <a:blip r:embed="rId1"/>
          <a:stretch/>
        </p:blipFill>
        <p:spPr>
          <a:xfrm>
            <a:off x="457200" y="128520"/>
            <a:ext cx="8229600" cy="1608120"/>
          </a:xfrm>
          <a:prstGeom prst="rect">
            <a:avLst/>
          </a:prstGeom>
          <a:ln w="0">
            <a:noFill/>
          </a:ln>
        </p:spPr>
      </p:pic>
      <p:pic>
        <p:nvPicPr>
          <p:cNvPr id="412" name="3 Marcador de contenido" descr=""/>
          <p:cNvPicPr/>
          <p:nvPr/>
        </p:nvPicPr>
        <p:blipFill>
          <a:blip r:embed="rId2"/>
          <a:stretch/>
        </p:blipFill>
        <p:spPr>
          <a:xfrm>
            <a:off x="12600" y="1487520"/>
            <a:ext cx="8161560" cy="5370480"/>
          </a:xfrm>
          <a:prstGeom prst="rect">
            <a:avLst/>
          </a:prstGeom>
          <a:ln w="0">
            <a:noFill/>
          </a:ln>
        </p:spPr>
      </p:pic>
      <p:sp>
        <p:nvSpPr>
          <p:cNvPr id="413" name="4 CuadroTexto"/>
          <p:cNvSpPr/>
          <p:nvPr/>
        </p:nvSpPr>
        <p:spPr>
          <a:xfrm>
            <a:off x="0" y="1773360"/>
            <a:ext cx="518472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Obstaculización del acceso a la justi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ersona que, en el ejercicio de una función pública propicie, por un medio ilícito, la impunidad u obstaculice la investigación policial, judicial o administrativa por acciones de violencia física, sexual, psicológica o patrimonial, cometidas en perjuicio de una mujer, será sancionada con pena de prisión de tres meses a tres años e inhabilitación por el plazo de uno a cuatro años para el ejercicio de la función p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1 Diagrama" descr=""/>
          <p:cNvPicPr/>
          <p:nvPr/>
        </p:nvPicPr>
        <p:blipFill>
          <a:blip r:embed="rId1"/>
          <a:stretch/>
        </p:blipFill>
        <p:spPr>
          <a:xfrm>
            <a:off x="1523880" y="1390680"/>
            <a:ext cx="6096240" cy="410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3 Marcador de contenido" descr=""/>
          <p:cNvPicPr/>
          <p:nvPr/>
        </p:nvPicPr>
        <p:blipFill>
          <a:blip r:embed="rId1"/>
          <a:stretch/>
        </p:blipFill>
        <p:spPr>
          <a:xfrm>
            <a:off x="1212840" y="-12600"/>
            <a:ext cx="7682040" cy="6797520"/>
          </a:xfrm>
          <a:prstGeom prst="rect">
            <a:avLst/>
          </a:prstGeom>
          <a:ln w="0">
            <a:noFill/>
          </a:ln>
        </p:spPr>
      </p:pic>
      <p:sp>
        <p:nvSpPr>
          <p:cNvPr id="415" name="4 Estrella de 5 puntas">
            <a:hlinkClick r:id="" action="ppaction://hlinkshowjump?jump=previousslide"/>
          </p:cNvPr>
          <p:cNvSpPr/>
          <p:nvPr/>
        </p:nvSpPr>
        <p:spPr>
          <a:xfrm>
            <a:off x="5003640" y="2565360"/>
            <a:ext cx="289080" cy="287280"/>
          </a:xfrm>
          <a:custGeom>
            <a:avLst/>
            <a:gdLst/>
            <a:ahLst/>
            <a:rect l="l" t="t" r="r" b="b"/>
            <a:pathLst>
              <a:path w="288925" h="287338">
                <a:moveTo>
                  <a:pt x="0" y="109753"/>
                </a:moveTo>
                <a:lnTo>
                  <a:pt x="110360" y="109754"/>
                </a:lnTo>
                <a:lnTo>
                  <a:pt x="144463" y="0"/>
                </a:lnTo>
                <a:lnTo>
                  <a:pt x="178565" y="109754"/>
                </a:lnTo>
                <a:lnTo>
                  <a:pt x="288925" y="109753"/>
                </a:lnTo>
                <a:lnTo>
                  <a:pt x="199641" y="177584"/>
                </a:lnTo>
                <a:lnTo>
                  <a:pt x="233745" y="287337"/>
                </a:lnTo>
                <a:lnTo>
                  <a:pt x="144463" y="219505"/>
                </a:lnTo>
                <a:lnTo>
                  <a:pt x="55180" y="287337"/>
                </a:lnTo>
                <a:lnTo>
                  <a:pt x="89284" y="177584"/>
                </a:lnTo>
                <a:lnTo>
                  <a:pt x="0" y="109753"/>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68360" y="148428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Juzgados y Tribun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condición física y emocional</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ción de derecho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diligencias de investigación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r y coordinar con  servicios de atención disponibl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istencia jurídica gratuita</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Defensa Pública / Colegios de Abogado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ervicios soci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apeo, directorio de recursos de atención</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7" name="2 Título" descr=""/>
          <p:cNvPicPr/>
          <p:nvPr/>
        </p:nvPicPr>
        <p:blipFill>
          <a:blip r:embed="rId1"/>
          <a:stretch/>
        </p:blipFill>
        <p:spPr>
          <a:xfrm>
            <a:off x="420840" y="128520"/>
            <a:ext cx="8431200" cy="16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te médico; obligatorio.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n lesiones evidente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Sin lesiones  evident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Victima no quiere denunci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Urgencia en el lugar de los hecho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tección inmedi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presencia de lesiones y estado emocion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formación  y acceso a los servici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gistro de la Información y presentación del parte polic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Ministerio Público</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edidas de protección/cautelar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mportancia de los informes remitidos por las otras institucion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ordinación y seguimiento de las medidas</a:t>
            </a:r>
            <a:endParaRPr b="0" lang="en-US" sz="2300" spc="-1" strike="noStrike">
              <a:solidFill>
                <a:srgbClr val="000000"/>
              </a:solidFill>
              <a:latin typeface="Lucida Sans Unicode"/>
            </a:endParaRPr>
          </a:p>
        </p:txBody>
      </p:sp>
      <p:pic>
        <p:nvPicPr>
          <p:cNvPr id="423"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3 Marcador de contenido" descr=""/>
          <p:cNvPicPr/>
          <p:nvPr/>
        </p:nvPicPr>
        <p:blipFill>
          <a:blip r:embed="rId1"/>
          <a:stretch/>
        </p:blipFill>
        <p:spPr>
          <a:xfrm>
            <a:off x="426960" y="1481040"/>
            <a:ext cx="8290080" cy="4523040"/>
          </a:xfrm>
          <a:prstGeom prst="rect">
            <a:avLst/>
          </a:prstGeom>
          <a:ln w="0">
            <a:noFill/>
          </a:ln>
        </p:spPr>
      </p:pic>
      <p:pic>
        <p:nvPicPr>
          <p:cNvPr id="425" name="2 Título"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3 Marcador de contenido" descr=""/>
          <p:cNvPicPr/>
          <p:nvPr/>
        </p:nvPicPr>
        <p:blipFill>
          <a:blip r:embed="rId1"/>
          <a:stretch/>
        </p:blipFill>
        <p:spPr>
          <a:xfrm>
            <a:off x="457200" y="1481040"/>
            <a:ext cx="8229600" cy="4614840"/>
          </a:xfrm>
          <a:prstGeom prst="rect">
            <a:avLst/>
          </a:prstGeom>
          <a:ln w="0">
            <a:noFill/>
          </a:ln>
        </p:spPr>
      </p:pic>
      <p:pic>
        <p:nvPicPr>
          <p:cNvPr id="427"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3 Marcador de contenido" descr=""/>
          <p:cNvPicPr/>
          <p:nvPr/>
        </p:nvPicPr>
        <p:blipFill>
          <a:blip r:embed="rId1"/>
          <a:stretch/>
        </p:blipFill>
        <p:spPr>
          <a:xfrm>
            <a:off x="457200" y="1481040"/>
            <a:ext cx="8229600" cy="4523040"/>
          </a:xfrm>
          <a:prstGeom prst="rect">
            <a:avLst/>
          </a:prstGeom>
          <a:ln w="0">
            <a:noFill/>
          </a:ln>
        </p:spPr>
      </p:pic>
      <p:pic>
        <p:nvPicPr>
          <p:cNvPr id="429" name="2 Título" descr=""/>
          <p:cNvPicPr/>
          <p:nvPr/>
        </p:nvPicPr>
        <p:blipFill>
          <a:blip r:embed="rId2"/>
          <a:stretch/>
        </p:blipFill>
        <p:spPr>
          <a:xfrm>
            <a:off x="201600" y="274680"/>
            <a:ext cx="873432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395280" y="1484280"/>
            <a:ext cx="8229600" cy="518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Comunicación y capacitació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mpaña en Intrane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ágina Web del Ministerio Público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ir dentro de la oferta de capacitación de la UC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Implementación del protocolo</a:t>
            </a:r>
            <a:endParaRPr b="0" lang="en-US" sz="27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sión del Protocolo dentro del PAO</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pacitaciones conjuntas Fiscales, Jueces y Policía Judicial y Policía Administrativa</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yecto BA1 </a:t>
            </a:r>
            <a:endParaRPr b="0" lang="en-US" sz="23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Comités Locales de atención a mujeres víctimas en situaciones de alto riesgo y tentativa de femicidio.</a:t>
            </a:r>
            <a:endParaRPr b="0" lang="en-US" sz="21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Divulgación del protocolo en las Redes Locale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1" name="2 Título" descr=""/>
          <p:cNvPicPr/>
          <p:nvPr/>
        </p:nvPicPr>
        <p:blipFill>
          <a:blip r:embed="rId1"/>
          <a:stretch/>
        </p:blipFill>
        <p:spPr>
          <a:xfrm>
            <a:off x="255600" y="128520"/>
            <a:ext cx="8778960" cy="16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namá</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agu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Brasi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Nicaragu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cuado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sta Rica</a:t>
            </a:r>
            <a:endParaRPr b="0" lang="en-US" sz="2700" spc="-1" strike="noStrike">
              <a:solidFill>
                <a:srgbClr val="000000"/>
              </a:solidFill>
              <a:latin typeface="Lucida Sans Unicode"/>
            </a:endParaRPr>
          </a:p>
        </p:txBody>
      </p:sp>
      <p:pic>
        <p:nvPicPr>
          <p:cNvPr id="433" name="3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3 Diagrama" descr=""/>
          <p:cNvPicPr/>
          <p:nvPr/>
        </p:nvPicPr>
        <p:blipFill>
          <a:blip r:embed="rId1"/>
          <a:stretch/>
        </p:blipFill>
        <p:spPr>
          <a:xfrm>
            <a:off x="1547640" y="103320"/>
            <a:ext cx="6724800" cy="577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Acciones estratégicas</a:t>
            </a: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Políticas</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Reuniones con jerarcas: Compromiso</a:t>
            </a:r>
            <a:endParaRPr b="0" lang="en-US" sz="19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Ministerio Público</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olicía Judicial y Administrativa</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Instituto Nacional de las Mujere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Talleres de validación con policías, fiscales,  psicologos y trabajadores sociales</a:t>
            </a: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amblea XXI de la Asociación Ibero Americana de Ministerios Públicos, celebrada el 18 y 19 en Quito, Ecuador acordó aprobar por mayoría: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a:t>
            </a:r>
            <a:r>
              <a:rPr b="0" lang="es-MX" sz="2800" spc="-1" strike="noStrike">
                <a:solidFill>
                  <a:srgbClr val="000000"/>
                </a:solidFill>
                <a:latin typeface="Lucida Sans Unicode"/>
              </a:rPr>
              <a:t>Protocolo Latinoamericano de investigación  con perspectiva de género de los delitos contra las mujeres”</a:t>
            </a:r>
            <a:endParaRPr b="0" lang="en-US" sz="2800" spc="-1" strike="noStrike">
              <a:solidFill>
                <a:srgbClr val="000000"/>
              </a:solidFill>
              <a:latin typeface="Lucida Sans Unicode"/>
            </a:endParaRPr>
          </a:p>
        </p:txBody>
      </p:sp>
      <p:pic>
        <p:nvPicPr>
          <p:cNvPr id="437" name="2 Título"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Formación continua: sencilización y capacitaciones a fiscales, policías ,  psicólogos y trabajadores sociale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Crear módulos de capacitación de los protocolo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ncluir los protocolos en las actividades de capacitación permanentes de la Unidad de Capacitación del Ministerio Público.</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mplementar el protocolo de investigación con perspectiva de género en 10 localidades, proyecto del SICA, BA 1.</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Dar seguimiento y monitorear la aplicación de los protocolos </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9"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611280" y="620640"/>
            <a:ext cx="7921440" cy="1152720"/>
          </a:xfrm>
          <a:prstGeom prst="rect">
            <a:avLst/>
          </a:prstGeom>
          <a:noFill/>
          <a:ln w="0">
            <a:noFill/>
          </a:ln>
        </p:spPr>
        <p:txBody>
          <a:bodyPr anchor="t">
            <a:normAutofit fontScale="8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Lucida Sans Unicode"/>
              </a:rPr>
              <a:t>El proyecto B.A.1 </a:t>
            </a:r>
            <a:r>
              <a:rPr b="0" i="1" lang="es-CR" sz="2000" spc="-1" strike="noStrike">
                <a:solidFill>
                  <a:srgbClr val="000000"/>
                </a:solidFill>
                <a:latin typeface="Lucida Sans Unicode"/>
              </a:rPr>
              <a:t>Prevención de la Violencia contra las Mujeres, trata y femicidio en Centroamérica</a:t>
            </a:r>
            <a:r>
              <a:rPr b="0" lang="es-CR" sz="2000" spc="-1" strike="noStrike">
                <a:solidFill>
                  <a:srgbClr val="000000"/>
                </a:solidFill>
                <a:latin typeface="Lucida Sans Unicode"/>
              </a:rPr>
              <a:t>, forma parte de la </a:t>
            </a:r>
            <a:r>
              <a:rPr b="1" lang="es-CR" sz="2000" spc="-1" strike="noStrike">
                <a:solidFill>
                  <a:srgbClr val="000000"/>
                </a:solidFill>
                <a:latin typeface="Lucida Sans Unicode"/>
              </a:rPr>
              <a:t>Estrategia de Seguridad de Centroamérica</a:t>
            </a:r>
            <a:r>
              <a:rPr b="0" lang="es-CR" sz="2000" spc="-1" strike="noStrike">
                <a:solidFill>
                  <a:srgbClr val="000000"/>
                </a:solidFill>
                <a:latin typeface="Lucida Sans Unicode"/>
              </a:rPr>
              <a:t> (ESCA) del Sistema de Integración Centroamericana (SICA).</a:t>
            </a:r>
            <a:endParaRPr b="0" lang="en-US" sz="2000" spc="-1" strike="noStrike">
              <a:solidFill>
                <a:srgbClr val="000000"/>
              </a:solidFill>
              <a:latin typeface="Lucida Sans Unicode"/>
            </a:endParaRPr>
          </a:p>
        </p:txBody>
      </p:sp>
      <p:pic>
        <p:nvPicPr>
          <p:cNvPr id="441" name="3 Marcador de contenido" descr=""/>
          <p:cNvPicPr/>
          <p:nvPr/>
        </p:nvPicPr>
        <p:blipFill>
          <a:blip r:embed="rId1"/>
          <a:stretch/>
        </p:blipFill>
        <p:spPr>
          <a:xfrm>
            <a:off x="2773440" y="1944720"/>
            <a:ext cx="5614920" cy="4059360"/>
          </a:xfrm>
          <a:prstGeom prst="rect">
            <a:avLst/>
          </a:prstGeom>
          <a:ln w="0">
            <a:noFill/>
          </a:ln>
        </p:spPr>
      </p:pic>
      <p:pic>
        <p:nvPicPr>
          <p:cNvPr id="442" name="1 Título" descr=""/>
          <p:cNvPicPr/>
          <p:nvPr/>
        </p:nvPicPr>
        <p:blipFill>
          <a:blip r:embed="rId2"/>
          <a:stretch/>
        </p:blipFill>
        <p:spPr>
          <a:xfrm>
            <a:off x="480960" y="2249640"/>
            <a:ext cx="3140280" cy="1365120"/>
          </a:xfrm>
          <a:prstGeom prst="rect">
            <a:avLst/>
          </a:prstGeom>
          <a:ln w="0">
            <a:noFill/>
          </a:ln>
        </p:spPr>
      </p:pic>
      <p:sp>
        <p:nvSpPr>
          <p:cNvPr id="443" name="Rectangle 7"/>
          <p:cNvSpPr/>
          <p:nvPr/>
        </p:nvSpPr>
        <p:spPr>
          <a:xfrm>
            <a:off x="4356000" y="2781360"/>
            <a:ext cx="2806920" cy="86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Group 11"/>
          <p:cNvGrpSpPr/>
          <p:nvPr/>
        </p:nvGrpSpPr>
        <p:grpSpPr>
          <a:xfrm>
            <a:off x="5684760" y="2185920"/>
            <a:ext cx="2806920" cy="3616920"/>
            <a:chOff x="5684760" y="2185920"/>
            <a:chExt cx="2806920" cy="3616920"/>
          </a:xfrm>
        </p:grpSpPr>
        <p:sp>
          <p:nvSpPr>
            <p:cNvPr id="445" name="TextBox 5"/>
            <p:cNvSpPr/>
            <p:nvPr/>
          </p:nvSpPr>
          <p:spPr>
            <a:xfrm>
              <a:off x="6259680" y="4263840"/>
              <a:ext cx="2232000" cy="459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REHABILITACIÓN REINSERCIÓN Y SEGURIDAD PENITENCIARIA</a:t>
              </a:r>
              <a:endParaRPr b="0" lang="en-US" sz="1200" spc="-1" strike="noStrike">
                <a:solidFill>
                  <a:srgbClr val="000000"/>
                </a:solidFill>
                <a:latin typeface="Arial"/>
              </a:endParaRPr>
            </a:p>
          </p:txBody>
        </p:sp>
        <p:sp>
          <p:nvSpPr>
            <p:cNvPr id="446" name="TextBox 10"/>
            <p:cNvSpPr/>
            <p:nvPr/>
          </p:nvSpPr>
          <p:spPr>
            <a:xfrm>
              <a:off x="5827320" y="5343840"/>
              <a:ext cx="151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FORTALECIMIENTO INSTITUCIONAL</a:t>
              </a:r>
              <a:endParaRPr b="0" lang="en-US" sz="1200" spc="-1" strike="noStrike">
                <a:solidFill>
                  <a:srgbClr val="000000"/>
                </a:solidFill>
                <a:latin typeface="Arial"/>
              </a:endParaRPr>
            </a:p>
          </p:txBody>
        </p:sp>
        <p:sp>
          <p:nvSpPr>
            <p:cNvPr id="447" name="Rectangle 9"/>
            <p:cNvSpPr/>
            <p:nvPr/>
          </p:nvSpPr>
          <p:spPr>
            <a:xfrm>
              <a:off x="6299640" y="3089520"/>
              <a:ext cx="179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PREVENCIÓN DE LA VIOLENCIA</a:t>
              </a:r>
              <a:endParaRPr b="0" lang="en-US" sz="1200" spc="-1" strike="noStrike">
                <a:solidFill>
                  <a:srgbClr val="000000"/>
                </a:solidFill>
                <a:latin typeface="Arial"/>
              </a:endParaRPr>
            </a:p>
          </p:txBody>
        </p:sp>
        <p:sp>
          <p:nvSpPr>
            <p:cNvPr id="448" name="Rectangle 12"/>
            <p:cNvSpPr/>
            <p:nvPr/>
          </p:nvSpPr>
          <p:spPr>
            <a:xfrm>
              <a:off x="5684760" y="2185920"/>
              <a:ext cx="179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COMBATE AL DELITO</a:t>
              </a:r>
              <a:endParaRPr b="0" lang="en-US" sz="1200" spc="-1" strike="noStrike">
                <a:solidFill>
                  <a:srgbClr val="000000"/>
                </a:solidFill>
                <a:latin typeface="Arial"/>
              </a:endParaRPr>
            </a:p>
          </p:txBody>
        </p:sp>
      </p:grpSp>
      <p:grpSp>
        <p:nvGrpSpPr>
          <p:cNvPr id="449" name="Striped Right Arrow 14"/>
          <p:cNvGrpSpPr/>
          <p:nvPr/>
        </p:nvGrpSpPr>
        <p:grpSpPr>
          <a:xfrm>
            <a:off x="1616040" y="3511440"/>
            <a:ext cx="1309680" cy="1236600"/>
            <a:chOff x="1616040" y="3511440"/>
            <a:chExt cx="1309680" cy="1236600"/>
          </a:xfrm>
        </p:grpSpPr>
        <p:pic>
          <p:nvPicPr>
            <p:cNvPr id="450" name="Striped Right Arrow 14" descr=""/>
            <p:cNvPicPr/>
            <p:nvPr/>
          </p:nvPicPr>
          <p:blipFill>
            <a:blip r:embed="rId3"/>
            <a:stretch/>
          </p:blipFill>
          <p:spPr>
            <a:xfrm>
              <a:off x="1616040" y="3511440"/>
              <a:ext cx="1309680" cy="1236600"/>
            </a:xfrm>
            <a:prstGeom prst="rect">
              <a:avLst/>
            </a:prstGeom>
            <a:ln w="0">
              <a:noFill/>
            </a:ln>
          </p:spPr>
        </p:pic>
        <p:sp>
          <p:nvSpPr>
            <p:cNvPr id="451" name=""/>
            <p:cNvSpPr/>
            <p:nvPr/>
          </p:nvSpPr>
          <p:spPr>
            <a:xfrm>
              <a:off x="1860480" y="3821040"/>
              <a:ext cx="71280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755280" y="1342800"/>
            <a:ext cx="7543800" cy="38862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poyar el trabajo nacional y local en materia de atención y prevención de la VcM, la Trata de mujeres y el femicidio a partir de la renovación de las</a:t>
            </a:r>
            <a:r>
              <a:rPr b="0" i="1" lang="es-CR" sz="2700" spc="-1" strike="noStrike">
                <a:solidFill>
                  <a:srgbClr val="000000"/>
                </a:solidFill>
                <a:latin typeface="Lucida Sans Unicode"/>
              </a:rPr>
              <a:t> bases conceptuales y estratégicas para la prevención de la VcM, la creación de nuevos modelos de abordaje, de coordinación intersectorial, y del fortalecimiento de las capacidades institucionales y comunales.</a:t>
            </a:r>
            <a:endParaRPr b="0" lang="en-US" sz="2700" spc="-1" strike="noStrike">
              <a:solidFill>
                <a:srgbClr val="000000"/>
              </a:solidFill>
              <a:latin typeface="Lucida Sans Unicode"/>
            </a:endParaRPr>
          </a:p>
        </p:txBody>
      </p:sp>
      <p:grpSp>
        <p:nvGrpSpPr>
          <p:cNvPr id="453" name="1 Título"/>
          <p:cNvGrpSpPr/>
          <p:nvPr/>
        </p:nvGrpSpPr>
        <p:grpSpPr>
          <a:xfrm>
            <a:off x="-79200" y="201600"/>
            <a:ext cx="9302400" cy="961920"/>
            <a:chOff x="-79200" y="201600"/>
            <a:chExt cx="9302400" cy="961920"/>
          </a:xfrm>
        </p:grpSpPr>
        <p:pic>
          <p:nvPicPr>
            <p:cNvPr id="454" name="1 Título" descr=""/>
            <p:cNvPicPr/>
            <p:nvPr/>
          </p:nvPicPr>
          <p:blipFill>
            <a:blip r:embed="rId1"/>
            <a:stretch/>
          </p:blipFill>
          <p:spPr>
            <a:xfrm>
              <a:off x="-79200" y="201600"/>
              <a:ext cx="9302400" cy="961920"/>
            </a:xfrm>
            <a:prstGeom prst="rect">
              <a:avLst/>
            </a:prstGeom>
            <a:ln w="0">
              <a:noFill/>
            </a:ln>
          </p:spPr>
        </p:pic>
        <p:sp>
          <p:nvSpPr>
            <p:cNvPr id="455" name=""/>
            <p:cNvSpPr/>
            <p:nvPr/>
          </p:nvSpPr>
          <p:spPr>
            <a:xfrm>
              <a:off x="0" y="333360"/>
              <a:ext cx="9144000" cy="5032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Lucida Sans Unicode"/>
                </a:rPr>
                <a:t>OBJETIVO BUSCADO</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Cantones?</a:t>
            </a:r>
            <a:endParaRPr b="0" lang="en-US" sz="1800" spc="-1" strike="noStrike">
              <a:solidFill>
                <a:srgbClr val="000000"/>
              </a:solidFill>
              <a:latin typeface="Arial"/>
            </a:endParaRPr>
          </a:p>
        </p:txBody>
      </p:sp>
      <p:sp>
        <p:nvSpPr>
          <p:cNvPr id="457"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58"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59"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60"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61"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Capacitaciones a funcionarios (as) de las instituciones que conforman El Sistema</a:t>
            </a:r>
            <a:endParaRPr b="0" lang="en-US" sz="1800" spc="-1" strike="noStrike">
              <a:solidFill>
                <a:srgbClr val="000000"/>
              </a:solidFill>
              <a:latin typeface="Arial"/>
            </a:endParaRPr>
          </a:p>
        </p:txBody>
      </p:sp>
      <p:sp>
        <p:nvSpPr>
          <p:cNvPr id="462"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63"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64"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65"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66"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67"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Localidades?</a:t>
            </a:r>
            <a:endParaRPr b="0" lang="en-US" sz="1800" spc="-1" strike="noStrike">
              <a:solidFill>
                <a:srgbClr val="000000"/>
              </a:solidFill>
              <a:latin typeface="Arial"/>
            </a:endParaRPr>
          </a:p>
        </p:txBody>
      </p:sp>
      <p:sp>
        <p:nvSpPr>
          <p:cNvPr id="469"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70"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71"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72"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73"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Lucida Sans Unicode"/>
              </a:rPr>
              <a:t>Capacitaciones a funcionarios (as) de las instituciones que conforman El Sistema</a:t>
            </a:r>
            <a:endParaRPr b="0" lang="en-US" sz="1600" spc="-1" strike="noStrike">
              <a:solidFill>
                <a:srgbClr val="000000"/>
              </a:solidFill>
              <a:latin typeface="Arial"/>
            </a:endParaRPr>
          </a:p>
        </p:txBody>
      </p:sp>
      <p:sp>
        <p:nvSpPr>
          <p:cNvPr id="474"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75"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76"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77"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78"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79"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Lucida Sans Unicode"/>
              </a:rPr>
              <a:t>GRACIAS POR LA ATENCIÓN</a:t>
            </a: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3 Marcador de contenido" descr=""/>
          <p:cNvPicPr/>
          <p:nvPr/>
        </p:nvPicPr>
        <p:blipFill>
          <a:blip r:embed="rId1"/>
          <a:stretch/>
        </p:blipFill>
        <p:spPr>
          <a:xfrm>
            <a:off x="457200" y="1457280"/>
            <a:ext cx="8229600" cy="4578480"/>
          </a:xfrm>
          <a:prstGeom prst="rect">
            <a:avLst/>
          </a:prstGeom>
          <a:ln w="0">
            <a:noFill/>
          </a:ln>
        </p:spPr>
      </p:pic>
      <p:pic>
        <p:nvPicPr>
          <p:cNvPr id="381" name="2 Título" descr=""/>
          <p:cNvPicPr/>
          <p:nvPr/>
        </p:nvPicPr>
        <p:blipFill>
          <a:blip r:embed="rId2"/>
          <a:stretch/>
        </p:blipFill>
        <p:spPr>
          <a:xfrm>
            <a:off x="457200" y="6660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otar a los Ministerios Públicos de principios de actuación, herramientas  y procedimientos par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Luchar de manera efectiva contra la impunida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Garantizar  la adecuada protección y reparación de las víctimas</a:t>
            </a:r>
            <a:endParaRPr b="0" lang="en-US" sz="2300" spc="-1" strike="noStrike">
              <a:solidFill>
                <a:srgbClr val="000000"/>
              </a:solidFill>
              <a:latin typeface="Lucida Sans Unicode"/>
            </a:endParaRPr>
          </a:p>
        </p:txBody>
      </p:sp>
      <p:pic>
        <p:nvPicPr>
          <p:cNvPr id="38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efinición de Violencia de Género: todo acto  de violencia contra la mujer de carácter físico, sexual, psicológico, moral o patrimonial ejercida en el contexto de relaciones de afectividad, dentro o fuera del hogar, incluidas de las noviazg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tención a víctimas:  conjunto de servicios sociales de atención, de emergencia, de apoyo, de acogida y de recuperación integral</a:t>
            </a:r>
            <a:endParaRPr b="0" lang="en-US" sz="2700" spc="-1" strike="noStrike">
              <a:solidFill>
                <a:srgbClr val="000000"/>
              </a:solidFill>
              <a:latin typeface="Lucida Sans Unicode"/>
            </a:endParaRPr>
          </a:p>
        </p:txBody>
      </p:sp>
      <p:pic>
        <p:nvPicPr>
          <p:cNvPr id="385"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255320"/>
            <a:ext cx="8229600" cy="49784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ancionadas como delitos las distintas formas de violencia en contra de las mujer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cluidas las relaciones de noviazg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Todos  los delitos de esta naturaleza deben ser de acción públic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ohibición expresa de concilia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ueba anticipada como un mecanismos para permitir el acceso a la justicia (Reglas de Brasili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aración civil de los dañ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resentación legal y asistencia jurídica gratuit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201600" y="426960"/>
            <a:ext cx="8485200" cy="11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3 Marcador de contenido" descr=""/>
          <p:cNvPicPr/>
          <p:nvPr/>
        </p:nvPicPr>
        <p:blipFill>
          <a:blip r:embed="rId1"/>
          <a:stretch/>
        </p:blipFill>
        <p:spPr>
          <a:xfrm>
            <a:off x="457200" y="1457280"/>
            <a:ext cx="8229600" cy="4578480"/>
          </a:xfrm>
          <a:prstGeom prst="rect">
            <a:avLst/>
          </a:prstGeom>
          <a:ln w="0">
            <a:noFill/>
          </a:ln>
        </p:spPr>
      </p:pic>
      <p:pic>
        <p:nvPicPr>
          <p:cNvPr id="389" name="2 Título" descr=""/>
          <p:cNvPicPr/>
          <p:nvPr/>
        </p:nvPicPr>
        <p:blipFill>
          <a:blip r:embed="rId2"/>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nstituye un instrumento de cambio de las relaciones sociales entre hombres y mujeres, al convertirse en un mecanismo que contribuye a la transformación de la subordinación y discriminación en igualdad de derechos, equidad en las oportunidades y respeto de las diferencias.</a:t>
            </a:r>
            <a:endParaRPr b="0" lang="en-US" sz="2700" spc="-1" strike="noStrike">
              <a:solidFill>
                <a:srgbClr val="000000"/>
              </a:solidFill>
              <a:latin typeface="Lucida Sans Unicode"/>
            </a:endParaRPr>
          </a:p>
        </p:txBody>
      </p:sp>
      <p:pic>
        <p:nvPicPr>
          <p:cNvPr id="391" name="2 Título" descr=""/>
          <p:cNvPicPr/>
          <p:nvPr/>
        </p:nvPicPr>
        <p:blipFill>
          <a:blip r:embed="rId1"/>
          <a:stretch/>
        </p:blipFill>
        <p:spPr>
          <a:xfrm>
            <a:off x="457200" y="189000"/>
            <a:ext cx="8229600" cy="188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4T19:46:14Z</dcterms:created>
  <dc:creator>Eugenia Salazar</dc:creator>
  <dc:description/>
  <dc:language>en-US</dc:language>
  <cp:lastModifiedBy>esalazare</cp:lastModifiedBy>
  <dcterms:modified xsi:type="dcterms:W3CDTF">2014-12-18T19:46:00Z</dcterms:modified>
  <cp:revision>42</cp:revision>
  <dc:subject/>
  <dc:title>Seminario  sobre violencia de genero y femicidio en America Latina</dc:title>
</cp:coreProperties>
</file>