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7010400" cy="9236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es-CO" sz="1800" spc="-1" strike="noStrike">
                <a:solidFill>
                  <a:srgbClr val="000000"/>
                </a:solidFill>
                <a:latin typeface="Calibri"/>
              </a:defRPr>
            </a:pP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Porcentaje del PIB nacional en la(s) principale(s) ciudad(es)
(alrededor del 2002)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barChart>
        <c:barDir val="col"/>
        <c:grouping val="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Primera ciudad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ctr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6"/>
                <c:pt idx="0">
                  <c:v>Argentina</c:v>
                </c:pt>
                <c:pt idx="1">
                  <c:v>Perú</c:v>
                </c:pt>
                <c:pt idx="2">
                  <c:v>Chile</c:v>
                </c:pt>
                <c:pt idx="3">
                  <c:v>Brasil</c:v>
                </c:pt>
                <c:pt idx="4">
                  <c:v>Colombia</c:v>
                </c:pt>
                <c:pt idx="5">
                  <c:v>México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6"/>
                <c:pt idx="0">
                  <c:v>60.7</c:v>
                </c:pt>
                <c:pt idx="1">
                  <c:v>49.7</c:v>
                </c:pt>
                <c:pt idx="2">
                  <c:v>47.8</c:v>
                </c:pt>
                <c:pt idx="3">
                  <c:v>32.6</c:v>
                </c:pt>
                <c:pt idx="4">
                  <c:v>22.1</c:v>
                </c:pt>
                <c:pt idx="5">
                  <c:v>21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iudades seguidoras</c:v>
                </c:pt>
              </c:strCache>
            </c:strRef>
          </c:tx>
          <c:spPr>
            <a:solidFill>
              <a:srgbClr val="c0504d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ctr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6"/>
                <c:pt idx="0">
                  <c:v>Argentina</c:v>
                </c:pt>
                <c:pt idx="1">
                  <c:v>Perú</c:v>
                </c:pt>
                <c:pt idx="2">
                  <c:v>Chile</c:v>
                </c:pt>
                <c:pt idx="3">
                  <c:v>Brasil</c:v>
                </c:pt>
                <c:pt idx="4">
                  <c:v>Colombia</c:v>
                </c:pt>
                <c:pt idx="5">
                  <c:v>México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6"/>
                <c:pt idx="3">
                  <c:v>21.9</c:v>
                </c:pt>
                <c:pt idx="4">
                  <c:v>26.9</c:v>
                </c:pt>
                <c:pt idx="5">
                  <c:v>23.9</c:v>
                </c:pt>
              </c:numCache>
            </c:numRef>
          </c:val>
        </c:ser>
        <c:gapWidth val="150"/>
        <c:overlap val="100"/>
        <c:axId val="35939140"/>
        <c:axId val="76351069"/>
      </c:barChart>
      <c:catAx>
        <c:axId val="35939140"/>
        <c:scaling>
          <c:orientation val="minMax"/>
        </c:scaling>
        <c:delete val="0"/>
        <c:axPos val="b"/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1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6351069"/>
        <c:crosses val="autoZero"/>
        <c:auto val="1"/>
        <c:lblAlgn val="ctr"/>
        <c:lblOffset val="100"/>
        <c:noMultiLvlLbl val="0"/>
      </c:catAx>
      <c:valAx>
        <c:axId val="76351069"/>
        <c:scaling>
          <c:orientation val="minMax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5939140"/>
        <c:crosses val="autoZero"/>
        <c:crossBetween val="between"/>
      </c:valAx>
      <c:spPr>
        <a:noFill/>
        <a:ln w="0">
          <a:noFill/>
        </a:ln>
      </c:spPr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1" sz="10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bar"/>
        <c:grouping val="clustered"/>
        <c:varyColors val="0"/>
        <c:ser>
          <c:idx val="0"/>
          <c:order val="0"/>
          <c:spPr>
            <a:solidFill>
              <a:srgbClr val="9bbb59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000000"/>
              </a:solidFill>
              <a:ln w="0">
                <a:noFill/>
              </a:ln>
            </c:spPr>
          </c:dPt>
          <c:dPt>
            <c:idx val="28"/>
            <c:invertIfNegative val="0"/>
            <c:spPr>
              <a:solidFill>
                <a:srgbClr val="000000"/>
              </a:solidFill>
              <a:ln w="0">
                <a:noFill/>
              </a:ln>
            </c:spPr>
          </c:dPt>
          <c:dLbls>
            <c:numFmt formatCode="0.0" sourceLinked="0"/>
            <c:dLbl>
              <c:idx val="0"/>
              <c:numFmt formatCode="0.0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8"/>
              <c:layout>
                <c:manualLayout>
                  <c:x val="0"/>
                  <c:y val="-0.00189221919467153"/>
                </c:manualLayout>
              </c:layout>
              <c:numFmt formatCode="0.0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100</a:t>
                    </a:r>
                  </a:p>
                </c:rich>
              </c:tx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29"/>
                <c:pt idx="0">
                  <c:v>Chocó</c:v>
                </c:pt>
                <c:pt idx="1">
                  <c:v>Guaviare</c:v>
                </c:pt>
                <c:pt idx="2">
                  <c:v>Putumayo</c:v>
                </c:pt>
                <c:pt idx="3">
                  <c:v>La Guajira</c:v>
                </c:pt>
                <c:pt idx="4">
                  <c:v>Amazonas</c:v>
                </c:pt>
                <c:pt idx="5">
                  <c:v>Arauca</c:v>
                </c:pt>
                <c:pt idx="6">
                  <c:v>Caquetá</c:v>
                </c:pt>
                <c:pt idx="7">
                  <c:v>Casanare</c:v>
                </c:pt>
                <c:pt idx="8">
                  <c:v>Magdalena</c:v>
                </c:pt>
                <c:pt idx="9">
                  <c:v>Córdoba</c:v>
                </c:pt>
                <c:pt idx="10">
                  <c:v>Cauca</c:v>
                </c:pt>
                <c:pt idx="11">
                  <c:v>Cesar</c:v>
                </c:pt>
                <c:pt idx="12">
                  <c:v>Bolívar</c:v>
                </c:pt>
                <c:pt idx="13">
                  <c:v>Sucre</c:v>
                </c:pt>
                <c:pt idx="14">
                  <c:v>Nariño</c:v>
                </c:pt>
                <c:pt idx="15">
                  <c:v>Huila</c:v>
                </c:pt>
                <c:pt idx="16">
                  <c:v>Boyacá</c:v>
                </c:pt>
                <c:pt idx="17">
                  <c:v>San Andrés</c:v>
                </c:pt>
                <c:pt idx="18">
                  <c:v>N. de Santander</c:v>
                </c:pt>
                <c:pt idx="19">
                  <c:v>Tolima</c:v>
                </c:pt>
                <c:pt idx="20">
                  <c:v>Meta</c:v>
                </c:pt>
                <c:pt idx="21">
                  <c:v>Atlántico</c:v>
                </c:pt>
                <c:pt idx="22">
                  <c:v>Caldas</c:v>
                </c:pt>
                <c:pt idx="23">
                  <c:v>Antioquia</c:v>
                </c:pt>
                <c:pt idx="24">
                  <c:v>Santander</c:v>
                </c:pt>
                <c:pt idx="25">
                  <c:v>Quindío</c:v>
                </c:pt>
                <c:pt idx="26">
                  <c:v>Risaralda</c:v>
                </c:pt>
                <c:pt idx="27">
                  <c:v>Valle</c:v>
                </c:pt>
                <c:pt idx="28">
                  <c:v>Bogotá/Cundinamarca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9"/>
                <c:pt idx="0">
                  <c:v>19.6023698481051</c:v>
                </c:pt>
                <c:pt idx="1">
                  <c:v>37.9107676601668</c:v>
                </c:pt>
                <c:pt idx="2">
                  <c:v>41.833809540238</c:v>
                </c:pt>
                <c:pt idx="3">
                  <c:v>43.3262163662538</c:v>
                </c:pt>
                <c:pt idx="4">
                  <c:v>45.8487277277872</c:v>
                </c:pt>
                <c:pt idx="5">
                  <c:v>46.5750543377692</c:v>
                </c:pt>
                <c:pt idx="6">
                  <c:v>56.6084724578862</c:v>
                </c:pt>
                <c:pt idx="7">
                  <c:v>60.0388656186979</c:v>
                </c:pt>
                <c:pt idx="8">
                  <c:v>60.6542036105997</c:v>
                </c:pt>
                <c:pt idx="9">
                  <c:v>61.121598596784</c:v>
                </c:pt>
                <c:pt idx="10">
                  <c:v>61.1358906846402</c:v>
                </c:pt>
                <c:pt idx="11">
                  <c:v>63.0457025332535</c:v>
                </c:pt>
                <c:pt idx="12">
                  <c:v>64.0117896493217</c:v>
                </c:pt>
                <c:pt idx="13">
                  <c:v>64.0824738347561</c:v>
                </c:pt>
                <c:pt idx="14">
                  <c:v>66.3595850883989</c:v>
                </c:pt>
                <c:pt idx="15">
                  <c:v>73.4594223103196</c:v>
                </c:pt>
                <c:pt idx="16">
                  <c:v>75.3605542295641</c:v>
                </c:pt>
                <c:pt idx="17">
                  <c:v>78.1956685035389</c:v>
                </c:pt>
                <c:pt idx="18">
                  <c:v>78.3845236153677</c:v>
                </c:pt>
                <c:pt idx="19">
                  <c:v>79.9062438252535</c:v>
                </c:pt>
                <c:pt idx="20">
                  <c:v>80.0886007514765</c:v>
                </c:pt>
                <c:pt idx="21">
                  <c:v>85.4534753433551</c:v>
                </c:pt>
                <c:pt idx="22">
                  <c:v>86.331569381412</c:v>
                </c:pt>
                <c:pt idx="23">
                  <c:v>86.6489611528075</c:v>
                </c:pt>
                <c:pt idx="24">
                  <c:v>90.0549140788925</c:v>
                </c:pt>
                <c:pt idx="25">
                  <c:v>92.216349787824</c:v>
                </c:pt>
                <c:pt idx="26">
                  <c:v>92.2397550174221</c:v>
                </c:pt>
                <c:pt idx="27">
                  <c:v>92.8207496573505</c:v>
                </c:pt>
                <c:pt idx="28">
                  <c:v>100</c:v>
                </c:pt>
              </c:numCache>
            </c:numRef>
          </c:val>
        </c:ser>
        <c:gapWidth val="150"/>
        <c:overlap val="0"/>
        <c:axId val="79109086"/>
        <c:axId val="28625923"/>
      </c:barChart>
      <c:catAx>
        <c:axId val="79109086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625923"/>
        <c:crosses val="autoZero"/>
        <c:auto val="1"/>
        <c:lblAlgn val="ctr"/>
        <c:lblOffset val="100"/>
        <c:noMultiLvlLbl val="0"/>
      </c:catAx>
      <c:valAx>
        <c:axId val="28625923"/>
        <c:scaling>
          <c:orientation val="minMax"/>
          <c:max val="100"/>
        </c:scaling>
        <c:delete val="0"/>
        <c:axPos val="l"/>
        <c:numFmt formatCode="0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109086"/>
        <c:crosses val="autoZero"/>
        <c:crossBetween val="between"/>
        <c:majorUnit val="10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bar"/>
        <c:grouping val="clustered"/>
        <c:varyColors val="0"/>
        <c:ser>
          <c:idx val="0"/>
          <c:order val="0"/>
          <c:spPr>
            <a:solidFill>
              <a:srgbClr val="9bbb59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000000"/>
              </a:solidFill>
              <a:ln w="0">
                <a:noFill/>
              </a:ln>
            </c:spPr>
          </c:dPt>
          <c:dPt>
            <c:idx val="1"/>
            <c:invertIfNegative val="0"/>
            <c:spPr>
              <a:solidFill>
                <a:srgbClr val="000000"/>
              </a:solidFill>
              <a:ln w="0">
                <a:noFill/>
              </a:ln>
            </c:spPr>
          </c:dPt>
          <c:dPt>
            <c:idx val="2"/>
            <c:invertIfNegative val="0"/>
            <c:spPr>
              <a:solidFill>
                <a:srgbClr val="000000"/>
              </a:solidFill>
              <a:ln w="0">
                <a:noFill/>
              </a:ln>
            </c:spPr>
          </c:dPt>
          <c:dPt>
            <c:idx val="3"/>
            <c:invertIfNegative val="0"/>
            <c:spPr>
              <a:solidFill>
                <a:srgbClr val="000000"/>
              </a:solidFill>
              <a:ln w="0">
                <a:noFill/>
              </a:ln>
            </c:spPr>
          </c:dPt>
          <c:dPt>
            <c:idx val="28"/>
            <c:invertIfNegative val="0"/>
            <c:spPr>
              <a:solidFill>
                <a:srgbClr val="000000"/>
              </a:solidFill>
              <a:ln w="0">
                <a:noFill/>
              </a:ln>
            </c:spPr>
          </c:dPt>
          <c:dLbls>
            <c:numFmt formatCode="0.0" sourceLinked="0"/>
            <c:dLbl>
              <c:idx val="0"/>
              <c:numFmt formatCode="0.0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numFmt formatCode="0.0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numFmt formatCode="0.0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3"/>
              <c:numFmt formatCode="0.0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8"/>
              <c:layout>
                <c:manualLayout>
                  <c:x val="0"/>
                  <c:y val="-0.00793448584644276"/>
                </c:manualLayout>
              </c:layout>
              <c:numFmt formatCode="0.0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100</a:t>
                    </a:r>
                  </a:p>
                </c:rich>
              </c:tx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29"/>
                <c:pt idx="0">
                  <c:v>Guaviare</c:v>
                </c:pt>
                <c:pt idx="1">
                  <c:v>Chocó</c:v>
                </c:pt>
                <c:pt idx="2">
                  <c:v>Putumayo</c:v>
                </c:pt>
                <c:pt idx="3">
                  <c:v>La Guajira</c:v>
                </c:pt>
                <c:pt idx="4">
                  <c:v>Sucre</c:v>
                </c:pt>
                <c:pt idx="5">
                  <c:v>Caquetá</c:v>
                </c:pt>
                <c:pt idx="6">
                  <c:v>Arauca</c:v>
                </c:pt>
                <c:pt idx="7">
                  <c:v>Córdoba</c:v>
                </c:pt>
                <c:pt idx="8">
                  <c:v>Casanare</c:v>
                </c:pt>
                <c:pt idx="9">
                  <c:v>Amazonas</c:v>
                </c:pt>
                <c:pt idx="10">
                  <c:v>Cesar</c:v>
                </c:pt>
                <c:pt idx="11">
                  <c:v>Cauca</c:v>
                </c:pt>
                <c:pt idx="12">
                  <c:v>Nariño</c:v>
                </c:pt>
                <c:pt idx="13">
                  <c:v>Magdalena</c:v>
                </c:pt>
                <c:pt idx="14">
                  <c:v>Huila</c:v>
                </c:pt>
                <c:pt idx="15">
                  <c:v>Meta</c:v>
                </c:pt>
                <c:pt idx="16">
                  <c:v>Tolima</c:v>
                </c:pt>
                <c:pt idx="17">
                  <c:v>San Andrés</c:v>
                </c:pt>
                <c:pt idx="18">
                  <c:v>Bolívar</c:v>
                </c:pt>
                <c:pt idx="19">
                  <c:v>N. de Santander</c:v>
                </c:pt>
                <c:pt idx="20">
                  <c:v>Boyacá</c:v>
                </c:pt>
                <c:pt idx="21">
                  <c:v>Quindío</c:v>
                </c:pt>
                <c:pt idx="22">
                  <c:v>Caldas</c:v>
                </c:pt>
                <c:pt idx="23">
                  <c:v>Risaralda</c:v>
                </c:pt>
                <c:pt idx="24">
                  <c:v>Atlántico</c:v>
                </c:pt>
                <c:pt idx="25">
                  <c:v>Santander</c:v>
                </c:pt>
                <c:pt idx="26">
                  <c:v>Valle</c:v>
                </c:pt>
                <c:pt idx="27">
                  <c:v>Antioquia</c:v>
                </c:pt>
                <c:pt idx="28">
                  <c:v>Bogotá/Cundinamarca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9"/>
                <c:pt idx="0">
                  <c:v>19.1206745926962</c:v>
                </c:pt>
                <c:pt idx="1">
                  <c:v>21.9439377996807</c:v>
                </c:pt>
                <c:pt idx="2">
                  <c:v>23.0129173541346</c:v>
                </c:pt>
                <c:pt idx="3">
                  <c:v>24.9610731746305</c:v>
                </c:pt>
                <c:pt idx="4">
                  <c:v>27.274118388716</c:v>
                </c:pt>
                <c:pt idx="5">
                  <c:v>27.8938787263567</c:v>
                </c:pt>
                <c:pt idx="6">
                  <c:v>28.1912664024317</c:v>
                </c:pt>
                <c:pt idx="7">
                  <c:v>28.2760838028574</c:v>
                </c:pt>
                <c:pt idx="8">
                  <c:v>32.5608032671879</c:v>
                </c:pt>
                <c:pt idx="9">
                  <c:v>34.111096090759</c:v>
                </c:pt>
                <c:pt idx="10">
                  <c:v>34.2081545470592</c:v>
                </c:pt>
                <c:pt idx="11">
                  <c:v>34.2711915870561</c:v>
                </c:pt>
                <c:pt idx="12">
                  <c:v>34.4071032541285</c:v>
                </c:pt>
                <c:pt idx="13">
                  <c:v>35.3269013933424</c:v>
                </c:pt>
                <c:pt idx="14">
                  <c:v>36.7895775497276</c:v>
                </c:pt>
                <c:pt idx="15">
                  <c:v>39.2805731460452</c:v>
                </c:pt>
                <c:pt idx="16">
                  <c:v>40.4541752956677</c:v>
                </c:pt>
                <c:pt idx="17">
                  <c:v>45.0071750331409</c:v>
                </c:pt>
                <c:pt idx="18">
                  <c:v>45.6420693847216</c:v>
                </c:pt>
                <c:pt idx="19">
                  <c:v>45.8850052036914</c:v>
                </c:pt>
                <c:pt idx="20">
                  <c:v>46.3262281543901</c:v>
                </c:pt>
                <c:pt idx="21">
                  <c:v>48.5555362861646</c:v>
                </c:pt>
                <c:pt idx="22">
                  <c:v>59.769245962813</c:v>
                </c:pt>
                <c:pt idx="23">
                  <c:v>60.2394080545077</c:v>
                </c:pt>
                <c:pt idx="24">
                  <c:v>64.0021369265922</c:v>
                </c:pt>
                <c:pt idx="25">
                  <c:v>66.874387301883</c:v>
                </c:pt>
                <c:pt idx="26">
                  <c:v>69.5334421554654</c:v>
                </c:pt>
                <c:pt idx="27">
                  <c:v>81.106784952258</c:v>
                </c:pt>
                <c:pt idx="28">
                  <c:v>100</c:v>
                </c:pt>
              </c:numCache>
            </c:numRef>
          </c:val>
        </c:ser>
        <c:gapWidth val="150"/>
        <c:overlap val="0"/>
        <c:axId val="53877420"/>
        <c:axId val="4053887"/>
      </c:barChart>
      <c:catAx>
        <c:axId val="5387742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53887"/>
        <c:crosses val="autoZero"/>
        <c:auto val="1"/>
        <c:lblAlgn val="ctr"/>
        <c:lblOffset val="100"/>
        <c:noMultiLvlLbl val="0"/>
      </c:catAx>
      <c:valAx>
        <c:axId val="4053887"/>
        <c:scaling>
          <c:orientation val="minMax"/>
          <c:max val="100"/>
        </c:scaling>
        <c:delete val="0"/>
        <c:axPos val="l"/>
        <c:numFmt formatCode="0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877420"/>
        <c:crosses val="autoZero"/>
        <c:crossBetween val="between"/>
        <c:majorUnit val="10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s-CO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dt" idx="1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106C1B-29CE-4FEE-A395-808E2AA2A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7720" cy="34635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01640" y="4387680"/>
            <a:ext cx="5606640" cy="4155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Marcador de número de diapositiva 3"/>
          <p:cNvSpPr/>
          <p:nvPr/>
        </p:nvSpPr>
        <p:spPr>
          <a:xfrm>
            <a:off x="3970440" y="8772480"/>
            <a:ext cx="3038040" cy="4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</a:pPr>
            <a:fld id="{E092CF89-07AB-4E5C-9A8E-ED292DA8D406}" type="slidenum">
              <a:rPr b="0" lang="es-ES_tradnl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7720" cy="34635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01640" y="4387680"/>
            <a:ext cx="5606640" cy="4155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Marcador de número de diapositiva 3"/>
          <p:cNvSpPr/>
          <p:nvPr/>
        </p:nvSpPr>
        <p:spPr>
          <a:xfrm>
            <a:off x="3970440" y="8772480"/>
            <a:ext cx="3038040" cy="4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</a:pPr>
            <a:fld id="{E7E7B8F1-69CB-4274-9F24-DF27831ECDC8}" type="slidenum">
              <a:rPr b="0" lang="es-ES_tradnl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C9CC-C0D8-4EE1-A304-365419A9B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0887-4F0A-4C2B-BF37-20A088DA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68BE-8C72-434C-A587-39A0813F3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628B-78D7-4A54-ACBF-569EA0DCD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0D19-BAC4-4CE8-88E1-FBAF180C6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0E279-2CD0-4CA5-B3A5-01F0BCDE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B4C4-BFDE-4FE9-844C-3815DD0F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A9A4-F42E-465D-8AAF-E0D1E8F2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40FC7-96EE-4651-9736-87996ADA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A992-0283-41EA-9DD7-EA18471B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6DFF-77C0-4380-995C-36C54355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500E-4C6C-4C17-8F81-0B1E13C7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9A38-AFA6-43EE-81C5-E4BD77ED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4C26-5553-4BBC-80BE-D666611C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0A20-6AF1-4FA8-83E7-8FD91822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4A31-E711-478D-B14C-234A516D8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017A3-8B5C-4879-B476-6018D1E43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F5D4C-BE29-4071-8978-6D1F55D2B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EDD05-53C1-4790-8985-B38590C0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F5C8B-5063-48A2-BF96-DD697077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30D29-4F3C-49A5-99C9-F33100DF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AFC31-6422-473F-B689-50B788FC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C8AC-5622-4B88-955C-50B4718F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86EC0-A4D0-4F18-9CE0-B0BC0BF9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16398-627F-49E8-8848-FBCA4871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9270F-29CC-4D67-9DA8-ADBD34CC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48B25-5FB9-45AD-9E29-FB17B358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D4907-70BE-4786-A534-DAB02FD3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D3E05-866A-4CE6-B1AC-B1396297B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BE72F-0809-4954-A620-21D5457A4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496CE-49A4-488B-B9A0-255B0354F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82FF3-6D99-4B3B-9BA6-6E99B391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92822-E317-4C7C-B06C-FB1427B2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535D-A814-4C03-A35F-5425A236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B82C5-A1CC-4161-9C88-437FF920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A5E99-226D-45AE-8298-E4A177DE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183DF-B5B7-40A3-98FE-B30E4239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93CB2-8A9A-41A5-B4B0-6D9212CB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56F09-9740-4500-B21B-69CABB4D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88438-BFD6-41E4-A4F5-95F39E29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5768D-72F8-46C6-A32A-E4CF480E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5F771-BD3D-4AAB-94F0-4BB0A3A37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A1DB2-31CD-4347-B6E5-BB4323BDF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F95B4-0B08-419E-953C-B2B7EF26A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9BCE-3B08-4AD6-849D-1DF84CC0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575C9-64AF-400B-BFB6-2BE3A834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88B90-337B-41BC-B993-44CB60CD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F4030-4960-4E1D-A236-09C57EAF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11A70-4D8E-4CC3-BD0A-0F168D7F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9FF21-9A48-47CA-8D69-026B3BBB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82DBC-B941-417F-835A-EF4BD560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17783-D0E6-4639-97BF-4EDE9A90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BA489-482D-4B97-8185-B7FA9059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1B33F-2911-4FEF-B4C8-9A6B8A6C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C77D2-6CF1-4A13-8CDC-0748CC312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1BA2-0F17-417E-B2D1-187EED92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9D05D-6F8D-4B84-AB59-7A2D4086F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C046-B07C-47F4-A580-936A8853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CE73-49D1-44E1-8F77-37EC0A32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5555-6BEB-4D4A-8046-D506FABB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EBCB154-B13B-46AC-99BA-4A63C5DDC63E}" type="slidenum">
              <a:rPr b="0" lang="en-US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8648B47-9DA5-4450-A9DD-5D94EB256B8D}" type="slidenum">
              <a:rPr b="0" lang="en-US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s-CO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s-CO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s-CO" sz="1200" spc="-1" strike="noStrike">
                <a:solidFill>
                  <a:srgbClr val="8b8b8b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CO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389FF2-47C3-4473-B2B2-CAE89230574A}" type="slidenum">
              <a:rPr b="0" lang="es-CO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s-CO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s-CO" sz="1200" spc="-1" strike="noStrike">
                <a:solidFill>
                  <a:srgbClr val="8b8b8b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CO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4EFF090-6CA7-417A-AC04-178932148522}" type="slidenum">
              <a:rPr b="0" lang="es-CO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s-CO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s-CO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s-CO" sz="1200" spc="-1" strike="noStrike">
                <a:solidFill>
                  <a:srgbClr val="8b8b8b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CO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CA45EA6-6405-48E9-AA69-EA8B7CC9CB45}" type="slidenum">
              <a:rPr b="0" lang="es-CO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836640"/>
            <a:ext cx="8381520" cy="1218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CO" sz="4000" spc="-1" strike="noStrike">
                <a:solidFill>
                  <a:srgbClr val="0070c0"/>
                </a:solidFill>
                <a:latin typeface="Arial"/>
              </a:rPr>
              <a:t>Desarrollo y cohesión territorial en América Latina</a:t>
            </a:r>
            <a:endParaRPr b="0" lang="es-CO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ldNum" idx="1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CEA2592-5F5D-4BE0-B242-C265037B9C7C}" type="slidenum">
              <a:rPr b="0" lang="en-US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684360" y="2565360"/>
            <a:ext cx="77720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Juan Carlos Ramírez J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Director CEPAL-Colom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Bogotá, septiembre 26 de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logo%20pantone%20300"/>
          <p:cNvPicPr/>
          <p:nvPr/>
        </p:nvPicPr>
        <p:blipFill>
          <a:blip r:embed="rId1"/>
          <a:stretch/>
        </p:blipFill>
        <p:spPr>
          <a:xfrm>
            <a:off x="3579840" y="4076640"/>
            <a:ext cx="1928520" cy="2352240"/>
          </a:xfrm>
          <a:prstGeom prst="rect">
            <a:avLst/>
          </a:prstGeom>
          <a:ln w="9525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3"/>
          <p:cNvGrpSpPr/>
          <p:nvPr/>
        </p:nvGrpSpPr>
        <p:grpSpPr>
          <a:xfrm>
            <a:off x="663480" y="287280"/>
            <a:ext cx="8076960" cy="6597360"/>
            <a:chOff x="663480" y="287280"/>
            <a:chExt cx="8076960" cy="6597360"/>
          </a:xfrm>
        </p:grpSpPr>
        <p:sp>
          <p:nvSpPr>
            <p:cNvPr id="245" name="AutoShape 4"/>
            <p:cNvSpPr/>
            <p:nvPr/>
          </p:nvSpPr>
          <p:spPr>
            <a:xfrm>
              <a:off x="663480" y="365040"/>
              <a:ext cx="8076960" cy="6519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B p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5"/>
            <p:cNvSpPr/>
            <p:nvPr/>
          </p:nvSpPr>
          <p:spPr>
            <a:xfrm>
              <a:off x="2008440" y="287280"/>
              <a:ext cx="1351440" cy="2437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vergen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6"/>
            <p:cNvSpPr/>
            <p:nvPr/>
          </p:nvSpPr>
          <p:spPr>
            <a:xfrm>
              <a:off x="2222640" y="719280"/>
              <a:ext cx="7250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</a:rPr>
                <a:t>Primari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7"/>
            <p:cNvSpPr/>
            <p:nvPr/>
          </p:nvSpPr>
          <p:spPr>
            <a:xfrm>
              <a:off x="1794960" y="934920"/>
              <a:ext cx="1459440" cy="2134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336600"/>
                  </a:solidFill>
                  <a:latin typeface="Arial"/>
                </a:rPr>
                <a:t>Cajamarca - Per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9"/>
            <p:cNvSpPr/>
            <p:nvPr/>
          </p:nvSpPr>
          <p:spPr>
            <a:xfrm>
              <a:off x="704880" y="684360"/>
              <a:ext cx="3909600" cy="1395000"/>
            </a:xfrm>
            <a:custGeom>
              <a:avLst/>
              <a:gdLst>
                <a:gd name="textAreaLeft" fmla="*/ 0 w 3909600"/>
                <a:gd name="textAreaRight" fmla="*/ 3909960 w 3909600"/>
                <a:gd name="textAreaTop" fmla="*/ 0 h 1395000"/>
                <a:gd name="textAreaBottom" fmla="*/ 1395360 h 1395000"/>
              </a:gdLst>
              <a:ahLst/>
              <a:rect l="textAreaLeft" t="textAreaTop" r="textAreaRight" b="textAreaBottom"/>
              <a:pathLst>
                <a:path w="3927" h="1402">
                  <a:moveTo>
                    <a:pt x="233" y="0"/>
                  </a:moveTo>
                  <a:lnTo>
                    <a:pt x="222" y="0"/>
                  </a:lnTo>
                  <a:lnTo>
                    <a:pt x="209" y="1"/>
                  </a:lnTo>
                  <a:lnTo>
                    <a:pt x="198" y="3"/>
                  </a:lnTo>
                  <a:lnTo>
                    <a:pt x="187" y="4"/>
                  </a:lnTo>
                  <a:lnTo>
                    <a:pt x="175" y="7"/>
                  </a:lnTo>
                  <a:lnTo>
                    <a:pt x="164" y="10"/>
                  </a:lnTo>
                  <a:lnTo>
                    <a:pt x="153" y="14"/>
                  </a:lnTo>
                  <a:lnTo>
                    <a:pt x="142" y="18"/>
                  </a:lnTo>
                  <a:lnTo>
                    <a:pt x="132" y="22"/>
                  </a:lnTo>
                  <a:lnTo>
                    <a:pt x="122" y="28"/>
                  </a:lnTo>
                  <a:lnTo>
                    <a:pt x="112" y="33"/>
                  </a:lnTo>
                  <a:lnTo>
                    <a:pt x="102" y="39"/>
                  </a:lnTo>
                  <a:lnTo>
                    <a:pt x="94" y="46"/>
                  </a:lnTo>
                  <a:lnTo>
                    <a:pt x="84" y="53"/>
                  </a:lnTo>
                  <a:lnTo>
                    <a:pt x="76" y="60"/>
                  </a:lnTo>
                  <a:lnTo>
                    <a:pt x="67" y="68"/>
                  </a:lnTo>
                  <a:lnTo>
                    <a:pt x="60" y="75"/>
                  </a:lnTo>
                  <a:lnTo>
                    <a:pt x="53" y="84"/>
                  </a:lnTo>
                  <a:lnTo>
                    <a:pt x="46" y="94"/>
                  </a:lnTo>
                  <a:lnTo>
                    <a:pt x="39" y="102"/>
                  </a:lnTo>
                  <a:lnTo>
                    <a:pt x="34" y="112"/>
                  </a:lnTo>
                  <a:lnTo>
                    <a:pt x="28" y="122"/>
                  </a:lnTo>
                  <a:lnTo>
                    <a:pt x="23" y="132"/>
                  </a:lnTo>
                  <a:lnTo>
                    <a:pt x="18" y="143"/>
                  </a:lnTo>
                  <a:lnTo>
                    <a:pt x="14" y="153"/>
                  </a:lnTo>
                  <a:lnTo>
                    <a:pt x="10" y="164"/>
                  </a:lnTo>
                  <a:lnTo>
                    <a:pt x="7" y="175"/>
                  </a:lnTo>
                  <a:lnTo>
                    <a:pt x="4" y="186"/>
                  </a:lnTo>
                  <a:lnTo>
                    <a:pt x="1" y="197"/>
                  </a:lnTo>
                  <a:lnTo>
                    <a:pt x="0" y="209"/>
                  </a:lnTo>
                  <a:lnTo>
                    <a:pt x="0" y="221"/>
                  </a:lnTo>
                  <a:lnTo>
                    <a:pt x="0" y="232"/>
                  </a:lnTo>
                  <a:lnTo>
                    <a:pt x="0" y="1168"/>
                  </a:lnTo>
                  <a:lnTo>
                    <a:pt x="0" y="1180"/>
                  </a:lnTo>
                  <a:lnTo>
                    <a:pt x="0" y="1192"/>
                  </a:lnTo>
                  <a:lnTo>
                    <a:pt x="1" y="1203"/>
                  </a:lnTo>
                  <a:lnTo>
                    <a:pt x="4" y="1215"/>
                  </a:lnTo>
                  <a:lnTo>
                    <a:pt x="7" y="1227"/>
                  </a:lnTo>
                  <a:lnTo>
                    <a:pt x="10" y="1238"/>
                  </a:lnTo>
                  <a:lnTo>
                    <a:pt x="14" y="1248"/>
                  </a:lnTo>
                  <a:lnTo>
                    <a:pt x="18" y="1259"/>
                  </a:lnTo>
                  <a:lnTo>
                    <a:pt x="23" y="1269"/>
                  </a:lnTo>
                  <a:lnTo>
                    <a:pt x="28" y="1279"/>
                  </a:lnTo>
                  <a:lnTo>
                    <a:pt x="34" y="1288"/>
                  </a:lnTo>
                  <a:lnTo>
                    <a:pt x="39" y="1298"/>
                  </a:lnTo>
                  <a:lnTo>
                    <a:pt x="46" y="1308"/>
                  </a:lnTo>
                  <a:lnTo>
                    <a:pt x="53" y="1316"/>
                  </a:lnTo>
                  <a:lnTo>
                    <a:pt x="60" y="1325"/>
                  </a:lnTo>
                  <a:lnTo>
                    <a:pt x="67" y="1333"/>
                  </a:lnTo>
                  <a:lnTo>
                    <a:pt x="76" y="1340"/>
                  </a:lnTo>
                  <a:lnTo>
                    <a:pt x="84" y="1349"/>
                  </a:lnTo>
                  <a:lnTo>
                    <a:pt x="94" y="1356"/>
                  </a:lnTo>
                  <a:lnTo>
                    <a:pt x="102" y="1361"/>
                  </a:lnTo>
                  <a:lnTo>
                    <a:pt x="112" y="1368"/>
                  </a:lnTo>
                  <a:lnTo>
                    <a:pt x="122" y="1374"/>
                  </a:lnTo>
                  <a:lnTo>
                    <a:pt x="132" y="1378"/>
                  </a:lnTo>
                  <a:lnTo>
                    <a:pt x="142" y="1384"/>
                  </a:lnTo>
                  <a:lnTo>
                    <a:pt x="153" y="1388"/>
                  </a:lnTo>
                  <a:lnTo>
                    <a:pt x="164" y="1391"/>
                  </a:lnTo>
                  <a:lnTo>
                    <a:pt x="175" y="1393"/>
                  </a:lnTo>
                  <a:lnTo>
                    <a:pt x="187" y="1396"/>
                  </a:lnTo>
                  <a:lnTo>
                    <a:pt x="198" y="1399"/>
                  </a:lnTo>
                  <a:lnTo>
                    <a:pt x="209" y="1400"/>
                  </a:lnTo>
                  <a:lnTo>
                    <a:pt x="222" y="1400"/>
                  </a:lnTo>
                  <a:lnTo>
                    <a:pt x="233" y="1402"/>
                  </a:lnTo>
                  <a:lnTo>
                    <a:pt x="3693" y="1402"/>
                  </a:lnTo>
                  <a:lnTo>
                    <a:pt x="3704" y="1400"/>
                  </a:lnTo>
                  <a:lnTo>
                    <a:pt x="3717" y="1400"/>
                  </a:lnTo>
                  <a:lnTo>
                    <a:pt x="3728" y="1399"/>
                  </a:lnTo>
                  <a:lnTo>
                    <a:pt x="3739" y="1396"/>
                  </a:lnTo>
                  <a:lnTo>
                    <a:pt x="3752" y="1393"/>
                  </a:lnTo>
                  <a:lnTo>
                    <a:pt x="3762" y="1391"/>
                  </a:lnTo>
                  <a:lnTo>
                    <a:pt x="3773" y="1388"/>
                  </a:lnTo>
                  <a:lnTo>
                    <a:pt x="3784" y="1384"/>
                  </a:lnTo>
                  <a:lnTo>
                    <a:pt x="3794" y="1378"/>
                  </a:lnTo>
                  <a:lnTo>
                    <a:pt x="3804" y="1374"/>
                  </a:lnTo>
                  <a:lnTo>
                    <a:pt x="3814" y="1368"/>
                  </a:lnTo>
                  <a:lnTo>
                    <a:pt x="3824" y="1361"/>
                  </a:lnTo>
                  <a:lnTo>
                    <a:pt x="3833" y="1356"/>
                  </a:lnTo>
                  <a:lnTo>
                    <a:pt x="3842" y="1349"/>
                  </a:lnTo>
                  <a:lnTo>
                    <a:pt x="3850" y="1340"/>
                  </a:lnTo>
                  <a:lnTo>
                    <a:pt x="3859" y="1333"/>
                  </a:lnTo>
                  <a:lnTo>
                    <a:pt x="3866" y="1325"/>
                  </a:lnTo>
                  <a:lnTo>
                    <a:pt x="3873" y="1316"/>
                  </a:lnTo>
                  <a:lnTo>
                    <a:pt x="3880" y="1308"/>
                  </a:lnTo>
                  <a:lnTo>
                    <a:pt x="3887" y="1298"/>
                  </a:lnTo>
                  <a:lnTo>
                    <a:pt x="3892" y="1288"/>
                  </a:lnTo>
                  <a:lnTo>
                    <a:pt x="3898" y="1279"/>
                  </a:lnTo>
                  <a:lnTo>
                    <a:pt x="3903" y="1269"/>
                  </a:lnTo>
                  <a:lnTo>
                    <a:pt x="3908" y="1259"/>
                  </a:lnTo>
                  <a:lnTo>
                    <a:pt x="3912" y="1248"/>
                  </a:lnTo>
                  <a:lnTo>
                    <a:pt x="3916" y="1238"/>
                  </a:lnTo>
                  <a:lnTo>
                    <a:pt x="3919" y="1227"/>
                  </a:lnTo>
                  <a:lnTo>
                    <a:pt x="3922" y="1215"/>
                  </a:lnTo>
                  <a:lnTo>
                    <a:pt x="3925" y="1203"/>
                  </a:lnTo>
                  <a:lnTo>
                    <a:pt x="3926" y="1192"/>
                  </a:lnTo>
                  <a:lnTo>
                    <a:pt x="3926" y="1180"/>
                  </a:lnTo>
                  <a:lnTo>
                    <a:pt x="3927" y="1168"/>
                  </a:lnTo>
                  <a:lnTo>
                    <a:pt x="3927" y="232"/>
                  </a:lnTo>
                  <a:lnTo>
                    <a:pt x="3926" y="221"/>
                  </a:lnTo>
                  <a:lnTo>
                    <a:pt x="3926" y="209"/>
                  </a:lnTo>
                  <a:lnTo>
                    <a:pt x="3925" y="197"/>
                  </a:lnTo>
                  <a:lnTo>
                    <a:pt x="3922" y="186"/>
                  </a:lnTo>
                  <a:lnTo>
                    <a:pt x="3919" y="175"/>
                  </a:lnTo>
                  <a:lnTo>
                    <a:pt x="3916" y="164"/>
                  </a:lnTo>
                  <a:lnTo>
                    <a:pt x="3912" y="153"/>
                  </a:lnTo>
                  <a:lnTo>
                    <a:pt x="3908" y="143"/>
                  </a:lnTo>
                  <a:lnTo>
                    <a:pt x="3903" y="132"/>
                  </a:lnTo>
                  <a:lnTo>
                    <a:pt x="3898" y="122"/>
                  </a:lnTo>
                  <a:lnTo>
                    <a:pt x="3892" y="112"/>
                  </a:lnTo>
                  <a:lnTo>
                    <a:pt x="3887" y="102"/>
                  </a:lnTo>
                  <a:lnTo>
                    <a:pt x="3880" y="94"/>
                  </a:lnTo>
                  <a:lnTo>
                    <a:pt x="3873" y="84"/>
                  </a:lnTo>
                  <a:lnTo>
                    <a:pt x="3866" y="75"/>
                  </a:lnTo>
                  <a:lnTo>
                    <a:pt x="3859" y="68"/>
                  </a:lnTo>
                  <a:lnTo>
                    <a:pt x="3850" y="60"/>
                  </a:lnTo>
                  <a:lnTo>
                    <a:pt x="3842" y="53"/>
                  </a:lnTo>
                  <a:lnTo>
                    <a:pt x="3833" y="46"/>
                  </a:lnTo>
                  <a:lnTo>
                    <a:pt x="3824" y="39"/>
                  </a:lnTo>
                  <a:lnTo>
                    <a:pt x="3814" y="33"/>
                  </a:lnTo>
                  <a:lnTo>
                    <a:pt x="3804" y="28"/>
                  </a:lnTo>
                  <a:lnTo>
                    <a:pt x="3794" y="22"/>
                  </a:lnTo>
                  <a:lnTo>
                    <a:pt x="3784" y="18"/>
                  </a:lnTo>
                  <a:lnTo>
                    <a:pt x="3773" y="14"/>
                  </a:lnTo>
                  <a:lnTo>
                    <a:pt x="3762" y="10"/>
                  </a:lnTo>
                  <a:lnTo>
                    <a:pt x="3752" y="7"/>
                  </a:lnTo>
                  <a:lnTo>
                    <a:pt x="3739" y="4"/>
                  </a:lnTo>
                  <a:lnTo>
                    <a:pt x="3728" y="3"/>
                  </a:lnTo>
                  <a:lnTo>
                    <a:pt x="3717" y="1"/>
                  </a:lnTo>
                  <a:lnTo>
                    <a:pt x="3704" y="0"/>
                  </a:lnTo>
                  <a:lnTo>
                    <a:pt x="3693" y="0"/>
                  </a:lnTo>
                  <a:lnTo>
                    <a:pt x="233" y="0"/>
                  </a:lnTo>
                </a:path>
              </a:pathLst>
            </a:custGeom>
            <a:noFill/>
            <a:ln w="5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s-E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0"/>
            <p:cNvSpPr/>
            <p:nvPr/>
          </p:nvSpPr>
          <p:spPr>
            <a:xfrm>
              <a:off x="1793880" y="1152360"/>
              <a:ext cx="1526760" cy="2134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336600"/>
                  </a:solidFill>
                  <a:latin typeface="Arial"/>
                </a:rPr>
                <a:t>Rondonia- Brasil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1"/>
            <p:cNvSpPr/>
            <p:nvPr/>
          </p:nvSpPr>
          <p:spPr>
            <a:xfrm>
              <a:off x="1791360" y="1557360"/>
              <a:ext cx="196416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336600"/>
                  </a:solidFill>
                  <a:latin typeface="Arial"/>
                </a:rPr>
                <a:t>Catamarca - Argentina</a:t>
              </a:r>
              <a:r>
                <a:rPr b="1" lang="en-US" sz="1000" spc="-1" strike="noStrike">
                  <a:solidFill>
                    <a:srgbClr val="336600"/>
                  </a:solidFill>
                  <a:latin typeface="Arial"/>
                </a:rPr>
                <a:t>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2"/>
            <p:cNvSpPr/>
            <p:nvPr/>
          </p:nvSpPr>
          <p:spPr>
            <a:xfrm>
              <a:off x="1788120" y="1341360"/>
              <a:ext cx="180108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336600"/>
                  </a:solidFill>
                  <a:latin typeface="Arial"/>
                </a:rPr>
                <a:t>Córdoba - Colombia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3"/>
          <p:cNvGrpSpPr/>
          <p:nvPr/>
        </p:nvGrpSpPr>
        <p:grpSpPr>
          <a:xfrm>
            <a:off x="735120" y="2133720"/>
            <a:ext cx="3909600" cy="767880"/>
            <a:chOff x="735120" y="2133720"/>
            <a:chExt cx="3909600" cy="767880"/>
          </a:xfrm>
        </p:grpSpPr>
        <p:sp>
          <p:nvSpPr>
            <p:cNvPr id="254" name="Freeform 14"/>
            <p:cNvSpPr/>
            <p:nvPr/>
          </p:nvSpPr>
          <p:spPr>
            <a:xfrm>
              <a:off x="735120" y="2133720"/>
              <a:ext cx="3909600" cy="767880"/>
            </a:xfrm>
            <a:custGeom>
              <a:avLst/>
              <a:gdLst>
                <a:gd name="textAreaLeft" fmla="*/ 0 w 3909600"/>
                <a:gd name="textAreaRight" fmla="*/ 3909960 w 3909600"/>
                <a:gd name="textAreaTop" fmla="*/ 0 h 767880"/>
                <a:gd name="textAreaBottom" fmla="*/ 768240 h 767880"/>
              </a:gdLst>
              <a:ahLst/>
              <a:rect l="textAreaLeft" t="textAreaTop" r="textAreaRight" b="textAreaBottom"/>
              <a:pathLst>
                <a:path w="3927" h="771">
                  <a:moveTo>
                    <a:pt x="128" y="0"/>
                  </a:moveTo>
                  <a:lnTo>
                    <a:pt x="115" y="0"/>
                  </a:lnTo>
                  <a:lnTo>
                    <a:pt x="102" y="3"/>
                  </a:lnTo>
                  <a:lnTo>
                    <a:pt x="90" y="6"/>
                  </a:lnTo>
                  <a:lnTo>
                    <a:pt x="79" y="10"/>
                  </a:lnTo>
                  <a:lnTo>
                    <a:pt x="67" y="16"/>
                  </a:lnTo>
                  <a:lnTo>
                    <a:pt x="56" y="21"/>
                  </a:lnTo>
                  <a:lnTo>
                    <a:pt x="46" y="30"/>
                  </a:lnTo>
                  <a:lnTo>
                    <a:pt x="37" y="38"/>
                  </a:lnTo>
                  <a:lnTo>
                    <a:pt x="28" y="46"/>
                  </a:lnTo>
                  <a:lnTo>
                    <a:pt x="21" y="56"/>
                  </a:lnTo>
                  <a:lnTo>
                    <a:pt x="16" y="67"/>
                  </a:lnTo>
                  <a:lnTo>
                    <a:pt x="10" y="79"/>
                  </a:lnTo>
                  <a:lnTo>
                    <a:pt x="6" y="90"/>
                  </a:lnTo>
                  <a:lnTo>
                    <a:pt x="1" y="102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0" y="642"/>
                  </a:lnTo>
                  <a:lnTo>
                    <a:pt x="0" y="655"/>
                  </a:lnTo>
                  <a:lnTo>
                    <a:pt x="1" y="668"/>
                  </a:lnTo>
                  <a:lnTo>
                    <a:pt x="6" y="680"/>
                  </a:lnTo>
                  <a:lnTo>
                    <a:pt x="10" y="693"/>
                  </a:lnTo>
                  <a:lnTo>
                    <a:pt x="16" y="704"/>
                  </a:lnTo>
                  <a:lnTo>
                    <a:pt x="21" y="714"/>
                  </a:lnTo>
                  <a:lnTo>
                    <a:pt x="28" y="724"/>
                  </a:lnTo>
                  <a:lnTo>
                    <a:pt x="37" y="733"/>
                  </a:lnTo>
                  <a:lnTo>
                    <a:pt x="46" y="742"/>
                  </a:lnTo>
                  <a:lnTo>
                    <a:pt x="56" y="749"/>
                  </a:lnTo>
                  <a:lnTo>
                    <a:pt x="67" y="756"/>
                  </a:lnTo>
                  <a:lnTo>
                    <a:pt x="79" y="760"/>
                  </a:lnTo>
                  <a:lnTo>
                    <a:pt x="90" y="766"/>
                  </a:lnTo>
                  <a:lnTo>
                    <a:pt x="102" y="769"/>
                  </a:lnTo>
                  <a:lnTo>
                    <a:pt x="115" y="770"/>
                  </a:lnTo>
                  <a:lnTo>
                    <a:pt x="128" y="771"/>
                  </a:lnTo>
                  <a:lnTo>
                    <a:pt x="3798" y="771"/>
                  </a:lnTo>
                  <a:lnTo>
                    <a:pt x="3811" y="770"/>
                  </a:lnTo>
                  <a:lnTo>
                    <a:pt x="3824" y="769"/>
                  </a:lnTo>
                  <a:lnTo>
                    <a:pt x="3836" y="766"/>
                  </a:lnTo>
                  <a:lnTo>
                    <a:pt x="3849" y="760"/>
                  </a:lnTo>
                  <a:lnTo>
                    <a:pt x="3860" y="756"/>
                  </a:lnTo>
                  <a:lnTo>
                    <a:pt x="3870" y="749"/>
                  </a:lnTo>
                  <a:lnTo>
                    <a:pt x="3880" y="742"/>
                  </a:lnTo>
                  <a:lnTo>
                    <a:pt x="3889" y="733"/>
                  </a:lnTo>
                  <a:lnTo>
                    <a:pt x="3898" y="724"/>
                  </a:lnTo>
                  <a:lnTo>
                    <a:pt x="3905" y="714"/>
                  </a:lnTo>
                  <a:lnTo>
                    <a:pt x="3911" y="704"/>
                  </a:lnTo>
                  <a:lnTo>
                    <a:pt x="3916" y="693"/>
                  </a:lnTo>
                  <a:lnTo>
                    <a:pt x="3920" y="680"/>
                  </a:lnTo>
                  <a:lnTo>
                    <a:pt x="3925" y="668"/>
                  </a:lnTo>
                  <a:lnTo>
                    <a:pt x="3926" y="655"/>
                  </a:lnTo>
                  <a:lnTo>
                    <a:pt x="3927" y="642"/>
                  </a:lnTo>
                  <a:lnTo>
                    <a:pt x="3927" y="128"/>
                  </a:lnTo>
                  <a:lnTo>
                    <a:pt x="3926" y="115"/>
                  </a:lnTo>
                  <a:lnTo>
                    <a:pt x="3925" y="102"/>
                  </a:lnTo>
                  <a:lnTo>
                    <a:pt x="3920" y="90"/>
                  </a:lnTo>
                  <a:lnTo>
                    <a:pt x="3916" y="79"/>
                  </a:lnTo>
                  <a:lnTo>
                    <a:pt x="3911" y="67"/>
                  </a:lnTo>
                  <a:lnTo>
                    <a:pt x="3905" y="56"/>
                  </a:lnTo>
                  <a:lnTo>
                    <a:pt x="3898" y="46"/>
                  </a:lnTo>
                  <a:lnTo>
                    <a:pt x="3889" y="38"/>
                  </a:lnTo>
                  <a:lnTo>
                    <a:pt x="3880" y="30"/>
                  </a:lnTo>
                  <a:lnTo>
                    <a:pt x="3870" y="21"/>
                  </a:lnTo>
                  <a:lnTo>
                    <a:pt x="3860" y="16"/>
                  </a:lnTo>
                  <a:lnTo>
                    <a:pt x="3849" y="10"/>
                  </a:lnTo>
                  <a:lnTo>
                    <a:pt x="3836" y="6"/>
                  </a:lnTo>
                  <a:lnTo>
                    <a:pt x="3824" y="3"/>
                  </a:lnTo>
                  <a:lnTo>
                    <a:pt x="3811" y="0"/>
                  </a:lnTo>
                  <a:lnTo>
                    <a:pt x="3798" y="0"/>
                  </a:lnTo>
                  <a:lnTo>
                    <a:pt x="128" y="0"/>
                  </a:lnTo>
                </a:path>
              </a:pathLst>
            </a:custGeom>
            <a:noFill/>
            <a:ln w="5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s-E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5"/>
            <p:cNvSpPr/>
            <p:nvPr/>
          </p:nvSpPr>
          <p:spPr>
            <a:xfrm>
              <a:off x="2199960" y="2209680"/>
              <a:ext cx="96876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</a:rPr>
                <a:t>Secundari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6"/>
            <p:cNvSpPr/>
            <p:nvPr/>
          </p:nvSpPr>
          <p:spPr>
            <a:xfrm>
              <a:off x="1880280" y="2440080"/>
              <a:ext cx="174168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336600"/>
                  </a:solidFill>
                  <a:latin typeface="Arial"/>
                </a:rPr>
                <a:t>Guanajuato - Méx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7"/>
            <p:cNvSpPr/>
            <p:nvPr/>
          </p:nvSpPr>
          <p:spPr>
            <a:xfrm>
              <a:off x="1890720" y="2649600"/>
              <a:ext cx="148392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336600"/>
                  </a:solidFill>
                  <a:latin typeface="Arial"/>
                </a:rPr>
                <a:t>Los Lagos - Chi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Line 19"/>
          <p:cNvSpPr/>
          <p:nvPr/>
        </p:nvSpPr>
        <p:spPr>
          <a:xfrm>
            <a:off x="806400" y="2997000"/>
            <a:ext cx="8049960" cy="3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0"/>
          <p:cNvSpPr/>
          <p:nvPr/>
        </p:nvSpPr>
        <p:spPr>
          <a:xfrm flipH="1">
            <a:off x="4787640" y="44280"/>
            <a:ext cx="33480" cy="619272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22"/>
          <p:cNvGrpSpPr/>
          <p:nvPr/>
        </p:nvGrpSpPr>
        <p:grpSpPr>
          <a:xfrm>
            <a:off x="4983120" y="2263680"/>
            <a:ext cx="3909600" cy="517320"/>
            <a:chOff x="4983120" y="2263680"/>
            <a:chExt cx="3909600" cy="517320"/>
          </a:xfrm>
        </p:grpSpPr>
        <p:sp>
          <p:nvSpPr>
            <p:cNvPr id="261" name="Freeform 23"/>
            <p:cNvSpPr/>
            <p:nvPr/>
          </p:nvSpPr>
          <p:spPr>
            <a:xfrm>
              <a:off x="4983120" y="2263680"/>
              <a:ext cx="3909600" cy="517320"/>
            </a:xfrm>
            <a:custGeom>
              <a:avLst/>
              <a:gdLst>
                <a:gd name="textAreaLeft" fmla="*/ 0 w 3909600"/>
                <a:gd name="textAreaRight" fmla="*/ 3909960 w 390960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3927" h="772">
                  <a:moveTo>
                    <a:pt x="127" y="0"/>
                  </a:moveTo>
                  <a:lnTo>
                    <a:pt x="115" y="0"/>
                  </a:lnTo>
                  <a:lnTo>
                    <a:pt x="102" y="3"/>
                  </a:lnTo>
                  <a:lnTo>
                    <a:pt x="89" y="6"/>
                  </a:lnTo>
                  <a:lnTo>
                    <a:pt x="78" y="10"/>
                  </a:lnTo>
                  <a:lnTo>
                    <a:pt x="67" y="16"/>
                  </a:lnTo>
                  <a:lnTo>
                    <a:pt x="56" y="22"/>
                  </a:lnTo>
                  <a:lnTo>
                    <a:pt x="46" y="30"/>
                  </a:lnTo>
                  <a:lnTo>
                    <a:pt x="36" y="38"/>
                  </a:lnTo>
                  <a:lnTo>
                    <a:pt x="29" y="47"/>
                  </a:lnTo>
                  <a:lnTo>
                    <a:pt x="21" y="57"/>
                  </a:lnTo>
                  <a:lnTo>
                    <a:pt x="15" y="68"/>
                  </a:lnTo>
                  <a:lnTo>
                    <a:pt x="9" y="79"/>
                  </a:lnTo>
                  <a:lnTo>
                    <a:pt x="5" y="90"/>
                  </a:lnTo>
                  <a:lnTo>
                    <a:pt x="1" y="103"/>
                  </a:lnTo>
                  <a:lnTo>
                    <a:pt x="0" y="115"/>
                  </a:lnTo>
                  <a:lnTo>
                    <a:pt x="0" y="129"/>
                  </a:lnTo>
                  <a:lnTo>
                    <a:pt x="0" y="643"/>
                  </a:lnTo>
                  <a:lnTo>
                    <a:pt x="0" y="657"/>
                  </a:lnTo>
                  <a:lnTo>
                    <a:pt x="1" y="669"/>
                  </a:lnTo>
                  <a:lnTo>
                    <a:pt x="5" y="681"/>
                  </a:lnTo>
                  <a:lnTo>
                    <a:pt x="9" y="693"/>
                  </a:lnTo>
                  <a:lnTo>
                    <a:pt x="15" y="704"/>
                  </a:lnTo>
                  <a:lnTo>
                    <a:pt x="21" y="714"/>
                  </a:lnTo>
                  <a:lnTo>
                    <a:pt x="29" y="724"/>
                  </a:lnTo>
                  <a:lnTo>
                    <a:pt x="36" y="734"/>
                  </a:lnTo>
                  <a:lnTo>
                    <a:pt x="46" y="742"/>
                  </a:lnTo>
                  <a:lnTo>
                    <a:pt x="56" y="749"/>
                  </a:lnTo>
                  <a:lnTo>
                    <a:pt x="67" y="756"/>
                  </a:lnTo>
                  <a:lnTo>
                    <a:pt x="78" y="762"/>
                  </a:lnTo>
                  <a:lnTo>
                    <a:pt x="89" y="766"/>
                  </a:lnTo>
                  <a:lnTo>
                    <a:pt x="102" y="769"/>
                  </a:lnTo>
                  <a:lnTo>
                    <a:pt x="115" y="770"/>
                  </a:lnTo>
                  <a:lnTo>
                    <a:pt x="127" y="772"/>
                  </a:lnTo>
                  <a:lnTo>
                    <a:pt x="3798" y="772"/>
                  </a:lnTo>
                  <a:lnTo>
                    <a:pt x="3810" y="770"/>
                  </a:lnTo>
                  <a:lnTo>
                    <a:pt x="3823" y="769"/>
                  </a:lnTo>
                  <a:lnTo>
                    <a:pt x="3836" y="766"/>
                  </a:lnTo>
                  <a:lnTo>
                    <a:pt x="3848" y="762"/>
                  </a:lnTo>
                  <a:lnTo>
                    <a:pt x="3860" y="756"/>
                  </a:lnTo>
                  <a:lnTo>
                    <a:pt x="3869" y="749"/>
                  </a:lnTo>
                  <a:lnTo>
                    <a:pt x="3879" y="742"/>
                  </a:lnTo>
                  <a:lnTo>
                    <a:pt x="3889" y="734"/>
                  </a:lnTo>
                  <a:lnTo>
                    <a:pt x="3897" y="724"/>
                  </a:lnTo>
                  <a:lnTo>
                    <a:pt x="3904" y="714"/>
                  </a:lnTo>
                  <a:lnTo>
                    <a:pt x="3910" y="704"/>
                  </a:lnTo>
                  <a:lnTo>
                    <a:pt x="3916" y="693"/>
                  </a:lnTo>
                  <a:lnTo>
                    <a:pt x="3920" y="681"/>
                  </a:lnTo>
                  <a:lnTo>
                    <a:pt x="3924" y="669"/>
                  </a:lnTo>
                  <a:lnTo>
                    <a:pt x="3925" y="657"/>
                  </a:lnTo>
                  <a:lnTo>
                    <a:pt x="3927" y="643"/>
                  </a:lnTo>
                  <a:lnTo>
                    <a:pt x="3927" y="129"/>
                  </a:lnTo>
                  <a:lnTo>
                    <a:pt x="3925" y="115"/>
                  </a:lnTo>
                  <a:lnTo>
                    <a:pt x="3924" y="103"/>
                  </a:lnTo>
                  <a:lnTo>
                    <a:pt x="3920" y="90"/>
                  </a:lnTo>
                  <a:lnTo>
                    <a:pt x="3916" y="79"/>
                  </a:lnTo>
                  <a:lnTo>
                    <a:pt x="3910" y="68"/>
                  </a:lnTo>
                  <a:lnTo>
                    <a:pt x="3904" y="57"/>
                  </a:lnTo>
                  <a:lnTo>
                    <a:pt x="3897" y="47"/>
                  </a:lnTo>
                  <a:lnTo>
                    <a:pt x="3889" y="38"/>
                  </a:lnTo>
                  <a:lnTo>
                    <a:pt x="3879" y="30"/>
                  </a:lnTo>
                  <a:lnTo>
                    <a:pt x="3869" y="22"/>
                  </a:lnTo>
                  <a:lnTo>
                    <a:pt x="3860" y="16"/>
                  </a:lnTo>
                  <a:lnTo>
                    <a:pt x="3848" y="10"/>
                  </a:lnTo>
                  <a:lnTo>
                    <a:pt x="3836" y="6"/>
                  </a:lnTo>
                  <a:lnTo>
                    <a:pt x="3823" y="3"/>
                  </a:lnTo>
                  <a:lnTo>
                    <a:pt x="3810" y="0"/>
                  </a:lnTo>
                  <a:lnTo>
                    <a:pt x="3798" y="0"/>
                  </a:lnTo>
                  <a:lnTo>
                    <a:pt x="127" y="0"/>
                  </a:lnTo>
                </a:path>
              </a:pathLst>
            </a:custGeom>
            <a:noFill/>
            <a:ln w="5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s-E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24"/>
            <p:cNvSpPr/>
            <p:nvPr/>
          </p:nvSpPr>
          <p:spPr>
            <a:xfrm>
              <a:off x="6595920" y="2307240"/>
              <a:ext cx="636480" cy="182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800080"/>
                  </a:solidFill>
                  <a:latin typeface="Arial"/>
                </a:rPr>
                <a:t>Terciar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26"/>
            <p:cNvSpPr/>
            <p:nvPr/>
          </p:nvSpPr>
          <p:spPr>
            <a:xfrm>
              <a:off x="6057000" y="2498400"/>
              <a:ext cx="1863360" cy="182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3333ff"/>
                  </a:solidFill>
                  <a:latin typeface="Arial"/>
                </a:rPr>
                <a:t>Buenos Aires - Argentin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27"/>
          <p:cNvGrpSpPr/>
          <p:nvPr/>
        </p:nvGrpSpPr>
        <p:grpSpPr>
          <a:xfrm>
            <a:off x="4983120" y="260280"/>
            <a:ext cx="3909600" cy="1260000"/>
            <a:chOff x="4983120" y="260280"/>
            <a:chExt cx="3909600" cy="1260000"/>
          </a:xfrm>
        </p:grpSpPr>
        <p:sp>
          <p:nvSpPr>
            <p:cNvPr id="265" name="Freeform 28"/>
            <p:cNvSpPr/>
            <p:nvPr/>
          </p:nvSpPr>
          <p:spPr>
            <a:xfrm>
              <a:off x="4983120" y="633240"/>
              <a:ext cx="3909600" cy="887040"/>
            </a:xfrm>
            <a:custGeom>
              <a:avLst/>
              <a:gdLst>
                <a:gd name="textAreaLeft" fmla="*/ 0 w 3909600"/>
                <a:gd name="textAreaRight" fmla="*/ 3909960 w 3909600"/>
                <a:gd name="textAreaTop" fmla="*/ 0 h 887040"/>
                <a:gd name="textAreaBottom" fmla="*/ 887400 h 887040"/>
              </a:gdLst>
              <a:ahLst/>
              <a:rect l="textAreaLeft" t="textAreaTop" r="textAreaRight" b="textAreaBottom"/>
              <a:pathLst>
                <a:path w="3927" h="771">
                  <a:moveTo>
                    <a:pt x="127" y="0"/>
                  </a:moveTo>
                  <a:lnTo>
                    <a:pt x="115" y="0"/>
                  </a:lnTo>
                  <a:lnTo>
                    <a:pt x="102" y="3"/>
                  </a:lnTo>
                  <a:lnTo>
                    <a:pt x="89" y="6"/>
                  </a:lnTo>
                  <a:lnTo>
                    <a:pt x="78" y="10"/>
                  </a:lnTo>
                  <a:lnTo>
                    <a:pt x="67" y="16"/>
                  </a:lnTo>
                  <a:lnTo>
                    <a:pt x="56" y="23"/>
                  </a:lnTo>
                  <a:lnTo>
                    <a:pt x="46" y="30"/>
                  </a:lnTo>
                  <a:lnTo>
                    <a:pt x="36" y="38"/>
                  </a:lnTo>
                  <a:lnTo>
                    <a:pt x="29" y="47"/>
                  </a:lnTo>
                  <a:lnTo>
                    <a:pt x="21" y="58"/>
                  </a:lnTo>
                  <a:lnTo>
                    <a:pt x="15" y="68"/>
                  </a:lnTo>
                  <a:lnTo>
                    <a:pt x="9" y="79"/>
                  </a:lnTo>
                  <a:lnTo>
                    <a:pt x="5" y="91"/>
                  </a:lnTo>
                  <a:lnTo>
                    <a:pt x="1" y="103"/>
                  </a:lnTo>
                  <a:lnTo>
                    <a:pt x="0" y="115"/>
                  </a:lnTo>
                  <a:lnTo>
                    <a:pt x="0" y="129"/>
                  </a:lnTo>
                  <a:lnTo>
                    <a:pt x="0" y="644"/>
                  </a:lnTo>
                  <a:lnTo>
                    <a:pt x="0" y="656"/>
                  </a:lnTo>
                  <a:lnTo>
                    <a:pt x="1" y="669"/>
                  </a:lnTo>
                  <a:lnTo>
                    <a:pt x="5" y="682"/>
                  </a:lnTo>
                  <a:lnTo>
                    <a:pt x="9" y="693"/>
                  </a:lnTo>
                  <a:lnTo>
                    <a:pt x="15" y="704"/>
                  </a:lnTo>
                  <a:lnTo>
                    <a:pt x="21" y="715"/>
                  </a:lnTo>
                  <a:lnTo>
                    <a:pt x="29" y="725"/>
                  </a:lnTo>
                  <a:lnTo>
                    <a:pt x="36" y="734"/>
                  </a:lnTo>
                  <a:lnTo>
                    <a:pt x="46" y="742"/>
                  </a:lnTo>
                  <a:lnTo>
                    <a:pt x="56" y="749"/>
                  </a:lnTo>
                  <a:lnTo>
                    <a:pt x="67" y="756"/>
                  </a:lnTo>
                  <a:lnTo>
                    <a:pt x="78" y="762"/>
                  </a:lnTo>
                  <a:lnTo>
                    <a:pt x="89" y="766"/>
                  </a:lnTo>
                  <a:lnTo>
                    <a:pt x="102" y="769"/>
                  </a:lnTo>
                  <a:lnTo>
                    <a:pt x="115" y="771"/>
                  </a:lnTo>
                  <a:lnTo>
                    <a:pt x="127" y="771"/>
                  </a:lnTo>
                  <a:lnTo>
                    <a:pt x="3798" y="771"/>
                  </a:lnTo>
                  <a:lnTo>
                    <a:pt x="3810" y="771"/>
                  </a:lnTo>
                  <a:lnTo>
                    <a:pt x="3823" y="769"/>
                  </a:lnTo>
                  <a:lnTo>
                    <a:pt x="3836" y="766"/>
                  </a:lnTo>
                  <a:lnTo>
                    <a:pt x="3848" y="762"/>
                  </a:lnTo>
                  <a:lnTo>
                    <a:pt x="3860" y="756"/>
                  </a:lnTo>
                  <a:lnTo>
                    <a:pt x="3869" y="749"/>
                  </a:lnTo>
                  <a:lnTo>
                    <a:pt x="3879" y="742"/>
                  </a:lnTo>
                  <a:lnTo>
                    <a:pt x="3889" y="734"/>
                  </a:lnTo>
                  <a:lnTo>
                    <a:pt x="3897" y="725"/>
                  </a:lnTo>
                  <a:lnTo>
                    <a:pt x="3904" y="715"/>
                  </a:lnTo>
                  <a:lnTo>
                    <a:pt x="3910" y="704"/>
                  </a:lnTo>
                  <a:lnTo>
                    <a:pt x="3916" y="693"/>
                  </a:lnTo>
                  <a:lnTo>
                    <a:pt x="3920" y="682"/>
                  </a:lnTo>
                  <a:lnTo>
                    <a:pt x="3924" y="669"/>
                  </a:lnTo>
                  <a:lnTo>
                    <a:pt x="3925" y="656"/>
                  </a:lnTo>
                  <a:lnTo>
                    <a:pt x="3927" y="644"/>
                  </a:lnTo>
                  <a:lnTo>
                    <a:pt x="3927" y="129"/>
                  </a:lnTo>
                  <a:lnTo>
                    <a:pt x="3925" y="115"/>
                  </a:lnTo>
                  <a:lnTo>
                    <a:pt x="3924" y="103"/>
                  </a:lnTo>
                  <a:lnTo>
                    <a:pt x="3920" y="91"/>
                  </a:lnTo>
                  <a:lnTo>
                    <a:pt x="3916" y="79"/>
                  </a:lnTo>
                  <a:lnTo>
                    <a:pt x="3910" y="68"/>
                  </a:lnTo>
                  <a:lnTo>
                    <a:pt x="3904" y="58"/>
                  </a:lnTo>
                  <a:lnTo>
                    <a:pt x="3897" y="47"/>
                  </a:lnTo>
                  <a:lnTo>
                    <a:pt x="3889" y="38"/>
                  </a:lnTo>
                  <a:lnTo>
                    <a:pt x="3879" y="30"/>
                  </a:lnTo>
                  <a:lnTo>
                    <a:pt x="3869" y="23"/>
                  </a:lnTo>
                  <a:lnTo>
                    <a:pt x="3860" y="16"/>
                  </a:lnTo>
                  <a:lnTo>
                    <a:pt x="3848" y="10"/>
                  </a:lnTo>
                  <a:lnTo>
                    <a:pt x="3836" y="6"/>
                  </a:lnTo>
                  <a:lnTo>
                    <a:pt x="3823" y="3"/>
                  </a:lnTo>
                  <a:lnTo>
                    <a:pt x="3810" y="0"/>
                  </a:lnTo>
                  <a:lnTo>
                    <a:pt x="3798" y="0"/>
                  </a:lnTo>
                  <a:lnTo>
                    <a:pt x="127" y="0"/>
                  </a:lnTo>
                </a:path>
              </a:pathLst>
            </a:custGeom>
            <a:noFill/>
            <a:ln w="5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s-E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29"/>
            <p:cNvSpPr/>
            <p:nvPr/>
          </p:nvSpPr>
          <p:spPr>
            <a:xfrm>
              <a:off x="6411960" y="620640"/>
              <a:ext cx="7250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800080"/>
                  </a:solidFill>
                  <a:latin typeface="Arial"/>
                </a:rPr>
                <a:t>Primari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30"/>
            <p:cNvSpPr/>
            <p:nvPr/>
          </p:nvSpPr>
          <p:spPr>
            <a:xfrm>
              <a:off x="6342840" y="260280"/>
              <a:ext cx="1058760" cy="2437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anad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31"/>
            <p:cNvSpPr/>
            <p:nvPr/>
          </p:nvSpPr>
          <p:spPr>
            <a:xfrm>
              <a:off x="6046920" y="836640"/>
              <a:ext cx="172332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</a:rPr>
                <a:t>Antofagasta - Chile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32"/>
            <p:cNvSpPr/>
            <p:nvPr/>
          </p:nvSpPr>
          <p:spPr>
            <a:xfrm>
              <a:off x="6053040" y="1052640"/>
              <a:ext cx="12110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</a:rPr>
                <a:t>Tarija - Boliv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33"/>
            <p:cNvSpPr/>
            <p:nvPr/>
          </p:nvSpPr>
          <p:spPr>
            <a:xfrm>
              <a:off x="6052680" y="1268280"/>
              <a:ext cx="174168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</a:rPr>
                <a:t>Neuquén - Argent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34"/>
          <p:cNvGrpSpPr/>
          <p:nvPr/>
        </p:nvGrpSpPr>
        <p:grpSpPr>
          <a:xfrm>
            <a:off x="4983120" y="1581120"/>
            <a:ext cx="3909600" cy="552240"/>
            <a:chOff x="4983120" y="1581120"/>
            <a:chExt cx="3909600" cy="552240"/>
          </a:xfrm>
        </p:grpSpPr>
        <p:sp>
          <p:nvSpPr>
            <p:cNvPr id="272" name="Freeform 35"/>
            <p:cNvSpPr/>
            <p:nvPr/>
          </p:nvSpPr>
          <p:spPr>
            <a:xfrm>
              <a:off x="4983120" y="1581120"/>
              <a:ext cx="3909600" cy="552240"/>
            </a:xfrm>
            <a:custGeom>
              <a:avLst/>
              <a:gdLst>
                <a:gd name="textAreaLeft" fmla="*/ 0 w 3909600"/>
                <a:gd name="textAreaRight" fmla="*/ 3909960 w 390960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927" h="771">
                  <a:moveTo>
                    <a:pt x="127" y="0"/>
                  </a:moveTo>
                  <a:lnTo>
                    <a:pt x="115" y="1"/>
                  </a:lnTo>
                  <a:lnTo>
                    <a:pt x="102" y="3"/>
                  </a:lnTo>
                  <a:lnTo>
                    <a:pt x="89" y="5"/>
                  </a:lnTo>
                  <a:lnTo>
                    <a:pt x="78" y="10"/>
                  </a:lnTo>
                  <a:lnTo>
                    <a:pt x="67" y="15"/>
                  </a:lnTo>
                  <a:lnTo>
                    <a:pt x="56" y="22"/>
                  </a:lnTo>
                  <a:lnTo>
                    <a:pt x="46" y="29"/>
                  </a:lnTo>
                  <a:lnTo>
                    <a:pt x="36" y="38"/>
                  </a:lnTo>
                  <a:lnTo>
                    <a:pt x="29" y="47"/>
                  </a:lnTo>
                  <a:lnTo>
                    <a:pt x="21" y="57"/>
                  </a:lnTo>
                  <a:lnTo>
                    <a:pt x="15" y="67"/>
                  </a:lnTo>
                  <a:lnTo>
                    <a:pt x="9" y="78"/>
                  </a:lnTo>
                  <a:lnTo>
                    <a:pt x="5" y="91"/>
                  </a:lnTo>
                  <a:lnTo>
                    <a:pt x="1" y="104"/>
                  </a:lnTo>
                  <a:lnTo>
                    <a:pt x="0" y="116"/>
                  </a:lnTo>
                  <a:lnTo>
                    <a:pt x="0" y="129"/>
                  </a:lnTo>
                  <a:lnTo>
                    <a:pt x="0" y="643"/>
                  </a:lnTo>
                  <a:lnTo>
                    <a:pt x="0" y="656"/>
                  </a:lnTo>
                  <a:lnTo>
                    <a:pt x="1" y="669"/>
                  </a:lnTo>
                  <a:lnTo>
                    <a:pt x="5" y="681"/>
                  </a:lnTo>
                  <a:lnTo>
                    <a:pt x="9" y="692"/>
                  </a:lnTo>
                  <a:lnTo>
                    <a:pt x="15" y="704"/>
                  </a:lnTo>
                  <a:lnTo>
                    <a:pt x="21" y="715"/>
                  </a:lnTo>
                  <a:lnTo>
                    <a:pt x="29" y="725"/>
                  </a:lnTo>
                  <a:lnTo>
                    <a:pt x="36" y="733"/>
                  </a:lnTo>
                  <a:lnTo>
                    <a:pt x="46" y="742"/>
                  </a:lnTo>
                  <a:lnTo>
                    <a:pt x="56" y="750"/>
                  </a:lnTo>
                  <a:lnTo>
                    <a:pt x="67" y="756"/>
                  </a:lnTo>
                  <a:lnTo>
                    <a:pt x="78" y="761"/>
                  </a:lnTo>
                  <a:lnTo>
                    <a:pt x="89" y="765"/>
                  </a:lnTo>
                  <a:lnTo>
                    <a:pt x="102" y="768"/>
                  </a:lnTo>
                  <a:lnTo>
                    <a:pt x="115" y="771"/>
                  </a:lnTo>
                  <a:lnTo>
                    <a:pt x="127" y="771"/>
                  </a:lnTo>
                  <a:lnTo>
                    <a:pt x="3798" y="771"/>
                  </a:lnTo>
                  <a:lnTo>
                    <a:pt x="3810" y="771"/>
                  </a:lnTo>
                  <a:lnTo>
                    <a:pt x="3823" y="768"/>
                  </a:lnTo>
                  <a:lnTo>
                    <a:pt x="3836" y="765"/>
                  </a:lnTo>
                  <a:lnTo>
                    <a:pt x="3848" y="761"/>
                  </a:lnTo>
                  <a:lnTo>
                    <a:pt x="3860" y="756"/>
                  </a:lnTo>
                  <a:lnTo>
                    <a:pt x="3869" y="750"/>
                  </a:lnTo>
                  <a:lnTo>
                    <a:pt x="3879" y="742"/>
                  </a:lnTo>
                  <a:lnTo>
                    <a:pt x="3889" y="733"/>
                  </a:lnTo>
                  <a:lnTo>
                    <a:pt x="3897" y="725"/>
                  </a:lnTo>
                  <a:lnTo>
                    <a:pt x="3904" y="715"/>
                  </a:lnTo>
                  <a:lnTo>
                    <a:pt x="3910" y="704"/>
                  </a:lnTo>
                  <a:lnTo>
                    <a:pt x="3916" y="692"/>
                  </a:lnTo>
                  <a:lnTo>
                    <a:pt x="3920" y="681"/>
                  </a:lnTo>
                  <a:lnTo>
                    <a:pt x="3924" y="669"/>
                  </a:lnTo>
                  <a:lnTo>
                    <a:pt x="3925" y="656"/>
                  </a:lnTo>
                  <a:lnTo>
                    <a:pt x="3927" y="643"/>
                  </a:lnTo>
                  <a:lnTo>
                    <a:pt x="3927" y="129"/>
                  </a:lnTo>
                  <a:lnTo>
                    <a:pt x="3925" y="116"/>
                  </a:lnTo>
                  <a:lnTo>
                    <a:pt x="3924" y="104"/>
                  </a:lnTo>
                  <a:lnTo>
                    <a:pt x="3920" y="91"/>
                  </a:lnTo>
                  <a:lnTo>
                    <a:pt x="3916" y="78"/>
                  </a:lnTo>
                  <a:lnTo>
                    <a:pt x="3910" y="67"/>
                  </a:lnTo>
                  <a:lnTo>
                    <a:pt x="3904" y="57"/>
                  </a:lnTo>
                  <a:lnTo>
                    <a:pt x="3897" y="47"/>
                  </a:lnTo>
                  <a:lnTo>
                    <a:pt x="3889" y="38"/>
                  </a:lnTo>
                  <a:lnTo>
                    <a:pt x="3879" y="29"/>
                  </a:lnTo>
                  <a:lnTo>
                    <a:pt x="3869" y="22"/>
                  </a:lnTo>
                  <a:lnTo>
                    <a:pt x="3860" y="15"/>
                  </a:lnTo>
                  <a:lnTo>
                    <a:pt x="3848" y="10"/>
                  </a:lnTo>
                  <a:lnTo>
                    <a:pt x="3836" y="5"/>
                  </a:lnTo>
                  <a:lnTo>
                    <a:pt x="3823" y="3"/>
                  </a:lnTo>
                  <a:lnTo>
                    <a:pt x="3810" y="1"/>
                  </a:lnTo>
                  <a:lnTo>
                    <a:pt x="3798" y="0"/>
                  </a:lnTo>
                  <a:lnTo>
                    <a:pt x="127" y="0"/>
                  </a:lnTo>
                </a:path>
              </a:pathLst>
            </a:custGeom>
            <a:noFill/>
            <a:ln w="5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s-E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36"/>
            <p:cNvSpPr/>
            <p:nvPr/>
          </p:nvSpPr>
          <p:spPr>
            <a:xfrm>
              <a:off x="6495480" y="1604520"/>
              <a:ext cx="831600" cy="182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800080"/>
                  </a:solidFill>
                  <a:latin typeface="Arial"/>
                </a:rPr>
                <a:t>Secundar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37"/>
            <p:cNvSpPr/>
            <p:nvPr/>
          </p:nvSpPr>
          <p:spPr>
            <a:xfrm>
              <a:off x="6053040" y="1794240"/>
              <a:ext cx="1606320" cy="12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3333ff"/>
                  </a:solidFill>
                  <a:latin typeface="Arial"/>
                </a:rPr>
                <a:t>Santander - Colombia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39"/>
            <p:cNvSpPr/>
            <p:nvPr/>
          </p:nvSpPr>
          <p:spPr>
            <a:xfrm>
              <a:off x="6053040" y="1938600"/>
              <a:ext cx="1606320" cy="12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3333ff"/>
                  </a:solidFill>
                  <a:latin typeface="Arial"/>
                </a:rPr>
                <a:t>Coahuila - México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Rectangle 41"/>
          <p:cNvSpPr/>
          <p:nvPr/>
        </p:nvSpPr>
        <p:spPr>
          <a:xfrm>
            <a:off x="2101680" y="2997360"/>
            <a:ext cx="1137960" cy="243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anc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2"/>
          <p:cNvSpPr/>
          <p:nvPr/>
        </p:nvSpPr>
        <p:spPr>
          <a:xfrm>
            <a:off x="2316240" y="3429000"/>
            <a:ext cx="619920" cy="18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3333ff"/>
                </a:solidFill>
                <a:latin typeface="Arial"/>
              </a:rPr>
              <a:t>Prim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3"/>
          <p:cNvSpPr/>
          <p:nvPr/>
        </p:nvSpPr>
        <p:spPr>
          <a:xfrm>
            <a:off x="2108160" y="3645000"/>
            <a:ext cx="1305720" cy="36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Alagoas – Bras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Chocó - Colom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44"/>
          <p:cNvSpPr/>
          <p:nvPr/>
        </p:nvSpPr>
        <p:spPr>
          <a:xfrm>
            <a:off x="2316960" y="4408560"/>
            <a:ext cx="831600" cy="18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3333ff"/>
                </a:solidFill>
                <a:latin typeface="Arial"/>
              </a:rPr>
              <a:t>Secund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45"/>
          <p:cNvSpPr/>
          <p:nvPr/>
        </p:nvSpPr>
        <p:spPr>
          <a:xfrm>
            <a:off x="2463480" y="5129280"/>
            <a:ext cx="636480" cy="18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3333ff"/>
                </a:solidFill>
                <a:latin typeface="Arial"/>
              </a:rPr>
              <a:t>Terci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6"/>
          <p:cNvSpPr/>
          <p:nvPr/>
        </p:nvSpPr>
        <p:spPr>
          <a:xfrm>
            <a:off x="2172240" y="5560920"/>
            <a:ext cx="1121400" cy="18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La Paz - Boliv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47"/>
          <p:cNvSpPr/>
          <p:nvPr/>
        </p:nvSpPr>
        <p:spPr>
          <a:xfrm>
            <a:off x="725400" y="3341520"/>
            <a:ext cx="3909600" cy="734760"/>
          </a:xfrm>
          <a:custGeom>
            <a:avLst/>
            <a:gdLst>
              <a:gd name="textAreaLeft" fmla="*/ 0 w 3909600"/>
              <a:gd name="textAreaRight" fmla="*/ 3909960 w 3909600"/>
              <a:gd name="textAreaTop" fmla="*/ 0 h 734760"/>
              <a:gd name="textAreaBottom" fmla="*/ 735120 h 734760"/>
            </a:gdLst>
            <a:ahLst/>
            <a:rect l="textAreaLeft" t="textAreaTop" r="textAreaRight" b="textAreaBottom"/>
            <a:pathLst>
              <a:path w="3927" h="772">
                <a:moveTo>
                  <a:pt x="128" y="0"/>
                </a:moveTo>
                <a:lnTo>
                  <a:pt x="115" y="0"/>
                </a:lnTo>
                <a:lnTo>
                  <a:pt x="102" y="3"/>
                </a:lnTo>
                <a:lnTo>
                  <a:pt x="90" y="6"/>
                </a:lnTo>
                <a:lnTo>
                  <a:pt x="79" y="10"/>
                </a:lnTo>
                <a:lnTo>
                  <a:pt x="67" y="16"/>
                </a:lnTo>
                <a:lnTo>
                  <a:pt x="56" y="22"/>
                </a:lnTo>
                <a:lnTo>
                  <a:pt x="46" y="30"/>
                </a:lnTo>
                <a:lnTo>
                  <a:pt x="37" y="38"/>
                </a:lnTo>
                <a:lnTo>
                  <a:pt x="28" y="47"/>
                </a:lnTo>
                <a:lnTo>
                  <a:pt x="21" y="57"/>
                </a:lnTo>
                <a:lnTo>
                  <a:pt x="16" y="68"/>
                </a:lnTo>
                <a:lnTo>
                  <a:pt x="10" y="79"/>
                </a:lnTo>
                <a:lnTo>
                  <a:pt x="6" y="90"/>
                </a:lnTo>
                <a:lnTo>
                  <a:pt x="1" y="103"/>
                </a:lnTo>
                <a:lnTo>
                  <a:pt x="0" y="115"/>
                </a:lnTo>
                <a:lnTo>
                  <a:pt x="0" y="129"/>
                </a:lnTo>
                <a:lnTo>
                  <a:pt x="0" y="643"/>
                </a:lnTo>
                <a:lnTo>
                  <a:pt x="0" y="657"/>
                </a:lnTo>
                <a:lnTo>
                  <a:pt x="1" y="669"/>
                </a:lnTo>
                <a:lnTo>
                  <a:pt x="6" y="681"/>
                </a:lnTo>
                <a:lnTo>
                  <a:pt x="10" y="693"/>
                </a:lnTo>
                <a:lnTo>
                  <a:pt x="16" y="704"/>
                </a:lnTo>
                <a:lnTo>
                  <a:pt x="21" y="714"/>
                </a:lnTo>
                <a:lnTo>
                  <a:pt x="28" y="724"/>
                </a:lnTo>
                <a:lnTo>
                  <a:pt x="37" y="734"/>
                </a:lnTo>
                <a:lnTo>
                  <a:pt x="46" y="742"/>
                </a:lnTo>
                <a:lnTo>
                  <a:pt x="56" y="749"/>
                </a:lnTo>
                <a:lnTo>
                  <a:pt x="67" y="756"/>
                </a:lnTo>
                <a:lnTo>
                  <a:pt x="79" y="762"/>
                </a:lnTo>
                <a:lnTo>
                  <a:pt x="90" y="766"/>
                </a:lnTo>
                <a:lnTo>
                  <a:pt x="102" y="769"/>
                </a:lnTo>
                <a:lnTo>
                  <a:pt x="115" y="770"/>
                </a:lnTo>
                <a:lnTo>
                  <a:pt x="128" y="772"/>
                </a:lnTo>
                <a:lnTo>
                  <a:pt x="3798" y="772"/>
                </a:lnTo>
                <a:lnTo>
                  <a:pt x="3811" y="770"/>
                </a:lnTo>
                <a:lnTo>
                  <a:pt x="3824" y="769"/>
                </a:lnTo>
                <a:lnTo>
                  <a:pt x="3836" y="766"/>
                </a:lnTo>
                <a:lnTo>
                  <a:pt x="3849" y="762"/>
                </a:lnTo>
                <a:lnTo>
                  <a:pt x="3860" y="756"/>
                </a:lnTo>
                <a:lnTo>
                  <a:pt x="3870" y="749"/>
                </a:lnTo>
                <a:lnTo>
                  <a:pt x="3880" y="742"/>
                </a:lnTo>
                <a:lnTo>
                  <a:pt x="3889" y="734"/>
                </a:lnTo>
                <a:lnTo>
                  <a:pt x="3898" y="724"/>
                </a:lnTo>
                <a:lnTo>
                  <a:pt x="3905" y="714"/>
                </a:lnTo>
                <a:lnTo>
                  <a:pt x="3911" y="704"/>
                </a:lnTo>
                <a:lnTo>
                  <a:pt x="3916" y="693"/>
                </a:lnTo>
                <a:lnTo>
                  <a:pt x="3920" y="681"/>
                </a:lnTo>
                <a:lnTo>
                  <a:pt x="3925" y="669"/>
                </a:lnTo>
                <a:lnTo>
                  <a:pt x="3926" y="657"/>
                </a:lnTo>
                <a:lnTo>
                  <a:pt x="3927" y="643"/>
                </a:lnTo>
                <a:lnTo>
                  <a:pt x="3927" y="129"/>
                </a:lnTo>
                <a:lnTo>
                  <a:pt x="3926" y="115"/>
                </a:lnTo>
                <a:lnTo>
                  <a:pt x="3925" y="103"/>
                </a:lnTo>
                <a:lnTo>
                  <a:pt x="3920" y="90"/>
                </a:lnTo>
                <a:lnTo>
                  <a:pt x="3916" y="79"/>
                </a:lnTo>
                <a:lnTo>
                  <a:pt x="3911" y="68"/>
                </a:lnTo>
                <a:lnTo>
                  <a:pt x="3905" y="57"/>
                </a:lnTo>
                <a:lnTo>
                  <a:pt x="3898" y="47"/>
                </a:lnTo>
                <a:lnTo>
                  <a:pt x="3889" y="38"/>
                </a:lnTo>
                <a:lnTo>
                  <a:pt x="3880" y="30"/>
                </a:lnTo>
                <a:lnTo>
                  <a:pt x="3870" y="22"/>
                </a:lnTo>
                <a:lnTo>
                  <a:pt x="3860" y="16"/>
                </a:lnTo>
                <a:lnTo>
                  <a:pt x="3849" y="10"/>
                </a:lnTo>
                <a:lnTo>
                  <a:pt x="3836" y="6"/>
                </a:lnTo>
                <a:lnTo>
                  <a:pt x="3824" y="3"/>
                </a:lnTo>
                <a:lnTo>
                  <a:pt x="3811" y="0"/>
                </a:lnTo>
                <a:lnTo>
                  <a:pt x="3798" y="0"/>
                </a:lnTo>
                <a:lnTo>
                  <a:pt x="128" y="0"/>
                </a:lnTo>
              </a:path>
            </a:pathLst>
          </a:custGeom>
          <a:noFill/>
          <a:ln w="5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48"/>
          <p:cNvSpPr/>
          <p:nvPr/>
        </p:nvSpPr>
        <p:spPr>
          <a:xfrm>
            <a:off x="733320" y="4292640"/>
            <a:ext cx="3909600" cy="720360"/>
          </a:xfrm>
          <a:custGeom>
            <a:avLst/>
            <a:gdLst>
              <a:gd name="textAreaLeft" fmla="*/ 0 w 3909600"/>
              <a:gd name="textAreaRight" fmla="*/ 3909960 w 3909600"/>
              <a:gd name="textAreaTop" fmla="*/ 0 h 720360"/>
              <a:gd name="textAreaBottom" fmla="*/ 720720 h 720360"/>
            </a:gdLst>
            <a:ahLst/>
            <a:rect l="textAreaLeft" t="textAreaTop" r="textAreaRight" b="textAreaBottom"/>
            <a:pathLst>
              <a:path w="3927" h="771">
                <a:moveTo>
                  <a:pt x="128" y="0"/>
                </a:moveTo>
                <a:lnTo>
                  <a:pt x="115" y="0"/>
                </a:lnTo>
                <a:lnTo>
                  <a:pt x="102" y="3"/>
                </a:lnTo>
                <a:lnTo>
                  <a:pt x="90" y="6"/>
                </a:lnTo>
                <a:lnTo>
                  <a:pt x="79" y="10"/>
                </a:lnTo>
                <a:lnTo>
                  <a:pt x="67" y="15"/>
                </a:lnTo>
                <a:lnTo>
                  <a:pt x="56" y="22"/>
                </a:lnTo>
                <a:lnTo>
                  <a:pt x="46" y="29"/>
                </a:lnTo>
                <a:lnTo>
                  <a:pt x="37" y="38"/>
                </a:lnTo>
                <a:lnTo>
                  <a:pt x="28" y="46"/>
                </a:lnTo>
                <a:lnTo>
                  <a:pt x="21" y="56"/>
                </a:lnTo>
                <a:lnTo>
                  <a:pt x="16" y="67"/>
                </a:lnTo>
                <a:lnTo>
                  <a:pt x="10" y="79"/>
                </a:lnTo>
                <a:lnTo>
                  <a:pt x="6" y="90"/>
                </a:lnTo>
                <a:lnTo>
                  <a:pt x="1" y="102"/>
                </a:lnTo>
                <a:lnTo>
                  <a:pt x="0" y="115"/>
                </a:lnTo>
                <a:lnTo>
                  <a:pt x="0" y="129"/>
                </a:lnTo>
                <a:lnTo>
                  <a:pt x="0" y="642"/>
                </a:lnTo>
                <a:lnTo>
                  <a:pt x="0" y="656"/>
                </a:lnTo>
                <a:lnTo>
                  <a:pt x="1" y="669"/>
                </a:lnTo>
                <a:lnTo>
                  <a:pt x="6" y="681"/>
                </a:lnTo>
                <a:lnTo>
                  <a:pt x="10" y="693"/>
                </a:lnTo>
                <a:lnTo>
                  <a:pt x="16" y="704"/>
                </a:lnTo>
                <a:lnTo>
                  <a:pt x="21" y="715"/>
                </a:lnTo>
                <a:lnTo>
                  <a:pt x="28" y="725"/>
                </a:lnTo>
                <a:lnTo>
                  <a:pt x="37" y="733"/>
                </a:lnTo>
                <a:lnTo>
                  <a:pt x="46" y="742"/>
                </a:lnTo>
                <a:lnTo>
                  <a:pt x="56" y="749"/>
                </a:lnTo>
                <a:lnTo>
                  <a:pt x="67" y="756"/>
                </a:lnTo>
                <a:lnTo>
                  <a:pt x="79" y="761"/>
                </a:lnTo>
                <a:lnTo>
                  <a:pt x="90" y="766"/>
                </a:lnTo>
                <a:lnTo>
                  <a:pt x="102" y="768"/>
                </a:lnTo>
                <a:lnTo>
                  <a:pt x="115" y="770"/>
                </a:lnTo>
                <a:lnTo>
                  <a:pt x="128" y="771"/>
                </a:lnTo>
                <a:lnTo>
                  <a:pt x="3798" y="771"/>
                </a:lnTo>
                <a:lnTo>
                  <a:pt x="3811" y="770"/>
                </a:lnTo>
                <a:lnTo>
                  <a:pt x="3824" y="768"/>
                </a:lnTo>
                <a:lnTo>
                  <a:pt x="3836" y="766"/>
                </a:lnTo>
                <a:lnTo>
                  <a:pt x="3849" y="761"/>
                </a:lnTo>
                <a:lnTo>
                  <a:pt x="3860" y="756"/>
                </a:lnTo>
                <a:lnTo>
                  <a:pt x="3870" y="749"/>
                </a:lnTo>
                <a:lnTo>
                  <a:pt x="3880" y="742"/>
                </a:lnTo>
                <a:lnTo>
                  <a:pt x="3889" y="733"/>
                </a:lnTo>
                <a:lnTo>
                  <a:pt x="3898" y="725"/>
                </a:lnTo>
                <a:lnTo>
                  <a:pt x="3905" y="715"/>
                </a:lnTo>
                <a:lnTo>
                  <a:pt x="3911" y="704"/>
                </a:lnTo>
                <a:lnTo>
                  <a:pt x="3916" y="693"/>
                </a:lnTo>
                <a:lnTo>
                  <a:pt x="3920" y="681"/>
                </a:lnTo>
                <a:lnTo>
                  <a:pt x="3925" y="669"/>
                </a:lnTo>
                <a:lnTo>
                  <a:pt x="3926" y="656"/>
                </a:lnTo>
                <a:lnTo>
                  <a:pt x="3927" y="642"/>
                </a:lnTo>
                <a:lnTo>
                  <a:pt x="3927" y="129"/>
                </a:lnTo>
                <a:lnTo>
                  <a:pt x="3926" y="115"/>
                </a:lnTo>
                <a:lnTo>
                  <a:pt x="3925" y="102"/>
                </a:lnTo>
                <a:lnTo>
                  <a:pt x="3920" y="90"/>
                </a:lnTo>
                <a:lnTo>
                  <a:pt x="3916" y="79"/>
                </a:lnTo>
                <a:lnTo>
                  <a:pt x="3911" y="67"/>
                </a:lnTo>
                <a:lnTo>
                  <a:pt x="3905" y="56"/>
                </a:lnTo>
                <a:lnTo>
                  <a:pt x="3898" y="46"/>
                </a:lnTo>
                <a:lnTo>
                  <a:pt x="3889" y="38"/>
                </a:lnTo>
                <a:lnTo>
                  <a:pt x="3880" y="29"/>
                </a:lnTo>
                <a:lnTo>
                  <a:pt x="3870" y="22"/>
                </a:lnTo>
                <a:lnTo>
                  <a:pt x="3860" y="15"/>
                </a:lnTo>
                <a:lnTo>
                  <a:pt x="3849" y="10"/>
                </a:lnTo>
                <a:lnTo>
                  <a:pt x="3836" y="6"/>
                </a:lnTo>
                <a:lnTo>
                  <a:pt x="3824" y="3"/>
                </a:lnTo>
                <a:lnTo>
                  <a:pt x="3811" y="0"/>
                </a:lnTo>
                <a:lnTo>
                  <a:pt x="3798" y="0"/>
                </a:lnTo>
                <a:lnTo>
                  <a:pt x="128" y="0"/>
                </a:lnTo>
              </a:path>
            </a:pathLst>
          </a:custGeom>
          <a:noFill/>
          <a:ln w="5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9"/>
          <p:cNvSpPr/>
          <p:nvPr/>
        </p:nvSpPr>
        <p:spPr>
          <a:xfrm>
            <a:off x="2102040" y="4695840"/>
            <a:ext cx="1086120" cy="18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Bío Bío - Chi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50"/>
          <p:cNvSpPr/>
          <p:nvPr/>
        </p:nvSpPr>
        <p:spPr>
          <a:xfrm>
            <a:off x="733320" y="5084640"/>
            <a:ext cx="3909600" cy="766440"/>
          </a:xfrm>
          <a:custGeom>
            <a:avLst/>
            <a:gdLst>
              <a:gd name="textAreaLeft" fmla="*/ 0 w 3909600"/>
              <a:gd name="textAreaRight" fmla="*/ 3909960 w 3909600"/>
              <a:gd name="textAreaTop" fmla="*/ 0 h 766440"/>
              <a:gd name="textAreaBottom" fmla="*/ 766800 h 766440"/>
            </a:gdLst>
            <a:ahLst/>
            <a:rect l="textAreaLeft" t="textAreaTop" r="textAreaRight" b="textAreaBottom"/>
            <a:pathLst>
              <a:path w="3927" h="771">
                <a:moveTo>
                  <a:pt x="128" y="0"/>
                </a:moveTo>
                <a:lnTo>
                  <a:pt x="115" y="0"/>
                </a:lnTo>
                <a:lnTo>
                  <a:pt x="102" y="1"/>
                </a:lnTo>
                <a:lnTo>
                  <a:pt x="90" y="5"/>
                </a:lnTo>
                <a:lnTo>
                  <a:pt x="79" y="10"/>
                </a:lnTo>
                <a:lnTo>
                  <a:pt x="67" y="15"/>
                </a:lnTo>
                <a:lnTo>
                  <a:pt x="56" y="21"/>
                </a:lnTo>
                <a:lnTo>
                  <a:pt x="46" y="29"/>
                </a:lnTo>
                <a:lnTo>
                  <a:pt x="37" y="36"/>
                </a:lnTo>
                <a:lnTo>
                  <a:pt x="30" y="46"/>
                </a:lnTo>
                <a:lnTo>
                  <a:pt x="21" y="56"/>
                </a:lnTo>
                <a:lnTo>
                  <a:pt x="16" y="67"/>
                </a:lnTo>
                <a:lnTo>
                  <a:pt x="10" y="78"/>
                </a:lnTo>
                <a:lnTo>
                  <a:pt x="6" y="89"/>
                </a:lnTo>
                <a:lnTo>
                  <a:pt x="1" y="102"/>
                </a:lnTo>
                <a:lnTo>
                  <a:pt x="0" y="115"/>
                </a:lnTo>
                <a:lnTo>
                  <a:pt x="0" y="127"/>
                </a:lnTo>
                <a:lnTo>
                  <a:pt x="0" y="642"/>
                </a:lnTo>
                <a:lnTo>
                  <a:pt x="0" y="655"/>
                </a:lnTo>
                <a:lnTo>
                  <a:pt x="1" y="667"/>
                </a:lnTo>
                <a:lnTo>
                  <a:pt x="6" y="680"/>
                </a:lnTo>
                <a:lnTo>
                  <a:pt x="10" y="692"/>
                </a:lnTo>
                <a:lnTo>
                  <a:pt x="16" y="704"/>
                </a:lnTo>
                <a:lnTo>
                  <a:pt x="21" y="713"/>
                </a:lnTo>
                <a:lnTo>
                  <a:pt x="30" y="723"/>
                </a:lnTo>
                <a:lnTo>
                  <a:pt x="37" y="733"/>
                </a:lnTo>
                <a:lnTo>
                  <a:pt x="46" y="741"/>
                </a:lnTo>
                <a:lnTo>
                  <a:pt x="56" y="748"/>
                </a:lnTo>
                <a:lnTo>
                  <a:pt x="67" y="754"/>
                </a:lnTo>
                <a:lnTo>
                  <a:pt x="79" y="760"/>
                </a:lnTo>
                <a:lnTo>
                  <a:pt x="90" y="764"/>
                </a:lnTo>
                <a:lnTo>
                  <a:pt x="102" y="768"/>
                </a:lnTo>
                <a:lnTo>
                  <a:pt x="115" y="769"/>
                </a:lnTo>
                <a:lnTo>
                  <a:pt x="128" y="771"/>
                </a:lnTo>
                <a:lnTo>
                  <a:pt x="3798" y="771"/>
                </a:lnTo>
                <a:lnTo>
                  <a:pt x="3811" y="769"/>
                </a:lnTo>
                <a:lnTo>
                  <a:pt x="3824" y="768"/>
                </a:lnTo>
                <a:lnTo>
                  <a:pt x="3836" y="764"/>
                </a:lnTo>
                <a:lnTo>
                  <a:pt x="3849" y="760"/>
                </a:lnTo>
                <a:lnTo>
                  <a:pt x="3860" y="754"/>
                </a:lnTo>
                <a:lnTo>
                  <a:pt x="3870" y="748"/>
                </a:lnTo>
                <a:lnTo>
                  <a:pt x="3880" y="741"/>
                </a:lnTo>
                <a:lnTo>
                  <a:pt x="3889" y="733"/>
                </a:lnTo>
                <a:lnTo>
                  <a:pt x="3898" y="723"/>
                </a:lnTo>
                <a:lnTo>
                  <a:pt x="3905" y="713"/>
                </a:lnTo>
                <a:lnTo>
                  <a:pt x="3911" y="704"/>
                </a:lnTo>
                <a:lnTo>
                  <a:pt x="3916" y="692"/>
                </a:lnTo>
                <a:lnTo>
                  <a:pt x="3920" y="680"/>
                </a:lnTo>
                <a:lnTo>
                  <a:pt x="3925" y="667"/>
                </a:lnTo>
                <a:lnTo>
                  <a:pt x="3926" y="655"/>
                </a:lnTo>
                <a:lnTo>
                  <a:pt x="3927" y="642"/>
                </a:lnTo>
                <a:lnTo>
                  <a:pt x="3927" y="127"/>
                </a:lnTo>
                <a:lnTo>
                  <a:pt x="3926" y="115"/>
                </a:lnTo>
                <a:lnTo>
                  <a:pt x="3925" y="102"/>
                </a:lnTo>
                <a:lnTo>
                  <a:pt x="3920" y="89"/>
                </a:lnTo>
                <a:lnTo>
                  <a:pt x="3916" y="78"/>
                </a:lnTo>
                <a:lnTo>
                  <a:pt x="3911" y="67"/>
                </a:lnTo>
                <a:lnTo>
                  <a:pt x="3905" y="56"/>
                </a:lnTo>
                <a:lnTo>
                  <a:pt x="3898" y="46"/>
                </a:lnTo>
                <a:lnTo>
                  <a:pt x="3889" y="36"/>
                </a:lnTo>
                <a:lnTo>
                  <a:pt x="3880" y="29"/>
                </a:lnTo>
                <a:lnTo>
                  <a:pt x="3870" y="21"/>
                </a:lnTo>
                <a:lnTo>
                  <a:pt x="3860" y="15"/>
                </a:lnTo>
                <a:lnTo>
                  <a:pt x="3849" y="10"/>
                </a:lnTo>
                <a:lnTo>
                  <a:pt x="3836" y="5"/>
                </a:lnTo>
                <a:lnTo>
                  <a:pt x="3824" y="1"/>
                </a:lnTo>
                <a:lnTo>
                  <a:pt x="3811" y="0"/>
                </a:lnTo>
                <a:lnTo>
                  <a:pt x="3798" y="0"/>
                </a:lnTo>
                <a:lnTo>
                  <a:pt x="128" y="0"/>
                </a:lnTo>
              </a:path>
            </a:pathLst>
          </a:custGeom>
          <a:noFill/>
          <a:ln w="5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51"/>
          <p:cNvSpPr/>
          <p:nvPr/>
        </p:nvSpPr>
        <p:spPr>
          <a:xfrm>
            <a:off x="2171160" y="5345280"/>
            <a:ext cx="1307160" cy="18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Guerrero - Méx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56"/>
          <p:cNvSpPr/>
          <p:nvPr/>
        </p:nvSpPr>
        <p:spPr>
          <a:xfrm>
            <a:off x="6435000" y="3014640"/>
            <a:ext cx="1137960" cy="243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lin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7"/>
          <p:cNvSpPr/>
          <p:nvPr/>
        </p:nvSpPr>
        <p:spPr>
          <a:xfrm>
            <a:off x="6505560" y="5180040"/>
            <a:ext cx="642600" cy="18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3333ff"/>
                </a:solidFill>
                <a:latin typeface="Arial"/>
              </a:rPr>
              <a:t>Terci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8"/>
          <p:cNvSpPr/>
          <p:nvPr/>
        </p:nvSpPr>
        <p:spPr>
          <a:xfrm>
            <a:off x="6147000" y="5433840"/>
            <a:ext cx="1398600" cy="18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Bogotá  - Colom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59"/>
          <p:cNvSpPr/>
          <p:nvPr/>
        </p:nvSpPr>
        <p:spPr>
          <a:xfrm>
            <a:off x="5011560" y="3375000"/>
            <a:ext cx="3909600" cy="558360"/>
          </a:xfrm>
          <a:custGeom>
            <a:avLst/>
            <a:gdLst>
              <a:gd name="textAreaLeft" fmla="*/ 0 w 3909600"/>
              <a:gd name="textAreaRight" fmla="*/ 3909960 w 3909600"/>
              <a:gd name="textAreaTop" fmla="*/ 0 h 558360"/>
              <a:gd name="textAreaBottom" fmla="*/ 558720 h 558360"/>
            </a:gdLst>
            <a:ahLst/>
            <a:rect l="textAreaLeft" t="textAreaTop" r="textAreaRight" b="textAreaBottom"/>
            <a:pathLst>
              <a:path w="3927" h="561">
                <a:moveTo>
                  <a:pt x="94" y="0"/>
                </a:moveTo>
                <a:lnTo>
                  <a:pt x="84" y="0"/>
                </a:lnTo>
                <a:lnTo>
                  <a:pt x="74" y="2"/>
                </a:lnTo>
                <a:lnTo>
                  <a:pt x="66" y="4"/>
                </a:lnTo>
                <a:lnTo>
                  <a:pt x="58" y="7"/>
                </a:lnTo>
                <a:lnTo>
                  <a:pt x="49" y="11"/>
                </a:lnTo>
                <a:lnTo>
                  <a:pt x="41" y="16"/>
                </a:lnTo>
                <a:lnTo>
                  <a:pt x="34" y="21"/>
                </a:lnTo>
                <a:lnTo>
                  <a:pt x="27" y="27"/>
                </a:lnTo>
                <a:lnTo>
                  <a:pt x="21" y="34"/>
                </a:lnTo>
                <a:lnTo>
                  <a:pt x="15" y="41"/>
                </a:lnTo>
                <a:lnTo>
                  <a:pt x="11" y="49"/>
                </a:lnTo>
                <a:lnTo>
                  <a:pt x="7" y="56"/>
                </a:lnTo>
                <a:lnTo>
                  <a:pt x="4" y="65"/>
                </a:lnTo>
                <a:lnTo>
                  <a:pt x="1" y="74"/>
                </a:lnTo>
                <a:lnTo>
                  <a:pt x="0" y="83"/>
                </a:lnTo>
                <a:lnTo>
                  <a:pt x="0" y="93"/>
                </a:lnTo>
                <a:lnTo>
                  <a:pt x="0" y="467"/>
                </a:lnTo>
                <a:lnTo>
                  <a:pt x="0" y="477"/>
                </a:lnTo>
                <a:lnTo>
                  <a:pt x="1" y="485"/>
                </a:lnTo>
                <a:lnTo>
                  <a:pt x="4" y="495"/>
                </a:lnTo>
                <a:lnTo>
                  <a:pt x="7" y="504"/>
                </a:lnTo>
                <a:lnTo>
                  <a:pt x="11" y="512"/>
                </a:lnTo>
                <a:lnTo>
                  <a:pt x="15" y="519"/>
                </a:lnTo>
                <a:lnTo>
                  <a:pt x="21" y="526"/>
                </a:lnTo>
                <a:lnTo>
                  <a:pt x="27" y="533"/>
                </a:lnTo>
                <a:lnTo>
                  <a:pt x="34" y="539"/>
                </a:lnTo>
                <a:lnTo>
                  <a:pt x="41" y="544"/>
                </a:lnTo>
                <a:lnTo>
                  <a:pt x="49" y="548"/>
                </a:lnTo>
                <a:lnTo>
                  <a:pt x="58" y="553"/>
                </a:lnTo>
                <a:lnTo>
                  <a:pt x="66" y="557"/>
                </a:lnTo>
                <a:lnTo>
                  <a:pt x="74" y="558"/>
                </a:lnTo>
                <a:lnTo>
                  <a:pt x="84" y="560"/>
                </a:lnTo>
                <a:lnTo>
                  <a:pt x="94" y="561"/>
                </a:lnTo>
                <a:lnTo>
                  <a:pt x="3833" y="561"/>
                </a:lnTo>
                <a:lnTo>
                  <a:pt x="3843" y="560"/>
                </a:lnTo>
                <a:lnTo>
                  <a:pt x="3853" y="558"/>
                </a:lnTo>
                <a:lnTo>
                  <a:pt x="3861" y="557"/>
                </a:lnTo>
                <a:lnTo>
                  <a:pt x="3870" y="553"/>
                </a:lnTo>
                <a:lnTo>
                  <a:pt x="3878" y="548"/>
                </a:lnTo>
                <a:lnTo>
                  <a:pt x="3885" y="544"/>
                </a:lnTo>
                <a:lnTo>
                  <a:pt x="3894" y="539"/>
                </a:lnTo>
                <a:lnTo>
                  <a:pt x="3899" y="533"/>
                </a:lnTo>
                <a:lnTo>
                  <a:pt x="3906" y="526"/>
                </a:lnTo>
                <a:lnTo>
                  <a:pt x="3910" y="519"/>
                </a:lnTo>
                <a:lnTo>
                  <a:pt x="3916" y="512"/>
                </a:lnTo>
                <a:lnTo>
                  <a:pt x="3920" y="504"/>
                </a:lnTo>
                <a:lnTo>
                  <a:pt x="3923" y="495"/>
                </a:lnTo>
                <a:lnTo>
                  <a:pt x="3924" y="485"/>
                </a:lnTo>
                <a:lnTo>
                  <a:pt x="3926" y="477"/>
                </a:lnTo>
                <a:lnTo>
                  <a:pt x="3927" y="467"/>
                </a:lnTo>
                <a:lnTo>
                  <a:pt x="3927" y="93"/>
                </a:lnTo>
                <a:lnTo>
                  <a:pt x="3926" y="83"/>
                </a:lnTo>
                <a:lnTo>
                  <a:pt x="3924" y="74"/>
                </a:lnTo>
                <a:lnTo>
                  <a:pt x="3923" y="65"/>
                </a:lnTo>
                <a:lnTo>
                  <a:pt x="3920" y="56"/>
                </a:lnTo>
                <a:lnTo>
                  <a:pt x="3916" y="49"/>
                </a:lnTo>
                <a:lnTo>
                  <a:pt x="3910" y="41"/>
                </a:lnTo>
                <a:lnTo>
                  <a:pt x="3906" y="34"/>
                </a:lnTo>
                <a:lnTo>
                  <a:pt x="3899" y="27"/>
                </a:lnTo>
                <a:lnTo>
                  <a:pt x="3894" y="21"/>
                </a:lnTo>
                <a:lnTo>
                  <a:pt x="3885" y="16"/>
                </a:lnTo>
                <a:lnTo>
                  <a:pt x="3878" y="11"/>
                </a:lnTo>
                <a:lnTo>
                  <a:pt x="3870" y="7"/>
                </a:lnTo>
                <a:lnTo>
                  <a:pt x="3861" y="4"/>
                </a:lnTo>
                <a:lnTo>
                  <a:pt x="3853" y="2"/>
                </a:lnTo>
                <a:lnTo>
                  <a:pt x="3843" y="0"/>
                </a:lnTo>
                <a:lnTo>
                  <a:pt x="3833" y="0"/>
                </a:lnTo>
                <a:lnTo>
                  <a:pt x="94" y="0"/>
                </a:lnTo>
              </a:path>
            </a:pathLst>
          </a:custGeom>
          <a:noFill/>
          <a:ln w="5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0"/>
          <p:cNvSpPr/>
          <p:nvPr/>
        </p:nvSpPr>
        <p:spPr>
          <a:xfrm>
            <a:off x="6591600" y="3467160"/>
            <a:ext cx="619920" cy="18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3333ff"/>
                </a:solidFill>
                <a:latin typeface="Arial"/>
              </a:rPr>
              <a:t>Prim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61"/>
          <p:cNvSpPr/>
          <p:nvPr/>
        </p:nvSpPr>
        <p:spPr>
          <a:xfrm>
            <a:off x="5003640" y="5041800"/>
            <a:ext cx="3909600" cy="780840"/>
          </a:xfrm>
          <a:custGeom>
            <a:avLst/>
            <a:gdLst>
              <a:gd name="textAreaLeft" fmla="*/ 0 w 3909600"/>
              <a:gd name="textAreaRight" fmla="*/ 3909960 w 3909600"/>
              <a:gd name="textAreaTop" fmla="*/ 0 h 780840"/>
              <a:gd name="textAreaBottom" fmla="*/ 781200 h 780840"/>
            </a:gdLst>
            <a:ahLst/>
            <a:rect l="textAreaLeft" t="textAreaTop" r="textAreaRight" b="textAreaBottom"/>
            <a:pathLst>
              <a:path w="3927" h="1122">
                <a:moveTo>
                  <a:pt x="186" y="0"/>
                </a:moveTo>
                <a:lnTo>
                  <a:pt x="176" y="0"/>
                </a:lnTo>
                <a:lnTo>
                  <a:pt x="167" y="2"/>
                </a:lnTo>
                <a:lnTo>
                  <a:pt x="158" y="3"/>
                </a:lnTo>
                <a:lnTo>
                  <a:pt x="148" y="5"/>
                </a:lnTo>
                <a:lnTo>
                  <a:pt x="140" y="6"/>
                </a:lnTo>
                <a:lnTo>
                  <a:pt x="130" y="9"/>
                </a:lnTo>
                <a:lnTo>
                  <a:pt x="122" y="12"/>
                </a:lnTo>
                <a:lnTo>
                  <a:pt x="113" y="16"/>
                </a:lnTo>
                <a:lnTo>
                  <a:pt x="105" y="19"/>
                </a:lnTo>
                <a:lnTo>
                  <a:pt x="96" y="23"/>
                </a:lnTo>
                <a:lnTo>
                  <a:pt x="89" y="28"/>
                </a:lnTo>
                <a:lnTo>
                  <a:pt x="81" y="33"/>
                </a:lnTo>
                <a:lnTo>
                  <a:pt x="67" y="44"/>
                </a:lnTo>
                <a:lnTo>
                  <a:pt x="54" y="55"/>
                </a:lnTo>
                <a:lnTo>
                  <a:pt x="42" y="69"/>
                </a:lnTo>
                <a:lnTo>
                  <a:pt x="30" y="83"/>
                </a:lnTo>
                <a:lnTo>
                  <a:pt x="26" y="92"/>
                </a:lnTo>
                <a:lnTo>
                  <a:pt x="22" y="99"/>
                </a:lnTo>
                <a:lnTo>
                  <a:pt x="18" y="107"/>
                </a:lnTo>
                <a:lnTo>
                  <a:pt x="14" y="115"/>
                </a:lnTo>
                <a:lnTo>
                  <a:pt x="11" y="124"/>
                </a:lnTo>
                <a:lnTo>
                  <a:pt x="8" y="132"/>
                </a:lnTo>
                <a:lnTo>
                  <a:pt x="5" y="141"/>
                </a:lnTo>
                <a:lnTo>
                  <a:pt x="2" y="150"/>
                </a:lnTo>
                <a:lnTo>
                  <a:pt x="1" y="159"/>
                </a:lnTo>
                <a:lnTo>
                  <a:pt x="0" y="169"/>
                </a:lnTo>
                <a:lnTo>
                  <a:pt x="0" y="178"/>
                </a:lnTo>
                <a:lnTo>
                  <a:pt x="0" y="188"/>
                </a:lnTo>
                <a:lnTo>
                  <a:pt x="0" y="936"/>
                </a:lnTo>
                <a:lnTo>
                  <a:pt x="0" y="945"/>
                </a:lnTo>
                <a:lnTo>
                  <a:pt x="0" y="955"/>
                </a:lnTo>
                <a:lnTo>
                  <a:pt x="1" y="964"/>
                </a:lnTo>
                <a:lnTo>
                  <a:pt x="2" y="974"/>
                </a:lnTo>
                <a:lnTo>
                  <a:pt x="5" y="982"/>
                </a:lnTo>
                <a:lnTo>
                  <a:pt x="8" y="992"/>
                </a:lnTo>
                <a:lnTo>
                  <a:pt x="11" y="1000"/>
                </a:lnTo>
                <a:lnTo>
                  <a:pt x="14" y="1009"/>
                </a:lnTo>
                <a:lnTo>
                  <a:pt x="18" y="1017"/>
                </a:lnTo>
                <a:lnTo>
                  <a:pt x="22" y="1025"/>
                </a:lnTo>
                <a:lnTo>
                  <a:pt x="26" y="1032"/>
                </a:lnTo>
                <a:lnTo>
                  <a:pt x="30" y="1041"/>
                </a:lnTo>
                <a:lnTo>
                  <a:pt x="42" y="1055"/>
                </a:lnTo>
                <a:lnTo>
                  <a:pt x="54" y="1067"/>
                </a:lnTo>
                <a:lnTo>
                  <a:pt x="67" y="1080"/>
                </a:lnTo>
                <a:lnTo>
                  <a:pt x="81" y="1091"/>
                </a:lnTo>
                <a:lnTo>
                  <a:pt x="89" y="1095"/>
                </a:lnTo>
                <a:lnTo>
                  <a:pt x="96" y="1100"/>
                </a:lnTo>
                <a:lnTo>
                  <a:pt x="105" y="1104"/>
                </a:lnTo>
                <a:lnTo>
                  <a:pt x="113" y="1108"/>
                </a:lnTo>
                <a:lnTo>
                  <a:pt x="122" y="1111"/>
                </a:lnTo>
                <a:lnTo>
                  <a:pt x="130" y="1114"/>
                </a:lnTo>
                <a:lnTo>
                  <a:pt x="140" y="1117"/>
                </a:lnTo>
                <a:lnTo>
                  <a:pt x="148" y="1119"/>
                </a:lnTo>
                <a:lnTo>
                  <a:pt x="158" y="1121"/>
                </a:lnTo>
                <a:lnTo>
                  <a:pt x="167" y="1122"/>
                </a:lnTo>
                <a:lnTo>
                  <a:pt x="176" y="1122"/>
                </a:lnTo>
                <a:lnTo>
                  <a:pt x="186" y="1122"/>
                </a:lnTo>
                <a:lnTo>
                  <a:pt x="3739" y="1122"/>
                </a:lnTo>
                <a:lnTo>
                  <a:pt x="3749" y="1122"/>
                </a:lnTo>
                <a:lnTo>
                  <a:pt x="3759" y="1122"/>
                </a:lnTo>
                <a:lnTo>
                  <a:pt x="3768" y="1121"/>
                </a:lnTo>
                <a:lnTo>
                  <a:pt x="3777" y="1119"/>
                </a:lnTo>
                <a:lnTo>
                  <a:pt x="3787" y="1117"/>
                </a:lnTo>
                <a:lnTo>
                  <a:pt x="3795" y="1114"/>
                </a:lnTo>
                <a:lnTo>
                  <a:pt x="3803" y="1111"/>
                </a:lnTo>
                <a:lnTo>
                  <a:pt x="3812" y="1108"/>
                </a:lnTo>
                <a:lnTo>
                  <a:pt x="3820" y="1104"/>
                </a:lnTo>
                <a:lnTo>
                  <a:pt x="3829" y="1100"/>
                </a:lnTo>
                <a:lnTo>
                  <a:pt x="3836" y="1095"/>
                </a:lnTo>
                <a:lnTo>
                  <a:pt x="3844" y="1091"/>
                </a:lnTo>
                <a:lnTo>
                  <a:pt x="3858" y="1080"/>
                </a:lnTo>
                <a:lnTo>
                  <a:pt x="3872" y="1067"/>
                </a:lnTo>
                <a:lnTo>
                  <a:pt x="3883" y="1055"/>
                </a:lnTo>
                <a:lnTo>
                  <a:pt x="3895" y="1041"/>
                </a:lnTo>
                <a:lnTo>
                  <a:pt x="3899" y="1032"/>
                </a:lnTo>
                <a:lnTo>
                  <a:pt x="3903" y="1025"/>
                </a:lnTo>
                <a:lnTo>
                  <a:pt x="3907" y="1017"/>
                </a:lnTo>
                <a:lnTo>
                  <a:pt x="3911" y="1009"/>
                </a:lnTo>
                <a:lnTo>
                  <a:pt x="3914" y="1000"/>
                </a:lnTo>
                <a:lnTo>
                  <a:pt x="3918" y="992"/>
                </a:lnTo>
                <a:lnTo>
                  <a:pt x="3920" y="982"/>
                </a:lnTo>
                <a:lnTo>
                  <a:pt x="3923" y="974"/>
                </a:lnTo>
                <a:lnTo>
                  <a:pt x="3924" y="964"/>
                </a:lnTo>
                <a:lnTo>
                  <a:pt x="3925" y="955"/>
                </a:lnTo>
                <a:lnTo>
                  <a:pt x="3925" y="945"/>
                </a:lnTo>
                <a:lnTo>
                  <a:pt x="3927" y="936"/>
                </a:lnTo>
                <a:lnTo>
                  <a:pt x="3927" y="188"/>
                </a:lnTo>
                <a:lnTo>
                  <a:pt x="3925" y="178"/>
                </a:lnTo>
                <a:lnTo>
                  <a:pt x="3925" y="169"/>
                </a:lnTo>
                <a:lnTo>
                  <a:pt x="3924" y="159"/>
                </a:lnTo>
                <a:lnTo>
                  <a:pt x="3923" y="150"/>
                </a:lnTo>
                <a:lnTo>
                  <a:pt x="3920" y="141"/>
                </a:lnTo>
                <a:lnTo>
                  <a:pt x="3918" y="132"/>
                </a:lnTo>
                <a:lnTo>
                  <a:pt x="3914" y="124"/>
                </a:lnTo>
                <a:lnTo>
                  <a:pt x="3911" y="115"/>
                </a:lnTo>
                <a:lnTo>
                  <a:pt x="3907" y="107"/>
                </a:lnTo>
                <a:lnTo>
                  <a:pt x="3903" y="99"/>
                </a:lnTo>
                <a:lnTo>
                  <a:pt x="3899" y="92"/>
                </a:lnTo>
                <a:lnTo>
                  <a:pt x="3895" y="83"/>
                </a:lnTo>
                <a:lnTo>
                  <a:pt x="3883" y="69"/>
                </a:lnTo>
                <a:lnTo>
                  <a:pt x="3872" y="55"/>
                </a:lnTo>
                <a:lnTo>
                  <a:pt x="3858" y="44"/>
                </a:lnTo>
                <a:lnTo>
                  <a:pt x="3844" y="33"/>
                </a:lnTo>
                <a:lnTo>
                  <a:pt x="3836" y="28"/>
                </a:lnTo>
                <a:lnTo>
                  <a:pt x="3829" y="23"/>
                </a:lnTo>
                <a:lnTo>
                  <a:pt x="3820" y="19"/>
                </a:lnTo>
                <a:lnTo>
                  <a:pt x="3812" y="16"/>
                </a:lnTo>
                <a:lnTo>
                  <a:pt x="3803" y="12"/>
                </a:lnTo>
                <a:lnTo>
                  <a:pt x="3795" y="9"/>
                </a:lnTo>
                <a:lnTo>
                  <a:pt x="3787" y="6"/>
                </a:lnTo>
                <a:lnTo>
                  <a:pt x="3777" y="5"/>
                </a:lnTo>
                <a:lnTo>
                  <a:pt x="3768" y="3"/>
                </a:lnTo>
                <a:lnTo>
                  <a:pt x="3759" y="2"/>
                </a:lnTo>
                <a:lnTo>
                  <a:pt x="3749" y="0"/>
                </a:lnTo>
                <a:lnTo>
                  <a:pt x="3739" y="0"/>
                </a:lnTo>
                <a:lnTo>
                  <a:pt x="186" y="0"/>
                </a:lnTo>
              </a:path>
            </a:pathLst>
          </a:custGeom>
          <a:noFill/>
          <a:ln w="5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62"/>
          <p:cNvSpPr/>
          <p:nvPr/>
        </p:nvSpPr>
        <p:spPr>
          <a:xfrm>
            <a:off x="6288480" y="4713120"/>
            <a:ext cx="1384920" cy="18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ao Paulo -  Bras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63"/>
          <p:cNvSpPr/>
          <p:nvPr/>
        </p:nvSpPr>
        <p:spPr>
          <a:xfrm>
            <a:off x="6275520" y="3637080"/>
            <a:ext cx="1333080" cy="18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Magallanes -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64"/>
          <p:cNvSpPr/>
          <p:nvPr/>
        </p:nvSpPr>
        <p:spPr>
          <a:xfrm>
            <a:off x="5003640" y="4265640"/>
            <a:ext cx="3909600" cy="707760"/>
          </a:xfrm>
          <a:custGeom>
            <a:avLst/>
            <a:gdLst>
              <a:gd name="textAreaLeft" fmla="*/ 0 w 3909600"/>
              <a:gd name="textAreaRight" fmla="*/ 3909960 w 3909600"/>
              <a:gd name="textAreaTop" fmla="*/ 0 h 707760"/>
              <a:gd name="textAreaBottom" fmla="*/ 708120 h 707760"/>
            </a:gdLst>
            <a:ahLst/>
            <a:rect l="textAreaLeft" t="textAreaTop" r="textAreaRight" b="textAreaBottom"/>
            <a:pathLst>
              <a:path w="3927" h="561">
                <a:moveTo>
                  <a:pt x="92" y="0"/>
                </a:moveTo>
                <a:lnTo>
                  <a:pt x="82" y="0"/>
                </a:lnTo>
                <a:lnTo>
                  <a:pt x="74" y="2"/>
                </a:lnTo>
                <a:lnTo>
                  <a:pt x="64" y="4"/>
                </a:lnTo>
                <a:lnTo>
                  <a:pt x="56" y="7"/>
                </a:lnTo>
                <a:lnTo>
                  <a:pt x="49" y="11"/>
                </a:lnTo>
                <a:lnTo>
                  <a:pt x="40" y="16"/>
                </a:lnTo>
                <a:lnTo>
                  <a:pt x="33" y="21"/>
                </a:lnTo>
                <a:lnTo>
                  <a:pt x="26" y="27"/>
                </a:lnTo>
                <a:lnTo>
                  <a:pt x="21" y="34"/>
                </a:lnTo>
                <a:lnTo>
                  <a:pt x="15" y="41"/>
                </a:lnTo>
                <a:lnTo>
                  <a:pt x="11" y="49"/>
                </a:lnTo>
                <a:lnTo>
                  <a:pt x="7" y="56"/>
                </a:lnTo>
                <a:lnTo>
                  <a:pt x="4" y="65"/>
                </a:lnTo>
                <a:lnTo>
                  <a:pt x="1" y="74"/>
                </a:lnTo>
                <a:lnTo>
                  <a:pt x="0" y="83"/>
                </a:lnTo>
                <a:lnTo>
                  <a:pt x="0" y="93"/>
                </a:lnTo>
                <a:lnTo>
                  <a:pt x="0" y="467"/>
                </a:lnTo>
                <a:lnTo>
                  <a:pt x="0" y="477"/>
                </a:lnTo>
                <a:lnTo>
                  <a:pt x="1" y="485"/>
                </a:lnTo>
                <a:lnTo>
                  <a:pt x="4" y="495"/>
                </a:lnTo>
                <a:lnTo>
                  <a:pt x="7" y="504"/>
                </a:lnTo>
                <a:lnTo>
                  <a:pt x="11" y="512"/>
                </a:lnTo>
                <a:lnTo>
                  <a:pt x="15" y="519"/>
                </a:lnTo>
                <a:lnTo>
                  <a:pt x="21" y="526"/>
                </a:lnTo>
                <a:lnTo>
                  <a:pt x="26" y="533"/>
                </a:lnTo>
                <a:lnTo>
                  <a:pt x="33" y="539"/>
                </a:lnTo>
                <a:lnTo>
                  <a:pt x="40" y="544"/>
                </a:lnTo>
                <a:lnTo>
                  <a:pt x="49" y="548"/>
                </a:lnTo>
                <a:lnTo>
                  <a:pt x="56" y="553"/>
                </a:lnTo>
                <a:lnTo>
                  <a:pt x="64" y="557"/>
                </a:lnTo>
                <a:lnTo>
                  <a:pt x="74" y="558"/>
                </a:lnTo>
                <a:lnTo>
                  <a:pt x="82" y="560"/>
                </a:lnTo>
                <a:lnTo>
                  <a:pt x="92" y="561"/>
                </a:lnTo>
                <a:lnTo>
                  <a:pt x="3833" y="561"/>
                </a:lnTo>
                <a:lnTo>
                  <a:pt x="3843" y="560"/>
                </a:lnTo>
                <a:lnTo>
                  <a:pt x="3851" y="558"/>
                </a:lnTo>
                <a:lnTo>
                  <a:pt x="3861" y="557"/>
                </a:lnTo>
                <a:lnTo>
                  <a:pt x="3869" y="553"/>
                </a:lnTo>
                <a:lnTo>
                  <a:pt x="3878" y="548"/>
                </a:lnTo>
                <a:lnTo>
                  <a:pt x="3885" y="544"/>
                </a:lnTo>
                <a:lnTo>
                  <a:pt x="3892" y="539"/>
                </a:lnTo>
                <a:lnTo>
                  <a:pt x="3899" y="533"/>
                </a:lnTo>
                <a:lnTo>
                  <a:pt x="3904" y="526"/>
                </a:lnTo>
                <a:lnTo>
                  <a:pt x="3910" y="519"/>
                </a:lnTo>
                <a:lnTo>
                  <a:pt x="3914" y="512"/>
                </a:lnTo>
                <a:lnTo>
                  <a:pt x="3918" y="504"/>
                </a:lnTo>
                <a:lnTo>
                  <a:pt x="3923" y="495"/>
                </a:lnTo>
                <a:lnTo>
                  <a:pt x="3924" y="485"/>
                </a:lnTo>
                <a:lnTo>
                  <a:pt x="3925" y="477"/>
                </a:lnTo>
                <a:lnTo>
                  <a:pt x="3927" y="467"/>
                </a:lnTo>
                <a:lnTo>
                  <a:pt x="3927" y="93"/>
                </a:lnTo>
                <a:lnTo>
                  <a:pt x="3925" y="83"/>
                </a:lnTo>
                <a:lnTo>
                  <a:pt x="3924" y="74"/>
                </a:lnTo>
                <a:lnTo>
                  <a:pt x="3923" y="65"/>
                </a:lnTo>
                <a:lnTo>
                  <a:pt x="3918" y="56"/>
                </a:lnTo>
                <a:lnTo>
                  <a:pt x="3914" y="49"/>
                </a:lnTo>
                <a:lnTo>
                  <a:pt x="3910" y="41"/>
                </a:lnTo>
                <a:lnTo>
                  <a:pt x="3904" y="34"/>
                </a:lnTo>
                <a:lnTo>
                  <a:pt x="3899" y="27"/>
                </a:lnTo>
                <a:lnTo>
                  <a:pt x="3892" y="21"/>
                </a:lnTo>
                <a:lnTo>
                  <a:pt x="3885" y="16"/>
                </a:lnTo>
                <a:lnTo>
                  <a:pt x="3878" y="11"/>
                </a:lnTo>
                <a:lnTo>
                  <a:pt x="3869" y="7"/>
                </a:lnTo>
                <a:lnTo>
                  <a:pt x="3861" y="4"/>
                </a:lnTo>
                <a:lnTo>
                  <a:pt x="3851" y="2"/>
                </a:lnTo>
                <a:lnTo>
                  <a:pt x="3843" y="0"/>
                </a:lnTo>
                <a:lnTo>
                  <a:pt x="3833" y="0"/>
                </a:lnTo>
                <a:lnTo>
                  <a:pt x="92" y="0"/>
                </a:lnTo>
              </a:path>
            </a:pathLst>
          </a:custGeom>
          <a:noFill/>
          <a:ln w="5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65"/>
          <p:cNvSpPr/>
          <p:nvPr/>
        </p:nvSpPr>
        <p:spPr>
          <a:xfrm>
            <a:off x="6433560" y="4281480"/>
            <a:ext cx="831600" cy="18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3333ff"/>
                </a:solidFill>
                <a:latin typeface="Arial"/>
              </a:rPr>
              <a:t>Secund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66"/>
          <p:cNvSpPr/>
          <p:nvPr/>
        </p:nvSpPr>
        <p:spPr>
          <a:xfrm>
            <a:off x="6289560" y="4497480"/>
            <a:ext cx="1512360" cy="18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an Luis - Argenti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67"/>
          <p:cNvSpPr/>
          <p:nvPr/>
        </p:nvSpPr>
        <p:spPr>
          <a:xfrm>
            <a:off x="6146640" y="5649840"/>
            <a:ext cx="1653840" cy="18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Quintana Roo - Méx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68"/>
          <p:cNvSpPr/>
          <p:nvPr/>
        </p:nvSpPr>
        <p:spPr>
          <a:xfrm>
            <a:off x="6360480" y="6010200"/>
            <a:ext cx="959760" cy="18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3333ff"/>
                </a:solidFill>
                <a:latin typeface="Arial"/>
              </a:rPr>
              <a:t>Diversific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69"/>
          <p:cNvSpPr/>
          <p:nvPr/>
        </p:nvSpPr>
        <p:spPr>
          <a:xfrm>
            <a:off x="6091200" y="6281640"/>
            <a:ext cx="1945800" cy="182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Valle del Cauca - Colom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70"/>
          <p:cNvSpPr/>
          <p:nvPr/>
        </p:nvSpPr>
        <p:spPr>
          <a:xfrm>
            <a:off x="5046840" y="5967360"/>
            <a:ext cx="3908160" cy="558360"/>
          </a:xfrm>
          <a:custGeom>
            <a:avLst/>
            <a:gdLst>
              <a:gd name="textAreaLeft" fmla="*/ 0 w 3908160"/>
              <a:gd name="textAreaRight" fmla="*/ 3908520 w 3908160"/>
              <a:gd name="textAreaTop" fmla="*/ 0 h 558360"/>
              <a:gd name="textAreaBottom" fmla="*/ 558720 h 558360"/>
            </a:gdLst>
            <a:ahLst/>
            <a:rect l="textAreaLeft" t="textAreaTop" r="textAreaRight" b="textAreaBottom"/>
            <a:pathLst>
              <a:path w="3927" h="561">
                <a:moveTo>
                  <a:pt x="94" y="0"/>
                </a:moveTo>
                <a:lnTo>
                  <a:pt x="84" y="0"/>
                </a:lnTo>
                <a:lnTo>
                  <a:pt x="74" y="2"/>
                </a:lnTo>
                <a:lnTo>
                  <a:pt x="66" y="4"/>
                </a:lnTo>
                <a:lnTo>
                  <a:pt x="58" y="7"/>
                </a:lnTo>
                <a:lnTo>
                  <a:pt x="49" y="11"/>
                </a:lnTo>
                <a:lnTo>
                  <a:pt x="41" y="16"/>
                </a:lnTo>
                <a:lnTo>
                  <a:pt x="34" y="21"/>
                </a:lnTo>
                <a:lnTo>
                  <a:pt x="27" y="27"/>
                </a:lnTo>
                <a:lnTo>
                  <a:pt x="21" y="34"/>
                </a:lnTo>
                <a:lnTo>
                  <a:pt x="15" y="41"/>
                </a:lnTo>
                <a:lnTo>
                  <a:pt x="11" y="49"/>
                </a:lnTo>
                <a:lnTo>
                  <a:pt x="7" y="56"/>
                </a:lnTo>
                <a:lnTo>
                  <a:pt x="4" y="65"/>
                </a:lnTo>
                <a:lnTo>
                  <a:pt x="1" y="74"/>
                </a:lnTo>
                <a:lnTo>
                  <a:pt x="0" y="83"/>
                </a:lnTo>
                <a:lnTo>
                  <a:pt x="0" y="93"/>
                </a:lnTo>
                <a:lnTo>
                  <a:pt x="0" y="467"/>
                </a:lnTo>
                <a:lnTo>
                  <a:pt x="0" y="477"/>
                </a:lnTo>
                <a:lnTo>
                  <a:pt x="1" y="485"/>
                </a:lnTo>
                <a:lnTo>
                  <a:pt x="4" y="495"/>
                </a:lnTo>
                <a:lnTo>
                  <a:pt x="7" y="504"/>
                </a:lnTo>
                <a:lnTo>
                  <a:pt x="11" y="512"/>
                </a:lnTo>
                <a:lnTo>
                  <a:pt x="15" y="519"/>
                </a:lnTo>
                <a:lnTo>
                  <a:pt x="21" y="526"/>
                </a:lnTo>
                <a:lnTo>
                  <a:pt x="27" y="533"/>
                </a:lnTo>
                <a:lnTo>
                  <a:pt x="34" y="539"/>
                </a:lnTo>
                <a:lnTo>
                  <a:pt x="41" y="544"/>
                </a:lnTo>
                <a:lnTo>
                  <a:pt x="49" y="548"/>
                </a:lnTo>
                <a:lnTo>
                  <a:pt x="58" y="553"/>
                </a:lnTo>
                <a:lnTo>
                  <a:pt x="66" y="557"/>
                </a:lnTo>
                <a:lnTo>
                  <a:pt x="74" y="558"/>
                </a:lnTo>
                <a:lnTo>
                  <a:pt x="84" y="560"/>
                </a:lnTo>
                <a:lnTo>
                  <a:pt x="94" y="561"/>
                </a:lnTo>
                <a:lnTo>
                  <a:pt x="3833" y="561"/>
                </a:lnTo>
                <a:lnTo>
                  <a:pt x="3843" y="560"/>
                </a:lnTo>
                <a:lnTo>
                  <a:pt x="3853" y="558"/>
                </a:lnTo>
                <a:lnTo>
                  <a:pt x="3861" y="557"/>
                </a:lnTo>
                <a:lnTo>
                  <a:pt x="3870" y="553"/>
                </a:lnTo>
                <a:lnTo>
                  <a:pt x="3878" y="548"/>
                </a:lnTo>
                <a:lnTo>
                  <a:pt x="3885" y="544"/>
                </a:lnTo>
                <a:lnTo>
                  <a:pt x="3894" y="539"/>
                </a:lnTo>
                <a:lnTo>
                  <a:pt x="3899" y="533"/>
                </a:lnTo>
                <a:lnTo>
                  <a:pt x="3906" y="526"/>
                </a:lnTo>
                <a:lnTo>
                  <a:pt x="3910" y="519"/>
                </a:lnTo>
                <a:lnTo>
                  <a:pt x="3916" y="512"/>
                </a:lnTo>
                <a:lnTo>
                  <a:pt x="3920" y="504"/>
                </a:lnTo>
                <a:lnTo>
                  <a:pt x="3923" y="495"/>
                </a:lnTo>
                <a:lnTo>
                  <a:pt x="3924" y="485"/>
                </a:lnTo>
                <a:lnTo>
                  <a:pt x="3926" y="477"/>
                </a:lnTo>
                <a:lnTo>
                  <a:pt x="3927" y="467"/>
                </a:lnTo>
                <a:lnTo>
                  <a:pt x="3927" y="93"/>
                </a:lnTo>
                <a:lnTo>
                  <a:pt x="3926" y="83"/>
                </a:lnTo>
                <a:lnTo>
                  <a:pt x="3924" y="74"/>
                </a:lnTo>
                <a:lnTo>
                  <a:pt x="3923" y="65"/>
                </a:lnTo>
                <a:lnTo>
                  <a:pt x="3920" y="56"/>
                </a:lnTo>
                <a:lnTo>
                  <a:pt x="3916" y="49"/>
                </a:lnTo>
                <a:lnTo>
                  <a:pt x="3910" y="41"/>
                </a:lnTo>
                <a:lnTo>
                  <a:pt x="3906" y="34"/>
                </a:lnTo>
                <a:lnTo>
                  <a:pt x="3899" y="27"/>
                </a:lnTo>
                <a:lnTo>
                  <a:pt x="3894" y="21"/>
                </a:lnTo>
                <a:lnTo>
                  <a:pt x="3885" y="16"/>
                </a:lnTo>
                <a:lnTo>
                  <a:pt x="3878" y="11"/>
                </a:lnTo>
                <a:lnTo>
                  <a:pt x="3870" y="7"/>
                </a:lnTo>
                <a:lnTo>
                  <a:pt x="3861" y="4"/>
                </a:lnTo>
                <a:lnTo>
                  <a:pt x="3853" y="2"/>
                </a:lnTo>
                <a:lnTo>
                  <a:pt x="3843" y="0"/>
                </a:lnTo>
                <a:lnTo>
                  <a:pt x="3833" y="0"/>
                </a:lnTo>
                <a:lnTo>
                  <a:pt x="94" y="0"/>
                </a:lnTo>
              </a:path>
            </a:pathLst>
          </a:custGeom>
          <a:noFill/>
          <a:ln w="5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70"/>
          <p:cNvSpPr/>
          <p:nvPr/>
        </p:nvSpPr>
        <p:spPr>
          <a:xfrm>
            <a:off x="179280" y="1989000"/>
            <a:ext cx="288720" cy="3107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RE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71"/>
          <p:cNvSpPr/>
          <p:nvPr/>
        </p:nvSpPr>
        <p:spPr>
          <a:xfrm>
            <a:off x="4289400" y="6381720"/>
            <a:ext cx="790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IB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3"/>
          <p:cNvSpPr/>
          <p:nvPr/>
        </p:nvSpPr>
        <p:spPr>
          <a:xfrm>
            <a:off x="0" y="3068640"/>
            <a:ext cx="8853120" cy="2160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143000" indent="-231840">
              <a:lnSpc>
                <a:spcPct val="140000"/>
              </a:lnSpc>
              <a:tabLst>
                <a:tab algn="l" pos="0"/>
              </a:tabLst>
            </a:pPr>
            <a:endParaRPr b="0" lang="es-ES" sz="2000" spc="-1" strike="noStrike">
              <a:solidFill>
                <a:srgbClr val="000099"/>
              </a:solidFill>
              <a:latin typeface="Lucida Fax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c00000"/>
                </a:solidFill>
                <a:latin typeface="Arial"/>
              </a:rPr>
              <a:t>Territorios ricos y ganadores</a:t>
            </a: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conomías primario exportadoras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neros,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co generadoras de difusión y arrastre (intra o inter) regional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60"/>
              </a:spcBef>
              <a:buNone/>
            </a:pP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han estado asociados con la industria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-industrialización de zonas tradicionales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Zonas de industrialización globalizada (Maquila plus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industria y la agricultura pueden ser ganadoras o perdedoras 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</a:pP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ENTROS ECONÓMICOS MAYORES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utodependientes del medio urbano y aglomerado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 todos gan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de la misma forma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ínculos de servicios. Encadenamientos con sectores líderes (minería) 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fusión y arrastre excluyente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9"/>
          <p:cNvSpPr/>
          <p:nvPr/>
        </p:nvSpPr>
        <p:spPr>
          <a:xfrm>
            <a:off x="755640" y="1218960"/>
            <a:ext cx="7619760" cy="360"/>
          </a:xfrm>
          <a:prstGeom prst="line">
            <a:avLst/>
          </a:prstGeom>
          <a:ln w="571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3"/>
          <p:cNvSpPr/>
          <p:nvPr/>
        </p:nvSpPr>
        <p:spPr>
          <a:xfrm>
            <a:off x="0" y="3068640"/>
            <a:ext cx="8853120" cy="2160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143000" indent="-231840">
              <a:lnSpc>
                <a:spcPct val="140000"/>
              </a:lnSpc>
              <a:tabLst>
                <a:tab algn="l" pos="0"/>
              </a:tabLst>
            </a:pPr>
            <a:endParaRPr b="0" lang="es-ES" sz="2000" spc="-1" strike="noStrike">
              <a:solidFill>
                <a:srgbClr val="000099"/>
              </a:solidFill>
              <a:latin typeface="Lucida Fax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c00000"/>
                </a:solidFill>
                <a:latin typeface="Arial"/>
              </a:rPr>
              <a:t>Territorios convergentes</a:t>
            </a:r>
            <a:br>
              <a:rPr sz="4400"/>
            </a:br>
            <a:r>
              <a:rPr b="0" lang="es-ES" sz="4400" spc="-1" strike="noStrike">
                <a:solidFill>
                  <a:srgbClr val="c00000"/>
                </a:solidFill>
                <a:latin typeface="Arial"/>
              </a:rPr>
              <a:t>(pobres ganadores)</a:t>
            </a: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887480"/>
            <a:ext cx="8229240" cy="3989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portadores de productos primarios</a:t>
            </a:r>
            <a:endParaRPr b="0" lang="es-CO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inería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grícolas, pesca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s-CO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nufactura y diversidad</a:t>
            </a:r>
            <a:endParaRPr b="0" lang="es-CO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s-CO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 logran sostenerse para dejar de ser pobres</a:t>
            </a:r>
            <a:endParaRPr b="0" lang="es-CO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9"/>
          <p:cNvSpPr/>
          <p:nvPr/>
        </p:nvSpPr>
        <p:spPr>
          <a:xfrm>
            <a:off x="755640" y="1628640"/>
            <a:ext cx="7619760" cy="360"/>
          </a:xfrm>
          <a:prstGeom prst="line">
            <a:avLst/>
          </a:prstGeom>
          <a:ln w="571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3"/>
          <p:cNvSpPr/>
          <p:nvPr/>
        </p:nvSpPr>
        <p:spPr>
          <a:xfrm>
            <a:off x="0" y="3068640"/>
            <a:ext cx="8853120" cy="2160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143000" indent="-231840">
              <a:lnSpc>
                <a:spcPct val="140000"/>
              </a:lnSpc>
              <a:tabLst>
                <a:tab algn="l" pos="0"/>
              </a:tabLst>
            </a:pPr>
            <a:endParaRPr b="0" lang="es-ES" sz="2000" spc="-1" strike="noStrike">
              <a:solidFill>
                <a:srgbClr val="000099"/>
              </a:solidFill>
              <a:latin typeface="Lucida Fax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c00000"/>
                </a:solidFill>
                <a:latin typeface="Arial"/>
              </a:rPr>
              <a:t>Economías y estructuras estancadas (perdedoras)</a:t>
            </a: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55640" y="192708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sociado a la agricultura</a:t>
            </a: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ero ahora también la industria</a:t>
            </a: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-industrialización de zonas tradicionales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industria y la agricultura pueden ser ganadoras o perdedoras</a:t>
            </a: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bres persistentes</a:t>
            </a: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9"/>
          <p:cNvSpPr/>
          <p:nvPr/>
        </p:nvSpPr>
        <p:spPr>
          <a:xfrm>
            <a:off x="755640" y="1628640"/>
            <a:ext cx="7619760" cy="360"/>
          </a:xfrm>
          <a:prstGeom prst="line">
            <a:avLst/>
          </a:prstGeom>
          <a:ln w="571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3"/>
          <p:cNvSpPr/>
          <p:nvPr/>
        </p:nvSpPr>
        <p:spPr>
          <a:xfrm>
            <a:off x="0" y="3068640"/>
            <a:ext cx="8853120" cy="2160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143000" indent="-231840">
              <a:lnSpc>
                <a:spcPct val="140000"/>
              </a:lnSpc>
              <a:tabLst>
                <a:tab algn="l" pos="0"/>
              </a:tabLst>
            </a:pPr>
            <a:endParaRPr b="0" lang="es-ES" sz="2000" spc="-1" strike="noStrike">
              <a:solidFill>
                <a:srgbClr val="000099"/>
              </a:solidFill>
              <a:latin typeface="Lucida Fax"/>
            </a:endParaRPr>
          </a:p>
        </p:txBody>
      </p:sp>
      <p:pic>
        <p:nvPicPr>
          <p:cNvPr id="317" name="Picture 4" descr="americaLatina8"/>
          <p:cNvPicPr/>
          <p:nvPr/>
        </p:nvPicPr>
        <p:blipFill>
          <a:blip r:embed="rId1"/>
          <a:stretch/>
        </p:blipFill>
        <p:spPr>
          <a:xfrm>
            <a:off x="2124000" y="-228600"/>
            <a:ext cx="5473440" cy="7086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3"/>
          <p:cNvSpPr/>
          <p:nvPr/>
        </p:nvSpPr>
        <p:spPr>
          <a:xfrm>
            <a:off x="0" y="3068640"/>
            <a:ext cx="8853120" cy="2160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143000" indent="-231840">
              <a:lnSpc>
                <a:spcPct val="140000"/>
              </a:lnSpc>
              <a:tabLst>
                <a:tab algn="l" pos="0"/>
              </a:tabLst>
            </a:pPr>
            <a:endParaRPr b="0" lang="es-ES" sz="2000" spc="-1" strike="noStrike">
              <a:solidFill>
                <a:srgbClr val="000099"/>
              </a:solidFill>
              <a:latin typeface="Lucida Fax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87280" y="125280"/>
            <a:ext cx="889272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c00000"/>
                </a:solidFill>
                <a:latin typeface="Arial"/>
              </a:rPr>
              <a:t>Dinámicas regionales y políticas</a:t>
            </a: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8196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Detrás de los casos ganadores y otros…</a:t>
            </a:r>
            <a:endParaRPr b="0" lang="es-CO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Ha habido políticas nacionales con impacto regional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s-CO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egiones “impactadas” </a:t>
            </a:r>
            <a:endParaRPr b="0" lang="es-CO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No propiamente políticas regionales</a:t>
            </a:r>
            <a:endParaRPr b="0" lang="es-CO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as economías locales construidas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obre rentas de recursos naturales generan ingresos y empleos, impiden que pueda diversificarse en otras industrias para construir una base económica sustentable.</a:t>
            </a:r>
            <a:endParaRPr b="0" lang="es-CO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9"/>
          <p:cNvSpPr/>
          <p:nvPr/>
        </p:nvSpPr>
        <p:spPr>
          <a:xfrm>
            <a:off x="755640" y="1218960"/>
            <a:ext cx="7619760" cy="360"/>
          </a:xfrm>
          <a:prstGeom prst="line">
            <a:avLst/>
          </a:prstGeom>
          <a:ln w="571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3"/>
          <p:cNvSpPr/>
          <p:nvPr/>
        </p:nvSpPr>
        <p:spPr>
          <a:xfrm>
            <a:off x="0" y="3068640"/>
            <a:ext cx="8853120" cy="2160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143000" indent="-231840">
              <a:lnSpc>
                <a:spcPct val="140000"/>
              </a:lnSpc>
              <a:tabLst>
                <a:tab algn="l" pos="0"/>
              </a:tabLst>
            </a:pPr>
            <a:endParaRPr b="0" lang="es-ES" sz="2000" spc="-1" strike="noStrike">
              <a:solidFill>
                <a:srgbClr val="000099"/>
              </a:solidFill>
              <a:latin typeface="Lucida Fax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c00000"/>
                </a:solidFill>
                <a:latin typeface="Arial"/>
              </a:rPr>
              <a:t>Coexistencia de políticas </a:t>
            </a:r>
            <a:br>
              <a:rPr sz="4400"/>
            </a:br>
            <a:r>
              <a:rPr b="0" lang="es-ES" sz="4400" spc="-1" strike="noStrike">
                <a:solidFill>
                  <a:srgbClr val="c00000"/>
                </a:solidFill>
                <a:latin typeface="Arial"/>
              </a:rPr>
              <a:t>familia de políticas</a:t>
            </a: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240" cy="4824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s-CO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sarrollo regional – Políticas regionales: “desde arriba”</a:t>
            </a:r>
            <a:endParaRPr b="0" lang="es-CO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sarrollo local: promoción “desde abajo”</a:t>
            </a:r>
            <a:endParaRPr b="0" lang="es-CO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utonomías políticas ~ descentralización</a:t>
            </a:r>
            <a:endParaRPr b="0" lang="es-CO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stenibilidad ambiental y planificación territorial: ordenamiento territorial</a:t>
            </a:r>
            <a:endParaRPr b="0" lang="es-CO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ogramas sectoriales</a:t>
            </a:r>
            <a:endParaRPr b="0" lang="es-CO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líticas de fomento productivo localizadas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ogramas transversales (pobreza)</a:t>
            </a:r>
            <a:endParaRPr b="0" lang="es-CO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s-CO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>
            <a:off x="755640" y="1412640"/>
            <a:ext cx="7619760" cy="360"/>
          </a:xfrm>
          <a:prstGeom prst="line">
            <a:avLst/>
          </a:prstGeom>
          <a:ln w="571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CO" sz="4400" spc="-1" strike="noStrike">
                <a:solidFill>
                  <a:srgbClr val="c00000"/>
                </a:solidFill>
                <a:latin typeface="Arial"/>
              </a:rPr>
              <a:t>La Competitividad</a:t>
            </a: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e asocia con el desempeño económico e institucional</a:t>
            </a:r>
            <a:endParaRPr b="0" lang="es-CO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</a:pPr>
            <a:endParaRPr b="0" lang="es-CO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ogros y capacidades</a:t>
            </a:r>
            <a:endParaRPr b="0" lang="es-CO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</a:pPr>
            <a:endParaRPr b="0" lang="es-CO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Representa y evalúa múltiples dimensiones</a:t>
            </a:r>
            <a:endParaRPr b="0" lang="es-CO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s-CO" sz="3000" spc="-1" strike="noStrike">
                <a:solidFill>
                  <a:srgbClr val="000000"/>
                </a:solidFill>
                <a:latin typeface="Arial"/>
              </a:rPr>
              <a:t>Visión integral del desarrollo</a:t>
            </a:r>
            <a:endParaRPr b="0" lang="es-CO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s-CO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fld id="{14B3185D-8943-4C9A-8E5C-972CECD4B3EA}" type="slidenum">
              <a:rPr b="0" lang="en-US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9"/>
          <p:cNvSpPr/>
          <p:nvPr/>
        </p:nvSpPr>
        <p:spPr>
          <a:xfrm>
            <a:off x="755640" y="1218960"/>
            <a:ext cx="7619760" cy="360"/>
          </a:xfrm>
          <a:prstGeom prst="line">
            <a:avLst/>
          </a:prstGeom>
          <a:ln w="571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24000" y="-27000"/>
            <a:ext cx="84960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_tradnl" sz="3200" spc="-1" strike="noStrike">
                <a:solidFill>
                  <a:srgbClr val="c00000"/>
                </a:solidFill>
                <a:latin typeface="Arial"/>
              </a:rPr>
              <a:t>Escalafón Global de Competitividad Departamental 2009</a:t>
            </a: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3"/>
          <p:cNvSpPr/>
          <p:nvPr/>
        </p:nvSpPr>
        <p:spPr>
          <a:xfrm>
            <a:off x="395280" y="6524640"/>
            <a:ext cx="51843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Extra líder y colero inferior en barras neg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4"/>
          <p:cNvSpPr/>
          <p:nvPr/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fld id="{1AC1AE7E-9D84-4E2F-AD7D-C4CFD887C74D}" type="slidenum">
              <a:rPr b="0" lang="es-CO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2" descr=""/>
          <p:cNvPicPr/>
          <p:nvPr/>
        </p:nvPicPr>
        <p:blipFill>
          <a:blip r:embed="rId1"/>
          <a:stretch/>
        </p:blipFill>
        <p:spPr>
          <a:xfrm>
            <a:off x="1914480" y="907920"/>
            <a:ext cx="5327280" cy="5798880"/>
          </a:xfrm>
          <a:prstGeom prst="rect">
            <a:avLst/>
          </a:prstGeom>
          <a:ln w="9525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54000"/>
            <a:ext cx="8229240" cy="926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_tradnl" sz="3600" spc="-1" strike="noStrike">
                <a:solidFill>
                  <a:srgbClr val="c00000"/>
                </a:solidFill>
                <a:latin typeface="Arial"/>
              </a:rPr>
              <a:t>Escalafón de Capital Humano 2009</a:t>
            </a:r>
            <a:endParaRPr b="0" lang="es-CO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Imagen 8" descr=""/>
          <p:cNvPicPr/>
          <p:nvPr/>
        </p:nvPicPr>
        <p:blipFill>
          <a:blip r:embed="rId1"/>
          <a:stretch/>
        </p:blipFill>
        <p:spPr>
          <a:xfrm>
            <a:off x="1835280" y="907920"/>
            <a:ext cx="5271840" cy="5544720"/>
          </a:xfrm>
          <a:prstGeom prst="rect">
            <a:avLst/>
          </a:prstGeom>
          <a:ln w="9525">
            <a:noFill/>
          </a:ln>
        </p:spPr>
      </p:pic>
      <p:sp>
        <p:nvSpPr>
          <p:cNvPr id="336" name="TextBox 3"/>
          <p:cNvSpPr/>
          <p:nvPr/>
        </p:nvSpPr>
        <p:spPr>
          <a:xfrm>
            <a:off x="395280" y="6453360"/>
            <a:ext cx="51843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xtra líder(es) y colero inferior en barras neg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ldNum" idx="20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CO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ACE6AC-70B5-49FF-833D-8CD324812923}" type="slidenum">
              <a:rPr b="0" lang="es-CO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9"/>
          <p:cNvSpPr/>
          <p:nvPr/>
        </p:nvSpPr>
        <p:spPr>
          <a:xfrm>
            <a:off x="755640" y="836280"/>
            <a:ext cx="7619760" cy="360"/>
          </a:xfrm>
          <a:prstGeom prst="line">
            <a:avLst/>
          </a:prstGeom>
          <a:ln w="571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ESPÍRITU</a:t>
            </a: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rarse como territorio</a:t>
            </a: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evas (sin) fronteras</a:t>
            </a:r>
            <a:endParaRPr b="0" lang="es-CO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sentido que le damos</a:t>
            </a:r>
            <a:endParaRPr b="0" lang="es-CO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s-CO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dad, diferencia </a:t>
            </a: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igualdad y universalidad</a:t>
            </a: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nte a otras regiones</a:t>
            </a:r>
            <a:endParaRPr b="0" lang="es-CO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 interior de la región</a:t>
            </a:r>
            <a:endParaRPr b="0" lang="es-CO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9"/>
          <p:cNvSpPr/>
          <p:nvPr/>
        </p:nvSpPr>
        <p:spPr>
          <a:xfrm>
            <a:off x="755640" y="1218960"/>
            <a:ext cx="7619760" cy="360"/>
          </a:xfrm>
          <a:prstGeom prst="line">
            <a:avLst/>
          </a:prstGeom>
          <a:ln w="571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CO" sz="3600" spc="-1" strike="noStrike">
                <a:solidFill>
                  <a:srgbClr val="c00000"/>
                </a:solidFill>
                <a:latin typeface="Arial"/>
              </a:rPr>
              <a:t>Heterogeneidad Departamental Según los Niveles de Competitividad</a:t>
            </a:r>
            <a:endParaRPr b="0" lang="es-CO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7"/>
          <p:cNvGrpSpPr/>
          <p:nvPr/>
        </p:nvGrpSpPr>
        <p:grpSpPr>
          <a:xfrm>
            <a:off x="611280" y="1773360"/>
            <a:ext cx="7705440" cy="4750920"/>
            <a:chOff x="611280" y="1773360"/>
            <a:chExt cx="7705440" cy="4750920"/>
          </a:xfrm>
        </p:grpSpPr>
        <p:pic>
          <p:nvPicPr>
            <p:cNvPr id="341" name="Imagen 12" descr=""/>
            <p:cNvPicPr/>
            <p:nvPr/>
          </p:nvPicPr>
          <p:blipFill>
            <a:blip r:embed="rId1"/>
            <a:stretch/>
          </p:blipFill>
          <p:spPr>
            <a:xfrm>
              <a:off x="611280" y="1773360"/>
              <a:ext cx="7705440" cy="475092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342" name="TextBox 3"/>
            <p:cNvSpPr/>
            <p:nvPr/>
          </p:nvSpPr>
          <p:spPr>
            <a:xfrm>
              <a:off x="5796000" y="6010560"/>
              <a:ext cx="936360" cy="36396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CO" sz="1800" spc="-1" strike="noStrike">
                  <a:solidFill>
                    <a:srgbClr val="000000"/>
                  </a:solidFill>
                  <a:latin typeface="Calibri"/>
                </a:rPr>
                <a:t>200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Slide Number Placeholder 4"/>
          <p:cNvSpPr/>
          <p:nvPr/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fld id="{D251772A-662F-4BEC-B3E0-51E0F6F17ADC}" type="slidenum">
              <a:rPr b="0" lang="es-CO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9"/>
          <p:cNvSpPr/>
          <p:nvPr/>
        </p:nvSpPr>
        <p:spPr>
          <a:xfrm>
            <a:off x="755640" y="1484280"/>
            <a:ext cx="7619760" cy="360"/>
          </a:xfrm>
          <a:prstGeom prst="line">
            <a:avLst/>
          </a:prstGeom>
          <a:ln w="571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Gráfico 1"/>
          <p:cNvGraphicFramePr/>
          <p:nvPr/>
        </p:nvGraphicFramePr>
        <p:xfrm>
          <a:off x="-9000" y="9000"/>
          <a:ext cx="4836960" cy="67114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346" name="Llamada con línea 1 11"/>
          <p:cNvSpPr/>
          <p:nvPr/>
        </p:nvSpPr>
        <p:spPr>
          <a:xfrm>
            <a:off x="4910760" y="189000"/>
            <a:ext cx="1239120" cy="1009800"/>
          </a:xfrm>
          <a:prstGeom prst="borderCallout1">
            <a:avLst>
              <a:gd name="adj1" fmla="val 102083"/>
              <a:gd name="adj2" fmla="val 98364"/>
              <a:gd name="adj3" fmla="val 103683"/>
              <a:gd name="adj4" fmla="val -273552"/>
            </a:avLst>
          </a:prstGeom>
          <a:solidFill>
            <a:srgbClr val="008000"/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  <a:effectLst>
            <a:innerShdw blurRad="63500" dir="2700000" dist="50800">
              <a:srgbClr val="000000">
                <a:alpha val="50000"/>
              </a:srgbClr>
            </a:inn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1000" spc="-1" strike="noStrike">
                <a:solidFill>
                  <a:schemeClr val="lt1"/>
                </a:solidFill>
                <a:latin typeface="Arial"/>
              </a:rPr>
              <a:t>Lí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lamada con línea 1 13"/>
          <p:cNvSpPr/>
          <p:nvPr/>
        </p:nvSpPr>
        <p:spPr>
          <a:xfrm>
            <a:off x="4910760" y="1207800"/>
            <a:ext cx="1239120" cy="629280"/>
          </a:xfrm>
          <a:prstGeom prst="borderCallout1">
            <a:avLst>
              <a:gd name="adj1" fmla="val 100103"/>
              <a:gd name="adj2" fmla="val 1019"/>
              <a:gd name="adj3" fmla="val 101555"/>
              <a:gd name="adj4" fmla="val -273223"/>
            </a:avLst>
          </a:prstGeom>
          <a:solidFill>
            <a:srgbClr val="92d050"/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  <a:effectLst>
            <a:innerShdw blurRad="63500" dir="2700000" dist="50800">
              <a:srgbClr val="000000">
                <a:alpha val="50000"/>
              </a:srgbClr>
            </a:inn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1000" spc="-1" strike="noStrike">
                <a:solidFill>
                  <a:srgbClr val="ffffff"/>
                </a:solidFill>
                <a:latin typeface="Arial"/>
              </a:rPr>
              <a:t>Al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lamada con línea 1 14"/>
          <p:cNvSpPr/>
          <p:nvPr/>
        </p:nvSpPr>
        <p:spPr>
          <a:xfrm>
            <a:off x="4910760" y="1846080"/>
            <a:ext cx="1239120" cy="862200"/>
          </a:xfrm>
          <a:prstGeom prst="borderCallout1">
            <a:avLst>
              <a:gd name="adj1" fmla="val 98339"/>
              <a:gd name="adj2" fmla="val -113"/>
              <a:gd name="adj3" fmla="val 98900"/>
              <a:gd name="adj4" fmla="val -272229"/>
            </a:avLst>
          </a:prstGeom>
          <a:solidFill>
            <a:srgbClr val="008000"/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  <a:effectLst>
            <a:innerShdw blurRad="63500" dir="2700000" dist="50800">
              <a:srgbClr val="000000">
                <a:alpha val="50000"/>
              </a:srgbClr>
            </a:inn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1000" spc="-1" strike="noStrike">
                <a:solidFill>
                  <a:schemeClr val="lt1"/>
                </a:solidFill>
                <a:latin typeface="Arial"/>
              </a:rPr>
              <a:t>Medio-Al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lamada con línea 1 15"/>
          <p:cNvSpPr/>
          <p:nvPr/>
        </p:nvSpPr>
        <p:spPr>
          <a:xfrm>
            <a:off x="4914000" y="2717280"/>
            <a:ext cx="1235880" cy="422280"/>
          </a:xfrm>
          <a:prstGeom prst="borderCallout1">
            <a:avLst>
              <a:gd name="adj1" fmla="val 100905"/>
              <a:gd name="adj2" fmla="val -5"/>
              <a:gd name="adj3" fmla="val 101955"/>
              <a:gd name="adj4" fmla="val -274997"/>
            </a:avLst>
          </a:prstGeom>
          <a:solidFill>
            <a:srgbClr val="92d050"/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  <a:effectLst>
            <a:innerShdw blurRad="63500" dir="2700000" dist="50800">
              <a:srgbClr val="000000">
                <a:alpha val="50000"/>
              </a:srgbClr>
            </a:inn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1000" spc="-1" strike="noStrike">
                <a:solidFill>
                  <a:srgbClr val="ffffff"/>
                </a:solidFill>
                <a:latin typeface="Arial"/>
              </a:rPr>
              <a:t>Medio-Baj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lamada con línea 1 16"/>
          <p:cNvSpPr/>
          <p:nvPr/>
        </p:nvSpPr>
        <p:spPr>
          <a:xfrm>
            <a:off x="4915080" y="3105360"/>
            <a:ext cx="1235880" cy="1923480"/>
          </a:xfrm>
          <a:prstGeom prst="borderCallout1">
            <a:avLst>
              <a:gd name="adj1" fmla="val 99438"/>
              <a:gd name="adj2" fmla="val -624"/>
              <a:gd name="adj3" fmla="val 100830"/>
              <a:gd name="adj4" fmla="val -275707"/>
            </a:avLst>
          </a:prstGeom>
          <a:solidFill>
            <a:srgbClr val="008000"/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  <a:effectLst>
            <a:innerShdw blurRad="63500" dir="2700000" dist="50800">
              <a:srgbClr val="000000">
                <a:alpha val="50000"/>
              </a:srgbClr>
            </a:inn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1000" spc="-1" strike="noStrike">
                <a:solidFill>
                  <a:schemeClr val="lt1"/>
                </a:solidFill>
                <a:latin typeface="Arial"/>
              </a:rPr>
              <a:t>Baj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lamada con línea 1 17"/>
          <p:cNvSpPr/>
          <p:nvPr/>
        </p:nvSpPr>
        <p:spPr>
          <a:xfrm>
            <a:off x="4914720" y="5020560"/>
            <a:ext cx="1235880" cy="1258200"/>
          </a:xfrm>
          <a:prstGeom prst="borderCallout1">
            <a:avLst>
              <a:gd name="adj1" fmla="val 100251"/>
              <a:gd name="adj2" fmla="val -112"/>
              <a:gd name="adj3" fmla="val 101077"/>
              <a:gd name="adj4" fmla="val 1146"/>
            </a:avLst>
          </a:prstGeom>
          <a:solidFill>
            <a:srgbClr val="92d050"/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  <a:effectLst>
            <a:innerShdw blurRad="63500" dir="2700000" dist="50800">
              <a:srgbClr val="000000">
                <a:alpha val="50000"/>
              </a:srgbClr>
            </a:inn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1000" spc="-1" strike="noStrike">
                <a:solidFill>
                  <a:srgbClr val="ffffff"/>
                </a:solidFill>
                <a:latin typeface="Arial"/>
              </a:rPr>
              <a:t>Col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ítulo 2"/>
          <p:cNvSpPr/>
          <p:nvPr/>
        </p:nvSpPr>
        <p:spPr>
          <a:xfrm>
            <a:off x="6647040" y="1854360"/>
            <a:ext cx="17474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ÁS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10"/>
          <p:cNvSpPr/>
          <p:nvPr/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fld id="{8E13AFFA-C975-4DF8-B1EE-8176D507AF4D}" type="slidenum">
              <a:rPr b="0" lang="es-CO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Llamada con línea 1 11"/>
          <p:cNvSpPr/>
          <p:nvPr/>
        </p:nvSpPr>
        <p:spPr>
          <a:xfrm>
            <a:off x="4910760" y="189000"/>
            <a:ext cx="1239120" cy="439560"/>
          </a:xfrm>
          <a:prstGeom prst="borderCallout1">
            <a:avLst>
              <a:gd name="adj1" fmla="val 102083"/>
              <a:gd name="adj2" fmla="val 98364"/>
              <a:gd name="adj3" fmla="val 103683"/>
              <a:gd name="adj4" fmla="val -273552"/>
            </a:avLst>
          </a:prstGeom>
          <a:solidFill>
            <a:srgbClr val="008000"/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  <a:effectLst>
            <a:innerShdw blurRad="63500" dir="2700000" dist="50800">
              <a:srgbClr val="000000">
                <a:alpha val="50000"/>
              </a:srgbClr>
            </a:inn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1000" spc="-1" strike="noStrike">
                <a:solidFill>
                  <a:schemeClr val="lt1"/>
                </a:solidFill>
                <a:latin typeface="Arial"/>
              </a:rPr>
              <a:t>Lí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lamada con línea 1 13"/>
          <p:cNvSpPr/>
          <p:nvPr/>
        </p:nvSpPr>
        <p:spPr>
          <a:xfrm>
            <a:off x="4910760" y="628560"/>
            <a:ext cx="1239120" cy="437760"/>
          </a:xfrm>
          <a:prstGeom prst="borderCallout1">
            <a:avLst>
              <a:gd name="adj1" fmla="val 100103"/>
              <a:gd name="adj2" fmla="val 1019"/>
              <a:gd name="adj3" fmla="val 101555"/>
              <a:gd name="adj4" fmla="val -273223"/>
            </a:avLst>
          </a:prstGeom>
          <a:solidFill>
            <a:srgbClr val="92d050"/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  <a:effectLst>
            <a:innerShdw blurRad="63500" dir="2700000" dist="50800">
              <a:srgbClr val="000000">
                <a:alpha val="50000"/>
              </a:srgbClr>
            </a:inn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1000" spc="-1" strike="noStrike">
                <a:solidFill>
                  <a:srgbClr val="ffffff"/>
                </a:solidFill>
                <a:latin typeface="Arial"/>
              </a:rPr>
              <a:t>Al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lamada con línea 1 14"/>
          <p:cNvSpPr/>
          <p:nvPr/>
        </p:nvSpPr>
        <p:spPr>
          <a:xfrm>
            <a:off x="4910760" y="1066680"/>
            <a:ext cx="1239120" cy="628200"/>
          </a:xfrm>
          <a:prstGeom prst="borderCallout1">
            <a:avLst>
              <a:gd name="adj1" fmla="val 98339"/>
              <a:gd name="adj2" fmla="val -113"/>
              <a:gd name="adj3" fmla="val 98900"/>
              <a:gd name="adj4" fmla="val -272229"/>
            </a:avLst>
          </a:prstGeom>
          <a:solidFill>
            <a:srgbClr val="008000"/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  <a:effectLst>
            <a:innerShdw blurRad="63500" dir="2700000" dist="50800">
              <a:srgbClr val="000000">
                <a:alpha val="50000"/>
              </a:srgbClr>
            </a:inn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1000" spc="-1" strike="noStrike">
                <a:solidFill>
                  <a:schemeClr val="lt1"/>
                </a:solidFill>
                <a:latin typeface="Arial"/>
              </a:rPr>
              <a:t>Medio-Al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lamada con línea 1 15"/>
          <p:cNvSpPr/>
          <p:nvPr/>
        </p:nvSpPr>
        <p:spPr>
          <a:xfrm>
            <a:off x="4914000" y="1695600"/>
            <a:ext cx="1235880" cy="1009440"/>
          </a:xfrm>
          <a:prstGeom prst="borderCallout1">
            <a:avLst>
              <a:gd name="adj1" fmla="val 100905"/>
              <a:gd name="adj2" fmla="val -5"/>
              <a:gd name="adj3" fmla="val 101955"/>
              <a:gd name="adj4" fmla="val -274997"/>
            </a:avLst>
          </a:prstGeom>
          <a:solidFill>
            <a:srgbClr val="92d050"/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  <a:effectLst>
            <a:innerShdw blurRad="63500" dir="2700000" dist="50800">
              <a:srgbClr val="000000">
                <a:alpha val="50000"/>
              </a:srgbClr>
            </a:inn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1000" spc="-1" strike="noStrike">
                <a:solidFill>
                  <a:srgbClr val="ffffff"/>
                </a:solidFill>
                <a:latin typeface="Arial"/>
              </a:rPr>
              <a:t>Medio-Baj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lamada con línea 1 16"/>
          <p:cNvSpPr/>
          <p:nvPr/>
        </p:nvSpPr>
        <p:spPr>
          <a:xfrm>
            <a:off x="4915080" y="2705040"/>
            <a:ext cx="1235880" cy="1875960"/>
          </a:xfrm>
          <a:prstGeom prst="borderCallout1">
            <a:avLst>
              <a:gd name="adj1" fmla="val 99438"/>
              <a:gd name="adj2" fmla="val -624"/>
              <a:gd name="adj3" fmla="val 100830"/>
              <a:gd name="adj4" fmla="val -275707"/>
            </a:avLst>
          </a:prstGeom>
          <a:solidFill>
            <a:srgbClr val="008000"/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  <a:effectLst>
            <a:innerShdw blurRad="63500" dir="2700000" dist="50800">
              <a:srgbClr val="000000">
                <a:alpha val="50000"/>
              </a:srgbClr>
            </a:inn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1000" spc="-1" strike="noStrike">
                <a:solidFill>
                  <a:schemeClr val="lt1"/>
                </a:solidFill>
                <a:latin typeface="Arial"/>
              </a:rPr>
              <a:t>Baj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lamada con línea 1 17"/>
          <p:cNvSpPr/>
          <p:nvPr/>
        </p:nvSpPr>
        <p:spPr>
          <a:xfrm>
            <a:off x="4914720" y="4581360"/>
            <a:ext cx="1235880" cy="1697400"/>
          </a:xfrm>
          <a:prstGeom prst="borderCallout1">
            <a:avLst>
              <a:gd name="adj1" fmla="val 100251"/>
              <a:gd name="adj2" fmla="val -112"/>
              <a:gd name="adj3" fmla="val 101077"/>
              <a:gd name="adj4" fmla="val 1146"/>
            </a:avLst>
          </a:prstGeom>
          <a:solidFill>
            <a:srgbClr val="92d050"/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  <a:effectLst>
            <a:innerShdw blurRad="63500" dir="2700000" dist="50800">
              <a:srgbClr val="000000">
                <a:alpha val="50000"/>
              </a:srgbClr>
            </a:inn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1000" spc="-1" strike="noStrike">
                <a:solidFill>
                  <a:srgbClr val="ffffff"/>
                </a:solidFill>
                <a:latin typeface="Arial"/>
              </a:rPr>
              <a:t>Col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ítulo 2"/>
          <p:cNvSpPr/>
          <p:nvPr/>
        </p:nvSpPr>
        <p:spPr>
          <a:xfrm>
            <a:off x="6647040" y="1854360"/>
            <a:ext cx="17474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OD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1" name="Gráfico 1"/>
          <p:cNvGraphicFramePr/>
          <p:nvPr/>
        </p:nvGraphicFramePr>
        <p:xfrm>
          <a:off x="0" y="93240"/>
          <a:ext cx="4910400" cy="65739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362" name="Slide Number Placeholder 12"/>
          <p:cNvSpPr/>
          <p:nvPr/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fld id="{A3C5DA2A-B977-46E7-AC58-3B29E30502AE}" type="slidenum">
              <a:rPr b="0" lang="es-CO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3"/>
          <p:cNvSpPr/>
          <p:nvPr/>
        </p:nvSpPr>
        <p:spPr>
          <a:xfrm>
            <a:off x="0" y="3068640"/>
            <a:ext cx="8853120" cy="2160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143000" indent="-231840">
              <a:lnSpc>
                <a:spcPct val="140000"/>
              </a:lnSpc>
              <a:tabLst>
                <a:tab algn="l" pos="0"/>
              </a:tabLst>
            </a:pPr>
            <a:endParaRPr b="0" lang="es-ES" sz="2000" spc="-1" strike="noStrike">
              <a:solidFill>
                <a:srgbClr val="000099"/>
              </a:solidFill>
              <a:latin typeface="Lucida Fax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c00000"/>
                </a:solidFill>
                <a:latin typeface="Arial"/>
              </a:rPr>
              <a:t>Balance de las políticas de desarrollo regional</a:t>
            </a: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87280" y="1855800"/>
            <a:ext cx="749916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 BUENO 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vicción de asumir protagonismo local en el desarrollo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sibilidades múltiples y abiertas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ejor aprovechamiento de recursos locales</a:t>
            </a:r>
            <a:endParaRPr b="0" lang="es-CO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uevas institucionalidades locales prometedoras 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mbiente, social y gestión pública</a:t>
            </a:r>
            <a:endParaRPr b="0" lang="es-CO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 MALO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descentralización no ha reducido las desigualdades (económicas)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interlocución inter niveles gubernamental no ha sido sinérgica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Visión reivindicacionista, no de interés mutuo</a:t>
            </a:r>
            <a:endParaRPr b="0" lang="es-CO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ordinación nacional de la política regionalizada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sponsabilidades compartidas o no definidas.</a:t>
            </a:r>
            <a:endParaRPr b="0" lang="es-CO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blemas de coordinación</a:t>
            </a:r>
            <a:endParaRPr b="0" lang="es-CO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ecortes heterogéneos x instituciones y programas</a:t>
            </a:r>
            <a:endParaRPr b="0" lang="es-CO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9"/>
          <p:cNvSpPr/>
          <p:nvPr/>
        </p:nvSpPr>
        <p:spPr>
          <a:xfrm>
            <a:off x="755640" y="1628640"/>
            <a:ext cx="7619760" cy="360"/>
          </a:xfrm>
          <a:prstGeom prst="line">
            <a:avLst/>
          </a:prstGeom>
          <a:ln w="571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c00000"/>
                </a:solidFill>
                <a:latin typeface="Arial"/>
              </a:rPr>
              <a:t>DESCENTRALIZACIÓN</a:t>
            </a:r>
            <a:br>
              <a:rPr sz="4000"/>
            </a:b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Política de desarrollo regional</a:t>
            </a: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240" cy="4536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política regional ha estado centrada por la visión de la descentralización</a:t>
            </a:r>
            <a:endParaRPr b="0" lang="es-CO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lítica (democratización)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conómica: Gestión, eficiencia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quidad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uerte en desarrollo social e infraestructura básica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 está orientada, no sustituye, las políticas de DET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ejoran gestión e iniciativas 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uede favorecer desigualdad preexistente -recaudo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9"/>
          <p:cNvSpPr/>
          <p:nvPr/>
        </p:nvSpPr>
        <p:spPr>
          <a:xfrm>
            <a:off x="755640" y="1484280"/>
            <a:ext cx="7619760" cy="360"/>
          </a:xfrm>
          <a:prstGeom prst="line">
            <a:avLst/>
          </a:prstGeom>
          <a:ln w="571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3"/>
          <p:cNvSpPr/>
          <p:nvPr/>
        </p:nvSpPr>
        <p:spPr>
          <a:xfrm>
            <a:off x="0" y="3068640"/>
            <a:ext cx="8853120" cy="2160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143000" indent="-231840">
              <a:lnSpc>
                <a:spcPct val="140000"/>
              </a:lnSpc>
              <a:tabLst>
                <a:tab algn="l" pos="0"/>
              </a:tabLst>
            </a:pPr>
            <a:endParaRPr b="0" lang="es-ES" sz="2000" spc="-1" strike="noStrike">
              <a:solidFill>
                <a:srgbClr val="000099"/>
              </a:solidFill>
              <a:latin typeface="Lucida Fax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c00000"/>
                </a:solidFill>
                <a:latin typeface="Arial"/>
              </a:rPr>
              <a:t>Propósitos y contenidos </a:t>
            </a:r>
            <a:br>
              <a:rPr sz="3200"/>
            </a:br>
            <a:r>
              <a:rPr b="0" lang="es-ES" sz="3200" spc="-1" strike="noStrike">
                <a:solidFill>
                  <a:srgbClr val="c00000"/>
                </a:solidFill>
                <a:latin typeface="Arial"/>
              </a:rPr>
              <a:t>de las políticas de desarrollo territorial</a:t>
            </a: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7703640" cy="4536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rtalecer la capacidad de las sociedades locales, para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rmular sus metas colectivas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ovilizar los recursos para alcanzarlas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cuerdos sobre el protagonismo territorial en el desarrollo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arrollo MESO típico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idos y formas, instituciones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veles intermedios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unto de encuentro para el desarrollo regional-local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de arriba y desde abajo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ordinación y articulación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buClr>
                <a:srgbClr val="000000"/>
              </a:buClr>
              <a:buFont typeface="Arial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 políticas sectoriales y transversales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eografía variable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0"/>
              </a:tabLst>
            </a:pP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0"/>
              </a:tabLst>
            </a:pP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9"/>
          <p:cNvSpPr/>
          <p:nvPr/>
        </p:nvSpPr>
        <p:spPr>
          <a:xfrm>
            <a:off x="755640" y="1412640"/>
            <a:ext cx="7619760" cy="360"/>
          </a:xfrm>
          <a:prstGeom prst="line">
            <a:avLst/>
          </a:prstGeom>
          <a:ln w="571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CO" sz="4400" spc="-1" strike="noStrike">
                <a:solidFill>
                  <a:srgbClr val="c00000"/>
                </a:solidFill>
                <a:latin typeface="Arial"/>
              </a:rPr>
              <a:t>Conclusiones</a:t>
            </a: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240" cy="4928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sladar la equidad de individuos (derechos) a la equidad territorial?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Combinación de políticas regionales de equidad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Y de eficiencia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</a:pP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Políticas locales explícitas y diferenciadas, con claras expresiones de prioridades. 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Muchas apuestas buenas…. Las que convoquen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Igualadoras, no iguales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Diversas, diversificadoras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</a:pP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líticas exitosas aseguran fundamentos básicos,  mínimos, importantes en capital humano, infraestructura y finanzas públicas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+ condiciones transversales (institucionales)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fld id="{8FA6BA2D-2C43-4078-A870-9C23A8B0E56C}" type="slidenum">
              <a:rPr b="0" lang="es-CO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9"/>
          <p:cNvSpPr/>
          <p:nvPr/>
        </p:nvSpPr>
        <p:spPr>
          <a:xfrm>
            <a:off x="755640" y="1052280"/>
            <a:ext cx="7619760" cy="360"/>
          </a:xfrm>
          <a:prstGeom prst="line">
            <a:avLst/>
          </a:prstGeom>
          <a:ln w="571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-1000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CO" sz="4400" spc="-1" strike="noStrike">
                <a:solidFill>
                  <a:srgbClr val="c00000"/>
                </a:solidFill>
                <a:latin typeface="Arial"/>
              </a:rPr>
              <a:t>Conclusiones</a:t>
            </a: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68360" y="1050840"/>
            <a:ext cx="8229240" cy="5473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</a:pP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formación y distribución administrativa y política del territorio nacional. 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fianza sobre la información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Mirada territorial, estructurada, intencional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Equidad y cohesión para la conservación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Pertenencia… Unidad… polìtica y cultura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Tejido… con elasticidad… sin supturas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Nostalgia de los Fondos Estructurales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fld id="{83E273FD-E98D-4C30-BA85-7B05DD86B6EF}" type="slidenum">
              <a:rPr b="0" lang="es-CO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9"/>
          <p:cNvSpPr/>
          <p:nvPr/>
        </p:nvSpPr>
        <p:spPr>
          <a:xfrm>
            <a:off x="755640" y="907920"/>
            <a:ext cx="7619760" cy="360"/>
          </a:xfrm>
          <a:prstGeom prst="line">
            <a:avLst/>
          </a:prstGeom>
          <a:ln w="571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240" cy="431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UDAD MAS POBLADA, % EN POBLACIÓN URBANA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Group 165"/>
          <p:cNvGraphicFramePr/>
          <p:nvPr/>
        </p:nvGraphicFramePr>
        <p:xfrm>
          <a:off x="1403280" y="189000"/>
          <a:ext cx="6408360" cy="6828840"/>
        </p:xfrm>
        <a:graphic>
          <a:graphicData uri="http://schemas.openxmlformats.org/drawingml/2006/table">
            <a:tbl>
              <a:tblPr/>
              <a:tblGrid>
                <a:gridCol w="1698480"/>
                <a:gridCol w="1081080"/>
                <a:gridCol w="849240"/>
                <a:gridCol w="925200"/>
                <a:gridCol w="1081080"/>
                <a:gridCol w="772920"/>
              </a:tblGrid>
              <a:tr h="482400">
                <a:tc gridSpan="5">
                  <a:txBody>
                    <a:bodyPr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s-E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1" lang="es-ES" sz="2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apa de transición urbana 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í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anza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42552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% + población urb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1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1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ugu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1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1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ez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en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s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255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0% - 80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1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1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1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1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éx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1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1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li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255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e 50% a 70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1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1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ndu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1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1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caragu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1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1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nam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1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1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gu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1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1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ipiente (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a 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255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enos de 50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atema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1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1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Salv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1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1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it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s-E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s-E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s-E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s-E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s-E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s-E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240" cy="791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Primacía económica</a:t>
            </a: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Group 3"/>
          <p:cNvGraphicFramePr/>
          <p:nvPr/>
        </p:nvGraphicFramePr>
        <p:xfrm>
          <a:off x="468360" y="1268280"/>
          <a:ext cx="8229240" cy="6648480"/>
        </p:xfrm>
        <a:graphic>
          <a:graphicData uri="http://schemas.openxmlformats.org/drawingml/2006/table">
            <a:tbl>
              <a:tblPr/>
              <a:tblGrid>
                <a:gridCol w="1306440"/>
                <a:gridCol w="1044360"/>
                <a:gridCol w="1176120"/>
                <a:gridCol w="1174680"/>
                <a:gridCol w="1176120"/>
                <a:gridCol w="1174680"/>
                <a:gridCol w="1176120"/>
              </a:tblGrid>
              <a:tr h="306360">
                <a:tc rowSpan="3"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onfigur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conóm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terri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aí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ñ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rimac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ambio e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G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ambio 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conóm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rimac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conóm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G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rowSpan="6">
                  <a:txBody>
                    <a:bodyPr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rima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rgent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endParaRPr b="0" lang="es-E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6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7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endParaRPr b="0" lang="es-E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er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endParaRPr b="0" lang="es-E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-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rowSpan="8">
                  <a:txBody>
                    <a:bodyPr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ulti-pol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Boliv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7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endParaRPr b="0" lang="es-E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3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-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7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Bras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endParaRPr b="0" lang="es-E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-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-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olomb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endParaRPr b="0" lang="es-E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-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-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éx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endParaRPr b="0" lang="es-E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18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-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-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Line 9"/>
          <p:cNvSpPr/>
          <p:nvPr/>
        </p:nvSpPr>
        <p:spPr>
          <a:xfrm>
            <a:off x="755640" y="1052280"/>
            <a:ext cx="7619760" cy="360"/>
          </a:xfrm>
          <a:prstGeom prst="line">
            <a:avLst/>
          </a:prstGeom>
          <a:ln w="571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3"/>
          <p:cNvSpPr/>
          <p:nvPr/>
        </p:nvSpPr>
        <p:spPr>
          <a:xfrm>
            <a:off x="0" y="3068640"/>
            <a:ext cx="8853120" cy="2160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143000" indent="-231840">
              <a:lnSpc>
                <a:spcPct val="140000"/>
              </a:lnSpc>
              <a:tabLst>
                <a:tab algn="l" pos="0"/>
              </a:tabLst>
            </a:pPr>
            <a:endParaRPr b="0" lang="es-ES" sz="2000" spc="-1" strike="noStrike">
              <a:solidFill>
                <a:srgbClr val="000099"/>
              </a:solidFill>
              <a:latin typeface="Lucida Fax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c00000"/>
                </a:solidFill>
                <a:latin typeface="Arial"/>
              </a:rPr>
              <a:t>Configuración económica territorial</a:t>
            </a: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Group 5"/>
          <p:cNvGraphicFramePr/>
          <p:nvPr/>
        </p:nvGraphicFramePr>
        <p:xfrm>
          <a:off x="1835280" y="1844640"/>
          <a:ext cx="6121080" cy="4547520"/>
        </p:xfrm>
        <a:graphic>
          <a:graphicData uri="http://schemas.openxmlformats.org/drawingml/2006/table">
            <a:tbl>
              <a:tblPr/>
              <a:tblGrid>
                <a:gridCol w="3189240"/>
                <a:gridCol w="2931840"/>
              </a:tblGrid>
              <a:tr h="942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2400" spc="-1" strike="noStrike">
                          <a:solidFill>
                            <a:srgbClr val="0068c6"/>
                          </a:solidFill>
                          <a:latin typeface="Maiandra GD"/>
                          <a:ea typeface="Times New Roman"/>
                        </a:rPr>
                        <a:t>Características</a:t>
                      </a:r>
                      <a:br>
                        <a:rPr sz="2400"/>
                      </a:br>
                      <a:r>
                        <a:rPr b="1" lang="es-ES" sz="2400" spc="-1" strike="noStrike">
                          <a:solidFill>
                            <a:srgbClr val="0068c6"/>
                          </a:solidFill>
                          <a:latin typeface="Maiandra GD"/>
                          <a:ea typeface="Times New Roman"/>
                        </a:rPr>
                        <a:t>dominan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2400" spc="-1" strike="noStrike">
                          <a:solidFill>
                            <a:srgbClr val="0068c6"/>
                          </a:solidFill>
                          <a:latin typeface="Maiandra GD"/>
                          <a:ea typeface="Times New Roman"/>
                        </a:rPr>
                        <a:t>Paí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2400" spc="-1" strike="noStrike">
                          <a:solidFill>
                            <a:srgbClr val="0068c6"/>
                          </a:solidFill>
                          <a:latin typeface="Maiandra GD"/>
                          <a:ea typeface="Times New Roman"/>
                        </a:rPr>
                        <a:t>Primacial polariza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2400" spc="-1" strike="noStrike">
                          <a:solidFill>
                            <a:srgbClr val="0068c6"/>
                          </a:solidFill>
                          <a:latin typeface="Maiandra GD"/>
                          <a:ea typeface="Times New Roman"/>
                        </a:rPr>
                        <a:t>Per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2400" spc="-1" strike="noStrike">
                          <a:solidFill>
                            <a:srgbClr val="0068c6"/>
                          </a:solidFill>
                          <a:latin typeface="Maiandra GD"/>
                          <a:ea typeface="Times New Roman"/>
                        </a:rPr>
                        <a:t>Argenti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2400" spc="-1" strike="noStrike">
                          <a:solidFill>
                            <a:srgbClr val="0068c6"/>
                          </a:solidFill>
                          <a:latin typeface="Maiandra GD"/>
                          <a:ea typeface="Times New Roman"/>
                        </a:rPr>
                        <a:t>Chi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2400" spc="-1" strike="noStrike">
                          <a:solidFill>
                            <a:srgbClr val="0068c6"/>
                          </a:solidFill>
                          <a:latin typeface="Maiandra GD"/>
                          <a:ea typeface="Times New Roman"/>
                        </a:rPr>
                        <a:t>Multipolar polariza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2400" spc="-1" strike="noStrike">
                          <a:solidFill>
                            <a:srgbClr val="0068c6"/>
                          </a:solidFill>
                          <a:latin typeface="Maiandra GD"/>
                          <a:ea typeface="Times New Roman"/>
                        </a:rPr>
                        <a:t>Brasil 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2400" spc="-1" strike="noStrike">
                          <a:solidFill>
                            <a:srgbClr val="0068c6"/>
                          </a:solidFill>
                          <a:latin typeface="Maiandra GD"/>
                          <a:ea typeface="Times New Roman"/>
                        </a:rPr>
                        <a:t>Multipolar estratifica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2400" spc="-1" strike="noStrike">
                          <a:solidFill>
                            <a:srgbClr val="0068c6"/>
                          </a:solidFill>
                          <a:latin typeface="Maiandra GD"/>
                          <a:ea typeface="Times New Roman"/>
                        </a:rPr>
                        <a:t>México (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2400" spc="-1" strike="noStrike">
                          <a:solidFill>
                            <a:srgbClr val="0068c6"/>
                          </a:solidFill>
                          <a:latin typeface="Maiandra GD"/>
                          <a:ea typeface="Times New Roman"/>
                        </a:rPr>
                        <a:t>Colombia 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2400" spc="-1" strike="noStrike">
                          <a:solidFill>
                            <a:srgbClr val="0068c6"/>
                          </a:solidFill>
                          <a:latin typeface="Maiandra GD"/>
                          <a:ea typeface="Times New Roman"/>
                        </a:rPr>
                        <a:t>Bolivia 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Line 9"/>
          <p:cNvSpPr/>
          <p:nvPr/>
        </p:nvSpPr>
        <p:spPr>
          <a:xfrm>
            <a:off x="755640" y="1557000"/>
            <a:ext cx="7619760" cy="360"/>
          </a:xfrm>
          <a:prstGeom prst="line">
            <a:avLst/>
          </a:prstGeom>
          <a:ln w="571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CO" sz="3200" spc="-1" strike="noStrike">
                <a:solidFill>
                  <a:srgbClr val="c00000"/>
                </a:solidFill>
                <a:latin typeface="Arial"/>
              </a:rPr>
              <a:t>Concentración espacial de las economías</a:t>
            </a: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2"/>
          <p:cNvSpPr/>
          <p:nvPr/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fld id="{03810B16-1DB9-4D32-B3F0-EF9637D39B1C}" type="slidenum">
              <a:rPr b="0" lang="es-CO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4"/>
          <p:cNvSpPr/>
          <p:nvPr/>
        </p:nvSpPr>
        <p:spPr>
          <a:xfrm>
            <a:off x="468360" y="6524640"/>
            <a:ext cx="539856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1200" spc="-1" strike="noStrike">
                <a:solidFill>
                  <a:srgbClr val="000000"/>
                </a:solidFill>
                <a:latin typeface="Arial"/>
              </a:rPr>
              <a:t>Fuente: CEPAL Economía y territorio en América Latina y el Caribe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Chart 5"/>
          <p:cNvGraphicFramePr/>
          <p:nvPr/>
        </p:nvGraphicFramePr>
        <p:xfrm>
          <a:off x="323640" y="1196640"/>
          <a:ext cx="8208720" cy="504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231" name="Line 9"/>
          <p:cNvSpPr/>
          <p:nvPr/>
        </p:nvSpPr>
        <p:spPr>
          <a:xfrm>
            <a:off x="755640" y="1218960"/>
            <a:ext cx="7619760" cy="360"/>
          </a:xfrm>
          <a:prstGeom prst="line">
            <a:avLst/>
          </a:prstGeom>
          <a:ln w="571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6"/>
          <p:cNvSpPr/>
          <p:nvPr/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fld id="{ACFD9300-B30A-4772-B453-3200B834665B}" type="slidenum">
              <a:rPr b="0" lang="es-CO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3"/>
          <p:cNvSpPr/>
          <p:nvPr/>
        </p:nvSpPr>
        <p:spPr>
          <a:xfrm>
            <a:off x="0" y="3068640"/>
            <a:ext cx="8853120" cy="2160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143000" indent="-231840">
              <a:lnSpc>
                <a:spcPct val="140000"/>
              </a:lnSpc>
              <a:tabLst>
                <a:tab algn="l" pos="0"/>
              </a:tabLst>
            </a:pPr>
            <a:endParaRPr b="0" lang="es-ES" sz="2000" spc="-1" strike="noStrike">
              <a:solidFill>
                <a:srgbClr val="000099"/>
              </a:solidFill>
              <a:latin typeface="Lucida Fax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240" cy="921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c00000"/>
                </a:solidFill>
                <a:latin typeface="Arial"/>
              </a:rPr>
              <a:t>Convergencia y divergencia</a:t>
            </a: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5280" y="1379520"/>
            <a:ext cx="8229240" cy="4928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Hasta finales de los años 80: convergencia lenta</a:t>
            </a:r>
            <a:endParaRPr b="0" lang="es-CO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sde entonces: estancamiento de la convergencia</a:t>
            </a:r>
            <a:endParaRPr b="0" lang="es-CO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somos de tendencias</a:t>
            </a:r>
            <a:endParaRPr b="0" lang="es-CO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Font typeface="Arial"/>
              <a:buChar char="–"/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nvergencia: Brasil, Colombia, Chile</a:t>
            </a:r>
            <a:endParaRPr b="0" lang="es-CO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Font typeface="Arial"/>
              <a:buChar char="–"/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rgentina, Bolivia y México sin cambio significativo</a:t>
            </a:r>
            <a:endParaRPr b="0" lang="es-CO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s diferencias de producto por habitante se estabilizan</a:t>
            </a:r>
            <a:endParaRPr b="0" lang="es-CO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Font typeface="Arial"/>
              <a:buChar char="–"/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 un nivel alto</a:t>
            </a:r>
            <a:endParaRPr b="0" lang="es-CO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Font typeface="Arial"/>
              <a:buChar char="–"/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No hay una tendencia uniforme</a:t>
            </a:r>
            <a:endParaRPr b="0" lang="es-CO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Font typeface="Arial"/>
              <a:buChar char="•"/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s niveles altos de disparidad regional en América Latina en parte son el reflejo de una integración insuficiente de los mercados, tanto interna como externamente. </a:t>
            </a:r>
            <a:endParaRPr b="0" lang="es-CO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s-CO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s-CO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s-CO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9"/>
          <p:cNvSpPr/>
          <p:nvPr/>
        </p:nvSpPr>
        <p:spPr>
          <a:xfrm>
            <a:off x="755640" y="1218960"/>
            <a:ext cx="7619760" cy="360"/>
          </a:xfrm>
          <a:prstGeom prst="line">
            <a:avLst/>
          </a:prstGeom>
          <a:ln w="571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Estratificación y concentración</a:t>
            </a: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tructura económica y poblacional regional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ratificada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endencia a polarizar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79"/>
              </a:spcBef>
              <a:buNone/>
            </a:pP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endencia muy lenta a la desconcentración económica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ficultad para la difusión espacial del crecimiento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concentración excesiva 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por encima del patrón) (Henderson 2000)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enera menor crecimiento (~1.5 % pib anual)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 beneficia la estabilidad macroeconómica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bilita difusión y arrastre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ficiente red de difusión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9"/>
          <p:cNvSpPr/>
          <p:nvPr/>
        </p:nvSpPr>
        <p:spPr>
          <a:xfrm>
            <a:off x="755640" y="1218960"/>
            <a:ext cx="7619760" cy="360"/>
          </a:xfrm>
          <a:prstGeom prst="line">
            <a:avLst/>
          </a:prstGeom>
          <a:ln w="571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0" y="3068640"/>
            <a:ext cx="8853120" cy="2160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143000" indent="-231840">
              <a:lnSpc>
                <a:spcPct val="140000"/>
              </a:lnSpc>
              <a:tabLst>
                <a:tab algn="l" pos="0"/>
              </a:tabLst>
            </a:pPr>
            <a:endParaRPr b="0" lang="es-ES" sz="2000" spc="-1" strike="noStrike">
              <a:solidFill>
                <a:srgbClr val="000099"/>
              </a:solidFill>
              <a:latin typeface="Lucida Fax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Convergencia y cuadrantes</a:t>
            </a: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7200720" cy="4968360"/>
          </a:xfrm>
          <a:prstGeom prst="rect">
            <a:avLst/>
          </a:prstGeom>
          <a:ln w="9525">
            <a:noFill/>
          </a:ln>
        </p:spPr>
      </p:pic>
      <p:sp>
        <p:nvSpPr>
          <p:cNvPr id="243" name="Line 9"/>
          <p:cNvSpPr/>
          <p:nvPr/>
        </p:nvSpPr>
        <p:spPr>
          <a:xfrm>
            <a:off x="755640" y="1125360"/>
            <a:ext cx="7619760" cy="360"/>
          </a:xfrm>
          <a:prstGeom prst="line">
            <a:avLst/>
          </a:prstGeom>
          <a:ln w="571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8</TotalTime>
  <Application>LibreOffice/7.4.7.2$Linux_X86_64 LibreOffice_project/40$Build-2</Application>
  <AppVersion>15.0000</AppVersion>
  <Words>1087</Words>
  <Paragraphs>464</Paragraphs>
  <Company>Grizli777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4:05:10Z</dcterms:created>
  <dc:creator>Mario Villamil</dc:creator>
  <dc:description/>
  <dc:language>en-US</dc:language>
  <cp:lastModifiedBy>usuario</cp:lastModifiedBy>
  <dcterms:modified xsi:type="dcterms:W3CDTF">2012-09-26T15:33:30Z</dcterms:modified>
  <cp:revision>145</cp:revision>
  <dc:subject/>
  <dc:title>Escalafón de Competitividad Departament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Presentación en pantalla (4:3)</vt:lpwstr>
  </property>
  <property fmtid="{D5CDD505-2E9C-101B-9397-08002B2CF9AE}" pid="4" name="Slides">
    <vt:r8>27</vt:r8>
  </property>
</Properties>
</file>