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38.jpeg" ContentType="image/jpeg"/>
  <Override PartName="/ppt/media/image34.png" ContentType="image/png"/>
  <Override PartName="/ppt/media/image39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27.png" ContentType="image/png"/>
  <Override PartName="/ppt/media/image48.png" ContentType="image/png"/>
  <Override PartName="/ppt/media/image13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12.wmf" ContentType="image/x-wmf"/>
  <Override PartName="/ppt/media/image51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30.png" ContentType="image/png"/>
  <Override PartName="/ppt/media/image8.png" ContentType="image/png"/>
  <Override PartName="/ppt/media/image5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3E5-891A-4291-893B-B2404EFB10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1C0-C255-460E-AACE-153B042EDB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A62-C431-4932-92CB-568A5E807B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72EC-74DE-4346-80C5-843B9F5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8D4A-CC73-442C-AEA0-284A1E6B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77E1-1C02-47A3-A624-0D1569E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7AB9-B942-4E98-8894-973B30E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A3229-BDC4-4EEF-AF9D-7F6F370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C847A-611B-45F5-8F79-6AFE1249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4F3E9-14C9-42BE-8F0A-520F989B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A162-C5D9-46EA-9A95-F41F6B29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6683-8864-4C48-811D-FF0DACE6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BF85-1C95-4D13-A07A-0893106C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79A3-A350-4734-A24D-1D8D2C2D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1D3C-2781-4D3B-B359-E2B5BCD1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25050-5B50-4318-8660-2D2725B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1D186-363E-4EE5-AD25-4F5FFF07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C503-D08E-4BB1-9891-04099022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FF34-8FC0-4223-BB70-9F062C0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D462A-4E49-4F19-A251-B8BD4EE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5F93-0523-4D26-B5D0-FA2AB70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A0B5-1C24-4D6A-A0C6-08557E1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0F17-C6E3-437B-853E-CCF4E507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A1F9-79AB-4568-A4B4-9AEB710F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BE4B-820A-4B97-8262-58163630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46C93-F2A0-4E3D-8D0E-096A8C0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CBB4-7055-4C9E-8B62-F322AD5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B3A0-B6D6-48F5-A42B-59089AF9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5B981-1C51-4D3E-9FC3-409EC67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7260-ED7F-4FB6-9648-67CB145C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75C2B-0A11-4535-81D4-7C4F0D8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51441-3090-4245-97F1-B3B3CA9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74345-2B87-4847-A722-51A11BA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5CD83-B033-412C-9141-89286794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6BA82-52DE-4550-B8D9-4932F934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9AB33-EF1D-4B71-ABAF-7611489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C0B-47DC-48AA-B13E-DFEB66C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ABC-20BA-47C5-A029-67573F9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B27-1BF0-41A2-958F-49BB40F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159-26E6-4599-8712-8794DC7C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753-F072-4147-9157-34643D8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674-9FA3-44E1-909C-6269E49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2A0-87D3-41C0-BB5E-A735E7E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B51-45FF-4234-A07B-89CC66E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BED-7CE9-405B-98C9-63C7963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3CE-069E-46CF-A35A-C7EBCA0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B78-FAF0-4FD4-8D39-6091FA5F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730-3A88-464F-AB81-FBC0A8BA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C09C-B95A-4352-AC8B-2C4FFBF2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B0F1-2965-496E-B3E8-B93B113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E4E7-2AC7-46BA-B299-F52BD38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F0F-E34C-43E3-BAEE-3F57DFC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21F1-7647-4293-888F-FEE66484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85E-2F52-42E7-B8BE-760F4AB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3716-C1AE-4755-B4CA-A175187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9530-221B-4E33-BDCA-07CAC43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3E6-24FD-4F70-B26A-D824CDE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000-EC10-466A-83FF-C3879DE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EA8-0DCD-41A3-9CB3-8C09937E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517F-583B-4D44-ACCA-B6126DF5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FF3B-4635-4D2A-8E89-11293C7E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0764-6AC7-4478-9D94-BD0F48F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CEB4-059F-4618-8D95-DF01295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F345-DC54-4206-9101-F63C127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54B2-8D01-4162-9DE4-408F5DB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4F4A-0131-49EE-A487-0FAAEBEF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9455-FF74-4921-BF84-62131B6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3D03-64E0-42DB-BEFD-7967D41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5E65-90E2-4456-B3C2-0C19C2B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C600-14BF-4243-8A19-7655EEB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4065-A492-433A-A75F-FF1C8560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A95B-D097-4A6E-8C0D-D79BC230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F00E-E52E-40FE-9230-A8CA2BCB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2F5B-2447-466D-BD1D-B19CE9D3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DD69-F9B5-4B87-A4E7-97B97C5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DB9B-E4CA-4362-8100-1A2399E5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E0CD-B167-42EE-BC7D-E45FFA3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4E36-7B0C-47AE-B41F-21632FB3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CF01-0B8E-40E2-9AE7-37DF390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66D7-DBD7-453D-90CB-6AC5088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E0DA-72E4-46BC-8258-DAA1934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68C9-CBC0-4982-829A-A39A2BE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1AC8-7D90-4310-9054-9515D88D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077D-D702-42B9-93A2-D4E748D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9FCA-7112-4DA9-B8B4-0F2DB899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47B2-6A05-416E-A48C-5AFEE43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ECDA-3981-4E72-B5D0-960E116F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E2A5-AEEA-41EF-A7A5-6EBB1402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BB53-D52B-4C7C-A621-D7E09193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5AA7-074E-4394-B19D-E5F5EB0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A7E9-5126-4E53-A290-7C98293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9FA8-0F44-4877-8716-4221A4E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E94A-4556-4C63-A4B2-641E20C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5836-30D3-4DE2-AD4F-5BB92F7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78F5-D567-43D1-971E-5CD188EE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75A9-A854-45A6-9A9E-DA633226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615B-E94A-4EB9-9201-39C2AEB0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541DC-85D3-4BA6-A29D-FC8AAA4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2F5E-3D6F-4CCD-9B74-6324927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3F00-1CD7-4429-B1A5-C19F721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570D-D6AB-418E-9F3A-2A0F33D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25A2-B9F5-477D-8854-A9B620D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E83A-F679-4FDD-AAAD-FDCB915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6031-1000-47BB-AE8D-15A03FE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8D54-0180-4B15-95AC-7EF498F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0F58A-888C-40FD-BFC9-B2CF22BD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555A-D5D1-49F8-8E0F-C8027400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2D2A-BB68-4D76-93A4-FF2B320E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A6A9-65B7-4E1E-9B7F-420A2D4A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E817-601F-4EAD-9624-709DEB3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CE3C-D2B1-4855-A4B1-6CB1226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0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1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230-5BF0-4295-AEF5-31AD6E762F9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5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5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4E77-568C-41E2-88CA-A8DDCC24CD7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5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6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50" name="6 Rectángulo" descr=""/>
            <p:cNvPicPr/>
            <p:nvPr/>
          </p:nvPicPr>
          <p:blipFill>
            <a:blip r:embed="rId5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1 Imagen" descr=""/>
          <p:cNvPicPr/>
          <p:nvPr/>
        </p:nvPicPr>
        <p:blipFill>
          <a:blip r:embed="rId6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11 Imagen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9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9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ECF-8677-4EBE-9396-EF4FE957D1A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3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4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2212-A76B-455D-AE6D-4429F7ED830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8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8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062-74B9-4FA8-9169-6FF03B0A9BB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2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3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14F-044B-4836-B783-EBF54745984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7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7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0A1B-CA7E-411C-A652-69D3C393F9B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1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2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25F9-F327-4AFB-9E88-852C8ADF2F9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6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6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F6C9-3B7A-4A93-9F91-EBBC6AE1709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5 Grupo"/>
          <p:cNvGrpSpPr/>
          <p:nvPr/>
        </p:nvGrpSpPr>
        <p:grpSpPr>
          <a:xfrm>
            <a:off x="-30240" y="0"/>
            <a:ext cx="9174240" cy="6858000"/>
            <a:chOff x="-30240" y="0"/>
            <a:chExt cx="9174240" cy="6858000"/>
          </a:xfrm>
        </p:grpSpPr>
        <p:sp>
          <p:nvSpPr>
            <p:cNvPr id="505" name="1 Rectángulo"/>
            <p:cNvSpPr/>
            <p:nvPr/>
          </p:nvSpPr>
          <p:spPr>
            <a:xfrm>
              <a:off x="-30240" y="0"/>
              <a:ext cx="9174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4 Imagen" descr=""/>
            <p:cNvPicPr/>
            <p:nvPr/>
          </p:nvPicPr>
          <p:blipFill>
            <a:blip r:embed="rId1"/>
            <a:srcRect l="0" t="25110" r="0" b="0"/>
            <a:stretch/>
          </p:blipFill>
          <p:spPr>
            <a:xfrm>
              <a:off x="-30240" y="764640"/>
              <a:ext cx="9167760" cy="51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4 Imagen" descr=""/>
            <p:cNvPicPr/>
            <p:nvPr/>
          </p:nvPicPr>
          <p:blipFill>
            <a:blip r:embed="rId2"/>
            <a:srcRect l="0" t="36541" r="0" b="33685"/>
            <a:stretch/>
          </p:blipFill>
          <p:spPr>
            <a:xfrm>
              <a:off x="6804360" y="5805360"/>
              <a:ext cx="20548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216000" y="1413000"/>
            <a:ext cx="89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os departamentos más pobres (NBI) no se encontraban dentro de los principales receptores de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50920" y="909000"/>
            <a:ext cx="367344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Inequidad en la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"/>
          <p:cNvPicPr/>
          <p:nvPr/>
        </p:nvPicPr>
        <p:blipFill>
          <a:blip r:embed="rId1"/>
          <a:srcRect l="0" t="7156" r="2350" b="6181"/>
          <a:stretch/>
        </p:blipFill>
        <p:spPr>
          <a:xfrm>
            <a:off x="108000" y="2421000"/>
            <a:ext cx="8724960" cy="3887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6"/>
          <p:cNvSpPr/>
          <p:nvPr/>
        </p:nvSpPr>
        <p:spPr>
          <a:xfrm>
            <a:off x="4211640" y="26780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Pe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6588000" y="2678040"/>
            <a:ext cx="19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Mej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4211640" y="3213000"/>
            <a:ext cx="165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6661080" y="3213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622944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644508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CuadroTexto"/>
          <p:cNvSpPr/>
          <p:nvPr/>
        </p:nvSpPr>
        <p:spPr>
          <a:xfrm rot="16200000">
            <a:off x="-389880" y="3479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d8a"/>
                </a:solidFill>
                <a:latin typeface="Calibri"/>
              </a:rPr>
              <a:t>% NBI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2 Marcador de contenido"/>
          <p:cNvSpPr/>
          <p:nvPr/>
        </p:nvSpPr>
        <p:spPr>
          <a:xfrm>
            <a:off x="468360" y="1060560"/>
            <a:ext cx="4248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sisten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en términos de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NBI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  y bajo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PIB per cápi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 PIB per cápita promedio de Santander, Bogotá, Valle y Antioquia es 4 veces superior el PIB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 cápita promedio de Putumayo, Guaviare, Guainía, Chocó y Vaupé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n los niveles de desarrollo entre el centro y la periferia del paí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departamentos más pobre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y con menores niveles de competitividad poseen </a:t>
            </a:r>
            <a:r>
              <a:rPr b="1" lang="es-AR" sz="1700" spc="-1" strike="noStrike">
                <a:solidFill>
                  <a:srgbClr val="262673"/>
                </a:solidFill>
                <a:latin typeface="Calibri"/>
              </a:rPr>
              <a:t>menores niveles de desempeño institucional</a:t>
            </a:r>
            <a:r>
              <a:rPr b="0" lang="es-AR" sz="17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os proyectos que se ejecutaron no se tradujeron en un cambio importante en la calidad de vi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CO" sz="1700" spc="-1" strike="noStrike">
                <a:solidFill>
                  <a:srgbClr val="2d2d8a"/>
                </a:solidFill>
                <a:latin typeface="Calibri"/>
              </a:rPr>
              <a:t>destinación de los recursos no dejó espacio para el ahor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2 Flecha a la derecha con bandas"/>
          <p:cNvSpPr/>
          <p:nvPr/>
        </p:nvSpPr>
        <p:spPr>
          <a:xfrm>
            <a:off x="108000" y="17733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3 Flecha a la derecha con bandas"/>
          <p:cNvSpPr/>
          <p:nvPr/>
        </p:nvSpPr>
        <p:spPr>
          <a:xfrm>
            <a:off x="108000" y="11318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4 Flecha a la derecha con bandas"/>
          <p:cNvSpPr/>
          <p:nvPr/>
        </p:nvSpPr>
        <p:spPr>
          <a:xfrm>
            <a:off x="108000" y="443700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a la derecha con bandas"/>
          <p:cNvSpPr/>
          <p:nvPr/>
        </p:nvSpPr>
        <p:spPr>
          <a:xfrm>
            <a:off x="108000" y="335772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4768920" y="1117440"/>
            <a:ext cx="4357440" cy="5119920"/>
          </a:xfrm>
          <a:prstGeom prst="rect">
            <a:avLst/>
          </a:prstGeom>
          <a:ln w="0">
            <a:noFill/>
          </a:ln>
        </p:spPr>
      </p:pic>
      <p:sp>
        <p:nvSpPr>
          <p:cNvPr id="606" name="8 Flecha a la derecha con bandas"/>
          <p:cNvSpPr/>
          <p:nvPr/>
        </p:nvSpPr>
        <p:spPr>
          <a:xfrm>
            <a:off x="108000" y="573264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Flecha a la derecha con bandas"/>
          <p:cNvSpPr/>
          <p:nvPr/>
        </p:nvSpPr>
        <p:spPr>
          <a:xfrm>
            <a:off x="108000" y="50911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8"/>
          <p:cNvSpPr/>
          <p:nvPr/>
        </p:nvSpPr>
        <p:spPr>
          <a:xfrm>
            <a:off x="412920" y="90792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Calibri"/>
              </a:rPr>
              <a:t>PA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Calibri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3 Cheurón"/>
          <p:cNvSpPr/>
          <p:nvPr/>
        </p:nvSpPr>
        <p:spPr>
          <a:xfrm rot="10800000">
            <a:off x="61128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 Cheurón"/>
          <p:cNvSpPr/>
          <p:nvPr/>
        </p:nvSpPr>
        <p:spPr>
          <a:xfrm rot="10800000">
            <a:off x="25092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5 Cheurón"/>
          <p:cNvSpPr/>
          <p:nvPr/>
        </p:nvSpPr>
        <p:spPr>
          <a:xfrm rot="10800000">
            <a:off x="-107640" y="980640"/>
            <a:ext cx="503280" cy="79236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6 Grupo"/>
          <p:cNvGrpSpPr/>
          <p:nvPr/>
        </p:nvGrpSpPr>
        <p:grpSpPr>
          <a:xfrm>
            <a:off x="4211640" y="709560"/>
            <a:ext cx="4753080" cy="5672160"/>
            <a:chOff x="4211640" y="709560"/>
            <a:chExt cx="4753080" cy="5672160"/>
          </a:xfrm>
        </p:grpSpPr>
        <p:sp>
          <p:nvSpPr>
            <p:cNvPr id="615" name="Freeform 32"/>
            <p:cNvSpPr/>
            <p:nvPr/>
          </p:nvSpPr>
          <p:spPr>
            <a:xfrm>
              <a:off x="4798800" y="3253320"/>
              <a:ext cx="712800" cy="6714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"/>
            <p:cNvSpPr/>
            <p:nvPr/>
          </p:nvSpPr>
          <p:spPr>
            <a:xfrm>
              <a:off x="5511600" y="1271520"/>
              <a:ext cx="766800" cy="1297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297080"/>
                <a:gd name="textAreaBottom" fmla="*/ 1297080 h 129708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4609800" y="3817080"/>
              <a:ext cx="861840" cy="7995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197320" y="1740600"/>
              <a:ext cx="680760" cy="706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302520" y="709560"/>
              <a:ext cx="1001520" cy="698400"/>
            </a:xfrm>
            <a:custGeom>
              <a:avLst/>
              <a:gdLst>
                <a:gd name="textAreaLeft" fmla="*/ 0 w 1001520"/>
                <a:gd name="textAreaRight" fmla="*/ 1001880 w 10015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4211640" y="4027680"/>
              <a:ext cx="860400" cy="7995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73840" y="2180880"/>
              <a:ext cx="798480" cy="821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5511600" y="1503000"/>
              <a:ext cx="453960" cy="6303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6802560" y="2534040"/>
              <a:ext cx="1166760" cy="359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359280"/>
                <a:gd name="textAreaBottom" fmla="*/ 359280 h 35928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6537240" y="2798640"/>
              <a:ext cx="1284120" cy="69192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4924440" y="4461840"/>
              <a:ext cx="1314360" cy="6778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4289400" y="777600"/>
              <a:ext cx="696960" cy="6508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266 Grupo" descr=""/>
            <p:cNvPicPr/>
            <p:nvPr/>
          </p:nvPicPr>
          <p:blipFill>
            <a:blip r:embed="rId1"/>
            <a:stretch/>
          </p:blipFill>
          <p:spPr>
            <a:xfrm>
              <a:off x="6022800" y="4897800"/>
              <a:ext cx="196920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Freeform 16"/>
            <p:cNvSpPr/>
            <p:nvPr/>
          </p:nvSpPr>
          <p:spPr>
            <a:xfrm>
              <a:off x="7413840" y="3579480"/>
              <a:ext cx="1550880" cy="9835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983520"/>
                <a:gd name="textAreaBottom" fmla="*/ 983880 h 98352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7"/>
            <p:cNvSpPr/>
            <p:nvPr/>
          </p:nvSpPr>
          <p:spPr>
            <a:xfrm>
              <a:off x="6318360" y="3953520"/>
              <a:ext cx="1423800" cy="76644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8"/>
            <p:cNvSpPr/>
            <p:nvPr/>
          </p:nvSpPr>
          <p:spPr>
            <a:xfrm>
              <a:off x="6943680" y="4238640"/>
              <a:ext cx="1135080" cy="1118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7320240" y="2798640"/>
              <a:ext cx="1431720" cy="12146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1214640"/>
                <a:gd name="textAreaBottom" fmla="*/ 1214640 h 1214640"/>
              </a:gdLst>
              <a:ahLst/>
              <a:rect l="textAreaLeft" t="textAreaTop" r="textAreaRight" b="textAreaBottom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0"/>
            <p:cNvSpPr/>
            <p:nvPr/>
          </p:nvSpPr>
          <p:spPr>
            <a:xfrm>
              <a:off x="5159160" y="3647520"/>
              <a:ext cx="828720" cy="7869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"/>
            <p:cNvSpPr/>
            <p:nvPr/>
          </p:nvSpPr>
          <p:spPr>
            <a:xfrm>
              <a:off x="5424480" y="2982240"/>
              <a:ext cx="509400" cy="332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>
              <a:off x="4948200" y="1924200"/>
              <a:ext cx="1282680" cy="116568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"/>
            <p:cNvSpPr/>
            <p:nvPr/>
          </p:nvSpPr>
          <p:spPr>
            <a:xfrm>
              <a:off x="6326280" y="1788120"/>
              <a:ext cx="609480" cy="813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"/>
            <p:cNvSpPr/>
            <p:nvPr/>
          </p:nvSpPr>
          <p:spPr>
            <a:xfrm>
              <a:off x="6113520" y="1252800"/>
              <a:ext cx="525240" cy="10785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1078560"/>
                <a:gd name="textAreaBottom" fmla="*/ 1078560 h 107856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5808600" y="1081440"/>
              <a:ext cx="531720" cy="81396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6"/>
            <p:cNvSpPr/>
            <p:nvPr/>
          </p:nvSpPr>
          <p:spPr>
            <a:xfrm>
              <a:off x="5675400" y="1176480"/>
              <a:ext cx="218880" cy="284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7"/>
            <p:cNvSpPr/>
            <p:nvPr/>
          </p:nvSpPr>
          <p:spPr>
            <a:xfrm>
              <a:off x="5284800" y="3939120"/>
              <a:ext cx="1941480" cy="124164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"/>
            <p:cNvSpPr/>
            <p:nvPr/>
          </p:nvSpPr>
          <p:spPr>
            <a:xfrm>
              <a:off x="5816520" y="3280320"/>
              <a:ext cx="1503360" cy="1119600"/>
            </a:xfrm>
            <a:custGeom>
              <a:avLst/>
              <a:gdLst>
                <a:gd name="textAreaLeft" fmla="*/ 0 w 1503360"/>
                <a:gd name="textAreaRight" fmla="*/ 1503720 w 1503360"/>
                <a:gd name="textAreaTop" fmla="*/ 0 h 1119600"/>
                <a:gd name="textAreaBottom" fmla="*/ 1119960 h 111960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"/>
            <p:cNvSpPr/>
            <p:nvPr/>
          </p:nvSpPr>
          <p:spPr>
            <a:xfrm>
              <a:off x="5925960" y="2540520"/>
              <a:ext cx="1057320" cy="82188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0"/>
            <p:cNvSpPr/>
            <p:nvPr/>
          </p:nvSpPr>
          <p:spPr>
            <a:xfrm>
              <a:off x="4649760" y="2011320"/>
              <a:ext cx="728640" cy="15822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1582200"/>
                <a:gd name="textAreaBottom" fmla="*/ 1582560 h 158220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1"/>
            <p:cNvSpPr/>
            <p:nvPr/>
          </p:nvSpPr>
          <p:spPr>
            <a:xfrm>
              <a:off x="5307120" y="3050640"/>
              <a:ext cx="330120" cy="305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40320" y="3341880"/>
              <a:ext cx="196560" cy="21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5362560" y="3137760"/>
              <a:ext cx="625320" cy="80136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5824440" y="2961720"/>
              <a:ext cx="720720" cy="7333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48"/>
            <p:cNvGrpSpPr/>
            <p:nvPr/>
          </p:nvGrpSpPr>
          <p:grpSpPr>
            <a:xfrm>
              <a:off x="4308480" y="1091160"/>
              <a:ext cx="4310280" cy="4396680"/>
              <a:chOff x="4308480" y="1091160"/>
              <a:chExt cx="4310280" cy="4396680"/>
            </a:xfrm>
          </p:grpSpPr>
          <p:sp>
            <p:nvSpPr>
              <p:cNvPr id="648" name="65 CuadroTexto"/>
              <p:cNvSpPr/>
              <p:nvPr/>
            </p:nvSpPr>
            <p:spPr>
              <a:xfrm>
                <a:off x="6491880" y="420984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70 CuadroTexto"/>
              <p:cNvSpPr/>
              <p:nvPr/>
            </p:nvSpPr>
            <p:spPr>
              <a:xfrm>
                <a:off x="4308480" y="437292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91"/>
              <p:cNvGrpSpPr/>
              <p:nvPr/>
            </p:nvGrpSpPr>
            <p:grpSpPr>
              <a:xfrm>
                <a:off x="4471920" y="1091160"/>
                <a:ext cx="4146840" cy="4396680"/>
                <a:chOff x="4471920" y="1091160"/>
                <a:chExt cx="4146840" cy="4396680"/>
              </a:xfrm>
            </p:grpSpPr>
            <p:sp>
              <p:nvSpPr>
                <p:cNvPr id="651" name="61 CuadroTexto"/>
                <p:cNvSpPr/>
                <p:nvPr/>
              </p:nvSpPr>
              <p:spPr>
                <a:xfrm>
                  <a:off x="7143480" y="2595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62 CuadroTexto"/>
                <p:cNvSpPr/>
                <p:nvPr/>
              </p:nvSpPr>
              <p:spPr>
                <a:xfrm>
                  <a:off x="6817680" y="3048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63 CuadroTexto"/>
                <p:cNvSpPr/>
                <p:nvPr/>
              </p:nvSpPr>
              <p:spPr>
                <a:xfrm>
                  <a:off x="7664760" y="3252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64 CuadroTexto"/>
                <p:cNvSpPr/>
                <p:nvPr/>
              </p:nvSpPr>
              <p:spPr>
                <a:xfrm>
                  <a:off x="7902000" y="3930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66 CuadroTexto"/>
                <p:cNvSpPr/>
                <p:nvPr/>
              </p:nvSpPr>
              <p:spPr>
                <a:xfrm>
                  <a:off x="7078320" y="46155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67 CuadroTexto"/>
                <p:cNvSpPr/>
                <p:nvPr/>
              </p:nvSpPr>
              <p:spPr>
                <a:xfrm>
                  <a:off x="6687360" y="52873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68 CuadroTexto"/>
                <p:cNvSpPr/>
                <p:nvPr/>
              </p:nvSpPr>
              <p:spPr>
                <a:xfrm>
                  <a:off x="5799960" y="462888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69 CuadroTexto"/>
                <p:cNvSpPr/>
                <p:nvPr/>
              </p:nvSpPr>
              <p:spPr>
                <a:xfrm>
                  <a:off x="6231240" y="36979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71 CuadroTexto"/>
                <p:cNvSpPr/>
                <p:nvPr/>
              </p:nvSpPr>
              <p:spPr>
                <a:xfrm>
                  <a:off x="4928040" y="46353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72 CuadroTexto"/>
                <p:cNvSpPr/>
                <p:nvPr/>
              </p:nvSpPr>
              <p:spPr>
                <a:xfrm>
                  <a:off x="5081760" y="40957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74 CuadroTexto"/>
                <p:cNvSpPr/>
                <p:nvPr/>
              </p:nvSpPr>
              <p:spPr>
                <a:xfrm>
                  <a:off x="5319000" y="35575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76 CuadroTexto"/>
                <p:cNvSpPr/>
                <p:nvPr/>
              </p:nvSpPr>
              <p:spPr>
                <a:xfrm>
                  <a:off x="5758200" y="3303360"/>
                  <a:ext cx="9122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77 CuadroTexto"/>
                <p:cNvSpPr/>
                <p:nvPr/>
              </p:nvSpPr>
              <p:spPr>
                <a:xfrm>
                  <a:off x="6166080" y="29592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90"/>
                <p:cNvGrpSpPr/>
                <p:nvPr/>
              </p:nvGrpSpPr>
              <p:grpSpPr>
                <a:xfrm>
                  <a:off x="4471920" y="1091160"/>
                  <a:ext cx="2761920" cy="3112200"/>
                  <a:chOff x="4471920" y="1091160"/>
                  <a:chExt cx="2761920" cy="3112200"/>
                </a:xfrm>
              </p:grpSpPr>
              <p:sp>
                <p:nvSpPr>
                  <p:cNvPr id="665" name="79 CuadroTexto"/>
                  <p:cNvSpPr/>
                  <p:nvPr/>
                </p:nvSpPr>
                <p:spPr>
                  <a:xfrm>
                    <a:off x="5384160" y="3013200"/>
                    <a:ext cx="7167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CO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6" name="Group 89"/>
                  <p:cNvGrpSpPr/>
                  <p:nvPr/>
                </p:nvGrpSpPr>
                <p:grpSpPr>
                  <a:xfrm>
                    <a:off x="4471920" y="1091160"/>
                    <a:ext cx="2761920" cy="3112200"/>
                    <a:chOff x="4471920" y="1091160"/>
                    <a:chExt cx="2761920" cy="3112200"/>
                  </a:xfrm>
                </p:grpSpPr>
                <p:sp>
                  <p:nvSpPr>
                    <p:cNvPr id="667" name="52 CuadroTexto"/>
                    <p:cNvSpPr/>
                    <p:nvPr/>
                  </p:nvSpPr>
                  <p:spPr>
                    <a:xfrm>
                      <a:off x="5775120" y="1244160"/>
                      <a:ext cx="78192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O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8" name="Group 89"/>
                    <p:cNvGrpSpPr/>
                    <p:nvPr/>
                  </p:nvGrpSpPr>
                  <p:grpSpPr>
                    <a:xfrm>
                      <a:off x="4471920" y="1091160"/>
                      <a:ext cx="2761920" cy="3112200"/>
                      <a:chOff x="4471920" y="1091160"/>
                      <a:chExt cx="2761920" cy="3112200"/>
                    </a:xfrm>
                  </p:grpSpPr>
                  <p:sp>
                    <p:nvSpPr>
                      <p:cNvPr id="669" name="51 CuadroTexto"/>
                      <p:cNvSpPr/>
                      <p:nvPr/>
                    </p:nvSpPr>
                    <p:spPr>
                      <a:xfrm>
                        <a:off x="6279840" y="109116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53 CuadroTexto"/>
                      <p:cNvSpPr/>
                      <p:nvPr/>
                    </p:nvSpPr>
                    <p:spPr>
                      <a:xfrm>
                        <a:off x="6166080" y="14724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54 CuadroTexto"/>
                      <p:cNvSpPr/>
                      <p:nvPr/>
                    </p:nvSpPr>
                    <p:spPr>
                      <a:xfrm>
                        <a:off x="5253840" y="20448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55 CuadroTexto"/>
                      <p:cNvSpPr/>
                      <p:nvPr/>
                    </p:nvSpPr>
                    <p:spPr>
                      <a:xfrm>
                        <a:off x="5449320" y="16632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56 CuadroTexto"/>
                      <p:cNvSpPr/>
                      <p:nvPr/>
                    </p:nvSpPr>
                    <p:spPr>
                      <a:xfrm>
                        <a:off x="4471920" y="1154520"/>
                        <a:ext cx="91224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57 CuadroTexto"/>
                      <p:cNvSpPr/>
                      <p:nvPr/>
                    </p:nvSpPr>
                    <p:spPr>
                      <a:xfrm>
                        <a:off x="5823720" y="20563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58 CuadroTexto"/>
                      <p:cNvSpPr/>
                      <p:nvPr/>
                    </p:nvSpPr>
                    <p:spPr>
                      <a:xfrm>
                        <a:off x="5319000" y="11545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59 CuadroTexto"/>
                      <p:cNvSpPr/>
                      <p:nvPr/>
                    </p:nvSpPr>
                    <p:spPr>
                      <a:xfrm>
                        <a:off x="6386760" y="2069280"/>
                        <a:ext cx="8470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60 CuadroTexto"/>
                      <p:cNvSpPr/>
                      <p:nvPr/>
                    </p:nvSpPr>
                    <p:spPr>
                      <a:xfrm>
                        <a:off x="6002280" y="2659320"/>
                        <a:ext cx="8017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73 CuadroTexto"/>
                      <p:cNvSpPr/>
                      <p:nvPr/>
                    </p:nvSpPr>
                    <p:spPr>
                      <a:xfrm>
                        <a:off x="4667400" y="400284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75 CuadroTexto"/>
                      <p:cNvSpPr/>
                      <p:nvPr/>
                    </p:nvSpPr>
                    <p:spPr>
                      <a:xfrm>
                        <a:off x="4732560" y="2935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78 CuadroTexto"/>
                      <p:cNvSpPr/>
                      <p:nvPr/>
                    </p:nvSpPr>
                    <p:spPr>
                      <a:xfrm>
                        <a:off x="5123520" y="3331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80 CuadroTexto"/>
                      <p:cNvSpPr/>
                      <p:nvPr/>
                    </p:nvSpPr>
                    <p:spPr>
                      <a:xfrm>
                        <a:off x="4928040" y="3140280"/>
                        <a:ext cx="8791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81 CuadroTexto"/>
                      <p:cNvSpPr/>
                      <p:nvPr/>
                    </p:nvSpPr>
                    <p:spPr>
                      <a:xfrm>
                        <a:off x="5188680" y="2617200"/>
                        <a:ext cx="7819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82 CuadroTexto"/>
                      <p:cNvSpPr/>
                      <p:nvPr/>
                    </p:nvSpPr>
                    <p:spPr>
                      <a:xfrm>
                        <a:off x="4822560" y="3562560"/>
                        <a:ext cx="7167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84" name="78 CuadroTexto"/>
          <p:cNvSpPr/>
          <p:nvPr/>
        </p:nvSpPr>
        <p:spPr>
          <a:xfrm>
            <a:off x="7020000" y="194940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22268"/>
                </a:solidFill>
                <a:latin typeface="Tahoma"/>
              </a:rPr>
              <a:t>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261 Grupo"/>
          <p:cNvGrpSpPr/>
          <p:nvPr/>
        </p:nvGrpSpPr>
        <p:grpSpPr>
          <a:xfrm>
            <a:off x="638280" y="5143680"/>
            <a:ext cx="2520720" cy="307080"/>
            <a:chOff x="638280" y="5143680"/>
            <a:chExt cx="2520720" cy="307080"/>
          </a:xfrm>
        </p:grpSpPr>
        <p:sp>
          <p:nvSpPr>
            <p:cNvPr id="686" name="95 Rectángulo"/>
            <p:cNvSpPr/>
            <p:nvPr/>
          </p:nvSpPr>
          <p:spPr>
            <a:xfrm>
              <a:off x="638280" y="5192640"/>
              <a:ext cx="431640" cy="17928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96 CuadroTexto"/>
            <p:cNvSpPr/>
            <p:nvPr/>
          </p:nvSpPr>
          <p:spPr>
            <a:xfrm>
              <a:off x="1143000" y="51436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262 Grupo"/>
          <p:cNvGrpSpPr/>
          <p:nvPr/>
        </p:nvGrpSpPr>
        <p:grpSpPr>
          <a:xfrm>
            <a:off x="638280" y="5454720"/>
            <a:ext cx="2520720" cy="307080"/>
            <a:chOff x="638280" y="5454720"/>
            <a:chExt cx="2520720" cy="307080"/>
          </a:xfrm>
        </p:grpSpPr>
        <p:sp>
          <p:nvSpPr>
            <p:cNvPr id="689" name="98 Rectángulo"/>
            <p:cNvSpPr/>
            <p:nvPr/>
          </p:nvSpPr>
          <p:spPr>
            <a:xfrm>
              <a:off x="638280" y="5503680"/>
              <a:ext cx="431640" cy="17928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99 CuadroTexto"/>
            <p:cNvSpPr/>
            <p:nvPr/>
          </p:nvSpPr>
          <p:spPr>
            <a:xfrm>
              <a:off x="1143000" y="54547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263 Grupo"/>
          <p:cNvGrpSpPr/>
          <p:nvPr/>
        </p:nvGrpSpPr>
        <p:grpSpPr>
          <a:xfrm>
            <a:off x="638280" y="5764320"/>
            <a:ext cx="2520720" cy="307080"/>
            <a:chOff x="638280" y="5764320"/>
            <a:chExt cx="2520720" cy="307080"/>
          </a:xfrm>
        </p:grpSpPr>
        <p:sp>
          <p:nvSpPr>
            <p:cNvPr id="692" name="101 Rectángulo"/>
            <p:cNvSpPr/>
            <p:nvPr/>
          </p:nvSpPr>
          <p:spPr>
            <a:xfrm>
              <a:off x="638280" y="5813280"/>
              <a:ext cx="431640" cy="17928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102 CuadroTexto"/>
            <p:cNvSpPr/>
            <p:nvPr/>
          </p:nvSpPr>
          <p:spPr>
            <a:xfrm>
              <a:off x="1143000" y="57643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264 Grupo"/>
          <p:cNvGrpSpPr/>
          <p:nvPr/>
        </p:nvGrpSpPr>
        <p:grpSpPr>
          <a:xfrm>
            <a:off x="638280" y="6075360"/>
            <a:ext cx="2236680" cy="307080"/>
            <a:chOff x="638280" y="6075360"/>
            <a:chExt cx="2236680" cy="307080"/>
          </a:xfrm>
        </p:grpSpPr>
        <p:sp>
          <p:nvSpPr>
            <p:cNvPr id="695" name="104 Rectángulo"/>
            <p:cNvSpPr/>
            <p:nvPr/>
          </p:nvSpPr>
          <p:spPr>
            <a:xfrm>
              <a:off x="638280" y="6122880"/>
              <a:ext cx="431640" cy="17928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105 CuadroTexto"/>
            <p:cNvSpPr/>
            <p:nvPr/>
          </p:nvSpPr>
          <p:spPr>
            <a:xfrm>
              <a:off x="1143000" y="607536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261 Grupo"/>
          <p:cNvGrpSpPr/>
          <p:nvPr/>
        </p:nvGrpSpPr>
        <p:grpSpPr>
          <a:xfrm>
            <a:off x="636480" y="4834080"/>
            <a:ext cx="2522520" cy="307080"/>
            <a:chOff x="636480" y="4834080"/>
            <a:chExt cx="2522520" cy="307080"/>
          </a:xfrm>
        </p:grpSpPr>
        <p:sp>
          <p:nvSpPr>
            <p:cNvPr id="698" name="95 Rectángulo"/>
            <p:cNvSpPr/>
            <p:nvPr/>
          </p:nvSpPr>
          <p:spPr>
            <a:xfrm>
              <a:off x="636480" y="4883040"/>
              <a:ext cx="431640" cy="17928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96 CuadroTexto"/>
            <p:cNvSpPr/>
            <p:nvPr/>
          </p:nvSpPr>
          <p:spPr>
            <a:xfrm>
              <a:off x="1141200" y="483408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261 Grupo"/>
          <p:cNvGrpSpPr/>
          <p:nvPr/>
        </p:nvGrpSpPr>
        <p:grpSpPr>
          <a:xfrm>
            <a:off x="638280" y="4527720"/>
            <a:ext cx="1944720" cy="307080"/>
            <a:chOff x="638280" y="4527720"/>
            <a:chExt cx="1944720" cy="307080"/>
          </a:xfrm>
        </p:grpSpPr>
        <p:sp>
          <p:nvSpPr>
            <p:cNvPr id="701" name="95 Rectángulo"/>
            <p:cNvSpPr/>
            <p:nvPr/>
          </p:nvSpPr>
          <p:spPr>
            <a:xfrm>
              <a:off x="638280" y="4576680"/>
              <a:ext cx="431640" cy="179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96 CuadroTexto"/>
            <p:cNvSpPr/>
            <p:nvPr/>
          </p:nvSpPr>
          <p:spPr>
            <a:xfrm>
              <a:off x="1143000" y="452772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106 CuadroTexto"/>
          <p:cNvSpPr/>
          <p:nvPr/>
        </p:nvSpPr>
        <p:spPr>
          <a:xfrm>
            <a:off x="539640" y="3778200"/>
            <a:ext cx="2303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222268"/>
                </a:solidFill>
                <a:latin typeface="Calibri"/>
              </a:rPr>
              <a:t>2002 –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98 Rectángulo"/>
          <p:cNvSpPr/>
          <p:nvPr/>
        </p:nvSpPr>
        <p:spPr>
          <a:xfrm>
            <a:off x="250920" y="2133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12 municip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10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3" descr=""/>
          <p:cNvPicPr/>
          <p:nvPr/>
        </p:nvPicPr>
        <p:blipFill>
          <a:blip r:embed="rId1"/>
          <a:srcRect l="1658" t="1613" r="2188" b="1573"/>
          <a:stretch/>
        </p:blipFill>
        <p:spPr>
          <a:xfrm>
            <a:off x="250920" y="191628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708" name="7 CuadroTexto"/>
          <p:cNvSpPr/>
          <p:nvPr/>
        </p:nvSpPr>
        <p:spPr>
          <a:xfrm>
            <a:off x="34920" y="653580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Información DNP-D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2 CuadroTexto"/>
          <p:cNvSpPr/>
          <p:nvPr/>
        </p:nvSpPr>
        <p:spPr>
          <a:xfrm>
            <a:off x="1130400" y="191628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ducción de la pobreza según NBI (1993-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4 Conector recto"/>
          <p:cNvSpPr/>
          <p:nvPr/>
        </p:nvSpPr>
        <p:spPr>
          <a:xfrm>
            <a:off x="851040" y="2995560"/>
            <a:ext cx="792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26 CuadroTexto"/>
          <p:cNvSpPr/>
          <p:nvPr/>
        </p:nvSpPr>
        <p:spPr>
          <a:xfrm rot="16200000">
            <a:off x="7636320" y="22647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hoc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27 CuadroTexto"/>
          <p:cNvSpPr/>
          <p:nvPr/>
        </p:nvSpPr>
        <p:spPr>
          <a:xfrm rot="16200000">
            <a:off x="7868160" y="22885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Guaj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28 CuadroTexto"/>
          <p:cNvSpPr/>
          <p:nvPr/>
        </p:nvSpPr>
        <p:spPr>
          <a:xfrm rot="16200000">
            <a:off x="7957800" y="250560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San And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29 CuadroTexto"/>
          <p:cNvSpPr/>
          <p:nvPr/>
        </p:nvSpPr>
        <p:spPr>
          <a:xfrm>
            <a:off x="7411680" y="333684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omedio 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itle 1"/>
          <p:cNvSpPr/>
          <p:nvPr/>
        </p:nvSpPr>
        <p:spPr>
          <a:xfrm>
            <a:off x="4932360" y="4437000"/>
            <a:ext cx="3767040" cy="15843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lgunos de los principales receptores no lograron los mejores resultados en reducción del N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10 CuadroTexto"/>
          <p:cNvSpPr/>
          <p:nvPr/>
        </p:nvSpPr>
        <p:spPr>
          <a:xfrm>
            <a:off x="0" y="806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  <a:ea typeface="ＭＳ Ｐゴシック"/>
              </a:rPr>
              <a:t>Logros sociales insuficientes frente a los montos de regal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rcRect l="11664" t="2626" r="1680" b="10910"/>
          <a:stretch/>
        </p:blipFill>
        <p:spPr>
          <a:xfrm>
            <a:off x="108000" y="1916280"/>
            <a:ext cx="8640720" cy="403380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139"/>
          <p:cNvSpPr/>
          <p:nvPr/>
        </p:nvSpPr>
        <p:spPr>
          <a:xfrm>
            <a:off x="34920" y="2133720"/>
            <a:ext cx="2881440" cy="863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galías To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período 2000-20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4 Cerrar llave"/>
          <p:cNvSpPr/>
          <p:nvPr/>
        </p:nvSpPr>
        <p:spPr>
          <a:xfrm rot="5400000">
            <a:off x="6610680" y="1916640"/>
            <a:ext cx="720720" cy="316692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3166920"/>
              <a:gd name="textAreaBottom" fmla="*/ 314820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10"/>
                </a:cubicBezTo>
                <a:lnTo>
                  <a:pt x="10800" y="10390"/>
                </a:lnTo>
                <a:cubicBezTo>
                  <a:pt x="10800" y="10595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10"/>
                </a:cubicBezTo>
                <a:lnTo>
                  <a:pt x="10800" y="21190"/>
                </a:lnTo>
                <a:cubicBezTo>
                  <a:pt x="10800" y="2139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5 Llamada rectangular"/>
          <p:cNvSpPr/>
          <p:nvPr/>
        </p:nvSpPr>
        <p:spPr>
          <a:xfrm>
            <a:off x="5388120" y="4076640"/>
            <a:ext cx="3095640" cy="1079640"/>
          </a:xfrm>
          <a:prstGeom prst="wedgeRectCallout">
            <a:avLst>
              <a:gd name="adj1" fmla="val -1467"/>
              <a:gd name="adj2" fmla="val -7242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2268"/>
                </a:solidFill>
                <a:latin typeface="Calibri"/>
                <a:ea typeface="ＭＳ Ｐゴシック"/>
              </a:rPr>
              <a:t>¿Deben estos recursos concentrarse en pocas regiones, o en todo el paí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13 CuadroTexto"/>
          <p:cNvSpPr/>
          <p:nvPr/>
        </p:nvSpPr>
        <p:spPr>
          <a:xfrm>
            <a:off x="324000" y="3132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00-2011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25.8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14 CuadroTexto"/>
          <p:cNvSpPr/>
          <p:nvPr/>
        </p:nvSpPr>
        <p:spPr>
          <a:xfrm>
            <a:off x="5508720" y="29876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12-2020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48.1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6"/>
          <p:cNvSpPr/>
          <p:nvPr/>
        </p:nvSpPr>
        <p:spPr>
          <a:xfrm>
            <a:off x="34920" y="652464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15 Rectángulo"/>
          <p:cNvSpPr/>
          <p:nvPr/>
        </p:nvSpPr>
        <p:spPr>
          <a:xfrm>
            <a:off x="108000" y="870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Las regalías creceran por cuenta de la expansión de la actividad minero energé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8 Rectángulo redondeado"/>
          <p:cNvSpPr/>
          <p:nvPr/>
        </p:nvSpPr>
        <p:spPr>
          <a:xfrm>
            <a:off x="0" y="2600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5 Rectángulo redondeado"/>
          <p:cNvSpPr/>
          <p:nvPr/>
        </p:nvSpPr>
        <p:spPr>
          <a:xfrm>
            <a:off x="0" y="386064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4920" y="2781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4920" y="3843360"/>
            <a:ext cx="910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3. Sistema General de Regalías -SGR-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71280" y="69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Principios de l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2"/>
          <p:cNvGrpSpPr/>
          <p:nvPr/>
        </p:nvGrpSpPr>
        <p:grpSpPr>
          <a:xfrm>
            <a:off x="944640" y="3216240"/>
            <a:ext cx="1323360" cy="1375200"/>
            <a:chOff x="944640" y="3216240"/>
            <a:chExt cx="1323360" cy="1375200"/>
          </a:xfrm>
        </p:grpSpPr>
        <p:pic>
          <p:nvPicPr>
            <p:cNvPr id="737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944640" y="3216240"/>
              <a:ext cx="1323360" cy="13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4"/>
            <p:cNvSpPr/>
            <p:nvPr/>
          </p:nvSpPr>
          <p:spPr>
            <a:xfrm>
              <a:off x="944640" y="3216240"/>
              <a:ext cx="1315080" cy="1314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c6e8e8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5"/>
            <p:cNvGrpSpPr/>
            <p:nvPr/>
          </p:nvGrpSpPr>
          <p:grpSpPr>
            <a:xfrm>
              <a:off x="1035720" y="4125600"/>
              <a:ext cx="1164240" cy="465840"/>
              <a:chOff x="1035720" y="4125600"/>
              <a:chExt cx="1164240" cy="465840"/>
            </a:xfrm>
          </p:grpSpPr>
          <p:grpSp>
            <p:nvGrpSpPr>
              <p:cNvPr id="740" name="Group 6"/>
              <p:cNvGrpSpPr/>
              <p:nvPr/>
            </p:nvGrpSpPr>
            <p:grpSpPr>
              <a:xfrm>
                <a:off x="1239120" y="4125600"/>
                <a:ext cx="960840" cy="438840"/>
                <a:chOff x="1239120" y="4125600"/>
                <a:chExt cx="960840" cy="438840"/>
              </a:xfrm>
            </p:grpSpPr>
            <p:sp>
              <p:nvSpPr>
                <p:cNvPr id="741" name="AutoShape 7"/>
                <p:cNvSpPr/>
                <p:nvPr/>
              </p:nvSpPr>
              <p:spPr>
                <a:xfrm flipH="1" flipV="1" rot="3964800">
                  <a:off x="1761120" y="39956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8"/>
                <p:cNvSpPr/>
                <p:nvPr/>
              </p:nvSpPr>
              <p:spPr>
                <a:xfrm flipH="1" flipV="1" rot="4780200">
                  <a:off x="1653120" y="40388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9"/>
                <p:cNvSpPr/>
                <p:nvPr/>
              </p:nvSpPr>
              <p:spPr>
                <a:xfrm flipH="1" flipV="1" rot="5076000">
                  <a:off x="1587240" y="404712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10"/>
                <p:cNvSpPr/>
                <p:nvPr/>
              </p:nvSpPr>
              <p:spPr>
                <a:xfrm flipH="1" flipV="1" rot="5608200">
                  <a:off x="1506960" y="4055760"/>
                  <a:ext cx="17028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11"/>
              <p:cNvGrpSpPr/>
              <p:nvPr/>
            </p:nvGrpSpPr>
            <p:grpSpPr>
              <a:xfrm>
                <a:off x="1035720" y="4132080"/>
                <a:ext cx="958680" cy="459360"/>
                <a:chOff x="1035720" y="4132080"/>
                <a:chExt cx="958680" cy="459360"/>
              </a:xfrm>
            </p:grpSpPr>
            <p:sp>
              <p:nvSpPr>
                <p:cNvPr id="746" name="AutoShape 12"/>
                <p:cNvSpPr/>
                <p:nvPr/>
              </p:nvSpPr>
              <p:spPr>
                <a:xfrm flipH="1" flipV="1" rot="5318400">
                  <a:off x="1558080" y="405540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AutoShape 13"/>
                <p:cNvSpPr/>
                <p:nvPr/>
              </p:nvSpPr>
              <p:spPr>
                <a:xfrm flipH="1" flipV="1" rot="6133800">
                  <a:off x="1441800" y="405396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14"/>
                <p:cNvSpPr/>
                <p:nvPr/>
              </p:nvSpPr>
              <p:spPr>
                <a:xfrm flipH="1" flipV="1" rot="6429600">
                  <a:off x="1377360" y="403704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15"/>
                <p:cNvSpPr/>
                <p:nvPr/>
              </p:nvSpPr>
              <p:spPr>
                <a:xfrm flipH="1" flipV="1" rot="6961800">
                  <a:off x="1300680" y="401292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0" name="Group 16"/>
          <p:cNvGrpSpPr/>
          <p:nvPr/>
        </p:nvGrpSpPr>
        <p:grpSpPr>
          <a:xfrm>
            <a:off x="2916360" y="3260880"/>
            <a:ext cx="1358280" cy="1343520"/>
            <a:chOff x="2916360" y="3260880"/>
            <a:chExt cx="1358280" cy="1343520"/>
          </a:xfrm>
        </p:grpSpPr>
        <p:pic>
          <p:nvPicPr>
            <p:cNvPr id="75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16360" y="3260880"/>
              <a:ext cx="1358280" cy="12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Oval 18"/>
            <p:cNvSpPr/>
            <p:nvPr/>
          </p:nvSpPr>
          <p:spPr>
            <a:xfrm>
              <a:off x="2916360" y="3260880"/>
              <a:ext cx="1350000" cy="1275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d1d1e8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19"/>
            <p:cNvGrpSpPr/>
            <p:nvPr/>
          </p:nvGrpSpPr>
          <p:grpSpPr>
            <a:xfrm>
              <a:off x="3012120" y="4134960"/>
              <a:ext cx="1189800" cy="469440"/>
              <a:chOff x="3012120" y="4134960"/>
              <a:chExt cx="1189800" cy="469440"/>
            </a:xfrm>
          </p:grpSpPr>
          <p:grpSp>
            <p:nvGrpSpPr>
              <p:cNvPr id="754" name="Group 20"/>
              <p:cNvGrpSpPr/>
              <p:nvPr/>
            </p:nvGrpSpPr>
            <p:grpSpPr>
              <a:xfrm>
                <a:off x="3219840" y="4134960"/>
                <a:ext cx="982080" cy="441000"/>
                <a:chOff x="3219840" y="4134960"/>
                <a:chExt cx="982080" cy="441000"/>
              </a:xfrm>
            </p:grpSpPr>
            <p:sp>
              <p:nvSpPr>
                <p:cNvPr id="755" name="AutoShape 21"/>
                <p:cNvSpPr/>
                <p:nvPr/>
              </p:nvSpPr>
              <p:spPr>
                <a:xfrm flipH="1" flipV="1" rot="3964800">
                  <a:off x="3758400" y="399708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2"/>
                <p:cNvSpPr/>
                <p:nvPr/>
              </p:nvSpPr>
              <p:spPr>
                <a:xfrm flipH="1" flipV="1" rot="4780200">
                  <a:off x="3647880" y="4041720"/>
                  <a:ext cx="165240" cy="71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3"/>
                <p:cNvSpPr/>
                <p:nvPr/>
              </p:nvSpPr>
              <p:spPr>
                <a:xfrm flipH="1" flipV="1" rot="5076000">
                  <a:off x="3579840" y="405072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4"/>
                <p:cNvSpPr/>
                <p:nvPr/>
              </p:nvSpPr>
              <p:spPr>
                <a:xfrm flipH="1" flipV="1" rot="5608200">
                  <a:off x="3498480" y="405900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25"/>
              <p:cNvGrpSpPr/>
              <p:nvPr/>
            </p:nvGrpSpPr>
            <p:grpSpPr>
              <a:xfrm>
                <a:off x="3012120" y="4142160"/>
                <a:ext cx="981000" cy="462240"/>
                <a:chOff x="3012120" y="4142160"/>
                <a:chExt cx="981000" cy="462240"/>
              </a:xfrm>
            </p:grpSpPr>
            <p:sp>
              <p:nvSpPr>
                <p:cNvPr id="760" name="AutoShape 26"/>
                <p:cNvSpPr/>
                <p:nvPr/>
              </p:nvSpPr>
              <p:spPr>
                <a:xfrm flipH="1" flipV="1" rot="5318400">
                  <a:off x="3549960" y="4057200"/>
                  <a:ext cx="165240" cy="71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27"/>
                <p:cNvSpPr/>
                <p:nvPr/>
              </p:nvSpPr>
              <p:spPr>
                <a:xfrm flipH="1" flipV="1" rot="6133800">
                  <a:off x="3431160" y="405504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28"/>
                <p:cNvSpPr/>
                <p:nvPr/>
              </p:nvSpPr>
              <p:spPr>
                <a:xfrm flipH="1" flipV="1" rot="6429600">
                  <a:off x="3365280" y="403740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29"/>
                <p:cNvSpPr/>
                <p:nvPr/>
              </p:nvSpPr>
              <p:spPr>
                <a:xfrm flipH="1" flipV="1" rot="6961800">
                  <a:off x="3286800" y="4014360"/>
                  <a:ext cx="16488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4" name="Group 30"/>
          <p:cNvGrpSpPr/>
          <p:nvPr/>
        </p:nvGrpSpPr>
        <p:grpSpPr>
          <a:xfrm>
            <a:off x="4859280" y="3144960"/>
            <a:ext cx="1342800" cy="1360800"/>
            <a:chOff x="4859280" y="3144960"/>
            <a:chExt cx="1342800" cy="1360800"/>
          </a:xfrm>
        </p:grpSpPr>
        <p:pic>
          <p:nvPicPr>
            <p:cNvPr id="765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859280" y="3144960"/>
              <a:ext cx="1342800" cy="12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Oval 32"/>
            <p:cNvSpPr/>
            <p:nvPr/>
          </p:nvSpPr>
          <p:spPr>
            <a:xfrm>
              <a:off x="4859280" y="3144960"/>
              <a:ext cx="1334520" cy="1294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8f4c6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33"/>
            <p:cNvGrpSpPr/>
            <p:nvPr/>
          </p:nvGrpSpPr>
          <p:grpSpPr>
            <a:xfrm>
              <a:off x="4952520" y="4036680"/>
              <a:ext cx="1179000" cy="469080"/>
              <a:chOff x="4952520" y="4036680"/>
              <a:chExt cx="1179000" cy="469080"/>
            </a:xfrm>
          </p:grpSpPr>
          <p:grpSp>
            <p:nvGrpSpPr>
              <p:cNvPr id="768" name="Group 34"/>
              <p:cNvGrpSpPr/>
              <p:nvPr/>
            </p:nvGrpSpPr>
            <p:grpSpPr>
              <a:xfrm>
                <a:off x="5158440" y="4036680"/>
                <a:ext cx="973080" cy="441720"/>
                <a:chOff x="5158440" y="4036680"/>
                <a:chExt cx="973080" cy="441720"/>
              </a:xfrm>
            </p:grpSpPr>
            <p:sp>
              <p:nvSpPr>
                <p:cNvPr id="769" name="AutoShape 35"/>
                <p:cNvSpPr/>
                <p:nvPr/>
              </p:nvSpPr>
              <p:spPr>
                <a:xfrm flipH="1" flipV="1" rot="3964800">
                  <a:off x="5688720" y="3903120"/>
                  <a:ext cx="16956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4780200">
                  <a:off x="5579280" y="394704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5076000">
                  <a:off x="5512680" y="395640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38"/>
                <p:cNvSpPr/>
                <p:nvPr/>
              </p:nvSpPr>
              <p:spPr>
                <a:xfrm flipH="1" flipV="1" rot="5608200">
                  <a:off x="5431680" y="396396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39"/>
              <p:cNvGrpSpPr/>
              <p:nvPr/>
            </p:nvGrpSpPr>
            <p:grpSpPr>
              <a:xfrm>
                <a:off x="4952520" y="4042800"/>
                <a:ext cx="971640" cy="462960"/>
                <a:chOff x="4952520" y="4042800"/>
                <a:chExt cx="971640" cy="462960"/>
              </a:xfrm>
            </p:grpSpPr>
            <p:sp>
              <p:nvSpPr>
                <p:cNvPr id="774" name="AutoShape 40"/>
                <p:cNvSpPr/>
                <p:nvPr/>
              </p:nvSpPr>
              <p:spPr>
                <a:xfrm flipH="1" flipV="1" rot="5318400">
                  <a:off x="5482800" y="3963240"/>
                  <a:ext cx="169920" cy="70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6133800">
                  <a:off x="5365800" y="396108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6429600">
                  <a:off x="5300640" y="3943800"/>
                  <a:ext cx="16992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AutoShape 43"/>
                <p:cNvSpPr/>
                <p:nvPr/>
              </p:nvSpPr>
              <p:spPr>
                <a:xfrm flipH="1" flipV="1" rot="6961800">
                  <a:off x="5222160" y="392040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8" name="Group 44"/>
          <p:cNvGrpSpPr/>
          <p:nvPr/>
        </p:nvGrpSpPr>
        <p:grpSpPr>
          <a:xfrm>
            <a:off x="6829560" y="3216240"/>
            <a:ext cx="1271160" cy="1339920"/>
            <a:chOff x="6829560" y="3216240"/>
            <a:chExt cx="1271160" cy="1339920"/>
          </a:xfrm>
        </p:grpSpPr>
        <p:pic>
          <p:nvPicPr>
            <p:cNvPr id="77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829560" y="3216240"/>
              <a:ext cx="127116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Oval 46"/>
            <p:cNvSpPr/>
            <p:nvPr/>
          </p:nvSpPr>
          <p:spPr>
            <a:xfrm>
              <a:off x="6829560" y="3216240"/>
              <a:ext cx="1263960" cy="1280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0f8f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7"/>
            <p:cNvGrpSpPr/>
            <p:nvPr/>
          </p:nvGrpSpPr>
          <p:grpSpPr>
            <a:xfrm>
              <a:off x="6915960" y="4105800"/>
              <a:ext cx="1120680" cy="450360"/>
              <a:chOff x="6915960" y="4105800"/>
              <a:chExt cx="1120680" cy="450360"/>
            </a:xfrm>
          </p:grpSpPr>
          <p:grpSp>
            <p:nvGrpSpPr>
              <p:cNvPr id="782" name="Group 48"/>
              <p:cNvGrpSpPr/>
              <p:nvPr/>
            </p:nvGrpSpPr>
            <p:grpSpPr>
              <a:xfrm>
                <a:off x="7112160" y="4105800"/>
                <a:ext cx="924480" cy="425160"/>
                <a:chOff x="7112160" y="4105800"/>
                <a:chExt cx="924480" cy="425160"/>
              </a:xfrm>
            </p:grpSpPr>
            <p:sp>
              <p:nvSpPr>
                <p:cNvPr id="783" name="AutoShape 49"/>
                <p:cNvSpPr/>
                <p:nvPr/>
              </p:nvSpPr>
              <p:spPr>
                <a:xfrm flipH="1" flipV="1" rot="3964800">
                  <a:off x="7612200" y="39826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50"/>
                <p:cNvSpPr/>
                <p:nvPr/>
              </p:nvSpPr>
              <p:spPr>
                <a:xfrm flipH="1" flipV="1" rot="4780200">
                  <a:off x="7507800" y="40240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51"/>
                <p:cNvSpPr/>
                <p:nvPr/>
              </p:nvSpPr>
              <p:spPr>
                <a:xfrm flipH="1" flipV="1" rot="5076000">
                  <a:off x="7444440" y="403236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52"/>
                <p:cNvSpPr/>
                <p:nvPr/>
              </p:nvSpPr>
              <p:spPr>
                <a:xfrm flipH="1" flipV="1" rot="5608200">
                  <a:off x="7367760" y="403884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53"/>
              <p:cNvGrpSpPr/>
              <p:nvPr/>
            </p:nvGrpSpPr>
            <p:grpSpPr>
              <a:xfrm>
                <a:off x="6915960" y="4111200"/>
                <a:ext cx="921960" cy="444960"/>
                <a:chOff x="6915960" y="4111200"/>
                <a:chExt cx="921960" cy="444960"/>
              </a:xfrm>
            </p:grpSpPr>
            <p:sp>
              <p:nvSpPr>
                <p:cNvPr id="788" name="AutoShape 54"/>
                <p:cNvSpPr/>
                <p:nvPr/>
              </p:nvSpPr>
              <p:spPr>
                <a:xfrm flipH="1" flipV="1" rot="5318400">
                  <a:off x="7416360" y="404064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5"/>
                <p:cNvSpPr/>
                <p:nvPr/>
              </p:nvSpPr>
              <p:spPr>
                <a:xfrm flipH="1" flipV="1" rot="6133800">
                  <a:off x="7305120" y="403920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6"/>
                <p:cNvSpPr/>
                <p:nvPr/>
              </p:nvSpPr>
              <p:spPr>
                <a:xfrm flipH="1" flipV="1" rot="6429600">
                  <a:off x="7243560" y="402228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7"/>
                <p:cNvSpPr/>
                <p:nvPr/>
              </p:nvSpPr>
              <p:spPr>
                <a:xfrm flipH="1" flipV="1" rot="6961800">
                  <a:off x="7169040" y="399852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2" name="Line 58"/>
          <p:cNvSpPr/>
          <p:nvPr/>
        </p:nvSpPr>
        <p:spPr>
          <a:xfrm>
            <a:off x="1612800" y="445284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9"/>
          <p:cNvSpPr/>
          <p:nvPr/>
        </p:nvSpPr>
        <p:spPr>
          <a:xfrm flipH="1">
            <a:off x="857160" y="479736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1"/>
          <p:cNvSpPr/>
          <p:nvPr/>
        </p:nvSpPr>
        <p:spPr>
          <a:xfrm>
            <a:off x="1093680" y="3648240"/>
            <a:ext cx="104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c1c1c"/>
                </a:solidFill>
                <a:latin typeface="Arial"/>
              </a:rPr>
              <a:t>Equ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2"/>
          <p:cNvSpPr/>
          <p:nvPr/>
        </p:nvSpPr>
        <p:spPr>
          <a:xfrm>
            <a:off x="3059280" y="3576600"/>
            <a:ext cx="104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Impa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3"/>
          <p:cNvSpPr/>
          <p:nvPr/>
        </p:nvSpPr>
        <p:spPr>
          <a:xfrm>
            <a:off x="4859280" y="3483000"/>
            <a:ext cx="134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Arial"/>
              </a:rPr>
              <a:t>Transparen-cia y uso efi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4"/>
          <p:cNvSpPr/>
          <p:nvPr/>
        </p:nvSpPr>
        <p:spPr>
          <a:xfrm>
            <a:off x="6983280" y="3716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Aho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5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6"/>
          <p:cNvSpPr/>
          <p:nvPr/>
        </p:nvSpPr>
        <p:spPr>
          <a:xfrm flipH="1">
            <a:off x="6616440" y="29973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7"/>
          <p:cNvSpPr/>
          <p:nvPr/>
        </p:nvSpPr>
        <p:spPr>
          <a:xfrm>
            <a:off x="5580000" y="1552680"/>
            <a:ext cx="4032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horro para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tabilidad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y 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cas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ilidad del gasto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ndeo del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asivo p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8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69"/>
          <p:cNvSpPr/>
          <p:nvPr/>
        </p:nvSpPr>
        <p:spPr>
          <a:xfrm flipH="1">
            <a:off x="2657160" y="299736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0"/>
          <p:cNvSpPr/>
          <p:nvPr/>
        </p:nvSpPr>
        <p:spPr>
          <a:xfrm>
            <a:off x="1187280" y="1268280"/>
            <a:ext cx="44643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departamento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son el 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7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regiones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el desarrollo y la competi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yect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impacto 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arrollo Regional, Compensación Regional, Ciencia y 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71"/>
          <p:cNvSpPr/>
          <p:nvPr/>
        </p:nvSpPr>
        <p:spPr>
          <a:xfrm>
            <a:off x="5595840" y="46530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2"/>
          <p:cNvSpPr/>
          <p:nvPr/>
        </p:nvSpPr>
        <p:spPr>
          <a:xfrm flipH="1">
            <a:off x="4784760" y="498780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3"/>
          <p:cNvSpPr/>
          <p:nvPr/>
        </p:nvSpPr>
        <p:spPr>
          <a:xfrm>
            <a:off x="4140360" y="5008680"/>
            <a:ext cx="43146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riángul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buen gobierno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OC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Coordinación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 niveles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lane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de las inversiones y de su 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ioriz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grande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74"/>
          <p:cNvGrpSpPr/>
          <p:nvPr/>
        </p:nvGrpSpPr>
        <p:grpSpPr>
          <a:xfrm>
            <a:off x="-360" y="3224160"/>
            <a:ext cx="9144360" cy="1253880"/>
            <a:chOff x="-360" y="3224160"/>
            <a:chExt cx="9144360" cy="1253880"/>
          </a:xfrm>
        </p:grpSpPr>
        <p:sp>
          <p:nvSpPr>
            <p:cNvPr id="808" name="Line 75"/>
            <p:cNvSpPr/>
            <p:nvPr/>
          </p:nvSpPr>
          <p:spPr>
            <a:xfrm flipH="1">
              <a:off x="-360" y="385668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76"/>
            <p:cNvSpPr/>
            <p:nvPr/>
          </p:nvSpPr>
          <p:spPr>
            <a:xfrm flipH="1">
              <a:off x="6094080" y="385668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rc 77"/>
            <p:cNvSpPr/>
            <p:nvPr/>
          </p:nvSpPr>
          <p:spPr>
            <a:xfrm flipV="1" rot="16200000">
              <a:off x="3255840" y="2948400"/>
              <a:ext cx="654840" cy="12207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rc 78"/>
            <p:cNvSpPr/>
            <p:nvPr/>
          </p:nvSpPr>
          <p:spPr>
            <a:xfrm flipV="1" rot="16200000">
              <a:off x="7146720" y="2945880"/>
              <a:ext cx="664560" cy="122076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9"/>
            <p:cNvSpPr/>
            <p:nvPr/>
          </p:nvSpPr>
          <p:spPr>
            <a:xfrm flipH="1">
              <a:off x="4157280" y="385668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80"/>
            <p:cNvSpPr/>
            <p:nvPr/>
          </p:nvSpPr>
          <p:spPr>
            <a:xfrm rot="5400000">
              <a:off x="520200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81"/>
            <p:cNvSpPr/>
            <p:nvPr/>
          </p:nvSpPr>
          <p:spPr>
            <a:xfrm flipH="1">
              <a:off x="8050320" y="385668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82"/>
            <p:cNvSpPr/>
            <p:nvPr/>
          </p:nvSpPr>
          <p:spPr>
            <a:xfrm flipH="1">
              <a:off x="2185920" y="385668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83"/>
            <p:cNvSpPr/>
            <p:nvPr/>
          </p:nvSpPr>
          <p:spPr>
            <a:xfrm rot="5400000">
              <a:off x="129204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7" name="Picture 84" descr="Picture1"/>
          <p:cNvPicPr/>
          <p:nvPr/>
        </p:nvPicPr>
        <p:blipFill>
          <a:blip r:embed="rId5"/>
          <a:stretch/>
        </p:blipFill>
        <p:spPr>
          <a:xfrm>
            <a:off x="1187280" y="3360600"/>
            <a:ext cx="825840" cy="378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5" descr="Picture1"/>
          <p:cNvPicPr/>
          <p:nvPr/>
        </p:nvPicPr>
        <p:blipFill>
          <a:blip r:embed="rId6"/>
          <a:stretch/>
        </p:blipFill>
        <p:spPr>
          <a:xfrm>
            <a:off x="3203640" y="328464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6" descr="Picture1"/>
          <p:cNvPicPr/>
          <p:nvPr/>
        </p:nvPicPr>
        <p:blipFill>
          <a:blip r:embed="rId7"/>
          <a:stretch/>
        </p:blipFill>
        <p:spPr>
          <a:xfrm>
            <a:off x="5114880" y="31957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87" descr="Picture1"/>
          <p:cNvPicPr/>
          <p:nvPr/>
        </p:nvPicPr>
        <p:blipFill>
          <a:blip r:embed="rId8"/>
          <a:stretch/>
        </p:blipFill>
        <p:spPr>
          <a:xfrm>
            <a:off x="7093080" y="328464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0"/>
          <p:cNvSpPr/>
          <p:nvPr/>
        </p:nvSpPr>
        <p:spPr>
          <a:xfrm>
            <a:off x="3240" y="4761000"/>
            <a:ext cx="41371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To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mpios.+dptos.) partici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ntes: 80% iba a productores y 20% al r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oy: productores reciben el 50% y desde 2015 recibirán el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resto va a l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8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8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1 CuadroTexto"/>
          <p:cNvGrpSpPr/>
          <p:nvPr/>
        </p:nvGrpSpPr>
        <p:grpSpPr>
          <a:xfrm>
            <a:off x="219240" y="2017800"/>
            <a:ext cx="1487160" cy="957240"/>
            <a:chOff x="219240" y="2017800"/>
            <a:chExt cx="1487160" cy="957240"/>
          </a:xfrm>
        </p:grpSpPr>
        <p:pic>
          <p:nvPicPr>
            <p:cNvPr id="825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9240" y="2017800"/>
              <a:ext cx="1487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250920" y="2048040"/>
              <a:ext cx="1428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para el ahorro pensional territo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2 CuadroTexto"/>
          <p:cNvSpPr/>
          <p:nvPr/>
        </p:nvSpPr>
        <p:spPr>
          <a:xfrm>
            <a:off x="4678200" y="1989000"/>
            <a:ext cx="150192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Recursos restantes</a:t>
            </a:r>
            <a:r>
              <a:rPr b="1" lang="es-ES" sz="11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3 CuadroTexto"/>
          <p:cNvGrpSpPr/>
          <p:nvPr/>
        </p:nvGrpSpPr>
        <p:grpSpPr>
          <a:xfrm>
            <a:off x="7218360" y="2004840"/>
            <a:ext cx="1773360" cy="957600"/>
            <a:chOff x="7218360" y="2004840"/>
            <a:chExt cx="1773360" cy="957600"/>
          </a:xfrm>
        </p:grpSpPr>
        <p:pic>
          <p:nvPicPr>
            <p:cNvPr id="829" name="3 CuadroTexto" descr=""/>
            <p:cNvPicPr/>
            <p:nvPr/>
          </p:nvPicPr>
          <p:blipFill>
            <a:blip r:embed="rId2"/>
            <a:stretch/>
          </p:blipFill>
          <p:spPr>
            <a:xfrm>
              <a:off x="7218360" y="2004840"/>
              <a:ext cx="17733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7250040" y="2036880"/>
              <a:ext cx="17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Ahorro y Estabilización 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25% el primer año, Max. 30% anu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4 CuadroTexto"/>
          <p:cNvGrpSpPr/>
          <p:nvPr/>
        </p:nvGrpSpPr>
        <p:grpSpPr>
          <a:xfrm>
            <a:off x="3365640" y="3071880"/>
            <a:ext cx="1339560" cy="330120"/>
            <a:chOff x="3365640" y="3071880"/>
            <a:chExt cx="1339560" cy="330120"/>
          </a:xfrm>
        </p:grpSpPr>
        <p:pic>
          <p:nvPicPr>
            <p:cNvPr id="832" name="4 CuadroTexto" descr=""/>
            <p:cNvPicPr/>
            <p:nvPr/>
          </p:nvPicPr>
          <p:blipFill>
            <a:blip r:embed="rId3"/>
            <a:stretch/>
          </p:blipFill>
          <p:spPr>
            <a:xfrm>
              <a:off x="3365640" y="3071880"/>
              <a:ext cx="13395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3394080" y="3102120"/>
              <a:ext cx="12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E.T. Recep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5 CuadroTexto"/>
          <p:cNvSpPr/>
          <p:nvPr/>
        </p:nvSpPr>
        <p:spPr>
          <a:xfrm>
            <a:off x="6035760" y="3117960"/>
            <a:ext cx="135720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6 CuadroTexto"/>
          <p:cNvSpPr/>
          <p:nvPr/>
        </p:nvSpPr>
        <p:spPr>
          <a:xfrm>
            <a:off x="3036960" y="3780000"/>
            <a:ext cx="18572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</a:rPr>
              <a:t>(E.T. productoras, portuarias, etc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7 CuadroTexto"/>
          <p:cNvSpPr/>
          <p:nvPr/>
        </p:nvSpPr>
        <p:spPr>
          <a:xfrm>
            <a:off x="6024600" y="3492360"/>
            <a:ext cx="154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8 CuadroTexto"/>
          <p:cNvGrpSpPr/>
          <p:nvPr/>
        </p:nvGrpSpPr>
        <p:grpSpPr>
          <a:xfrm>
            <a:off x="4900680" y="4322880"/>
            <a:ext cx="1390680" cy="706320"/>
            <a:chOff x="4900680" y="4322880"/>
            <a:chExt cx="1390680" cy="706320"/>
          </a:xfrm>
        </p:grpSpPr>
        <p:pic>
          <p:nvPicPr>
            <p:cNvPr id="838" name="8 CuadroTexto" descr=""/>
            <p:cNvPicPr/>
            <p:nvPr/>
          </p:nvPicPr>
          <p:blipFill>
            <a:blip r:embed="rId4"/>
            <a:stretch/>
          </p:blipFill>
          <p:spPr>
            <a:xfrm>
              <a:off x="4900680" y="4322880"/>
              <a:ext cx="13906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932360" y="4356000"/>
              <a:ext cx="133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Compensación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6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9 CuadroTexto"/>
          <p:cNvGrpSpPr/>
          <p:nvPr/>
        </p:nvGrpSpPr>
        <p:grpSpPr>
          <a:xfrm>
            <a:off x="7564320" y="4322880"/>
            <a:ext cx="1354320" cy="706320"/>
            <a:chOff x="7564320" y="4322880"/>
            <a:chExt cx="1354320" cy="706320"/>
          </a:xfrm>
        </p:grpSpPr>
        <p:pic>
          <p:nvPicPr>
            <p:cNvPr id="841" name="9 CuadroTexto" descr=""/>
            <p:cNvPicPr/>
            <p:nvPr/>
          </p:nvPicPr>
          <p:blipFill>
            <a:blip r:embed="rId5"/>
            <a:stretch/>
          </p:blipFill>
          <p:spPr>
            <a:xfrm>
              <a:off x="7564320" y="4322880"/>
              <a:ext cx="1354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596360" y="4356000"/>
              <a:ext cx="129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Desarrollo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4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10 Rectángulo redondeado" descr=""/>
          <p:cNvPicPr/>
          <p:nvPr/>
        </p:nvPicPr>
        <p:blipFill>
          <a:blip r:embed="rId6"/>
          <a:stretch/>
        </p:blipFill>
        <p:spPr>
          <a:xfrm>
            <a:off x="3328920" y="560520"/>
            <a:ext cx="2517840" cy="1036440"/>
          </a:xfrm>
          <a:prstGeom prst="rect">
            <a:avLst/>
          </a:prstGeom>
          <a:ln w="0">
            <a:noFill/>
          </a:ln>
        </p:spPr>
      </p:pic>
      <p:cxnSp>
        <p:nvCxnSpPr>
          <p:cNvPr id="844" name="61 Forma"/>
          <p:cNvCxnSpPr>
            <a:stCxn id="834" idx="3"/>
          </p:cNvCxnSpPr>
          <p:nvPr/>
        </p:nvCxnSpPr>
        <p:spPr>
          <a:xfrm>
            <a:off x="7392960" y="3255840"/>
            <a:ext cx="85176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5" name="62 Forma"/>
          <p:cNvCxnSpPr>
            <a:stCxn id="834" idx="1"/>
          </p:cNvCxnSpPr>
          <p:nvPr/>
        </p:nvCxnSpPr>
        <p:spPr>
          <a:xfrm flipV="1" rot="10800000">
            <a:off x="5596920" y="3255480"/>
            <a:ext cx="43884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6" name="63 Conector recto de flecha"/>
          <p:cNvCxnSpPr/>
          <p:nvPr/>
        </p:nvCxnSpPr>
        <p:spPr>
          <a:xfrm flipH="1">
            <a:off x="3993840" y="3564000"/>
            <a:ext cx="2160" cy="265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7" name="64 Conector recto de flecha"/>
          <p:cNvCxnSpPr>
            <a:stCxn id="834" idx="2"/>
          </p:cNvCxnSpPr>
          <p:nvPr/>
        </p:nvCxnSpPr>
        <p:spPr>
          <a:xfrm>
            <a:off x="6715080" y="3393720"/>
            <a:ext cx="8640" cy="165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8" name="15 Abrir llave"/>
          <p:cNvSpPr/>
          <p:nvPr/>
        </p:nvSpPr>
        <p:spPr>
          <a:xfrm>
            <a:off x="3059280" y="3790800"/>
            <a:ext cx="93600" cy="781200"/>
          </a:xfrm>
          <a:custGeom>
            <a:avLst/>
            <a:gdLst>
              <a:gd name="textAreaLeft" fmla="*/ 59760 w 93600"/>
              <a:gd name="textAreaRight" fmla="*/ 93960 w 9360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16 Cerrar llave"/>
          <p:cNvSpPr/>
          <p:nvPr/>
        </p:nvSpPr>
        <p:spPr>
          <a:xfrm>
            <a:off x="4767120" y="3790800"/>
            <a:ext cx="92160" cy="781200"/>
          </a:xfrm>
          <a:custGeom>
            <a:avLst/>
            <a:gdLst>
              <a:gd name="textAreaLeft" fmla="*/ 0 w 92160"/>
              <a:gd name="textAreaRight" fmla="*/ 33120 w 9216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17 Abrir llave"/>
          <p:cNvSpPr/>
          <p:nvPr/>
        </p:nvSpPr>
        <p:spPr>
          <a:xfrm>
            <a:off x="5940360" y="3521160"/>
            <a:ext cx="216000" cy="728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8640"/>
              <a:gd name="textAreaBottom" fmla="*/ 723240 h 72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5400" y="10800"/>
                  <a:pt x="0" y="10800"/>
                </a:cubicBezTo>
                <a:cubicBezTo>
                  <a:pt x="54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18 Cerrar llave"/>
          <p:cNvSpPr/>
          <p:nvPr/>
        </p:nvSpPr>
        <p:spPr>
          <a:xfrm>
            <a:off x="7493040" y="3521160"/>
            <a:ext cx="142920" cy="728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28640"/>
              <a:gd name="textAreaBottom" fmla="*/ 72504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7"/>
                  <a:pt x="10800" y="353"/>
                </a:cubicBezTo>
                <a:lnTo>
                  <a:pt x="10800" y="10447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7"/>
                  <a:pt x="10800" y="11153"/>
                </a:cubicBezTo>
                <a:lnTo>
                  <a:pt x="10800" y="21247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72 Conector recto de flecha"/>
          <p:cNvCxnSpPr/>
          <p:nvPr/>
        </p:nvCxnSpPr>
        <p:spPr>
          <a:xfrm flipH="1">
            <a:off x="5506200" y="5005440"/>
            <a:ext cx="2520" cy="216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853" name="20 CuadroTexto"/>
          <p:cNvGrpSpPr/>
          <p:nvPr/>
        </p:nvGrpSpPr>
        <p:grpSpPr>
          <a:xfrm>
            <a:off x="2292480" y="2017800"/>
            <a:ext cx="1554120" cy="957240"/>
            <a:chOff x="2292480" y="2017800"/>
            <a:chExt cx="1554120" cy="957240"/>
          </a:xfrm>
        </p:grpSpPr>
        <p:pic>
          <p:nvPicPr>
            <p:cNvPr id="854" name="20 CuadroTexto" descr=""/>
            <p:cNvPicPr/>
            <p:nvPr/>
          </p:nvPicPr>
          <p:blipFill>
            <a:blip r:embed="rId7"/>
            <a:stretch/>
          </p:blipFill>
          <p:spPr>
            <a:xfrm>
              <a:off x="2292480" y="2017800"/>
              <a:ext cx="1554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2322360" y="2048040"/>
              <a:ext cx="150048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Ciencia, Tecnología e Innov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75 Conector recto"/>
          <p:cNvSpPr/>
          <p:nvPr/>
        </p:nvSpPr>
        <p:spPr>
          <a:xfrm>
            <a:off x="965160" y="1700280"/>
            <a:ext cx="7142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76 Conector recto"/>
          <p:cNvSpPr/>
          <p:nvPr/>
        </p:nvSpPr>
        <p:spPr>
          <a:xfrm>
            <a:off x="4037040" y="2789280"/>
            <a:ext cx="2641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77 Conector angular"/>
          <p:cNvCxnSpPr/>
          <p:nvPr/>
        </p:nvCxnSpPr>
        <p:spPr>
          <a:xfrm rot="5400000">
            <a:off x="390528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59" name="78 Conector angular"/>
          <p:cNvCxnSpPr/>
          <p:nvPr/>
        </p:nvCxnSpPr>
        <p:spPr>
          <a:xfrm rot="5400000">
            <a:off x="654696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0" name="84 Conector recto de flecha"/>
          <p:cNvCxnSpPr>
            <a:stCxn id="843" idx="3"/>
            <a:endCxn id="861" idx="1"/>
          </p:cNvCxnSpPr>
          <p:nvPr/>
        </p:nvCxnSpPr>
        <p:spPr>
          <a:xfrm>
            <a:off x="5749560" y="1061640"/>
            <a:ext cx="2833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1" name="26 CuadroTexto"/>
          <p:cNvSpPr/>
          <p:nvPr/>
        </p:nvSpPr>
        <p:spPr>
          <a:xfrm>
            <a:off x="6032520" y="755640"/>
            <a:ext cx="2879640" cy="39852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iscalización yacimientos y cartograf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c00000"/>
                </a:solidFill>
                <a:latin typeface="Calibri"/>
              </a:rPr>
              <a:t>(2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86 Conector recto de flecha"/>
          <p:cNvCxnSpPr/>
          <p:nvPr/>
        </p:nvCxnSpPr>
        <p:spPr>
          <a:xfrm flipH="1">
            <a:off x="96444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3" name="87 Conector recto de flecha"/>
          <p:cNvCxnSpPr>
            <a:endCxn id="827" idx="0"/>
          </p:cNvCxnSpPr>
          <p:nvPr/>
        </p:nvCxnSpPr>
        <p:spPr>
          <a:xfrm flipH="1">
            <a:off x="5428800" y="1700280"/>
            <a:ext cx="720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4" name="88 Conector recto de flecha"/>
          <p:cNvCxnSpPr/>
          <p:nvPr/>
        </p:nvCxnSpPr>
        <p:spPr>
          <a:xfrm flipH="1">
            <a:off x="8100720" y="1700280"/>
            <a:ext cx="86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5" name="89 Conector recto de flecha"/>
          <p:cNvCxnSpPr/>
          <p:nvPr/>
        </p:nvCxnSpPr>
        <p:spPr>
          <a:xfrm flipH="1">
            <a:off x="303768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6" name="90 Conector recto de flecha"/>
          <p:cNvCxnSpPr/>
          <p:nvPr/>
        </p:nvCxnSpPr>
        <p:spPr>
          <a:xfrm flipH="1">
            <a:off x="5393520" y="2391840"/>
            <a:ext cx="252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7" name="91 Conector recto de flecha"/>
          <p:cNvCxnSpPr>
            <a:stCxn id="843" idx="1"/>
            <a:endCxn id="868" idx="3"/>
          </p:cNvCxnSpPr>
          <p:nvPr/>
        </p:nvCxnSpPr>
        <p:spPr>
          <a:xfrm flipH="1">
            <a:off x="3131640" y="1061640"/>
            <a:ext cx="2628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8" name="33 CuadroTexto"/>
          <p:cNvSpPr/>
          <p:nvPr/>
        </p:nvSpPr>
        <p:spPr>
          <a:xfrm>
            <a:off x="252360" y="755640"/>
            <a:ext cx="2879640" cy="76428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0.5%)  </a:t>
            </a: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Municipios del Río Grande de la Magdalena y canal del D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2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Administración del SG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1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SMSCE y Control Fiscal </a:t>
            </a:r>
            <a:r>
              <a:rPr b="0" lang="es-CO" sz="800" spc="-1" strike="noStrike">
                <a:solidFill>
                  <a:srgbClr val="000000"/>
                </a:solidFill>
                <a:latin typeface="Calibri"/>
              </a:rPr>
              <a:t>(Sistema de Monitoreo, Seguimiento, Control y Evaluació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34 CuadroTexto"/>
          <p:cNvSpPr/>
          <p:nvPr/>
        </p:nvSpPr>
        <p:spPr>
          <a:xfrm>
            <a:off x="5508720" y="5322960"/>
            <a:ext cx="1079280" cy="55080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Regionales (6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35 CuadroTexto"/>
          <p:cNvSpPr/>
          <p:nvPr/>
        </p:nvSpPr>
        <p:spPr>
          <a:xfrm>
            <a:off x="4140360" y="5338800"/>
            <a:ext cx="1079280" cy="53568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impacto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 Local (4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36 CuadroTexto"/>
          <p:cNvSpPr/>
          <p:nvPr/>
        </p:nvSpPr>
        <p:spPr>
          <a:xfrm>
            <a:off x="4643280" y="6083280"/>
            <a:ext cx="1657440" cy="36828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10% para Mpios  de categorías 4,5 y 6  y NBI&lt;=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76 Conector recto"/>
          <p:cNvSpPr/>
          <p:nvPr/>
        </p:nvSpPr>
        <p:spPr>
          <a:xfrm>
            <a:off x="4643280" y="5219640"/>
            <a:ext cx="165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38 CuadroTexto"/>
          <p:cNvSpPr/>
          <p:nvPr/>
        </p:nvSpPr>
        <p:spPr>
          <a:xfrm>
            <a:off x="2916360" y="6083280"/>
            <a:ext cx="1655640" cy="23112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30% para Mpios de NBI &gt;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70 Conector recto de flecha"/>
          <p:cNvCxnSpPr/>
          <p:nvPr/>
        </p:nvCxnSpPr>
        <p:spPr>
          <a:xfrm flipH="1">
            <a:off x="464256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5" name="70 Conector recto de flecha"/>
          <p:cNvCxnSpPr/>
          <p:nvPr/>
        </p:nvCxnSpPr>
        <p:spPr>
          <a:xfrm flipH="1">
            <a:off x="630000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6" name="41 Conector recto de flecha"/>
          <p:cNvCxnSpPr>
            <a:stCxn id="870" idx="2"/>
            <a:endCxn id="873" idx="0"/>
          </p:cNvCxnSpPr>
          <p:nvPr/>
        </p:nvCxnSpPr>
        <p:spPr>
          <a:xfrm flipH="1">
            <a:off x="3742920" y="5914800"/>
            <a:ext cx="93744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arrow" w="med"/>
          </a:ln>
        </p:spPr>
      </p:cxnSp>
      <p:cxnSp>
        <p:nvCxnSpPr>
          <p:cNvPr id="877" name="42 Conector recto de flecha"/>
          <p:cNvCxnSpPr>
            <a:stCxn id="870" idx="2"/>
            <a:endCxn id="871" idx="0"/>
          </p:cNvCxnSpPr>
          <p:nvPr/>
        </p:nvCxnSpPr>
        <p:spPr>
          <a:xfrm>
            <a:off x="4680000" y="5914800"/>
            <a:ext cx="79272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arrow" w="med"/>
          </a:ln>
        </p:spPr>
      </p:cxnSp>
      <p:cxnSp>
        <p:nvCxnSpPr>
          <p:cNvPr id="878" name="89 Conector recto de flecha"/>
          <p:cNvCxnSpPr/>
          <p:nvPr/>
        </p:nvCxnSpPr>
        <p:spPr>
          <a:xfrm flipH="1">
            <a:off x="4571280" y="14839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79" name="44 CuadroTexto"/>
          <p:cNvSpPr/>
          <p:nvPr/>
        </p:nvSpPr>
        <p:spPr>
          <a:xfrm>
            <a:off x="34920" y="6524640"/>
            <a:ext cx="42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cto Legislativo 05 de 2011. Decreto 1243 d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55"/>
          <p:cNvSpPr/>
          <p:nvPr/>
        </p:nvSpPr>
        <p:spPr>
          <a:xfrm>
            <a:off x="187200" y="4133880"/>
            <a:ext cx="2513160" cy="2319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Nuevas reglas de distribución: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reación de bolsas y criterios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http://se008.k12.sd.us/Images/Money%20Bag%20with%20Dollar%20Sign.jpg"/>
          <p:cNvPicPr/>
          <p:nvPr/>
        </p:nvPicPr>
        <p:blipFill>
          <a:blip r:embed="rId8"/>
          <a:stretch/>
        </p:blipFill>
        <p:spPr>
          <a:xfrm>
            <a:off x="8604360" y="836640"/>
            <a:ext cx="220680" cy="2808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" descr="http://se008.k12.sd.us/Images/Money%20Bag%20with%20Dollar%20Sign.jpg"/>
          <p:cNvPicPr/>
          <p:nvPr/>
        </p:nvPicPr>
        <p:blipFill>
          <a:blip r:embed="rId9"/>
          <a:stretch/>
        </p:blipFill>
        <p:spPr>
          <a:xfrm>
            <a:off x="0" y="76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" descr="http://se008.k12.sd.us/Images/Money%20Bag%20with%20Dollar%20Sign.jpg"/>
          <p:cNvPicPr/>
          <p:nvPr/>
        </p:nvPicPr>
        <p:blipFill>
          <a:blip r:embed="rId10"/>
          <a:stretch/>
        </p:blipFill>
        <p:spPr>
          <a:xfrm>
            <a:off x="395280" y="2581200"/>
            <a:ext cx="220680" cy="2811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2" descr="http://se008.k12.sd.us/Images/Money%20Bag%20with%20Dollar%20Sign.jpg"/>
          <p:cNvPicPr/>
          <p:nvPr/>
        </p:nvPicPr>
        <p:blipFill>
          <a:blip r:embed="rId11"/>
          <a:stretch/>
        </p:blipFill>
        <p:spPr>
          <a:xfrm>
            <a:off x="2411280" y="2575080"/>
            <a:ext cx="220680" cy="27936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" descr="http://se008.k12.sd.us/Images/Money%20Bag%20with%20Dollar%20Sign.jpg"/>
          <p:cNvPicPr/>
          <p:nvPr/>
        </p:nvPicPr>
        <p:blipFill>
          <a:blip r:embed="rId12"/>
          <a:stretch/>
        </p:blipFill>
        <p:spPr>
          <a:xfrm>
            <a:off x="4716360" y="321948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http://se008.k12.sd.us/Images/Money%20Bag%20with%20Dollar%20Sign.jpg"/>
          <p:cNvPicPr/>
          <p:nvPr/>
        </p:nvPicPr>
        <p:blipFill>
          <a:blip r:embed="rId13"/>
          <a:stretch/>
        </p:blipFill>
        <p:spPr>
          <a:xfrm>
            <a:off x="7380360" y="2575080"/>
            <a:ext cx="218880" cy="279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http://se008.k12.sd.us/Images/Money%20Bag%20with%20Dollar%20Sign.jpg"/>
          <p:cNvPicPr/>
          <p:nvPr/>
        </p:nvPicPr>
        <p:blipFill>
          <a:blip r:embed="rId14"/>
          <a:stretch/>
        </p:blipFill>
        <p:spPr>
          <a:xfrm>
            <a:off x="8169120" y="501336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" descr="http://se008.k12.sd.us/Images/Money%20Bag%20with%20Dollar%20Sign.jpg"/>
          <p:cNvPicPr/>
          <p:nvPr/>
        </p:nvPicPr>
        <p:blipFill>
          <a:blip r:embed="rId15"/>
          <a:stretch/>
        </p:blipFill>
        <p:spPr>
          <a:xfrm>
            <a:off x="38862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" descr="http://se008.k12.sd.us/Images/Money%20Bag%20with%20Dollar%20Sign.jpg"/>
          <p:cNvPicPr/>
          <p:nvPr/>
        </p:nvPicPr>
        <p:blipFill>
          <a:blip r:embed="rId16"/>
          <a:stretch/>
        </p:blipFill>
        <p:spPr>
          <a:xfrm>
            <a:off x="66564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" descr="http://se008.k12.sd.us/Images/Money%20Bag%20with%20Dollar%20Sign.jpg"/>
          <p:cNvPicPr/>
          <p:nvPr/>
        </p:nvPicPr>
        <p:blipFill>
          <a:blip r:embed="rId17"/>
          <a:stretch/>
        </p:blipFill>
        <p:spPr>
          <a:xfrm>
            <a:off x="6227640" y="4508640"/>
            <a:ext cx="220680" cy="280800"/>
          </a:xfrm>
          <a:prstGeom prst="rect">
            <a:avLst/>
          </a:prstGeom>
          <a:ln w="0">
            <a:noFill/>
          </a:ln>
        </p:spPr>
      </p:pic>
      <p:sp>
        <p:nvSpPr>
          <p:cNvPr id="891" name="6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6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250920" y="1733400"/>
          <a:ext cx="8540640" cy="165420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71480"/>
                <a:gridCol w="773280"/>
                <a:gridCol w="772920"/>
                <a:gridCol w="771480"/>
                <a:gridCol w="773280"/>
                <a:gridCol w="771480"/>
                <a:gridCol w="772920"/>
                <a:gridCol w="773280"/>
                <a:gridCol w="771480"/>
              </a:tblGrid>
              <a:tr h="4032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894" name="2 Rectángulo"/>
          <p:cNvSpPr/>
          <p:nvPr/>
        </p:nvSpPr>
        <p:spPr>
          <a:xfrm>
            <a:off x="250920" y="134136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GR para plan de recursos. Millon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08000" y="5462640"/>
          <a:ext cx="3995640" cy="860400"/>
        </p:xfrm>
        <a:graphic>
          <a:graphicData uri="http://schemas.openxmlformats.org/drawingml/2006/table">
            <a:tbl>
              <a:tblPr/>
              <a:tblGrid>
                <a:gridCol w="3995640"/>
              </a:tblGrid>
              <a:tr h="42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 Incluye la parte del fondo de ahorro y estabilización (aplica solo hasta 2014) 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ntiene los montos que podrán usarse para compensar asignaciones directas, según A.L. 05 de 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 A estos valores se ha descontado 1/5 del ahorro (aplica solo hasta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6" name="Picture 2" descr=""/>
          <p:cNvPicPr/>
          <p:nvPr/>
        </p:nvPicPr>
        <p:blipFill>
          <a:blip r:embed="rId1"/>
          <a:srcRect l="20913" t="8317" r="16349" b="11264"/>
          <a:stretch/>
        </p:blipFill>
        <p:spPr>
          <a:xfrm>
            <a:off x="5479920" y="3645000"/>
            <a:ext cx="2979720" cy="28796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3"/>
          <p:cNvSpPr/>
          <p:nvPr/>
        </p:nvSpPr>
        <p:spPr>
          <a:xfrm>
            <a:off x="3276720" y="3720240"/>
            <a:ext cx="251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Tot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2013-20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0" y="766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3"/>
          <p:cNvSpPr/>
          <p:nvPr/>
        </p:nvSpPr>
        <p:spPr>
          <a:xfrm>
            <a:off x="3708360" y="40179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2013-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8074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http://files.tusfigurasgeometricas.webnode.es/200000009-cef83cff1a/Triforce.png"/>
          <p:cNvPicPr/>
          <p:nvPr/>
        </p:nvPicPr>
        <p:blipFill>
          <a:blip r:embed="rId1"/>
          <a:stretch/>
        </p:blipFill>
        <p:spPr>
          <a:xfrm>
            <a:off x="1255680" y="689040"/>
            <a:ext cx="6546960" cy="5699160"/>
          </a:xfrm>
          <a:prstGeom prst="rect">
            <a:avLst/>
          </a:prstGeom>
          <a:ln w="0">
            <a:noFill/>
          </a:ln>
        </p:spPr>
      </p:pic>
      <p:sp>
        <p:nvSpPr>
          <p:cNvPr id="904" name="9 CuadroTexto"/>
          <p:cNvSpPr/>
          <p:nvPr/>
        </p:nvSpPr>
        <p:spPr>
          <a:xfrm>
            <a:off x="3492360" y="1918080"/>
            <a:ext cx="2087640" cy="7038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10 CuadroTexto"/>
          <p:cNvSpPr/>
          <p:nvPr/>
        </p:nvSpPr>
        <p:spPr>
          <a:xfrm>
            <a:off x="5219640" y="5315400"/>
            <a:ext cx="2089080" cy="70380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11 CuadroTexto"/>
          <p:cNvSpPr/>
          <p:nvPr/>
        </p:nvSpPr>
        <p:spPr>
          <a:xfrm>
            <a:off x="1763640" y="5302800"/>
            <a:ext cx="2087640" cy="703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Depart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3" descr="C:\Documents and Settings\jvega\Configuración local\Archivos temporales de Internet\Content.IE5\M3FZ6SEQ\MP900442889[1].jpg"/>
          <p:cNvPicPr/>
          <p:nvPr/>
        </p:nvPicPr>
        <p:blipFill>
          <a:blip r:embed="rId2"/>
          <a:stretch/>
        </p:blipFill>
        <p:spPr>
          <a:xfrm>
            <a:off x="3627360" y="3713040"/>
            <a:ext cx="1889280" cy="1230480"/>
          </a:xfrm>
          <a:prstGeom prst="rect">
            <a:avLst/>
          </a:prstGeom>
          <a:ln w="0">
            <a:noFill/>
          </a:ln>
        </p:spPr>
      </p:pic>
      <p:sp>
        <p:nvSpPr>
          <p:cNvPr id="908" name="14 CuadroTexto"/>
          <p:cNvSpPr/>
          <p:nvPr/>
        </p:nvSpPr>
        <p:spPr>
          <a:xfrm>
            <a:off x="3492360" y="4941720"/>
            <a:ext cx="208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c00000"/>
                </a:solidFill>
                <a:latin typeface="Calibri"/>
              </a:rPr>
              <a:t>Secretaria téc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Conformación – 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52 Grupo" descr=""/>
          <p:cNvPicPr/>
          <p:nvPr/>
        </p:nvPicPr>
        <p:blipFill>
          <a:blip r:embed="rId3"/>
          <a:stretch/>
        </p:blipFill>
        <p:spPr>
          <a:xfrm>
            <a:off x="24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1" name="52 Grupo" descr=""/>
          <p:cNvPicPr/>
          <p:nvPr/>
        </p:nvPicPr>
        <p:blipFill>
          <a:blip r:embed="rId4"/>
          <a:stretch/>
        </p:blipFill>
        <p:spPr>
          <a:xfrm>
            <a:off x="244440" y="2633760"/>
            <a:ext cx="2571840" cy="981000"/>
          </a:xfrm>
          <a:prstGeom prst="rect">
            <a:avLst/>
          </a:prstGeom>
          <a:ln w="0">
            <a:noFill/>
          </a:ln>
        </p:spPr>
      </p:pic>
      <p:pic>
        <p:nvPicPr>
          <p:cNvPr id="912" name="52 Grupo" descr=""/>
          <p:cNvPicPr/>
          <p:nvPr/>
        </p:nvPicPr>
        <p:blipFill>
          <a:blip r:embed="rId5"/>
          <a:stretch/>
        </p:blipFill>
        <p:spPr>
          <a:xfrm>
            <a:off x="636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3" name="52 Grupo" descr=""/>
          <p:cNvPicPr/>
          <p:nvPr/>
        </p:nvPicPr>
        <p:blipFill>
          <a:blip r:embed="rId6"/>
          <a:stretch/>
        </p:blipFill>
        <p:spPr>
          <a:xfrm>
            <a:off x="6364440" y="2633760"/>
            <a:ext cx="2535120" cy="981000"/>
          </a:xfrm>
          <a:prstGeom prst="rect">
            <a:avLst/>
          </a:prstGeom>
          <a:ln w="0">
            <a:noFill/>
          </a:ln>
        </p:spPr>
      </p:pic>
      <p:pic>
        <p:nvPicPr>
          <p:cNvPr id="914" name="52 Grupo" descr=""/>
          <p:cNvPicPr/>
          <p:nvPr/>
        </p:nvPicPr>
        <p:blipFill>
          <a:blip r:embed="rId7"/>
          <a:stretch/>
        </p:blipFill>
        <p:spPr>
          <a:xfrm>
            <a:off x="244440" y="3852720"/>
            <a:ext cx="2535120" cy="987480"/>
          </a:xfrm>
          <a:prstGeom prst="rect">
            <a:avLst/>
          </a:prstGeom>
          <a:ln w="0">
            <a:noFill/>
          </a:ln>
        </p:spPr>
      </p:pic>
      <p:pic>
        <p:nvPicPr>
          <p:cNvPr id="915" name="52 Grupo" descr=""/>
          <p:cNvPicPr/>
          <p:nvPr/>
        </p:nvPicPr>
        <p:blipFill>
          <a:blip r:embed="rId8"/>
          <a:stretch/>
        </p:blipFill>
        <p:spPr>
          <a:xfrm>
            <a:off x="6364440" y="3852720"/>
            <a:ext cx="2535120" cy="987480"/>
          </a:xfrm>
          <a:prstGeom prst="rect">
            <a:avLst/>
          </a:prstGeom>
          <a:ln w="0">
            <a:noFill/>
          </a:ln>
        </p:spPr>
      </p:pic>
      <p:sp>
        <p:nvSpPr>
          <p:cNvPr id="916" name="37 Rectángulo"/>
          <p:cNvSpPr/>
          <p:nvPr/>
        </p:nvSpPr>
        <p:spPr>
          <a:xfrm>
            <a:off x="7093080" y="5445000"/>
            <a:ext cx="1942920" cy="43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FC&amp;TI representantes de U públicas y privad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4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4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2"/>
          <p:cNvGrpSpPr/>
          <p:nvPr/>
        </p:nvGrpSpPr>
        <p:grpSpPr>
          <a:xfrm>
            <a:off x="179280" y="3591000"/>
            <a:ext cx="8964360" cy="197640"/>
            <a:chOff x="179280" y="3591000"/>
            <a:chExt cx="8964360" cy="197640"/>
          </a:xfrm>
        </p:grpSpPr>
        <p:sp>
          <p:nvSpPr>
            <p:cNvPr id="509" name="Line 23"/>
            <p:cNvSpPr/>
            <p:nvPr/>
          </p:nvSpPr>
          <p:spPr>
            <a:xfrm>
              <a:off x="179280" y="3591000"/>
              <a:ext cx="89643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4"/>
            <p:cNvSpPr/>
            <p:nvPr/>
          </p:nvSpPr>
          <p:spPr>
            <a:xfrm>
              <a:off x="8485920" y="3599280"/>
              <a:ext cx="657720" cy="189360"/>
            </a:xfrm>
            <a:prstGeom prst="rect">
              <a:avLst/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5"/>
          <p:cNvSpPr/>
          <p:nvPr/>
        </p:nvSpPr>
        <p:spPr>
          <a:xfrm>
            <a:off x="1042920" y="3733920"/>
            <a:ext cx="756144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Oswaldo Aharón Porras Vallej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rector de Desarrollo Territorial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epartamento Nacional de Plane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95959"/>
                </a:solidFill>
                <a:latin typeface="Calibri"/>
              </a:rPr>
              <a:t>Bogotá , 27 de sept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36360" y="134136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222268"/>
                </a:solidFill>
                <a:latin typeface="Calibri"/>
              </a:rPr>
              <a:t>Nuevo Régimen de Regalías para el Desarrollo Regional y la Cohesión Territorial en 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-36360" y="292428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8 Rectángulo"/>
          <p:cNvSpPr/>
          <p:nvPr/>
        </p:nvSpPr>
        <p:spPr>
          <a:xfrm>
            <a:off x="7211160" y="27417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22268"/>
                </a:solidFill>
                <a:latin typeface="Calibri"/>
              </a:rPr>
              <a:t>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19 Grupo"/>
          <p:cNvGrpSpPr/>
          <p:nvPr/>
        </p:nvGrpSpPr>
        <p:grpSpPr>
          <a:xfrm>
            <a:off x="109440" y="1125360"/>
            <a:ext cx="4208400" cy="5543640"/>
            <a:chOff x="109440" y="1125360"/>
            <a:chExt cx="4208400" cy="5543640"/>
          </a:xfrm>
        </p:grpSpPr>
        <p:pic>
          <p:nvPicPr>
            <p:cNvPr id="920" name="1 Imagen" descr="Regiones SGR para presentación OP.jpg"/>
            <p:cNvPicPr/>
            <p:nvPr/>
          </p:nvPicPr>
          <p:blipFill>
            <a:blip r:embed="rId1"/>
            <a:srcRect l="9234" t="6953" r="9234" b="8004"/>
            <a:stretch/>
          </p:blipFill>
          <p:spPr>
            <a:xfrm>
              <a:off x="109440" y="1128600"/>
              <a:ext cx="4208400" cy="55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18 Rectángulo"/>
            <p:cNvSpPr/>
            <p:nvPr/>
          </p:nvSpPr>
          <p:spPr>
            <a:xfrm>
              <a:off x="3222720" y="1125360"/>
              <a:ext cx="102708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2 Rectángulo redondeado"/>
          <p:cNvGrpSpPr/>
          <p:nvPr/>
        </p:nvGrpSpPr>
        <p:grpSpPr>
          <a:xfrm>
            <a:off x="5084640" y="3565440"/>
            <a:ext cx="3791160" cy="860400"/>
            <a:chOff x="5084640" y="3565440"/>
            <a:chExt cx="3791160" cy="860400"/>
          </a:xfrm>
        </p:grpSpPr>
        <p:pic>
          <p:nvPicPr>
            <p:cNvPr id="923" name="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084640" y="3565440"/>
              <a:ext cx="3791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5184720" y="3639960"/>
              <a:ext cx="3598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Calibri"/>
                </a:rPr>
                <a:t>Cerrar brechas y reducir la pobrez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3 Rectángulo redondeado"/>
          <p:cNvGrpSpPr/>
          <p:nvPr/>
        </p:nvGrpSpPr>
        <p:grpSpPr>
          <a:xfrm>
            <a:off x="5084640" y="2670120"/>
            <a:ext cx="3791160" cy="828720"/>
            <a:chOff x="5084640" y="2670120"/>
            <a:chExt cx="3791160" cy="828720"/>
          </a:xfrm>
        </p:grpSpPr>
        <p:pic>
          <p:nvPicPr>
            <p:cNvPr id="926" name="3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84640" y="2670120"/>
              <a:ext cx="3791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5183280" y="274320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recimiento y Competitividad 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4 Rectángulo redondeado"/>
          <p:cNvGrpSpPr/>
          <p:nvPr/>
        </p:nvGrpSpPr>
        <p:grpSpPr>
          <a:xfrm>
            <a:off x="5084640" y="1779480"/>
            <a:ext cx="3791160" cy="824040"/>
            <a:chOff x="5084640" y="1779480"/>
            <a:chExt cx="3791160" cy="824040"/>
          </a:xfrm>
        </p:grpSpPr>
        <p:pic>
          <p:nvPicPr>
            <p:cNvPr id="929" name="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84640" y="1779480"/>
              <a:ext cx="3791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5183280" y="185112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AutoShape 9"/>
          <p:cNvGrpSpPr/>
          <p:nvPr/>
        </p:nvGrpSpPr>
        <p:grpSpPr>
          <a:xfrm>
            <a:off x="4290840" y="2702880"/>
            <a:ext cx="843840" cy="1381320"/>
            <a:chOff x="4290840" y="2702880"/>
            <a:chExt cx="843840" cy="1381320"/>
          </a:xfrm>
        </p:grpSpPr>
        <p:pic>
          <p:nvPicPr>
            <p:cNvPr id="932" name="AutoShape 9" descr=""/>
            <p:cNvPicPr/>
            <p:nvPr/>
          </p:nvPicPr>
          <p:blipFill>
            <a:blip r:embed="rId5"/>
            <a:stretch/>
          </p:blipFill>
          <p:spPr>
            <a:xfrm>
              <a:off x="4290840" y="2788920"/>
              <a:ext cx="757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 rot="9415200">
              <a:off x="4533120" y="2723760"/>
              <a:ext cx="366840" cy="12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6 CuadroTexto">
            <a:hlinkClick r:id="rId6" action="ppaction://hlinksldjump"/>
          </p:cNvPr>
          <p:cNvSpPr/>
          <p:nvPr/>
        </p:nvSpPr>
        <p:spPr>
          <a:xfrm>
            <a:off x="360360" y="1700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7 CuadroTexto">
            <a:hlinkClick r:id="rId7" action="ppaction://hlinksldjump"/>
          </p:cNvPr>
          <p:cNvSpPr/>
          <p:nvPr/>
        </p:nvSpPr>
        <p:spPr>
          <a:xfrm>
            <a:off x="2160720" y="2492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OR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8 CuadroTexto">
            <a:hlinkClick r:id="rId8" action="ppaction://hlinksldjump"/>
          </p:cNvPr>
          <p:cNvSpPr/>
          <p:nvPr/>
        </p:nvSpPr>
        <p:spPr>
          <a:xfrm>
            <a:off x="1403280" y="5138640"/>
            <a:ext cx="12607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 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9 CuadroTexto">
            <a:hlinkClick r:id="rId9" action="ppaction://hlinksldjump"/>
          </p:cNvPr>
          <p:cNvSpPr/>
          <p:nvPr/>
        </p:nvSpPr>
        <p:spPr>
          <a:xfrm>
            <a:off x="2771640" y="3554280"/>
            <a:ext cx="1260720" cy="45900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MAZONÍA ORINOQU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10 CuadroTexto">
            <a:hlinkClick r:id="rId10" action="ppaction://hlinksldjump"/>
          </p:cNvPr>
          <p:cNvSpPr/>
          <p:nvPr/>
        </p:nvSpPr>
        <p:spPr>
          <a:xfrm>
            <a:off x="0" y="3716280"/>
            <a:ext cx="126036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ACI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11 CuadroTexto">
            <a:hlinkClick r:id="rId11" action="ppaction://hlinksldjump"/>
          </p:cNvPr>
          <p:cNvSpPr/>
          <p:nvPr/>
        </p:nvSpPr>
        <p:spPr>
          <a:xfrm>
            <a:off x="684360" y="299736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FET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12 Imagen" descr="Regiones SGR para presentación OP.jpg"/>
          <p:cNvPicPr/>
          <p:nvPr/>
        </p:nvPicPr>
        <p:blipFill>
          <a:blip r:embed="rId12"/>
          <a:srcRect l="5160" t="80454" r="78541" b="3802"/>
          <a:stretch/>
        </p:blipFill>
        <p:spPr>
          <a:xfrm>
            <a:off x="71280" y="5445000"/>
            <a:ext cx="1044720" cy="1285920"/>
          </a:xfrm>
          <a:prstGeom prst="rect">
            <a:avLst/>
          </a:prstGeom>
          <a:ln w="0">
            <a:noFill/>
          </a:ln>
        </p:spPr>
      </p:pic>
      <p:sp>
        <p:nvSpPr>
          <p:cNvPr id="941" name="13 Rectángulo"/>
          <p:cNvSpPr/>
          <p:nvPr/>
        </p:nvSpPr>
        <p:spPr>
          <a:xfrm>
            <a:off x="0" y="73512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  <a:ea typeface="Arial"/>
              </a:rPr>
              <a:t>Los territorios trabajando por la integración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15 Rectángulo redondeado"/>
          <p:cNvGrpSpPr/>
          <p:nvPr/>
        </p:nvGrpSpPr>
        <p:grpSpPr>
          <a:xfrm>
            <a:off x="5084640" y="4505400"/>
            <a:ext cx="3791160" cy="822240"/>
            <a:chOff x="5084640" y="4505400"/>
            <a:chExt cx="3791160" cy="822240"/>
          </a:xfrm>
        </p:grpSpPr>
        <p:pic>
          <p:nvPicPr>
            <p:cNvPr id="943" name="1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5084640" y="4505400"/>
              <a:ext cx="3791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5183280" y="457344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16 Rectángulo redondeado"/>
          <p:cNvGrpSpPr/>
          <p:nvPr/>
        </p:nvGrpSpPr>
        <p:grpSpPr>
          <a:xfrm>
            <a:off x="5084640" y="5450040"/>
            <a:ext cx="3810240" cy="828360"/>
            <a:chOff x="5084640" y="5450040"/>
            <a:chExt cx="3810240" cy="828360"/>
          </a:xfrm>
        </p:grpSpPr>
        <p:pic>
          <p:nvPicPr>
            <p:cNvPr id="946" name="1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5084640" y="5450040"/>
              <a:ext cx="38102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183280" y="552276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Transparencia – Triángulos de Buen Gobier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2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2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07"/>
          <p:cNvSpPr/>
          <p:nvPr/>
        </p:nvSpPr>
        <p:spPr>
          <a:xfrm>
            <a:off x="3348000" y="260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bri"/>
              </a:rPr>
              <a:t>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Regalías total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261 Grupo"/>
          <p:cNvGrpSpPr/>
          <p:nvPr/>
        </p:nvGrpSpPr>
        <p:grpSpPr>
          <a:xfrm>
            <a:off x="2871720" y="5254560"/>
            <a:ext cx="2521080" cy="307080"/>
            <a:chOff x="2871720" y="5254560"/>
            <a:chExt cx="2521080" cy="307080"/>
          </a:xfrm>
        </p:grpSpPr>
        <p:sp>
          <p:nvSpPr>
            <p:cNvPr id="952" name="95 Rectángulo"/>
            <p:cNvSpPr/>
            <p:nvPr/>
          </p:nvSpPr>
          <p:spPr>
            <a:xfrm>
              <a:off x="2871720" y="5303520"/>
              <a:ext cx="431640" cy="17964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96 CuadroTexto"/>
            <p:cNvSpPr/>
            <p:nvPr/>
          </p:nvSpPr>
          <p:spPr>
            <a:xfrm>
              <a:off x="3376440" y="52545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262 Grupo"/>
          <p:cNvGrpSpPr/>
          <p:nvPr/>
        </p:nvGrpSpPr>
        <p:grpSpPr>
          <a:xfrm>
            <a:off x="2871720" y="5564160"/>
            <a:ext cx="2521080" cy="307080"/>
            <a:chOff x="2871720" y="5564160"/>
            <a:chExt cx="2521080" cy="307080"/>
          </a:xfrm>
        </p:grpSpPr>
        <p:sp>
          <p:nvSpPr>
            <p:cNvPr id="955" name="98 Rectángulo"/>
            <p:cNvSpPr/>
            <p:nvPr/>
          </p:nvSpPr>
          <p:spPr>
            <a:xfrm>
              <a:off x="2871720" y="5613120"/>
              <a:ext cx="431640" cy="17964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99 CuadroTexto"/>
            <p:cNvSpPr/>
            <p:nvPr/>
          </p:nvSpPr>
          <p:spPr>
            <a:xfrm>
              <a:off x="3376440" y="55641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263 Grupo"/>
          <p:cNvGrpSpPr/>
          <p:nvPr/>
        </p:nvGrpSpPr>
        <p:grpSpPr>
          <a:xfrm>
            <a:off x="2871720" y="5875200"/>
            <a:ext cx="2521080" cy="307080"/>
            <a:chOff x="2871720" y="5875200"/>
            <a:chExt cx="2521080" cy="307080"/>
          </a:xfrm>
        </p:grpSpPr>
        <p:sp>
          <p:nvSpPr>
            <p:cNvPr id="958" name="101 Rectángulo"/>
            <p:cNvSpPr/>
            <p:nvPr/>
          </p:nvSpPr>
          <p:spPr>
            <a:xfrm>
              <a:off x="2871720" y="5924160"/>
              <a:ext cx="431640" cy="17964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102 CuadroTexto"/>
            <p:cNvSpPr/>
            <p:nvPr/>
          </p:nvSpPr>
          <p:spPr>
            <a:xfrm>
              <a:off x="3376440" y="58752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264 Grupo"/>
          <p:cNvGrpSpPr/>
          <p:nvPr/>
        </p:nvGrpSpPr>
        <p:grpSpPr>
          <a:xfrm>
            <a:off x="2871720" y="6184800"/>
            <a:ext cx="2236680" cy="307080"/>
            <a:chOff x="2871720" y="6184800"/>
            <a:chExt cx="2236680" cy="307080"/>
          </a:xfrm>
        </p:grpSpPr>
        <p:sp>
          <p:nvSpPr>
            <p:cNvPr id="961" name="104 Rectángulo"/>
            <p:cNvSpPr/>
            <p:nvPr/>
          </p:nvSpPr>
          <p:spPr>
            <a:xfrm>
              <a:off x="2871720" y="6233760"/>
              <a:ext cx="431640" cy="17964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105 CuadroTexto"/>
            <p:cNvSpPr/>
            <p:nvPr/>
          </p:nvSpPr>
          <p:spPr>
            <a:xfrm>
              <a:off x="3376440" y="61848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261 Grupo"/>
          <p:cNvGrpSpPr/>
          <p:nvPr/>
        </p:nvGrpSpPr>
        <p:grpSpPr>
          <a:xfrm>
            <a:off x="2870280" y="4944960"/>
            <a:ext cx="2522520" cy="307080"/>
            <a:chOff x="2870280" y="4944960"/>
            <a:chExt cx="2522520" cy="307080"/>
          </a:xfrm>
        </p:grpSpPr>
        <p:sp>
          <p:nvSpPr>
            <p:cNvPr id="964" name="95 Rectángulo"/>
            <p:cNvSpPr/>
            <p:nvPr/>
          </p:nvSpPr>
          <p:spPr>
            <a:xfrm>
              <a:off x="2870280" y="4993920"/>
              <a:ext cx="431640" cy="17964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96 CuadroTexto"/>
            <p:cNvSpPr/>
            <p:nvPr/>
          </p:nvSpPr>
          <p:spPr>
            <a:xfrm>
              <a:off x="3375000" y="494496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261 Grupo"/>
          <p:cNvGrpSpPr/>
          <p:nvPr/>
        </p:nvGrpSpPr>
        <p:grpSpPr>
          <a:xfrm>
            <a:off x="2871720" y="4638600"/>
            <a:ext cx="1944720" cy="307080"/>
            <a:chOff x="2871720" y="4638600"/>
            <a:chExt cx="1944720" cy="307080"/>
          </a:xfrm>
        </p:grpSpPr>
        <p:sp>
          <p:nvSpPr>
            <p:cNvPr id="967" name="95 Rectángulo"/>
            <p:cNvSpPr/>
            <p:nvPr/>
          </p:nvSpPr>
          <p:spPr>
            <a:xfrm>
              <a:off x="2871720" y="4687560"/>
              <a:ext cx="431640" cy="179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96 CuadroTexto"/>
            <p:cNvSpPr/>
            <p:nvPr/>
          </p:nvSpPr>
          <p:spPr>
            <a:xfrm>
              <a:off x="3376440" y="463860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106 CuadroTexto"/>
          <p:cNvSpPr/>
          <p:nvPr/>
        </p:nvSpPr>
        <p:spPr>
          <a:xfrm>
            <a:off x="2700360" y="3860640"/>
            <a:ext cx="28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222268"/>
                </a:solidFill>
                <a:latin typeface="Calibri"/>
              </a:rPr>
              <a:t>2012 – 20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99 Grupo"/>
          <p:cNvGrpSpPr/>
          <p:nvPr/>
        </p:nvGrpSpPr>
        <p:grpSpPr>
          <a:xfrm>
            <a:off x="4356000" y="1395360"/>
            <a:ext cx="4538880" cy="5418360"/>
            <a:chOff x="4356000" y="1395360"/>
            <a:chExt cx="4538880" cy="5418360"/>
          </a:xfrm>
        </p:grpSpPr>
        <p:sp>
          <p:nvSpPr>
            <p:cNvPr id="971" name="Freeform 32"/>
            <p:cNvSpPr/>
            <p:nvPr/>
          </p:nvSpPr>
          <p:spPr>
            <a:xfrm>
              <a:off x="4916160" y="3826080"/>
              <a:ext cx="681120" cy="6411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"/>
            <p:cNvSpPr/>
            <p:nvPr/>
          </p:nvSpPr>
          <p:spPr>
            <a:xfrm>
              <a:off x="5597280" y="1933560"/>
              <a:ext cx="731880" cy="12366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"/>
            <p:cNvSpPr/>
            <p:nvPr/>
          </p:nvSpPr>
          <p:spPr>
            <a:xfrm>
              <a:off x="4736880" y="436284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"/>
            <p:cNvSpPr/>
            <p:nvPr/>
          </p:nvSpPr>
          <p:spPr>
            <a:xfrm>
              <a:off x="5297400" y="2380320"/>
              <a:ext cx="650880" cy="6742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"/>
            <p:cNvSpPr/>
            <p:nvPr/>
          </p:nvSpPr>
          <p:spPr>
            <a:xfrm>
              <a:off x="6353280" y="1395360"/>
              <a:ext cx="955440" cy="66816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"/>
            <p:cNvSpPr/>
            <p:nvPr/>
          </p:nvSpPr>
          <p:spPr>
            <a:xfrm>
              <a:off x="4356000" y="456408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"/>
            <p:cNvSpPr/>
            <p:nvPr/>
          </p:nvSpPr>
          <p:spPr>
            <a:xfrm>
              <a:off x="6038280" y="2801520"/>
              <a:ext cx="762480" cy="78408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5597280" y="2153880"/>
              <a:ext cx="433440" cy="6015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1560"/>
                <a:gd name="textAreaBottom" fmla="*/ 601560 h 6015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31000" y="3138840"/>
              <a:ext cx="1114560" cy="3434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6576840" y="3390480"/>
              <a:ext cx="1225440" cy="66168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5036400" y="4978800"/>
              <a:ext cx="1256040" cy="6480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4430520" y="1460160"/>
              <a:ext cx="664920" cy="6220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266 Grupo" descr=""/>
            <p:cNvPicPr/>
            <p:nvPr/>
          </p:nvPicPr>
          <p:blipFill>
            <a:blip r:embed="rId1"/>
            <a:stretch/>
          </p:blipFill>
          <p:spPr>
            <a:xfrm>
              <a:off x="6083640" y="5397120"/>
              <a:ext cx="1883880" cy="14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Freeform 16"/>
            <p:cNvSpPr/>
            <p:nvPr/>
          </p:nvSpPr>
          <p:spPr>
            <a:xfrm>
              <a:off x="7413840" y="4136400"/>
              <a:ext cx="1481040" cy="93888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938880"/>
                <a:gd name="textAreaBottom" fmla="*/ 939240 h 93888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7"/>
            <p:cNvSpPr/>
            <p:nvPr/>
          </p:nvSpPr>
          <p:spPr>
            <a:xfrm>
              <a:off x="6367320" y="4492800"/>
              <a:ext cx="1360440" cy="73296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8"/>
            <p:cNvSpPr/>
            <p:nvPr/>
          </p:nvSpPr>
          <p:spPr>
            <a:xfrm>
              <a:off x="6966000" y="4764960"/>
              <a:ext cx="1084320" cy="106884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7324920" y="3390480"/>
              <a:ext cx="1368360" cy="1160640"/>
            </a:xfrm>
            <a:custGeom>
              <a:avLst/>
              <a:gdLst/>
              <a:ahLst/>
              <a:rect l="l" t="t" r="r" b="b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0"/>
            <p:cNvSpPr/>
            <p:nvPr/>
          </p:nvSpPr>
          <p:spPr>
            <a:xfrm>
              <a:off x="5260680" y="4201200"/>
              <a:ext cx="792000" cy="7520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52040"/>
                <a:gd name="textAreaBottom" fmla="*/ 752400 h 75204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>
              <a:off x="5514840" y="3566160"/>
              <a:ext cx="486000" cy="317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2"/>
            <p:cNvSpPr/>
            <p:nvPr/>
          </p:nvSpPr>
          <p:spPr>
            <a:xfrm>
              <a:off x="5059080" y="2556000"/>
              <a:ext cx="1225440" cy="11131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113120"/>
                <a:gd name="textAreaBottom" fmla="*/ 1113480 h 111312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75240" y="2426040"/>
              <a:ext cx="582480" cy="777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4"/>
            <p:cNvSpPr/>
            <p:nvPr/>
          </p:nvSpPr>
          <p:spPr>
            <a:xfrm>
              <a:off x="6173640" y="1913040"/>
              <a:ext cx="500040" cy="10306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>
              <a:off x="5881680" y="1751400"/>
              <a:ext cx="507960" cy="7772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>
              <a:off x="5754600" y="1841760"/>
              <a:ext cx="209520" cy="272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>
              <a:off x="5379840" y="4479840"/>
              <a:ext cx="1854360" cy="118584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8"/>
            <p:cNvSpPr/>
            <p:nvPr/>
          </p:nvSpPr>
          <p:spPr>
            <a:xfrm>
              <a:off x="5889600" y="3851280"/>
              <a:ext cx="1434960" cy="10688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5994360" y="3144960"/>
              <a:ext cx="1008000" cy="7837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4774680" y="2639520"/>
              <a:ext cx="695160" cy="150984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5402880" y="3630960"/>
              <a:ext cx="313920" cy="2916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5529240" y="3909960"/>
              <a:ext cx="187200" cy="207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5454360" y="3715200"/>
              <a:ext cx="598320" cy="7646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5895720" y="3547440"/>
              <a:ext cx="689040" cy="6998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Group 48"/>
            <p:cNvGrpSpPr/>
            <p:nvPr/>
          </p:nvGrpSpPr>
          <p:grpSpPr>
            <a:xfrm>
              <a:off x="4448520" y="1759680"/>
              <a:ext cx="4116240" cy="4208400"/>
              <a:chOff x="4448520" y="1759680"/>
              <a:chExt cx="4116240" cy="4208400"/>
            </a:xfrm>
          </p:grpSpPr>
          <p:sp>
            <p:nvSpPr>
              <p:cNvPr id="1004" name="65 CuadroTexto"/>
              <p:cNvSpPr/>
              <p:nvPr/>
            </p:nvSpPr>
            <p:spPr>
              <a:xfrm>
                <a:off x="6533640" y="473832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70 CuadroTexto"/>
              <p:cNvSpPr/>
              <p:nvPr/>
            </p:nvSpPr>
            <p:spPr>
              <a:xfrm>
                <a:off x="4448520" y="489384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ffffff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91"/>
              <p:cNvGrpSpPr/>
              <p:nvPr/>
            </p:nvGrpSpPr>
            <p:grpSpPr>
              <a:xfrm>
                <a:off x="4604760" y="1759680"/>
                <a:ext cx="3960000" cy="4208400"/>
                <a:chOff x="4604760" y="1759680"/>
                <a:chExt cx="3960000" cy="4208400"/>
              </a:xfrm>
            </p:grpSpPr>
            <p:sp>
              <p:nvSpPr>
                <p:cNvPr id="1007" name="61 CuadroTexto"/>
                <p:cNvSpPr/>
                <p:nvPr/>
              </p:nvSpPr>
              <p:spPr>
                <a:xfrm>
                  <a:off x="7156080" y="319680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62 CuadroTexto"/>
                <p:cNvSpPr/>
                <p:nvPr/>
              </p:nvSpPr>
              <p:spPr>
                <a:xfrm>
                  <a:off x="6844680" y="3629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63 CuadroTexto"/>
                <p:cNvSpPr/>
                <p:nvPr/>
              </p:nvSpPr>
              <p:spPr>
                <a:xfrm>
                  <a:off x="7653960" y="382428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64 CuadroTexto"/>
                <p:cNvSpPr/>
                <p:nvPr/>
              </p:nvSpPr>
              <p:spPr>
                <a:xfrm>
                  <a:off x="7880400" y="44719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66 CuadroTexto"/>
                <p:cNvSpPr/>
                <p:nvPr/>
              </p:nvSpPr>
              <p:spPr>
                <a:xfrm>
                  <a:off x="7093800" y="51260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67 CuadroTexto"/>
                <p:cNvSpPr/>
                <p:nvPr/>
              </p:nvSpPr>
              <p:spPr>
                <a:xfrm>
                  <a:off x="6720480" y="57675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68 CuadroTexto"/>
                <p:cNvSpPr/>
                <p:nvPr/>
              </p:nvSpPr>
              <p:spPr>
                <a:xfrm>
                  <a:off x="5873040" y="51386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69 CuadroTexto"/>
                <p:cNvSpPr/>
                <p:nvPr/>
              </p:nvSpPr>
              <p:spPr>
                <a:xfrm>
                  <a:off x="6284880" y="42494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71 CuadroTexto"/>
                <p:cNvSpPr/>
                <p:nvPr/>
              </p:nvSpPr>
              <p:spPr>
                <a:xfrm>
                  <a:off x="5040360" y="51447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72 CuadroTexto"/>
                <p:cNvSpPr/>
                <p:nvPr/>
              </p:nvSpPr>
              <p:spPr>
                <a:xfrm>
                  <a:off x="5186880" y="46292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74 CuadroTexto"/>
                <p:cNvSpPr/>
                <p:nvPr/>
              </p:nvSpPr>
              <p:spPr>
                <a:xfrm>
                  <a:off x="5413680" y="4115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76 CuadroTexto"/>
                <p:cNvSpPr/>
                <p:nvPr/>
              </p:nvSpPr>
              <p:spPr>
                <a:xfrm>
                  <a:off x="5833080" y="3872520"/>
                  <a:ext cx="871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77 CuadroTexto"/>
                <p:cNvSpPr/>
                <p:nvPr/>
              </p:nvSpPr>
              <p:spPr>
                <a:xfrm>
                  <a:off x="6222600" y="35438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Group 90"/>
                <p:cNvGrpSpPr/>
                <p:nvPr/>
              </p:nvGrpSpPr>
              <p:grpSpPr>
                <a:xfrm>
                  <a:off x="4604760" y="1759680"/>
                  <a:ext cx="2637360" cy="2981520"/>
                  <a:chOff x="4604760" y="1759680"/>
                  <a:chExt cx="2637360" cy="2981520"/>
                </a:xfrm>
              </p:grpSpPr>
              <p:sp>
                <p:nvSpPr>
                  <p:cNvPr id="1021" name="79 CuadroTexto"/>
                  <p:cNvSpPr/>
                  <p:nvPr/>
                </p:nvSpPr>
                <p:spPr>
                  <a:xfrm>
                    <a:off x="5475960" y="3595320"/>
                    <a:ext cx="684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Group 89"/>
                  <p:cNvGrpSpPr/>
                  <p:nvPr/>
                </p:nvGrpSpPr>
                <p:grpSpPr>
                  <a:xfrm>
                    <a:off x="4604760" y="1759680"/>
                    <a:ext cx="2637360" cy="2981520"/>
                    <a:chOff x="4604760" y="1759680"/>
                    <a:chExt cx="2637360" cy="2981520"/>
                  </a:xfrm>
                </p:grpSpPr>
                <p:sp>
                  <p:nvSpPr>
                    <p:cNvPr id="1023" name="52 CuadroTexto"/>
                    <p:cNvSpPr/>
                    <p:nvPr/>
                  </p:nvSpPr>
                  <p:spPr>
                    <a:xfrm>
                      <a:off x="5849280" y="1905840"/>
                      <a:ext cx="74664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24" name="Group 89"/>
                    <p:cNvGrpSpPr/>
                    <p:nvPr/>
                  </p:nvGrpSpPr>
                  <p:grpSpPr>
                    <a:xfrm>
                      <a:off x="4604760" y="1759680"/>
                      <a:ext cx="2637360" cy="2981520"/>
                      <a:chOff x="4604760" y="1759680"/>
                      <a:chExt cx="2637360" cy="2981520"/>
                    </a:xfrm>
                  </p:grpSpPr>
                  <p:sp>
                    <p:nvSpPr>
                      <p:cNvPr id="1025" name="51 CuadroTexto"/>
                      <p:cNvSpPr/>
                      <p:nvPr/>
                    </p:nvSpPr>
                    <p:spPr>
                      <a:xfrm>
                        <a:off x="6330960" y="1759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53 CuadroTexto"/>
                      <p:cNvSpPr/>
                      <p:nvPr/>
                    </p:nvSpPr>
                    <p:spPr>
                      <a:xfrm>
                        <a:off x="6222600" y="21240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7" name="54 CuadroTexto"/>
                      <p:cNvSpPr/>
                      <p:nvPr/>
                    </p:nvSpPr>
                    <p:spPr>
                      <a:xfrm>
                        <a:off x="5351400" y="26704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55 CuadroTexto"/>
                      <p:cNvSpPr/>
                      <p:nvPr/>
                    </p:nvSpPr>
                    <p:spPr>
                      <a:xfrm>
                        <a:off x="5538240" y="2306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9" name="56 CuadroTexto"/>
                      <p:cNvSpPr/>
                      <p:nvPr/>
                    </p:nvSpPr>
                    <p:spPr>
                      <a:xfrm>
                        <a:off x="4604760" y="1820160"/>
                        <a:ext cx="87120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57 CuadroTexto"/>
                      <p:cNvSpPr/>
                      <p:nvPr/>
                    </p:nvSpPr>
                    <p:spPr>
                      <a:xfrm>
                        <a:off x="5895360" y="26812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58 CuadroTexto"/>
                      <p:cNvSpPr/>
                      <p:nvPr/>
                    </p:nvSpPr>
                    <p:spPr>
                      <a:xfrm>
                        <a:off x="5413680" y="1820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59 CuadroTexto"/>
                      <p:cNvSpPr/>
                      <p:nvPr/>
                    </p:nvSpPr>
                    <p:spPr>
                      <a:xfrm>
                        <a:off x="6433200" y="2693880"/>
                        <a:ext cx="8089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60 CuadroTexto"/>
                      <p:cNvSpPr/>
                      <p:nvPr/>
                    </p:nvSpPr>
                    <p:spPr>
                      <a:xfrm>
                        <a:off x="6066360" y="3257640"/>
                        <a:ext cx="765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4" name="73 CuadroTexto"/>
                      <p:cNvSpPr/>
                      <p:nvPr/>
                    </p:nvSpPr>
                    <p:spPr>
                      <a:xfrm>
                        <a:off x="4791240" y="4540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75 CuadroTexto"/>
                      <p:cNvSpPr/>
                      <p:nvPr/>
                    </p:nvSpPr>
                    <p:spPr>
                      <a:xfrm>
                        <a:off x="4853520" y="35208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78 CuadroTexto"/>
                      <p:cNvSpPr/>
                      <p:nvPr/>
                    </p:nvSpPr>
                    <p:spPr>
                      <a:xfrm>
                        <a:off x="5226840" y="3899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7" name="80 CuadroTexto"/>
                      <p:cNvSpPr/>
                      <p:nvPr/>
                    </p:nvSpPr>
                    <p:spPr>
                      <a:xfrm>
                        <a:off x="5040360" y="3717000"/>
                        <a:ext cx="8395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8" name="81 CuadroTexto"/>
                      <p:cNvSpPr/>
                      <p:nvPr/>
                    </p:nvSpPr>
                    <p:spPr>
                      <a:xfrm>
                        <a:off x="5289120" y="3216960"/>
                        <a:ext cx="74664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9" name="82 CuadroTexto"/>
                      <p:cNvSpPr/>
                      <p:nvPr/>
                    </p:nvSpPr>
                    <p:spPr>
                      <a:xfrm>
                        <a:off x="4939560" y="4120200"/>
                        <a:ext cx="684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-36360" y="1096920"/>
            <a:ext cx="2681280" cy="3195720"/>
          </a:xfrm>
          <a:prstGeom prst="rect">
            <a:avLst/>
          </a:prstGeom>
          <a:ln w="0">
            <a:noFill/>
          </a:ln>
        </p:spPr>
      </p:pic>
      <p:sp>
        <p:nvSpPr>
          <p:cNvPr id="1041" name="93 Rectángulo"/>
          <p:cNvSpPr/>
          <p:nvPr/>
        </p:nvSpPr>
        <p:spPr>
          <a:xfrm>
            <a:off x="1476360" y="119700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96 Cheurón"/>
          <p:cNvSpPr/>
          <p:nvPr/>
        </p:nvSpPr>
        <p:spPr>
          <a:xfrm>
            <a:off x="8675640" y="83664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97 Cheurón"/>
          <p:cNvSpPr/>
          <p:nvPr/>
        </p:nvSpPr>
        <p:spPr>
          <a:xfrm>
            <a:off x="831708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98 Cheurón"/>
          <p:cNvSpPr/>
          <p:nvPr/>
        </p:nvSpPr>
        <p:spPr>
          <a:xfrm>
            <a:off x="795672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101 Conector recto"/>
          <p:cNvSpPr/>
          <p:nvPr/>
        </p:nvSpPr>
        <p:spPr>
          <a:xfrm>
            <a:off x="2700360" y="1197000"/>
            <a:ext cx="0" cy="5545080"/>
          </a:xfrm>
          <a:prstGeom prst="line">
            <a:avLst/>
          </a:prstGeom>
          <a:ln w="9360">
            <a:solidFill>
              <a:srgbClr val="2222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10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10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3 Marcador de contenido"/>
          <p:cNvSpPr/>
          <p:nvPr/>
        </p:nvSpPr>
        <p:spPr>
          <a:xfrm>
            <a:off x="395280" y="1341360"/>
            <a:ext cx="8137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2007 y 2011 los departamentos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$280 mil pesos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habitante en promedio. En 2012 recibirán </a:t>
            </a:r>
            <a:r>
              <a:rPr b="1" i="1" lang="es-CO" sz="1800" spc="-1" strike="noStrike">
                <a:solidFill>
                  <a:srgbClr val="222268"/>
                </a:solidFill>
                <a:latin typeface="Calibri"/>
              </a:rPr>
              <a:t>$298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y 2011 los departamentos no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35 mil pesos por habitante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 promedio. En 2012 recibirán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$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117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lo cual, el coeficiente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Gini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pasa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92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anterior a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39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nu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2 CuadroTexto"/>
          <p:cNvSpPr/>
          <p:nvPr/>
        </p:nvSpPr>
        <p:spPr>
          <a:xfrm>
            <a:off x="0" y="6524640"/>
            <a:ext cx="77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Departamento Nacional de Planeación. Cifras en billones de pesos de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179280" y="69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vances en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1916280" y="3500280"/>
            <a:ext cx="5576760" cy="2881440"/>
          </a:xfrm>
          <a:prstGeom prst="rect">
            <a:avLst/>
          </a:prstGeom>
          <a:ln w="0">
            <a:noFill/>
          </a:ln>
        </p:spPr>
      </p:pic>
      <p:sp>
        <p:nvSpPr>
          <p:cNvPr id="1052" name="6 Flecha a la derecha con bandas"/>
          <p:cNvSpPr/>
          <p:nvPr/>
        </p:nvSpPr>
        <p:spPr>
          <a:xfrm>
            <a:off x="108000" y="21319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7 Flecha a la derecha con bandas"/>
          <p:cNvSpPr/>
          <p:nvPr/>
        </p:nvSpPr>
        <p:spPr>
          <a:xfrm>
            <a:off x="108000" y="14907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9 Flecha a la derecha con bandas"/>
          <p:cNvSpPr/>
          <p:nvPr/>
        </p:nvSpPr>
        <p:spPr>
          <a:xfrm>
            <a:off x="108000" y="28526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1 Título"/>
          <p:cNvSpPr/>
          <p:nvPr/>
        </p:nvSpPr>
        <p:spPr>
          <a:xfrm>
            <a:off x="158760" y="836640"/>
            <a:ext cx="8805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El proceso de concertación de la reforma al SGR se inspiró en  principios de la cohes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2 Marcador de contenido"/>
          <p:cNvSpPr/>
          <p:nvPr/>
        </p:nvSpPr>
        <p:spPr>
          <a:xfrm>
            <a:off x="395280" y="1960560"/>
            <a:ext cx="84247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acción entre el sector publico y de este con el sector privado, académico, organizaciones sociales y ét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vínculos entre las entidades territoriales para aprovechar sus ventajas competitivas y lograr mayor impacto y eficiencia en el uso de sus recursos: Asociatividad;  mejores proy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isiones articuladas entre los niveles de gobierno  sobre proyectos de impacto regional  en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la participación ciudadana y mayor acceso de la sociedad civil en el SGR: presentación de proyectos; comités consultivos para conceptuar sobre los proyectos; recursos para grupos étn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3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4 Flecha a la derecha con bandas"/>
          <p:cNvSpPr/>
          <p:nvPr/>
        </p:nvSpPr>
        <p:spPr>
          <a:xfrm>
            <a:off x="-36360" y="198900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7">
                <a:moveTo>
                  <a:pt x="0" y="125809"/>
                </a:moveTo>
                <a:lnTo>
                  <a:pt x="8979" y="125809"/>
                </a:lnTo>
                <a:lnTo>
                  <a:pt x="8979" y="377428"/>
                </a:lnTo>
                <a:lnTo>
                  <a:pt x="0" y="377428"/>
                </a:lnTo>
                <a:close/>
                <a:moveTo>
                  <a:pt x="17959" y="125809"/>
                </a:moveTo>
                <a:lnTo>
                  <a:pt x="35917" y="125809"/>
                </a:lnTo>
                <a:lnTo>
                  <a:pt x="35917" y="377428"/>
                </a:lnTo>
                <a:lnTo>
                  <a:pt x="17959" y="377428"/>
                </a:lnTo>
                <a:close/>
                <a:moveTo>
                  <a:pt x="44897" y="125809"/>
                </a:moveTo>
                <a:lnTo>
                  <a:pt x="177517" y="125809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7"/>
                </a:lnTo>
                <a:lnTo>
                  <a:pt x="177517" y="377428"/>
                </a:lnTo>
                <a:lnTo>
                  <a:pt x="44897" y="377428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5 Flecha a la derecha con bandas"/>
          <p:cNvSpPr/>
          <p:nvPr/>
        </p:nvSpPr>
        <p:spPr>
          <a:xfrm>
            <a:off x="-36360" y="393372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6 Flecha a la derecha con bandas"/>
          <p:cNvSpPr/>
          <p:nvPr/>
        </p:nvSpPr>
        <p:spPr>
          <a:xfrm>
            <a:off x="-36360" y="479736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0 CuadroTexto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mplio desarrollo normativo del S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3 Rectángulo redondeado"/>
          <p:cNvSpPr/>
          <p:nvPr/>
        </p:nvSpPr>
        <p:spPr>
          <a:xfrm>
            <a:off x="2843280" y="1521000"/>
            <a:ext cx="1263600" cy="9349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4 Forma libre"/>
          <p:cNvSpPr/>
          <p:nvPr/>
        </p:nvSpPr>
        <p:spPr>
          <a:xfrm>
            <a:off x="2984400" y="1711440"/>
            <a:ext cx="1262160" cy="936360"/>
          </a:xfrm>
          <a:prstGeom prst="pie">
            <a:avLst/>
          </a:prstGeom>
          <a:solidFill>
            <a:srgbClr val="92d050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cto Legislativo  05 de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rea el S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5 Rectángulo redondeado"/>
          <p:cNvSpPr/>
          <p:nvPr/>
        </p:nvSpPr>
        <p:spPr>
          <a:xfrm>
            <a:off x="154764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6 Forma libre"/>
          <p:cNvSpPr/>
          <p:nvPr/>
        </p:nvSpPr>
        <p:spPr>
          <a:xfrm>
            <a:off x="1687680" y="3200400"/>
            <a:ext cx="10602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23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7 Rectángulo redondeado"/>
          <p:cNvSpPr/>
          <p:nvPr/>
        </p:nvSpPr>
        <p:spPr>
          <a:xfrm>
            <a:off x="3090960" y="3008160"/>
            <a:ext cx="106200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8 Forma libre"/>
          <p:cNvSpPr/>
          <p:nvPr/>
        </p:nvSpPr>
        <p:spPr>
          <a:xfrm>
            <a:off x="3232080" y="3200400"/>
            <a:ext cx="106056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50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presupuesto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9 Rectángulo redondeado"/>
          <p:cNvSpPr/>
          <p:nvPr/>
        </p:nvSpPr>
        <p:spPr>
          <a:xfrm>
            <a:off x="457200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10 Forma libre"/>
          <p:cNvSpPr/>
          <p:nvPr/>
        </p:nvSpPr>
        <p:spPr>
          <a:xfrm>
            <a:off x="4711680" y="3200400"/>
            <a:ext cx="10620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y 1530 de 2012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11 Rectángulo redondeado"/>
          <p:cNvSpPr/>
          <p:nvPr/>
        </p:nvSpPr>
        <p:spPr>
          <a:xfrm>
            <a:off x="3130560" y="506880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12 Forma libre"/>
          <p:cNvSpPr/>
          <p:nvPr/>
        </p:nvSpPr>
        <p:spPr>
          <a:xfrm>
            <a:off x="3270240" y="526104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5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Reglamenta OCAD's y sus secretarías técn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13 Rectángulo redondeado"/>
          <p:cNvSpPr/>
          <p:nvPr/>
        </p:nvSpPr>
        <p:spPr>
          <a:xfrm>
            <a:off x="166068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14 Forma libre"/>
          <p:cNvSpPr/>
          <p:nvPr/>
        </p:nvSpPr>
        <p:spPr>
          <a:xfrm>
            <a:off x="180036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4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Giro recursos del FA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15 Rectángulo redondeado"/>
          <p:cNvSpPr/>
          <p:nvPr/>
        </p:nvSpPr>
        <p:spPr>
          <a:xfrm>
            <a:off x="144360" y="5108400"/>
            <a:ext cx="126216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16 Forma libre"/>
          <p:cNvSpPr/>
          <p:nvPr/>
        </p:nvSpPr>
        <p:spPr>
          <a:xfrm>
            <a:off x="28404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3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distrib. 10% FCR, Fonpet y compensa-ciones a direc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17 Rectángulo redondeado"/>
          <p:cNvSpPr/>
          <p:nvPr/>
        </p:nvSpPr>
        <p:spPr>
          <a:xfrm>
            <a:off x="6107040" y="509904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18 Forma libre"/>
          <p:cNvSpPr/>
          <p:nvPr/>
        </p:nvSpPr>
        <p:spPr>
          <a:xfrm>
            <a:off x="624672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7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Ciclo de proyectos y Presu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19 Rectángulo redondeado"/>
          <p:cNvSpPr/>
          <p:nvPr/>
        </p:nvSpPr>
        <p:spPr>
          <a:xfrm>
            <a:off x="4589640" y="5099040"/>
            <a:ext cx="126360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20 Forma libre"/>
          <p:cNvSpPr/>
          <p:nvPr/>
        </p:nvSpPr>
        <p:spPr>
          <a:xfrm>
            <a:off x="473076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6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reglamenta Fondo de Ahorro -FAE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21 Rectángulo redondeado"/>
          <p:cNvSpPr/>
          <p:nvPr/>
        </p:nvSpPr>
        <p:spPr>
          <a:xfrm>
            <a:off x="763272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22 Forma libre"/>
          <p:cNvSpPr/>
          <p:nvPr/>
        </p:nvSpPr>
        <p:spPr>
          <a:xfrm>
            <a:off x="7773840" y="5300640"/>
            <a:ext cx="126216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CO" sz="1100" spc="-1" strike="noStrike">
                <a:solidFill>
                  <a:srgbClr val="0000ff"/>
                </a:solidFill>
                <a:latin typeface="Calibri"/>
              </a:rPr>
              <a:t>Decreto 1243 de 2012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: Ajuste al presupuesto del SG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24 Conector recto"/>
          <p:cNvSpPr/>
          <p:nvPr/>
        </p:nvSpPr>
        <p:spPr>
          <a:xfrm flipH="1">
            <a:off x="915480" y="4952880"/>
            <a:ext cx="73551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25 Conector recto"/>
          <p:cNvSpPr/>
          <p:nvPr/>
        </p:nvSpPr>
        <p:spPr>
          <a:xfrm>
            <a:off x="915840" y="4952880"/>
            <a:ext cx="180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26 Conector recto"/>
          <p:cNvSpPr/>
          <p:nvPr/>
        </p:nvSpPr>
        <p:spPr>
          <a:xfrm>
            <a:off x="226692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27 Conector recto"/>
          <p:cNvSpPr/>
          <p:nvPr/>
        </p:nvSpPr>
        <p:spPr>
          <a:xfrm>
            <a:off x="521964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28 Conector recto"/>
          <p:cNvSpPr/>
          <p:nvPr/>
        </p:nvSpPr>
        <p:spPr>
          <a:xfrm>
            <a:off x="6711840" y="4944960"/>
            <a:ext cx="1800" cy="173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9 Conector recto"/>
          <p:cNvSpPr/>
          <p:nvPr/>
        </p:nvSpPr>
        <p:spPr>
          <a:xfrm flipH="1">
            <a:off x="8264160" y="4952880"/>
            <a:ext cx="4680" cy="155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0 Conector recto"/>
          <p:cNvSpPr/>
          <p:nvPr/>
        </p:nvSpPr>
        <p:spPr>
          <a:xfrm flipH="1">
            <a:off x="1940040" y="2805120"/>
            <a:ext cx="32083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31 Conector recto"/>
          <p:cNvSpPr/>
          <p:nvPr/>
        </p:nvSpPr>
        <p:spPr>
          <a:xfrm>
            <a:off x="514836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32 Conector recto"/>
          <p:cNvSpPr/>
          <p:nvPr/>
        </p:nvSpPr>
        <p:spPr>
          <a:xfrm>
            <a:off x="193212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33 Conector recto"/>
          <p:cNvSpPr/>
          <p:nvPr/>
        </p:nvSpPr>
        <p:spPr>
          <a:xfrm>
            <a:off x="3732120" y="4952880"/>
            <a:ext cx="0" cy="120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34 Rectángulo redondeado"/>
          <p:cNvSpPr/>
          <p:nvPr/>
        </p:nvSpPr>
        <p:spPr>
          <a:xfrm>
            <a:off x="239760" y="3668760"/>
            <a:ext cx="1101600" cy="6490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35 Forma libre"/>
          <p:cNvSpPr/>
          <p:nvPr/>
        </p:nvSpPr>
        <p:spPr>
          <a:xfrm>
            <a:off x="374760" y="3860640"/>
            <a:ext cx="1101600" cy="649440"/>
          </a:xfrm>
          <a:prstGeom prst="pie">
            <a:avLst/>
          </a:prstGeom>
          <a:solidFill>
            <a:srgbClr val="d2db9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4972 de 2011: 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iquidación del FN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36 Conector recto"/>
          <p:cNvSpPr/>
          <p:nvPr/>
        </p:nvSpPr>
        <p:spPr>
          <a:xfrm>
            <a:off x="3616200" y="2647800"/>
            <a:ext cx="5040" cy="360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37 Conector recto"/>
          <p:cNvSpPr/>
          <p:nvPr/>
        </p:nvSpPr>
        <p:spPr>
          <a:xfrm>
            <a:off x="790560" y="3429000"/>
            <a:ext cx="0" cy="239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39 Conector recto"/>
          <p:cNvSpPr/>
          <p:nvPr/>
        </p:nvSpPr>
        <p:spPr>
          <a:xfrm flipH="1">
            <a:off x="791640" y="3452760"/>
            <a:ext cx="900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44 Conector recto"/>
          <p:cNvSpPr/>
          <p:nvPr/>
        </p:nvSpPr>
        <p:spPr>
          <a:xfrm>
            <a:off x="5213520" y="4148280"/>
            <a:ext cx="6120" cy="75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45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46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38 Rectángulo"/>
          <p:cNvSpPr/>
          <p:nvPr/>
        </p:nvSpPr>
        <p:spPr>
          <a:xfrm>
            <a:off x="7956720" y="5616720"/>
            <a:ext cx="11872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1 Conector recto"/>
          <p:cNvSpPr/>
          <p:nvPr/>
        </p:nvSpPr>
        <p:spPr>
          <a:xfrm>
            <a:off x="212400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4 Conector recto"/>
          <p:cNvSpPr/>
          <p:nvPr/>
        </p:nvSpPr>
        <p:spPr>
          <a:xfrm>
            <a:off x="704844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9 Conector recto"/>
          <p:cNvSpPr/>
          <p:nvPr/>
        </p:nvSpPr>
        <p:spPr>
          <a:xfrm>
            <a:off x="1403280" y="2854440"/>
            <a:ext cx="6408720" cy="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10 Conector recto"/>
          <p:cNvSpPr/>
          <p:nvPr/>
        </p:nvSpPr>
        <p:spPr>
          <a:xfrm>
            <a:off x="140328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11 Rectángulo redondeado"/>
          <p:cNvGrpSpPr/>
          <p:nvPr/>
        </p:nvGrpSpPr>
        <p:grpSpPr>
          <a:xfrm>
            <a:off x="231840" y="3017880"/>
            <a:ext cx="3992400" cy="493560"/>
            <a:chOff x="231840" y="3017880"/>
            <a:chExt cx="3992400" cy="493560"/>
          </a:xfrm>
        </p:grpSpPr>
        <p:pic>
          <p:nvPicPr>
            <p:cNvPr id="1110" name="1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31840" y="3017880"/>
              <a:ext cx="39924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27468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Inspirados en principios comunes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12 CuadroTexto"/>
          <p:cNvSpPr/>
          <p:nvPr/>
        </p:nvSpPr>
        <p:spPr>
          <a:xfrm>
            <a:off x="250920" y="3537000"/>
            <a:ext cx="388944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olidaridad y equidad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soci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uen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ent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rticipa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quidad social y equilibri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13 Conector recto"/>
          <p:cNvSpPr/>
          <p:nvPr/>
        </p:nvSpPr>
        <p:spPr>
          <a:xfrm>
            <a:off x="781200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14 Rectángulo redondeado"/>
          <p:cNvGrpSpPr/>
          <p:nvPr/>
        </p:nvGrpSpPr>
        <p:grpSpPr>
          <a:xfrm>
            <a:off x="4627440" y="3017880"/>
            <a:ext cx="3986280" cy="493560"/>
            <a:chOff x="4627440" y="3017880"/>
            <a:chExt cx="3986280" cy="493560"/>
          </a:xfrm>
        </p:grpSpPr>
        <p:pic>
          <p:nvPicPr>
            <p:cNvPr id="1115" name="1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627440" y="3017880"/>
              <a:ext cx="39862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466740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objetivos y  retos para la  convergencia y el desarrollo reg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2 Marcador de contenido"/>
          <p:cNvGrpSpPr/>
          <p:nvPr/>
        </p:nvGrpSpPr>
        <p:grpSpPr>
          <a:xfrm>
            <a:off x="4840200" y="3591000"/>
            <a:ext cx="3706920" cy="315720"/>
            <a:chOff x="4840200" y="3591000"/>
            <a:chExt cx="3706920" cy="315720"/>
          </a:xfrm>
        </p:grpSpPr>
        <p:pic>
          <p:nvPicPr>
            <p:cNvPr id="1118" name="2 Marcador de contenido" descr=""/>
            <p:cNvPicPr/>
            <p:nvPr/>
          </p:nvPicPr>
          <p:blipFill>
            <a:blip r:embed="rId3"/>
            <a:stretch/>
          </p:blipFill>
          <p:spPr>
            <a:xfrm>
              <a:off x="4840200" y="35910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4859280" y="3608280"/>
              <a:ext cx="3673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Crecimiento y competitividad territor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2 Marcador de contenido"/>
          <p:cNvGrpSpPr/>
          <p:nvPr/>
        </p:nvGrpSpPr>
        <p:grpSpPr>
          <a:xfrm>
            <a:off x="4840200" y="3906720"/>
            <a:ext cx="3919680" cy="463680"/>
            <a:chOff x="4840200" y="3906720"/>
            <a:chExt cx="3919680" cy="463680"/>
          </a:xfrm>
        </p:grpSpPr>
        <p:pic>
          <p:nvPicPr>
            <p:cNvPr id="1121" name="2 Marcador de contenido" descr=""/>
            <p:cNvPicPr/>
            <p:nvPr/>
          </p:nvPicPr>
          <p:blipFill>
            <a:blip r:embed="rId4"/>
            <a:stretch/>
          </p:blipFill>
          <p:spPr>
            <a:xfrm>
              <a:off x="4840200" y="3906720"/>
              <a:ext cx="3919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4859280" y="3927600"/>
              <a:ext cx="3889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isminución de las disparidades y de la pobreza extr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2 Marcador de contenido"/>
          <p:cNvGrpSpPr/>
          <p:nvPr/>
        </p:nvGrpSpPr>
        <p:grpSpPr>
          <a:xfrm>
            <a:off x="4840200" y="4370400"/>
            <a:ext cx="3706920" cy="324000"/>
            <a:chOff x="4840200" y="4370400"/>
            <a:chExt cx="3706920" cy="324000"/>
          </a:xfrm>
        </p:grpSpPr>
        <p:pic>
          <p:nvPicPr>
            <p:cNvPr id="1124" name="2 Marcador de contenido" descr=""/>
            <p:cNvPicPr/>
            <p:nvPr/>
          </p:nvPicPr>
          <p:blipFill>
            <a:blip r:embed="rId5"/>
            <a:stretch/>
          </p:blipFill>
          <p:spPr>
            <a:xfrm>
              <a:off x="4840200" y="4370400"/>
              <a:ext cx="37069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4859280" y="439092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Sostenibilidad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2 Marcador de contenido"/>
          <p:cNvGrpSpPr/>
          <p:nvPr/>
        </p:nvGrpSpPr>
        <p:grpSpPr>
          <a:xfrm>
            <a:off x="4840200" y="4694400"/>
            <a:ext cx="3706920" cy="315720"/>
            <a:chOff x="4840200" y="4694400"/>
            <a:chExt cx="3706920" cy="315720"/>
          </a:xfrm>
        </p:grpSpPr>
        <p:pic>
          <p:nvPicPr>
            <p:cNvPr id="1127" name="2 Marcador de contenido" descr=""/>
            <p:cNvPicPr/>
            <p:nvPr/>
          </p:nvPicPr>
          <p:blipFill>
            <a:blip r:embed="rId6"/>
            <a:stretch/>
          </p:blipFill>
          <p:spPr>
            <a:xfrm>
              <a:off x="4840200" y="46944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4859280" y="471024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2 Marcador de contenido"/>
          <p:cNvGrpSpPr/>
          <p:nvPr/>
        </p:nvGrpSpPr>
        <p:grpSpPr>
          <a:xfrm>
            <a:off x="4840200" y="5010120"/>
            <a:ext cx="3706920" cy="317520"/>
            <a:chOff x="4840200" y="5010120"/>
            <a:chExt cx="3706920" cy="317520"/>
          </a:xfrm>
        </p:grpSpPr>
        <p:pic>
          <p:nvPicPr>
            <p:cNvPr id="1130" name="2 Marcador de contenido" descr=""/>
            <p:cNvPicPr/>
            <p:nvPr/>
          </p:nvPicPr>
          <p:blipFill>
            <a:blip r:embed="rId7"/>
            <a:stretch/>
          </p:blipFill>
          <p:spPr>
            <a:xfrm>
              <a:off x="4840200" y="5010120"/>
              <a:ext cx="37069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4859280" y="502920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26 Conector recto"/>
          <p:cNvSpPr/>
          <p:nvPr/>
        </p:nvSpPr>
        <p:spPr>
          <a:xfrm>
            <a:off x="1403280" y="5624640"/>
            <a:ext cx="64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27 Conector recto"/>
          <p:cNvSpPr/>
          <p:nvPr/>
        </p:nvSpPr>
        <p:spPr>
          <a:xfrm>
            <a:off x="1403280" y="5369040"/>
            <a:ext cx="0" cy="22068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28 Conector recto"/>
          <p:cNvSpPr/>
          <p:nvPr/>
        </p:nvSpPr>
        <p:spPr>
          <a:xfrm>
            <a:off x="7800840" y="5332320"/>
            <a:ext cx="0" cy="252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29 Conector recto"/>
          <p:cNvSpPr/>
          <p:nvPr/>
        </p:nvSpPr>
        <p:spPr>
          <a:xfrm>
            <a:off x="4548240" y="5624640"/>
            <a:ext cx="0" cy="252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30 Rectángulo redondeado"/>
          <p:cNvGrpSpPr/>
          <p:nvPr/>
        </p:nvGrpSpPr>
        <p:grpSpPr>
          <a:xfrm>
            <a:off x="-19080" y="5857920"/>
            <a:ext cx="9175680" cy="676080"/>
            <a:chOff x="-19080" y="5857920"/>
            <a:chExt cx="9175680" cy="676080"/>
          </a:xfrm>
        </p:grpSpPr>
        <p:pic>
          <p:nvPicPr>
            <p:cNvPr id="1137" name="3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-19080" y="5857920"/>
              <a:ext cx="91756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31680" y="5908680"/>
              <a:ext cx="90806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sociatividad, Alianzas Público- Privadas, Contratos Plan se constituyen en medios para lograr mayor cohesión territo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55"/>
          <p:cNvSpPr/>
          <p:nvPr/>
        </p:nvSpPr>
        <p:spPr>
          <a:xfrm>
            <a:off x="0" y="62064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99"/>
                </a:solidFill>
                <a:latin typeface="Calibri"/>
              </a:rPr>
              <a:t>El SGR complementa los objetivos y pilares del PND  y la L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32 Rectángulo redondeado"/>
          <p:cNvSpPr/>
          <p:nvPr/>
        </p:nvSpPr>
        <p:spPr>
          <a:xfrm>
            <a:off x="349236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2 Marcador de contenido"/>
          <p:cNvSpPr/>
          <p:nvPr/>
        </p:nvSpPr>
        <p:spPr>
          <a:xfrm>
            <a:off x="3637080" y="1557360"/>
            <a:ext cx="172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ffffff"/>
                </a:solidFill>
                <a:latin typeface="Calibri"/>
              </a:rPr>
              <a:t>Plan Nacional de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ffff"/>
                </a:solidFill>
                <a:latin typeface="Calibri"/>
              </a:rPr>
              <a:t>-PND 2010 – 201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34 Rectángulo redondeado"/>
          <p:cNvSpPr/>
          <p:nvPr/>
        </p:nvSpPr>
        <p:spPr>
          <a:xfrm>
            <a:off x="622764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9ed3d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2 Marcador de contenido"/>
          <p:cNvSpPr/>
          <p:nvPr/>
        </p:nvSpPr>
        <p:spPr>
          <a:xfrm>
            <a:off x="6372360" y="170028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Calibri"/>
              </a:rPr>
              <a:t>Sistema General de Regalías 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-SG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36 Rectángulo redondeado"/>
          <p:cNvGrpSpPr/>
          <p:nvPr/>
        </p:nvGrpSpPr>
        <p:grpSpPr>
          <a:xfrm>
            <a:off x="658800" y="1444680"/>
            <a:ext cx="2151000" cy="1212840"/>
            <a:chOff x="658800" y="1444680"/>
            <a:chExt cx="2151000" cy="1212840"/>
          </a:xfrm>
        </p:grpSpPr>
        <p:pic>
          <p:nvPicPr>
            <p:cNvPr id="1145" name="36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658800" y="1444680"/>
              <a:ext cx="2151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808200" y="1538280"/>
              <a:ext cx="191124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2 Marcador de contenido"/>
          <p:cNvSpPr/>
          <p:nvPr/>
        </p:nvSpPr>
        <p:spPr>
          <a:xfrm>
            <a:off x="900000" y="148428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Ley Orgánica de Ordenamiento Terri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-LOOT - Ley 1454 de 2011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40 Flecha a la derecha con bandas"/>
          <p:cNvSpPr/>
          <p:nvPr/>
        </p:nvSpPr>
        <p:spPr>
          <a:xfrm>
            <a:off x="558000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41 Flecha a la derecha con bandas"/>
          <p:cNvSpPr/>
          <p:nvPr/>
        </p:nvSpPr>
        <p:spPr>
          <a:xfrm rot="10800000">
            <a:off x="298764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42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43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2 Grupo"/>
          <p:cNvGrpSpPr/>
          <p:nvPr/>
        </p:nvGrpSpPr>
        <p:grpSpPr>
          <a:xfrm>
            <a:off x="-34920" y="0"/>
            <a:ext cx="9179280" cy="6973920"/>
            <a:chOff x="-34920" y="0"/>
            <a:chExt cx="9179280" cy="6973920"/>
          </a:xfrm>
        </p:grpSpPr>
        <p:sp>
          <p:nvSpPr>
            <p:cNvPr id="1153" name="1 Rectángulo"/>
            <p:cNvSpPr/>
            <p:nvPr/>
          </p:nvSpPr>
          <p:spPr>
            <a:xfrm>
              <a:off x="-34920" y="0"/>
              <a:ext cx="9178920" cy="697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4 Imagen" descr=""/>
            <p:cNvPicPr/>
            <p:nvPr/>
          </p:nvPicPr>
          <p:blipFill>
            <a:blip r:embed="rId1"/>
            <a:srcRect l="0" t="27893" r="0" b="6821"/>
            <a:stretch/>
          </p:blipFill>
          <p:spPr>
            <a:xfrm>
              <a:off x="-22320" y="116280"/>
              <a:ext cx="9166680" cy="44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3 CuadroTexto"/>
            <p:cNvSpPr/>
            <p:nvPr/>
          </p:nvSpPr>
          <p:spPr>
            <a:xfrm>
              <a:off x="971280" y="4292640"/>
              <a:ext cx="72010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5000" spc="-1" strike="noStrike">
                  <a:solidFill>
                    <a:srgbClr val="0d0d0d"/>
                  </a:solidFill>
                  <a:latin typeface="Trebuchet MS"/>
                </a:rPr>
                <a:t>Gracia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www.dnp.gov.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PBX: (571)3815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11 Rectángulo redondeado"/>
          <p:cNvSpPr/>
          <p:nvPr/>
        </p:nvSpPr>
        <p:spPr>
          <a:xfrm>
            <a:off x="0" y="2744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5 Rectángulo redondeado"/>
          <p:cNvSpPr/>
          <p:nvPr/>
        </p:nvSpPr>
        <p:spPr>
          <a:xfrm>
            <a:off x="0" y="1413000"/>
            <a:ext cx="896472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4920" y="1665360"/>
            <a:ext cx="8929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1.   Contexto Sistema General de Regalías -SGR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4920" y="29052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-SG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7"/>
          <p:cNvSpPr/>
          <p:nvPr/>
        </p:nvSpPr>
        <p:spPr>
          <a:xfrm>
            <a:off x="250920" y="2997360"/>
            <a:ext cx="4465440" cy="360360"/>
          </a:xfrm>
          <a:prstGeom prst="rect">
            <a:avLst/>
          </a:prstGeom>
          <a:solidFill>
            <a:srgbClr val="222268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ORGANIZACIÓN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187164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DIVISION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179280" y="537228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DISTR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179280" y="587700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096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1871640" y="537228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OCIACIONES DE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456000" y="587700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RRITORIOS INDÍGE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79280" y="489744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32 DEP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3456000" y="537228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3456000" y="489744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345600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ENTIDADES TERRITORIA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no creadas, pero previstas la C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871640" y="489744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ÁREAS METROPOLITA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5416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ENTIDAD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9"/>
          <p:cNvSpPr/>
          <p:nvPr/>
        </p:nvSpPr>
        <p:spPr>
          <a:xfrm>
            <a:off x="900000" y="3552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0"/>
          <p:cNvSpPr/>
          <p:nvPr/>
        </p:nvSpPr>
        <p:spPr>
          <a:xfrm>
            <a:off x="90000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1"/>
          <p:cNvSpPr/>
          <p:nvPr/>
        </p:nvSpPr>
        <p:spPr>
          <a:xfrm>
            <a:off x="406728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2554200" y="3335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255420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5076720" y="1557360"/>
            <a:ext cx="3975840" cy="4523400"/>
            <a:chOff x="5076720" y="1557360"/>
            <a:chExt cx="3975840" cy="4523400"/>
          </a:xfrm>
        </p:grpSpPr>
        <p:grpSp>
          <p:nvGrpSpPr>
            <p:cNvPr id="539" name="Group 4"/>
            <p:cNvGrpSpPr/>
            <p:nvPr/>
          </p:nvGrpSpPr>
          <p:grpSpPr>
            <a:xfrm>
              <a:off x="5076720" y="1557360"/>
              <a:ext cx="3975840" cy="4523400"/>
              <a:chOff x="5076720" y="1557360"/>
              <a:chExt cx="3975840" cy="4523400"/>
            </a:xfrm>
          </p:grpSpPr>
          <p:grpSp>
            <p:nvGrpSpPr>
              <p:cNvPr id="540" name="Group 5"/>
              <p:cNvGrpSpPr/>
              <p:nvPr/>
            </p:nvGrpSpPr>
            <p:grpSpPr>
              <a:xfrm>
                <a:off x="5076720" y="1557360"/>
                <a:ext cx="3975840" cy="4523400"/>
                <a:chOff x="5076720" y="1557360"/>
                <a:chExt cx="3975840" cy="4523400"/>
              </a:xfrm>
            </p:grpSpPr>
            <p:graphicFrame>
              <p:nvGraphicFramePr>
                <p:cNvPr id="541" name="Object 2"/>
                <p:cNvGraphicFramePr/>
                <p:nvPr/>
              </p:nvGraphicFramePr>
              <p:xfrm>
                <a:off x="5076720" y="1557360"/>
                <a:ext cx="3975840" cy="4523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4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76720" y="1557360"/>
                          <a:ext cx="3975840" cy="4523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3" name="Text Box 7"/>
                <p:cNvSpPr/>
                <p:nvPr/>
              </p:nvSpPr>
              <p:spPr>
                <a:xfrm>
                  <a:off x="7458840" y="4509360"/>
                  <a:ext cx="1197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1.141.748 km</a:t>
                  </a:r>
                  <a:r>
                    <a:rPr b="0" lang="es-ES_tradnl" sz="1200" spc="-1" strike="noStrike" baseline="30000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8"/>
                <p:cNvSpPr/>
                <p:nvPr/>
              </p:nvSpPr>
              <p:spPr>
                <a:xfrm>
                  <a:off x="5427000" y="4346280"/>
                  <a:ext cx="106200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339.10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9"/>
                <p:cNvSpPr/>
                <p:nvPr/>
              </p:nvSpPr>
              <p:spPr>
                <a:xfrm>
                  <a:off x="6540480" y="2385720"/>
                  <a:ext cx="13363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89.56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Oval 10"/>
              <p:cNvSpPr/>
              <p:nvPr/>
            </p:nvSpPr>
            <p:spPr>
              <a:xfrm>
                <a:off x="5903280" y="2550600"/>
                <a:ext cx="332640" cy="325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1"/>
            <p:cNvSpPr/>
            <p:nvPr/>
          </p:nvSpPr>
          <p:spPr>
            <a:xfrm>
              <a:off x="6702120" y="2205000"/>
              <a:ext cx="10861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2"/>
            <p:cNvSpPr/>
            <p:nvPr/>
          </p:nvSpPr>
          <p:spPr>
            <a:xfrm>
              <a:off x="5476680" y="4138200"/>
              <a:ext cx="9043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3"/>
            <p:cNvSpPr/>
            <p:nvPr/>
          </p:nvSpPr>
          <p:spPr>
            <a:xfrm>
              <a:off x="7620840" y="4259520"/>
              <a:ext cx="904320" cy="842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3"/>
          <p:cNvSpPr/>
          <p:nvPr/>
        </p:nvSpPr>
        <p:spPr>
          <a:xfrm>
            <a:off x="0" y="907920"/>
            <a:ext cx="5076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Colombia: Estado social de derecho, organizado en forma de República unitaria, descentralizada, con autonomía de sus entidades territoriales, democrática…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3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3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12 Imagen" descr="petroleo-barril1.jpg"/>
          <p:cNvPicPr/>
          <p:nvPr/>
        </p:nvPicPr>
        <p:blipFill>
          <a:blip r:embed="rId1">
            <a:lum bright="70000" contrast="-70000"/>
          </a:blip>
          <a:srcRect l="0" t="0" r="23932" b="0"/>
          <a:stretch/>
        </p:blipFill>
        <p:spPr>
          <a:xfrm>
            <a:off x="5218200" y="2684520"/>
            <a:ext cx="3890880" cy="42735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6"/>
          <p:cNvSpPr/>
          <p:nvPr/>
        </p:nvSpPr>
        <p:spPr>
          <a:xfrm>
            <a:off x="539640" y="1916280"/>
            <a:ext cx="79200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una contraprestación económica que se recibe por la explotación de los recursos naturales no renov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de propiedad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departamentos y municipio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 cuyo territorio se adelanten explotaciones de recursos naturales no renovables, así como los puertos marítimos y fluviales por donde se transporten dichos recursos o productos derivados de los mismos, tendrán derecho a participar en las regalías y compens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2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3 Flecha a la derecha con bandas"/>
          <p:cNvSpPr/>
          <p:nvPr/>
        </p:nvSpPr>
        <p:spPr>
          <a:xfrm>
            <a:off x="-36360" y="206064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5 Flecha a la derecha con bandas"/>
          <p:cNvSpPr/>
          <p:nvPr/>
        </p:nvSpPr>
        <p:spPr>
          <a:xfrm>
            <a:off x="-36360" y="364500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212760" y="96624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alibri"/>
              </a:rPr>
              <a:t>¿Que son las regalí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56"/>
          <p:cNvSpPr/>
          <p:nvPr/>
        </p:nvSpPr>
        <p:spPr>
          <a:xfrm>
            <a:off x="-36360" y="66387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18 CuadroTexto"/>
          <p:cNvSpPr/>
          <p:nvPr/>
        </p:nvSpPr>
        <p:spPr>
          <a:xfrm>
            <a:off x="71280" y="765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Creciente volumen de regalías generadas por la explotación de hidrocarburos, carbón, níquel y demás RN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1"/>
          <a:srcRect l="853" t="1890" r="1710" b="3771"/>
          <a:stretch/>
        </p:blipFill>
        <p:spPr>
          <a:xfrm>
            <a:off x="324000" y="1916280"/>
            <a:ext cx="7920000" cy="3816360"/>
          </a:xfrm>
          <a:prstGeom prst="rect">
            <a:avLst/>
          </a:prstGeom>
          <a:ln w="0">
            <a:noFill/>
          </a:ln>
        </p:spPr>
      </p:pic>
      <p:sp>
        <p:nvSpPr>
          <p:cNvPr id="564" name="17 CuadroTexto"/>
          <p:cNvSpPr/>
          <p:nvPr/>
        </p:nvSpPr>
        <p:spPr>
          <a:xfrm>
            <a:off x="-36360" y="581832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Los 9.356 billones corresponden a los montos recaudados por el FNR, información diferente a los recursos asignados del FNR durante las vigencias de 1995 y 2009 que asciende a $6.451 billones (Incluye vigencias futuras hasta el 2012)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 partir de 2004, del total de ingresos de regalías del FNR, se distribuye 50% con destino al FONPET (Ley 863/0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18 Rectángulo"/>
          <p:cNvSpPr/>
          <p:nvPr/>
        </p:nvSpPr>
        <p:spPr>
          <a:xfrm>
            <a:off x="5508720" y="1844640"/>
            <a:ext cx="3600360" cy="5202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GRESOS DE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GALÍAS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partamentos – Municipios – F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6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7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5 Rectángulo redondeado"/>
          <p:cNvSpPr/>
          <p:nvPr/>
        </p:nvSpPr>
        <p:spPr>
          <a:xfrm>
            <a:off x="0" y="256536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4920" y="2781360"/>
            <a:ext cx="849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1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Lecciones aprend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–SG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Un número reducido de entidades territoriales concentra las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0" y="6485040"/>
            <a:ext cx="79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: HIDROCARBUROS: ECOPETROL 1994 – 2003 y ANH: 2004 – 2009. CARBÓN Y OTROS MINERALES: CARBOCOL y MINERCOL 1995 – 2003 e INGEOMINAS 2004 – 200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2" descr=""/>
          <p:cNvPicPr/>
          <p:nvPr/>
        </p:nvPicPr>
        <p:blipFill>
          <a:blip r:embed="rId1"/>
          <a:srcRect l="2537" t="3117" r="2752" b="8017"/>
          <a:stretch/>
        </p:blipFill>
        <p:spPr>
          <a:xfrm>
            <a:off x="179280" y="1989000"/>
            <a:ext cx="8569440" cy="4392720"/>
          </a:xfrm>
          <a:prstGeom prst="rect">
            <a:avLst/>
          </a:prstGeom>
          <a:ln w="0">
            <a:noFill/>
          </a:ln>
        </p:spPr>
      </p:pic>
      <p:sp>
        <p:nvSpPr>
          <p:cNvPr id="577" name="8 Rectángulo"/>
          <p:cNvSpPr/>
          <p:nvPr/>
        </p:nvSpPr>
        <p:spPr>
          <a:xfrm>
            <a:off x="6156360" y="3691080"/>
            <a:ext cx="2879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60 municip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250920" y="909000"/>
            <a:ext cx="208908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oncent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3 CuadroTexto"/>
          <p:cNvSpPr/>
          <p:nvPr/>
        </p:nvSpPr>
        <p:spPr>
          <a:xfrm>
            <a:off x="34920" y="6581880"/>
            <a:ext cx="511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Fuente: Información DNP-DANE Cálculo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rcRect l="857" t="7814" r="2526" b="1570"/>
          <a:stretch/>
        </p:blipFill>
        <p:spPr>
          <a:xfrm>
            <a:off x="250920" y="2276640"/>
            <a:ext cx="8281800" cy="3960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5435640" y="2239920"/>
            <a:ext cx="3384360" cy="1465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El promedio de regalías per cápita en el periodo 1995-2009 para el departamento de Casanare es $1.8 millones, le sigue Arauca con $964 m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a distribución de regalías genera desigualdad en las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250920" y="909000"/>
            <a:ext cx="4392360" cy="45972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Desigualdad en la compens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15:16Z</dcterms:created>
  <dc:creator>mgiraldo</dc:creator>
  <dc:description/>
  <dc:language>en-US</dc:language>
  <cp:lastModifiedBy>DDTS</cp:lastModifiedBy>
  <dcterms:modified xsi:type="dcterms:W3CDTF">2012-09-27T01:26:47Z</dcterms:modified>
  <cp:revision>589</cp:revision>
  <dc:subject/>
  <dc:title>Presentación de PowerPoint</dc:title>
</cp:coreProperties>
</file>