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1300003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025C-D069-48A8-ADDD-94FFB47FF10E}" type="datetime">
              <a:rPr b="0" lang="es-ES" sz="1200" spc="-1" strike="noStrike">
                <a:solidFill>
                  <a:srgbClr val="000000"/>
                </a:solidFill>
                <a:latin typeface="Gill Sans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000080" y="744120"/>
            <a:ext cx="47973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6DE0-1C32-4F08-8E8E-7A5D6C117AA8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4093-349A-4483-8A48-9D1F5B3C93AE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DBD-49E5-443B-A121-7903E51167A1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258F-52DC-4D62-98F5-8F3E5C1C9DB2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6D7C-CD4D-441B-A46D-659956068945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9F17-3AF3-41EB-AB48-7E6060044796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9634-F1FE-4ABF-85F2-99B13E965162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728B-EBCE-45FD-ACEA-A6748198A882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86DF-42AD-4ECE-A802-758D61F92B19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1E43-B922-4D0A-B1B7-F55B8859F550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E31B-70EF-4857-A749-1CAE6B049157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5A04-4D5A-45AA-A3C0-35F3BA3E29DA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148B-FFB4-4B8D-83F8-7A0C47265582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E031-E3BC-44DC-B331-77BF837BC935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A221-87B4-451E-9C83-4E696B5D67D1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B325-5468-42D4-8C10-3BF3B5A699C6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5D10-6DA6-4F4B-86F4-954707A58598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0A47-0368-4B31-97D9-ACF8577B08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882D-0DFE-465E-B7D2-4A65801316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44DD-CBA0-43C3-AEA1-59ADCBC3A9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50C2-6316-4180-A174-A723A935A4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8BFE-30B9-4A23-A97F-DD5D068140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1477-2586-4DB1-9B96-73457261F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CA88-B1A4-4E5B-BF7B-A8CBCF76E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9610-F136-4920-828B-DD7C4985A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E716-2F9B-4157-872A-53014560D3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46DD-D8EE-4DFE-99FA-879394735C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FDDA-0D18-4E90-9E02-0BDE992756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CA97-C4FB-43F5-914D-393FD92C9B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200D-CB84-4B42-8D66-F835AC1526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8209-4E20-4E58-9F45-417CEDDA4C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6229-EBC8-4198-87E9-C4AAC8E68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5A1F-25BB-49E0-9E88-83C483C465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1D69-A0D2-4FED-AA49-D9D488822E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76DE-7724-4B6F-B1B8-F30BFD4694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A93E-E05C-4B90-A053-C55FBAB948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6ACD-1A20-4C64-86F9-818E18A019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6D83-9250-4D30-A666-C4AFF5118E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0F38-5BF1-4F6C-982C-58D0D05EB3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CEC9-1894-4718-A389-86F476B3FF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D9C4-6A24-4A9A-AFC0-2024182B6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programaeurosocial.eu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3360240"/>
            <a:ext cx="12998520" cy="335916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998520" cy="1128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marL="51120" indent="-5112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111240" indent="-42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71360" indent="-342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239760" indent="-342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308520" indent="-342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1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38B1-42B2-4ACF-80BB-1CE91AECFDFB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99852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334040" y="3957840"/>
            <a:ext cx="4325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Gill Sans MT"/>
                <a:hlinkClick r:id="rId3"/>
              </a:rPr>
              <a:t>www.programaeurosocial.eu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123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998520" cy="1128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34680" y="1430280"/>
            <a:ext cx="11728440" cy="76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2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CE1D-FB82-418B-AE17-7E5D196A2546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o" TargetMode="External"/><Relationship Id="rId2" Type="http://schemas.openxmlformats.org/officeDocument/2006/relationships/hyperlink" Target="file:///tmp/home/.config/libreoffice/4/user/gallery/Applauso" TargetMode="External"/><Relationship Id="rId3" Type="http://schemas.openxmlformats.org/officeDocument/2006/relationships/hyperlink" Target="file:///tmp/home/.config/libreoffice/4/user/gallery/Applauso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4746600" y="0"/>
            <a:ext cx="383220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-12600" y="835992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12998520" cy="633600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2° CONGRESO LATINOAMERICANO Y DEL CARIBE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SOBRE SALUD GLOBAL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Gill Sans MT"/>
              </a:rPr>
              <a:t>EQUIDAD EN SALUD: MEDICIÓN PARA LA ACCIÓN</a:t>
            </a:r>
            <a:br>
              <a:rPr sz="3200"/>
            </a:br>
            <a:br>
              <a:rPr sz="3200"/>
            </a:br>
            <a:r>
              <a:rPr b="0" lang="es-ES_tradnl" sz="4400" spc="-1" strike="noStrike">
                <a:solidFill>
                  <a:srgbClr val="ffffff"/>
                </a:solidFill>
                <a:latin typeface="Gill Sans MT"/>
              </a:rPr>
              <a:t>Evaluación y Monitoreo de la Equidad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Gill Sans MT"/>
              </a:rPr>
              <a:t>Medible en Salud en EUROsociAL</a:t>
            </a:r>
            <a:br>
              <a:rPr sz="4400"/>
            </a:br>
            <a:br>
              <a:rPr sz="3600"/>
            </a:br>
            <a:r>
              <a:rPr b="0" i="1" lang="es-ES" sz="3600" spc="-1" strike="noStrike">
                <a:solidFill>
                  <a:srgbClr val="ffffff"/>
                </a:solidFill>
                <a:latin typeface="Gill Sans MT"/>
              </a:rPr>
              <a:t>Santiago de Chile,  9-11 de Enero de 2013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-12600" y="7554960"/>
            <a:ext cx="130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        </a:t>
            </a: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Rita Ferrelli – Istituto Superiore di Sanità, Ital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9C73-3764-49E4-8D1D-9378D5816E3A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555480" y="1916280"/>
            <a:ext cx="11887200" cy="80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b4a76"/>
                </a:solidFill>
                <a:latin typeface="Gill Sans"/>
              </a:rPr>
              <a:t>Taller  “Equidad en salud: medición para la acción”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(Montevideo, 19 - 21 de Noviembre de 2012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ill Sans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visar la evidencia de la relevancia de la inequidad en salud en la región, de los conceptos y métodos de análisis y de las recomendaciones internacionales en relación a la determinación social y medioambiental de la salud, tomando referencias de iniciativas internacion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compartir experiencias a nivel de país (en LA y UE) de estrategias encaminadas a medir la equidad en salud, analizar sus determinantes sociales y medioambientales y definir estrategias efectivas hacia mayores grados de equ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xplorar oportunidades para acciones concretas coordinadas a nivel nacional, subregional o regional en LA en las áreas d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medición de carga de inequ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quidad en el acceso a servicios de salud, medicamentos y disponibilidad de recursos humanos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D935-277C-48EA-9D3C-3BDA37F29153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50720" y="2232000"/>
            <a:ext cx="12296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b4a76"/>
                </a:solidFill>
                <a:latin typeface="Gill Sans"/>
              </a:rPr>
              <a:t>Taller  “Equidad en salud: medición para la acción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(Montevideo, 19 - 21 de Noviembre de 2012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Participan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specialistas en salud global y en las dinámicas de equidad en salud y sus determinantes socio-ambient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presentantes con niveles altos de decisión política y técnica de los ministerios de los países participantes en Latinoamérica: México, Costa Rica, Panamá, Colombia, Ecuador, Bolivia, Paraguay y Urugu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propuestas de acciones de m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dición/ observatori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quidad en el acceso a servici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quidad en la disponibilidad de Recursos Humanos en salu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uso racional y acceso a medicamen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puesta en marcha de sistemas de información y de evaluación, poniendo a disposición de los países la experiencia de Urugu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1E9C-AA0A-4848-B316-07E63E0E7E7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378000" y="2449440"/>
            <a:ext cx="118360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</a:rPr>
              <a:t>Plan de acción 2013 para la medición de equidad en salud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Identificación de contrapartes oficiales y actores asociados en los países interesado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Producción de un documento de posicionamiento conceptual sobre Equidad en Salud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visión del proyecto presentado por Urugu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Diseño e implementación de un diagnóstico sobre situaciones nacionales en cuanto a monitoreo y evaluación de la equidad en salud en los países interesado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laboración de una propuesta de Construcción de Sistemas Nacionales de Indicadores (fichas metodológicas) con un núcleo básico de indicadores comparables a nivel regional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AF14-BD3C-4A9A-9C3A-A7FED34CB354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936720" y="2449440"/>
            <a:ext cx="1127736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Herramientas para el plan de acción 2013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para la medición de equida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Comunidad de Práctica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ncuentros presenciales de los países participan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Asesorías especializadas para acompañar internamente y ayudar a movilizar los procesos a nivel nacional y para los encuentros presenciales de intercambio de los diagnósticos y mapas de ruta realizados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9E38-69DC-4E28-AED8-CB91779A1918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a396d"/>
                </a:solidFill>
                <a:latin typeface="Gill Sans MT"/>
              </a:rPr>
              <a:t>PROPUESTA DE CRONOGRAMA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74600" y="2894040"/>
            <a:ext cx="4572000" cy="70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stablecimiento de una comunidad de práctic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Identificación de contrapartes oficiales y actores asociad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laboración de un documento de posicionamiento conceptual sobre Equidad en Salu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visión del proyecto presentado por Urugu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Diagnóstico sobre situaciones nacionale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laboración de una propuesta de Construcción de Sistemas Nacionales de Indicado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CasellaDiTesto 4"/>
          <p:cNvSpPr/>
          <p:nvPr/>
        </p:nvSpPr>
        <p:spPr>
          <a:xfrm>
            <a:off x="4756320" y="2122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s 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CasellaDiTesto 5"/>
          <p:cNvSpPr/>
          <p:nvPr/>
        </p:nvSpPr>
        <p:spPr>
          <a:xfrm>
            <a:off x="11147400" y="206856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s 1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Rettangolo arrotondato 6"/>
          <p:cNvSpPr/>
          <p:nvPr/>
        </p:nvSpPr>
        <p:spPr>
          <a:xfrm>
            <a:off x="4881600" y="3287880"/>
            <a:ext cx="7315200" cy="228600"/>
          </a:xfrm>
          <a:prstGeom prst="roundRect">
            <a:avLst>
              <a:gd name="adj" fmla="val 16667"/>
            </a:avLst>
          </a:prstGeom>
          <a:solidFill>
            <a:srgbClr val="f7c1a4"/>
          </a:solidFill>
          <a:ln w="25560">
            <a:solidFill>
              <a:srgbClr val="b54a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Connettore 1 8"/>
          <p:cNvSpPr/>
          <p:nvPr/>
        </p:nvSpPr>
        <p:spPr>
          <a:xfrm flipH="1">
            <a:off x="4881600" y="2678040"/>
            <a:ext cx="1440" cy="662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Connettore 1 9"/>
          <p:cNvSpPr/>
          <p:nvPr/>
        </p:nvSpPr>
        <p:spPr>
          <a:xfrm flipH="1">
            <a:off x="12196800" y="2678040"/>
            <a:ext cx="1440" cy="662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Connettore 1 10"/>
          <p:cNvSpPr/>
          <p:nvPr/>
        </p:nvSpPr>
        <p:spPr>
          <a:xfrm flipH="1">
            <a:off x="8615520" y="2678040"/>
            <a:ext cx="1440" cy="6629400"/>
          </a:xfrm>
          <a:prstGeom prst="line">
            <a:avLst/>
          </a:prstGeom>
          <a:ln w="3240">
            <a:solidFill>
              <a:srgbClr val="ecff3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Connettore 1 13"/>
          <p:cNvSpPr/>
          <p:nvPr/>
        </p:nvSpPr>
        <p:spPr>
          <a:xfrm flipH="1">
            <a:off x="6786720" y="2678040"/>
            <a:ext cx="1440" cy="6629400"/>
          </a:xfrm>
          <a:prstGeom prst="line">
            <a:avLst/>
          </a:prstGeom>
          <a:ln w="324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Connettore 1 14"/>
          <p:cNvSpPr/>
          <p:nvPr/>
        </p:nvSpPr>
        <p:spPr>
          <a:xfrm flipH="1">
            <a:off x="10368000" y="2678040"/>
            <a:ext cx="1440" cy="6629400"/>
          </a:xfrm>
          <a:prstGeom prst="line">
            <a:avLst/>
          </a:prstGeom>
          <a:ln w="324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Rettangolo arrotondato 15"/>
          <p:cNvSpPr/>
          <p:nvPr/>
        </p:nvSpPr>
        <p:spPr>
          <a:xfrm>
            <a:off x="4881600" y="412596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008000">
              <a:alpha val="84000"/>
            </a:srgbClr>
          </a:solidFill>
          <a:ln w="25560">
            <a:solidFill>
              <a:srgbClr val="16516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Rettangolo arrotondato 16"/>
          <p:cNvSpPr/>
          <p:nvPr/>
        </p:nvSpPr>
        <p:spPr>
          <a:xfrm>
            <a:off x="4881600" y="5116680"/>
            <a:ext cx="1981080" cy="228600"/>
          </a:xfrm>
          <a:prstGeom prst="roundRect">
            <a:avLst>
              <a:gd name="adj" fmla="val 16667"/>
            </a:avLst>
          </a:prstGeom>
          <a:solidFill>
            <a:srgbClr val="c07b8a">
              <a:alpha val="84000"/>
            </a:srgbClr>
          </a:solidFill>
          <a:ln w="25560">
            <a:solidFill>
              <a:srgbClr val="5e2d37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Rettangolo arrotondato 17"/>
          <p:cNvSpPr/>
          <p:nvPr/>
        </p:nvSpPr>
        <p:spPr>
          <a:xfrm>
            <a:off x="4915080" y="6264360"/>
            <a:ext cx="2133360" cy="22860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25560">
            <a:solidFill>
              <a:srgbClr val="353535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Rettangolo arrotondato 18"/>
          <p:cNvSpPr/>
          <p:nvPr/>
        </p:nvSpPr>
        <p:spPr>
          <a:xfrm>
            <a:off x="6194520" y="7174080"/>
            <a:ext cx="4190760" cy="228600"/>
          </a:xfrm>
          <a:prstGeom prst="roundRect">
            <a:avLst>
              <a:gd name="adj" fmla="val 16667"/>
            </a:avLst>
          </a:prstGeom>
          <a:solidFill>
            <a:srgbClr val="1faecd">
              <a:alpha val="84000"/>
            </a:srgbClr>
          </a:solidFill>
          <a:ln w="25560">
            <a:solidFill>
              <a:srgbClr val="105766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Rettangolo arrotondato 19"/>
          <p:cNvSpPr/>
          <p:nvPr/>
        </p:nvSpPr>
        <p:spPr>
          <a:xfrm>
            <a:off x="8515440" y="8164440"/>
            <a:ext cx="3698640" cy="331920"/>
          </a:xfrm>
          <a:prstGeom prst="roundRect">
            <a:avLst>
              <a:gd name="adj" fmla="val 16667"/>
            </a:avLst>
          </a:prstGeom>
          <a:solidFill>
            <a:srgbClr val="ffff00">
              <a:alpha val="84000"/>
            </a:srgbClr>
          </a:solidFill>
          <a:ln w="25560">
            <a:solidFill>
              <a:srgbClr val="5e2d37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CasellaDiTesto 25"/>
          <p:cNvSpPr/>
          <p:nvPr/>
        </p:nvSpPr>
        <p:spPr>
          <a:xfrm>
            <a:off x="8950680" y="73263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CasellaDiTesto 26"/>
          <p:cNvSpPr/>
          <p:nvPr/>
        </p:nvSpPr>
        <p:spPr>
          <a:xfrm>
            <a:off x="11680920" y="89265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CasellaDiTesto 27"/>
          <p:cNvSpPr/>
          <p:nvPr/>
        </p:nvSpPr>
        <p:spPr>
          <a:xfrm>
            <a:off x="6283800" y="58881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Suono 37">
            <a:hlinkClick r:id="rId1"/>
          </p:cNvPr>
          <p:cNvSpPr/>
          <p:nvPr/>
        </p:nvSpPr>
        <p:spPr>
          <a:xfrm>
            <a:off x="6681960" y="542124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8406"/>
                </a:moveTo>
                <a:lnTo>
                  <a:pt x="9760" y="8406"/>
                </a:lnTo>
                <a:lnTo>
                  <a:pt x="14182" y="3794"/>
                </a:lnTo>
                <a:lnTo>
                  <a:pt x="14182" y="17806"/>
                </a:lnTo>
                <a:lnTo>
                  <a:pt x="9760" y="13194"/>
                </a:lnTo>
                <a:lnTo>
                  <a:pt x="5330" y="13194"/>
                </a:lnTo>
                <a:close/>
              </a:path>
              <a:path fill="darken" w="24673" h="21600">
                <a:moveTo>
                  <a:pt x="15836" y="10800"/>
                </a:moveTo>
                <a:lnTo>
                  <a:pt x="19343" y="10800"/>
                </a:lnTo>
              </a:path>
              <a:path fill="darken" w="24673" h="21600">
                <a:moveTo>
                  <a:pt x="15836" y="8406"/>
                </a:moveTo>
                <a:lnTo>
                  <a:pt x="19343" y="5639"/>
                </a:lnTo>
              </a:path>
              <a:path fill="darken" w="24673" h="21600">
                <a:moveTo>
                  <a:pt x="15836" y="13194"/>
                </a:moveTo>
                <a:lnTo>
                  <a:pt x="19343" y="15961"/>
                </a:lnTo>
              </a:path>
            </a:pathLst>
          </a:custGeom>
          <a:solidFill>
            <a:srgbClr val="d5a7b1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Suono 38">
            <a:hlinkClick r:id="rId2"/>
          </p:cNvPr>
          <p:cNvSpPr/>
          <p:nvPr/>
        </p:nvSpPr>
        <p:spPr>
          <a:xfrm rot="16200000">
            <a:off x="9165960" y="648756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8406"/>
                </a:moveTo>
                <a:lnTo>
                  <a:pt x="11304" y="8406"/>
                </a:lnTo>
                <a:lnTo>
                  <a:pt x="15726" y="3794"/>
                </a:lnTo>
                <a:lnTo>
                  <a:pt x="15726" y="17806"/>
                </a:lnTo>
                <a:lnTo>
                  <a:pt x="11304" y="13194"/>
                </a:lnTo>
                <a:lnTo>
                  <a:pt x="6874" y="13194"/>
                </a:lnTo>
                <a:close/>
              </a:path>
              <a:path fill="darken" w="27761" h="21600">
                <a:moveTo>
                  <a:pt x="17379" y="10800"/>
                </a:moveTo>
                <a:lnTo>
                  <a:pt x="20887" y="10800"/>
                </a:lnTo>
              </a:path>
              <a:path fill="darken" w="27761" h="21600">
                <a:moveTo>
                  <a:pt x="17379" y="8406"/>
                </a:moveTo>
                <a:lnTo>
                  <a:pt x="20887" y="5639"/>
                </a:lnTo>
              </a:path>
              <a:path fill="darken" w="27761" h="21600">
                <a:moveTo>
                  <a:pt x="17379" y="13194"/>
                </a:moveTo>
                <a:lnTo>
                  <a:pt x="20887" y="15961"/>
                </a:lnTo>
              </a:path>
            </a:pathLst>
          </a:custGeom>
          <a:solidFill>
            <a:srgbClr val="78d6e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Suono 39">
            <a:hlinkClick r:id="rId3"/>
          </p:cNvPr>
          <p:cNvSpPr/>
          <p:nvPr/>
        </p:nvSpPr>
        <p:spPr>
          <a:xfrm>
            <a:off x="11985480" y="84693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8406"/>
                </a:moveTo>
                <a:lnTo>
                  <a:pt x="9768" y="8406"/>
                </a:lnTo>
                <a:lnTo>
                  <a:pt x="14189" y="3794"/>
                </a:lnTo>
                <a:lnTo>
                  <a:pt x="14189" y="17806"/>
                </a:lnTo>
                <a:lnTo>
                  <a:pt x="9768" y="13194"/>
                </a:lnTo>
                <a:lnTo>
                  <a:pt x="5337" y="13194"/>
                </a:lnTo>
                <a:close/>
              </a:path>
              <a:path fill="darken" w="24688" h="21600">
                <a:moveTo>
                  <a:pt x="15843" y="10800"/>
                </a:moveTo>
                <a:lnTo>
                  <a:pt x="19350" y="10800"/>
                </a:lnTo>
              </a:path>
              <a:path fill="darken" w="24688" h="21600">
                <a:moveTo>
                  <a:pt x="15843" y="8406"/>
                </a:moveTo>
                <a:lnTo>
                  <a:pt x="19350" y="5639"/>
                </a:lnTo>
              </a:path>
              <a:path fill="darken" w="24688" h="21600">
                <a:moveTo>
                  <a:pt x="15843" y="13194"/>
                </a:moveTo>
                <a:lnTo>
                  <a:pt x="19350" y="15961"/>
                </a:lnTo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6BD3-9D66-46FA-8B09-D456FDC4BB86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34680" y="143028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a396d"/>
                </a:solidFill>
                <a:latin typeface="Gill Sans MT"/>
              </a:rPr>
              <a:t>LA PROPUESTA DE EUROSOCIAL PARA MEDIR LA EQUIDAD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0" y="2373480"/>
            <a:ext cx="76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Desde un enfoque “terapéutico”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6261120" y="332424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hacia uno de salud glob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1" name="Immagine 5" descr="REMBRANDT_TERAPIA_MEDICA.JPG"/>
          <p:cNvPicPr/>
          <p:nvPr/>
        </p:nvPicPr>
        <p:blipFill>
          <a:blip r:embed="rId1"/>
          <a:stretch/>
        </p:blipFill>
        <p:spPr>
          <a:xfrm>
            <a:off x="1089000" y="3516480"/>
            <a:ext cx="5246640" cy="3657600"/>
          </a:xfrm>
          <a:prstGeom prst="rect">
            <a:avLst/>
          </a:prstGeom>
          <a:ln w="0">
            <a:noFill/>
          </a:ln>
        </p:spPr>
      </p:pic>
      <p:pic>
        <p:nvPicPr>
          <p:cNvPr id="262" name="Immagine 6" descr="KLIMT_X_ANL_DATI.BMP"/>
          <p:cNvPicPr/>
          <p:nvPr/>
        </p:nvPicPr>
        <p:blipFill>
          <a:blip r:embed="rId2"/>
          <a:stretch/>
        </p:blipFill>
        <p:spPr>
          <a:xfrm>
            <a:off x="7829640" y="4202280"/>
            <a:ext cx="3546360" cy="48765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2308320" y="725004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Gill Sans"/>
              </a:rPr>
              <a:t>Rembrandt. La terapia médic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7337520" y="9155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Gill Sans"/>
              </a:rPr>
              <a:t>G. Klim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3 CuadroTexto"/>
          <p:cNvSpPr/>
          <p:nvPr/>
        </p:nvSpPr>
        <p:spPr>
          <a:xfrm>
            <a:off x="3835440" y="3941640"/>
            <a:ext cx="5400720" cy="52056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0040" y="5192640"/>
            <a:ext cx="11696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b4a76"/>
                </a:solidFill>
                <a:latin typeface="Gill Sans"/>
              </a:rPr>
              <a:t>!GRACIAS POR SUS </a:t>
            </a:r>
            <a:br>
              <a:rPr sz="6000"/>
            </a:br>
            <a:r>
              <a:rPr b="0" lang="en-US" sz="6000" spc="-1" strike="noStrike">
                <a:solidFill>
                  <a:srgbClr val="2b4a76"/>
                </a:solidFill>
                <a:latin typeface="Gill Sans"/>
              </a:rPr>
              <a:t>COMENTARIOS Y SUGERENCIAS!</a:t>
            </a:r>
            <a:br>
              <a:rPr sz="4000"/>
            </a:br>
            <a:r>
              <a:rPr b="0" lang="en-US" sz="2800" spc="-1" strike="noStrike">
                <a:solidFill>
                  <a:srgbClr val="2b4a76"/>
                </a:solidFill>
                <a:latin typeface="Gill Sans"/>
              </a:rPr>
              <a:t>rita.ferrelli@iss.it</a:t>
            </a:r>
            <a:br>
              <a:rPr sz="2800"/>
            </a:br>
            <a:endParaRPr b="0" lang="en-US" sz="2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0266-23E5-4BB5-A88E-21F60636E440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-12600" y="792000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74240" y="1353960"/>
            <a:ext cx="1264932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EL PROGRAMA EUROSOCIAL EU – AL PARA L A COHESIÓN SOCI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 algn="ctr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84080" y="2144880"/>
            <a:ext cx="115063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DIÁLOGO EURO-LATINOAMERICANO DE POLÍTICAS PÚBLICAS EN TORNO A LA COHESIÓN SOC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Programa regional de la Comisión Europea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Acordado en las Cumbre Jefes de Estado y de Gobierno UE –AL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Duración: 4 años (2011-2014), tras una primera fase (2004- 2009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Destinatarios: 18 países de América Lati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Ejecución: consorcio conformado por instituciones públicas UE y AL liderado por la Fundación Internacional y para Iberoamérica de Administración y Políticas Públicas</a:t>
            </a:r>
            <a:r>
              <a:rPr b="0" lang="it-IT" sz="3200" spc="-1" strike="noStrike">
                <a:solidFill>
                  <a:srgbClr val="0a396d"/>
                </a:solidFill>
                <a:latin typeface="Gill Sans MT"/>
              </a:rPr>
              <a:t> (</a:t>
            </a: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FIIAPP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AFC-C332-4B7F-AD2C-55ECE20AADD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34680" y="1430280"/>
            <a:ext cx="1188396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EL PROGRAMA EUROSOCIAL EU – AL PARA LA COHESIÒN SOCI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29040" indent="-329040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5" name="Cuadro de texto 2"/>
          <p:cNvSpPr/>
          <p:nvPr/>
        </p:nvSpPr>
        <p:spPr>
          <a:xfrm>
            <a:off x="1012680" y="2290680"/>
            <a:ext cx="10744200" cy="67122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¿A qué aspira EUROsociAL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contribuir al diseño, la reforma y la implementación de políticas públicas nacionales, que tengan impacto sobre la cohesión soci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¿Cómo trabaja? – Aprendizaje entre pa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stableciendo un diálogo regional entre pares, promoviendo el intercambio de experiencias y facilitando así a las instituciones inmersas en esos procesos de reforma, el conocimiento de problemáticas análogas en otros países de América Latina y también de Europa, que puedan aportar elementos innovadores en dichas reform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¿Con qué herramientas? – Asistencia Técnica Públ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ediante trabajo colaborativo entre pares y asesoramiento entre instituciones públicas homólogas de América Latina y de Europa, construyendo itinerarios de asesoramiento tendentes a apoyar y reforzar el cambio (Asistencias Técnicas, Pasantías, Visitas de Intercambios, Talleres de trabajo, Seminarios, Formación, etc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F7E-2B4B-4DB2-ADC9-45FF65946AA7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-12600" y="792000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74240" y="1306440"/>
            <a:ext cx="1264932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EUROSOCIAL: ARQUITECTURA INSTITUCION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 algn="ctr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Immagine 6" descr=""/>
          <p:cNvPicPr/>
          <p:nvPr/>
        </p:nvPicPr>
        <p:blipFill>
          <a:blip r:embed="rId2"/>
          <a:stretch/>
        </p:blipFill>
        <p:spPr>
          <a:xfrm>
            <a:off x="2265480" y="2003400"/>
            <a:ext cx="7967520" cy="58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3DEB-51EA-4E8E-8595-B5EB77E3F3E1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4240" y="1230120"/>
            <a:ext cx="126493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EUROSOCIAL:  </a:t>
            </a:r>
            <a:r>
              <a:rPr b="1" lang="it-IT" sz="2800" spc="-1" strike="noStrike">
                <a:solidFill>
                  <a:srgbClr val="0a396d"/>
                </a:solidFill>
                <a:latin typeface="Gill Sans MT"/>
              </a:rPr>
              <a:t>Á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REAS TEM</a:t>
            </a:r>
            <a:r>
              <a:rPr b="1" lang="it-IT" sz="2800" spc="-1" strike="noStrike">
                <a:solidFill>
                  <a:srgbClr val="0a396d"/>
                </a:solidFill>
                <a:latin typeface="Gill Sans MT"/>
              </a:rPr>
              <a:t>Á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TICA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 algn="ctr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Immagine 7" descr=""/>
          <p:cNvPicPr/>
          <p:nvPr/>
        </p:nvPicPr>
        <p:blipFill>
          <a:blip r:embed="rId1"/>
          <a:stretch/>
        </p:blipFill>
        <p:spPr>
          <a:xfrm>
            <a:off x="2325600" y="1839960"/>
            <a:ext cx="10117080" cy="7624800"/>
          </a:xfrm>
          <a:prstGeom prst="rect">
            <a:avLst/>
          </a:prstGeom>
          <a:ln w="0">
            <a:noFill/>
          </a:ln>
        </p:spPr>
      </p:pic>
      <p:pic>
        <p:nvPicPr>
          <p:cNvPr id="195" name="Immagine 8" descr=""/>
          <p:cNvPicPr/>
          <p:nvPr/>
        </p:nvPicPr>
        <p:blipFill>
          <a:blip r:embed="rId2"/>
          <a:stretch/>
        </p:blipFill>
        <p:spPr>
          <a:xfrm>
            <a:off x="0" y="6462720"/>
            <a:ext cx="3298680" cy="2997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74600" y="1687680"/>
            <a:ext cx="2514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Acceso universal a servicios sociales básic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Protección social y promoción de políticas activas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Finanzas publicas que faciliten la redistribu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Institucionalidad democrática y articulación entre niveles de gobiern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Seguridad pública, derechos y acceso a la justici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374640" y="130608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a396d"/>
                </a:solidFill>
                <a:latin typeface="Gill Sans MT"/>
              </a:rPr>
              <a:t>NIVELES DE INTERVENCIÓN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504B-6BBE-476C-8D3E-7CDDEE3D641B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352520" y="4210200"/>
            <a:ext cx="9261360" cy="4944960"/>
          </a:xfrm>
          <a:prstGeom prst="rect">
            <a:avLst/>
          </a:prstGeom>
          <a:ln w="0">
            <a:noFill/>
          </a:ln>
        </p:spPr>
      </p:pic>
      <p:sp>
        <p:nvSpPr>
          <p:cNvPr id="200" name="15 Rectángulo redondeado"/>
          <p:cNvSpPr/>
          <p:nvPr/>
        </p:nvSpPr>
        <p:spPr>
          <a:xfrm>
            <a:off x="2917800" y="2297160"/>
            <a:ext cx="6248520" cy="1676520"/>
          </a:xfrm>
          <a:prstGeom prst="roundRect">
            <a:avLst>
              <a:gd name="adj" fmla="val 16667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46"/>
                </a:solidFill>
                <a:latin typeface="Gill Sans MT"/>
              </a:rPr>
              <a:t>Apoyar políticas públicas nacionales dirigidas a mejorar los niveles de cohesión social implica actuar en los </a:t>
            </a:r>
            <a:r>
              <a:rPr b="1" lang="es-ES" sz="2400" spc="-1" strike="noStrike">
                <a:solidFill>
                  <a:srgbClr val="464646"/>
                </a:solidFill>
                <a:latin typeface="Gill Sans MT"/>
              </a:rPr>
              <a:t>tres niveles </a:t>
            </a:r>
            <a:r>
              <a:rPr b="0" lang="es-ES" sz="2400" spc="-1" strike="noStrike">
                <a:solidFill>
                  <a:srgbClr val="464646"/>
                </a:solidFill>
                <a:latin typeface="Gill Sans MT"/>
              </a:rPr>
              <a:t>de la acción públ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16 Flecha curvada hacia la derecha"/>
          <p:cNvSpPr/>
          <p:nvPr/>
        </p:nvSpPr>
        <p:spPr>
          <a:xfrm>
            <a:off x="2017800" y="3505320"/>
            <a:ext cx="484200" cy="696960"/>
          </a:xfrm>
          <a:custGeom>
            <a:avLst/>
            <a:gdLst>
              <a:gd name="textAreaLeft" fmla="*/ 64800 w 484200"/>
              <a:gd name="textAreaRight" fmla="*/ 419400 w 484200"/>
              <a:gd name="textAreaTop" fmla="*/ 128880 h 696960"/>
              <a:gd name="textAreaBottom" fmla="*/ 507600 h 6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87" stAng="-5400000" swAng="-5400000"/>
                <a:lnTo>
                  <a:pt x="0" y="11738"/>
                </a:lnTo>
                <a:arcTo wR="21600" hR="7987" stAng="10800000" swAng="-3304369"/>
                <a:lnTo>
                  <a:pt x="16200" y="21346"/>
                </a:lnTo>
                <a:lnTo>
                  <a:pt x="21600" y="17849"/>
                </a:lnTo>
                <a:lnTo>
                  <a:pt x="16200" y="13843"/>
                </a:lnTo>
                <a:lnTo>
                  <a:pt x="16200" y="15719"/>
                </a:lnTo>
                <a:arcTo wR="21600" hR="7987" stAng="7495631" swAng="2998099"/>
                <a:lnTo>
                  <a:pt x="604" y="9862"/>
                </a:lnTo>
                <a:arcTo wR="21600" hR="7987" stAng="-10493730" swAng="5093730"/>
                <a:close/>
              </a:path>
              <a:path fill="darkenLess" w="21600" h="21600">
                <a:moveTo>
                  <a:pt x="21600" y="0"/>
                </a:moveTo>
                <a:arcTo wR="21600" hR="7987" stAng="-5400000" swAng="-5400000"/>
                <a:lnTo>
                  <a:pt x="0" y="7987"/>
                </a:lnTo>
                <a:arcTo wR="21600" hR="7987" stAng="10800000" swAng="-306270"/>
                <a:lnTo>
                  <a:pt x="604" y="9862"/>
                </a:lnTo>
                <a:arcTo wR="21600" hR="7987" stAng="-10493730" swAng="5093730"/>
                <a:close/>
              </a:path>
            </a:pathLst>
          </a:cu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17 Flecha curvada hacia la derecha"/>
          <p:cNvSpPr/>
          <p:nvPr/>
        </p:nvSpPr>
        <p:spPr>
          <a:xfrm flipH="1">
            <a:off x="9386280" y="3592440"/>
            <a:ext cx="484200" cy="696960"/>
          </a:xfrm>
          <a:custGeom>
            <a:avLst/>
            <a:gdLst>
              <a:gd name="textAreaLeft" fmla="*/ 64800 w 484200"/>
              <a:gd name="textAreaRight" fmla="*/ 419400 w 484200"/>
              <a:gd name="textAreaTop" fmla="*/ 128880 h 696960"/>
              <a:gd name="textAreaBottom" fmla="*/ 507600 h 6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87" stAng="-5400000" swAng="-5400000"/>
                <a:lnTo>
                  <a:pt x="0" y="11738"/>
                </a:lnTo>
                <a:arcTo wR="21600" hR="7987" stAng="10800000" swAng="-3304369"/>
                <a:lnTo>
                  <a:pt x="16200" y="21346"/>
                </a:lnTo>
                <a:lnTo>
                  <a:pt x="21600" y="17849"/>
                </a:lnTo>
                <a:lnTo>
                  <a:pt x="16200" y="13843"/>
                </a:lnTo>
                <a:lnTo>
                  <a:pt x="16200" y="15719"/>
                </a:lnTo>
                <a:arcTo wR="21600" hR="7987" stAng="7495631" swAng="2998099"/>
                <a:lnTo>
                  <a:pt x="604" y="9862"/>
                </a:lnTo>
                <a:arcTo wR="21600" hR="7987" stAng="-10493730" swAng="5093730"/>
                <a:close/>
              </a:path>
              <a:path fill="darkenLess" w="21600" h="21600">
                <a:moveTo>
                  <a:pt x="21600" y="0"/>
                </a:moveTo>
                <a:arcTo wR="21600" hR="7987" stAng="-5400000" swAng="-5400000"/>
                <a:lnTo>
                  <a:pt x="0" y="7987"/>
                </a:lnTo>
                <a:arcTo wR="21600" hR="7987" stAng="10800000" swAng="-306270"/>
                <a:lnTo>
                  <a:pt x="604" y="9862"/>
                </a:lnTo>
                <a:arcTo wR="21600" hR="7987" stAng="-10493730" swAng="5093730"/>
                <a:close/>
              </a:path>
            </a:pathLst>
          </a:cu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CD4-F2C3-478E-8A9B-D14B77171BD4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4240" y="1306440"/>
            <a:ext cx="1264932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ACCIONES DE ACUERDO A </a:t>
            </a:r>
            <a:r>
              <a:rPr b="1" lang="it-IT" sz="2800" spc="-1" strike="noStrike">
                <a:solidFill>
                  <a:srgbClr val="0a396d"/>
                </a:solidFill>
                <a:latin typeface="Gill Sans MT"/>
              </a:rPr>
              <a:t>DEMANDAS EXPRESADAS POR PAISE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6" name="Immagine 9" descr=""/>
          <p:cNvPicPr/>
          <p:nvPr/>
        </p:nvPicPr>
        <p:blipFill>
          <a:blip r:embed="rId1"/>
          <a:srcRect l="0" t="0" r="7013" b="3998"/>
          <a:stretch/>
        </p:blipFill>
        <p:spPr>
          <a:xfrm>
            <a:off x="2841480" y="1805040"/>
            <a:ext cx="6858000" cy="76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34680" y="1306440"/>
            <a:ext cx="1198548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Gill Sans MT"/>
              </a:rPr>
              <a:t>INSTRUMENTOS EN EUROSOCIAL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2F58-BD15-4525-A2B0-9C310981E7F6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9" name="12 Marcador de contenido" descr=""/>
          <p:cNvPicPr/>
          <p:nvPr/>
        </p:nvPicPr>
        <p:blipFill>
          <a:blip r:embed="rId1"/>
          <a:stretch/>
        </p:blipFill>
        <p:spPr>
          <a:xfrm>
            <a:off x="2030400" y="2511360"/>
            <a:ext cx="8375760" cy="4730760"/>
          </a:xfrm>
          <a:prstGeom prst="rect">
            <a:avLst/>
          </a:prstGeom>
          <a:ln w="0">
            <a:noFill/>
          </a:ln>
        </p:spPr>
      </p:pic>
      <p:sp>
        <p:nvSpPr>
          <p:cNvPr id="210" name="5 Rectángulo redondeado"/>
          <p:cNvSpPr/>
          <p:nvPr/>
        </p:nvSpPr>
        <p:spPr>
          <a:xfrm>
            <a:off x="738360" y="2033640"/>
            <a:ext cx="3843000" cy="178272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iagnósticos/ Autodiagnóstic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vestig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stematización de lecciones aprendid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tudio de cas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tudio comparad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6 Rectángulo redondeado"/>
          <p:cNvSpPr/>
          <p:nvPr/>
        </p:nvSpPr>
        <p:spPr>
          <a:xfrm>
            <a:off x="398520" y="5313240"/>
            <a:ext cx="2601720" cy="224172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Visita de intercamb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asantí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artenariado instituciona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visión entre pa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7 Rectángulo redondeado"/>
          <p:cNvSpPr/>
          <p:nvPr/>
        </p:nvSpPr>
        <p:spPr>
          <a:xfrm>
            <a:off x="2978280" y="7632720"/>
            <a:ext cx="5925960" cy="180036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Asistencia Técnica para acompañar el camb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sarrollar estrategias/ reformar políticas/ apoyar los auto-diagnósticos/ fortalecer técnicas de gest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Idealmente con un formato de peer-assist (realizada por otras institucion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8 Rectángulo redondeado"/>
          <p:cNvSpPr/>
          <p:nvPr/>
        </p:nvSpPr>
        <p:spPr>
          <a:xfrm>
            <a:off x="9594720" y="5256360"/>
            <a:ext cx="3202200" cy="3744720"/>
          </a:xfrm>
          <a:custGeom>
            <a:avLst/>
            <a:gdLst>
              <a:gd name="textAreaLeft" fmla="*/ 156240 w 3202200"/>
              <a:gd name="textAreaRight" fmla="*/ 3045960 w 3202200"/>
              <a:gd name="textAreaTop" fmla="*/ 156240 h 3744720"/>
              <a:gd name="textAreaBottom" fmla="*/ 3588480 h 3744720"/>
            </a:gdLst>
            <a:ahLst/>
            <a:rect l="textAreaLeft" t="textAreaTop" r="textAreaRight" b="textAreaBottom"/>
            <a:pathLst>
              <a:path w="21600" h="25259">
                <a:moveTo>
                  <a:pt x="3600" y="0"/>
                </a:moveTo>
                <a:arcTo wR="3600" hR="3600" stAng="16200000" swAng="-5400000"/>
                <a:lnTo>
                  <a:pt x="0" y="21659"/>
                </a:lnTo>
                <a:arcTo wR="3600" hR="3600" stAng="10800000" swAng="-5400000"/>
                <a:lnTo>
                  <a:pt x="18000" y="25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aller de form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Mesa nacional de trabaj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aller regional/internacional de trabaj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un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anel de expert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eminar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ncuentro de program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Feria del conocimien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onferencia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9 Rectángulo redondeado"/>
          <p:cNvSpPr/>
          <p:nvPr/>
        </p:nvSpPr>
        <p:spPr>
          <a:xfrm>
            <a:off x="9379080" y="2232000"/>
            <a:ext cx="3313080" cy="135108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Virtua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 Comunidades de prácticas: reuniones/ cursos/ discusiones/ entrevistas/ redes, etc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10 Flecha izquierda"/>
          <p:cNvSpPr/>
          <p:nvPr/>
        </p:nvSpPr>
        <p:spPr>
          <a:xfrm rot="18814200">
            <a:off x="3009600" y="5108760"/>
            <a:ext cx="636480" cy="29664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12 Flecha izquierda"/>
          <p:cNvSpPr/>
          <p:nvPr/>
        </p:nvSpPr>
        <p:spPr>
          <a:xfrm rot="1425600">
            <a:off x="4614840" y="2579760"/>
            <a:ext cx="636480" cy="2984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13 Flecha izquierda"/>
          <p:cNvSpPr/>
          <p:nvPr/>
        </p:nvSpPr>
        <p:spPr>
          <a:xfrm rot="16200000">
            <a:off x="6107760" y="6968160"/>
            <a:ext cx="636480" cy="2984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14 Flecha izquierda"/>
          <p:cNvSpPr/>
          <p:nvPr/>
        </p:nvSpPr>
        <p:spPr>
          <a:xfrm rot="12892200">
            <a:off x="9694440" y="4881600"/>
            <a:ext cx="1052640" cy="270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15 Flecha izquierda"/>
          <p:cNvSpPr/>
          <p:nvPr/>
        </p:nvSpPr>
        <p:spPr>
          <a:xfrm flipV="1" rot="8685600">
            <a:off x="9664560" y="3898800"/>
            <a:ext cx="1079280" cy="295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F831-AC9C-4349-8E13-99C36416317F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a396d"/>
                </a:solidFill>
                <a:latin typeface="Gill Sans MT"/>
              </a:rPr>
              <a:t>COHESION SOCIAL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936720" y="2297160"/>
            <a:ext cx="11505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CONCEPTO ABIERTO A DEBATE , ELUSIVO, NO UNIVERSALMENTE ACEPTADO, PERO COMUNMENTE RELACIONADO CON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PALABRAS Y CONCEPTOS CLA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EQUIDAD, INCLUSIÓN, SENTIDO DE PERTENENCIA, SOLIDARIDAD, CIUDADANÍA, JUSTICIA SOCIAL, PACTO SOCIAL, DERECHOS, CAPITAL SOCIAL, MOBILIDAD SOCIAL, CALIDAD INSTITUCIONAL, LEGITIMIDAD INSTITUCIONAL, ESTABILIDAD SOCIAL,…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CONCENTRADOS EN LA PRÁCTICA EN UNA NOCIÓN: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5385a"/>
                </a:solidFill>
                <a:latin typeface="Gill Sans"/>
              </a:rPr>
              <a:t>MENORES DISPARIDADES</a:t>
            </a:r>
            <a:r>
              <a:rPr b="0" i="1" lang="es-ES_tradnl" sz="2800" spc="-1" strike="noStrike">
                <a:solidFill>
                  <a:srgbClr val="35385a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2:02:04Z</dcterms:created>
  <dc:creator>Iván</dc:creator>
  <dc:description/>
  <dc:language>en-US</dc:language>
  <cp:lastModifiedBy>Rita</cp:lastModifiedBy>
  <cp:lastPrinted>2012-03-05T13:08:24Z</cp:lastPrinted>
  <dcterms:modified xsi:type="dcterms:W3CDTF">2013-01-11T14:04:12Z</dcterms:modified>
  <cp:revision>340</cp:revision>
  <dc:subject/>
  <dc:title>Titulo de la presentación -Subtítulo de la presentación-</dc:title>
</cp:coreProperties>
</file>