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dt" idx="10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ftr" idx="10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 type="sldNum" idx="10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85E-266D-4C81-BDCF-A379A065157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03C-61DC-4660-91BA-7E042386E6E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F601-97B2-4948-805B-31530EB725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5983-425F-4B9E-90DB-92B5B105044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586-B4B9-44D9-8066-D05FEF32A9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8E08-C28C-4974-9B34-74F6A11D74E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538F-014E-43F5-B7CB-46EADF2BC6C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F9D-66E9-435F-BA02-6F76C8B4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77F-90B3-47AB-BF76-80D49747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39D94-E9F6-459A-87F4-E7275985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B62F0-3885-4DE0-9DD4-54C62B7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FC2A6-EC02-4630-A612-BD9897B7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F7CA2-7814-4D3C-A756-65210E6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81F63-C34A-4460-A23D-A1C1D3B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6021-DFD3-4AA5-B67F-A59B5F3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B23DB-5D8D-476B-AD10-26BBFBA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AD814-AB86-4AEA-A4AD-8B44987C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FF16E-505E-4115-AA7B-D5FAE12B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716A9-A32D-4CC3-B6B8-C5E1382A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FB8-CC3D-4184-8FF3-28E7A1B5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014F9-C41F-4933-AA87-16E19CB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7B53A-6BE0-422A-98D2-A54103F4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3FC0B-72D4-4A29-B3E5-A6D3811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321DC-7FF8-4AD3-8821-45E32F37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48BBC-C47B-4654-B3E5-02AE075C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748C-4B5B-47ED-A94F-EE621E5F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A44D-2774-4CC4-825A-310597F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77BDA-57BE-4B5B-9A9B-1796BBD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95E57-3665-43EC-AB91-5B17C115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02D98-AC60-4C7C-947A-AE5CEE9A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C2F-F863-4EF9-990C-80CB4616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6707C-2A9D-4A66-899A-67305659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FD94-2B55-4339-8BB3-497091EF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DA3E-265F-4009-A82E-CAEE7305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3B4C4-D2C2-4B6F-9F68-7F155101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3E756-C491-4C41-AD9D-A780BE8E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73915-4809-4EFB-93B7-C5EB38F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4F23B-85FE-49C2-95E2-738BA7A4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7690-4E79-4A39-B439-5326982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9A1B5-E9CA-42B7-951D-5D9273C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0B9B3-1EAA-4BA4-95A8-B53A0D3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79FE-87FF-4BA4-976F-3E931005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8008A-9F99-4FF1-B738-4EA41F9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4E91-48E5-4B23-92C0-8309502D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3ECC8-4A87-43FA-B26A-00030280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10F27-7974-4832-9A92-0AFDA72F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CEF8-0B8B-4BAA-82E9-E2DCB340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E06E0-C420-484C-89B2-23F6EFFF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0143-0E4A-4C52-BA3C-93B60DA2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5CCB0-05A1-4034-87A5-F08CA09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5F6D2-DD99-4D4F-86EC-456D144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6DECD-E176-41AD-AA2A-8B020BF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87D6-8F42-44E6-B02E-8EACE0D8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46F3E-A40B-4E6F-9744-E5D97C1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6A7DD-B071-4C8B-890C-12A2C5A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6056C-4D90-43D8-A241-B304555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77875-A306-4BC9-B157-56EBC359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F9958-C74E-4A1D-A62F-A610876F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0FACC-759A-4D10-AD27-B487D1C3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F79D5-10D2-4A0A-8DE4-C9F4449D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BDF64-4A90-478D-BDFB-A33FF9D3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A6204-37F5-4744-94C2-6B370FF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60984-E8B0-49CB-89C0-70EA1419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D19-2E5D-4740-904E-8BE2F9F1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421AA-C905-4865-879A-64B9B6B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B3176-04E4-4528-B233-012BA434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58E0C-D437-4B98-A614-DC93024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1F45E-4B2B-4EFE-AE4D-6D518CD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A3C72-23C5-45CB-886B-DED8BB1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42C45-03B9-47E5-8EEA-8677BADC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0DB81-D8E5-46A8-A26A-2740CC1E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08309-9B76-4F6B-9C46-98B5C0A4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E1679-BD5A-4D22-8139-932026F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F5281-7387-4B03-A5CF-C0CD5C8E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C02D-F489-41A8-A257-F7E41475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2DDAA-705A-419F-ADEB-524595DC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3F786-3229-431A-95BF-1B0FFF5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AB986-38CC-4E8E-B11F-CCF78054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5ADA5-1A2B-470B-ADA1-9C0671F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2703F-1868-4336-8BDD-8329DB5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81CEC-D3EA-405D-B7E4-AED28FE5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ACE22-CCEE-47BD-B502-CC29FF6B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BB6F9-7D30-4BA1-BD22-5AAEBCD5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D5C7E-F3FF-45E6-9944-557FBB77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D0168-6454-4EC5-9077-4AD94D7C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EC38-47D3-4980-B490-D6390DF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D02C7-D9C5-4EF4-AE5C-C712CF21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BC8E9-074F-4948-9423-36DD22A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636C1-CF83-44EE-BC95-E5D40501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66719-7B6A-446F-8F14-076717E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632D5-9F5A-44E2-BD7F-732ECC0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4DD9D-C77E-485A-B0D1-2F1B861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4BDC5-CE83-47A0-8015-DD86D95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469C4-3A58-41E0-ABF3-DB6E795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A47F2-4155-4620-B966-3DD803A6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2D5D2-568D-4B35-94B9-40BFFD66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3AF9-3046-4B0B-9EA1-1FAF1741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18ECE-430E-4E41-9C6B-189877AC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1ED6C-A263-47FE-8EAF-1743D1BD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75719-FE6E-4738-B95F-D4DAC43D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7BB64-B140-4BBD-A40D-AD7CE85C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F0B55-CEE2-4ED4-B6CC-E6D1E5C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2F594-2A9D-45E2-A5E3-01723DEA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1902E-D70D-4943-8635-884A870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5AE0E-F64C-4306-8D41-1E4C657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C5B36-A0E4-483C-AC38-D9E4167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86BBD-503C-44DC-9216-586E48F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AB6-4418-474C-93B6-F2EC19E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7EABC-2AE0-4A60-AC4E-F188E61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AEACB-7BCF-4197-B7B5-C111B51C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D2855-0BFE-481E-B858-E57D3227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FDC3B-0E37-476C-8329-710CBD8D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30B2A-6465-4EA7-A7C8-306A45EE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841E2-B437-4607-8CEB-FD3D56C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D605A-B94F-48A7-8685-949B72A1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DB41E-ED89-4454-8A0A-9172ED0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CF5B6-2BBD-424C-BD9E-D94408B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AA9B2-2ABC-4798-9E96-ADA9461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171-BB98-417E-B9B2-7CCE1B53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F9FD-C83B-4009-871F-8C7E3AF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B3C5D-30D7-46B9-9BEA-18A8C0A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D6FE0-5899-4E44-B3FE-7247A624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B563B-A9FB-48A9-B5D6-52545EF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8CB89-F2B7-45DF-9A5C-4EED4A04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D2113-AD1C-46E9-A25B-FC0743EB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39E45-5A4B-4EF9-8E50-0114697C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6AB55-AF2C-428F-82E5-79AC0D64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78136-5F10-451F-9D7E-7E8948F5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186C7-FA59-41B5-A3D4-FB4C2DF4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1ED60-2023-4C7D-9C81-4E3E0A8E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3674-AFD9-4B86-8206-58114E4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2ADF8-59FF-40DD-807E-2B6CC53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30C27-37A2-4314-9FEE-3FA0F81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E378A-2D7A-41FA-A146-C87CBDD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1BB77-7BA6-4E0F-94D2-F0D79EF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A7C25-F276-44F2-B7E4-2B9EF79D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BDCBA-E23A-4432-B148-0C309A53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B566E-16B4-4ED6-BF5B-1D430C45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784B87-3975-4EA6-BA61-C65A8550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38DC7-6813-4853-8CA3-A21B075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98B51-8B84-4E93-9738-B8CDD8F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04AE-5802-409D-97B7-77218EC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EEAFF-4323-4070-9659-6F8A0BD1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08222-59C0-410A-9676-F191545B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72B34-DD07-4DB2-9FC0-DD7CFE78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0A5F6-6585-40E6-8B27-5137C97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9636C-BA47-4951-A249-8C1D86FE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76EC5-7867-4E12-8914-9F5D000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66D52-2314-4A3F-9AD1-01FFE9A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78B19-08F7-40E8-9A5C-8F607301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75147-00EA-43BC-9B4E-EB290D45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868A6-85F9-4867-9344-6754E7D0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00D9-24C1-419C-ADDB-F02CF8E8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529F2-B772-42A9-8353-C203159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1D40D-00FA-475C-8AAF-2186221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BA2FB-CE1A-4091-936B-1E5A01D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D5837-D912-4144-AD12-63882717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CF9F2-0829-4FBF-87D7-74AB0564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AE653-0E81-4664-9981-969F036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D824B-C96F-498B-B071-4216F34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D4416-D423-4058-ADA8-AF154E3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A3125-BDB6-4C6B-A9B5-10E9EFBD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7F145-A9FA-47BF-B65B-2AA30C74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016-B93A-4CD7-9B00-869A46A4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7D905-4A91-4FD6-A948-BF6DAC7D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4AF43-7E13-44B8-A24F-39208726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8B92D-7F36-4CB2-9E12-25B390AA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3AF51-9F7D-4C1D-A822-1F30907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334C0-04B3-41D1-9944-B27BB2A2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B0E7B-1740-4066-9723-729CC8F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EE6C1-6585-4610-90F8-9F79D699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3140B-ACD3-4BB1-AD75-0937E5E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3D2E1-F262-44EA-B997-5540D67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B1261-7AB3-4945-8052-4D0F041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33AA-CA8A-49AB-9F1A-746D0376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C21A7-6A08-43C0-AFE0-81EB6B05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EDD84-0A6C-4B09-BCEB-3C7F2BE8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E1552A-EEEC-4CA8-9C28-F3122EE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CB9177-3350-43A0-AB38-85FC247B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E602D-03B7-4629-8D84-A2593B2D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DE3812-E8C7-4014-8407-E2C37B12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3F7AB-6770-4591-BE40-09A6F32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0D8D5E-3160-4F76-912B-BBB66ACA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1AE46-7C80-450F-801F-35AD1D61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EE5A96-11CC-4244-8F40-7FCEFDB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96D7-C02A-4299-9193-EDA45FE6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AC6CC9-0E0F-4BDC-B68C-8AB2E38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4C2D4-C4E8-40B7-9963-0534327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36EC5B-EDC8-4532-AC11-8EF4D6AF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DA855-DA25-4726-9AED-1DF74D0C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9C179B-3526-44B3-BF29-F779D5A6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C5155-F8A4-46D0-A0B9-51C99307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B19D1-A85A-4FE9-BB51-F1836BF4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5B30C-6FF8-4137-A81F-A203C43A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CE3DA7-CEEC-47BD-94D5-97A66D79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61D5C8-5436-41F6-AF50-509111C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076D-0AB5-41CA-81B0-B580FA62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62E8FD-7E7B-4443-AA92-CC62126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98781-6BF5-4FAE-9ABB-E9DDE97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C0A307-CF1F-4214-9D85-1A58BEB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24A4B-B112-4663-A31D-1831BD4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06A208-C4EE-4B15-B4C2-7230E396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9F7EAE-7991-4CE7-B32D-D3A44D77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214D2-909F-41AB-BAB7-15DF59BC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2C8879-B5EC-4054-A68C-6EF54DEE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F520F5-479A-429F-85A7-EB2787C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B143CB-EE86-4B8A-AEB2-4D701AC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1A58-1BFC-4407-8856-5B3FC9AC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086A0E-AC6C-445C-95A8-EA86208D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78ECD7-5F5E-4A12-A144-5A36421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31FAA0-48CB-49F1-B5BF-A467120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E95FF-A670-4488-948E-39AC1DB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E2C328-2A75-4936-B335-52C6AF8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D21D2-FDB2-486F-BD60-8FB5D3C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FCDD9-D4D2-49A8-9B8B-43E2F99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5A5CBB-0ED1-4CF3-ACD6-283D0D4D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C8552B-B916-43AF-9DF0-EBB6DA0E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C3A6DF-D0A8-4561-BD30-829F7314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2752-838F-4475-B91E-4E12B9F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CDCA00-C238-4FF0-9CDC-FF23F793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256F22-05FF-4CFB-AB62-9001E00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AED1DB-1E02-44ED-BBB6-B228434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83FBAB-7357-48E3-B738-F7001824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D9AE33-16FE-4CCB-A418-D3C34EA3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4ED9A6-52E7-47DA-9FCD-DA73D98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150B0-1424-485C-939B-115BE6A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257761-7746-406A-820A-16D7552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15F31A-313C-41C3-A846-B9AD2A0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F99DF7-9A07-4098-AF20-133C679F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3A7-0666-4E3C-806B-28E94FE5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3BF2-7C6D-49AB-94C7-9EDC572D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2B729A-14E1-4805-A65F-545F5F31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8C9E7D-A84B-48EF-BE1F-9D9D34CC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33AD44-648A-466C-8910-74461AE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7B6DA6-97DF-43BF-95A7-6E2F014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2BD71A-996C-4C77-BEF5-43E2C0FD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AFE680-AC63-49A9-8D9A-032F2FDE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372F29-3F66-46F0-A258-284D012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2E76A0-7E26-4985-8082-B9073A1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599D18-F9AF-4064-AD85-1474B1E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079319-A2A2-4E9A-9E8C-32EFC35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EF31-5D91-455D-85E1-BE66DFB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6814DC-04F6-4B82-A34A-877D9E39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78307B-6A7E-46A5-8449-57B99BD8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0193B4-E8B4-45F7-A945-18DFA2B2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6A4729-440F-422E-8821-71216269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D13530-D704-42F0-B79D-523DF398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0C9E9D-A264-4A57-8291-C118F8BF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C32830-669E-4130-AB8F-1F5139B2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529523-B17F-4DE8-ABCC-256B085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98F3F7-F6C0-40ED-ABAE-EA4BC387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4A56D4-F596-4B5E-9193-3C0AF3F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3EB2-C47E-4AB9-B811-CD7D555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43F498-2474-48AD-9897-CA363F7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0246AF-C3D6-4DE0-BEB1-F72B397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5707E1-22FE-41A7-942C-7E182F06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2065AA-9A18-4D0B-9900-7BCDDE28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C094BD-13A4-40F1-B32A-C8EE539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3497FB-3617-42BF-8D2C-08509E8D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3C21B5-B2F7-4A68-8643-60F0C55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012A65-B254-4654-957B-9EAA055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44F036-93ED-4821-BF8B-6A345953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CE0DC9-B4DB-432A-9A5E-7F218AB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179C-E3A5-43D0-86BC-0FEB1EB3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AF5FE4-ED6E-4DA6-87B6-4F65046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B6C25E-B7E3-4559-8DBD-9CCF4D0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2AAD0A-867F-4356-A55E-1577B2A4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2E9BC7-8496-420A-BCBD-9121B5C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4EBCDC-E19F-456E-8EE2-ECFAED5F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3EDC7F-8D40-4B26-A9A7-BA49F638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A6D424-7942-4707-9EAE-4D7774FE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1870F4-DE6F-4241-9628-C7867491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726347-57BC-45CA-98D8-2F4F00C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49E878-4239-4EA5-9D24-CECBECA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073C-011E-455D-84A2-2A68AE0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C21FB5-7270-42A9-9E42-D2A520B5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AF376C-1FE1-4112-863F-E632641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A7E663-D9B2-43E1-B8F0-21FE487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CD62DC-33A4-4925-A188-6251F029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1DF4C5-0ECC-455D-BC89-C79F8D2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E3105F-3A68-4328-B859-609364B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324329-98AD-4CD2-926C-B7636E2E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099B0B-2A1D-4EB3-8445-DDCAE6AB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F16948-4063-4BD4-8819-A6B1A063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3EE85B-2670-4D64-ADDE-CC1F4362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3B00-20D4-4146-A9A9-F771C03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B9C774-E576-4310-8C22-BD09DA7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F3B985-D679-4B6C-BA4F-0ACEFC5A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C2DEED-A1A5-461D-8106-93B59034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982179-9B73-4C44-8FB9-B09D6F38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67CE10-F41C-4976-A134-D269E40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EDABCE-A0E8-498B-A0DA-A5258A0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EE107E-15F2-43D5-9773-247D3F9A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E6B176-2932-4CB8-9D68-BB81FA3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C59F5D-7F3B-4347-87EC-0AE276B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68B847-2291-4109-9561-7E1EDCAF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E561-D34C-441A-8377-C63B5942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FE16E8-5E1E-4A7C-A2F7-49F44752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8817DF-0FE6-4C56-A620-957F2918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091FD4-C844-4E78-B8CB-7E96FF93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DE2F62-054E-47CA-BFB4-592EA5B8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EEAB8C-85CA-4F31-8640-A9429874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B60546-D988-4BD6-8345-74DACBB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540890-4A07-4261-A6BD-00A95741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405430-ABBF-4BCB-A691-92CF344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563CFC-EA14-4B65-9895-A1CC4BD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473E0B-D4F3-4A86-8DFC-20C85CE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CB03-1CEE-4536-BD52-D3F15A2A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213C81-2951-405A-A3F4-A03D478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D30464-5187-4ABC-9B3B-1620D01F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DA861F-99E1-475D-9C40-B81C6546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DCB6E7-DD09-4759-AFDE-E509C77F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E17ECC-1B50-47B4-9C70-9705FA4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FE1BFE-A00D-4B8B-893F-594E3840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3EADFC-F797-4C96-BA62-DC4B2AD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959A9C-89B6-46C6-A3E6-D8F14F2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9CAFE6-D0D6-4EE9-B976-8D00C8C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49A3FB-52AD-4236-9AC7-D9D58D7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240B-3691-4D0C-ACBF-D23802D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9A7DF0-59B6-4590-903A-0643953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D6DEA5-D025-4915-AB33-72531F7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CA0D19-C890-41A2-85D0-FEF7C2C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44B36F-8A1A-4E3A-BDE2-BB262B32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FC9E4C-D7BE-4F56-B4AC-5872B385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FA14DC-6FD4-4AF6-BB8F-1DE8D5DC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7689CA-4BDB-41D0-A872-7557CE6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A99799-482D-440C-9FE8-A364F705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D84676-725C-4ACC-A342-0EA9931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9EB838-1836-4881-8311-82F1FB4E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B742-D5F3-47A7-A09D-5FCC9CB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76FAB7-F192-4A56-936A-468E7A8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B1A6B9-7BC8-4A1A-9692-A16CD70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53E3EF-39F0-4789-ABCA-14B88C3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5DECBE-6BF2-4C67-AD7F-C921F1B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C186E0-80F9-43F7-8A74-010E5FF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FBFA20-1940-4D1F-9314-87011C8A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BB54AE-D4C4-4776-9E17-A6A0E2AE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CCF-8C51-4962-A267-664F35D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5400-419E-4DC3-8DEF-B610DAB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72A8-FC18-45D4-B2BE-C0D32057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D573-F7C9-4383-A1F8-7E6A18F6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B0F5-45CE-4495-97A4-3FE58DF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2721-E339-47DB-9982-A15490D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A005D-DB46-450F-83C6-F527DF4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1526-80CE-4444-9886-B1781B58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E4D8-AE89-43BB-9C89-5014AB25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096F-2A53-4627-82F8-6DA18B5D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F76C-B94E-490F-A04C-8C46D262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33F-10D8-4E6A-8F20-F2E8C8A2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BAE7-54C1-4829-80AB-312946B4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DA6F-1665-46CE-B567-06F46FC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BCD9-7E10-46AF-ABCF-39BF162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C8D2-7044-46E1-A3CA-AF2AB6B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6DEE-7689-4980-BA5C-12F4BFE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5B40-CFB1-41CA-9165-5403403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058E-50AF-4258-BAE9-2577FA62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3B96A-31E1-45C5-88AC-653C23E1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E00E-63DE-4D0E-A205-A6000416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B9A0-DCC0-4CDB-9221-4182CF4A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B53-B8FA-4D93-8EB9-1358114E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62CAE-0E34-4E1D-AA8A-C0D79D32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4E2A-3436-4E85-96EC-9A53D088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771C-560F-4CFD-BC57-117B3053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33F0-AB8C-4EB9-AF25-97C1CFA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37104-412A-44D0-B249-DBBB4D10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3169-6108-4511-9325-BFCA60F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22AF-B210-41A1-867A-C348194C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4D25-DDDE-42C3-87A1-958A7A6E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8524-7862-4FD6-B415-582CCD5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3C11-8341-44D1-9710-738BA76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A04-F672-4E39-8F95-490C418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90D0-FA32-4F70-B7A3-B4B57F29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D222-8F70-4116-BD61-883F9F08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4E67-D4E7-417A-8FD2-D9626F3A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3EA7-0824-4451-BD40-5F8A7B15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F880D-4CCB-410B-844F-1020187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BFC1-F163-4B14-9F77-A78D502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8BF1-0319-44A2-89FF-35E280A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4F19-A994-49FC-AE71-CAE9C73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91389-6A9D-432D-8AE7-F4D589E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0B1CB-925A-4F0F-9E64-E3A0097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DBB-6939-4C83-A401-E28EE82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B62AE-92E3-42B2-843B-606F5BB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8615A-6339-4F61-A0E7-1A3E80F9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A356-7B5F-4F52-B8A1-9A81A55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ABFC-872D-4F75-888F-D0A41181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DAB7-7696-4BCF-8E5D-C8E6B4E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DE94B-5851-48B2-AE10-1DA5C7AF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98008-359F-4D86-9A2F-55097254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D0EF5-2714-4DE6-BB33-EEAFA776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38A7-FED9-4208-B467-E9A78B07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B3B67-C0EE-46D0-8798-6BCE4D80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A2F-3994-4A97-916A-4385C51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99BFD-0F6F-49E2-8692-709C9C6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3D2A0-7097-40D5-89D4-B1A1D9F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85FFD-5FDA-4943-A505-4D49C9F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D772-5F27-4ECC-9DC4-7FB03A1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05E5-4E40-4E73-9952-C0DC64DC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F16BE-8904-414E-89CD-8E9219E1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8482-0BD5-4198-B993-2F356173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4DB56-902D-4F70-B1FD-18297666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2C775-DFF9-422F-B767-E1FBA86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BDBC1-0DE3-4906-9DA2-58AC8B42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D173-B020-4088-AA38-FBD2A60B69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36DC-C0FB-4714-8FEB-5C7A3A9F82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8CA-E389-44F7-9386-0FEAD3025E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AD65-888D-404A-BB6F-9C78ACC158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60E-BA86-4D9D-87F8-0DDB4D288B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77E-3DD9-4302-B19C-09D753B0B8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29C0-B590-4246-A184-98265F208A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236C-1BE4-4E09-9FB5-1DBA42A074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E890-8E1F-4611-886E-0EEB0E69A3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8814-8E80-42D3-BA64-AA79783DC9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BF30-A634-477C-8E0E-CB79295F3D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4F45-FD85-4122-A9D6-EC9000B11D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DE7D-988E-45A7-88E0-8E914FE427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DFD1-F6D8-4236-9876-089FA52DF5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F47B-3A28-4710-A135-49B7C5D3A3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40F-331C-4CC1-9F17-DC344ECBCE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3FC-56A2-4DDC-850C-48B597BE34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C59-6071-4C8F-80AA-BEEE8105B1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0DB-334C-43BC-BF3C-C5742F0949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0EC-E6FA-4ABC-B414-837D9EF1AA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2AF-4ABE-401D-9D4C-CDAEE9ACB5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0101-B2B6-45D4-83DF-1DDDF2CD36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C860-3F42-4D90-93B0-C42966A4CB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76C4-159B-4BB7-8B74-368528AA9B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32B-865D-4EC7-B333-DD02CB0481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3D6-93C6-4BDF-A849-D6408CD549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2F4-BE80-4DC9-86A4-50ADA1370B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ED5-E609-4BBC-87F5-FFA92E8393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A95-7232-4649-8A36-5E3995C386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CD7-7759-4649-A5D7-876EFF90F6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3224-C384-407B-A0E5-E7B42DD171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3CC-B2C8-4735-82F3-8D5F586DC9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7420-0225-4A24-898E-98FFA3A14B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4" descr="Logo mso"/>
          <p:cNvPicPr/>
          <p:nvPr/>
        </p:nvPicPr>
        <p:blipFill>
          <a:blip r:embed="rId1"/>
          <a:stretch/>
        </p:blipFill>
        <p:spPr>
          <a:xfrm>
            <a:off x="6842160" y="3373560"/>
            <a:ext cx="2286000" cy="127476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5"/>
          <p:cNvSpPr/>
          <p:nvPr/>
        </p:nvSpPr>
        <p:spPr>
          <a:xfrm>
            <a:off x="0" y="0"/>
            <a:ext cx="678168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Hacia la construcción de un Sistema de Vigilancia de la Equidad en Salud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515880" y="4191120"/>
            <a:ext cx="58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00"/>
                </a:solidFill>
                <a:latin typeface="Arial Black"/>
              </a:rPr>
              <a:t>DIRECCIÓN GENERAL DEL SISTEMA NACIONAL INTEGRADO DE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363" name="Picture 8" descr="Flag_of_Uruguay_svg"/>
          <p:cNvPicPr/>
          <p:nvPr/>
        </p:nvPicPr>
        <p:blipFill>
          <a:blip r:embed="rId2"/>
          <a:stretch/>
        </p:blipFill>
        <p:spPr>
          <a:xfrm>
            <a:off x="7012080" y="1789200"/>
            <a:ext cx="19191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Text Box 4"/>
          <p:cNvSpPr/>
          <p:nvPr/>
        </p:nvSpPr>
        <p:spPr>
          <a:xfrm>
            <a:off x="380880" y="1925640"/>
            <a:ext cx="754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Rounded MT Bold"/>
              </a:rPr>
              <a:t>EN TÉRMINOS OPERATIVOS…</a:t>
            </a: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2" name="Rectangle 9"/>
          <p:cNvSpPr/>
          <p:nvPr/>
        </p:nvSpPr>
        <p:spPr>
          <a:xfrm>
            <a:off x="498600" y="2607480"/>
            <a:ext cx="80359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161645"/>
                </a:solidFill>
                <a:latin typeface="Arial Rounded MT Bold"/>
              </a:rPr>
              <a:t>Consolidar una matriz de indicadores y datos que permitan identificar las inequidades en salud de la población uruguaya y sus factores determinantes.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161645"/>
                </a:solidFill>
                <a:latin typeface="Arial Rounded MT Bold"/>
              </a:rPr>
              <a:t>A partir de dicha matriz se realizan Informes Temáticos que ofrecen de forma oportuna y clara elementos para la toma de decisiones.</a:t>
            </a:r>
            <a:r>
              <a:rPr b="0" lang="es-UY" sz="3000" spc="-1" strike="noStrike">
                <a:solidFill>
                  <a:srgbClr val="161645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3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SISTEMA DE VIGILANCIA DE                               LA EQUIDAD EN SALUD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2"/>
          <p:cNvSpPr/>
          <p:nvPr/>
        </p:nvSpPr>
        <p:spPr>
          <a:xfrm>
            <a:off x="303120" y="3144960"/>
            <a:ext cx="854892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) DETERMINANTES SOCIALES DE LA SALUD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indicadores sobre 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structura demográf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 población y sus componentes dinámicos. Por otro lado, se incorpora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dicadores sociales y económic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ducación, Empleo, Informalidad, entre otros.   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I) DETERMINANTES AMBIENTALES DE LA SALUD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capítulo contiene indicadores so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diciones de Habit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Vivienda, Saneamiento, etc.) y otros factores determinantes del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5" name="Rectangle 12"/>
          <p:cNvSpPr/>
          <p:nvPr/>
        </p:nvSpPr>
        <p:spPr>
          <a:xfrm>
            <a:off x="304920" y="1801800"/>
            <a:ext cx="8439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) ESTADO DE SALUD DE LA POBLACIÓN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indicadores so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r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iscapac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caso de disponer de ellos, se incluirán indicadores referidos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alud Percib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6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UCTURA DE LA MATRIZ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"/>
          <p:cNvSpPr/>
          <p:nvPr/>
        </p:nvSpPr>
        <p:spPr>
          <a:xfrm>
            <a:off x="324000" y="4861080"/>
            <a:ext cx="8475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V) DETERMINANTES COMPORTAMENTALES DE LA SALUD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e capítulo incluye Indicadores sobre Hábitos y Estilos de Vida en tanto elementos protectores y/o factores de riesgo para la salud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38" name="Group 7"/>
          <p:cNvGrpSpPr/>
          <p:nvPr/>
        </p:nvGrpSpPr>
        <p:grpSpPr>
          <a:xfrm>
            <a:off x="325440" y="1790640"/>
            <a:ext cx="8427960" cy="3163320"/>
            <a:chOff x="325440" y="1790640"/>
            <a:chExt cx="8427960" cy="3163320"/>
          </a:xfrm>
        </p:grpSpPr>
        <p:pic>
          <p:nvPicPr>
            <p:cNvPr id="1439" name="Picture 4" descr=""/>
            <p:cNvPicPr/>
            <p:nvPr/>
          </p:nvPicPr>
          <p:blipFill>
            <a:blip r:embed="rId1"/>
            <a:srcRect l="0" t="0" r="3080" b="2527"/>
            <a:stretch/>
          </p:blipFill>
          <p:spPr>
            <a:xfrm>
              <a:off x="325440" y="1790640"/>
              <a:ext cx="187632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Rectangle 6"/>
            <p:cNvSpPr/>
            <p:nvPr/>
          </p:nvSpPr>
          <p:spPr>
            <a:xfrm>
              <a:off x="2489400" y="1812960"/>
              <a:ext cx="626400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3300"/>
                  </a:solidFill>
                  <a:latin typeface="Arial"/>
                </a:rPr>
                <a:t>IV) DETERMINANTES DEL SISTEMA DE SALUD.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 Este capítulo incluye indicadores: 1) Disponibilidad de Recursos: humanos, financieros y físicos. 2) Cobertura de aseguramiento, prestaciones y servicios de salud. 3) Accesibilidad a los Servicios de Salud en su dimensión económica, geográfica y organizativo- funcional. 4) Utilización de los Servicios de Salud.</a:t>
              </a:r>
              <a:endParaRPr b="0" lang="en-US" sz="20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41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UCTURA DE LA MATRIZ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13"/>
          <p:cNvSpPr/>
          <p:nvPr/>
        </p:nvSpPr>
        <p:spPr>
          <a:xfrm>
            <a:off x="291960" y="2193840"/>
            <a:ext cx="850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pertinencia y factibilidad, se desagregan los indicadores incluidos en cada capítulo a partir de las siguientes variables: </a:t>
            </a: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43" name="Rectangle 14"/>
          <p:cNvSpPr/>
          <p:nvPr/>
        </p:nvSpPr>
        <p:spPr>
          <a:xfrm>
            <a:off x="1552680" y="3328920"/>
            <a:ext cx="6151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) ESTADO DE SALUD DE LA POBLACIÓN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) DETERMINANTES SOCIALES DE LA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I) DETERMINANTES AMBIENTALES DE LA SALUD   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V) DETERMINANTES DEL SISTEMA DE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V) DETERMINANTES COMPORTAMENTALES DE LA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44" name="Group 19"/>
          <p:cNvGrpSpPr/>
          <p:nvPr/>
        </p:nvGrpSpPr>
        <p:grpSpPr>
          <a:xfrm>
            <a:off x="1295280" y="3240000"/>
            <a:ext cx="6629400" cy="3314880"/>
            <a:chOff x="1295280" y="3240000"/>
            <a:chExt cx="6629400" cy="3314880"/>
          </a:xfrm>
        </p:grpSpPr>
        <p:sp>
          <p:nvSpPr>
            <p:cNvPr id="1445" name="8 CuadroTexto"/>
            <p:cNvSpPr/>
            <p:nvPr/>
          </p:nvSpPr>
          <p:spPr>
            <a:xfrm>
              <a:off x="1295280" y="589284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SEXO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6" name="9 CuadroTexto"/>
            <p:cNvSpPr/>
            <p:nvPr/>
          </p:nvSpPr>
          <p:spPr>
            <a:xfrm>
              <a:off x="2562120" y="591336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7" name="10 CuadroTexto"/>
            <p:cNvSpPr/>
            <p:nvPr/>
          </p:nvSpPr>
          <p:spPr>
            <a:xfrm>
              <a:off x="3778200" y="5789520"/>
              <a:ext cx="13222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cc33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ASCENDENCIA ÉTNICA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8" name="11 CuadroTexto"/>
            <p:cNvSpPr/>
            <p:nvPr/>
          </p:nvSpPr>
          <p:spPr>
            <a:xfrm>
              <a:off x="5068800" y="5913360"/>
              <a:ext cx="152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ÁREA GEOGRÁFICA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9" name="AutoShape 37"/>
            <p:cNvSpPr/>
            <p:nvPr/>
          </p:nvSpPr>
          <p:spPr>
            <a:xfrm>
              <a:off x="543708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FOQUE RESIDEN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0" name="AutoShape 38"/>
            <p:cNvSpPr/>
            <p:nvPr/>
          </p:nvSpPr>
          <p:spPr>
            <a:xfrm>
              <a:off x="403560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OQUE ÉTNICO-RA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1" name="AutoShape 39"/>
            <p:cNvSpPr/>
            <p:nvPr/>
          </p:nvSpPr>
          <p:spPr>
            <a:xfrm>
              <a:off x="279072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FOQUE GENERACION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2" name="AutoShape 40"/>
            <p:cNvSpPr/>
            <p:nvPr/>
          </p:nvSpPr>
          <p:spPr>
            <a:xfrm>
              <a:off x="152568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OQUE GÉNERO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3" name="11 CuadroTexto"/>
            <p:cNvSpPr/>
            <p:nvPr/>
          </p:nvSpPr>
          <p:spPr>
            <a:xfrm>
              <a:off x="6249960" y="5913360"/>
              <a:ext cx="16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OCUPACIÓN, NIVEL EDUCATIVO, INGRESOS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4" name="AutoShape 37"/>
            <p:cNvSpPr/>
            <p:nvPr/>
          </p:nvSpPr>
          <p:spPr>
            <a:xfrm>
              <a:off x="661824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CLASE SO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55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ATIFICACIÓN DE LA INFORMACIÓN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56" name="Text Box 4"/>
          <p:cNvSpPr/>
          <p:nvPr/>
        </p:nvSpPr>
        <p:spPr>
          <a:xfrm>
            <a:off x="304920" y="1712880"/>
            <a:ext cx="80010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 Rounded MT Bold"/>
              </a:rPr>
              <a:t>DETERMINANTES DE LAS INEQUIDADES EN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9"/>
          <p:cNvSpPr/>
          <p:nvPr/>
        </p:nvSpPr>
        <p:spPr>
          <a:xfrm>
            <a:off x="249120" y="1393560"/>
            <a:ext cx="866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1. Establecer un vínculo fluido con los administradores de los sistemas de información cuyos datos integrarán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2. Promover la integración de sistemas de información y la incorporación de variables estratificadoras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3. Propiciar una mejora continua de la calidad de los datos con los que se elabore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4. Definir metodológicamente los Indicadores a incluir en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5. Producir informes a partir de los insumos generados por la matriz de indicadores y datos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6. Dar una amplia difusión interna y externa a los Informes que sean definidos como de acceso público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58" name="Text Box 6"/>
          <p:cNvSpPr/>
          <p:nvPr/>
        </p:nvSpPr>
        <p:spPr>
          <a:xfrm>
            <a:off x="304920" y="457200"/>
            <a:ext cx="24382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 Black"/>
              </a:rPr>
              <a:t>ACCIONES</a:t>
            </a:r>
            <a:endParaRPr b="0" lang="en-US" sz="25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59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grpSp>
        <p:nvGrpSpPr>
          <p:cNvPr id="1460" name="Group 9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61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2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3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4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65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6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7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pic>
        <p:nvPicPr>
          <p:cNvPr id="1468" name="Picture 9" descr="Logo mso"/>
          <p:cNvPicPr/>
          <p:nvPr/>
        </p:nvPicPr>
        <p:blipFill>
          <a:blip r:embed="rId1"/>
          <a:stretch/>
        </p:blipFill>
        <p:spPr>
          <a:xfrm>
            <a:off x="2971800" y="533520"/>
            <a:ext cx="3114720" cy="1736640"/>
          </a:xfrm>
          <a:prstGeom prst="rect">
            <a:avLst/>
          </a:prstGeom>
          <a:ln w="0">
            <a:noFill/>
          </a:ln>
        </p:spPr>
      </p:pic>
      <p:sp>
        <p:nvSpPr>
          <p:cNvPr id="1469" name="12 CuadroTexto"/>
          <p:cNvSpPr/>
          <p:nvPr/>
        </p:nvSpPr>
        <p:spPr>
          <a:xfrm>
            <a:off x="228600" y="2590920"/>
            <a:ext cx="86868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99"/>
                </a:solidFill>
                <a:latin typeface="Arial Black"/>
              </a:rPr>
              <a:t>MUCHAS GRACIAS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 Black"/>
              </a:rPr>
              <a:t>SOC. ALEJANDRA TOLEDO VIERA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500" spc="-1" strike="noStrike">
                <a:solidFill>
                  <a:srgbClr val="006600"/>
                </a:solidFill>
                <a:latin typeface="Arial Black"/>
              </a:rPr>
              <a:t>      </a:t>
            </a:r>
            <a:endParaRPr b="0" lang="en-US" sz="15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 Black"/>
              </a:rPr>
              <a:t>atoledo@msp.gub.uy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70" name="Picture 10" descr="http://upload.wikimedia.org/wikipedia/commons/thumb/a/a6/Mate_en_calabaza.jpg/251px-Mate_en_calabaza.jpg"/>
          <p:cNvPicPr/>
          <p:nvPr/>
        </p:nvPicPr>
        <p:blipFill>
          <a:blip r:embed="rId2"/>
          <a:stretch/>
        </p:blipFill>
        <p:spPr>
          <a:xfrm>
            <a:off x="509760" y="4070520"/>
            <a:ext cx="18525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365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66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67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pic>
        <p:nvPicPr>
          <p:cNvPr id="1368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sp>
        <p:nvSpPr>
          <p:cNvPr id="1369" name="Rectangle 7"/>
          <p:cNvSpPr/>
          <p:nvPr/>
        </p:nvSpPr>
        <p:spPr>
          <a:xfrm>
            <a:off x="298080" y="406800"/>
            <a:ext cx="3277440" cy="4291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NTEXTO NACIONAL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5667480" y="4622760"/>
            <a:ext cx="28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guro Nacional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 Salud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71" name="Rectangle 12"/>
          <p:cNvSpPr/>
          <p:nvPr/>
        </p:nvSpPr>
        <p:spPr>
          <a:xfrm>
            <a:off x="5637240" y="4498920"/>
            <a:ext cx="2908440" cy="9781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372" name="Group 30"/>
          <p:cNvGrpSpPr/>
          <p:nvPr/>
        </p:nvGrpSpPr>
        <p:grpSpPr>
          <a:xfrm>
            <a:off x="108000" y="2004840"/>
            <a:ext cx="8496360" cy="3872160"/>
            <a:chOff x="108000" y="2004840"/>
            <a:chExt cx="8496360" cy="3872160"/>
          </a:xfrm>
        </p:grpSpPr>
        <p:sp>
          <p:nvSpPr>
            <p:cNvPr id="1373" name="Text Box 7"/>
            <p:cNvSpPr/>
            <p:nvPr/>
          </p:nvSpPr>
          <p:spPr>
            <a:xfrm>
              <a:off x="5388120" y="2558880"/>
              <a:ext cx="320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</a:rPr>
                <a:t>SISTEMA NACIONAL INTEGRADO DE SALUD</a:t>
              </a:r>
              <a:endParaRPr b="0" lang="en-US" sz="20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4" name="Rectangle 13"/>
            <p:cNvSpPr/>
            <p:nvPr/>
          </p:nvSpPr>
          <p:spPr>
            <a:xfrm>
              <a:off x="5367240" y="2463840"/>
              <a:ext cx="3237120" cy="91908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5" name="Line 14"/>
            <p:cNvSpPr/>
            <p:nvPr/>
          </p:nvSpPr>
          <p:spPr>
            <a:xfrm flipV="1">
              <a:off x="6850080" y="3449160"/>
              <a:ext cx="1440" cy="9176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6" name="Line 15"/>
            <p:cNvSpPr/>
            <p:nvPr/>
          </p:nvSpPr>
          <p:spPr>
            <a:xfrm flipV="1">
              <a:off x="7107120" y="3514320"/>
              <a:ext cx="1800" cy="9176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grpSp>
          <p:nvGrpSpPr>
            <p:cNvPr id="1377" name="Group 29"/>
            <p:cNvGrpSpPr/>
            <p:nvPr/>
          </p:nvGrpSpPr>
          <p:grpSpPr>
            <a:xfrm>
              <a:off x="108000" y="2004840"/>
              <a:ext cx="5405400" cy="3872160"/>
              <a:chOff x="108000" y="2004840"/>
              <a:chExt cx="5405400" cy="3872160"/>
            </a:xfrm>
          </p:grpSpPr>
          <p:sp>
            <p:nvSpPr>
              <p:cNvPr id="1378" name="Text Box 4"/>
              <p:cNvSpPr/>
              <p:nvPr/>
            </p:nvSpPr>
            <p:spPr>
              <a:xfrm>
                <a:off x="108000" y="219060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atención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79" name="Text Box 5"/>
              <p:cNvSpPr/>
              <p:nvPr/>
            </p:nvSpPr>
            <p:spPr>
              <a:xfrm>
                <a:off x="108000" y="353052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gestión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0" name="Line 2"/>
              <p:cNvSpPr/>
              <p:nvPr/>
            </p:nvSpPr>
            <p:spPr>
              <a:xfrm>
                <a:off x="3882960" y="2752560"/>
                <a:ext cx="1416240" cy="9082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1" name="Text Box 6"/>
              <p:cNvSpPr/>
              <p:nvPr/>
            </p:nvSpPr>
            <p:spPr>
              <a:xfrm>
                <a:off x="174600" y="488952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financiamiento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2" name="Oval 9"/>
              <p:cNvSpPr/>
              <p:nvPr/>
            </p:nvSpPr>
            <p:spPr>
              <a:xfrm>
                <a:off x="579600" y="4629240"/>
                <a:ext cx="3639960" cy="124776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3" name="Oval 10"/>
              <p:cNvSpPr/>
              <p:nvPr/>
            </p:nvSpPr>
            <p:spPr>
              <a:xfrm>
                <a:off x="579600" y="3317760"/>
                <a:ext cx="3439800" cy="10494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4" name="Oval 11"/>
              <p:cNvSpPr/>
              <p:nvPr/>
            </p:nvSpPr>
            <p:spPr>
              <a:xfrm>
                <a:off x="646200" y="2004840"/>
                <a:ext cx="3371760" cy="10494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5" name="Line 16"/>
              <p:cNvSpPr/>
              <p:nvPr/>
            </p:nvSpPr>
            <p:spPr>
              <a:xfrm>
                <a:off x="4030560" y="3822840"/>
                <a:ext cx="1482840" cy="270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6" name="Line 17"/>
              <p:cNvSpPr/>
              <p:nvPr/>
            </p:nvSpPr>
            <p:spPr>
              <a:xfrm flipV="1">
                <a:off x="4192560" y="4054320"/>
                <a:ext cx="1039680" cy="10764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</p:grpSp>
      </p:grpSp>
      <p:sp>
        <p:nvSpPr>
          <p:cNvPr id="1387" name="Rectangle 8"/>
          <p:cNvSpPr/>
          <p:nvPr/>
        </p:nvSpPr>
        <p:spPr>
          <a:xfrm>
            <a:off x="250920" y="1094040"/>
            <a:ext cx="77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9933"/>
                </a:solidFill>
                <a:latin typeface="Arial"/>
              </a:rPr>
              <a:t>Estrategia de la Reforma de la Salud (2005):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7"/>
          <p:cNvSpPr/>
          <p:nvPr/>
        </p:nvSpPr>
        <p:spPr>
          <a:xfrm>
            <a:off x="284400" y="424440"/>
            <a:ext cx="4563720" cy="4291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DERECHOS SOCIALES Y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0" name="Rectangle 8"/>
          <p:cNvSpPr/>
          <p:nvPr/>
        </p:nvSpPr>
        <p:spPr>
          <a:xfrm>
            <a:off x="283680" y="97380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Principios y valore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1" name="Rectangle 9"/>
          <p:cNvSpPr/>
          <p:nvPr/>
        </p:nvSpPr>
        <p:spPr>
          <a:xfrm>
            <a:off x="324000" y="1509480"/>
            <a:ext cx="85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a Constitución de la República (1966) establece en su artículo Nº 44:  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2" name="Rectangle 10"/>
          <p:cNvSpPr/>
          <p:nvPr/>
        </p:nvSpPr>
        <p:spPr>
          <a:xfrm>
            <a:off x="928800" y="2076480"/>
            <a:ext cx="7272360" cy="15541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El Estado legislará en todas las cuestiones relacionadas con la salud e higiene públicas, procurando el perfeccionamiento físico, moral y social de todos los habitantes del país. Todos los habitantes tienen el </a:t>
            </a:r>
            <a:r>
              <a:rPr b="1" i="1" lang="es-ES" sz="1600" spc="-1" strike="noStrike">
                <a:solidFill>
                  <a:srgbClr val="c00000"/>
                </a:solidFill>
                <a:latin typeface="Arial"/>
              </a:rPr>
              <a:t>deber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 de cuidar su salud, así como el de asistirse en caso de enfermedad. El Estado proporcionará gratuitamente los medios de prevención y de asistencia tan sólo a los indigentes o carentes de recursos suficientes”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3" name="Rectangle 13"/>
          <p:cNvSpPr/>
          <p:nvPr/>
        </p:nvSpPr>
        <p:spPr>
          <a:xfrm>
            <a:off x="279360" y="3960000"/>
            <a:ext cx="83962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os principios que rigen en la actualidad al Sistema de Salud se encuentran plasmados en la </a:t>
            </a: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Ley 18.211 de Creación del Sistema Nacional Integrado de Salud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(2008)</a:t>
            </a: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u artículo Nº 1 establece: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4" name="Rectangle 15"/>
          <p:cNvSpPr/>
          <p:nvPr/>
        </p:nvSpPr>
        <p:spPr>
          <a:xfrm>
            <a:off x="928800" y="5054760"/>
            <a:ext cx="7272360" cy="10674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La presente ley reglamenta el </a:t>
            </a:r>
            <a:r>
              <a:rPr b="1" i="1" lang="es-ES" sz="1600" spc="-1" strike="noStrike">
                <a:solidFill>
                  <a:srgbClr val="c00000"/>
                </a:solidFill>
                <a:latin typeface="Arial"/>
              </a:rPr>
              <a:t>DERECHO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a la protección de la salud que tienen todos los habitantes residentes en el país y establece las modalidades para su acceso a servicios integrales de salud. Sus disposiciones son de orden público e interés social.”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395" name="Group 9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396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97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98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00" name="Text Box 5"/>
          <p:cNvSpPr/>
          <p:nvPr/>
        </p:nvSpPr>
        <p:spPr>
          <a:xfrm>
            <a:off x="333360" y="2057400"/>
            <a:ext cx="8429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3300"/>
                </a:solidFill>
                <a:uFillTx/>
                <a:latin typeface="Berlin Sans FB"/>
              </a:rPr>
              <a:t>Garantizar las condiciones</a:t>
            </a: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 para que las personas alcancen el más alto nivel posible de bienestar físico, mental y social, sin distinción de raza, religión, ideología política o condición económica o social.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01" name="Text Box 6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ALUD COMO DERECHO HUMANO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Group 11"/>
          <p:cNvGrpSpPr/>
          <p:nvPr/>
        </p:nvGrpSpPr>
        <p:grpSpPr>
          <a:xfrm>
            <a:off x="2085840" y="838080"/>
            <a:ext cx="4952880" cy="1371600"/>
            <a:chOff x="2085840" y="838080"/>
            <a:chExt cx="4952880" cy="1371600"/>
          </a:xfrm>
        </p:grpSpPr>
        <p:sp>
          <p:nvSpPr>
            <p:cNvPr id="1403" name="AutoShape 7"/>
            <p:cNvSpPr/>
            <p:nvPr/>
          </p:nvSpPr>
          <p:spPr>
            <a:xfrm>
              <a:off x="6124320" y="838080"/>
              <a:ext cx="914400" cy="1371600"/>
            </a:xfrm>
            <a:prstGeom prst="downArrow">
              <a:avLst>
                <a:gd name="adj1" fmla="val 50000"/>
                <a:gd name="adj2" fmla="val 37500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04" name="AutoShape 8"/>
            <p:cNvSpPr/>
            <p:nvPr/>
          </p:nvSpPr>
          <p:spPr>
            <a:xfrm>
              <a:off x="2085840" y="838080"/>
              <a:ext cx="914400" cy="1371600"/>
            </a:xfrm>
            <a:prstGeom prst="downArrow">
              <a:avLst>
                <a:gd name="adj1" fmla="val 50000"/>
                <a:gd name="adj2" fmla="val 37500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05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¿QUÉ CONDICIONES?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06" name="Group 24"/>
          <p:cNvGrpSpPr/>
          <p:nvPr/>
        </p:nvGrpSpPr>
        <p:grpSpPr>
          <a:xfrm>
            <a:off x="428760" y="2500200"/>
            <a:ext cx="4190760" cy="4091040"/>
            <a:chOff x="428760" y="2500200"/>
            <a:chExt cx="4190760" cy="4091040"/>
          </a:xfrm>
        </p:grpSpPr>
        <p:sp>
          <p:nvSpPr>
            <p:cNvPr id="1407" name="Text Box 5"/>
            <p:cNvSpPr/>
            <p:nvPr/>
          </p:nvSpPr>
          <p:spPr>
            <a:xfrm>
              <a:off x="428760" y="2500200"/>
              <a:ext cx="419076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cc00"/>
                  </a:solidFill>
                  <a:latin typeface="Arial Black"/>
                </a:rPr>
                <a:t>DETERMINANTES SOCIALES</a:t>
              </a: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pic>
          <p:nvPicPr>
            <p:cNvPr id="1408" name="Picture 23" descr="ANd9GcRzsQDDApUeeVaTuDb-dZNL0wYA7DQBjnnXv9GKtNlyE3mBpDN4uliKfDAJ1A"/>
            <p:cNvPicPr/>
            <p:nvPr/>
          </p:nvPicPr>
          <p:blipFill>
            <a:blip r:embed="rId1"/>
            <a:stretch/>
          </p:blipFill>
          <p:spPr>
            <a:xfrm>
              <a:off x="900000" y="3581280"/>
              <a:ext cx="3276720" cy="300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9" name="Group 27"/>
          <p:cNvGrpSpPr/>
          <p:nvPr/>
        </p:nvGrpSpPr>
        <p:grpSpPr>
          <a:xfrm>
            <a:off x="4624560" y="2514600"/>
            <a:ext cx="4343400" cy="4253040"/>
            <a:chOff x="4624560" y="2514600"/>
            <a:chExt cx="4343400" cy="4253040"/>
          </a:xfrm>
        </p:grpSpPr>
        <p:sp>
          <p:nvSpPr>
            <p:cNvPr id="1410" name="Text Box 5"/>
            <p:cNvSpPr/>
            <p:nvPr/>
          </p:nvSpPr>
          <p:spPr>
            <a:xfrm>
              <a:off x="5091120" y="2514600"/>
              <a:ext cx="29718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cc00"/>
                  </a:solidFill>
                  <a:latin typeface="Arial Black"/>
                </a:rPr>
                <a:t>ATENCIÓN A LA SALUD</a:t>
              </a: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pic>
          <p:nvPicPr>
            <p:cNvPr id="1411" name="Picture 26" descr="ANd9GcR5Tgue6OlRb6qwuHkXUNNXxMGI4NwKM5FfdEvmX6PXYrFfoHSieUMCeUIPXg"/>
            <p:cNvPicPr/>
            <p:nvPr/>
          </p:nvPicPr>
          <p:blipFill>
            <a:blip r:embed="rId2"/>
            <a:stretch/>
          </p:blipFill>
          <p:spPr>
            <a:xfrm>
              <a:off x="4624560" y="3514680"/>
              <a:ext cx="4343400" cy="325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3" name="Text Box 5"/>
          <p:cNvSpPr/>
          <p:nvPr/>
        </p:nvSpPr>
        <p:spPr>
          <a:xfrm>
            <a:off x="333360" y="2057400"/>
            <a:ext cx="8429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Garantizar las condiciones para que las personas alcancen el más alto nivel posible de bienestar físico, mental y social, </a:t>
            </a:r>
            <a:r>
              <a:rPr b="0" lang="es-ES" sz="4000" spc="-1" strike="noStrike" u="sng">
                <a:solidFill>
                  <a:srgbClr val="cc3300"/>
                </a:solidFill>
                <a:uFillTx/>
                <a:latin typeface="Berlin Sans FB"/>
              </a:rPr>
              <a:t>sin distinción de raza, religión, ideología política o condición económica o social</a:t>
            </a: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4" name="Text Box 6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ALUD COMO DERECHO HUMANO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32"/>
          <p:cNvSpPr/>
          <p:nvPr/>
        </p:nvSpPr>
        <p:spPr>
          <a:xfrm>
            <a:off x="5319720" y="2251800"/>
            <a:ext cx="3733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“</a:t>
            </a:r>
            <a:r>
              <a:rPr b="1" lang="es-ES" sz="26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...(evitar las) diferencias injustas o remediables en salud entre grupos de población definidos social, económica, demográfica o geográficamente”*</a:t>
            </a:r>
            <a:endParaRPr b="0" lang="en-US" sz="2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6" name="Rectangle 34"/>
          <p:cNvSpPr/>
          <p:nvPr/>
        </p:nvSpPr>
        <p:spPr>
          <a:xfrm>
            <a:off x="2160000" y="6461640"/>
            <a:ext cx="70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baseline="30000">
                <a:solidFill>
                  <a:srgbClr val="ff6600"/>
                </a:solidFill>
                <a:latin typeface="Berlin Sans FB Demi"/>
                <a:ea typeface="Times New Roman"/>
              </a:rPr>
              <a:t>*</a:t>
            </a:r>
            <a:r>
              <a:rPr b="1" lang="es-ES" sz="14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 Departamento de Ética, Equidad, Comercio y Derechos Humanos de la OMS. </a:t>
            </a:r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17" name="Picture 9" descr=""/>
          <p:cNvPicPr/>
          <p:nvPr/>
        </p:nvPicPr>
        <p:blipFill>
          <a:blip r:embed="rId1"/>
          <a:srcRect l="5498" t="0" r="4695" b="2374"/>
          <a:stretch/>
        </p:blipFill>
        <p:spPr>
          <a:xfrm rot="20370000">
            <a:off x="-228240" y="1904760"/>
            <a:ext cx="5257800" cy="3862440"/>
          </a:xfrm>
          <a:prstGeom prst="rect">
            <a:avLst/>
          </a:prstGeom>
          <a:ln w="0">
            <a:noFill/>
          </a:ln>
        </p:spPr>
      </p:pic>
      <p:sp>
        <p:nvSpPr>
          <p:cNvPr id="1418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QUIDAD EN SALUD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 Box 1"/>
          <p:cNvSpPr/>
          <p:nvPr/>
        </p:nvSpPr>
        <p:spPr>
          <a:xfrm>
            <a:off x="434880" y="3519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20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21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22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23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24" name="Rectangle 7"/>
          <p:cNvSpPr/>
          <p:nvPr/>
        </p:nvSpPr>
        <p:spPr>
          <a:xfrm>
            <a:off x="396720" y="460080"/>
            <a:ext cx="8255160" cy="764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 Rounded MT Bold"/>
              </a:rPr>
              <a:t>AVANZAR HACIA UNA POLÍTICA DE SALUD PÚBLICA ORIENTADA A LA EQUIDAD Y LA ACCIÓN  SOBRE LOS DSS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5" name="Rectangle 9"/>
          <p:cNvSpPr/>
          <p:nvPr/>
        </p:nvSpPr>
        <p:spPr>
          <a:xfrm>
            <a:off x="345960" y="1452600"/>
            <a:ext cx="822960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INCORPORAR LA EQUIDAD Y LOS DSS EN LA PRODUCCIÓN DE INFORMACIÓN DEL MSP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REORIENTACIÓN DE LOS PROGRAMAS DE SALUD PÚBLICA HACIA LA REDUCCIÓN DE LAS INEQUIDADES EN SALUD Y LA ACCIÓN SOBRE LOS DS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REORIENTACIÓN DE LOS PRESTADORES DE SALUD DEL SNIS HACIA LA REDUCCIÓN DE LAS INEQUIDADES EN SALUD Y LA ACCIÓN SOBRE LOS DS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INCORPORAR LA EQUIDAD EN SALUD EN LA DEFINICIÓN DE OBJETIVOS SANITARIOS Y DE SALUD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6" name="Rectangle 34"/>
          <p:cNvSpPr/>
          <p:nvPr/>
        </p:nvSpPr>
        <p:spPr>
          <a:xfrm>
            <a:off x="469800" y="2240640"/>
            <a:ext cx="8217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Berlin Sans FB Demi"/>
                <a:ea typeface="Times New Roman"/>
              </a:rPr>
              <a:t>Construcción de un Sistema de Vigilancia de la Equidad en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8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SISTEMA DE VIGILANCIA DE                               LA EQUIDAD EN SALUD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380880" y="1752480"/>
            <a:ext cx="754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Rounded MT Bold"/>
              </a:rPr>
              <a:t>OBJETIVO:</a:t>
            </a: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0" name="Rectangle 9"/>
          <p:cNvSpPr/>
          <p:nvPr/>
        </p:nvSpPr>
        <p:spPr>
          <a:xfrm>
            <a:off x="560520" y="2590920"/>
            <a:ext cx="8034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161645"/>
                </a:solidFill>
                <a:latin typeface="Arial Rounded MT Bold"/>
              </a:rPr>
              <a:t>Dar visibilidad a las desigualdades en salud producidas socialmente- por ende, injustas y evitables- y a su contexto de producción, es decir, la forma de estratificación vigente, las brechas de poder, recursos y prestigio en la que se sustenta.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13-01-11T01:23:34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