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4949"/>
                </a:solidFill>
                <a:latin typeface="Fresco Pro SemiBold"/>
              </a:rPr>
              <a:t>Click to move the slide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1"/>
          </p:nvPr>
        </p:nvSpPr>
        <p:spPr>
          <a:xfrm>
            <a:off x="401760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760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3B3A9A0B-925E-4D71-8B8D-3B0777E6FC6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6F0D4E3F-9C0F-41A6-894F-957C6EF1DFA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F379637C-33B7-4729-9B8B-D32757822A9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4F35E0D-7C84-4ACB-85E1-9A015A88AB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BFF1C32C-63D0-4EAB-ACE3-EFBE798F3BF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7C1D43A1-0855-4529-986C-0C18EACE4A1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F990AA96-A0A2-41EC-AC64-689B89275CD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68CEB40E-B70C-451B-9D48-8496A28681D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19AAE9BD-EAD3-4712-AF51-86A7198CE69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C66192ED-2570-497A-91F7-CEC3C99B115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048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804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048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804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2920" y="900000"/>
            <a:ext cx="907236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048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804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292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048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804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900000"/>
            <a:ext cx="907236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WPT_01"/>
          <p:cNvPicPr/>
          <p:nvPr/>
        </p:nvPicPr>
        <p:blipFill>
          <a:blip r:embed="rId2"/>
          <a:stretch/>
        </p:blipFill>
        <p:spPr>
          <a:xfrm>
            <a:off x="6418440" y="0"/>
            <a:ext cx="3662280" cy="370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592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4949"/>
                </a:solidFill>
                <a:latin typeface="Fresco Pro SemiBold"/>
              </a:rPr>
              <a:t>Click to edit the title text format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4067280"/>
            <a:ext cx="90723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1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2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3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4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5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6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4949"/>
                </a:solidFill>
                <a:latin typeface="Fresco Pro SemiBold"/>
              </a:rPr>
              <a:t>Click to edit the title text format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1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2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3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4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Fresco Pro Norm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Fresco Pro Norm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pic>
        <p:nvPicPr>
          <p:cNvPr id="41" name="Picture 7" descr="PWPT_03"/>
          <p:cNvPicPr/>
          <p:nvPr/>
        </p:nvPicPr>
        <p:blipFill>
          <a:blip r:embed="rId2"/>
          <a:stretch/>
        </p:blipFill>
        <p:spPr>
          <a:xfrm>
            <a:off x="7845480" y="6251400"/>
            <a:ext cx="2235240" cy="130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1547280"/>
            <a:ext cx="907236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Una organización no gubernamental fundada en 1987 bajo los auspicios del Consejo de Europa-la primera organización en el campo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Un red de Alcaldes, político, no partidista, y de técnico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Hoy en día, una red de 300 autoridades locales de 18 país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7 secciones nacional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www.efus.eu</a:t>
            </a:r>
            <a:endParaRPr b="0" lang="en-US" sz="2800" spc="-1" strike="noStrike">
              <a:solidFill>
                <a:srgbClr val="494949"/>
              </a:solidFill>
              <a:latin typeface="Fresco Pro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46656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Factores Claves</a:t>
            </a:r>
            <a:r>
              <a:rPr b="1" lang="fr-FR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Fresco Pro Normal"/>
              </a:rPr>
              <a:t>* </a:t>
            </a:r>
            <a:r>
              <a:rPr b="0" lang="es-ES" sz="4400" spc="-1" strike="noStrike">
                <a:solidFill>
                  <a:srgbClr val="4d4d4d"/>
                </a:solidFill>
                <a:latin typeface="Fresco Pro Normal"/>
              </a:rPr>
              <a:t>Liderazgo político fuerte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d4d4d"/>
                </a:solidFill>
                <a:latin typeface="Fresco Pro Normal"/>
              </a:rPr>
              <a:t>* Sólida capacidad técnica</a:t>
            </a:r>
            <a:r>
              <a:rPr b="0" lang="fr-FR" sz="4400" spc="-1" strike="noStrike">
                <a:solidFill>
                  <a:srgbClr val="4d4d4d"/>
                </a:solidFill>
                <a:latin typeface="Fresco Pro Normal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d4d4d"/>
                </a:solidFill>
                <a:latin typeface="Fresco Pro Normal"/>
              </a:rPr>
              <a:t>* Basa de </a:t>
            </a:r>
            <a:r>
              <a:rPr b="0" lang="es-HN" sz="4400" spc="-1" strike="noStrike">
                <a:solidFill>
                  <a:srgbClr val="4d4d4d"/>
                </a:solidFill>
                <a:latin typeface="Fresco Pro Normal"/>
              </a:rPr>
              <a:t>evidencia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d4d4d"/>
                </a:solidFill>
                <a:latin typeface="Fresco Pro Normal"/>
              </a:rPr>
              <a:t>* Involucramiento de la poblacion  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664000" y="2570040"/>
            <a:ext cx="5040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494949"/>
                </a:solidFill>
                <a:latin typeface="Fresco Pro Normal"/>
              </a:rPr>
              <a:t>Gracias para su atencion! </a:t>
            </a: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494949"/>
                </a:solidFill>
                <a:latin typeface="Fresco Pro Normal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782fb"/>
                </a:solidFill>
                <a:latin typeface="Fresco Pro Normal"/>
              </a:rPr>
              <a:t>www.efus.eu </a:t>
            </a:r>
            <a:endParaRPr b="0" lang="en-US" sz="40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1871640" y="1403280"/>
            <a:ext cx="6410520" cy="773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Fresco Pro SemiBold"/>
              </a:rPr>
              <a:t>Comitado ejecutivo : 29 municipi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519280" y="2340000"/>
            <a:ext cx="4748400" cy="627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Fresco Pro SemiBold"/>
              </a:rPr>
              <a:t>Secretariat en Par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800360" y="3132000"/>
            <a:ext cx="6325920" cy="735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Fresco Pro SemiBold"/>
              </a:rPr>
              <a:t>300 municipi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 rot="10800000">
            <a:off x="936720" y="1186920"/>
            <a:ext cx="720720" cy="2676600"/>
          </a:xfrm>
          <a:custGeom>
            <a:avLst/>
            <a:gdLst>
              <a:gd name="textAreaLeft" fmla="*/ 96480 w 720720"/>
              <a:gd name="textAreaRight" fmla="*/ 624240 w 720720"/>
              <a:gd name="textAreaTop" fmla="*/ 468360 h 2676600"/>
              <a:gd name="textAreaBottom" fmla="*/ 1940760 h 26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886710"/>
                <a:lnTo>
                  <a:pt x="10730" y="20601"/>
                </a:lnTo>
                <a:lnTo>
                  <a:pt x="0" y="17280"/>
                </a:lnTo>
                <a:lnTo>
                  <a:pt x="10730" y="11961"/>
                </a:lnTo>
                <a:lnTo>
                  <a:pt x="10730" y="14121"/>
                </a:lnTo>
                <a:arcTo wR="21600" hR="7560" stAng="1886710" swAng="-152927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424720" y="1474920"/>
            <a:ext cx="719280" cy="2676240"/>
          </a:xfrm>
          <a:custGeom>
            <a:avLst/>
            <a:gdLst>
              <a:gd name="textAreaLeft" fmla="*/ 96120 w 719280"/>
              <a:gd name="textAreaRight" fmla="*/ 623160 w 719280"/>
              <a:gd name="textAreaTop" fmla="*/ 468360 h 2676240"/>
              <a:gd name="textAreaBottom" fmla="*/ 1940400 h 26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886710"/>
                <a:lnTo>
                  <a:pt x="10730" y="20601"/>
                </a:lnTo>
                <a:lnTo>
                  <a:pt x="0" y="17280"/>
                </a:lnTo>
                <a:lnTo>
                  <a:pt x="10730" y="11961"/>
                </a:lnTo>
                <a:lnTo>
                  <a:pt x="10730" y="14121"/>
                </a:lnTo>
                <a:arcTo wR="21600" hR="7560" stAng="1886710" swAng="-152927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19280" y="539640"/>
            <a:ext cx="82296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782fb"/>
                </a:solidFill>
                <a:latin typeface="Fresco Pro SemiBold"/>
              </a:rPr>
              <a:t>Organizacion del Ef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295280" y="4500720"/>
            <a:ext cx="73454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esco Pro Normal"/>
              </a:rPr>
              <a:t>President</a:t>
            </a:r>
            <a:r>
              <a:rPr b="0" lang="fr-FR" sz="1800" spc="-1" strike="noStrike">
                <a:solidFill>
                  <a:srgbClr val="000000"/>
                </a:solidFill>
                <a:latin typeface="Fresco Pro Normal"/>
              </a:rPr>
              <a:t> : </a:t>
            </a:r>
            <a:r>
              <a:rPr b="1" lang="en-GB" sz="1800" spc="-1" strike="noStrike">
                <a:solidFill>
                  <a:srgbClr val="000000"/>
                </a:solidFill>
                <a:latin typeface="Fresco Pro Normal"/>
              </a:rPr>
              <a:t>Guilherme PINTO</a:t>
            </a:r>
            <a:r>
              <a:rPr b="0" lang="en-GB" sz="1800" spc="-1" strike="noStrike">
                <a:solidFill>
                  <a:srgbClr val="000000"/>
                </a:solidFill>
                <a:latin typeface="Fresco Pro Normal"/>
              </a:rPr>
              <a:t>, Mayor of Matosinhos,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Erich MARKS (Treasurer)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, </a:t>
            </a:r>
            <a:r>
              <a:rPr b="0" lang="en-GB" sz="1800" spc="-1" strike="noStrike">
                <a:solidFill>
                  <a:srgbClr val="4d4d4d"/>
                </a:solidFill>
                <a:latin typeface="Fresco Pro Normal"/>
              </a:rPr>
              <a:t>LPR Crime Prevention Council of the State of Lower Saxony (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Franco CORRADINI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, City of Reggio Emilia (Italy), </a:t>
            </a:r>
            <a:br>
              <a:rPr sz="1800"/>
            </a:b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Gilles NICOLAS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, City of Nantes (Franc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City of Budapest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 (Hungary)</a:t>
            </a:r>
            <a:r>
              <a:rPr b="0" lang="en-GB" sz="1800" spc="-1" strike="noStrike">
                <a:solidFill>
                  <a:srgbClr val="000000"/>
                </a:solidFill>
                <a:latin typeface="Fresco Pro Norm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arte-de-leurope-vierge-7464"/>
          <p:cNvPicPr/>
          <p:nvPr/>
        </p:nvPicPr>
        <p:blipFill>
          <a:blip r:embed="rId1"/>
          <a:stretch/>
        </p:blipFill>
        <p:spPr>
          <a:xfrm>
            <a:off x="576360" y="58680"/>
            <a:ext cx="10585440" cy="75009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3"/>
          <p:cNvSpPr/>
          <p:nvPr/>
        </p:nvSpPr>
        <p:spPr>
          <a:xfrm>
            <a:off x="3095640" y="3563280"/>
            <a:ext cx="1922400" cy="5094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Fresco Pro SemiBold"/>
              </a:rPr>
              <a:t>EF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753080" y="5362920"/>
            <a:ext cx="2111400" cy="13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5f5f5f"/>
                </a:solidFill>
                <a:latin typeface="Fresco Pro SemiBold"/>
              </a:rPr>
              <a:t>Italian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f5f5f"/>
                </a:solidFill>
                <a:latin typeface="Fresco Pro SemiBold"/>
              </a:rPr>
              <a:t>77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f5f5f"/>
                </a:solidFill>
                <a:latin typeface="Fresco Pro SemiBold"/>
              </a:rPr>
              <a:t>Presided by Mode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727280" y="5201640"/>
            <a:ext cx="2082600" cy="170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Spanish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40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Sevil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216000" y="3490920"/>
            <a:ext cx="2160360" cy="170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Portuguese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2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Lo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5589720" y="722880"/>
            <a:ext cx="2286000" cy="2328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328120"/>
              <a:gd name="textAreaBottom" fmla="*/ 2216520 h 2328120"/>
            </a:gdLst>
            <a:ahLst/>
            <a:rect l="textAreaLeft" t="textAreaTop" r="textAreaRight" b="textAreaBottom"/>
            <a:pathLst>
              <a:path w="21600" h="21998">
                <a:moveTo>
                  <a:pt x="3600" y="0"/>
                </a:moveTo>
                <a:arcTo wR="3600" hR="3600" stAng="16200000" swAng="-5400000"/>
                <a:lnTo>
                  <a:pt x="0" y="18398"/>
                </a:lnTo>
                <a:arcTo wR="3600" hR="3600" stAng="10800000" swAng="-5400000"/>
                <a:lnTo>
                  <a:pt x="18000" y="21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SemiBold"/>
              </a:rPr>
              <a:t>Luxemburguese</a:t>
            </a:r>
            <a:r>
              <a:rPr b="0" lang="fr-FR" sz="1800" spc="-1" strike="noStrike">
                <a:solidFill>
                  <a:srgbClr val="4d4d4d"/>
                </a:solidFill>
                <a:latin typeface="Fresco Pro SemiBold"/>
              </a:rPr>
              <a:t> </a:t>
            </a: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All municipalities of Luxembour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Dudel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024360" y="173880"/>
            <a:ext cx="2158920" cy="214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Belgian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2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Molenbeek-Saint-J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287280" y="1330560"/>
            <a:ext cx="2376720" cy="13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French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25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Saint-Herblai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 flipV="1">
            <a:off x="2448000" y="2771280"/>
            <a:ext cx="720720" cy="792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103640" y="2266920"/>
            <a:ext cx="0" cy="12970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4968720" y="2700360"/>
            <a:ext cx="719280" cy="8636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3311640" y="4067280"/>
            <a:ext cx="433440" cy="1296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2447640" y="4067280"/>
            <a:ext cx="647640" cy="288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5843520" y="3589560"/>
            <a:ext cx="2552760" cy="13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SemiBold"/>
              </a:rPr>
              <a:t>German</a:t>
            </a:r>
            <a:r>
              <a:rPr b="0" lang="fr-FR" sz="1800" spc="-1" strike="noStrike">
                <a:solidFill>
                  <a:srgbClr val="4d4d4d"/>
                </a:solidFill>
                <a:latin typeface="Fresco Pro SemiBold"/>
              </a:rPr>
              <a:t> </a:t>
            </a: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0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Stuttg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5040360" y="3995640"/>
            <a:ext cx="792000" cy="216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 flipH="1" flipV="1">
            <a:off x="4392720" y="4067280"/>
            <a:ext cx="503280" cy="1296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7056360" y="6012000"/>
            <a:ext cx="28083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o una federacion de Foros nacionales pero un red europeo de ciu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27280" y="179280"/>
            <a:ext cx="504216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Objetivos del Efus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1280" y="1763640"/>
            <a:ext cx="950436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Fresco Pro Normal"/>
              </a:rPr>
              <a:t>Fortalezer las políticas locales de prevención 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mediante el intercambio de prácticas y experiencias: «ciudades ayudan a las ciudades»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Fresco Pro Normal"/>
              </a:rPr>
              <a:t>Desarrollar y fomentar un enfoque integrado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, basado en el conocimiento, la prevención basada en enfoque de la seguridad respetuosa de los derechos fundamentales - a través de capacitación, asistencia técnica y el fortalecimiento de la base de pruebas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Fresco Pro Normal"/>
              </a:rPr>
              <a:t>Dar una voz al nivel local 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y el fomento de su papel a nivel nacional, europeo e internacional.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Fresco Pro Normal"/>
                <a:ea typeface="Arial Unicode MS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26840" y="208080"/>
            <a:ext cx="6985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Lo que hacemos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000" y="1042920"/>
            <a:ext cx="9882360" cy="65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«Ciudades ayudan a las ciudades» para intercambiar prácticas y conocimientos, a traves :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 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programas europeos, 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cursos de capacitación, 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seminarios sobre políticas, conferencias para el personal político y técnico.</a:t>
            </a:r>
            <a:br>
              <a:rPr sz="2400"/>
            </a:b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"Seguridad, Democracia y Ciudades» conferencias internacionales -- la proxima en Diciembre 2012 cerca de Paris.  “El futuro de la Prevencion”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Más de 400 buenas prácticas disponibles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30 publicaciones sobre diversos temas en diferentes idiomas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Un sitio web multilingüe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-3024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Temas principales 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722840" y="1731960"/>
            <a:ext cx="5357880" cy="35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pel de los funcionarios locales el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u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rro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ta de seres 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uven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36680" y="1716120"/>
            <a:ext cx="484164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orías de seguridad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roga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edo del crimen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andes evento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ción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grantes, las minoría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licía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cele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aci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6000" y="133200"/>
            <a:ext cx="90010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On-going and recent</a:t>
            </a:r>
            <a:r>
              <a:rPr b="1" lang="fr-FR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programmes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6320" y="1692000"/>
            <a:ext cx="960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Knowledge gathering on street violence (EU_RECO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Training local stakeholders to the prevention of re-offending (FALPREV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Safer Drinking Scenes; on Binge Drinking, with French Forum (SDS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Preventing violence in sporting events (GOAL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Surveillance technologies and fundamental rights (SURVEILLE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***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Democracy, Cities and Drugs II (DC&amp;D II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European University Masters in Urban Safety (EEMUS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Citizens, cities, and Video- surveillance (CCTV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6000" y="39528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“</a:t>
            </a: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Una” experiencia europea? </a:t>
            </a:r>
            <a:r>
              <a:rPr b="1" lang="fr-FR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2920" y="1763640"/>
            <a:ext cx="90723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 </a:t>
            </a: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Caracteristicas: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Una politica integral y integrada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Un papel clave para los municipios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Las structuras para articular socios y varios niveles de gobiernos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« partnerships » y coaliciones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323640"/>
            <a:ext cx="90727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Un proceso</a:t>
            </a:r>
            <a:r>
              <a:rPr b="1" lang="fr-FR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1440000" y="1666800"/>
          <a:ext cx="6337080" cy="475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1666800"/>
                    <a:ext cx="63370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5:58:34Z</dcterms:created>
  <dc:creator>Pete Jeffs</dc:creator>
  <dc:description/>
  <dc:language>en-US</dc:language>
  <cp:lastModifiedBy>Elizabeth Johnston</cp:lastModifiedBy>
  <dcterms:modified xsi:type="dcterms:W3CDTF">2011-11-18T02:06:01Z</dcterms:modified>
  <cp:revision>521</cp:revision>
  <dc:subject/>
  <dc:title>Titre Presentation Fresco Semi bold 44pt.</dc:title>
</cp:coreProperties>
</file>