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1E205-3B51-429A-8058-BBE4B5045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0DF0-0163-41A0-93CD-59509241F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F6FA-CF5E-46E7-A965-DC08FBFD9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FE587-A1CA-4A8D-B968-9F45DDD00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816ED-4E7B-4175-8914-C9CBB61E1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FB4B0-AF05-42A7-9380-13DF993CB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CC9A2-5740-4D56-B4A7-7D99B1B88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795E2-409F-41C9-8D62-047356F6D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D4A43-EE7F-4B40-ADD3-6D5C8F900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21A52-7431-4057-89A6-26336B4B0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8FA69-D144-4E37-AE61-E5820977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02B1-14D3-4BFA-B10F-C8C97E2C3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10E0C-114A-4DBD-A867-5FD04C3F8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BCB72-C313-47B1-A6D6-64528A0F4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916CD-0877-4042-87A6-CF5ABBC4B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CE2B3-3A63-4178-9A21-D002DF748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6986C-CF19-4511-BB43-9DEAC6C8D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32A3C-163B-4954-8CAC-EC269855EB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436D3-2F47-4A1D-A7A6-3DE3CF9B6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FF1B2-1690-4540-AD0A-35A07791B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9C984-F008-49D5-8DA7-1531AC8C1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C8660-1610-46C4-B774-FD9007C98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ACB6-85F5-45AC-8C39-B6F28C46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647D6-4124-4D16-A6CA-CE4503440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39287-68C8-4539-8F67-636946665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F0B0E-B6FC-441C-965A-E55FC353F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B7793-9F7E-474C-B87F-D564AEE89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57214-A61F-4B14-B546-91B296474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E8D5DB-D12A-4C5D-B19D-358ED59FD0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C6F08C-F9A1-4E5F-BAC2-C16F4C889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B984F3-EF71-4946-8D83-B87A12FB0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4FBB6-77DA-400E-AE33-E77F99D3F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B7C92-4DAD-48BC-B94D-9DF9A2092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13D10-C533-4E1E-9F6D-50B800383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C643FB-DA35-486F-ACAB-201A5E466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C3F2D-BEA1-4FAD-B691-4DF44DA3C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56D81-7F51-4351-AA0F-89D38268E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B3D13-1D22-462C-A14C-C8306DD0F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791A0-A7C9-4207-BFDF-91BA173FF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FE6EF-6BF0-4004-889F-D504C1FAF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95B1D-DE33-46C5-A644-7E89D928F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4070C6-45F2-4E48-9D4F-DEA560EA50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84D78E-2B45-4450-AA6F-C0E35B2AB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9DF8D-2644-41CA-9787-7EE0AD9E3F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192C8-004C-40EE-B1CE-61A0CD6C9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F5A0D-BB30-41EE-A777-C52F82B06F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8A390-F4EE-4C2B-AE01-01C029FC0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EB9C8-EE1B-4890-8F81-E51421D23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CF3C5-9DB2-42FD-8B36-BC7E50CA1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CA955-5C0F-49EB-BD73-49BDB3F50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7C265-4DF6-4F1B-9318-EF7C727DA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FD9A7-2CA2-47FF-8E2D-3E4A1E76A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5A8EF-97AE-4DA1-81EA-3EAA7A7A1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08040-F648-442B-B791-2AAD6FAFB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BB63B-79AD-4F24-9CC1-66B0F03ED5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CD5C1-1252-4B7B-9C17-C9F0B307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BA53B0-7667-4496-B698-1E35DCC7C5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2D584A-5EDE-42FE-8670-D53D7D6E41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A5DDA-0D05-4922-868E-7E5C17248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CA609A-5FDC-45B4-8046-857E94E9B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8BE79-E87A-47D4-9BB6-13B1A26CA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B9D05-DDC5-4AA0-9AF5-986AF8899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5D3F6-4D16-407F-B8FD-E751C5E25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281A5-4D21-4AC6-876E-5F9CF7455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AC4D2-D692-463D-A519-EBC300D93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4CE004-340A-4BF0-A22D-5C99AE1E0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6EC8-798F-48A2-8E08-C07C6F1F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A83B6-6024-4EDD-B85A-047587672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D485D8-8616-437B-B917-BB48DB84B3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56B80A-7FA1-49B9-8817-7B7B4FBAEC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0B1312-8909-4467-9DF2-B8D66627AA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C09E1-505B-4450-BC54-C45F8A291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8D74F9-06D1-4990-BBDA-F166BEE18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262AF-AD06-41D7-A9EF-353DC620C5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D05AA-EFFA-4DED-8292-9FFE6486F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8CD17-D2D6-4C2F-B238-D88BC4CC7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78939B-4E9B-4E7C-B250-57D75E6B7D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FD4DA-1F89-45A7-BD1C-7102552EF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A4165-0628-4E65-BA25-54C7C27C9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FA7AF-1270-459D-831F-658B2274F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4E3A4-A66C-4E75-A60A-17136F80E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781420-AA00-4AB0-A891-2EC2AE6EAF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C70A33-1501-4572-AD52-807E7C4E58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21864D-7A08-4FBD-9B8B-E92C22658A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44E050-A9D1-4701-A145-8FD8500263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6DC333-E1F3-4433-AA13-AD5F7C45AA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D85E0E-26CA-436E-87BA-CC3C663B0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E89A0C-A91B-43FC-9B00-40628C54E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3DCF-02DF-4FEF-93DE-9D7663F04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F18070-BE73-48D2-A1B4-23F4B0A02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33813-89BD-46C8-89C2-1425A6EF2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23B47-683A-4C69-9701-C940BC742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61FD9-E7C8-4686-8038-B5D8616B3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D661B-B7CF-48DD-A160-204B5273DA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F8C0E8-7EE5-41AC-87AD-5D4CE102B6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A13224-17C6-492B-93C7-DD8D1AAB1F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6B13-EA92-41CC-9690-F6D885E469C7}"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F259-4403-4862-B109-CF227B5D7A4F}"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67EA-324E-4503-9F11-368DC704F27C}" type="slidenum">
              <a:rPr b="0" lang="es-C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E3FE-C1A2-4B33-AD65-43C4CF7870DC}"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F08A-E157-4C33-B4F0-CBD3D500100F}"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8842-84EA-4E26-8C15-212E09973E9C}"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2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FB15-BBD9-4B74-A0A6-B908DB1B83D1}" type="slidenum">
              <a:rPr b="0" lang="es-C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2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DDC3-F7F7-483F-B589-88D81A49B01E}"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920" y="3644640"/>
            <a:ext cx="6477120" cy="1439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Bookman Old Style"/>
              </a:rPr>
              <a:t>INSTITUCIONALIDAD DEMOCRATICA: </a:t>
            </a:r>
            <a:br>
              <a:rPr sz="2400"/>
            </a:br>
            <a:r>
              <a:rPr b="0" lang="es-CR" sz="2400" spc="-1" strike="noStrike">
                <a:solidFill>
                  <a:srgbClr val="000000"/>
                </a:solidFill>
                <a:latin typeface="Bookman Old Style"/>
              </a:rPr>
              <a:t> Transparencia y Lucha contra la corrupción</a:t>
            </a:r>
            <a:endParaRPr b="0" lang="en-US" sz="2400" spc="-1" strike="noStrike">
              <a:solidFill>
                <a:srgbClr val="464653"/>
              </a:solidFill>
              <a:latin typeface="Bookman Old Style"/>
            </a:endParaRPr>
          </a:p>
        </p:txBody>
      </p:sp>
      <p:sp>
        <p:nvSpPr>
          <p:cNvPr id="353" name="PlaceHolder 2"/>
          <p:cNvSpPr>
            <a:spLocks noGrp="1"/>
          </p:cNvSpPr>
          <p:nvPr>
            <p:ph type="subTitle"/>
          </p:nvPr>
        </p:nvSpPr>
        <p:spPr>
          <a:xfrm>
            <a:off x="2339640" y="6215040"/>
            <a:ext cx="6583320" cy="64296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Bookman Old Style"/>
              </a:rPr>
              <a:t>EL PAPEL DE LA OLACEFS EN LA LUCHA CONTRA LA CORRUPCIÓN</a:t>
            </a:r>
            <a:endParaRPr b="0" lang="en-US" sz="2000" spc="-1" strike="noStrike">
              <a:solidFill>
                <a:srgbClr val="000000"/>
              </a:solidFill>
              <a:latin typeface="Gill Sans MT"/>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54" name="Picture 2" descr=""/>
          <p:cNvPicPr/>
          <p:nvPr/>
        </p:nvPicPr>
        <p:blipFill>
          <a:blip r:embed="rId1"/>
          <a:stretch/>
        </p:blipFill>
        <p:spPr>
          <a:xfrm>
            <a:off x="250920" y="260280"/>
            <a:ext cx="2268360" cy="1395360"/>
          </a:xfrm>
          <a:prstGeom prst="rect">
            <a:avLst/>
          </a:prstGeom>
          <a:ln w="0">
            <a:noFill/>
          </a:ln>
        </p:spPr>
      </p:pic>
      <p:sp>
        <p:nvSpPr>
          <p:cNvPr id="355" name="7 CuadroTexto"/>
          <p:cNvSpPr/>
          <p:nvPr/>
        </p:nvSpPr>
        <p:spPr>
          <a:xfrm>
            <a:off x="1258920" y="5028120"/>
            <a:ext cx="7200720" cy="764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400" spc="-1" strike="noStrike">
                <a:solidFill>
                  <a:srgbClr val="000000"/>
                </a:solidFill>
                <a:latin typeface="Arial"/>
              </a:rPr>
              <a:t>“</a:t>
            </a:r>
            <a:r>
              <a:rPr b="0" i="1" lang="es-CR" sz="2000" spc="-1" strike="noStrike">
                <a:solidFill>
                  <a:srgbClr val="000000"/>
                </a:solidFill>
                <a:latin typeface="Arial"/>
              </a:rPr>
              <a:t>El papel de las Entidades Fiscalizadoras Superiores en la lucha contra la corrupción en América La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64653"/>
                </a:solidFill>
                <a:latin typeface="Bookman Old Style"/>
              </a:rPr>
              <a:t>Liderazgo de las EFS</a:t>
            </a:r>
            <a:endParaRPr b="0" lang="en-US" sz="3200" spc="-1" strike="noStrike">
              <a:solidFill>
                <a:srgbClr val="464653"/>
              </a:solidFill>
              <a:latin typeface="Bookman Old Style"/>
            </a:endParaRPr>
          </a:p>
        </p:txBody>
      </p:sp>
      <p:pic>
        <p:nvPicPr>
          <p:cNvPr id="384" name="3 Diagrama" descr=""/>
          <p:cNvPicPr/>
          <p:nvPr/>
        </p:nvPicPr>
        <p:blipFill>
          <a:blip r:embed="rId1"/>
          <a:stretch/>
        </p:blipFill>
        <p:spPr>
          <a:xfrm>
            <a:off x="311040" y="1390680"/>
            <a:ext cx="8643960" cy="50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464653"/>
                </a:solidFill>
                <a:latin typeface="Bookman Old Style"/>
              </a:rPr>
              <a:t>La experiencia de la CGR de Costa Rica: vinculación con el Congreso</a:t>
            </a:r>
            <a:endParaRPr b="0" lang="en-US" sz="3600" spc="-1" strike="noStrike">
              <a:solidFill>
                <a:srgbClr val="464653"/>
              </a:solidFill>
              <a:latin typeface="Bookman Old Style"/>
            </a:endParaRPr>
          </a:p>
        </p:txBody>
      </p:sp>
      <p:pic>
        <p:nvPicPr>
          <p:cNvPr id="386" name="3 Diagrama" descr=""/>
          <p:cNvPicPr/>
          <p:nvPr/>
        </p:nvPicPr>
        <p:blipFill>
          <a:blip r:embed="rId1"/>
          <a:stretch/>
        </p:blipFill>
        <p:spPr>
          <a:xfrm>
            <a:off x="-12600" y="1103400"/>
            <a:ext cx="9186840" cy="575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464653"/>
                </a:solidFill>
                <a:latin typeface="Bookman Old Style"/>
              </a:rPr>
              <a:t>La experiencia de la CGR de Costa Rica: vinculación con el ciudadano</a:t>
            </a:r>
            <a:endParaRPr b="0" lang="en-US" sz="3600" spc="-1" strike="noStrike">
              <a:solidFill>
                <a:srgbClr val="464653"/>
              </a:solidFill>
              <a:latin typeface="Bookman Old Style"/>
            </a:endParaRPr>
          </a:p>
        </p:txBody>
      </p:sp>
      <p:pic>
        <p:nvPicPr>
          <p:cNvPr id="388" name="3 Diagrama" descr=""/>
          <p:cNvPicPr/>
          <p:nvPr/>
        </p:nvPicPr>
        <p:blipFill>
          <a:blip r:embed="rId1"/>
          <a:stretch/>
        </p:blipFill>
        <p:spPr>
          <a:xfrm>
            <a:off x="311040" y="1762200"/>
            <a:ext cx="8601120" cy="497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189000"/>
            <a:ext cx="8086680" cy="107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64653"/>
                </a:solidFill>
                <a:latin typeface="Bookman Old Style"/>
              </a:rPr>
              <a:t>La experiencia de la CGR de Costa Rica: marco legal</a:t>
            </a:r>
            <a:endParaRPr b="0" lang="en-US" sz="3200" spc="-1" strike="noStrike">
              <a:solidFill>
                <a:srgbClr val="464653"/>
              </a:solidFill>
              <a:latin typeface="Bookman Old Style"/>
            </a:endParaRPr>
          </a:p>
        </p:txBody>
      </p:sp>
      <p:pic>
        <p:nvPicPr>
          <p:cNvPr id="390" name="4 Diagrama" descr=""/>
          <p:cNvPicPr/>
          <p:nvPr/>
        </p:nvPicPr>
        <p:blipFill>
          <a:blip r:embed="rId1"/>
          <a:stretch/>
        </p:blipFill>
        <p:spPr>
          <a:xfrm>
            <a:off x="103320" y="1371600"/>
            <a:ext cx="8948520" cy="55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525b7e"/>
                </a:solidFill>
                <a:latin typeface="Bookman Old Style"/>
              </a:rPr>
              <a:t>Agenda</a:t>
            </a:r>
            <a:endParaRPr b="0" lang="en-US" sz="3200" spc="-1" strike="noStrike">
              <a:solidFill>
                <a:srgbClr val="464653"/>
              </a:solidFill>
              <a:latin typeface="Bookman Old Style"/>
            </a:endParaRPr>
          </a:p>
        </p:txBody>
      </p:sp>
      <p:sp>
        <p:nvSpPr>
          <p:cNvPr id="357" name=""/>
          <p:cNvSpPr txBox="1"/>
          <p:nvPr/>
        </p:nvSpPr>
        <p:spPr>
          <a:xfrm>
            <a:off x="468360" y="141300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Introducció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Revisión de prácticas de las EFS de OLACEFS  en lucha contra la corrupció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Institucionalidad creada por la OLACEF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Rendición de cuenta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La experiencia de la CGR de Costa Rica</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Conclusion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Prácticas de las EFS de OLACEFS  en la lucha contra la corrupción</a:t>
            </a:r>
            <a:endParaRPr b="0" lang="en-US" sz="2900" spc="-1" strike="noStrike">
              <a:solidFill>
                <a:srgbClr val="464653"/>
              </a:solidFill>
              <a:latin typeface="Bookman Old Style"/>
            </a:endParaRPr>
          </a:p>
        </p:txBody>
      </p:sp>
      <p:sp>
        <p:nvSpPr>
          <p:cNvPr id="359" name=""/>
          <p:cNvSpPr txBox="1"/>
          <p:nvPr/>
        </p:nvSpPr>
        <p:spPr>
          <a:xfrm>
            <a:off x="468360" y="1413000"/>
            <a:ext cx="8229600" cy="4937040"/>
          </a:xfrm>
          <a:prstGeom prst="rect">
            <a:avLst/>
          </a:prstGeom>
          <a:noFill/>
          <a:ln w="0">
            <a:noFill/>
          </a:ln>
        </p:spPr>
        <p:txBody>
          <a:bodyPr anchor="ctr">
            <a:normAutofit/>
          </a:bodyPr>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Desarrollo de acciones de prevención, investigación y san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Trabajo conjunto y coordinado con los demás organismos, públicos  y privados, que también luchan contra la corrup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Participación de las EFS en el mecanismo de seguimiento de la implementación la Convención de la ONU contra la Corrupción y de la Convención Interamericana contra la Corrup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Aprovechar las herramientas tecnológicas para acercar al ciudadano la información necesaria para conocer el quehacer estatal y cómo se usan los fondos públicos.</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El desarrollo de espacios de denuncia ciudadana para alertar sobre posibles malos manejos de recursos públicos,.</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Modernizar nuestras organizacion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000" y="151920"/>
            <a:ext cx="8218440" cy="9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Institucionalidad creada por la OLACEFS</a:t>
            </a:r>
            <a:endParaRPr b="0" lang="en-US" sz="2900" spc="-1" strike="noStrike">
              <a:solidFill>
                <a:srgbClr val="464653"/>
              </a:solidFill>
              <a:latin typeface="Bookman Old Style"/>
            </a:endParaRPr>
          </a:p>
        </p:txBody>
      </p:sp>
      <p:pic>
        <p:nvPicPr>
          <p:cNvPr id="361" name="3 Diagrama" descr=""/>
          <p:cNvPicPr/>
          <p:nvPr/>
        </p:nvPicPr>
        <p:blipFill>
          <a:blip r:embed="rId1"/>
          <a:stretch/>
        </p:blipFill>
        <p:spPr>
          <a:xfrm>
            <a:off x="828720" y="1268280"/>
            <a:ext cx="8888400" cy="5321520"/>
          </a:xfrm>
          <a:prstGeom prst="rect">
            <a:avLst/>
          </a:prstGeom>
          <a:ln w="0">
            <a:noFill/>
          </a:ln>
        </p:spPr>
      </p:pic>
      <p:pic>
        <p:nvPicPr>
          <p:cNvPr id="362" name="7 Diagrama" descr=""/>
          <p:cNvPicPr/>
          <p:nvPr/>
        </p:nvPicPr>
        <p:blipFill>
          <a:blip r:embed="rId2"/>
          <a:stretch/>
        </p:blipFill>
        <p:spPr>
          <a:xfrm>
            <a:off x="-6480" y="3498840"/>
            <a:ext cx="2872080" cy="20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Herramientas para la lucha contra la corrupción</a:t>
            </a:r>
            <a:endParaRPr b="0" lang="en-US" sz="2900" spc="-1" strike="noStrike">
              <a:solidFill>
                <a:srgbClr val="464653"/>
              </a:solidFill>
              <a:latin typeface="Bookman Old Style"/>
            </a:endParaRPr>
          </a:p>
        </p:txBody>
      </p:sp>
      <p:pic>
        <p:nvPicPr>
          <p:cNvPr id="364" name="3 Diagrama" descr=""/>
          <p:cNvPicPr/>
          <p:nvPr/>
        </p:nvPicPr>
        <p:blipFill>
          <a:blip r:embed="rId1"/>
          <a:stretch/>
        </p:blipFill>
        <p:spPr>
          <a:xfrm>
            <a:off x="0" y="1487520"/>
            <a:ext cx="882000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Qué vamos a entender por rendición de cuentas</a:t>
            </a:r>
            <a:endParaRPr b="0" lang="en-US" sz="29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86000"/>
          </a:bodyPr>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Proceso social y político que coadyuva al fortalecimiento de la vida democrática e institucional. </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No es un proceso separado de las funciones propias de las instituciones, sino que debe ser intrínseco al diseño y funcionamiento de éstas</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Busca satisfacer las necesidades de la ciudadanía, de conocer acerca de la marcha de los asuntos públicos y para incidir sobre aquellas circunstancias o actuaciones que afectan dichos asuntos. </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Poner el énfasis en asuntos estratégicos del Estado para que no nos absorba la gran cantidad y la gran diversidad de temas</a:t>
            </a:r>
            <a:endParaRPr b="0" lang="en-US" sz="2800" spc="-1" strike="noStrike">
              <a:solidFill>
                <a:srgbClr val="000000"/>
              </a:solidFill>
              <a:latin typeface="Gill Sans MT"/>
            </a:endParaRPr>
          </a:p>
          <a:p>
            <a:pPr marL="234360" indent="-23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7" name="3 Diagrama" descr=""/>
          <p:cNvPicPr/>
          <p:nvPr/>
        </p:nvPicPr>
        <p:blipFill>
          <a:blip r:embed="rId1"/>
          <a:stretch/>
        </p:blipFill>
        <p:spPr>
          <a:xfrm>
            <a:off x="4138560" y="2133720"/>
            <a:ext cx="4829400" cy="44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464653"/>
                </a:solidFill>
                <a:latin typeface="Bookman Old Style"/>
              </a:rPr>
              <a:t>¿</a:t>
            </a:r>
            <a:r>
              <a:rPr b="0" lang="es-CR" sz="2400" spc="-1" strike="noStrike">
                <a:solidFill>
                  <a:srgbClr val="464653"/>
                </a:solidFill>
                <a:latin typeface="Bookman Old Style"/>
              </a:rPr>
              <a:t>Qué vamos a entender por rendición de cuentas? </a:t>
            </a:r>
            <a:br>
              <a:rPr sz="2400"/>
            </a:br>
            <a:r>
              <a:rPr b="0" i="1" lang="es-CR" sz="2400" spc="-1" strike="noStrike">
                <a:solidFill>
                  <a:srgbClr val="528693"/>
                </a:solidFill>
                <a:latin typeface="Bookman Old Style"/>
              </a:rPr>
              <a:t>DECLARACIÓN DE ASUNCION</a:t>
            </a:r>
            <a:endParaRPr b="0" lang="en-US" sz="2400" spc="-1" strike="noStrike">
              <a:solidFill>
                <a:srgbClr val="464653"/>
              </a:solidFill>
              <a:latin typeface="Bookman Old Style"/>
            </a:endParaRPr>
          </a:p>
        </p:txBody>
      </p:sp>
      <p:sp>
        <p:nvSpPr>
          <p:cNvPr id="369" name=""/>
          <p:cNvSpPr txBox="1"/>
          <p:nvPr/>
        </p:nvSpPr>
        <p:spPr>
          <a:xfrm>
            <a:off x="395280" y="1341360"/>
            <a:ext cx="842472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a:t>
            </a:r>
            <a:r>
              <a:rPr b="0" lang="es-CR" sz="2800" spc="-1" strike="noStrike">
                <a:solidFill>
                  <a:srgbClr val="000000"/>
                </a:solidFill>
                <a:latin typeface="Aparajita"/>
                <a:ea typeface="Aparajita"/>
              </a:rPr>
              <a:t>La rendición de cuentas es un aspecto fundamental para la gobernabilidad de los países, entendida  como la capacidad de los gobiernos para usar eficazmente los recursos públicos en la satisfacción de las necesidades comunes, y constituye un principio de la vida pública, mediante el cual, los funcionarios depositarios de la voluntad del pueblo están obligados a informar, justificar y responsabilizarse públicamente por sus actuaciones. Se constituye por mecanismos políticos, sociales y jurídicos de control vinculados en forma de redes de intercambio.”</a:t>
            </a: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parajita"/>
                <a:ea typeface="Aparajita"/>
              </a:rPr>
              <a:t>CONDICIONES.</a:t>
            </a:r>
            <a:r>
              <a:rPr b="0" lang="es-CR" sz="2800" spc="-1" strike="noStrike">
                <a:solidFill>
                  <a:srgbClr val="000000"/>
                </a:solidFill>
                <a:latin typeface="Aparajita"/>
                <a:ea typeface="Aparajita"/>
              </a:rPr>
              <a:t> Un sistema integrado de rendición de cuentas/ El desarrollo de instrumentos y sistemas de información/ Un marco legal</a:t>
            </a: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0" name="4 Diagrama" descr=""/>
          <p:cNvPicPr/>
          <p:nvPr/>
        </p:nvPicPr>
        <p:blipFill>
          <a:blip r:embed="rId1"/>
          <a:stretch/>
        </p:blipFill>
        <p:spPr>
          <a:xfrm>
            <a:off x="2846520" y="5589720"/>
            <a:ext cx="7559640" cy="385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Principios de la Declaración de Asunción</a:t>
            </a:r>
            <a:endParaRPr b="0" lang="en-US" sz="2900" spc="-1" strike="noStrike">
              <a:solidFill>
                <a:srgbClr val="464653"/>
              </a:solidFill>
              <a:latin typeface="Bookman Old Style"/>
            </a:endParaRPr>
          </a:p>
        </p:txBody>
      </p:sp>
      <p:pic>
        <p:nvPicPr>
          <p:cNvPr id="372" name="3 Diagrama" descr=""/>
          <p:cNvPicPr/>
          <p:nvPr/>
        </p:nvPicPr>
        <p:blipFill>
          <a:blip r:embed="rId1"/>
          <a:stretch/>
        </p:blipFill>
        <p:spPr>
          <a:xfrm>
            <a:off x="396720" y="1627200"/>
            <a:ext cx="8210880" cy="50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11 Rectángulo redondeado"/>
          <p:cNvSpPr/>
          <p:nvPr/>
        </p:nvSpPr>
        <p:spPr>
          <a:xfrm rot="5400000">
            <a:off x="4283640" y="1521360"/>
            <a:ext cx="576360" cy="9144000"/>
          </a:xfrm>
          <a:custGeom>
            <a:avLst/>
            <a:gdLst>
              <a:gd name="textAreaLeft" fmla="*/ 28080 w 576360"/>
              <a:gd name="textAreaRight" fmla="*/ 548280 w 576360"/>
              <a:gd name="textAreaTop" fmla="*/ 28080 h 9144000"/>
              <a:gd name="textAreaBottom" fmla="*/ 9115920 h 9144000"/>
            </a:gdLst>
            <a:ahLst/>
            <a:rect l="textAreaLeft" t="textAreaTop" r="textAreaRight" b="textAreaBottom"/>
            <a:pathLst>
              <a:path w="21600" h="342485">
                <a:moveTo>
                  <a:pt x="3600" y="0"/>
                </a:moveTo>
                <a:arcTo wR="3600" hR="3600" stAng="16200000" swAng="-5400000"/>
                <a:lnTo>
                  <a:pt x="0" y="338885"/>
                </a:lnTo>
                <a:arcTo wR="3600" hR="3600" stAng="10800000" swAng="-5400000"/>
                <a:lnTo>
                  <a:pt x="18000" y="342485"/>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10 Rectángulo redondeado"/>
          <p:cNvSpPr/>
          <p:nvPr/>
        </p:nvSpPr>
        <p:spPr>
          <a:xfrm>
            <a:off x="179280" y="1413000"/>
            <a:ext cx="576360" cy="4032000"/>
          </a:xfrm>
          <a:custGeom>
            <a:avLst/>
            <a:gdLst>
              <a:gd name="textAreaLeft" fmla="*/ 28080 w 576360"/>
              <a:gd name="textAreaRight" fmla="*/ 548280 w 576360"/>
              <a:gd name="textAreaTop" fmla="*/ 28080 h 4032000"/>
              <a:gd name="textAreaBottom" fmla="*/ 4003920 h 4032000"/>
            </a:gdLst>
            <a:ahLst/>
            <a:rect l="textAreaLeft" t="textAreaTop" r="textAreaRight" b="textAreaBottom"/>
            <a:pathLst>
              <a:path w="21600" h="151025">
                <a:moveTo>
                  <a:pt x="3600" y="0"/>
                </a:moveTo>
                <a:arcTo wR="3600" hR="3600" stAng="16200000" swAng="-5400000"/>
                <a:lnTo>
                  <a:pt x="0" y="147425"/>
                </a:lnTo>
                <a:arcTo wR="3600" hR="3600" stAng="10800000" swAng="-5400000"/>
                <a:lnTo>
                  <a:pt x="18000" y="151025"/>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9 Rectángulo redondeado"/>
          <p:cNvSpPr/>
          <p:nvPr/>
        </p:nvSpPr>
        <p:spPr>
          <a:xfrm>
            <a:off x="8388360" y="1484280"/>
            <a:ext cx="576360" cy="4032360"/>
          </a:xfrm>
          <a:custGeom>
            <a:avLst/>
            <a:gdLst>
              <a:gd name="textAreaLeft" fmla="*/ 28080 w 576360"/>
              <a:gd name="textAreaRight" fmla="*/ 548280 w 576360"/>
              <a:gd name="textAreaTop" fmla="*/ 28080 h 4032360"/>
              <a:gd name="textAreaBottom" fmla="*/ 4004280 h 4032360"/>
            </a:gdLst>
            <a:ahLst/>
            <a:rect l="textAreaLeft" t="textAreaTop" r="textAreaRight" b="textAreaBottom"/>
            <a:pathLst>
              <a:path w="21600" h="151038">
                <a:moveTo>
                  <a:pt x="3600" y="0"/>
                </a:moveTo>
                <a:arcTo wR="3600" hR="3600" stAng="16200000" swAng="-5400000"/>
                <a:lnTo>
                  <a:pt x="0" y="147438"/>
                </a:lnTo>
                <a:arcTo wR="3600" hR="3600" stAng="10800000" swAng="-5400000"/>
                <a:lnTo>
                  <a:pt x="18000" y="151038"/>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3 Diagrama" descr=""/>
          <p:cNvPicPr/>
          <p:nvPr/>
        </p:nvPicPr>
        <p:blipFill>
          <a:blip r:embed="rId1"/>
          <a:stretch/>
        </p:blipFill>
        <p:spPr>
          <a:xfrm>
            <a:off x="822240" y="1371600"/>
            <a:ext cx="7371000" cy="4121280"/>
          </a:xfrm>
          <a:prstGeom prst="rect">
            <a:avLst/>
          </a:prstGeom>
          <a:ln w="0">
            <a:noFill/>
          </a:ln>
        </p:spPr>
      </p:pic>
      <p:sp>
        <p:nvSpPr>
          <p:cNvPr id="377" name="4 CuadroTexto"/>
          <p:cNvSpPr/>
          <p:nvPr/>
        </p:nvSpPr>
        <p:spPr>
          <a:xfrm rot="5400000">
            <a:off x="6377040" y="3102480"/>
            <a:ext cx="46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alibri"/>
              </a:rPr>
              <a:t>Liderazgo de las EFS</a:t>
            </a:r>
            <a:endParaRPr b="0" lang="en-US" sz="3200" spc="-1" strike="noStrike">
              <a:solidFill>
                <a:srgbClr val="000000"/>
              </a:solidFill>
              <a:latin typeface="Arial"/>
            </a:endParaRPr>
          </a:p>
        </p:txBody>
      </p:sp>
      <p:sp>
        <p:nvSpPr>
          <p:cNvPr id="378" name="5 CuadroTexto"/>
          <p:cNvSpPr/>
          <p:nvPr/>
        </p:nvSpPr>
        <p:spPr>
          <a:xfrm>
            <a:off x="5946840" y="1916280"/>
            <a:ext cx="1555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Adecu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interac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estos actores</a:t>
            </a:r>
            <a:endParaRPr b="0" lang="en-US" sz="1800" spc="-1" strike="noStrike">
              <a:solidFill>
                <a:srgbClr val="000000"/>
              </a:solidFill>
              <a:latin typeface="Arial"/>
            </a:endParaRPr>
          </a:p>
        </p:txBody>
      </p:sp>
      <p:sp>
        <p:nvSpPr>
          <p:cNvPr id="379" name="6 Cerrar llave"/>
          <p:cNvSpPr/>
          <p:nvPr/>
        </p:nvSpPr>
        <p:spPr>
          <a:xfrm>
            <a:off x="5364000" y="1628640"/>
            <a:ext cx="360360" cy="1440000"/>
          </a:xfrm>
          <a:custGeom>
            <a:avLst/>
            <a:gdLst>
              <a:gd name="textAreaLeft" fmla="*/ 0 w 360360"/>
              <a:gd name="textAreaRight" fmla="*/ 129960 w 360360"/>
              <a:gd name="textAreaTop" fmla="*/ 9360 h 1440000"/>
              <a:gd name="textAreaBottom" fmla="*/ 1430640 h 144000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28440">
            <a:solidFill>
              <a:srgbClr val="638c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7 CuadroTexto"/>
          <p:cNvSpPr/>
          <p:nvPr/>
        </p:nvSpPr>
        <p:spPr>
          <a:xfrm>
            <a:off x="334080" y="5877000"/>
            <a:ext cx="87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Calibri"/>
              </a:rPr>
              <a:t>Responsabilidad y compromiso de los jerarcas y funcionarios públicos</a:t>
            </a:r>
            <a:endParaRPr b="0" lang="en-US" sz="2400" spc="-1" strike="noStrike">
              <a:solidFill>
                <a:srgbClr val="000000"/>
              </a:solidFill>
              <a:latin typeface="Arial"/>
            </a:endParaRPr>
          </a:p>
        </p:txBody>
      </p:sp>
      <p:sp>
        <p:nvSpPr>
          <p:cNvPr id="381" name="8 CuadroTexto"/>
          <p:cNvSpPr/>
          <p:nvPr/>
        </p:nvSpPr>
        <p:spPr>
          <a:xfrm rot="16200000">
            <a:off x="-1368720" y="3052080"/>
            <a:ext cx="361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Calibri"/>
              </a:rPr>
              <a:t>Participación ciudadana</a:t>
            </a:r>
            <a:endParaRPr b="0" lang="en-US" sz="2800" spc="-1" strike="noStrike">
              <a:solidFill>
                <a:srgbClr val="000000"/>
              </a:solidFill>
              <a:latin typeface="Arial"/>
            </a:endParaRPr>
          </a:p>
        </p:txBody>
      </p:sp>
      <p:sp>
        <p:nvSpPr>
          <p:cNvPr id="382" name="12 CuadroTexto"/>
          <p:cNvSpPr/>
          <p:nvPr/>
        </p:nvSpPr>
        <p:spPr>
          <a:xfrm>
            <a:off x="709200" y="189000"/>
            <a:ext cx="789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alibri"/>
              </a:rPr>
              <a:t>SISTEMA DE RENDICIÓN DE CUENTAS OLAC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6:51:12Z</dcterms:created>
  <dc:creator>guillermo.matamoros</dc:creator>
  <dc:description/>
  <dc:language>en-US</dc:language>
  <cp:lastModifiedBy>Maria Eugenia Cebrian</cp:lastModifiedBy>
  <dcterms:modified xsi:type="dcterms:W3CDTF">2011-11-23T10:07:34Z</dcterms:modified>
  <cp:revision>37</cp:revision>
  <dc:subject/>
  <dc:title>Diapositiva 1</dc:title>
</cp:coreProperties>
</file>