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29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image11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618-A9AB-458E-A1BA-BF3E80237F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CCA-8E24-46AF-BF5D-A04F5ABD5C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D91-3249-402E-907C-47318FA1A33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6B2-2ED2-458B-BB50-B801E854ED4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C6DF-3C06-4999-9DA2-4CCC25EE875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671-4E5B-43DE-BDD2-B5E34B7FD33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314-A891-4838-B250-46A2DB9199B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DE4-8CD1-4EA2-97EB-DF673630446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3884760" y="8682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3631C6-AC86-426B-B06F-136BE975AF1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5589-9C4A-4133-BA33-5343849C475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6B9-FE12-4625-B1BA-260C3DADE4E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917640" y="677880"/>
            <a:ext cx="49752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896760" y="4357440"/>
            <a:ext cx="501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917640" y="676440"/>
            <a:ext cx="49734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896760" y="4357800"/>
            <a:ext cx="50119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405-EC5B-4A1A-BC5A-219510B4B63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78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FB0-6AE4-434E-9384-4B705BA23CC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C415-473D-40AF-BBA6-4241FBF0DF1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D91-F37E-4169-A4CF-C9495A914F4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ECE-22E4-465A-8EF2-EEE86A17F31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B1EC-A04E-43F5-8BCF-BA2962FC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3919-BB2A-4247-ABFD-01A9ED75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B961-EC0A-453B-BC2D-4F35FED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3017-51FF-4B4F-A546-0B61E82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C3D85-34FC-4B04-9E93-021182C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ED1A-C2E3-4F7F-B0E6-446542D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2F2F-1747-47E3-9F9C-B434C3C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2F16F-4F48-4190-BD23-DF6DB92E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59A2-9ABD-4810-B1C2-61E45DEC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B87A-9A60-4B07-B09A-7D27EE1C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26B2-A28C-4859-A14B-A6A75AD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72EB-989D-4142-B8C5-BC2A8B7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26AE7-B136-4410-B7AD-C337751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1922-813F-489B-B293-B9F8D45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6F664-1DA0-4A0D-B3F0-B2D1C8D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FA5C9-577A-42EC-8EB7-0A844F0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7ED7-1D3E-40CD-9777-8BEB1B3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01F5-A259-4E23-B0E4-3FCE407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C083-AA66-4C4F-955C-DEA427A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69F54-4D30-411D-8F22-2150CFA8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6E6AC-85C1-4644-9C35-E7BAD5F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5494-094A-4193-8B8E-4AF9FACF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5641-0494-4F49-91B3-A1A65ED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7185-D706-4217-927F-FBF4FE1A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5400-A916-4648-AEA9-1AF87F2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332E-5FA8-46AC-BE90-D8D538E8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A5DD2-AB67-4E24-A6FF-AF312B2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6659-9571-4CB6-8985-5AECB00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FECF-1CDA-44F8-B17D-FE5ABA0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90D9C-BA60-453E-8812-C01C4C5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158-4BDE-4755-AE8A-36CE7715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A472-B00A-4ACC-BEB7-5288D3C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3B6C-9448-4805-BA4D-017DD8AC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1C229-1D01-40CF-8D13-3FFFF074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20909-6E88-40A3-BFCA-CB8D25CA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584DF-561C-46AB-96E2-77A0CCF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F933B-D197-42B2-A800-7D9814A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69291-2CA7-4E10-AC01-CD524EC0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0A607-8AD5-4DCC-A6A0-C9E392E8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030B8-1A6B-413C-B17F-0E0504CE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238B0-1520-4635-8878-02D3F892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EAF-60CE-4D6F-AFD5-7EFE63B7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98AA-2ECD-493C-AA3D-A6FA645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33C0-6355-4E86-B714-EEB72D7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768DC-2B39-4280-BD0C-F926929E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FB43-6110-4ABD-B53D-C62A112C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D97B-4DB7-4E50-AF54-C09A3DD2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C259-236E-411E-B002-54DEA389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314CA-7A26-4F17-A8A9-0D5D7E7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19B03-2236-4721-87F8-7A3C718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FA17-92DB-4D14-BA1E-D5A4421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B34B-2F86-466C-9564-E4E6106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A9A-D655-4C5F-82D0-2EEEB435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BE405-E8A0-43BC-9A2F-1985A42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D31A5-5965-4863-9B1E-EA5CE7F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0ADE-33C3-4FED-BE99-11383BCE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E1B0C-EA85-4BAC-BF65-2341703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B58A9-E95A-451E-8181-05CA8FB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1EA4-1CB0-4EA3-8B8E-674203B1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E823F-3E7F-48E7-9D09-58DF90E7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3B35F-E881-4857-9E79-7B422B2A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B1E5-DB5E-4CBF-B94C-7E77A76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7EA19-32B0-4377-81C5-C189B84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49D-5242-4C74-A1D4-C10AA0B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29C7-BF51-4325-BD7B-D04CBEC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0FC3-16A5-4A6A-A481-4959288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CF77-C7F4-4951-B28E-0F22BC0F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ED5C-649A-4AB1-9028-0A41F72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B9C14-78ED-48D0-9C62-1041A57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7200-5887-4F69-9688-F78AF17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00B7B-2CAB-4777-ADC6-E3E64B1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0FD09-A0ED-491E-AC77-704C8FF9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3EB5-05E6-47DF-97CF-82F72A97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B2C-23AD-4D3A-BC38-216D6D2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71F-C501-4365-BF6D-FC81BA46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221-7B74-4C15-95CD-1BA6928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928-295A-437E-BA2D-75AD64F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E5F-A112-424E-93D7-BD5CD70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2F5-7520-4063-91C4-A50B248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575-C374-4F2E-BEF3-47DA6909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D84-9EA4-4D4B-9DCC-ED9C1C05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E10-79E7-4482-8FD3-48CCDC1C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F59C-B980-4E15-B452-1264501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E219-8291-4508-AF33-D6FAE78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3C0-06C8-474D-B1D5-9AD2D45D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49A-DEAE-4EAC-BEF6-A5886A01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F84-EF03-4289-AD91-6A33FDFC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CC53-C8A7-456E-929B-BC62660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ECFB-1BA7-4D52-82DA-662332B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A725-03B5-417B-9218-673F743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EF59-8B91-4AD1-9F7E-5D588A0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1E6-2AC1-4136-835C-60E493C1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D23B-309F-4C74-AAF6-875D8AF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3CF2-6079-43B9-88D0-D3D6502C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736D-457F-498F-A596-396CEE05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37BA-4C3E-4C63-9041-22EE5ABD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A185-7DE1-4EA3-AFE4-EE91EF5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0D79-50EF-46B8-8DD9-C4C52D35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472D-55B2-4067-8126-D4E1D6A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47FD-0E2A-44DC-B6D1-C54EEB1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67CB-21FF-4EE6-A261-3420629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7570-04BC-45C5-88DC-180C401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FD5F-8C39-428C-A10F-CD7BB73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0F63-1AEA-42D9-A6FA-550E9D55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D440-0966-4304-9C88-1D16B965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4E08-5F1C-457B-B7E4-733ADEA9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1279-D2AB-4637-8CEB-847F24F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54E7-257E-4F25-8256-706E8B5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4829-0AFA-41E0-AF19-9650ADCB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F769-FF18-4E21-A77B-8FB76A0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419C-BCC6-4356-AE11-3908438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D2BB-0E7D-4354-929D-8452FE6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A61A-5E86-4755-9D82-1A3DC7A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6D91-26C3-43F3-8C5A-C6F6D3D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457E-55FA-4731-9127-0C855C2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F4A6-DA46-4449-9040-841A36D1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8725-B2BA-4783-90D0-D4B8517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42BD-D8AF-489E-AFC4-7AD01549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80FB-E0E7-4AA6-9F73-0E57ED7C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AE71-7AB4-4B41-B801-498E59D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5A06-A334-4450-9589-E430D7E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23A1-ECD1-4412-ADF9-75435E8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2A85-8256-421D-8675-C441C07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C0CDB-E041-452A-920D-C58332D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D2AF-26AA-4278-9988-A392BBA0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F21D-4ECE-4A45-B2C6-76DCF8B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8E9F-DD9A-475E-9524-DFD20D64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7095-A6AD-4EED-B54E-FFC65D07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A1CD-A412-43D3-AFCE-70CCC68C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A365-E6DF-4363-82FD-5E41BF48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C27C-B996-4AFC-80BD-3177D56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A553-C8E8-4A54-982C-1AD46BB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1120" y="144360"/>
            <a:ext cx="758880" cy="515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1042920" y="609480"/>
            <a:ext cx="8101080" cy="82800"/>
          </a:xfrm>
          <a:prstGeom prst="rect">
            <a:avLst/>
          </a:prstGeom>
          <a:ln w="0">
            <a:noFill/>
          </a:ln>
        </p:spPr>
      </p:pic>
      <p:sp>
        <p:nvSpPr>
          <p:cNvPr id="2" name="Text Box 3"/>
          <p:cNvSpPr/>
          <p:nvPr/>
        </p:nvSpPr>
        <p:spPr>
          <a:xfrm>
            <a:off x="4067280" y="76320"/>
            <a:ext cx="489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Arial Unicode MS"/>
                <a:ea typeface="Arial"/>
              </a:rPr>
              <a:t>Controloría-General de la Uni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91000" y="2133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3581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B24-22D0-4EFC-8EE2-63E295214A65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CAD-52D0-44B1-83B7-7098AFFB165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7EA-F29B-496E-A188-ADFF0A489C8D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FBD-0403-4CB9-BD0B-31163014511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E29F-5C4E-4378-86CE-F700F83E781A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326-0CF9-4888-BB5C-8879120F05E2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0BED-521F-4661-83DC-5D0AE4E6FC17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4212-E35C-4108-8930-99D4FCDABD76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D7B-FBBC-4EC5-B430-10FCEFA384E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8267-1F20-4B79-91D4-2A575513F97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3E10-867B-47EE-B71B-569DB93392BD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El papel de la Contraloría-General de la Unión de Brasil (CGU) en la promoción de la transparencia y la lucha contra la corrupció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708360" y="5589720"/>
            <a:ext cx="49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Gilson Libório de Oliveira Mendes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Director de Informacione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574560" y="4724280"/>
            <a:ext cx="1549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01920" y="976320"/>
            <a:ext cx="2817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pras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340000" y="3886200"/>
            <a:ext cx="63468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R$ 350 b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15 millones de it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533520" y="2532240"/>
            <a:ext cx="40892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27280" y="836640"/>
            <a:ext cx="245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onitore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65040" y="2176560"/>
            <a:ext cx="8425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179280" y="5402160"/>
            <a:ext cx="61214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Fracciona el G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0" t="35996" r="38164" b="5250"/>
          <a:stretch/>
        </p:blipFill>
        <p:spPr>
          <a:xfrm>
            <a:off x="144360" y="1866960"/>
            <a:ext cx="8820360" cy="489096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442764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ciona el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upo 1"/>
          <p:cNvGrpSpPr/>
          <p:nvPr/>
        </p:nvGrpSpPr>
        <p:grpSpPr>
          <a:xfrm>
            <a:off x="3276720" y="5445000"/>
            <a:ext cx="2660040" cy="936720"/>
            <a:chOff x="3276720" y="5445000"/>
            <a:chExt cx="2660040" cy="936720"/>
          </a:xfrm>
        </p:grpSpPr>
        <p:sp>
          <p:nvSpPr>
            <p:cNvPr id="642" name="Retângulo 4"/>
            <p:cNvSpPr/>
            <p:nvPr/>
          </p:nvSpPr>
          <p:spPr>
            <a:xfrm>
              <a:off x="3276720" y="5445000"/>
              <a:ext cx="241308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CaixaDeTexto 5"/>
            <p:cNvSpPr/>
            <p:nvPr/>
          </p:nvSpPr>
          <p:spPr>
            <a:xfrm>
              <a:off x="3343680" y="5743440"/>
              <a:ext cx="259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upo 2"/>
          <p:cNvGrpSpPr/>
          <p:nvPr/>
        </p:nvGrpSpPr>
        <p:grpSpPr>
          <a:xfrm>
            <a:off x="6227640" y="5489640"/>
            <a:ext cx="2305080" cy="892080"/>
            <a:chOff x="6227640" y="5489640"/>
            <a:chExt cx="2305080" cy="892080"/>
          </a:xfrm>
        </p:grpSpPr>
        <p:sp>
          <p:nvSpPr>
            <p:cNvPr id="645" name="Retângulo 8"/>
            <p:cNvSpPr/>
            <p:nvPr/>
          </p:nvSpPr>
          <p:spPr>
            <a:xfrm>
              <a:off x="6227640" y="5489640"/>
              <a:ext cx="2305080" cy="89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CaixaDeTexto 6"/>
            <p:cNvSpPr/>
            <p:nvPr/>
          </p:nvSpPr>
          <p:spPr>
            <a:xfrm>
              <a:off x="6408000" y="5745240"/>
              <a:ext cx="197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completo"/>
          <p:cNvPicPr/>
          <p:nvPr/>
        </p:nvPicPr>
        <p:blipFill>
          <a:blip r:embed="rId1"/>
          <a:stretch/>
        </p:blipFill>
        <p:spPr>
          <a:xfrm>
            <a:off x="755640" y="1844640"/>
            <a:ext cx="7956720" cy="50133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79280" y="5402160"/>
            <a:ext cx="84250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Conspiración entre Lici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859280" y="907920"/>
            <a:ext cx="3959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piración entre Lic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1"/>
          <a:srcRect l="746" t="16196" r="4643" b="14144"/>
          <a:stretch/>
        </p:blipFill>
        <p:spPr>
          <a:xfrm>
            <a:off x="250920" y="1784520"/>
            <a:ext cx="86421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227640" y="4221000"/>
            <a:ext cx="24066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724360" y="2276640"/>
            <a:ext cx="2951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5724360" y="6308640"/>
            <a:ext cx="2951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104760" y="1903320"/>
            <a:ext cx="9039240" cy="48387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Exemplo-T17"/>
          <p:cNvPicPr/>
          <p:nvPr/>
        </p:nvPicPr>
        <p:blipFill>
          <a:blip r:embed="rId1"/>
          <a:stretch/>
        </p:blipFill>
        <p:spPr>
          <a:xfrm>
            <a:off x="250920" y="1368360"/>
            <a:ext cx="8569080" cy="5445360"/>
          </a:xfrm>
          <a:prstGeom prst="rect">
            <a:avLst/>
          </a:prstGeom>
          <a:ln w="0">
            <a:noFill/>
          </a:ln>
        </p:spPr>
      </p:pic>
      <p:grpSp>
        <p:nvGrpSpPr>
          <p:cNvPr id="658" name="Grupo 10"/>
          <p:cNvGrpSpPr/>
          <p:nvPr/>
        </p:nvGrpSpPr>
        <p:grpSpPr>
          <a:xfrm>
            <a:off x="6300720" y="3716280"/>
            <a:ext cx="984240" cy="609480"/>
            <a:chOff x="6300720" y="3716280"/>
            <a:chExt cx="984240" cy="609480"/>
          </a:xfrm>
        </p:grpSpPr>
        <p:sp>
          <p:nvSpPr>
            <p:cNvPr id="659" name="Rounded Rectangular Callout 17"/>
            <p:cNvSpPr/>
            <p:nvPr/>
          </p:nvSpPr>
          <p:spPr>
            <a:xfrm>
              <a:off x="6300720" y="38685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18" descr=""/>
            <p:cNvPicPr/>
            <p:nvPr/>
          </p:nvPicPr>
          <p:blipFill>
            <a:blip r:embed="rId2"/>
            <a:stretch/>
          </p:blipFill>
          <p:spPr>
            <a:xfrm>
              <a:off x="6834240" y="37162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Grupo 11"/>
          <p:cNvGrpSpPr/>
          <p:nvPr/>
        </p:nvGrpSpPr>
        <p:grpSpPr>
          <a:xfrm>
            <a:off x="6804000" y="4187880"/>
            <a:ext cx="984240" cy="609480"/>
            <a:chOff x="6804000" y="4187880"/>
            <a:chExt cx="984240" cy="609480"/>
          </a:xfrm>
        </p:grpSpPr>
        <p:sp>
          <p:nvSpPr>
            <p:cNvPr id="662" name="Rounded Rectangular Callout 19"/>
            <p:cNvSpPr/>
            <p:nvPr/>
          </p:nvSpPr>
          <p:spPr>
            <a:xfrm>
              <a:off x="6804000" y="43401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20" descr=""/>
            <p:cNvPicPr/>
            <p:nvPr/>
          </p:nvPicPr>
          <p:blipFill>
            <a:blip r:embed="rId3"/>
            <a:stretch/>
          </p:blipFill>
          <p:spPr>
            <a:xfrm>
              <a:off x="7337520" y="41878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upo 12"/>
          <p:cNvGrpSpPr/>
          <p:nvPr/>
        </p:nvGrpSpPr>
        <p:grpSpPr>
          <a:xfrm>
            <a:off x="7188120" y="4797360"/>
            <a:ext cx="984240" cy="609840"/>
            <a:chOff x="7188120" y="4797360"/>
            <a:chExt cx="984240" cy="609840"/>
          </a:xfrm>
        </p:grpSpPr>
        <p:sp>
          <p:nvSpPr>
            <p:cNvPr id="665" name="Rounded Rectangular Callout 21"/>
            <p:cNvSpPr/>
            <p:nvPr/>
          </p:nvSpPr>
          <p:spPr>
            <a:xfrm>
              <a:off x="7188120" y="4949640"/>
              <a:ext cx="838440" cy="4575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2" descr=""/>
            <p:cNvPicPr/>
            <p:nvPr/>
          </p:nvPicPr>
          <p:blipFill>
            <a:blip r:embed="rId4"/>
            <a:stretch/>
          </p:blipFill>
          <p:spPr>
            <a:xfrm>
              <a:off x="7721640" y="4797360"/>
              <a:ext cx="45072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Rounded Rectangular Callout 23"/>
          <p:cNvSpPr/>
          <p:nvPr/>
        </p:nvSpPr>
        <p:spPr>
          <a:xfrm>
            <a:off x="1835280" y="1658880"/>
            <a:ext cx="3124080" cy="762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ado: 4º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s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7280" y="549000"/>
            <a:ext cx="475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basta Donde el Mejor  Postor No Gan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rcRect l="0" t="35459" r="38083" b="5016"/>
          <a:stretch/>
        </p:blipFill>
        <p:spPr>
          <a:xfrm>
            <a:off x="7920" y="117360"/>
            <a:ext cx="9167760" cy="60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 Box 3"/>
          <p:cNvSpPr/>
          <p:nvPr/>
        </p:nvSpPr>
        <p:spPr>
          <a:xfrm>
            <a:off x="3708360" y="551664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08000" y="476280"/>
            <a:ext cx="28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435640" y="3397320"/>
            <a:ext cx="17287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708360" y="5516640"/>
            <a:ext cx="1800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sé Wywywy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1201201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324000" y="907920"/>
            <a:ext cx="849600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inistro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l Control y de la Transpar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340000" y="1916280"/>
            <a:ext cx="4495680" cy="576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cretaría Ejec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324000" y="2708280"/>
            <a:ext cx="208728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ederal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rol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556000" y="2708280"/>
            <a:ext cx="2520720" cy="1995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Corru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 Info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556000" y="4919760"/>
            <a:ext cx="934920" cy="863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1800" y="4919760"/>
            <a:ext cx="934920" cy="86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219640" y="2708280"/>
            <a:ext cx="180036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rreg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7164360" y="2708280"/>
            <a:ext cx="165564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24000" y="6000840"/>
            <a:ext cx="8496000" cy="614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Unidades Regionales en todos los estados brasil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rcRect l="0" t="26335" r="29273" b="4255"/>
          <a:stretch/>
        </p:blipFill>
        <p:spPr>
          <a:xfrm>
            <a:off x="0" y="155736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6"/>
          <p:cNvSpPr/>
          <p:nvPr/>
        </p:nvSpPr>
        <p:spPr>
          <a:xfrm>
            <a:off x="4788000" y="620640"/>
            <a:ext cx="421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inel para Ge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4932360" y="5589720"/>
            <a:ext cx="338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OORDENAÇÃO G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uperintendência Nac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78920" y="5402160"/>
            <a:ext cx="4537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</a:rPr>
              <a:t> Tercer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219640" y="914400"/>
            <a:ext cx="3479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rceriz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780000" y="3051000"/>
            <a:ext cx="497988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R$ 3,74 bi/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 pistas an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468360" y="2438280"/>
            <a:ext cx="26668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5280" y="1987200"/>
            <a:ext cx="8362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epo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pleado en nómina de varias empre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cionario público em calidad de subcontrat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viación de la función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os costos comparativos y los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3" descr=""/>
          <p:cNvPicPr/>
          <p:nvPr/>
        </p:nvPicPr>
        <p:blipFill>
          <a:blip r:embed="rId1"/>
          <a:srcRect l="0" t="0" r="0" b="116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179280" y="5402160"/>
            <a:ext cx="475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Bolsa Famí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olsa Famí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635280" y="3193920"/>
            <a:ext cx="532944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2 billón/mê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,9 millones de famil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classes - 33 camin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2338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04840" y="2347920"/>
            <a:ext cx="7354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os personales (catas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ender las condiciones de ac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ables irregula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ionarios públicos benefi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3" descr=""/>
          <p:cNvPicPr/>
          <p:nvPr/>
        </p:nvPicPr>
        <p:blipFill>
          <a:blip r:embed="rId1"/>
          <a:stretch/>
        </p:blipFill>
        <p:spPr>
          <a:xfrm>
            <a:off x="684360" y="3352680"/>
            <a:ext cx="3429000" cy="5223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2828880"/>
            <a:ext cx="8131320" cy="17524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 millones de persona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6 mil teníam auto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 valores superiores a R$ 50 mil</a:t>
            </a:r>
            <a:r>
              <a:rPr b="1" lang="en-GB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24" descr=""/>
          <p:cNvPicPr/>
          <p:nvPr/>
        </p:nvPicPr>
        <p:blipFill>
          <a:blip r:embed="rId2"/>
          <a:stretch/>
        </p:blipFill>
        <p:spPr>
          <a:xfrm>
            <a:off x="684360" y="5013360"/>
            <a:ext cx="2950920" cy="10796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539640" y="4869000"/>
            <a:ext cx="8136000" cy="143352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 mil personas con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826920" y="1964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lsa Famí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5"/>
          <p:cNvSpPr/>
          <p:nvPr/>
        </p:nvSpPr>
        <p:spPr>
          <a:xfrm>
            <a:off x="179280" y="5402160"/>
            <a:ext cx="310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OS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4818240" y="2854440"/>
            <a:ext cx="385920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4859280" y="1197000"/>
            <a:ext cx="388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Portal d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Transpa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 flipV="1" rot="10800000">
            <a:off x="539280" y="2565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 flipV="1" rot="10800000">
            <a:off x="539280" y="3140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 flipV="1" rot="10800000">
            <a:off x="539280" y="371628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 flipV="1" rot="10800000">
            <a:off x="539280" y="429156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ncciones a Empr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 flipV="1" rot="10800000">
            <a:off x="539280" y="48679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 flipV="1" rot="10800000">
            <a:off x="539280" y="544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ncionar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66040" y="836640"/>
            <a:ext cx="2038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240360" cy="25434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4513320" y="2781360"/>
            <a:ext cx="45226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5 bil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480 ent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4346640" y="765000"/>
            <a:ext cx="4402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ntos Princip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826920" y="2430360"/>
            <a:ext cx="8066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dirigentes 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s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erdo con objeto prohibido por la le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irigente de OSCIP y donante de cam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misma dir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fecha de creación cerca a la fecha del acu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7380360" cy="4941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6"/>
          <p:cNvSpPr/>
          <p:nvPr/>
        </p:nvSpPr>
        <p:spPr>
          <a:xfrm>
            <a:off x="8201160" y="2001960"/>
            <a:ext cx="6886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250920" y="1989000"/>
            <a:ext cx="2160360" cy="1721160"/>
          </a:xfrm>
          <a:prstGeom prst="wedgeRectCallout">
            <a:avLst>
              <a:gd name="adj1" fmla="val 176523"/>
              <a:gd name="adj2" fmla="val 7885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Que sea o haya sido presid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 45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427640" y="836640"/>
            <a:ext cx="439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o 3.3 - OSCIPs co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de en la misma ciu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24360" y="764640"/>
            <a:ext cx="4906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V: Venta de 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EFCGJ_T_1393342_mmp4_WMV V9.wmv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859280" cy="1641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selo premio2009"/>
          <p:cNvPicPr/>
          <p:nvPr/>
        </p:nvPicPr>
        <p:blipFill>
          <a:blip r:embed="rId2"/>
          <a:stretch/>
        </p:blipFill>
        <p:spPr>
          <a:xfrm>
            <a:off x="1881360" y="3951360"/>
            <a:ext cx="2474640" cy="2430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image_mini"/>
          <p:cNvPicPr/>
          <p:nvPr/>
        </p:nvPicPr>
        <p:blipFill>
          <a:blip r:embed="rId3"/>
          <a:stretch/>
        </p:blipFill>
        <p:spPr>
          <a:xfrm>
            <a:off x="5435640" y="3033720"/>
            <a:ext cx="2952720" cy="219564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4"/>
          <p:cNvSpPr/>
          <p:nvPr/>
        </p:nvSpPr>
        <p:spPr>
          <a:xfrm>
            <a:off x="435600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60720" y="2923920"/>
            <a:ext cx="568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United Nations Public Service Awards - UNPSA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394920" y="4438440"/>
            <a:ext cx="62643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tegorí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vanzar en el conocimiento de gestión en el gobiern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Imagem 1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079640" cy="1014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846000" y="2276640"/>
            <a:ext cx="2286000" cy="20001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6759720" y="5516640"/>
            <a:ext cx="1844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Verdana"/>
              </a:rPr>
              <a:t>ONU -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5076720" y="907920"/>
            <a:ext cx="3681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95280" y="1699920"/>
            <a:ext cx="666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Arial"/>
                <a:ea typeface="Arial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2375640" y="4145040"/>
            <a:ext cx="635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lson Lib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ector de Informacione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aloría-General de la Unión (CG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orio@cgu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5 61 2020-7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9012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2195640" y="938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rtal de la Transparencia en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24000" y="2133720"/>
            <a:ext cx="8712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Media mensual de accesos (hasta Sep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27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curs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R$ 8 trillones y 900 mill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, cerca de US$ 5 trill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gistros de ingresos e gast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cerca de 1.230.00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Sistema PUSH (Oct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39.803 personas inscrita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para accesar las transferencias para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5.454 municipalidades (98% de todas las ciudades brasileñ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CEI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5.255 sancci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a 4127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Datos de la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opa del Mundo Fifa 2014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 (inversiones por ciudad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e de los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Juegos Olímpicos de Rio 20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stema de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áginas de Transpa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1204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00720" y="5229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Gast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"/>
          <p:cNvSpPr/>
          <p:nvPr/>
        </p:nvSpPr>
        <p:spPr>
          <a:xfrm>
            <a:off x="5796000" y="3213000"/>
            <a:ext cx="2808360" cy="17287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ro-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oyo a la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03280" y="90972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dución de Informaciones Estratégica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4"/>
          <p:cNvGrpSpPr/>
          <p:nvPr/>
        </p:nvGrpSpPr>
        <p:grpSpPr>
          <a:xfrm>
            <a:off x="762120" y="2743200"/>
            <a:ext cx="3123360" cy="2809080"/>
            <a:chOff x="762120" y="2743200"/>
            <a:chExt cx="3123360" cy="2809080"/>
          </a:xfrm>
        </p:grpSpPr>
        <p:pic>
          <p:nvPicPr>
            <p:cNvPr id="613" name="Picture 32" descr="ODP MARCA"/>
            <p:cNvPicPr/>
            <p:nvPr/>
          </p:nvPicPr>
          <p:blipFill>
            <a:blip r:embed="rId1"/>
            <a:srcRect l="3971" t="25248" r="56424" b="24384"/>
            <a:stretch/>
          </p:blipFill>
          <p:spPr>
            <a:xfrm>
              <a:off x="762120" y="2743200"/>
              <a:ext cx="2976120" cy="28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Rectangle 33"/>
            <p:cNvSpPr/>
            <p:nvPr/>
          </p:nvSpPr>
          <p:spPr>
            <a:xfrm>
              <a:off x="3291840" y="3679920"/>
              <a:ext cx="593640" cy="155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Box 7"/>
          <p:cNvSpPr/>
          <p:nvPr/>
        </p:nvSpPr>
        <p:spPr>
          <a:xfrm>
            <a:off x="79200" y="5486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365280" y="2666880"/>
            <a:ext cx="18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9"/>
          <p:cNvSpPr/>
          <p:nvPr/>
        </p:nvSpPr>
        <p:spPr>
          <a:xfrm>
            <a:off x="2975040" y="50292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1901880" cy="1751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528720" cy="712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logotiposcdp"/>
          <p:cNvPicPr/>
          <p:nvPr/>
        </p:nvPicPr>
        <p:blipFill>
          <a:blip r:embed="rId3"/>
          <a:stretch/>
        </p:blipFill>
        <p:spPr>
          <a:xfrm>
            <a:off x="5867280" y="2001960"/>
            <a:ext cx="2737080" cy="1282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"/>
          <p:cNvPicPr/>
          <p:nvPr/>
        </p:nvPicPr>
        <p:blipFill>
          <a:blip r:embed="rId4"/>
          <a:stretch/>
        </p:blipFill>
        <p:spPr>
          <a:xfrm>
            <a:off x="3995640" y="3500280"/>
            <a:ext cx="2171880" cy="1704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2" descr="logoSegundoP"/>
          <p:cNvPicPr/>
          <p:nvPr/>
        </p:nvPicPr>
        <p:blipFill>
          <a:blip r:embed="rId5"/>
          <a:stretch/>
        </p:blipFill>
        <p:spPr>
          <a:xfrm>
            <a:off x="4859280" y="5321160"/>
            <a:ext cx="2051280" cy="1254240"/>
          </a:xfrm>
          <a:prstGeom prst="rect">
            <a:avLst/>
          </a:prstGeom>
          <a:ln w="0">
            <a:noFill/>
          </a:ln>
        </p:spPr>
      </p:pic>
      <p:sp>
        <p:nvSpPr>
          <p:cNvPr id="623" name="Title 1"/>
          <p:cNvSpPr/>
          <p:nvPr/>
        </p:nvSpPr>
        <p:spPr>
          <a:xfrm>
            <a:off x="4705200" y="905040"/>
            <a:ext cx="4114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upo 1"/>
          <p:cNvGrpSpPr/>
          <p:nvPr/>
        </p:nvGrpSpPr>
        <p:grpSpPr>
          <a:xfrm>
            <a:off x="395280" y="5224320"/>
            <a:ext cx="4210200" cy="1442520"/>
            <a:chOff x="395280" y="5224320"/>
            <a:chExt cx="4210200" cy="1442520"/>
          </a:xfrm>
        </p:grpSpPr>
        <p:pic>
          <p:nvPicPr>
            <p:cNvPr id="625" name="Picture 9" descr=""/>
            <p:cNvPicPr/>
            <p:nvPr/>
          </p:nvPicPr>
          <p:blipFill>
            <a:blip r:embed="rId6"/>
            <a:stretch/>
          </p:blipFill>
          <p:spPr>
            <a:xfrm>
              <a:off x="395280" y="5224320"/>
              <a:ext cx="421020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14"/>
            <p:cNvSpPr/>
            <p:nvPr/>
          </p:nvSpPr>
          <p:spPr>
            <a:xfrm>
              <a:off x="1248120" y="620712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rcer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upo 2"/>
          <p:cNvGrpSpPr/>
          <p:nvPr/>
        </p:nvGrpSpPr>
        <p:grpSpPr>
          <a:xfrm>
            <a:off x="319320" y="2276640"/>
            <a:ext cx="2734920" cy="1708200"/>
            <a:chOff x="319320" y="2276640"/>
            <a:chExt cx="2734920" cy="1708200"/>
          </a:xfrm>
        </p:grpSpPr>
        <p:pic>
          <p:nvPicPr>
            <p:cNvPr id="628" name="Picture 6" descr=""/>
            <p:cNvPicPr/>
            <p:nvPr/>
          </p:nvPicPr>
          <p:blipFill>
            <a:blip r:embed="rId7"/>
            <a:stretch/>
          </p:blipFill>
          <p:spPr>
            <a:xfrm>
              <a:off x="598320" y="2276640"/>
              <a:ext cx="207648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15"/>
            <p:cNvSpPr/>
            <p:nvPr/>
          </p:nvSpPr>
          <p:spPr>
            <a:xfrm>
              <a:off x="319320" y="3404160"/>
              <a:ext cx="273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tão de Pagamentos d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verno Fed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Picture 19" descr=""/>
          <p:cNvPicPr/>
          <p:nvPr/>
        </p:nvPicPr>
        <p:blipFill>
          <a:blip r:embed="rId8"/>
          <a:stretch/>
        </p:blipFill>
        <p:spPr>
          <a:xfrm>
            <a:off x="6729480" y="4870440"/>
            <a:ext cx="2036520" cy="1079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0" descr=""/>
          <p:cNvPicPr/>
          <p:nvPr/>
        </p:nvPicPr>
        <p:blipFill>
          <a:blip r:embed="rId9"/>
          <a:stretch/>
        </p:blipFill>
        <p:spPr>
          <a:xfrm>
            <a:off x="6010200" y="3718080"/>
            <a:ext cx="279900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79280" y="5444640"/>
            <a:ext cx="4897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400" spc="-1" strike="noStrike">
                <a:solidFill>
                  <a:srgbClr val="ffffff"/>
                </a:solidFill>
                <a:latin typeface="Calisto MT"/>
              </a:rPr>
              <a:t> Compras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24:16Z</dcterms:created>
  <dc:creator>gilsonlom</dc:creator>
  <dc:description/>
  <dc:language>en-US</dc:language>
  <cp:lastModifiedBy>Antonio Jose da Silva Barros</cp:lastModifiedBy>
  <dcterms:modified xsi:type="dcterms:W3CDTF">2011-11-22T16:00:44Z</dcterms:modified>
  <cp:revision>69</cp:revision>
  <dc:subject/>
  <dc:title>Apresentação do PowerPoint</dc:title>
</cp:coreProperties>
</file>