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DC1-BC8F-4AA9-8FDE-4D29FE1F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1212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826-957D-44EF-9C85-1B2D842C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43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CB0-40AC-4B26-A776-57182E86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16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80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16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80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406-2963-4BB6-B384-72EBBA26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1A00-BE76-4EB6-A5ED-B1686E15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7D8F-788B-4357-926B-B42D5B33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4F00-A8A4-4356-9B50-A78D2FF4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BF04-0762-49D4-B9EE-7B88D92A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19E2-FB12-4CE7-BCA7-4C729ED0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F1E1-658D-4013-BEA8-0D9831CD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179A-5F8C-4E30-AFD7-4B960BDE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58E-4964-4E3B-A202-B0C97EB6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43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6DF5-78A9-4C67-AE68-330E4C09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1B72-85E1-4903-A527-EA8F41E4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520" y="391212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CE70-3482-4DC3-AEEB-C52EF259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43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4B22-D591-4CA9-96B3-F35B1C49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116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80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52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116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80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5FDD-C0A2-4A4D-AA31-D192CCA8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2848-F827-405F-84EC-10D1EF17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99C-0ADD-4339-8106-A81CF432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DFB-4755-4E8B-AEBC-6B52BA5F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573-AAB6-4015-8A8B-A84EB158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0F2-A9E1-4E18-AFE9-3D3EA08B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43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E20-D95E-4DC4-BC29-16268382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9EF-F36F-4F9E-A06B-168C44F9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14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3E87-EA3A-4100-8554-2655DC76E1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0" y="5923080"/>
            <a:ext cx="9144000" cy="934920"/>
            <a:chOff x="0" y="5923080"/>
            <a:chExt cx="9144000" cy="934920"/>
          </a:xfrm>
        </p:grpSpPr>
        <p:pic>
          <p:nvPicPr>
            <p:cNvPr id="42" name="Picture 8" descr="http://www.gre.ac.uk/schools/business/images/grriver.jpg"/>
            <p:cNvPicPr/>
            <p:nvPr/>
          </p:nvPicPr>
          <p:blipFill>
            <a:blip r:embed="rId2"/>
            <a:srcRect l="0" t="30669" r="0" b="23946"/>
            <a:stretch/>
          </p:blipFill>
          <p:spPr>
            <a:xfrm>
              <a:off x="0" y="5954760"/>
              <a:ext cx="91440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9"/>
            <p:cNvSpPr/>
            <p:nvPr/>
          </p:nvSpPr>
          <p:spPr>
            <a:xfrm>
              <a:off x="7343640" y="5962680"/>
              <a:ext cx="1800360" cy="89532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Picture 10" descr="UoG Logo"/>
            <p:cNvPicPr/>
            <p:nvPr/>
          </p:nvPicPr>
          <p:blipFill>
            <a:blip r:embed="rId3"/>
            <a:srcRect l="0" t="0" r="0" b="15974"/>
            <a:stretch/>
          </p:blipFill>
          <p:spPr>
            <a:xfrm>
              <a:off x="7308720" y="5923080"/>
              <a:ext cx="1835280" cy="88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14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B2F2-B8EE-43CA-910F-4B3F3FB78C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lobina@gre.ac.uk" TargetMode="External"/><Relationship Id="rId2" Type="http://schemas.openxmlformats.org/officeDocument/2006/relationships/hyperlink" Target="http://www.psiru.org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94540"/>
                </a:solidFill>
                <a:latin typeface="Arial"/>
              </a:rPr>
              <a:t>Encuentro EUROsociAL</a:t>
            </a:r>
            <a:br>
              <a:rPr sz="1800"/>
            </a:br>
            <a:r>
              <a:rPr b="1" lang="es-ES_tradnl" sz="1800" spc="-1" strike="noStrike">
                <a:solidFill>
                  <a:srgbClr val="494540"/>
                </a:solidFill>
                <a:latin typeface="Arial"/>
              </a:rPr>
              <a:t>Lima, Perú, 22 de noviembre 2011</a:t>
            </a:r>
            <a:r>
              <a:rPr b="0" lang="es-ES_tradnl" sz="1800" spc="-1" strike="noStrike">
                <a:solidFill>
                  <a:srgbClr val="494540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br>
              <a:rPr sz="4000"/>
            </a:br>
            <a:r>
              <a:rPr b="1" lang="es-ES_tradnl" sz="4400" spc="-1" strike="noStrike">
                <a:solidFill>
                  <a:srgbClr val="494540"/>
                </a:solidFill>
                <a:latin typeface="Arial"/>
              </a:rPr>
              <a:t>Transparencia, </a:t>
            </a:r>
            <a:br>
              <a:rPr sz="4400"/>
            </a:br>
            <a:r>
              <a:rPr b="1" lang="es-ES_tradnl" sz="4400" spc="-1" strike="noStrike">
                <a:solidFill>
                  <a:srgbClr val="494540"/>
                </a:solidFill>
                <a:latin typeface="Arial"/>
              </a:rPr>
              <a:t>lucha contra la corrupción y mecanismos de gestión</a:t>
            </a:r>
            <a:br>
              <a:rPr sz="1800"/>
            </a:br>
            <a:endParaRPr b="1" lang="en-US" sz="4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10920" y="3716280"/>
            <a:ext cx="8064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Emanuele Lobi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.lobina@gre.ac.uk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ublic Services International Research Unit (PSIRU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usiness School,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University of Greenwich, U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psiru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Corrupción privada y impacto de largo plazo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stituciones de derecho interior e internacional que apoyan la participación del sector privado protegen los frutos de la corrupción como si fueran lucro legitimo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adicción entre derecho público y derecho privado/comerc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sos: Grenoble (11 años); Tanzania (IAC); Indonesia (AMGI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Impacto en escala de la corrupción privada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ariados sectores en el Norte y Sur (Flyvberg et al., 2003)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expansión del papel del sector privado produce más oportunidades de corrup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anco Mundial: multinacionales con sede al extranjero tienen muchas más probabilidades de corromper que otras empres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Transparencia y participación ciudadana como lucha preventiva contra la corrupción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ceso a informaciones; participación en la toma de decisiones; acceso a la justicia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 hay el equivalente de la convención de Aahrus para la cohesión soc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ase jurídica débil de las obligaciones a la transparencia y participación ciudadana en el sector del agua en la Unión Europe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Resistencia del sector privado a la transparencia y participación ciudadana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objetivo de maximización del lucro esta en conflicto con la participación ciudadana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secreto comercial esta en conflicto con la  transpa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sos: Berlin; Budapest; Grenoble; Cochabamba; Fort Beauf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395143"/>
                </a:solidFill>
                <a:latin typeface="Arial"/>
              </a:rPr>
              <a:t>Participación ciudadana bajo PPP en Grenoble</a:t>
            </a:r>
            <a:endParaRPr b="1" lang="en-US" sz="30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s representantes de los consumidores admitid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las reuniones del Consejo de Administración (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, pero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podían votar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podían informar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die sobre datos confidenciales obtenid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las reunion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Transparencia, participación ciudadana y gestión pública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sencia del objetivo de maximización del lucro permite formas avanzadas de transparencia y participación ciudadana, a veces como reacción a casos de corrupción privada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sos: Córdoba, España; Grenoble; Porto Aleg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tema de participación ciudadana los latinoamericanos tienen mucho a enseñar y no solo a apre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395143"/>
                </a:solidFill>
                <a:latin typeface="Arial"/>
              </a:rPr>
              <a:t>Participación ciudadana bajo la nueva </a:t>
            </a:r>
            <a:r>
              <a:rPr b="1" lang="es-ES" sz="3200" spc="-1" strike="noStrike">
                <a:solidFill>
                  <a:srgbClr val="395143"/>
                </a:solidFill>
                <a:latin typeface="Arial"/>
              </a:rPr>
              <a:t>gestión municipal</a:t>
            </a:r>
            <a:r>
              <a:rPr b="1" lang="it-IT" sz="3200" spc="-1" strike="noStrike">
                <a:solidFill>
                  <a:srgbClr val="395143"/>
                </a:solidFill>
                <a:latin typeface="Arial"/>
              </a:rPr>
              <a:t> en Grenoble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nombrado por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yuntamiento: 8 miembros entre los elegidos, 4 miembros entre la ciudadaní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4 incluyen abogados, expertos y otros: un representante de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ecinos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 el ex jefe de una organización de consumidor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uniones del 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cada 3 meses, en priva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dirección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reúne co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consumidores cada 2 me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395143"/>
                </a:solidFill>
                <a:latin typeface="Arial"/>
              </a:rPr>
              <a:t>Porto Alegre o </a:t>
            </a:r>
            <a:br>
              <a:rPr sz="3200"/>
            </a:br>
            <a:r>
              <a:rPr b="1" lang="es-ES" sz="3200" spc="-1" strike="noStrike">
                <a:solidFill>
                  <a:srgbClr val="395143"/>
                </a:solidFill>
                <a:latin typeface="Arial"/>
              </a:rPr>
              <a:t>como hacer democrática la gestión del agua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reada en 1961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ac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del BID, DMAE financia todas las inversiones y el mantenimiento a trav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 de las tarifas. No se pueden extraer beneficios de la gest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del ciclo urbano del agu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arco institucional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iedad municipal, autonom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de gest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y operacional; la sociedad civil esta presente en el Consejo de Administraciones; presupuesto participativ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395143"/>
                </a:solidFill>
                <a:latin typeface="Arial"/>
              </a:rPr>
              <a:t>Porto Alegre o </a:t>
            </a:r>
            <a:br>
              <a:rPr sz="3200"/>
            </a:br>
            <a:r>
              <a:rPr b="1" lang="es-ES" sz="3200" spc="-1" strike="noStrike">
                <a:solidFill>
                  <a:srgbClr val="395143"/>
                </a:solidFill>
                <a:latin typeface="Arial"/>
              </a:rPr>
              <a:t>como hacer democrática la gestión del agua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ndimiento: cobertura del servicio desde 1990 hasta 2001: del 95% al 99,5% (suministro); d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0% al 84% (depurac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), del 2% al 25% (tratamiento de aguas residuales); agua no contabilizadas (50% al 34%); gest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de la demanda; proceso de fijac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de precios constante a lo largo del tiemp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Coherencia entre mecanismos de gestión, lucha contra la corrupción y cohesión social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lta de evidencia empírica sobre la mayor eficiencia y eficacia del sector privado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operadoras más eficaces y eficientes y con mayor éxito social suelen ser públicas en el Norte como en el Su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gestión pública tiene un alcance más prometedor para el fortalecimiento de la transparencia, la participación ciudadana y la cohesión socia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95143"/>
                </a:solidFill>
                <a:latin typeface="Arial"/>
              </a:rPr>
              <a:t>Experiencia de</a:t>
            </a:r>
            <a:r>
              <a:rPr b="1" lang="en-GB" sz="3600" spc="-1" strike="noStrike">
                <a:solidFill>
                  <a:srgbClr val="395143"/>
                </a:solidFill>
                <a:latin typeface="Arial"/>
              </a:rPr>
              <a:t> PSIRU</a:t>
            </a:r>
            <a:r>
              <a:rPr b="1" lang="en-GB" sz="3600" spc="-1" strike="noStrike">
                <a:solidFill>
                  <a:srgbClr val="395143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642600"/>
            <a:ext cx="914400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poyo a reformas de políticas públicas y innovación institucio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hesión soc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ucha contra la corrup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ransparencia y gobernanz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95143"/>
                </a:solidFill>
                <a:latin typeface="Arial"/>
              </a:rPr>
              <a:t>Conclusiones</a:t>
            </a:r>
            <a:endParaRPr b="1" lang="en-US" sz="40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ransparencia y participación ciudadana como formas de lucha preventivas contra la corrupció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herencia entre instituciones y objetivos de lucha contra la corrupció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forma del derecho público y comercial, interno e intern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vorecer la gestión pública bajo transparencia y participación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alarios decorosos para empleados públ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Porque el sector de agua y alcantarillado</a:t>
            </a:r>
            <a:r>
              <a:rPr b="1" lang="en-GB" sz="3600" spc="-1" strike="noStrike">
                <a:solidFill>
                  <a:srgbClr val="395143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42600"/>
            <a:ext cx="914400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abastecimiento de agua potable es un servicio esencial con un fuerte impacto sobre la cohesión socia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 un monopolio natural con fuertes asimetrías informativ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o todos los casos extremos ofrece lecciones valiosas que además están respaldadas por la experiencia de otros sect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Definiciones de corrupción</a:t>
            </a:r>
            <a:r>
              <a:rPr b="1" lang="en-GB" sz="3600" spc="-1" strike="noStrike">
                <a:solidFill>
                  <a:srgbClr val="395143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642600"/>
            <a:ext cx="914400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Banco Mundial (1997): “abuso de poder público para el beneficio privado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ransparency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International (2010): “abuso de poder para el beneficio privado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La corrupción es siempre ilegal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95143"/>
                </a:solidFill>
                <a:latin typeface="Arial"/>
              </a:rPr>
              <a:t>Marco analítico</a:t>
            </a:r>
            <a:endParaRPr b="1" lang="en-US" sz="48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rruptores y corrupto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ctor público – Sector público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ctor privado – Sector públic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ctor privado – Sector privado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Integración del marco analítico</a:t>
            </a:r>
            <a:endParaRPr b="1" lang="en-US" sz="4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 posible integrar nuestro marco analítico introduciendo la sociedad civil en la ecuación de la corrupción, por ejemplo en el caso de usuarios que corrompen empleados públicos para obtener conexiones a la 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o es importante distinguir entre corrupción por hambre y corrupción por falta de ét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 nivel salarial decoroso es un antídoto contra la “pequeña” corrupción de los empleados públicos (caso de Phnom Penh, Camboya)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Paradigmas de gestión</a:t>
            </a:r>
            <a:endParaRPr b="1" lang="en-US" sz="4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aradigmas definidos por la propiedad de las operadoras, sus objetivos y técnicas de gestión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dministración pública weberiana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stión priva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stión pública mercanti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stión pública flexibl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395143"/>
                </a:solidFill>
                <a:latin typeface="Arial"/>
              </a:rPr>
              <a:t>Corrupción y paradigmas de gestión</a:t>
            </a:r>
            <a:endParaRPr b="1" lang="en-US" sz="36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Williamson (1999): no hay modelos perfectos entonces falta identificar los modelos menos imperfectos y más flexi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modelos no son aislados, sino que son apoyados por instituciones que influyen en su funcionamiento y también en la lucha contra la corrup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riterio de juicio de los modelos de gestión y de las respectivas instituciones es su coherencia con objetivos de lucha contra la corrup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395143"/>
                </a:solidFill>
                <a:latin typeface="Arial"/>
              </a:rPr>
              <a:t>Gestión privada y corrupción</a:t>
            </a:r>
            <a:endParaRPr b="1" lang="en-US" sz="36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s bajo concesión: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noble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Réunion, Milan, Tangará da Serr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s relativos a carteles: Milan, India (Davis, 2004), (Île de France, construcció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s relativos a fraude: Severn Trent en Inglaterra, Lat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el Norte y al Sur la justicia penal se hace siempre más parte importante de la regulación de la gestión privada bajo diferentes model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08:06:35Z</dcterms:created>
  <dc:creator>Bruce Cronin</dc:creator>
  <dc:description/>
  <dc:language>en-US</dc:language>
  <cp:lastModifiedBy>Maria Eugenia Cebrian</cp:lastModifiedBy>
  <dcterms:modified xsi:type="dcterms:W3CDTF">2011-11-23T09:46:15Z</dcterms:modified>
  <cp:revision>321</cp:revision>
  <dc:subject/>
  <dc:title>The Influence of Directorate Interlocks on NZ Overseas Direct Investment</dc:title>
</cp:coreProperties>
</file>