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72288" cy="9129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872400" cy="91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22"/>
          </p:nvPr>
        </p:nvSpPr>
        <p:spPr>
          <a:xfrm>
            <a:off x="3893760" y="0"/>
            <a:ext cx="2978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1155600" y="684000"/>
            <a:ext cx="456264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87240" y="4335480"/>
            <a:ext cx="549936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3"/>
          </p:nvPr>
        </p:nvSpPr>
        <p:spPr>
          <a:xfrm>
            <a:off x="-360" y="8670600"/>
            <a:ext cx="2978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24"/>
          </p:nvPr>
        </p:nvSpPr>
        <p:spPr>
          <a:xfrm>
            <a:off x="3893760" y="8670600"/>
            <a:ext cx="2978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A157-CCF9-42E7-A012-382FF14B8895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5600" y="68436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7240" y="4335480"/>
            <a:ext cx="54993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94120" y="8670960"/>
            <a:ext cx="297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5BD5-85D6-49CE-BD1F-95F06860BE0B}" type="slidenum">
              <a:rPr b="0" lang="es-A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5600" y="68436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7240" y="4335480"/>
            <a:ext cx="54993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94120" y="8670960"/>
            <a:ext cx="297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B672-2024-46D8-93AF-1FD3C17D690D}" type="slidenum">
              <a:rPr b="0" lang="es-A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616-AFCA-4D70-9611-DE145D1D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634-3ECD-4A68-91F7-1160EBBD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2A4-1CAE-49A8-9AE9-DDC02B96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8AE-94F1-4001-A48D-79A63139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3A5E-70B4-4B0C-8222-C57C41A8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861F-BEB7-47DB-8EDC-61C9839B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425-2A67-4CD1-A21D-5D39A3CE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454D-5734-4159-BAF9-B1C0D0C2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5A4E-9594-4721-A19E-2E94B782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E610-347F-4972-B910-14F9D22B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93D7-7D55-497D-817B-21C74479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453-375C-4334-9B1F-778A8A7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08A4-BE74-4714-9CA7-83D09C5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D833-EE1D-4DDF-8B2D-8637E4CC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7ABB-4D42-4DD6-BE1B-990BDC61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D51E-0CDB-4F7E-8C82-B09F90BC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980F-78CF-4F70-8662-2C085306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017F-4B79-40CB-A6B4-F4CD75D9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7EE8-DA3E-4CA9-BE01-D2B28AC7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77327-4C86-4517-9493-4BF6CA84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A754-15DE-466B-9751-D62FCD93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F755-6AFE-474D-82F9-C2E8D14F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087-4637-4632-8490-533F2BD0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1D7A-7300-4CD2-874D-5510D58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EB5C-893F-4105-B78C-4155487A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DB47-A787-44C1-ABA0-AF58E1F3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6BAD-D25B-42C8-9943-FE5744C3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7319-C4A1-43DD-8D8A-B033F586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B5D2-C1ED-461B-906F-C72FEA50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6B50-164E-4EDC-82EB-C2F0A724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22DEF-8B72-4BE4-BEE2-EAD8FE4D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8291-C265-41A8-8F67-F41E1EE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D5EDD-64AB-4E65-B0B1-11491D2E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6D8-F51F-480F-ACFD-D7FDA43A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82F4-216C-4DF0-917B-53250E8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377B-D547-496F-8862-DD8F771A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47AE8-F7F5-4AD4-BFDB-587DB3EE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4142-9E51-4751-A9E1-6B81FF8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4961-709D-4674-924B-653E8B80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E1252-AB4C-41C8-AFB8-3E68921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8351-04D6-4FA1-AF1F-241D6B32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2CEF-49E0-469A-B43F-B6C5A09B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2AF6-ACFC-47C0-8D60-FABFCBB4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10B9-B30D-4498-8F54-75629F0D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12B-6FD2-4097-AB25-19176731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F7607-2949-4314-8E2A-1AADF6FF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8475-3FC7-4727-B2E3-B2B1D8AE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2E6D9-04AD-486D-BC2B-793193D7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72F9-04D7-4C84-9F39-E1F00427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23065-0E74-4DB4-A9BE-7F3A865F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0543-9D4E-4606-A586-9B8FF764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01DE-E2BC-41AB-8499-D419F6F9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C769B-1D01-4A42-A1CE-F2C63744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A7B9B-BE70-4BE0-9279-913C12C0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0CB68-2BB2-4E27-8163-7934DE9B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009-69F8-468E-9009-7F40A370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DC8F-ED9C-4375-86AC-3DE8DD86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FF2BB-421B-4A07-9A2A-4E8BD489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923D-3763-406B-A558-5077774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254E-DC66-47C8-889A-028A07C1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B0864-C48A-4DB6-97EF-3E14522E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E383-25DD-4ED2-A082-3F5A3C1F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30781-0BFA-4F8C-82AA-F954B048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35DB7-5820-4201-88B9-AABDFB74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69A5B-B3F8-4878-BA1A-8CEFC4D1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0943D-70B0-4DC8-9B35-469984A9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572-96C4-4E83-885D-0B065E9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3693-086B-4263-AF4B-17B66526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B04A2-8108-4AF8-A21D-EF232A86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F3FB4-B61D-492F-8F85-833FE781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FB513-6666-4EE2-9143-89764D6C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E5661-367A-4114-827E-045953FE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BCB22-B2B1-4BCA-AED0-F691A12B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C9B40-F0A4-47F0-BD17-22C0CC7C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3CC0D-5A1C-47B7-8BB0-BC6387AF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CEEAC-4344-4933-8DC2-F22941B8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46816-8E97-442B-B698-4C8B969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304-AA3E-4004-B11C-70FCE02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A2590-BE71-42DA-BB3C-CF1E1AE4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23205-7AAD-4AA8-88BD-4493F28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7FB94-F6C9-4020-9FF1-11AC0637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939BF-6B8D-4C15-A4D5-7A6A9E5C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9776-E853-413E-A720-AF9159DD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1B5-F7D5-4DA5-9AB8-0074D1BD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49FA-1471-41DA-A477-B72C0BA8F470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A9B1-BB9A-43DD-97FD-73168B0F6E28}" type="slidenum">
              <a:rPr b="0" lang="es-A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AC3B-7A05-4082-86E3-23587BA029F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3F44-D447-4734-AAB6-D6DDE666B8B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BD5E-170A-43B7-BCEC-68DAA3FBBAE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776F-C79F-40D4-8153-A818B3E0ADF5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03FE-562A-4DFC-8455-66D3A99B7322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://www.jus.gob.ar/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hyperlink" Target="http://www.jus.gob.ar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7.jpe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7.jpe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hyperlink" Target="http://www.jus.gob.ar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hyperlink" Target="http://www.jus.gob.ar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hyperlink" Target="http://www.jus.gob.ar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21" name="Rectangle 2"/>
          <p:cNvSpPr/>
          <p:nvPr/>
        </p:nvSpPr>
        <p:spPr>
          <a:xfrm>
            <a:off x="0" y="5616720"/>
            <a:ext cx="9144000" cy="1241280"/>
          </a:xfrm>
          <a:prstGeom prst="rect">
            <a:avLst/>
          </a:prstGeom>
          <a:solidFill>
            <a:srgbClr val="ff388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201600" y="5729400"/>
            <a:ext cx="8582040" cy="984240"/>
          </a:xfrm>
          <a:prstGeom prst="rect">
            <a:avLst/>
          </a:prstGeom>
          <a:ln w="0">
            <a:noFill/>
          </a:ln>
        </p:spPr>
      </p:pic>
      <p:sp>
        <p:nvSpPr>
          <p:cNvPr id="323" name="Line 4"/>
          <p:cNvSpPr/>
          <p:nvPr/>
        </p:nvSpPr>
        <p:spPr>
          <a:xfrm flipV="1">
            <a:off x="0" y="5624640"/>
            <a:ext cx="914400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Rectangle 5" descr=""/>
          <p:cNvPicPr/>
          <p:nvPr/>
        </p:nvPicPr>
        <p:blipFill>
          <a:blip r:embed="rId3"/>
          <a:stretch/>
        </p:blipFill>
        <p:spPr>
          <a:xfrm>
            <a:off x="12600" y="731880"/>
            <a:ext cx="9107640" cy="1004760"/>
          </a:xfrm>
          <a:prstGeom prst="rect">
            <a:avLst/>
          </a:prstGeom>
          <a:ln w="0">
            <a:noFill/>
          </a:ln>
        </p:spPr>
      </p:pic>
      <p:pic>
        <p:nvPicPr>
          <p:cNvPr id="325" name="1 Título" descr=""/>
          <p:cNvPicPr/>
          <p:nvPr/>
        </p:nvPicPr>
        <p:blipFill>
          <a:blip r:embed="rId4"/>
          <a:stretch/>
        </p:blipFill>
        <p:spPr>
          <a:xfrm>
            <a:off x="2925720" y="2603520"/>
            <a:ext cx="3475080" cy="1200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ttp://3.bp.blogspot.com/_Zi-4m-ofhJ0/TBZPPVcNOwI/AAAAAAAAAak/8SlSVeagU2w/s1600/redes.jpg"/>
          <p:cNvPicPr/>
          <p:nvPr/>
        </p:nvPicPr>
        <p:blipFill>
          <a:blip r:embed="rId5"/>
          <a:stretch/>
        </p:blipFill>
        <p:spPr>
          <a:xfrm>
            <a:off x="96840" y="2619360"/>
            <a:ext cx="2778120" cy="1728720"/>
          </a:xfrm>
          <a:prstGeom prst="rect">
            <a:avLst/>
          </a:prstGeom>
          <a:ln w="0">
            <a:noFill/>
          </a:ln>
        </p:spPr>
      </p:pic>
      <p:pic>
        <p:nvPicPr>
          <p:cNvPr id="327" name="6 Imagen" descr="Logo del Ministerio de Justici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5760" y="98280"/>
            <a:ext cx="2228760" cy="613080"/>
          </a:xfrm>
          <a:prstGeom prst="rect">
            <a:avLst/>
          </a:prstGeom>
          <a:ln w="0">
            <a:noFill/>
          </a:ln>
        </p:spPr>
      </p:pic>
      <p:pic>
        <p:nvPicPr>
          <p:cNvPr id="328" name="7 Imagen" descr="logo_dnmymprc_x_180.jpg"/>
          <p:cNvPicPr/>
          <p:nvPr/>
        </p:nvPicPr>
        <p:blipFill>
          <a:blip r:embed="rId8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www.cyldigital.es/sites/default/files/group/logojornada.png"/>
          <p:cNvPicPr/>
          <p:nvPr/>
        </p:nvPicPr>
        <p:blipFill>
          <a:blip r:embed="rId9"/>
          <a:stretch/>
        </p:blipFill>
        <p:spPr>
          <a:xfrm>
            <a:off x="5560920" y="2997360"/>
            <a:ext cx="358308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9672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68360" y="1989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entury Gothic"/>
              </a:rPr>
              <a:t>Consolidar un espacio de intercambio para la promoción y desarrollo de la mediación comunitaria en la Argentina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76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 Título" descr=""/>
          <p:cNvPicPr/>
          <p:nvPr/>
        </p:nvPicPr>
        <p:blipFill>
          <a:blip r:embed="rId1"/>
          <a:stretch/>
        </p:blipFill>
        <p:spPr>
          <a:xfrm>
            <a:off x="24912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324000" y="1916280"/>
            <a:ext cx="83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Intercambiar experiencias para el crecimiento individual y colectivo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mpliar los límites físicos, sociales y subjetivos de la producción de conocimiento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uscar soluciones a problemas comun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Sistematizar la información con fines estadístic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81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84" name="1 Título" descr=""/>
          <p:cNvPicPr/>
          <p:nvPr/>
        </p:nvPicPr>
        <p:blipFill>
          <a:blip r:embed="rId2"/>
          <a:stretch/>
        </p:blipFill>
        <p:spPr>
          <a:xfrm>
            <a:off x="469800" y="47628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395280" y="1989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Según Lederach la red de relaciones interpersonales que se establece en una sociedad es fundamental para sostener los cambios sociales constructivos y generativ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Como la araña, se trata de cuidar y proteger el espacio, manteniendo vivas las relaciones entre las diversas personas/institucion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6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87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AR" sz="4400" spc="-1" strike="noStrike">
                <a:solidFill>
                  <a:srgbClr val="ffffff"/>
                </a:solidFill>
                <a:latin typeface="Century Gothic"/>
              </a:rPr>
              <a:t>Cada uno alumbra su red al recorrerla y es fecundado por ella en su caminar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Elina Dab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9" name="6 Imagen" descr="Logo del Ministerio de Justicia"/>
          <p:cNvPicPr/>
          <p:nvPr/>
        </p:nvPicPr>
        <p:blipFill>
          <a:blip r:embed="rId1"/>
          <a:stretch/>
        </p:blipFill>
        <p:spPr>
          <a:xfrm>
            <a:off x="611280" y="9216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90" name="7 Imagen" descr="logo_dnmymprc_x_180.jpg"/>
          <p:cNvPicPr/>
          <p:nvPr/>
        </p:nvPicPr>
        <p:blipFill>
          <a:blip r:embed="rId2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1 Título" descr=""/>
          <p:cNvPicPr/>
          <p:nvPr/>
        </p:nvPicPr>
        <p:blipFill>
          <a:blip r:embed="rId1"/>
          <a:stretch/>
        </p:blipFill>
        <p:spPr>
          <a:xfrm>
            <a:off x="755640" y="835200"/>
            <a:ext cx="8229600" cy="18111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2781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Qué podría cada nodo aportar a la Red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Qué podría aportar al instrumento de recolección de dato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95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Título" descr=""/>
          <p:cNvPicPr/>
          <p:nvPr/>
        </p:nvPicPr>
        <p:blipFill>
          <a:blip r:embed="rId1"/>
          <a:stretch/>
        </p:blipFill>
        <p:spPr>
          <a:xfrm>
            <a:off x="542880" y="76212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39528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4000" spc="-1" strike="noStrike">
                <a:solidFill>
                  <a:srgbClr val="ffffff"/>
                </a:solidFill>
                <a:latin typeface="Century Gothic"/>
              </a:rPr>
              <a:t>Enumeren características que consideran “buenas prácticas” en mediación comunitaria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00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95280" y="177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onjunto de principios, medidas, actuaciones y experiencias que, habiendo reportado ventajas de distinto tipo (económicas, sociales, de satisfacción, etc.) para la organización de forma constatada y probada, se puedan plantear como posibles referentes para acercar la mejora a otras organizaciones, para lo cual debe haber completado el ciclo de: planificación, implantación, revisión y mejora, lo que permite considerarla como sostenible y, además, debe estar vigente en el momento de la presentación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ffffff"/>
                </a:solidFill>
                <a:latin typeface="Century Gothic"/>
              </a:rPr>
              <a:t>Fuente: Cátedra Unesco/Unión Politécnica de Catalunya (redtelescopi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4" name="7 Imagen" descr="logo_dnmymprc_x_180.jpg"/>
          <p:cNvPicPr/>
          <p:nvPr/>
        </p:nvPicPr>
        <p:blipFill>
          <a:blip r:embed="rId2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05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08" name="1 Título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1000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omo ejemplo tomamos estos indicadores de Cruz Roja sobre buenas prácticas en la inclusión social, desarrollado en 2007, que incluye criterios para la detección y selección de Buenas Prácticas; seleccionando los que entendemos más aplicables a la mediación comunitar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Produce un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impacto social positivo, medible y prolongado en el tiemp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Da lugar a la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participación de las propias personas afectada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Promueve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habilidades y capacidades de los participant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Fomenta la creación y el fortalecimiento de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vínculos comunitario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Favorece la participación de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voluntarios en el proyect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Se tiene en cuenta la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perspectiva de géner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0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1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Da lugar al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cuestionamiento de enfoques tradicionales de intervención frente a la exclusión social </a:t>
            </a: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y las salidas posibl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Estimula la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Innovación y Optimización en el aprovechamiento de los recurso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Hace primar los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objetivos cualitativos sobre los cuantitativo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Diseña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respuestas específicas para necesidades particular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Aprovecha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eficazmente los recursos existent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4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15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18" name="1 Título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MEDIADORES Y OTRAS PERSONAS QUE PRESTAN EL SERVICIO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Selección de las personas que prestarán el servicio orientado a las necesidades y objetivos propuestos, con énfasis en: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i="1" lang="es-AR" sz="1700" spc="-1" strike="noStrike">
                <a:solidFill>
                  <a:srgbClr val="ffffff"/>
                </a:solidFill>
                <a:latin typeface="Century Gothic"/>
              </a:rPr>
              <a:t>ocación social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ffffff"/>
                </a:solidFill>
                <a:latin typeface="Century Gothic"/>
              </a:rPr>
              <a:t>Actitud y perfil requerid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ffffff"/>
                </a:solidFill>
                <a:latin typeface="Century Gothic"/>
              </a:rPr>
              <a:t>Aptitud y capacidades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Formación de calidad a los mediadores, teniendo en cuenta como fase importante del proceso de formación, la selección de las personas que se formarán como mediador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Establecimiento de un programa de formación continu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0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324000" y="90360"/>
            <a:ext cx="2228760" cy="613080"/>
          </a:xfrm>
          <a:prstGeom prst="rect">
            <a:avLst/>
          </a:prstGeom>
          <a:ln w="0">
            <a:noFill/>
          </a:ln>
        </p:spPr>
      </p:pic>
      <p:pic>
        <p:nvPicPr>
          <p:cNvPr id="42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31" name="3 CuadroTexto"/>
          <p:cNvSpPr/>
          <p:nvPr/>
        </p:nvSpPr>
        <p:spPr>
          <a:xfrm>
            <a:off x="1332000" y="1557360"/>
            <a:ext cx="64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Es una forma de pensar el mundo</a:t>
            </a: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Qu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Somos parte de un todo que nos afecta del mismo modo que nosotros afectamos al todo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Las partes están interrelacionadas y son interdependient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El todo es más que la suma de las par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7 Imagen" descr="logo_dnmymprc_x_180.jpg"/>
          <p:cNvPicPr/>
          <p:nvPr/>
        </p:nvPicPr>
        <p:blipFill>
          <a:blip r:embed="rId2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33" name="6 Imagen" descr="Logo del Ministerio de Justic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Título" descr=""/>
          <p:cNvPicPr/>
          <p:nvPr/>
        </p:nvPicPr>
        <p:blipFill>
          <a:blip r:embed="rId1"/>
          <a:stretch/>
        </p:blipFill>
        <p:spPr>
          <a:xfrm>
            <a:off x="469800" y="554040"/>
            <a:ext cx="8229600" cy="1251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RESTACIÓN DEL SERVICIO DE MEDIACIÓN COMUNITAR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restación del servicio en forma gratuit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Brindar información adecuada y en forma clara y sencilla, adaptada a las capacidades y necesidades de las personas que requieran el servicio acerca d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servicios del centro de mediación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- características del proceso y el rol del mediado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restar el servicio en tiempos necesarios y adecuados </a:t>
            </a:r>
            <a:r>
              <a:rPr b="0" lang="es-AR" sz="1600" spc="-1" strike="noStrike">
                <a:solidFill>
                  <a:srgbClr val="ffffff"/>
                </a:solidFill>
                <a:latin typeface="Century Gothic"/>
              </a:rPr>
              <a:t>(con definición de parámetros temporales y tiempos de espera)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Resguardo de la confidencialidad de los datos proporcionados por consultantes y participantes de una mediación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4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25092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25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28" name="1 Título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2500" spc="-1" strike="noStrike" u="sng">
                <a:solidFill>
                  <a:srgbClr val="ffffff"/>
                </a:solidFill>
                <a:uFillTx/>
                <a:latin typeface="Century Gothic"/>
              </a:rPr>
              <a:t>DATOS DEL CENTRO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UBICACIÓN: CALLE, LOCALIDAD, PROVINC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DEPENDENCIA (administrativa / otr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ANTIDAD DE MEDIADOR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SERVICIOS QUE PREST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ANTIDAD DE SALAS DE MEDIACIÓ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RITERIOS DE ADMISIÓN (sí / no / cuál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ERFIL DE POBLACIÓN QUE ACCEDE AL SERVI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ACCESO A INTERNET (sí / no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TIPO DE NOTIFICACION (personal / correo / nota / carta documento / teléfono, otra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DIFICULTADES CON LA ASISTENCIA (sí / no / cuál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OBSERVACI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1 Título"/>
          <p:cNvSpPr/>
          <p:nvPr/>
        </p:nvSpPr>
        <p:spPr>
          <a:xfrm>
            <a:off x="2556000" y="115920"/>
            <a:ext cx="3887640" cy="158436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33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LEVAMIENTO DE DATOS PARA L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D FEDERAL 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CENTROS DE MEDIACIÓN COMUNIT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1" name="7 Imagen" descr="logo_dnmymprc_x_180.jpg"/>
          <p:cNvPicPr/>
          <p:nvPr/>
        </p:nvPicPr>
        <p:blipFill>
          <a:blip r:embed="rId14"/>
          <a:stretch/>
        </p:blipFill>
        <p:spPr>
          <a:xfrm>
            <a:off x="6875640" y="393840"/>
            <a:ext cx="1888920" cy="603000"/>
          </a:xfrm>
          <a:prstGeom prst="rect">
            <a:avLst/>
          </a:prstGeom>
          <a:ln w="0">
            <a:noFill/>
          </a:ln>
        </p:spPr>
      </p:pic>
      <p:pic>
        <p:nvPicPr>
          <p:cNvPr id="432" name="6 Imagen" descr="Logo del Ministerio de Justicia"/>
          <p:cNvPicPr/>
          <p:nvPr/>
        </p:nvPicPr>
        <p:blipFill>
          <a:blip r:embed="rId15"/>
          <a:stretch/>
        </p:blipFill>
        <p:spPr>
          <a:xfrm>
            <a:off x="237960" y="260280"/>
            <a:ext cx="222912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34" name="1 Título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entury Gothic"/>
              </a:rPr>
              <a:t>DATOS DE LAS MEDIACI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FICHA: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  <a:ea typeface="Verdan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CENTRO O INSTITUCIÓN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FECHA DE INICI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FECHA DE FINALIZACIÓN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NÚMERO DE CAS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CANTIDAD  DE AUDIENCIA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DERIVADO POR …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DERIVADO A …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ATENDIDO POR …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CARACTERÍSTICAS DE LAS PARTES (consultante, convocado): género, edad, nivel educativo, trabajo, otra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LOCALIDAD EN LA QUE VIVEN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1 Título"/>
          <p:cNvSpPr/>
          <p:nvPr/>
        </p:nvSpPr>
        <p:spPr>
          <a:xfrm>
            <a:off x="2556000" y="115920"/>
            <a:ext cx="3887640" cy="158436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33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LEVAMIENTO DE DATOS PARA L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D FEDERAL 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CENTROS DE MEDIACIÓN COMUNIT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7" name="7 Imagen" descr="logo_dnmymprc_x_180.jpg"/>
          <p:cNvPicPr/>
          <p:nvPr/>
        </p:nvPicPr>
        <p:blipFill>
          <a:blip r:embed="rId13"/>
          <a:stretch/>
        </p:blipFill>
        <p:spPr>
          <a:xfrm>
            <a:off x="6804000" y="476280"/>
            <a:ext cx="1889280" cy="603360"/>
          </a:xfrm>
          <a:prstGeom prst="rect">
            <a:avLst/>
          </a:prstGeom>
          <a:ln w="0">
            <a:noFill/>
          </a:ln>
        </p:spPr>
      </p:pic>
      <p:pic>
        <p:nvPicPr>
          <p:cNvPr id="438" name="6 Imagen" descr="Logo del Ministerio de Justicia"/>
          <p:cNvPicPr/>
          <p:nvPr/>
        </p:nvPicPr>
        <p:blipFill>
          <a:blip r:embed="rId14"/>
          <a:stretch/>
        </p:blipFill>
        <p:spPr>
          <a:xfrm>
            <a:off x="250920" y="312840"/>
            <a:ext cx="222876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 u="sng">
                <a:solidFill>
                  <a:srgbClr val="ffffff"/>
                </a:solidFill>
                <a:uFillTx/>
                <a:latin typeface="Century Gothic"/>
              </a:rPr>
              <a:t>DATOS DEL ACTA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TEMA: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ruidos molestos, medianería, filtraciones, animales domésticos, convivencia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cuestiones de familia, problemas municipales, servicios públicos, sucesiones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cuestiones penales, comerciales, contractuales, laborales, otros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RESULTADO: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No se medió por ausencia de Requerido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No se medió por ausencia de Requirente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No se medió por ausencia de Requerido y Requirente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Imposibilidad de notificar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con acuerdo parcial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con acuerdo total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sin acuerdo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y continúa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TIPO DE NOTIFICACIO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REAPERTURA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MEDIADOR    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1 Título"/>
          <p:cNvSpPr/>
          <p:nvPr/>
        </p:nvSpPr>
        <p:spPr>
          <a:xfrm>
            <a:off x="2556000" y="115920"/>
            <a:ext cx="3887640" cy="158436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33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LEVAMIENTO DE DATOS PARA L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D FEDERAL 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CENTROS DE MEDIACIÓN COMUNIT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2" name="7 Imagen" descr="logo_dnmymprc_x_180.jpg"/>
          <p:cNvPicPr/>
          <p:nvPr/>
        </p:nvPicPr>
        <p:blipFill>
          <a:blip r:embed="rId2"/>
          <a:stretch/>
        </p:blipFill>
        <p:spPr>
          <a:xfrm>
            <a:off x="6783480" y="37296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43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108000" y="36360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36" name="1 Título" descr=""/>
          <p:cNvPicPr/>
          <p:nvPr/>
        </p:nvPicPr>
        <p:blipFill>
          <a:blip r:embed="rId2"/>
          <a:stretch/>
        </p:blipFill>
        <p:spPr>
          <a:xfrm>
            <a:off x="633240" y="658800"/>
            <a:ext cx="8229600" cy="1455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53640" y="1196640"/>
            <a:ext cx="80024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Conjunto organizado de elementos dinámicamente relacionados (interactúan entre sí), interdependientes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que forman un todo complejo, identificable y distinto,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que busca alcanzar un objetiv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2" descr="C:\Users\mmarkus\Pictures\10042142-sistema-solar.jpg"/>
          <p:cNvPicPr/>
          <p:nvPr/>
        </p:nvPicPr>
        <p:blipFill>
          <a:blip r:embed="rId3"/>
          <a:stretch/>
        </p:blipFill>
        <p:spPr>
          <a:xfrm>
            <a:off x="2050920" y="4653000"/>
            <a:ext cx="3564000" cy="2593800"/>
          </a:xfrm>
          <a:prstGeom prst="rect">
            <a:avLst/>
          </a:prstGeom>
          <a:ln w="0">
            <a:noFill/>
          </a:ln>
        </p:spPr>
      </p:pic>
      <p:pic>
        <p:nvPicPr>
          <p:cNvPr id="339" name="6 Imagen" descr="Logo del Ministerio de Justic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40" name="7 Imagen" descr="logo_dnmymprc_x_180.jpg"/>
          <p:cNvPicPr/>
          <p:nvPr/>
        </p:nvPicPr>
        <p:blipFill>
          <a:blip r:embed="rId6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42" name="1 Título" descr=""/>
          <p:cNvPicPr/>
          <p:nvPr/>
        </p:nvPicPr>
        <p:blipFill>
          <a:blip r:embed="rId2"/>
          <a:stretch/>
        </p:blipFill>
        <p:spPr>
          <a:xfrm>
            <a:off x="46980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red comienza cuando la araña salva un espacio dado creando puntos de ancl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segunda serie de hilos completa el armazón uniendo los puntos de ancl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Por último van añadiendo espirales auxiliares, más resistentes, rellenando los espacios con hilos de captura concéntric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6 Imagen" descr="Logo del Ministerio de Justic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45" name="7 Imagen" descr="logo_dnmymprc_x_180.jpg"/>
          <p:cNvPicPr/>
          <p:nvPr/>
        </p:nvPicPr>
        <p:blipFill>
          <a:blip r:embed="rId5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1 Título" descr=""/>
          <p:cNvPicPr/>
          <p:nvPr/>
        </p:nvPicPr>
        <p:blipFill>
          <a:blip r:embed="rId1"/>
          <a:stretch/>
        </p:blipFill>
        <p:spPr>
          <a:xfrm>
            <a:off x="542880" y="62244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92040" y="1989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estructura de la telaraña combina conexiones interdependientes con independencia localizada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fuerza se construye creando coordinación en el centro sin centralización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J. Paul Ledera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49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52" name="1 Título" descr=""/>
          <p:cNvPicPr/>
          <p:nvPr/>
        </p:nvPicPr>
        <p:blipFill>
          <a:blip r:embed="rId2"/>
          <a:stretch/>
        </p:blipFill>
        <p:spPr>
          <a:xfrm>
            <a:off x="585720" y="476280"/>
            <a:ext cx="8229600" cy="1438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Users\mmarkus\Pictures\nodos red.jpg"/>
          <p:cNvPicPr/>
          <p:nvPr/>
        </p:nvPicPr>
        <p:blipFill>
          <a:blip r:embed="rId3"/>
          <a:stretch/>
        </p:blipFill>
        <p:spPr>
          <a:xfrm>
            <a:off x="4211640" y="5151600"/>
            <a:ext cx="1833480" cy="1539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Los NODOS: son los puntos o lugares de la Red (personas, grupos, instituciones) en los cuales confluyen de manera estable los lazos o hilos de la Red (recursos, relaciones, interacciones)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Los NODOS contribuyen a la estabilidad y por lo tanto a la permanencia y seguridad de la Red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6 Imagen" descr="Logo del Ministerio de Justic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56" name="7 Imagen" descr="logo_dnmymprc_x_180.jpg"/>
          <p:cNvPicPr/>
          <p:nvPr/>
        </p:nvPicPr>
        <p:blipFill>
          <a:blip r:embed="rId6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314280" y="407880"/>
            <a:ext cx="8425080" cy="6183360"/>
          </a:xfrm>
          <a:prstGeom prst="rect">
            <a:avLst/>
          </a:prstGeom>
          <a:ln w="0">
            <a:noFill/>
          </a:ln>
        </p:spPr>
      </p:pic>
      <p:pic>
        <p:nvPicPr>
          <p:cNvPr id="360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6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65720"/>
            <a:ext cx="91440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1 Título" descr=""/>
          <p:cNvPicPr/>
          <p:nvPr/>
        </p:nvPicPr>
        <p:blipFill>
          <a:blip r:embed="rId1"/>
          <a:stretch/>
        </p:blipFill>
        <p:spPr>
          <a:xfrm>
            <a:off x="54288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Develar  vínculos, dinámicas, valores, normas, mitos, rit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Identificar idearios compartid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Identificar a los actores sociales principal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Hacer un inventario de todo tipo de recursos de los que pueda disponer la r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66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395280" y="220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Establecimiento de objetivos y metas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Generar estrategias de trabaj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Construir sistemas de informació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Establecer parámetros de medición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Generar procesos de conocimiento y reconocimiento mutu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7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6:56:56Z</dcterms:created>
  <dc:creator>Miriam E Markus</dc:creator>
  <dc:description/>
  <dc:language>en-US</dc:language>
  <cp:lastModifiedBy>FATIMA FR</cp:lastModifiedBy>
  <cp:lastPrinted>2013-12-17T19:42:04Z</cp:lastPrinted>
  <dcterms:modified xsi:type="dcterms:W3CDTF">2015-01-30T16:32:26Z</dcterms:modified>
  <cp:revision>51</cp:revision>
  <dc:subject/>
  <dc:title>RED SOCIAL</dc:title>
</cp:coreProperties>
</file>