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9D9E-DE31-464E-89D1-AA967DB8861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B70-4062-40E7-8D17-A547335CCD72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4E00-60AF-4C4E-B2DE-7A140759BAAA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9C1-6E18-401E-AEF2-B13042966D10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0BB-D8D0-4E2C-A5E7-AE1EB51633E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9AF6-0113-4117-8EA1-4268C8C0F07A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D04A-5BC4-4474-BD2A-DF0C72627CF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E51B-7678-499A-9399-68B26A30AE99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142D-7CAE-4BAC-98B9-57360812CAD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A85-C8A8-4C27-B8A6-FF761737FB8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291C-8CDC-4762-9CF5-AD8D2A5E5C4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4BF-B213-406E-9ABB-2A6411F0F72E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759-594A-48EC-8C86-3B672546AC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C935-A4A9-46EC-AE60-C1B1ADF4E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2AD8-5374-4628-B244-F60C183699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F905-B9C0-4F15-98CD-1C50957B29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2707-8AB3-46A0-8D66-7F9C1D57C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C8F4-61AC-43E9-BCBA-F6C760C55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AC93-4AF7-404D-9EC6-C27237710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558C-58D6-4B54-9304-BA9F347BBA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4438-503A-4D47-A1AC-71489DF44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50CD-E959-4C7E-9136-1E202F1037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E6A1-58F1-4490-8653-5431234C07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1AA9-82CA-449A-BE73-71999F6AB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F17-41FE-43B1-9550-DEC3F015278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Proceso de Integración 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de los Centros de Empleo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a la Red Nacional</a:t>
            </a: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CB2-9819-4771-8B50-BE191101D0F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28 Rectángulo"/>
          <p:cNvSpPr/>
          <p:nvPr/>
        </p:nvSpPr>
        <p:spPr>
          <a:xfrm>
            <a:off x="2584440" y="206856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36 Rectángulo redondeado"/>
          <p:cNvSpPr/>
          <p:nvPr/>
        </p:nvSpPr>
        <p:spPr>
          <a:xfrm>
            <a:off x="235080" y="2068560"/>
            <a:ext cx="2212920" cy="601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48 Rectángulo"/>
          <p:cNvSpPr/>
          <p:nvPr/>
        </p:nvSpPr>
        <p:spPr>
          <a:xfrm>
            <a:off x="6215040" y="2068560"/>
            <a:ext cx="345744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9801360" y="2068560"/>
            <a:ext cx="276048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36 Rectángulo redondeado"/>
          <p:cNvSpPr/>
          <p:nvPr/>
        </p:nvSpPr>
        <p:spPr>
          <a:xfrm>
            <a:off x="257040" y="3046320"/>
            <a:ext cx="2213280" cy="80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yecto definitiv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28 Rectángulo"/>
          <p:cNvSpPr/>
          <p:nvPr/>
        </p:nvSpPr>
        <p:spPr>
          <a:xfrm>
            <a:off x="2584440" y="3046320"/>
            <a:ext cx="3456000" cy="13161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union técnica mensual para la formulación del Proyecto definitivo y Taller de gerenciamiento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Participan  los coordinadores de los Centros de empleo con pre proyecto aprob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10 Rectángulo"/>
          <p:cNvSpPr/>
          <p:nvPr/>
        </p:nvSpPr>
        <p:spPr>
          <a:xfrm>
            <a:off x="6215040" y="3046320"/>
            <a:ext cx="3457440" cy="60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Borrador del Proyecto definitivo para ser validado en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18 Rectángulo"/>
          <p:cNvSpPr/>
          <p:nvPr/>
        </p:nvSpPr>
        <p:spPr>
          <a:xfrm>
            <a:off x="9815400" y="3046320"/>
            <a:ext cx="2760840" cy="776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36 Rectángulo redondeado"/>
          <p:cNvSpPr/>
          <p:nvPr/>
        </p:nvSpPr>
        <p:spPr>
          <a:xfrm>
            <a:off x="264960" y="5381640"/>
            <a:ext cx="2213280" cy="97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evación al Ministerio del Proyecto definitiv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28 Rectángulo"/>
          <p:cNvSpPr/>
          <p:nvPr/>
        </p:nvSpPr>
        <p:spPr>
          <a:xfrm>
            <a:off x="2614680" y="4491000"/>
            <a:ext cx="3457440" cy="64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juste del Proyecto definitivo en las alcaldías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36 Rectángulo redondeado"/>
          <p:cNvSpPr/>
          <p:nvPr/>
        </p:nvSpPr>
        <p:spPr>
          <a:xfrm>
            <a:off x="264960" y="6680160"/>
            <a:ext cx="221328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on  del Proyecto de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28 Rectángulo"/>
          <p:cNvSpPr/>
          <p:nvPr/>
        </p:nvSpPr>
        <p:spPr>
          <a:xfrm>
            <a:off x="2614680" y="6673680"/>
            <a:ext cx="3457440" cy="121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oyecto definitiv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Validacion y/u observación para su mejor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34 Rectángulo"/>
          <p:cNvSpPr/>
          <p:nvPr/>
        </p:nvSpPr>
        <p:spPr>
          <a:xfrm>
            <a:off x="6243480" y="670572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35 Rectángulo"/>
          <p:cNvSpPr/>
          <p:nvPr/>
        </p:nvSpPr>
        <p:spPr>
          <a:xfrm>
            <a:off x="9821880" y="6680160"/>
            <a:ext cx="3058920" cy="817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Restitución del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28 Rectángulo"/>
          <p:cNvSpPr/>
          <p:nvPr/>
        </p:nvSpPr>
        <p:spPr>
          <a:xfrm>
            <a:off x="6215040" y="4486320"/>
            <a:ext cx="3457440" cy="7840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oyecto definitivo de Creacion de Centros de emple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28 Rectángulo"/>
          <p:cNvSpPr/>
          <p:nvPr/>
        </p:nvSpPr>
        <p:spPr>
          <a:xfrm>
            <a:off x="2627280" y="5381640"/>
            <a:ext cx="3457440" cy="790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oyecto de Crea cion de Centros de empleo por parte de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36 Rectángulo redondeado"/>
          <p:cNvSpPr/>
          <p:nvPr/>
        </p:nvSpPr>
        <p:spPr>
          <a:xfrm>
            <a:off x="274680" y="804384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rma del Convenio entre el Ministerio de Trabajo y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28 Rectángulo"/>
          <p:cNvSpPr/>
          <p:nvPr/>
        </p:nvSpPr>
        <p:spPr>
          <a:xfrm>
            <a:off x="2602080" y="8048520"/>
            <a:ext cx="3456000" cy="8254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Firma del Convenio entre partes al cual se adjunta el proyecto de Creacion del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37 Rectángulo"/>
          <p:cNvSpPr/>
          <p:nvPr/>
        </p:nvSpPr>
        <p:spPr>
          <a:xfrm>
            <a:off x="6234120" y="8043840"/>
            <a:ext cx="3457440" cy="790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 de Asistencia Tecnica para la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38 Rectángulo"/>
          <p:cNvSpPr/>
          <p:nvPr/>
        </p:nvSpPr>
        <p:spPr>
          <a:xfrm>
            <a:off x="9833040" y="8048520"/>
            <a:ext cx="3058920" cy="5763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24 Rectángulo"/>
          <p:cNvSpPr/>
          <p:nvPr/>
        </p:nvSpPr>
        <p:spPr>
          <a:xfrm>
            <a:off x="9833040" y="4486320"/>
            <a:ext cx="2760480" cy="7761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Documento aprobado por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6350-D1E8-40CF-99E8-D1B7C969F83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7 Rectángulo redondeado"/>
          <p:cNvSpPr/>
          <p:nvPr/>
        </p:nvSpPr>
        <p:spPr>
          <a:xfrm>
            <a:off x="3333600" y="2355840"/>
            <a:ext cx="6337440" cy="6624720"/>
          </a:xfrm>
          <a:custGeom>
            <a:avLst/>
            <a:gdLst>
              <a:gd name="textAreaLeft" fmla="*/ 309240 w 6337440"/>
              <a:gd name="textAreaRight" fmla="*/ 6028200 w 6337440"/>
              <a:gd name="textAreaTop" fmla="*/ 309240 h 6624720"/>
              <a:gd name="textAreaBottom" fmla="*/ 6315480 h 6624720"/>
            </a:gdLst>
            <a:ahLst/>
            <a:rect l="textAreaLeft" t="textAreaTop" r="textAreaRight" b="textAreaBottom"/>
            <a:pathLst>
              <a:path w="21600" h="22579">
                <a:moveTo>
                  <a:pt x="3600" y="0"/>
                </a:moveTo>
                <a:arcTo wR="3600" hR="3600" stAng="16200000" swAng="-5400000"/>
                <a:lnTo>
                  <a:pt x="0" y="18979"/>
                </a:lnTo>
                <a:arcTo wR="3600" hR="3600" stAng="10800000" swAng="-5400000"/>
                <a:lnTo>
                  <a:pt x="18000" y="22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orriente para un añ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Ac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ult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ron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pons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49A-F537-45EF-8780-52663C400E5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9600" y="329256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560"/>
                <a:gridCol w="498600"/>
                <a:gridCol w="501840"/>
                <a:gridCol w="501480"/>
                <a:gridCol w="495360"/>
                <a:gridCol w="495360"/>
                <a:gridCol w="49212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45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59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1 Rectángulo"/>
          <p:cNvSpPr/>
          <p:nvPr/>
        </p:nvSpPr>
        <p:spPr>
          <a:xfrm>
            <a:off x="1389240" y="1835280"/>
            <a:ext cx="10729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oyecto de Creacion de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lanificación  del primer añ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0EF-B74D-4E43-B9C6-075DC3818A3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1 Rectángulo"/>
          <p:cNvSpPr/>
          <p:nvPr/>
        </p:nvSpPr>
        <p:spPr>
          <a:xfrm>
            <a:off x="453960" y="206856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6532560" y="211464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2 Rectángulo redondeado"/>
          <p:cNvSpPr/>
          <p:nvPr/>
        </p:nvSpPr>
        <p:spPr>
          <a:xfrm>
            <a:off x="4559400" y="915840"/>
            <a:ext cx="374472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8 Rectángulo redondeado"/>
          <p:cNvSpPr/>
          <p:nvPr/>
        </p:nvSpPr>
        <p:spPr>
          <a:xfrm>
            <a:off x="138924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9 Rectángulo redondeado"/>
          <p:cNvSpPr/>
          <p:nvPr/>
        </p:nvSpPr>
        <p:spPr>
          <a:xfrm>
            <a:off x="758196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7 Recortar rectángulo de esquina sencilla"/>
          <p:cNvSpPr/>
          <p:nvPr/>
        </p:nvSpPr>
        <p:spPr>
          <a:xfrm>
            <a:off x="453960" y="3243240"/>
            <a:ext cx="33116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1.- Solicitud por parte de la Alcaldí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a integrarse  a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Agencias de Colocacion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11 Elipse"/>
          <p:cNvSpPr/>
          <p:nvPr/>
        </p:nvSpPr>
        <p:spPr>
          <a:xfrm>
            <a:off x="3981600" y="3267000"/>
            <a:ext cx="2305080" cy="817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arta de la  alcaldí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15 Recortar rectángulo de esquina sencilla"/>
          <p:cNvSpPr/>
          <p:nvPr/>
        </p:nvSpPr>
        <p:spPr>
          <a:xfrm>
            <a:off x="453960" y="4427640"/>
            <a:ext cx="3311640" cy="1133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2.- Planificación de un Taller de sen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sibilización en la alcaldia par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actores  responsables de la firm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acuerdo final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16 Elipse"/>
          <p:cNvSpPr/>
          <p:nvPr/>
        </p:nvSpPr>
        <p:spPr>
          <a:xfrm>
            <a:off x="3943440" y="4338720"/>
            <a:ext cx="2319120" cy="1312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Taller de sensibilizació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Fichas de sopor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17 Recortar rectángulo de esquina sencilla"/>
          <p:cNvSpPr/>
          <p:nvPr/>
        </p:nvSpPr>
        <p:spPr>
          <a:xfrm>
            <a:off x="453960" y="5921280"/>
            <a:ext cx="3311640" cy="11509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3.-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Creacion de Centro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18 Elipse"/>
          <p:cNvSpPr/>
          <p:nvPr/>
        </p:nvSpPr>
        <p:spPr>
          <a:xfrm>
            <a:off x="3959280" y="5921280"/>
            <a:ext cx="2303280" cy="1150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4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Pre Proyecto de Creacion de Centro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19 Recortar rectángulo de esquina sencilla"/>
          <p:cNvSpPr/>
          <p:nvPr/>
        </p:nvSpPr>
        <p:spPr>
          <a:xfrm>
            <a:off x="453960" y="7613640"/>
            <a:ext cx="332280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4.- Aprobación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e proyecto  de Creacion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entros de empleo y AT para l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elaboración del Proyecto fina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20 Elipse"/>
          <p:cNvSpPr/>
          <p:nvPr/>
        </p:nvSpPr>
        <p:spPr>
          <a:xfrm>
            <a:off x="3973680" y="7548480"/>
            <a:ext cx="230472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5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Solicitud de AT para la elaboración del proyecto final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21 Recortar rectángulo de esquina sencilla"/>
          <p:cNvSpPr/>
          <p:nvPr/>
        </p:nvSpPr>
        <p:spPr>
          <a:xfrm>
            <a:off x="6532560" y="3267000"/>
            <a:ext cx="3498840" cy="8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5.- Reunion tecnica con coordin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res para completar el Proyecto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reacion de Centros 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22 Elipse"/>
          <p:cNvSpPr/>
          <p:nvPr/>
        </p:nvSpPr>
        <p:spPr>
          <a:xfrm>
            <a:off x="10191600" y="3219480"/>
            <a:ext cx="2303640" cy="1033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6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Proyecto de Creacion de Centros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23 Recortar rectángulo de esquina sencilla"/>
          <p:cNvSpPr/>
          <p:nvPr/>
        </p:nvSpPr>
        <p:spPr>
          <a:xfrm>
            <a:off x="6532560" y="4427640"/>
            <a:ext cx="34988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6.- Finalizacion y presentacio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royecto de Creacion de Centr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25 Recortar rectángulo de esquina sencilla"/>
          <p:cNvSpPr/>
          <p:nvPr/>
        </p:nvSpPr>
        <p:spPr>
          <a:xfrm>
            <a:off x="6532560" y="5891040"/>
            <a:ext cx="3498840" cy="857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7.- Aprobación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oyecto de Creacion de Centros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26 Recortar rectángulo de esquina sencilla"/>
          <p:cNvSpPr/>
          <p:nvPr/>
        </p:nvSpPr>
        <p:spPr>
          <a:xfrm>
            <a:off x="6532560" y="7116840"/>
            <a:ext cx="3498840" cy="8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8.- Firma del Convenio entre la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27 Elipse"/>
          <p:cNvSpPr/>
          <p:nvPr/>
        </p:nvSpPr>
        <p:spPr>
          <a:xfrm>
            <a:off x="10174320" y="7072200"/>
            <a:ext cx="230508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onveni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9FE-3125-4E02-9133-4D29CB3D1D9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de la red de Agencias de Colocacion en el territo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02B-2061-4C51-8B4B-33CE653F269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4154-AFF6-4B59-9FB2-8D6BC48C7BA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0A2-41B2-4435-B6B1-BA39E722BD0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rear el 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A7B8-CED8-4E70-9058-C8067327D2E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elaboracion y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e proyecto de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Integración  de  los  Centros de empleo en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822D-B8B4-4C6E-B032-8E7886CE0CC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Tramitación del expediente de autorización com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gencia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                                                           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actos preliminares con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Reuniones de sensibiliz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sistencia técnica para presentar el expediente de ap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bacion como Centro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Presentación del Expedien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probación del Expediente. Numer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B545-77C9-49DA-BC2E-92044BC2EEE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28 Rectángulo"/>
          <p:cNvSpPr/>
          <p:nvPr/>
        </p:nvSpPr>
        <p:spPr>
          <a:xfrm>
            <a:off x="2608200" y="200340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36 Rectángulo redondeado"/>
          <p:cNvSpPr/>
          <p:nvPr/>
        </p:nvSpPr>
        <p:spPr>
          <a:xfrm>
            <a:off x="293760" y="1996920"/>
            <a:ext cx="2212920" cy="601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48 Rectángulo"/>
          <p:cNvSpPr/>
          <p:nvPr/>
        </p:nvSpPr>
        <p:spPr>
          <a:xfrm>
            <a:off x="6230880" y="200340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/Evidencia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7 Rectángulo"/>
          <p:cNvSpPr/>
          <p:nvPr/>
        </p:nvSpPr>
        <p:spPr>
          <a:xfrm>
            <a:off x="9829800" y="2003400"/>
            <a:ext cx="276084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36 Rectángulo redondeado"/>
          <p:cNvSpPr/>
          <p:nvPr/>
        </p:nvSpPr>
        <p:spPr>
          <a:xfrm>
            <a:off x="257040" y="2936880"/>
            <a:ext cx="2213280" cy="806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olicitud de asistencia tecnica para integrar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28 Rectángulo"/>
          <p:cNvSpPr/>
          <p:nvPr/>
        </p:nvSpPr>
        <p:spPr>
          <a:xfrm>
            <a:off x="2631960" y="2951280"/>
            <a:ext cx="3456000" cy="792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sentación por parte de la alcaldía de una solicitud para integrar la red de empleo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10 Rectángulo"/>
          <p:cNvSpPr/>
          <p:nvPr/>
        </p:nvSpPr>
        <p:spPr>
          <a:xfrm>
            <a:off x="6230880" y="295128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Carta de solicitud del alcalde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edido de asistencia técnic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36 Rectángulo redondeado"/>
          <p:cNvSpPr/>
          <p:nvPr/>
        </p:nvSpPr>
        <p:spPr>
          <a:xfrm>
            <a:off x="257040" y="386856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8 Rectángulo"/>
          <p:cNvSpPr/>
          <p:nvPr/>
        </p:nvSpPr>
        <p:spPr>
          <a:xfrm>
            <a:off x="2631960" y="3868560"/>
            <a:ext cx="3456000" cy="19828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l Ministerio de Trabajo a participar de un taller de sensibilización para la firma acuerd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 la alcaldía a todos los involucrados en la toma de decisión del acuerdo fi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articipación de los representantes de la alcaldía en un taller de sensi bilizac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15 Rectángulo"/>
          <p:cNvSpPr/>
          <p:nvPr/>
        </p:nvSpPr>
        <p:spPr>
          <a:xfrm>
            <a:off x="6230880" y="3873600"/>
            <a:ext cx="3457800" cy="9921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Taller de sensibilización brindado por el Ministerio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cta de desarrollo d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genda acord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8 Rectángulo"/>
          <p:cNvSpPr/>
          <p:nvPr/>
        </p:nvSpPr>
        <p:spPr>
          <a:xfrm>
            <a:off x="9829800" y="3868560"/>
            <a:ext cx="2760840" cy="2900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Guia para cumplir con los re quisit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 alcaldía apor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invitación a los inte grantes de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 desarrollo del taller con compromisos contraídos firmada por los asisten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s partes establecen una agenda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36 Rectángulo redondeado"/>
          <p:cNvSpPr/>
          <p:nvPr/>
        </p:nvSpPr>
        <p:spPr>
          <a:xfrm>
            <a:off x="258840" y="602928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mulgación de la Ordenanza Municip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28 Rectángulo"/>
          <p:cNvSpPr/>
          <p:nvPr/>
        </p:nvSpPr>
        <p:spPr>
          <a:xfrm>
            <a:off x="2620800" y="60609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de la ordenanza de Crea cion de la Agencia de Colocación 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22 Rectángulo"/>
          <p:cNvSpPr/>
          <p:nvPr/>
        </p:nvSpPr>
        <p:spPr>
          <a:xfrm>
            <a:off x="6213600" y="6060960"/>
            <a:ext cx="3457440" cy="8892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. Debe con templar el presupuesto relativo a espa cio físico, personal y gastos de funcio namiento y metas por un añ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36 Rectángulo redondeado"/>
          <p:cNvSpPr/>
          <p:nvPr/>
        </p:nvSpPr>
        <p:spPr>
          <a:xfrm>
            <a:off x="257040" y="705312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nalización y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28 Rectángulo"/>
          <p:cNvSpPr/>
          <p:nvPr/>
        </p:nvSpPr>
        <p:spPr>
          <a:xfrm>
            <a:off x="2608200" y="70581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e proyectó por parte de la Alcaldia para iniciar el proceso de asistencia técnic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27 Rectángulo"/>
          <p:cNvSpPr/>
          <p:nvPr/>
        </p:nvSpPr>
        <p:spPr>
          <a:xfrm>
            <a:off x="6208560" y="705816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 proyecto: Ficha institucional y justificación de la propues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29 Rectángulo"/>
          <p:cNvSpPr/>
          <p:nvPr/>
        </p:nvSpPr>
        <p:spPr>
          <a:xfrm>
            <a:off x="9780480" y="7053120"/>
            <a:ext cx="3059280" cy="115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como Agenc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invitación a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l taller de 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solicitud de A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36 Rectángulo redondeado"/>
          <p:cNvSpPr/>
          <p:nvPr/>
        </p:nvSpPr>
        <p:spPr>
          <a:xfrm>
            <a:off x="274680" y="807876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ón del Pre proyecto y pasaje a la siguiente fase de AT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28 Rectángulo"/>
          <p:cNvSpPr/>
          <p:nvPr/>
        </p:nvSpPr>
        <p:spPr>
          <a:xfrm>
            <a:off x="2631960" y="8078760"/>
            <a:ext cx="3456000" cy="119052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e proyect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Validacion y/u observación para su mejora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34 Rectángulo"/>
          <p:cNvSpPr/>
          <p:nvPr/>
        </p:nvSpPr>
        <p:spPr>
          <a:xfrm>
            <a:off x="6213600" y="8078760"/>
            <a:ext cx="3457440" cy="79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35 Rectángulo"/>
          <p:cNvSpPr/>
          <p:nvPr/>
        </p:nvSpPr>
        <p:spPr>
          <a:xfrm>
            <a:off x="9863280" y="8494560"/>
            <a:ext cx="3058920" cy="5749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stitución del pre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0B1A-1CBC-46A4-A71E-A44D3B7AAA1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1 Rectángulo redondeado"/>
          <p:cNvSpPr/>
          <p:nvPr/>
        </p:nvSpPr>
        <p:spPr>
          <a:xfrm>
            <a:off x="0" y="2214720"/>
            <a:ext cx="6502320" cy="6624360"/>
          </a:xfrm>
          <a:custGeom>
            <a:avLst/>
            <a:gdLst>
              <a:gd name="textAreaLeft" fmla="*/ 317160 w 6502320"/>
              <a:gd name="textAreaRight" fmla="*/ 6185160 w 6502320"/>
              <a:gd name="textAreaTop" fmla="*/ 317160 h 6624360"/>
              <a:gd name="textAreaBottom" fmla="*/ 6307200 h 6624360"/>
            </a:gdLst>
            <a:ahLst/>
            <a:rect l="textAreaLeft" t="textAreaTop" r="textAreaRight" b="textAreaBottom"/>
            <a:pathLst>
              <a:path w="21600" h="22005">
                <a:moveTo>
                  <a:pt x="3600" y="0"/>
                </a:moveTo>
                <a:arcTo wR="3600" hR="3600" stAng="16200000" swAng="-5400000"/>
                <a:lnTo>
                  <a:pt x="0" y="18405"/>
                </a:lnTo>
                <a:arcTo wR="3600" hR="3600" stAng="10800000" swAng="-5400000"/>
                <a:lnTo>
                  <a:pt x="18000" y="22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Ficha institucional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y/o del operado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1. Generalidades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2.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ondiciones materiales y físic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Human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Presupuesto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6667560" y="2201760"/>
            <a:ext cx="6337080" cy="6623280"/>
          </a:xfrm>
          <a:custGeom>
            <a:avLst/>
            <a:gdLst>
              <a:gd name="textAreaLeft" fmla="*/ 309240 w 6337080"/>
              <a:gd name="textAreaRight" fmla="*/ 6027840 w 6337080"/>
              <a:gd name="textAreaTop" fmla="*/ 309240 h 6623280"/>
              <a:gd name="textAreaBottom" fmla="*/ 6314040 h 6623280"/>
            </a:gdLst>
            <a:ahLst/>
            <a:rect l="textAreaLeft" t="textAreaTop" r="textAreaRight" b="textAreaBottom"/>
            <a:pathLst>
              <a:path w="21600" h="22575">
                <a:moveTo>
                  <a:pt x="3600" y="0"/>
                </a:moveTo>
                <a:arcTo wR="3600" hR="3600" stAng="16200000" swAng="-5400000"/>
                <a:lnTo>
                  <a:pt x="0" y="18975"/>
                </a:lnTo>
                <a:arcTo wR="3600" hR="3600" stAng="10800000" swAng="-5400000"/>
                <a:lnTo>
                  <a:pt x="18000" y="22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Fundamentación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Descripción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Caracteristicas producti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Dinámica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es primarias y secundar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 Económ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ores institucionales que p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n  contribuir a los objetivos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yect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blemas de empleo detecta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Posicionamiento del Centr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5 Rectángulo"/>
          <p:cNvSpPr/>
          <p:nvPr/>
        </p:nvSpPr>
        <p:spPr>
          <a:xfrm>
            <a:off x="5016600" y="1131840"/>
            <a:ext cx="34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Luffi</cp:lastModifiedBy>
  <dcterms:modified xsi:type="dcterms:W3CDTF">2013-09-11T23:24:00Z</dcterms:modified>
  <cp:revision>329</cp:revision>
  <dc:subject/>
  <dc:title>Titulo de la presentación -Subtítulo de la presentación-</dc:title>
</cp:coreProperties>
</file>