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2355-E23C-4360-A7C3-E4B94B5B6BD9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4CFA-6BA0-4930-BE20-3971E613B45F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AEE-ED5F-4A62-95E7-59832853438B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4214-2918-4B9A-8827-BE1A0134E6D8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3EF7-2EA8-4239-9BA6-886E780005EC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267A-AA09-4F12-8C5A-03C2EB9533CB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1A84-540F-4F9F-8066-1AC2181DA9F0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60B7-DDA3-4A76-988C-4AEA1F7BB575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8D34-9377-4843-9441-985758869E96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5054-F2FA-4746-8EE8-A6F5FBE15A66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5E0C-0714-4664-B83B-AAC42A2C7B88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096A-4A26-4CA1-BFD4-09AED95A21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97A2-FA69-43D4-8233-C5D2613BF0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6F61-0877-4754-8AD4-6CE3DCB33B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B860-64FD-4788-A92A-36901B4416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1721-A533-4084-BAB2-344EAC78F0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BEAD-B586-4350-8070-E4DB4ABABA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FE79-0A38-44C1-810A-700DD00FE2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963B-009A-4DAE-A259-98EB95A2D2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0803-D9DB-4255-B021-ED5E16D46F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7514-B169-482A-B07C-C768A9C9FC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F5C6-B99F-4555-BAE0-F8E0FA4564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F241-34F1-498B-B1C4-B7CD30807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2EF0-3A49-461D-9C0B-E4290551A78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-4525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99960" y="8067600"/>
            <a:ext cx="12204720" cy="14004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CasellaDiTesto 2"/>
          <p:cNvSpPr/>
          <p:nvPr/>
        </p:nvSpPr>
        <p:spPr>
          <a:xfrm>
            <a:off x="1533600" y="3940200"/>
            <a:ext cx="10801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ff"/>
                </a:solidFill>
                <a:latin typeface="Gill Sans"/>
              </a:rPr>
              <a:t>Ámbitos de intervención y asistencia técnica de Euro social en Hondura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ff"/>
                </a:solidFill>
                <a:latin typeface="Gill Sans"/>
              </a:rPr>
              <a:t>OCTUBRE 2014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asellaDiTesto 1"/>
          <p:cNvSpPr/>
          <p:nvPr/>
        </p:nvSpPr>
        <p:spPr>
          <a:xfrm>
            <a:off x="7000920" y="2281320"/>
            <a:ext cx="5648400" cy="61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l direccionamien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 las citas / pacto de servici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 los programas de políticas (incluye identificación de los potenciales beneficiario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atalogo de la oferta de formación profesional (opcional. Gestión de la formación profesiona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Monitor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Planificacion desarrollo loc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STS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Monitoreo/Evaluac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Toma de decis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Registro beneficiarios (Personas/Empresa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f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unciones mínim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Immagine 2" descr=""/>
          <p:cNvPicPr/>
          <p:nvPr/>
        </p:nvPicPr>
        <p:blipFill>
          <a:blip r:embed="rId2"/>
          <a:stretch/>
        </p:blipFill>
        <p:spPr>
          <a:xfrm>
            <a:off x="744480" y="2789280"/>
            <a:ext cx="5524560" cy="511164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1"/>
          <p:cNvSpPr/>
          <p:nvPr/>
        </p:nvSpPr>
        <p:spPr>
          <a:xfrm>
            <a:off x="744480" y="777564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sistema de información y gestión integr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sellaDiTesto 1"/>
          <p:cNvSpPr/>
          <p:nvPr/>
        </p:nvSpPr>
        <p:spPr>
          <a:xfrm>
            <a:off x="6993000" y="3147840"/>
            <a:ext cx="56484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les s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ajo cuales normas/Obligacion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la realizamo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CasellaDiTesto 8"/>
          <p:cNvSpPr/>
          <p:nvPr/>
        </p:nvSpPr>
        <p:spPr>
          <a:xfrm>
            <a:off x="669960" y="1198440"/>
            <a:ext cx="1195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tegración de los sistema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sistemas integr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2"/>
          <a:stretch/>
        </p:blipFill>
        <p:spPr>
          <a:xfrm>
            <a:off x="550800" y="2889360"/>
            <a:ext cx="5738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27120" y="2297160"/>
            <a:ext cx="5029200" cy="6553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1"/>
          <p:cNvSpPr/>
          <p:nvPr/>
        </p:nvSpPr>
        <p:spPr>
          <a:xfrm>
            <a:off x="6367320" y="2700360"/>
            <a:ext cx="6278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Integración de las oficinas territori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rticulación con los progra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laboración del modelo de Servicio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arentesi graffa aperta 2"/>
          <p:cNvSpPr/>
          <p:nvPr/>
        </p:nvSpPr>
        <p:spPr>
          <a:xfrm>
            <a:off x="5680080" y="2716200"/>
            <a:ext cx="663480" cy="591660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5916600"/>
              <a:gd name="textAreaBottom" fmla="*/ 5891400 h 591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"/>
                  <a:pt x="10800" y="296"/>
                </a:cubicBezTo>
                <a:lnTo>
                  <a:pt x="10800" y="10434"/>
                </a:lnTo>
                <a:cubicBezTo>
                  <a:pt x="10800" y="10582"/>
                  <a:pt x="5400" y="10730"/>
                  <a:pt x="0" y="10730"/>
                </a:cubicBezTo>
                <a:cubicBezTo>
                  <a:pt x="5400" y="10730"/>
                  <a:pt x="10800" y="10878"/>
                  <a:pt x="10800" y="11026"/>
                </a:cubicBezTo>
                <a:lnTo>
                  <a:pt x="10800" y="21304"/>
                </a:lnTo>
                <a:cubicBezTo>
                  <a:pt x="10800" y="21452"/>
                  <a:pt x="16200" y="21600"/>
                  <a:pt x="21600" y="2160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CasellaDiTesto 8"/>
          <p:cNvSpPr/>
          <p:nvPr/>
        </p:nvSpPr>
        <p:spPr>
          <a:xfrm>
            <a:off x="366840" y="108756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Diseño del nuevo modelo funcional del SPE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741240" y="5796000"/>
            <a:ext cx="481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ill Sans"/>
              </a:rPr>
              <a:t>Requisitos básicos para la puesta en marcha de la R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asellaDiTesto 1"/>
          <p:cNvSpPr/>
          <p:nvPr/>
        </p:nvSpPr>
        <p:spPr>
          <a:xfrm>
            <a:off x="6954840" y="2082960"/>
            <a:ext cx="56484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Gestión (diferentes y nuevo actor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operativos: Monitor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Operativ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ficiencia y efica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Análisis del contesto territor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Decisionales: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Operativ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ficiencia y efica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Análisis del contesto territor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Mesa/servicio de Asistencia y segui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Todos: Otros sistemas (capacitación a distanci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Actor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asellaDiTesto 1"/>
          <p:cNvSpPr/>
          <p:nvPr/>
        </p:nvSpPr>
        <p:spPr>
          <a:xfrm>
            <a:off x="6975360" y="2428920"/>
            <a:ext cx="5648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Difusión en el territor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dificio/escritorios etc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Computad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Capacitación bási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Capacitación en el sistem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Mesa de ayud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sistencia Hw/Sw/conectiv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Disponibilida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asellaDiTesto 1"/>
          <p:cNvSpPr/>
          <p:nvPr/>
        </p:nvSpPr>
        <p:spPr>
          <a:xfrm>
            <a:off x="6975360" y="2428920"/>
            <a:ext cx="5648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Equipo de Mantenimient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ción continua (nueva exigencia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ctualización continua (cambios organizativos/normativo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Gestión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asellaDiTesto 1"/>
          <p:cNvSpPr/>
          <p:nvPr/>
        </p:nvSpPr>
        <p:spPr>
          <a:xfrm>
            <a:off x="6975360" y="2428920"/>
            <a:ext cx="5648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Gestión de los usua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ctualización continua (codificación, normas/directiva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Uso y acceso (roles - quien hace qu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Normas de respaldo al transito/interconexión de las informaciones necesarias en la r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Regla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asellaDiTesto 1"/>
          <p:cNvSpPr/>
          <p:nvPr/>
        </p:nvSpPr>
        <p:spPr>
          <a:xfrm>
            <a:off x="6975360" y="2082960"/>
            <a:ext cx="56484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r el equipo de gestión del sistema informát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r la conectividad y asegurar su funcionamiento (proveedor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r la capacidad de intervención técnica territor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segurar apoyo a la capacit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Equipo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asellaDiTesto 1"/>
          <p:cNvSpPr/>
          <p:nvPr/>
        </p:nvSpPr>
        <p:spPr>
          <a:xfrm>
            <a:off x="6975360" y="2082960"/>
            <a:ext cx="564840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segurar una análisis adecuad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Implementar los cambios necesa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capacit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Realizar el piloto (hw/sw/internet/equipos etc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Puesta en marcha definitiv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nuevo SENAEH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04920" y="2860560"/>
            <a:ext cx="61722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asellaDiTesto 1"/>
          <p:cNvSpPr/>
          <p:nvPr/>
        </p:nvSpPr>
        <p:spPr>
          <a:xfrm>
            <a:off x="6975360" y="2171880"/>
            <a:ext cx="5648400" cy="68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uscadores de empl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atos personales (ej. contacto, residencia…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Perfil laboral (títulos de estudios, cursos de capacitaciones, experiencias laborales, idioma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ificultades psicofísic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aracterización del núcleo familiar (ej. composición, ingresos etc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isponibilidad / limitacione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Áreas de interé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urriculum Vita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Historia labor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ireccionamien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efinición de la empres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efinición de las sedes territori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 la vacan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f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unciones mínim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9" name="Immagine 2" descr=""/>
          <p:cNvPicPr/>
          <p:nvPr/>
        </p:nvPicPr>
        <p:blipFill>
          <a:blip r:embed="rId2"/>
          <a:stretch/>
        </p:blipFill>
        <p:spPr>
          <a:xfrm>
            <a:off x="744480" y="2789280"/>
            <a:ext cx="5524560" cy="511164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1"/>
          <p:cNvSpPr/>
          <p:nvPr/>
        </p:nvSpPr>
        <p:spPr>
          <a:xfrm>
            <a:off x="744480" y="777564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sistema de información y gestión integr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Eskinazi</dc:creator>
  <dc:description/>
  <dc:language>en-US</dc:language>
  <cp:lastModifiedBy>bgrp</cp:lastModifiedBy>
  <dcterms:modified xsi:type="dcterms:W3CDTF">2014-10-09T19:18:31Z</dcterms:modified>
  <cp:revision>364</cp:revision>
  <dc:subject/>
  <dc:title>Titulo de la presentación -Subtítulo de la presentación-</dc:title>
</cp:coreProperties>
</file>