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DEBDA-D7AC-40DB-BD04-D1C4B35B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F9370-46DE-4383-B587-02AD805A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112B3-07DC-4C56-93DB-8FECE2A8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7F64-C2B0-448E-871E-54253EDF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908B-7BBC-45C8-A00D-1F1C8BBE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7AF0-B15A-412B-9D39-897CA55E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9F4B-96CB-4D19-BBD5-B1BEE806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E750-B9E9-4049-B1A2-2DCBF336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A8D7-B8EE-47A3-AD4B-FAFFD1C0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23D1-1D91-4129-B442-7F452852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F5C6-2CCF-4536-B1D9-18B3ACE6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1E908-033A-4F1B-B8F4-5D27B67F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04FF-2048-4DCD-A7F1-CD123F6F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E679-ECA1-4E08-901B-0C09A52E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945C-4E20-49EF-B635-67A831D1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D2AF-2C8A-4AB3-860F-21BF202E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1AF6-08B6-4C6D-83B7-2187643C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93894-AD01-4FB3-95D5-9E043FA4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C1E6E-BE9D-4E39-A693-8B6A88C5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EBBC7-556A-4B3D-B20D-8BA3BE6D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FC0BB-D87D-46D0-9A73-3C74292B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883A-3917-491B-89AE-6AD95A37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B518C-BA86-466D-A8FD-98C10A24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64979-0394-4E50-8A6C-58974DFA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2FB3-81CA-4514-881E-038B581B16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3BB2-C508-4D4D-9DA7-A751ACCF37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VOLUCION DE LA</a:t>
            </a:r>
            <a:br>
              <a:rPr sz="4400"/>
            </a:b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PRESION TRIBUTARIA</a:t>
            </a:r>
            <a:br>
              <a:rPr sz="4400"/>
            </a:b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N ARGENTINA </a:t>
            </a:r>
            <a:br>
              <a:rPr sz="4400"/>
            </a:b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2004-2013</a:t>
            </a:r>
            <a:br>
              <a:rPr sz="4400"/>
            </a:br>
            <a:br>
              <a:rPr sz="4400"/>
            </a:br>
            <a:r>
              <a:rPr b="1" i="1" lang="es-AR" sz="4400" spc="-1" strike="noStrike" u="sng">
                <a:solidFill>
                  <a:srgbClr val="000000"/>
                </a:solidFill>
                <a:uFillTx/>
                <a:latin typeface="Arial"/>
              </a:rPr>
              <a:t>Hechos y di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884720" y="5866920"/>
            <a:ext cx="80172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ARGENTINA. 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PRESION TRIBUT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9214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503280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6840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530028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559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-495432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604000" y="5867280"/>
            <a:ext cx="82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7058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s causas del crecimiento 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 la presión tributaria en Argen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Decisiones de política tribu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No actualización escala Imp. a la R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Ausencia de ajuste por inf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Estatización sistema privado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Aumento alícuota Aportes Pers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Continuidad impuestos de la crisis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Crecimiento económic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PIB creció 5,5% anual durante 9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Consumo creció 6,9% anual durante 9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Empleo registrado creció 5,4% anual durante 9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Mejora administración tribu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Aumento productividad del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Medidas anti B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 u="sng">
                <a:solidFill>
                  <a:srgbClr val="000000"/>
                </a:solidFill>
                <a:uFillTx/>
                <a:latin typeface="Arial"/>
              </a:rPr>
              <a:t>Los dilemas de la política fis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ficacia / neutralidad / Equ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rto plazo /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Impuestos ortodoxos / impuestos “distorsiv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rnando Martin</cp:lastModifiedBy>
  <dcterms:modified xsi:type="dcterms:W3CDTF">2014-09-26T19:00:51Z</dcterms:modified>
  <cp:revision>15</cp:revision>
  <dc:subject/>
  <dc:title>  EVOLUCION DE LA PRESION TRIBUTARIA EN ARGENTINA  2004-2013 </dc:title>
</cp:coreProperties>
</file>