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254-FC41-46E8-ACF5-0E325404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2CB-EEC8-47F5-A1A0-F6CEBA92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D51-C9BB-4C7B-8DDC-04461979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BEF-34E2-4BDF-B470-F27500BC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47C-5866-4B9D-9159-C591A92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B82-BB29-4031-B659-12C9B59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FEB-D591-4750-B001-AB5D79CB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270-0B25-477B-8CBD-266C82D4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F76-F2F8-4B3C-9EE4-7DCBBB00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E8F-D58A-4338-AA30-F8645E61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108-FA2E-4C01-AA77-65805B4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469-75E6-4865-95F0-DDEEED7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30C03-9CE7-485A-9520-C0B5C2A463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98D1A-8049-496D-97CE-26679CB3D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31640" y="1733400"/>
            <a:ext cx="621036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100" spc="-1" strike="noStrike">
                <a:solidFill>
                  <a:srgbClr val="174a7c"/>
                </a:solidFill>
                <a:latin typeface="Adobe Garamond Pro"/>
              </a:rPr>
              <a:t>Eficiencia de los sistemas tributarios: El ejemplo de Andorr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174a7c"/>
                </a:solidFill>
                <a:latin typeface="Adobe Garamond Pro"/>
              </a:rPr>
              <a:t>Ministerio de Finanzas y Función Públ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174a7c"/>
                </a:solidFill>
                <a:latin typeface="Adobe Garamond Pro"/>
              </a:rPr>
              <a:t>Madrid, 30 de septiembre de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2232000" y="6308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Claves para el éxito del nuevo modelo de Administr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1 CuadroTexto"/>
          <p:cNvSpPr/>
          <p:nvPr/>
        </p:nvSpPr>
        <p:spPr>
          <a:xfrm>
            <a:off x="1835280" y="1268280"/>
            <a:ext cx="66960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Integración de las funciones de Aduanas y del Departamento de 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Reforma de la Ley General Tribut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Competencias de control y 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Regulación de los derechos del contribuyente – Información y a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Recaudación ejec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Nuevo Sistema integrad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Capacitación y alta calificación del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sta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8 Gráfico" descr=""/>
          <p:cNvPicPr/>
          <p:nvPr/>
        </p:nvPicPr>
        <p:blipFill>
          <a:blip r:embed="rId2"/>
          <a:stretch/>
        </p:blipFill>
        <p:spPr>
          <a:xfrm>
            <a:off x="1792440" y="1457280"/>
            <a:ext cx="6851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17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Gráfico 8"/>
          <p:cNvGraphicFramePr/>
          <p:nvPr/>
        </p:nvGraphicFramePr>
        <p:xfrm>
          <a:off x="1757520" y="1146240"/>
          <a:ext cx="7053120" cy="477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Gráfico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7520" y="1146240"/>
                    <a:ext cx="70531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25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Flujo de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0 Gráfico" descr=""/>
          <p:cNvPicPr/>
          <p:nvPr/>
        </p:nvPicPr>
        <p:blipFill>
          <a:blip r:embed="rId2"/>
          <a:stretch/>
        </p:blipFill>
        <p:spPr>
          <a:xfrm>
            <a:off x="1792440" y="1268280"/>
            <a:ext cx="70833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Modalidades de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10 Gráfico" descr=""/>
          <p:cNvPicPr/>
          <p:nvPr/>
        </p:nvPicPr>
        <p:blipFill>
          <a:blip r:embed="rId2"/>
          <a:stretch/>
        </p:blipFill>
        <p:spPr>
          <a:xfrm>
            <a:off x="1792440" y="1268280"/>
            <a:ext cx="6918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39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523880" y="1700280"/>
            <a:ext cx="7620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527120" y="47466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Arial"/>
              </a:rPr>
              <a:t>Departamento de Tributos y de Front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Arial"/>
              </a:rPr>
              <a:t>Ministerio de Finanzas y Fun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835280" y="525780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174a7c"/>
                </a:solidFill>
                <a:latin typeface="Adobe Garamond Pro"/>
              </a:rPr>
              <a:t>Superficie: 468 Km2                                        Población 70.000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174a7c"/>
                </a:solidFill>
                <a:latin typeface="Adobe Garamond Pro"/>
              </a:rPr>
              <a:t>PIB nominal (2013): 2.447,09 M€         Presupuesto (2014): 568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l Principado de Ando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2232000" y="1125360"/>
            <a:ext cx="6085080" cy="3525840"/>
          </a:xfrm>
          <a:prstGeom prst="rect">
            <a:avLst/>
          </a:prstGeom>
          <a:ln w="0">
            <a:noFill/>
          </a:ln>
        </p:spPr>
      </p:pic>
      <p:sp>
        <p:nvSpPr>
          <p:cNvPr id="53" name="Oval 10"/>
          <p:cNvSpPr/>
          <p:nvPr/>
        </p:nvSpPr>
        <p:spPr>
          <a:xfrm>
            <a:off x="4643280" y="2881440"/>
            <a:ext cx="505080" cy="662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Sistema tributario antes d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 CuadroTexto"/>
          <p:cNvSpPr/>
          <p:nvPr/>
        </p:nvSpPr>
        <p:spPr>
          <a:xfrm>
            <a:off x="1908000" y="1413000"/>
            <a:ext cx="66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Dos sistemas tributarios: Estado y ent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Predominio de la imposición in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Ausencia de gravamen sobre la renta de las actividades económicas y sobre las persona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Recaudación basada principalmente en la fiscalidad asociada al comercio ex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Nuevo modelo fi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 CuadroTexto"/>
          <p:cNvSpPr/>
          <p:nvPr/>
        </p:nvSpPr>
        <p:spPr>
          <a:xfrm>
            <a:off x="1908000" y="1484280"/>
            <a:ext cx="669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Cumplir con el precepto constitucional de contribución según capacidad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Garantizar al Estado un nivel de ingresos suficiente para sufragar las necesidades de inversión y la prestación de servici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Homologación internacional de la economía andor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Contribuir a la competitividad de la economía andorrana mediante la firma de C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Sistema fiscal de bases amplias y tipos mod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volución desd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 CuadroTexto"/>
          <p:cNvSpPr/>
          <p:nvPr/>
        </p:nvSpPr>
        <p:spPr>
          <a:xfrm>
            <a:off x="1835280" y="112536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09: Contabilidad obligatoria para todas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1: Impuesto sobre la renta de los no residentes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2: Impuesto sobre las sociedades y sobre la renta de las actividade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3: Impuesto general indirecto (tipo 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5: Impuesto sobre la renta de las personas físicas</a:t>
            </a:r>
            <a:r>
              <a:rPr b="1" lang="es-ES" sz="2400" spc="-1" strike="noStrike">
                <a:solidFill>
                  <a:srgbClr val="4f81bd"/>
                </a:solidFill>
                <a:latin typeface="Adobe Garamond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Sistema tributario d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3 Diagrama" descr=""/>
          <p:cNvPicPr/>
          <p:nvPr/>
        </p:nvPicPr>
        <p:blipFill>
          <a:blip r:embed="rId2"/>
          <a:stretch/>
        </p:blipFill>
        <p:spPr>
          <a:xfrm>
            <a:off x="1920960" y="1096920"/>
            <a:ext cx="6881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Nuevo modelo de Administr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 CuadroTexto"/>
          <p:cNvSpPr/>
          <p:nvPr/>
        </p:nvSpPr>
        <p:spPr>
          <a:xfrm>
            <a:off x="1835280" y="1484280"/>
            <a:ext cx="66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Integración de las funciones de Aduanas y del Departamento de 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Agrupación de los distintos aspectos relativos a la aplicación de los tributos: gestión, inspección y recau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Sujeción a un criterio unitario de 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Clara voluntad de servicio al ciudadano</a:t>
            </a:r>
            <a:r>
              <a:rPr b="1" lang="es-ES" sz="2400" spc="-1" strike="noStrike">
                <a:solidFill>
                  <a:srgbClr val="4f81bd"/>
                </a:solidFill>
                <a:latin typeface="Adobe Garamond Pro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Departamento de Tributos y de Fronteras (D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 CuadroTexto"/>
          <p:cNvSpPr/>
          <p:nvPr/>
        </p:nvSpPr>
        <p:spPr>
          <a:xfrm>
            <a:off x="1746360" y="1355760"/>
            <a:ext cx="669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Adscrito al Ministerio de Finan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Responsable único de la aplicación del sistema tributario de la Administración general y del sistema adua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Fusión de los Departamentos de Tributos y Aduanas a partir del 1 de febrero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Formado por unas 100 personas que se reparten las 4 grandes funciones: gestión, inspección, recaudación y comercio ex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Programa anual de act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a-ES" sz="3200" spc="-1" strike="noStrike">
                <a:solidFill>
                  <a:srgbClr val="4f81bd"/>
                </a:solidFill>
                <a:latin typeface="Adobe Garamond Pro"/>
              </a:rPr>
              <a:t>Organigrama del D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913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a-ES" sz="2000" spc="-1" strike="noStrike">
              <a:solidFill>
                <a:srgbClr val="4f81bd"/>
              </a:solidFill>
              <a:latin typeface="Adobe Garamond Pro"/>
            </a:endParaRPr>
          </a:p>
        </p:txBody>
      </p:sp>
      <p:pic>
        <p:nvPicPr>
          <p:cNvPr id="101" name="8 Diagrama" descr=""/>
          <p:cNvPicPr/>
          <p:nvPr/>
        </p:nvPicPr>
        <p:blipFill>
          <a:blip r:embed="rId2"/>
          <a:stretch/>
        </p:blipFill>
        <p:spPr>
          <a:xfrm>
            <a:off x="1523880" y="1554120"/>
            <a:ext cx="76266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6:42:32Z</dcterms:created>
  <dc:creator>Sonia R</dc:creator>
  <dc:description/>
  <dc:language>en-US</dc:language>
  <cp:lastModifiedBy>alumno</cp:lastModifiedBy>
  <dcterms:modified xsi:type="dcterms:W3CDTF">2014-09-30T10:04:10Z</dcterms:modified>
  <cp:revision>105</cp:revision>
  <dc:subject/>
  <dc:title>Slide 1</dc:title>
</cp:coreProperties>
</file>