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B8A-34D5-4F0F-B550-74E94AD8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F92-BE11-430E-A856-8AD80563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F4C-83F2-4153-B782-3D3C1FDC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3DE-CDD9-4DC7-B6DD-FF765734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5CCA-3A41-49BB-B983-37AE26CB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B9EB-DE49-4585-8118-9E02FF2B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7350-87DF-4AAE-B7A1-F2A18853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B04A-8660-4154-A124-DB99AC5A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2785-3F83-4E52-945D-1DC3E250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3456-0370-4717-A9C5-099EF513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AF92-54F6-4B7B-8880-064CE261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978-9369-4341-BA97-81218816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3D01-4C68-4CA3-A944-DF613DF9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8165-E300-4158-9D59-D7CA77E4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D7CA-AEFA-4F06-A375-C283F71D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A53D-831B-44B2-AAC3-06E56B40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335F-0476-4EBD-8013-F5C33454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0067-8A11-439C-9096-78C70971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E45D-031E-468C-94FC-BE5E4842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CCB3-4F2C-415E-928C-F061A879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8CE9-BAFC-4144-B8B2-D1EBA327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DDB2-1609-40DB-ADBF-D1B41495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F65-F95D-40DB-A786-7B0AAFBA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B545-B98E-43CA-835F-57B3F10B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1CF98-602A-471B-BA78-28FA6929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2D6F-C7D9-4383-A5C7-C0705CE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608CB-85B4-4DAE-B430-6C7F6979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6E17A-0EFC-4D29-908B-C73690FD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D11E-E6F9-4DDB-B89B-AF8F649B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DC0C-C0D7-4756-817A-3D8F34E9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3F0FB-2F3D-4016-BBC4-F6AC6138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1A0A-3E14-4CE8-B4E5-BBF71518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A5D8-76D9-4B95-8F27-9FD69EE2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C55-76BA-478A-8078-F3B08373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67E5F-4138-415B-95E0-8EC553C4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E8E86-489A-4B0B-AC0E-8C627D25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EC31-F3DB-4061-BF79-46598F5F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FC098-5639-4421-B42A-DFC4282F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2EE6D-3F64-41D1-9943-D3A4AE6C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8D472-7C8F-47EF-B920-E1D0D4E4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357E6-BFDD-4870-AB74-1AED3271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8DE6-6C72-4F18-B194-B629EA36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1AC17-27C2-4E3B-96D2-A9D00C5D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91F66-0A2D-4DAF-998E-9147E5B2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784-9E73-4408-9766-B54ADDD0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CFF68-5BE0-4809-BFC0-732799E2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AEE94-5D3A-4B96-BFAD-8E42E086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BE3C2-BDAC-423A-8B89-96D20EAF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3BF21-751F-41FF-856D-8EC703D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6D83-39C3-47E4-A1CA-DC1B5367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33AA7-F67F-4145-800E-F3B20BBB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7B789-EC7B-452C-A9D3-DC58DE6A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0529-15D8-4AE7-A192-D19EDF6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1537-9C47-4D50-8385-8405C1D1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A37A9-B5B1-4BDA-AEE0-4D4DA722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85E-BB26-4F04-9EE6-5ACA5535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96156-5D63-4E64-85AE-71A3E423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FF16B-E022-493E-9B11-452864B9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29DB2-BB9A-4148-B8D1-45A632CB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19EF-7ED2-45CA-9B69-A87C5C8B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05FB4-FCBB-42FF-B155-DBCDC0D9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C90F8-6829-4D6D-AC21-9739C43E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A911-3C52-4883-B8FE-ACF390E8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CFF5D-E529-4FD8-8898-6B3B4229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EE012-2BB5-4FC3-9ECC-68FAE23E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17F97-5E70-43BF-A922-11417021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CDF-C705-43D0-AC05-8A39068C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38300-B8DB-48AE-8D1C-98BE065F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0149-E71D-468B-BDC1-9327FE3F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908E-3BEE-4F69-BFF0-750268EE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53AC9-E837-4A21-B1CF-AFCE68DC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551AA-BE96-4A9F-A013-819EA01D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A0111-81F5-4CF8-962A-5E2485BA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F2EC3-787C-4DB0-A670-697D42E9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34B2E-E4EA-4E2F-92F5-12A3E94D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24DD2-4F9E-4A2F-A869-5B1272F9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F3A84-387A-449E-AF12-11BD51FB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01B-D836-47BD-90F2-BDFCE89F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E17F0-A0CB-4BD8-8CA1-AEAE5DA0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1F617-35EC-41B0-AB39-11A95DA5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4642D-3DC2-493A-B895-336A2767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CAFA3-1A99-40AA-8FDD-674248FF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5D6BF-1C58-4F0E-B04A-7A7C8FA2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5A39E-541D-43B4-8D6C-18FF1B5E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77499-625B-4E94-9CC8-07313564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3E914-16DB-4CE6-B1A7-5C8EB0BF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4E006-B86B-4E1B-A0F0-16DAB50F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7354-E513-4E72-AD82-CD77D908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099-F6E3-4B78-8D44-25D63A66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DB9A-159D-47E1-B17B-22713F12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B6483-AB87-4545-BBD2-A7C7BA3D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36E81-91E0-4E85-8EA2-6525C2F4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72CAA-409A-4955-A23A-95DEB9A7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0F382-B0FF-44DC-9547-D8485A58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BDD95-85E8-4FF7-A5BA-930613C8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AE3BC-2C49-4D3B-9F17-F8FE25A1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B6CC-5C2A-4FC6-A1AF-3917B1E2E6B5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A27A-BD96-4F97-BA29-34B249658716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95136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1028520" y="63082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DR. MAURICIO TRUJIL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3F74-691E-46B2-8D48-9B18016422AF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A894-07CB-4598-ADAA-A48CEF4A3C7E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8C3E-1728-4D82-8909-C0602ABD8096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F546-6D7C-48C0-8ACC-AE93FB9160CE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BBEC-83A4-48B5-B543-5F97A2D3F596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2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016D-125E-4CE5-9578-4D9EB9358446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640" y="414936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572314"/>
                </a:solidFill>
                <a:latin typeface="Gill Sans MT"/>
              </a:rPr>
              <a:t>METODOLOGÍA, JUSTIFICATIVOS Y HERRAMIENTAS QUE PERMITAN IDENTIFICAR EL UNIVERSO DE ENTIDADES PRIVADAS QUE MANEJEN FONDOS PÚBLICOS O POSEAN INFORMACIÓN PÚBLICA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4 Imagen" descr="descarga.jpg"/>
          <p:cNvPicPr/>
          <p:nvPr/>
        </p:nvPicPr>
        <p:blipFill>
          <a:blip r:embed="rId1"/>
          <a:stretch/>
        </p:blipFill>
        <p:spPr>
          <a:xfrm>
            <a:off x="2843280" y="907920"/>
            <a:ext cx="4011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72314"/>
                </a:solidFill>
                <a:latin typeface="Gill Sans MT"/>
              </a:rPr>
              <a:t>MARCO JURIDIC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0" name="3 Marcador de contenido" descr=""/>
          <p:cNvPicPr/>
          <p:nvPr/>
        </p:nvPicPr>
        <p:blipFill>
          <a:blip r:embed="rId1"/>
          <a:stretch/>
        </p:blipFill>
        <p:spPr>
          <a:xfrm>
            <a:off x="1352520" y="1395360"/>
            <a:ext cx="7658280" cy="4956120"/>
          </a:xfrm>
          <a:prstGeom prst="rect">
            <a:avLst/>
          </a:prstGeom>
          <a:ln w="0">
            <a:noFill/>
          </a:ln>
        </p:spPr>
      </p:pic>
      <p:sp>
        <p:nvSpPr>
          <p:cNvPr id="371" name="Cuadro de texto 5"/>
          <p:cNvSpPr/>
          <p:nvPr/>
        </p:nvSpPr>
        <p:spPr>
          <a:xfrm>
            <a:off x="4338720" y="1628640"/>
            <a:ext cx="145728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Calibri"/>
                <a:ea typeface="Arial"/>
              </a:rPr>
              <a:t>CONSTITUCION</a:t>
            </a: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Llamada con línea 1 4"/>
          <p:cNvSpPr/>
          <p:nvPr/>
        </p:nvSpPr>
        <p:spPr>
          <a:xfrm>
            <a:off x="2481120" y="2371680"/>
            <a:ext cx="1229040" cy="399960"/>
          </a:xfrm>
          <a:prstGeom prst="borderCallout1">
            <a:avLst>
              <a:gd name="adj1" fmla="val 18750"/>
              <a:gd name="adj2" fmla="val -8333"/>
              <a:gd name="adj3" fmla="val -94638"/>
              <a:gd name="adj4" fmla="val 174162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Calibri"/>
                <a:ea typeface="Arial"/>
              </a:rPr>
              <a:t>TRATADOS, PACTOS, ACUERDOS</a:t>
            </a: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72314"/>
                </a:solidFill>
                <a:latin typeface="Gill Sans MT"/>
              </a:rPr>
              <a:t>MARCO JURIDIC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4" name="Picture 2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0" y="532908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rcRect l="26202" t="27320" r="15473" b="13461"/>
          <a:stretch/>
        </p:blipFill>
        <p:spPr>
          <a:xfrm>
            <a:off x="1332000" y="1413000"/>
            <a:ext cx="7624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572314"/>
                </a:solidFill>
                <a:latin typeface="Gill Sans MT"/>
              </a:rPr>
              <a:t>PRECISIONES CONCEPTUALES Y CUESTIONES PREVIAS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58560" y="1125360"/>
            <a:ext cx="74991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Gill Sans MT"/>
              </a:rPr>
              <a:t>Las personas son naturales o jurídicas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Gill Sans MT"/>
              </a:rPr>
              <a:t>Las personas jurídicas son de dos especies: corporaciones y fundaciones de beneficencia pública.  La condición es que para que ostenten personalidad jurídica, deberán ser generadas por una ley o aprobadas por el Presidente de la Repúblic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Gill Sans MT"/>
              </a:rPr>
              <a:t>Una segunda precisión necesaria, hace referencia a la clasificación de las organizaciones de derecho privado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8" name="17 Grupo"/>
          <p:cNvGrpSpPr/>
          <p:nvPr/>
        </p:nvGrpSpPr>
        <p:grpSpPr>
          <a:xfrm>
            <a:off x="2771640" y="3213000"/>
            <a:ext cx="5040360" cy="3645000"/>
            <a:chOff x="2771640" y="3213000"/>
            <a:chExt cx="5040360" cy="3645000"/>
          </a:xfrm>
        </p:grpSpPr>
        <p:sp>
          <p:nvSpPr>
            <p:cNvPr id="379" name="30 Rectángulo"/>
            <p:cNvSpPr/>
            <p:nvPr/>
          </p:nvSpPr>
          <p:spPr>
            <a:xfrm>
              <a:off x="2771640" y="3864960"/>
              <a:ext cx="1454400" cy="577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RSONAS JURIDICAS DE DERECHO PRIVAD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0" name="31 Rectángulo"/>
            <p:cNvSpPr/>
            <p:nvPr/>
          </p:nvSpPr>
          <p:spPr>
            <a:xfrm>
              <a:off x="4710960" y="3448080"/>
              <a:ext cx="1454400" cy="651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RPORACIONE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DACIONES SIN FINES DE LUCR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1" name="34 Rectángulo"/>
            <p:cNvSpPr/>
            <p:nvPr/>
          </p:nvSpPr>
          <p:spPr>
            <a:xfrm>
              <a:off x="4710960" y="4271040"/>
              <a:ext cx="1454400" cy="619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CIEDADES CIVILES Y MERCANTILE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2" name="35 Conector recto"/>
            <p:cNvSpPr/>
            <p:nvPr/>
          </p:nvSpPr>
          <p:spPr>
            <a:xfrm>
              <a:off x="4226040" y="4206960"/>
              <a:ext cx="282600" cy="0"/>
            </a:xfrm>
            <a:prstGeom prst="line">
              <a:avLst/>
            </a:prstGeom>
            <a:ln w="9360">
              <a:solidFill>
                <a:srgbClr val="457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3" name="36 Conector recto"/>
            <p:cNvSpPr/>
            <p:nvPr/>
          </p:nvSpPr>
          <p:spPr>
            <a:xfrm>
              <a:off x="4509000" y="3864960"/>
              <a:ext cx="0" cy="737280"/>
            </a:xfrm>
            <a:prstGeom prst="line">
              <a:avLst/>
            </a:prstGeom>
            <a:ln w="9360">
              <a:solidFill>
                <a:srgbClr val="457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84" name="37 Conector recto de flecha"/>
            <p:cNvCxnSpPr/>
            <p:nvPr/>
          </p:nvCxnSpPr>
          <p:spPr>
            <a:xfrm>
              <a:off x="4508640" y="3864600"/>
              <a:ext cx="20268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  <p:cxnSp>
          <p:nvCxnSpPr>
            <p:cNvPr id="385" name="38 Conector recto de flecha"/>
            <p:cNvCxnSpPr/>
            <p:nvPr/>
          </p:nvCxnSpPr>
          <p:spPr>
            <a:xfrm>
              <a:off x="4508640" y="4602240"/>
              <a:ext cx="20268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  <p:sp>
          <p:nvSpPr>
            <p:cNvPr id="386" name="39 Rectángulo"/>
            <p:cNvSpPr/>
            <p:nvPr/>
          </p:nvSpPr>
          <p:spPr>
            <a:xfrm>
              <a:off x="6499080" y="3213000"/>
              <a:ext cx="1181880" cy="7052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 primero,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gundo y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ercer grad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87" name="40 Conector recto de flecha"/>
            <p:cNvCxnSpPr/>
            <p:nvPr/>
          </p:nvCxnSpPr>
          <p:spPr>
            <a:xfrm flipV="1">
              <a:off x="5872680" y="3618360"/>
              <a:ext cx="677520" cy="11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88" name="41 Conector recto"/>
            <p:cNvSpPr/>
            <p:nvPr/>
          </p:nvSpPr>
          <p:spPr>
            <a:xfrm>
              <a:off x="4377600" y="4206960"/>
              <a:ext cx="0" cy="1197000"/>
            </a:xfrm>
            <a:prstGeom prst="line">
              <a:avLst/>
            </a:prstGeom>
            <a:ln w="9360">
              <a:solidFill>
                <a:srgbClr val="457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9" name="42 Rectángulo"/>
            <p:cNvSpPr/>
            <p:nvPr/>
          </p:nvSpPr>
          <p:spPr>
            <a:xfrm>
              <a:off x="4731120" y="5233320"/>
              <a:ext cx="1767600" cy="16246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tras, que se rigen por leyes especiales, comunas, juntas de agua, juntas de regantes, las de la economía social y solidaria, organizaciones deportivas, culturales, asociaciones de productores, gremio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90" name="43 Conector recto de flecha"/>
            <p:cNvCxnSpPr/>
            <p:nvPr/>
          </p:nvCxnSpPr>
          <p:spPr>
            <a:xfrm>
              <a:off x="4377240" y="5403960"/>
              <a:ext cx="33372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  <p:sp>
          <p:nvSpPr>
            <p:cNvPr id="391" name="44 Rectángulo"/>
            <p:cNvSpPr/>
            <p:nvPr/>
          </p:nvSpPr>
          <p:spPr>
            <a:xfrm>
              <a:off x="6549480" y="4206960"/>
              <a:ext cx="1262520" cy="6840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lectiva, en comandita, o anónim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92" name="45 Conector recto de flecha"/>
            <p:cNvCxnSpPr/>
            <p:nvPr/>
          </p:nvCxnSpPr>
          <p:spPr>
            <a:xfrm>
              <a:off x="6165720" y="4602240"/>
              <a:ext cx="38448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572314"/>
                </a:solidFill>
                <a:latin typeface="Gill Sans MT"/>
              </a:rPr>
              <a:t>EL CRITERO METODOLOGIC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rcRect l="15904" t="29915" r="24564" b="15294"/>
          <a:stretch/>
        </p:blipFill>
        <p:spPr>
          <a:xfrm>
            <a:off x="1008000" y="1700280"/>
            <a:ext cx="79567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72314"/>
                </a:solidFill>
                <a:latin typeface="Gill Sans MT"/>
              </a:rPr>
              <a:t>FUENTES DE INFORMACIÓ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6" name="3 Marcador de contenido" descr=""/>
          <p:cNvPicPr/>
          <p:nvPr/>
        </p:nvPicPr>
        <p:blipFill>
          <a:blip r:embed="rId1"/>
          <a:stretch/>
        </p:blipFill>
        <p:spPr>
          <a:xfrm>
            <a:off x="2189160" y="3243240"/>
            <a:ext cx="6461280" cy="3621240"/>
          </a:xfrm>
          <a:prstGeom prst="rect">
            <a:avLst/>
          </a:prstGeom>
          <a:ln w="0">
            <a:noFill/>
          </a:ln>
        </p:spPr>
      </p:pic>
      <p:pic>
        <p:nvPicPr>
          <p:cNvPr id="397" name="4 Diagrama" descr=""/>
          <p:cNvPicPr/>
          <p:nvPr/>
        </p:nvPicPr>
        <p:blipFill>
          <a:blip r:embed="rId2"/>
          <a:stretch/>
        </p:blipFill>
        <p:spPr>
          <a:xfrm>
            <a:off x="3627360" y="963720"/>
            <a:ext cx="3565440" cy="2065320"/>
          </a:xfrm>
          <a:prstGeom prst="rect">
            <a:avLst/>
          </a:prstGeom>
          <a:ln w="0">
            <a:noFill/>
          </a:ln>
        </p:spPr>
      </p:pic>
      <p:sp>
        <p:nvSpPr>
          <p:cNvPr id="398" name="5 Flecha abajo"/>
          <p:cNvSpPr/>
          <p:nvPr/>
        </p:nvSpPr>
        <p:spPr>
          <a:xfrm>
            <a:off x="5292720" y="2997360"/>
            <a:ext cx="287280" cy="5029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1116000" y="1700280"/>
          <a:ext cx="7559640" cy="4195800"/>
        </p:xfrm>
        <a:graphic>
          <a:graphicData uri="http://schemas.openxmlformats.org/drawingml/2006/table">
            <a:tbl>
              <a:tblPr/>
              <a:tblGrid>
                <a:gridCol w="438120"/>
                <a:gridCol w="1865520"/>
                <a:gridCol w="1581120"/>
                <a:gridCol w="1226880"/>
                <a:gridCol w="1297080"/>
                <a:gridCol w="11509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EFICIENTE PRESUPUESTO DEL ESTADO (P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FERENCIA DE PROCESO SER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ONTO 2013,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NTIDADES PRIVADAS LOTA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lt; 0.000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CUAN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lt;52.218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00002 - 0,000015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CUANTIA – COTIZACION B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.218,54 - 391.639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gt; 0,000015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CITACION/ CONCURSO PUBLICO B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gt;391.639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6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572314"/>
                </a:solidFill>
                <a:latin typeface="Gill Sans MT"/>
              </a:rPr>
              <a:t>APLICATIVO, 2013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900" spc="-1" strike="noStrike">
                <a:solidFill>
                  <a:srgbClr val="572314"/>
                </a:solidFill>
                <a:latin typeface="Gill Sans MT"/>
              </a:rPr>
              <a:t>EJEMPLO DEL APLICATIVO, 2013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3 Elipse"/>
          <p:cNvSpPr/>
          <p:nvPr/>
        </p:nvSpPr>
        <p:spPr>
          <a:xfrm>
            <a:off x="1042920" y="1557360"/>
            <a:ext cx="1368360" cy="122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203640" y="1700280"/>
          <a:ext cx="4089240" cy="952560"/>
        </p:xfrm>
        <a:graphic>
          <a:graphicData uri="http://schemas.openxmlformats.org/drawingml/2006/table">
            <a:tbl>
              <a:tblPr/>
              <a:tblGrid>
                <a:gridCol w="4089240"/>
              </a:tblGrid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LDEAS INFANTILES SOS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OCIACION DE SCOUTS DEL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OCIACION ECUATORIANA DE PRODUCTORES LACTEOS CAPULISPAM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OCIACION FE Y ALEGRIA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5 Elipse"/>
          <p:cNvSpPr/>
          <p:nvPr/>
        </p:nvSpPr>
        <p:spPr>
          <a:xfrm>
            <a:off x="1042920" y="3141720"/>
            <a:ext cx="1368360" cy="1224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9 Elipse"/>
          <p:cNvSpPr/>
          <p:nvPr/>
        </p:nvSpPr>
        <p:spPr>
          <a:xfrm>
            <a:off x="1042920" y="4941720"/>
            <a:ext cx="1368360" cy="1224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03640" y="3213000"/>
          <a:ext cx="5616360" cy="100656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  <a:gridCol w="433440"/>
                <a:gridCol w="431640"/>
                <a:gridCol w="432000"/>
                <a:gridCol w="431640"/>
                <a:gridCol w="431640"/>
              </a:tblGrid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NISTE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DEN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G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UL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P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R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ERI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NECY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N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STITU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12 CuadroTexto"/>
          <p:cNvSpPr/>
          <p:nvPr/>
        </p:nvSpPr>
        <p:spPr>
          <a:xfrm>
            <a:off x="3203640" y="4941720"/>
            <a:ext cx="4681440" cy="11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200" spc="-1" strike="noStrike">
                <a:solidFill>
                  <a:srgbClr val="000000"/>
                </a:solidFill>
                <a:latin typeface="Gill Sans MT"/>
              </a:rPr>
              <a:t>MUESTREO ALEATORIO ESTRATIFICADO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C" sz="1200" spc="-1" strike="noStrike">
                <a:solidFill>
                  <a:srgbClr val="000000"/>
                </a:solidFill>
                <a:latin typeface="Gill Sans MT"/>
              </a:rPr>
              <a:t>mediante el análisis del número de instituciones por sector estratégico para 5.457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Gill Sans MT"/>
              </a:rPr>
              <a:t>E=10%, nivel de confianza 95%= 94 instituciones que PODRÍAN ser analizada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300" spc="-1" strike="noStrike">
                <a:solidFill>
                  <a:srgbClr val="572314"/>
                </a:solidFill>
                <a:latin typeface="Gill Sans MT"/>
              </a:rPr>
              <a:t>PUNTOS A CONSIDER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9" name="3 Marcador de contenido" descr=""/>
          <p:cNvPicPr/>
          <p:nvPr/>
        </p:nvPicPr>
        <p:blipFill>
          <a:blip r:embed="rId1"/>
          <a:stretch/>
        </p:blipFill>
        <p:spPr>
          <a:xfrm>
            <a:off x="1414440" y="1432080"/>
            <a:ext cx="7540560" cy="4835520"/>
          </a:xfrm>
          <a:prstGeom prst="rect">
            <a:avLst/>
          </a:prstGeom>
          <a:ln w="0">
            <a:noFill/>
          </a:ln>
        </p:spPr>
      </p:pic>
      <p:sp>
        <p:nvSpPr>
          <p:cNvPr id="410" name="4 Flecha curvada hacia la derecha"/>
          <p:cNvSpPr/>
          <p:nvPr/>
        </p:nvSpPr>
        <p:spPr>
          <a:xfrm>
            <a:off x="1763640" y="2997360"/>
            <a:ext cx="1513080" cy="1655640"/>
          </a:xfrm>
          <a:custGeom>
            <a:avLst/>
            <a:gdLst>
              <a:gd name="textAreaLeft" fmla="*/ 202680 w 1513080"/>
              <a:gd name="textAreaRight" fmla="*/ 1310400 w 1513080"/>
              <a:gd name="textAreaTop" fmla="*/ 272160 h 1655640"/>
              <a:gd name="textAreaBottom" fmla="*/ 119448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02" stAng="-5400000" swAng="-5400000"/>
                <a:lnTo>
                  <a:pt x="0" y="12033"/>
                </a:lnTo>
                <a:arcTo wR="21600" hR="7102" stAng="10800000" swAng="-3111478"/>
                <a:lnTo>
                  <a:pt x="16200" y="21374"/>
                </a:lnTo>
                <a:lnTo>
                  <a:pt x="21600" y="16670"/>
                </a:lnTo>
                <a:lnTo>
                  <a:pt x="16200" y="11513"/>
                </a:lnTo>
                <a:lnTo>
                  <a:pt x="16200" y="13978"/>
                </a:lnTo>
                <a:arcTo wR="21600" hR="7102" stAng="7688522" swAng="2695107"/>
                <a:lnTo>
                  <a:pt x="1343" y="9568"/>
                </a:lnTo>
                <a:arcTo wR="21600" hR="7102" stAng="-10383629" swAng="4983629"/>
                <a:close/>
              </a:path>
              <a:path fill="darkenLess" w="21600" h="21600">
                <a:moveTo>
                  <a:pt x="21600" y="0"/>
                </a:moveTo>
                <a:arcTo wR="21600" hR="7102" stAng="-5400000" swAng="-5400000"/>
                <a:lnTo>
                  <a:pt x="0" y="7102"/>
                </a:lnTo>
                <a:arcTo wR="21600" hR="7102" stAng="10800000" swAng="-416371"/>
                <a:lnTo>
                  <a:pt x="1343" y="9568"/>
                </a:lnTo>
                <a:arcTo wR="21600" hR="7102" stAng="-10383629" swAng="4983629"/>
                <a:close/>
              </a:path>
            </a:pathLst>
          </a:cu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5 Flecha curvada hacia la izquierda"/>
          <p:cNvSpPr/>
          <p:nvPr/>
        </p:nvSpPr>
        <p:spPr>
          <a:xfrm>
            <a:off x="7164360" y="3068640"/>
            <a:ext cx="1511280" cy="16556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272160 h 1655640"/>
              <a:gd name="textAreaBottom" fmla="*/ 11944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02" stAng="-5400000" swAng="5400000"/>
                <a:lnTo>
                  <a:pt x="21600" y="12033"/>
                </a:lnTo>
                <a:arcTo wR="21600" hR="7102" stAng="0" swAng="3111478"/>
                <a:lnTo>
                  <a:pt x="5400" y="21374"/>
                </a:lnTo>
                <a:lnTo>
                  <a:pt x="0" y="16670"/>
                </a:lnTo>
                <a:lnTo>
                  <a:pt x="5400" y="11513"/>
                </a:lnTo>
                <a:lnTo>
                  <a:pt x="5400" y="13978"/>
                </a:lnTo>
                <a:arcTo wR="21600" hR="7102" stAng="3111478" swAng="-2695107"/>
                <a:lnTo>
                  <a:pt x="20257" y="9568"/>
                </a:lnTo>
                <a:arcTo wR="21600" hR="7102" stAng="-416371" swAng="-4983629"/>
                <a:close/>
              </a:path>
              <a:path fill="darkenLess" w="21600" h="21600">
                <a:moveTo>
                  <a:pt x="0" y="0"/>
                </a:moveTo>
                <a:arcTo wR="21600" hR="7102" stAng="-5400000" swAng="5400000"/>
                <a:lnTo>
                  <a:pt x="21600" y="12033"/>
                </a:lnTo>
                <a:arcTo wR="21600" hR="7102" stAng="0" swAng="-416371"/>
                <a:lnTo>
                  <a:pt x="20257" y="9568"/>
                </a:lnTo>
                <a:arcTo wR="21600" hR="7102" stAng="-416371" swAng="-4983629"/>
                <a:close/>
              </a:path>
            </a:pathLst>
          </a:cu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0:31:34Z</dcterms:created>
  <dc:creator>CEPEDA CORP</dc:creator>
  <dc:description/>
  <dc:language>en-US</dc:language>
  <cp:lastModifiedBy> CEDDET</cp:lastModifiedBy>
  <dcterms:modified xsi:type="dcterms:W3CDTF">2014-08-05T11:11:27Z</dcterms:modified>
  <cp:revision>29</cp:revision>
  <dc:subject/>
  <dc:title>Metodología, justificativos y herramientas que permitan identificar el universo de entidades privadas que manejen fondos públicos o posean información pública.</dc:title>
</cp:coreProperties>
</file>