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4F4-DF69-46E9-8C9F-E0A8C95C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374-8776-4D1A-BB8A-0A25FC36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D13-6689-433D-8978-2A393016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AE9-52C5-4B66-983A-C055D70E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DFA4-A18C-4A46-974B-79E2B522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9989-9A7E-4723-BE03-1B4CEE73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4CD7-0760-4335-8FC3-38B8E66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AD26-0A3B-44D8-9E7F-DBDADE77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DC60-2BE7-4893-9C52-081793A2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71A9-2DB8-4DDC-B98C-41859631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B29-D36E-49D6-984B-B2842D02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DAC-4B43-4917-A7B9-113BEAEC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583E-8B4A-4149-A86E-209E217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367A-2A05-4AD1-B12D-53121E09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4757-2BCA-4EE3-99C2-980AFDA1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E9F7-BAF4-41C0-BCB0-68870FDB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2557-FC74-440E-9090-4711428F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504E-3828-4BA5-80EB-364F3BB0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7EBF-AF69-4778-8D25-10FAB071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93D4-5070-4970-9C83-58A624C3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08B2-8818-445C-83E0-46A64DED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57D4-23F1-4D66-8D32-AABA58DB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A33-4159-42FB-8E10-D8424234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E700-D8F3-4A92-88F9-8F1D46FA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DED0-E7EF-4A0F-BBFB-4C2AFAB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BC57-2457-4DF2-A191-DCE44082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918A-8F31-4B26-9D28-2AC33C5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D14D-912D-4E58-A7E1-0E85C87E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D856-531A-4467-9D66-A659BCAB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1505C-026C-4C0A-97C9-AC7EFB08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E8B4A-8B8E-4E4B-9AA9-86F22C77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04028-0BFB-433D-97E6-2C30F9A6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827B-5464-4AE1-BB9E-B465F846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BBD-590B-430E-B9D8-FFA79D70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BEF6-B07E-4CE1-A640-287A1B07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FF0C-053F-4077-9B91-1DB5520E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7AB8D-082F-4209-B7FF-974F8BCC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DE26-A63F-4C4E-85A7-80A081D3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77DB-B4FD-4779-817E-1F4A7CE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1A768-7075-4F28-B15C-2CCB0ED8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A471-44F6-4637-8BE9-47F63BB5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CAA72-D5C0-4B1A-8251-8AF593CF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0FFFB-4ED7-489E-A957-4E42F4D7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D50DB-CB33-4C90-9D5C-0200843F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703-2341-4E02-BCAE-26DB0EDD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87FBB-0880-4C5F-9885-9623CD69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1BEF1-4FFD-46AA-A4FD-5A4CE848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1598B-802B-498A-B54C-B7BBE04B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EB41-AA25-43E7-BF16-7D214CE8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A239B-95E9-42D8-9792-907E4298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00E7-1314-4DFE-B62C-4E966C7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3F43F-59A6-4C8F-8CD2-09376C8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4AE8B-6F5F-4258-BAAD-A962B61E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ACCB-9ED5-4D24-8A61-C504CF2D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0EBAF-947B-4923-ADEB-80594628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8C1-94DA-4B1A-B650-7E188A17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4EA84-FF6C-4869-A975-DA2703F6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74301-CD68-4C83-AB66-DC5D0DB6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5DB85-C0CB-469D-BB46-8724BE92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06965-08F8-4B7C-8367-46C0D5CC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43FAB-32EE-4285-83F0-CEA13F00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168AC-CDC5-4DF8-B86B-5AC5FFC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14819-9404-48FF-AC52-2F49BE49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0E283-6413-46F4-831C-337A70D1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21858-AAA6-4E1F-9FE0-EF2C777B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F75BF-5328-429E-B8BB-5E49344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723-793B-43F2-8A11-580CF10F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C82B7-4FE8-4478-9284-AE117B6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1B28B-1F5E-43C9-BC41-E9C8B8B7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E810B-07E9-42D7-BE3A-A6156136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C6E6D-C201-42DA-9B7E-4746DBB3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D60FD-637B-49DF-8342-D23A871E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CAC61-7EB8-44CF-B8F6-5A0E7F71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CD8A1-1211-45F4-9501-8480A88F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88EE5-10F2-46EC-A077-53BDBA36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51896-7D2B-4FD8-AF25-81141517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DFAE-1F07-418D-9789-201D19C7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831-CD37-43C2-BF43-61A48AF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6E847-E2D6-4391-8D94-3ABF4B77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02EE-C562-4A64-A7B7-C70445DB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CA913-7547-4AD8-84A8-C31DF1CC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BF4D6-8932-4736-850F-33721EC0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02F96-30A5-4BC3-B9F4-82979CE0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9AD-68F2-4CEF-941B-8BF319A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E25D-D53F-42B7-BFAD-86D03158B7B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C462-5DD3-472D-AB35-1157D9EC701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83A-E007-4434-8B38-BA39C223968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ED47-1A7D-4270-ACE6-56C0BEB9551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43C6-4BF4-4C4A-BA54-A229293E04B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AA50-B489-48BD-B611-10DA8E99DAF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1F2-FC01-46B1-A668-C25B917ACC8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aller sobre Mecanismos de coordinación interinstitucional para la lucha contra la corrupción 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i="1" lang="es-ES" sz="2200" spc="-1" strike="noStrike">
                <a:solidFill>
                  <a:srgbClr val="320e04"/>
                </a:solidFill>
                <a:latin typeface="Gill Sans MT"/>
              </a:rPr>
              <a:t>Quito,  9 de octubre de 2014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572000" y="5143680"/>
            <a:ext cx="428616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ón II –b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iseño de programas de fortalecimiento de capacidades multidisciplinarios y planificados por varias entidades con un carácter permanente en los que puedan participar funcionarios de distintas entidades relacionadas con la lucha contra  la corrup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4857840" y="542916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 I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Evaluar la funcionalidad de los sistemas institucionales, de comunicación y de cooperación entre entidades de manera periódica en base al desempeño y experiencia de sus propios funcionarios y adoptar medidas de corre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Fortalecer a las entidades responsables de la lucha contra los delitos económicos y financieros vinculados a la corrupción dotándolos de adecuados recursos presupuestales, humanos y logísticos garantizando así su adecuado desempeñ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4857840" y="528624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lan de Ac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Fijar objetivos y metas claros y precisos consensuados, con plazo de implement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tablecer pautas de actuación y coordinación del proyecto. Prioridades inmediatas y mediat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xistencia real de un compromiso efectivo por parte de cada uno de los organismos involucrad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643720" y="0"/>
            <a:ext cx="3143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royecto Ecuad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venio interinstitucional para la formación de una Comis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Reglas de actuación, organización y funcionamiento de la Comis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osibles bases de datos de casos e intercambio de inform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anuales de intercambio de inform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anuales de Investigación patrimonial y financie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643720" y="0"/>
            <a:ext cx="3143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royecto Ecuador 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álisis del marco legal para la recuperación de activos proveniente de la corru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álisis del marco legal para la utilización de Técnicas Especiales de Investigació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anuales de Metodología de investig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udio del marco legal de los informes perici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ablecer mecanismos eficaces en requerimientos y acuerdos de cooperación internacional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072120" y="142920"/>
            <a:ext cx="2857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royecto Ecuador I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rotocolos que determinen el contenido y alcance de los informes técnicos y periciales. Determinar el valor probatorio y calidad de los mism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pacios de capacitación conjunta. Talleres, seminarios, workshops, etc, que posiblemente sirvan para la confección de manuales y protocolos de actu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ón de Tipologías para cada secto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857840" y="-214200"/>
            <a:ext cx="428616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rear un ámbito de actuación y coordinación entre los distintos organismos para implementar y fortalecer los mecanismos adecuados para la lucha contra la corru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vanzar en ese sentido en la implementación de los convenios o acuerdos de cooperación interinstitucionales, ejecutando los compromisos que corresponden a cada una de las instituciones en dichos acuerdo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Fortalecer este aspecto para lograr la efectividad dese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28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 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valuar la posibilidad de incluir o invitar a otros organismos involucrados directa o indirectamente en este ámbito de actu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tablecer puntos de contacto permanentes de los diferentes organismos, como así también,  los mecanismos de comunicación y el organismo de coordin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28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La corrupción es un como un cáncer para las sociedades que penetra en todos las esferas sociales, y provoca no sólo cuantiosas ganancias económicas, sino también muertes de ciudadanos inocentes. Sólo podemos hacer frente a esta amenaza globales si trabajamos juntos."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500120" y="214200"/>
            <a:ext cx="7358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Conclusiones Finales por parte de los participantes.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000000"/>
                </a:solidFill>
                <a:latin typeface="Gill Sans MT"/>
              </a:rPr>
              <a:t>Muchas Gracias por su atención y especialmente por su participación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Federico Di Pasqu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Modelos organizacionales de los organismos que luchan contra la corrupción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ntidad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inisterio Público o Fiscalía Gener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oder Judicial o Consejo de la Judicatu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Unidad de Inteligencia Financie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olicí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Administración Tributar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tras Entidades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4857840" y="5500800"/>
            <a:ext cx="42861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tidades Ecuatorian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Fiscalía General del Estado. FG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Contraloría General del Estado. CG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Consejo de Participación Ciudadana y Control Social. CPCC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Secretaría Nacional de la Administración Pública. SNA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Superintendencia de Bancos. SB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Superintendencia de Economía Popular y Solidaria. SEP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Consejo de la Judicatura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UAF_CONCLA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4857840" y="550080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es ejes principa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Gill Sans MT"/>
              </a:rPr>
              <a:t>Se centra en la organización y funciones de cada entidad evidenciando en la mayoría de los casos particularidades que configuran modelos distintos organizativos y por ende funcionales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Gill Sans MT"/>
              </a:rPr>
              <a:t>El segundo eje se centra en el tipo de información generada por cada entidad y sobre la capacidad que estas entidades tienen para compartir esta información con la demás entidades, y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Gill Sans MT"/>
              </a:rPr>
              <a:t>el tercer eje que expone distintas iniciativas para mejorar la cooperación entre estas entidade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4714920" y="567684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Modelos para mejorar la cooperación y coordinación interinstituciona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ill Sans MT"/>
              </a:rPr>
              <a:t>La coordinación de políticas son iniciativas que buscan generar espacios de encuentro entre instituciones para el diseño e impulso de propuestas e iniciativas que tiene que ver con la “arquitectura” sistémica de los sistemas anticorrupción, como por ejemplo proyectos de ley o programas de capacitación, entre otros. Por otro lado, la coordinación procedimental se centra en el desarrollo de protocolos y coordinaciones para mejorar la actuación de las distintas entidades, mejorar el flujo de información, o estrategias de investigación, entre ot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5857920" y="5676840"/>
            <a:ext cx="30718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ferentes iniciativ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venios de Cooperación.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Acuerd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quipos de investigación conjun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entros de información especializad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ités Inter instituciona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rogramas de Capacitación conjun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714920" y="535788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28480"/>
            <a:ext cx="7499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Revisión de los canales de comunicación entre entidades responsables de la investigación a fin de desarrollar protocolos de comunicación en el que se consideren aspectos como cualidades y especificidades de la información compartida, reduciendo dentro de lo posible y dentro de la legalidad los plazos y formalidad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Desarrollo de protocolos de solicitud de información de tal forma que no que-den “espacios interpretativos” o “lagunas”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Políticas integrales a nivel gubernamental que permitan la uniformidad en el manejo, almacenamiento y procesamiento de la información entre entidades a dos niveles.  Información Procesal y estadístic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857840" y="542916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 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Revisar los modelos de estrategias de cooperación contenidos en este informe procurando mayores y mejores espacios de colaboración no sólo en el ámbito de las políticas públicas, sino también de los procedimientos cotidianos para la lucha contra los delitos económicos y financieros vinculados a al corrup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4857840" y="535788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 II –a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Impulso a la conformación de equipos de investigación conjunta dentro de los márgenes de ley de cada país procurando que en lo posible estos tengan un carácter permanente y especializado en el tiempo, lo cual permitiría el desarrollo de protocolos de investigación y prácticas cotidianas que mejorarían la coordinación interinstituc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4643280" y="5357880"/>
            <a:ext cx="4286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8:45:48Z</dcterms:created>
  <dc:creator>WinuE</dc:creator>
  <dc:description/>
  <dc:language>en-US</dc:language>
  <cp:lastModifiedBy>Ignacio Suarez</cp:lastModifiedBy>
  <dcterms:modified xsi:type="dcterms:W3CDTF">2014-11-05T09:55:03Z</dcterms:modified>
  <cp:revision>14</cp:revision>
  <dc:subject/>
  <dc:title>Taller sobre Mecanismos de coordinación interinstitucional para la lucha contra la corrupción</dc:title>
</cp:coreProperties>
</file>