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FB4-8355-4707-9F52-E3AF90B6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C5BA-AB2C-4EF8-9D76-BDA9AC08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02655-0903-492F-B407-4DAD6C58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59C72-4D01-4EC5-867A-6F3D559D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F3A8C-61C5-4FAA-BED7-E636898B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CA97F-1322-40E5-A86D-E961A981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5AD68-91A9-4BE3-A7D9-AB6F0E02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87735-8347-459A-8B9C-9A7F3490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4259C-9046-4F93-A940-67AC7CD4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C076E-04F4-4E67-92FD-B1899181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05217-A457-4243-ABCE-2183B6E1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C26D6-9231-412B-BFCF-C07EDBD0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17AD-7EB8-44E4-BA47-2E6FC722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BCD37-61E3-4475-B86E-BAFF7697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17832-682B-49A8-9030-F4BD27F3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6760E-3B3B-48C0-87EF-42AB81C0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AE400-0297-45B4-BB95-BA26F8FF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FDA6B-0726-4327-A7EE-4584BF6E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7C88E-011D-4303-982D-5D4F28C3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67B2B-F91B-4227-B908-CEFA0C03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2BF67-E388-4CF6-9488-9953138A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B2F1B-8EDC-4C43-AA40-141C0B8E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4D5FC-6FAC-4971-AC3E-E80B9A1E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1C1-AF0E-4B1A-9C0A-5A2D8ED6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A07EB-EBE1-4795-8FAD-831B1417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B5755-18EE-41FD-A09D-7D1C90E4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D1FE9-0767-4B7A-85A8-9C04D419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758EF-63B4-48FD-8D4B-817B2F28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E2068-50DF-47B7-92E3-1E57015D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ACCAD-3D15-4290-84C2-84BDCAD9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3F5F7-ABC1-4F9B-8BFE-2D88546C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8B49B-EC79-4B57-B620-1822B2A0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80FFF-E22B-4EED-8EFA-FC47BEDB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B8E7B-C564-41E8-9232-EFDD7822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2B0B-2D4F-4341-8406-4042829F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52976-74CA-479F-89AB-F33C1FA4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64820-1386-43CD-893B-D230A605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B93B6-24CA-4343-89EB-4A8AAC75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EC023-7309-4296-A2D2-8FA3F90D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BF1E2-3961-43F7-A924-C77038BD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FCE68-EF02-4734-9BAD-1FBDC339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33142-C330-49E0-9B2C-2FE6B75E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4603B-87CD-4F1A-83ED-2F7882EE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71186-9B00-4A84-89B6-08E00505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FE592-1F98-43A9-A65B-E812F6CC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DFB8-E31F-4762-BB22-D6539F9A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58164-F691-4516-9A7D-65C4B279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2BD8B-5550-49F6-9081-A24FCB5C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B7033-A525-4646-BAC0-98035CAA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ABE96-B5C9-41CB-BE0F-4062A460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725E5-3592-41DB-B5E0-9B1A6B6F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9D7B4-A6DF-4FA1-A804-DE56B901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7FA04-6131-4926-897E-1F5F76F0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3848F-2897-4D38-97C3-BF540539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4C7CB-F0A7-40F1-BAA7-C41E98C9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52417-615C-460D-8BE3-07779FC7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8000-F013-4B93-838A-3968DB94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F18E0-554D-449C-8A8C-0539C1E2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87C52-63AA-40BA-8592-F69302A0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9EC2F-C129-4D81-8F15-C4C3B2E2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22E06-1584-4383-9AF9-2B776A2E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F55C4-B0B6-4EF2-A4C8-44BB66F7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B79E5-FF7D-48A0-B93D-3180D9BB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4127D-14FD-41D1-968C-FD963DF3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5CCCE-61B1-4627-8E87-047BD2E1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31DEA-BA86-4CFF-B385-FE37C8CC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4C3B4-116F-427C-A7E7-1FFEFC8F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B497-5706-4D8B-AC1D-4F415088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03744-4FE4-4E4D-BDEA-5AA1BB2D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2BE1F-51C8-4600-BBC3-1BA28F88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0CFFF-7E18-45F2-A526-A026BF1D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00DA2-40E2-4EC5-895E-1C7F9CB9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86408-DD0B-439C-B887-A1CFC3C5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01C8B-A58F-43DF-836D-F1F7454C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620E3B-4B68-4541-BA9D-7FA90F31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043D6-A7D6-4A61-91BD-53B8F477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0674AE-4E75-4F6D-B60A-880E17E3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77B33-857D-450C-B90E-CC30D4C5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EA7C-82E3-4596-B470-CB422B6A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F24EF4-8861-4DCD-99B7-7887E0FE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88CA8-BDCF-41C3-B75C-F4A74EAE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F34B8-A3E3-4E82-8B23-9581CE2E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7698B9-BE7D-4AED-B5E1-3CCA2DEF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A95731-988C-49B2-AD82-8FECD44A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C82DB1-A5B0-487E-86DC-671053A2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C720F0-671D-4DA1-9B3F-342307D9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EF2E55-C68A-4436-B617-F2FE7A6E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D575F1-3F57-406C-B553-EA8B7A3D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53910E-2F56-40E1-9845-A8156A03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F986-28F1-47D3-896C-2F4BA9E9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0B2400-74CA-4DFC-A975-03538C96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FC4CC8-D5F6-4E5E-BA10-93470748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7C26A0-3411-46BE-8A04-3D6BAB2C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143B1-8F26-4F64-9A06-3075FBEF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5B0BAA-C100-4D61-A2A0-42DA22D5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9544F3-24F8-498D-83EA-25557CEB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B5574C-B750-440A-8564-583E2CC3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AE71C-B91A-498A-B842-63CE667F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F59288-0867-4208-875D-299AA250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C7B130-AA0D-474F-BA6A-8F7A5205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5777-1927-432C-ABD5-1E27A159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A3B2F6-34B4-48D4-AD76-F9421B50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65D367-87E3-485C-B478-0C28D811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59999F-5520-4ECD-90C0-5127069A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02C86F-D585-42FF-83A2-612A5D84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11F43A-5E27-462A-B17B-23F68BE7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990739-5A60-4B43-AAF9-8ACFADCF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524B29-7BB6-48D8-BB41-32C1C6FE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954BE2-CE38-4287-8AFC-A82D8FD5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9AAF9B-7620-47C0-989C-9DB8B2A7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22A853-5D83-4DE0-8F08-620F5772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242B-A734-4D20-8D53-E3F747E3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B0CE-8DA2-4427-A2B7-3B0E3FB6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E901AF-A3C4-48A9-9680-6D6E4378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0EEB5-D749-4DC2-91D6-982D01FF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1BE85A-3BB4-49C3-AC02-5D975180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573C24-0687-44B7-8BEB-56A09BE0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7D8503-5F4C-4154-B4EC-73C86F37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B1BB-6C7B-4865-902E-4CFB88AB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A828-7476-46CD-A4F5-4DB7BB15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A23C-B016-4861-981D-D7989F3D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F4DE-02E5-41EE-B0A8-F220A229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8F596-9FEE-43B8-B447-92FC8594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7FC0F-8CCA-42DD-99C5-6850CF0A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C0D61-6E9B-419E-9CE8-C4388B32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3AAE-DA7E-4684-92A3-B21EAFCE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66F7A-A7A5-4511-BCB4-5E671FE7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2A0-628B-44E0-A9C8-3CFDB86F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1A2FA-B661-445B-91ED-831A8075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31BEB-8432-441E-8B85-E2FBB04D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563CD-989C-42A7-9D17-45B37E62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B4882-B9BA-4295-A647-62D5D27B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5796-83B8-4980-8B1C-AF78A32C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1D0AB-585C-4083-B52E-44BED784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7DD07-8715-4D84-82FD-02EACAEF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C149D-08F0-4D93-AED6-74A23729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567CE-B1F2-485B-999D-484F7787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B868E-5D1F-4801-8704-DD8AB4A0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941-6251-4E1E-87DF-35495D4A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C5E01-AB93-4B70-81C2-BBD36BB7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40CD5-B744-472B-85E2-DD2F5936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E4560-CBF9-4D89-9C82-AAC3001A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A4D03-7FFE-4860-9121-77DA9FBC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EC7A0-66D9-4778-8E09-8A684608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A16B0-9749-4522-BD27-FBE496F8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8273D-EA5A-4526-BC99-47863416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96561-B660-4626-B7D3-DE3EE98A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28004-B560-441B-9000-5D67EEE0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C5992-897F-4B6C-91E7-DA9A824F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4C2-D1E6-4E4E-B219-C3652A1E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3BF50-BDEC-4B3F-9BEA-DAC01A9A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8A9D3-9ADD-4E55-BA0B-80133E09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A56AE-1F7C-464D-A7B2-7C102F48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A3AD3-4465-49AC-8C7E-F03AE839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7A7D2-2C5E-4746-9D14-A7BB6FDA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1184A-A7E1-4A3B-AC90-0A7BEC87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E6768-8019-4A0F-B775-4AE68C23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5CD1A-45AD-4E20-B058-F82BA8C5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FAAD-52FF-45B0-99F5-9A95AFF5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37ACB-D885-45B6-B1FF-7A095C87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13B-A77F-45C1-BFD0-6AE1980F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6F94E-B1FD-4FDE-91F5-D3ADB859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02A67-5FC7-40BC-996B-ED9A3850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FAFA2-72AE-49A3-ABCE-773F7249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2EB5D-72FC-469F-9E35-DD088707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30A7E-266E-41BC-A252-051CCF3E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FA314-E478-4140-A534-BF021D88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8E5D5-868A-45EA-838F-22F12F83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E2F0E-46E0-4CFB-A91E-D0597E1B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89BC4-9A0A-4D1A-B1C1-A02CCEC7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76312-4533-4410-86AA-C7879B5C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869-DEFD-4111-8A5E-F91FA37D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C0ACD-8FBA-4CF2-88C0-3702CE56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E911B-DBC1-4BE8-A5ED-AD7610E9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DADAA-25F6-45D2-AFB9-F4366318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85FC0-0808-41E8-B5BD-68C563DC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F7C38-D24A-4B43-AAE4-5B0C39EE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C8E87-C69A-44D5-8F71-0DE20320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1987F-4CCA-4E6C-B7D9-98A26178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E9C56-EBC1-49BE-9FE3-9B488BC2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4EEE5-DB67-4A7D-ABF9-60751C78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3A016-DD93-40A9-802B-79B6B73C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4A3-17EC-492C-823F-F820BAFD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8A94F-1A19-4B30-B136-EB3CFE37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54327-87F0-4A7A-8E97-44680240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1861D-1F0B-4B30-9EE8-4413D528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C3085-CE9E-4511-80C4-A4501329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97E41-6943-4E0F-A107-EA18E15E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D47A8-AACA-41F9-8582-A045F372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23D4D-15B1-431E-B323-09EE59A3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8A600-E0CD-4DEC-84F7-E0147B45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74ABD-22F3-4097-A946-F4A6F907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8991E-F60D-4DE1-AC6F-7DB3271E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137-1507-4D71-A747-35A6D711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2D3FC-C90A-4762-9BAE-6B385938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D317C-78F7-4E94-99DF-1A94E8D9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4C465-9291-4E68-82DA-A1E24DAC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A6E8E-5E0C-4194-A014-ED888A60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30D0E-970E-4231-8C2F-B2983B5E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46A8C-E3D8-48D2-B698-31BDA65B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A829F-FC77-467C-96C7-80BA2463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4FAE2-575C-4B9A-9C39-9C3126F6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F40CC-719A-4AAA-B907-282DAD95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F55A0-5B58-4286-952C-27994EA0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3EE3-2B72-443A-B1A1-3BFB18A858F0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ACA9-F0E2-4E24-80E4-2FB417718C48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74E9-7D53-40E3-805B-1AC7F36A0E14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4825-11BC-4005-9DCE-26A3ED60F3A7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9EA7-6B09-434E-AD36-3FFC7BEBB943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6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B844-F975-4336-897C-F4B6BD64CA2B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3530-856C-40B1-AD10-154E8D1161D0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4FDC-9EFC-454D-A935-31B30CCBCFF7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5DE1-72D1-4BD1-84E5-8263E06163BF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DAB3-F003-4FA7-B8DC-785A9A97A5F1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B0FE-5BC0-4BDB-AE68-D33CBCE4F97A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9557-FB4B-4E33-8501-AE86EA0B3368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19E9-E0E4-4C9C-8AFB-D793984010D7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FA54-C983-456A-8396-34F1BAC36952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79C0-06D7-41A2-B172-95B277F79CD9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6E5A-13A8-4A9E-9392-724DDA71F4C9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F994-04C4-42A3-AB43-17FA3C6C8913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fabian.repetto@gmail.com" TargetMode="External"/><Relationship Id="rId2" Type="http://schemas.openxmlformats.org/officeDocument/2006/relationships/hyperlink" Target="mailto:jbertranou@hotmail.com" TargetMode="External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88760" y="591840"/>
            <a:ext cx="8915400" cy="29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La función de evaluación en el nivel nacional en Argentina y el desarrollo de capacidades: la instrumentación de un Programa de Posgrado en Evaluación de Políticas Pública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2588760" y="3749760"/>
            <a:ext cx="891540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595959"/>
                </a:solidFill>
                <a:latin typeface="Century Gothic"/>
              </a:rPr>
              <a:t>Julián Bertranou (Universidad Nacional de San Martín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4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1" lang="es-AR" sz="2400" spc="-1" strike="noStrike">
                <a:solidFill>
                  <a:srgbClr val="595959"/>
                </a:solidFill>
                <a:latin typeface="Calibri"/>
              </a:rPr>
              <a:t>Seminario Internacional de Evaluación de Políticas Públicas. Condiciones para favorecer las Evaluaciones de Impacto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595959"/>
                </a:solidFill>
                <a:latin typeface="Calibri"/>
              </a:rPr>
              <a:t>Montevideo, 2 a 4 de julio de 2014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595959"/>
                </a:solidFill>
                <a:latin typeface="Calibri"/>
              </a:rPr>
              <a:t>OPP Uruguay/Eurosocial/Gobierno de España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879560" y="457200"/>
            <a:ext cx="962496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200" spc="-1" strike="noStrike">
                <a:solidFill>
                  <a:srgbClr val="262626"/>
                </a:solidFill>
                <a:latin typeface="Century Gothic"/>
              </a:rPr>
              <a:t>Acciones de fortalecimiento de capacidades para la función de evaluació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1879560" y="2133360"/>
            <a:ext cx="962496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Creación de una Unidad Especializada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Century Gothic"/>
              </a:rPr>
              <a:t>Planificación, ejecución, normalización, difusión. En Coordinación con Ministerios e inserta en el sistema de administración financiera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Desarrollo de un marco normativo integral y unificado para la evaluació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Creación de una Red de Evaluación en la AP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Desarrollo de recursos humanos especializado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10347120" cy="21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Diploma de Estudios Avanzados en E</a:t>
            </a:r>
            <a:r>
              <a:rPr b="1" lang="es-AR" sz="4400" spc="-1" strike="noStrike">
                <a:solidFill>
                  <a:srgbClr val="262626"/>
                </a:solidFill>
                <a:latin typeface="Century Gothic"/>
              </a:rPr>
              <a:t>valuación de Políticas Públicas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Imagen 2" descr=""/>
          <p:cNvPicPr/>
          <p:nvPr/>
        </p:nvPicPr>
        <p:blipFill>
          <a:blip r:embed="rId1"/>
          <a:stretch/>
        </p:blipFill>
        <p:spPr>
          <a:xfrm>
            <a:off x="1768320" y="3670200"/>
            <a:ext cx="9145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647720" y="618840"/>
            <a:ext cx="939960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Presentación y Objetivo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141200" y="1995480"/>
            <a:ext cx="102042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Dictado por la Universidad Nacional de San Martín (UNSAM), con el apoyo de la Jefatura de Gabinete de Ministros de la Nación (JGM) y el Banco Interamericano de Desarrollo (BID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El propósito principal del Programa es el fortalecer las habilidades de los funcionarios y funcionarias públicas (y de algunos profesionales de la sociedad civil) para promover, preparar, dirigir y validar procesos de evaluación de acciones de interés público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La evaluación es un momento clave de la gestión de las políticas públicas, en la medida en que facilita la acumulación de conocimiento y el aprendizaje organizacional tendientes a mejorar los efectos de estas políticas en la población, en la estructura social y productiva, y en las instituciones democráticas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647720" y="618840"/>
            <a:ext cx="939960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Equipo de gestió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2020680" y="2149560"/>
            <a:ext cx="96980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Century Gothic"/>
              </a:rPr>
              <a:t>Director</a:t>
            </a: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: Fabián Repetto (</a:t>
            </a:r>
            <a:r>
              <a:rPr b="0" lang="es-AR" sz="18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fabian.repetto@gmail.com</a:t>
            </a: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Century Gothic"/>
              </a:rPr>
              <a:t>Secretario Académico</a:t>
            </a: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: Julián Bertranou (</a:t>
            </a:r>
            <a:r>
              <a:rPr b="0" lang="es-AR" sz="1800" spc="-1" strike="noStrike" u="sng">
                <a:solidFill>
                  <a:srgbClr val="fb4a18"/>
                </a:solidFill>
                <a:uFillTx/>
                <a:latin typeface="Century Gothic"/>
                <a:hlinkClick r:id="rId2"/>
              </a:rPr>
              <a:t>jbertranou@hotmail.com</a:t>
            </a: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)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Century Gothic"/>
              </a:rPr>
              <a:t>Consejo Académico</a:t>
            </a: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:</a:t>
            </a:r>
            <a:br>
              <a:rPr sz="1800"/>
            </a:b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Roberto Martínez Nogueira, PhD (Presidente)</a:t>
            </a:r>
            <a:br>
              <a:rPr sz="1800"/>
            </a:b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María Matilde Ollier, PhD (Decana de la Escuela de Política y Gobierno, UNSAM)</a:t>
            </a:r>
            <a:br>
              <a:rPr sz="1800"/>
            </a:b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Dagmar Raczynski, PhD (Directora de Asesoría para el Desarrollo, Santiago de Chile)</a:t>
            </a:r>
            <a:br>
              <a:rPr sz="1800"/>
            </a:b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Lucas González, PhD (Secretario Académico de la Escuela de Política y Gobierno, UNSAM)</a:t>
            </a:r>
            <a:br>
              <a:rPr sz="1800"/>
            </a:b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Carlos H. Acuña, PhD (Director del Programa de Estado y Políticas Públicas, Escuela de Política y Gobierno, UNSAM)                                                               Horacio Cao, Dr. (Director del INAP, JGM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Perfil de participant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846160" y="2415960"/>
            <a:ext cx="8219880" cy="31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Funcionarios y funcionarias vinculados a las áreas de monitoreo y evaluación de proyectos, y a las áreas de gestión administrativa y presupuestaria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Pertenecientes a 10 Ministerios además de la JGM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Una parte, con experiencia previa de monitoreo y evaluación de programas y proyecto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Productos esperados del Program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2846160" y="2415960"/>
            <a:ext cx="821988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50 funcionarios y funcionarias capacitados para </a:t>
            </a: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promover, diseñar, ejecutar y evaluar </a:t>
            </a: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experiencias de evaluación de políticas, programas y proyecto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Foco específico: capacitados para diseñar y revisar </a:t>
            </a: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términos de referencia </a:t>
            </a: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de evaluacion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Desarrollo de una </a:t>
            </a: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red de expertos</a:t>
            </a: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 en evaluación en el sector público, bajo la coordinación de la JGM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Estructura del Program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800" spc="-1" strike="noStrike">
                <a:solidFill>
                  <a:srgbClr val="404040"/>
                </a:solidFill>
                <a:latin typeface="Century Gothic"/>
              </a:rPr>
              <a:t>9 asignaturas sustantivas y una taller anual de práctica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800" spc="-1" strike="noStrike">
                <a:solidFill>
                  <a:srgbClr val="404040"/>
                </a:solidFill>
                <a:latin typeface="Century Gothic"/>
              </a:rPr>
              <a:t>3 trimestre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1° trimestre: 8/Abril – 17/Juni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2° trimestre: 1/Julio – 11/Sep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3° trimestre: 30/Sep – 4/Dic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Asignaturas</a:t>
            </a:r>
            <a:br>
              <a:rPr sz="3600"/>
            </a:br>
            <a:r>
              <a:rPr b="1" lang="es-AR" sz="2800" spc="-1" strike="noStrike">
                <a:solidFill>
                  <a:srgbClr val="262626"/>
                </a:solidFill>
                <a:latin typeface="Century Gothic"/>
              </a:rPr>
              <a:t>(270 horas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2588760" y="2133360"/>
            <a:ext cx="89154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Century Gothic"/>
              </a:rPr>
              <a:t>Fundamentos de la Evaluación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Century Gothic"/>
              </a:rPr>
              <a:t>Fundamentos de Políticas Pública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Century Gothic"/>
              </a:rPr>
              <a:t>Métodos Cualitativo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Diseño de Programas y Proyecto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Métodos Cuantitativo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Diseño de la Evaluación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Century Gothic"/>
              </a:rPr>
              <a:t>Evaluación Instituciona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Century Gothic"/>
              </a:rPr>
              <a:t>Inserción política e institucional de la evaluación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Century Gothic"/>
              </a:rPr>
              <a:t>Estrategias comparadas de evaluación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Formación práctica</a:t>
            </a:r>
            <a:br>
              <a:rPr sz="3600"/>
            </a:br>
            <a:r>
              <a:rPr b="1" lang="es-AR" sz="2800" spc="-1" strike="noStrike">
                <a:solidFill>
                  <a:srgbClr val="262626"/>
                </a:solidFill>
                <a:latin typeface="Century Gothic"/>
              </a:rPr>
              <a:t>(90 horas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2588760" y="2133720"/>
            <a:ext cx="891540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Taller de práctica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Century Gothic"/>
              </a:rPr>
              <a:t>Dos sesiones orientadoras por cada trimestr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Trabajo en Institución: 3 momento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Century Gothic"/>
              </a:rPr>
              <a:t>Relevar   prácticas de monitoreo y evaluación y registro de información en la institució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Century Gothic"/>
              </a:rPr>
              <a:t>Análisis   del diseño de un programa y su organización con miras a su coherencia interna,  inserción en la política pública,  y evaluabilidad 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Century Gothic"/>
              </a:rPr>
              <a:t>Formular TDR para la evaluación de un programa o algún aspecto de éste y proponer un diseño fino de la evaluación, justificando las decisiones tomada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Plantel Docente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2835000" y="1773000"/>
            <a:ext cx="891540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Roberto Martínez Nogueir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Carlos Acuñ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Fabián Repett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Julián Bertranou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Jimena Rubi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Fernanda Potenz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Jorge Hintz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Pablo Vinocu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Lucas González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Luciano Andrenacc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Mercedes Di Virgili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La función de evaluación en el nivel nacional de Argentin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2588760" y="2133360"/>
            <a:ext cx="89154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Organismos de carácter transversal que desarrollan experiencias de evaluación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Oficina Nacional de Presupuesto </a:t>
            </a: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(Secretaría de Hacienda): Sistema de seguimiento físico-financiero (SSFF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Consejo Nacional de Coordinación de Políticas Soc</a:t>
            </a: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iales: Sistema de Información, Monitoreo y Evaluación de Programas Sociales (SIEMPRO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Jefatura de Gabinete de Ministros</a:t>
            </a: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: 4 organismos/sistemas que se analizarán más adelante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(Análisis basado en Acuña, Martínez Nogueira y Rubio, 2013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Desafíos hacia el futuro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2835000" y="1851120"/>
            <a:ext cx="8915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Que el Gobierno Nacional y en especial, la JGM capitalice este recurso humano calificad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Que se incremente de manera sistemática la masa crítica de experto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Que se consolide una red de expertos y que se difundan e intercambien metodologías, experiencias y saber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Que se incorpore el nivel provincial en el proceso de fortalecimiento de las capacidades de evaluació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746440" y="497628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Muchas gracias,</a:t>
            </a:r>
            <a:br>
              <a:rPr sz="3600"/>
            </a:b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jbertranou@hotmail.com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Oficina Nacional de Presupuesto:</a:t>
            </a:r>
            <a:br>
              <a:rPr sz="3600"/>
            </a:b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SSFF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2588760" y="2584440"/>
            <a:ext cx="8915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El SSFF constituye un sistema de información de la ejecución financiera y seguimiento trimestral de indicadores de metas físicas vinculadas a la provisión de bienes y/o servicios de los programas presupuestarios que en 2011 alcanzó a cubrir el 80% del total de la cartera programática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Consejo Coordinador de Políticas Sociales: SIEMPRO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2588760" y="2047680"/>
            <a:ext cx="89154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El SIEMPRO es un sistema de monitoreo y evaluación de los programas sociales referidos a la pobreza implementados por diversos ministerios del PE nacional. Cuenta con el Sistema Integrado de Monitoreo (SIM) que proporciona información sobre actividades, recursos utilizados y disponibles, beneficiarios y resultados con relación con los programados. Asimismo, realiza evaluaciones de distinto tipo (ex - ante, diagnósticas, líneas de base, perspectiva de los beneficiarios, final de resultados y de impacto), varias de ellas de uso interno al Ministerio, sin acceso público o difusión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Actualmente los organismos que integran el Consejo de Coordinación de Políticas Sociales son: Desarrollo Social; Trabajo, Empleo y Seguridad Social; Educación; Ciencia, Tecnología e Innovación Productiva; Salud; Economía; Justicia y Derechos Humanos; Planificación Federal, Inversión Pública y Servicios; Secretaría Nacional de Niñez, Adolescencia y Familia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De acuerdo a datos proporcionados por Canievsky (2007), en el año 2007 el SIEMPRO disponía de información sobre 56 programas sociales del Estado nacional, y entre 1996 y 2007 se llevaron a cabo 36 evaluaciones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Jefatura de Gabinete de Ministro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1982520" y="1778040"/>
            <a:ext cx="952164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La JGM tiene asignadas legalmente las responsabilidades principales en materia de monitoreo y evaluación de políticas y programas en el Estado Nacional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El Decreto 22/2011 establece que la Secretaría de Gabinete y Coordinación Administrativa de la JGM tiene a su cargo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s-AR" sz="2200" spc="-1" strike="noStrike">
                <a:solidFill>
                  <a:srgbClr val="404040"/>
                </a:solidFill>
                <a:latin typeface="Century Gothic"/>
              </a:rPr>
              <a:t>entender en el proceso de monitoreo y evaluación de la ejecución de las políticas públicas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Century Gothic"/>
              </a:rPr>
              <a:t>coordinar con los distintos organismos de la APN la articulación de los sistemas de evaluación sectoriales; y,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Century Gothic"/>
              </a:rPr>
              <a:t>desarrollar un sistema de seguimiento de los programas de gobierno, estableciendo indicadores claves de las políticas prioritarias para la toma de decisiones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Jefatura de Gabinete de Ministros (2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588760" y="1904760"/>
            <a:ext cx="89154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404040"/>
                </a:solidFill>
                <a:latin typeface="Century Gothic"/>
              </a:rPr>
              <a:t>Lleva a cabo estas responsabilidades a través de 4 organismos</a:t>
            </a:r>
            <a:r>
              <a:rPr b="0" lang="es-AR" sz="2800" spc="-1" strike="noStrike">
                <a:solidFill>
                  <a:srgbClr val="404040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Oficina Nacional de Innovación de Gestión (ONIG): Programa Carta Compromiso con el Ciudadan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Sistema Integral de Seguimiento y Evaluación de la Gestión (Proyecto de Modernización del Estado)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Subsecretaría de Evaluación del Presupuesto Nacional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Subsecretaría de Evaluación de Proyectos con Financiamiento Extern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8" name="Imagen 1" descr=""/>
          <p:cNvPicPr/>
          <p:nvPr/>
        </p:nvPicPr>
        <p:blipFill>
          <a:blip r:embed="rId1"/>
          <a:stretch/>
        </p:blipFill>
        <p:spPr>
          <a:xfrm>
            <a:off x="2330280" y="412920"/>
            <a:ext cx="80377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92360" y="457200"/>
            <a:ext cx="891216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200" spc="-1" strike="noStrike">
                <a:solidFill>
                  <a:srgbClr val="262626"/>
                </a:solidFill>
                <a:latin typeface="Century Gothic"/>
              </a:rPr>
              <a:t>Características de la función de evaluación en el nivel nacional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2795400" y="2344320"/>
            <a:ext cx="89154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Inexistencia de un marco legal que establezca una visión integral sobre la función de evaluación, y que defina obligaciones, responsabilidades y estándare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No hay una unidad encargada de planificar, poner en práctica y coordinar las funciones de evaluación de política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Escasa importancia en las prioridades del Gobierno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Escasa inserción institucional en cada uno de los Ministerios o Agencias del Gobierno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Escasa relación funcional con los organismos de control interno y externo de la Administración Pública: SIGEN, AG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Escasa vinculación con el Congreso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2592360" y="457200"/>
            <a:ext cx="891216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200" spc="-1" strike="noStrike">
                <a:solidFill>
                  <a:srgbClr val="262626"/>
                </a:solidFill>
                <a:latin typeface="Century Gothic"/>
              </a:rPr>
              <a:t>Características de la función de evaluación en el nivel nacional (2)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2588760" y="2184480"/>
            <a:ext cx="8915400" cy="38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Predominio, a excepción del SIEMPRO, de una perspectiva presupuestaria y operativa de la evaluación, centrada en el monitoreo del gasto y de indicadores de desempeño (producto, cobertura, procesos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Cobertura variable: más abarcador en el caso del SSFF y del PCCC que en el caso del SISEG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Debilidad de mecanismo formales de relacionamiento e intercambio entre las experiencias para compatibilizar metodologías y conocer hallazgo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Circulación restringida de resultados. La difusión queda a criterio del organismo productor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Experiencias carecen de un marco estratégico que defina claramente su función y objetivos en función de un sistema integral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19:36:20Z</dcterms:created>
  <dc:creator>Julián Bertranou</dc:creator>
  <dc:description/>
  <dc:language>en-US</dc:language>
  <cp:lastModifiedBy>ltorrejon</cp:lastModifiedBy>
  <dcterms:modified xsi:type="dcterms:W3CDTF">2014-12-05T08:57:58Z</dcterms:modified>
  <cp:revision>20</cp:revision>
  <dc:subject/>
  <dc:title>Diploma de estudios avanzados en evaluación de políticas públicas</dc:title>
</cp:coreProperties>
</file>