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13575" cy="9299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12800" cy="929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36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640" y="441792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368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12990B-6A76-43B3-A6D2-2C17E8943E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640" y="441792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97368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9472E0-7E95-4967-A815-38D777E835A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65B-A1AE-4F8E-833D-45D13434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ADE-9D49-418C-9EDF-71ED35D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A54-0CA1-4CF3-A84D-D42BFDA1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CF6-8E56-436A-9EF2-07F3E9BA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CAD7-837C-48A3-B033-ACEA81A7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B80D-3802-437D-94A9-07A963D7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5F84-8B91-4983-BE65-59B38215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21CB-FE7C-48A5-8342-94227818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8EB-482A-430A-88F7-FB1EAF29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CF0B-98D8-4830-9293-107C805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A1DF-947D-4F8B-AAB4-B903EF5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799-B0D0-47E2-A7B9-E13CC2D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4C73-E026-4B85-9CE6-792D8FA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34F-2036-4061-BC6A-59D2F93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1D8-EB15-4074-AA99-E302B66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0E40-55F7-4F9F-A676-755AF8C2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8646-79E9-4574-AB20-D4B125E6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04A-B629-4AA7-AF05-E55DB42C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340-853E-49FD-9BBB-E073CAEB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448-A358-4069-B10D-B02E700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CE9-1A6D-448E-B051-25CBE312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989-72B2-447D-A12A-4F39D752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012-7FDF-4436-ACA3-727BFAA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ED5-C05B-4C84-8F9B-683A421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2309-13A4-4AA5-BF4D-18D685A8D6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3A64-0B49-4DAF-ADFB-3268178C6C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24000" y="10526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STITUTO DE ACCESO A LA INFORMACIÓ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ÚBLIC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4360" y="2637000"/>
            <a:ext cx="84596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PROTECCIÓN DE DATOS PERSONALES EN EL SALVADOR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7 Grupo"/>
          <p:cNvGrpSpPr/>
          <p:nvPr/>
        </p:nvGrpSpPr>
        <p:grpSpPr>
          <a:xfrm>
            <a:off x="0" y="0"/>
            <a:ext cx="684360" cy="6858000"/>
            <a:chOff x="0" y="0"/>
            <a:chExt cx="684360" cy="6858000"/>
          </a:xfrm>
        </p:grpSpPr>
        <p:pic>
          <p:nvPicPr>
            <p:cNvPr id="102" name="Picture 5" descr="banderaabaj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2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escudo"/>
            <p:cNvPicPr/>
            <p:nvPr/>
          </p:nvPicPr>
          <p:blipFill>
            <a:blip r:embed="rId2"/>
            <a:stretch/>
          </p:blipFill>
          <p:spPr>
            <a:xfrm>
              <a:off x="0" y="3069000"/>
              <a:ext cx="684360" cy="79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PROHIBICIÓN DE DIFUS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ifundir, distribuir o comercializar DP en sistemas de información de EO, salvo consentimiento expreso y libre, por escrito o equivalente de los individuos referidos en la inform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EXCEP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341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Se entenderá que no se requiere el consentimiento expreso del titular de la información, cuando su vida o su salud se encuentre en peligro, la autoridad evaluará la situación de emergencia y </a:t>
            </a:r>
            <a:r>
              <a:rPr b="0" lang="es-SV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tivará</a:t>
            </a: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 la entrega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Que el titular de la Información Confidencial se encuentre imposibilitado para entregar un consentimiento expreso y siempre y cuando su entrega </a:t>
            </a:r>
            <a:r>
              <a:rPr b="0" lang="es-SV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jore</a:t>
            </a: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 la situación de peligro que se tr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EXCEP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l titular de la Información Confidencial tendrá derecho al acceso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irrestricto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 de su Información Confidencial y ningún Ente Obligado podrá negársela bajo ningún arg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DIFUSIÓN SIN CONSENTI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Razones estadísticas, científicas o de interés general,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 identificar a l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ntre entes obligados,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el ejercicio de sus facult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vestigación de delitos o infr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Orden jud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Cuando contraten o recurran a terceros para la prestación de un servicio que demande uso de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REGISTROS Y SISTEMAS DE D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O deben comunicar la existencia de listas o sistemas de DP a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l Instituto debe mantener lista actualizada de ellos y de información sobre sus protocolos de segu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evio a destrucción de DP se debe notificar a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SOLICITUD: titular o representante, previa acreditación, en escrito libre o formulario expedido por e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formación contenida en documentos o registros sobre su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Consulta directa de documentos, registros o arch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Rectificación, actualización, confidencialidad o supres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APE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ocede contra la negativa o falta de respuesta de entrega de informes, consulta directa, rectificación, actualización, confidencialidad o supresión de DP, ante e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Ante denegatoria del recurso deja a salvo las demás acciones leg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600" spc="-1" strike="noStrike">
                <a:solidFill>
                  <a:srgbClr val="ffff00"/>
                </a:solidFill>
                <a:latin typeface="Times New Roman"/>
              </a:rPr>
              <a:t>GRACIAS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443700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Times New Roman"/>
              </a:rPr>
              <a:t>mvasquez@iaip.gob.s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3 Marcador de contenido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054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45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CONSTIT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Art. 2 inc. 2º   Derechos Individ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Se garantiza el derecho al honor, a la intimidad personal y familiar y a la propia image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DP es el ejercicio del derecho a la privacidad de las 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Habeas data sin regula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erecho de autodeterminación de la información como manifestación del derecho a la intimidad, vía jurisprudencial de la Sala de lo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45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2" name="3 Marcador de contenido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45428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4 Marcador de contenido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5428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LEY DE ACCESO A LA INFORMACIÓN PÚBL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VIGENCIA 8 de mayo de 2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VIGENCIA PLENA 8 de mayo 20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NOMBRAMIENTO IAIP 23 febrero de 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ESUPUESTO octubre 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STALACION enero 20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ÓRGANO GARANTE DEL ACCESO A LA INFORMACION Y PROTECCIÓN DE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¿QUE TENÍAMO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ESCONO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CON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REGUL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INTE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A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NES. Art. 3 literal h): “Proteger los datos personales en posesión de los entes obligados y garantizar su exactitu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CIONES IAIP. Art 58, liter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) Garantizar (...) la protección de la información personal; 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j) Establecer los lineamientos para el manejo, mantenimiento, seguridad y protección de datos pers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) Desarrollar cursos de capaci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ATOS PERS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la información privada concerniente a una persona identificada o identificable, relativa a su nacionalidad, domicilio, patrimonio, dirección electrónica, número telefónico u otra análo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FINIC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ATOS PERSONALES SENSIB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s que corresponden a una persona en lo referente a su credo, religión, origen étnico, filiación o ideologías políticas, afiliación sindical, preferencias sexuales, salud física y mental, situación moral o familiar y otras informaciones intimas de similar naturaleza o que pudieran afectar el derecho al honor, a la intimidad personal y familiar y a la propia ima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TECCION D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t.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 a saber si se están procesa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eguir reproducción inteligible sin d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ctificar o suprimir datos en registros injustificados o inexa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ocer destinatarios cuando los datos sean transmitidos justificad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BERES DE 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optar procedimientos adecuados para recibir y responder solicitudes de indagatoria, actualización, modificación y supresión de 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sar datos con fines institucionales con que fueron solicitados u obten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urar que sean exactos y actu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tificar o complet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optar medidas que protejan la seguridad de DP y eviten su alteración, perdida, transmisión y acceso no autor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15:51:27Z</dcterms:created>
  <dc:creator>MINISTERIO DEL MEDIO AMBIENTE</dc:creator>
  <dc:description/>
  <dc:language>en-US</dc:language>
  <cp:lastModifiedBy>Vicente Orlando Hernandez Melara</cp:lastModifiedBy>
  <dcterms:modified xsi:type="dcterms:W3CDTF">2014-10-06T23:38:35Z</dcterms:modified>
  <cp:revision>256</cp:revision>
  <dc:subject/>
  <dc:title>Presentación de PowerPoint</dc:title>
</cp:coreProperties>
</file>